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4D69-5070-478E-8785-14FA405BBD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E2AE-0488-4824-95F3-4AAF7FB2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7049-EABF-4F0C-B3FE-1DA2827F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D12C-3D24-4006-987F-071219E689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E6D3-9E01-492F-8805-5C6F4908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6D36-2CCF-4CE4-8F56-32616625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FFF8-F96F-4A81-AB7D-11C701D0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6ADA-9B79-48E2-9AB4-B3401916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2E11-44C8-4338-AF83-E23D0BAC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AC9B-D7B0-4B60-9BBE-36F2DAB4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6971-24C2-494B-9309-68081411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273EE-CEB7-478D-AA64-6E8D4CF6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C0D2-8587-473D-830D-3AA409CA25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脑功能改善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占诺美林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xanomel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选择性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可明显改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功能和行为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具有安全、耐受性好、且不良反应较轻等优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高剂量易引起胃肠和心血管方面的不良反应，现拟改为皮肤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改善脑代谢或脑循环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吡拉西坦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piracetam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茴拉西坦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aniracetam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海特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hydergi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，双氢麦角碱，喜得镇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尼麦角林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nicergolin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银杏叶制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4365720"/>
            <a:ext cx="7705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能加快脑血液循环，加强脑细胞的新陈代谢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氧和葡萄糖的利用，从而改善阿尔茨海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人的记忆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70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吡拉西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一）体内过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很快从消化道吸收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血药浓度达到峰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形式从尿和粪便中排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进脑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，可促进乙酰胆碱合成并增强神经兴奋的传导，具有促进脑内代谢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对抗由物理因素、化学因素所致的脑功能损伤， 对缺氧所致的逆行性健忘有改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增强记忆，提高学习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急、慢性脑血管病、脑外伤、各种中毒性脑病等多种原因所致的记忆减退及轻、中度脑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于儿童智能发育迟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93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消化道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腹部不适、纳差、腹胀、腹痛等，症状的轻重与服药剂量直接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枢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兴奋、易激动、头晕、头痛和失眠等，但症状轻微，且与服用剂量大小无关停药后以上症状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偶见轻度肝功能损害，表现为轻度转氨酶升高，但与药物剂量无关。肝肾功能障碍者慎用并应适当减少剂量；本品易通过胎盘屏障，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神经营养因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属基因工程药物，包括神经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N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源性神经营养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DN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成纤维细胞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F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神经营养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类能促进神经系统发育和维持神经系统功能的蛋白质：同时具有保护和促进神经元生长、分化、存活、修复损伤以及延缓中枢神经退行性病变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望成为新的抗老年痴呆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神经保护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钙通道阻滞药：如尼莫地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超载，可导致线粒体膜破坏和过度活化蛋白激酶、磷酯酶，触发神经细胞的凋亡。此类药物能抑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流，起到保护神经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抗炎及抗淀粉样蛋白治疗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奈哌齐、卡巴拉汀等和免疫球蛋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阻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淀粉样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和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，可降低大脑皮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沉积物，改善轻、中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和行为能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非类固醇消炎镇痛药抗炎治疗，有益于防止淀粉样蛋白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抗氧化治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65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维生素、维生素、艾地苯醌、褪黑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消除自由基和活性氧或者阻止其形成，保护神经细胞不被损伤，是一种安全、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不良反应少，相对安全性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0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列举治疗阿尔茨海默病的药物的分类、作用环节及代表性药物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多奈哌齐治疗阿尔茨海默病时应注意哪些事项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治疗老年性痴呆症药的分类、代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的作用特点、不良反应及药疗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老年性痴呆症简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原发性痴呆症、血管性痴呆症和混合性痴呆，前者又称为阿尔茨海默病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主要临床表现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性认知和记忆障碍，并伴有行为和情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发病机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不明确，主要病理特征脑脊髓神经元细胞发生退行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治疗药物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无十分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胆碱酯酶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脑代谢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55640" y="1197000"/>
            <a:ext cx="7848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阿尔茨海默病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AD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引起老年性痴呆最主要的原因，约占老年性痴呆患者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年龄高度相关，其发病率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则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随着人类寿命的延长和社会人口老龄化的进展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数量和比例会持续增高，将给家庭和社会带来沉重的负担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无十分有效的治疗方法，对晚期、重症患者基本无药可治，而早期或轻中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可用治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尔茨海默病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胆碱酯酶抑制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004840" y="1310760"/>
            <a:ext cx="57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多奈哌齐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donepezil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9640" y="2060640"/>
            <a:ext cx="784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（一） 体内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口服吸收良好，生物利用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药浓度达峰时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浆蛋白结合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代谢产物主要经肾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第二代可逆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ChE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药，能明显抑制脑组织中的胆碱酯酶的活性，提高乙酰胆碱的含量，能改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人的认知能力和临床综合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轻、中度阿尔茨海默病，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的记忆力减退等症状有一定的改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胃肠道症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、腹痛、腹泻、便秘畏食、胃肠道出血等。消化性溃疡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全身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有流感样胸痛、牙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眩晕、失眠、易激惹、癫痫。减量或停止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心血管系统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心动过缓，患有“病窦综合征”或其他室上性心脏传导疾病患者需尤其注意，严重心血管疾患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肌肉痉挛尿失禁乏力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药物相互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拟胆碱药或其他胆碱酯酶抑制药可加重多奈哌齐的不良反应，应避免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抗胆碱药有拮抗作用，不宜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其他胆碱酯酶抑制药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341360"/>
          <a:ext cx="8610480" cy="5149800"/>
        </p:xfrm>
        <a:graphic>
          <a:graphicData uri="http://schemas.openxmlformats.org/drawingml/2006/table">
            <a:tbl>
              <a:tblPr/>
              <a:tblGrid>
                <a:gridCol w="1368360"/>
                <a:gridCol w="4681440"/>
                <a:gridCol w="256068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利凡斯的明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改善阿尔茨海默病患者胆碱能介导的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认知功能障碍，还可减慢淀粉样蛋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β-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淀粉样前体蛋白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APP)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片段的形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成而淀粉样斑块是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主要病理特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征之一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阿尔茨海默病性痴呆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加兰他敏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神经元中的胆碱酯酶有高度选择性且有一定的中枢拟胆碱作用，具有神经保护功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有效率为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～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，有望成为治疗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首选药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石杉碱甲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强效、可逆性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ChE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抑制药，能改善其记忆和认知能力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用于老年性记忆功能减退及老年痴呆患者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2:00:5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