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E0271-DC0C-48D5-A311-1334C4F606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7D762-F469-4CF7-881E-1ABC05A2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B2D0-2A60-47DE-AE7C-A61B809C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7BBC2-FD76-4DE6-A6BD-58095F3918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DB16D-5C95-447E-9B45-4AE29C90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14C0-DA04-4CEA-8BE5-E06DF7BD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034E5-E33D-449D-BD86-53929B80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08A2-AD1F-428D-877B-378D549B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FB288-99FF-4AF9-9F6A-E0797F10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42B26-0282-4355-A964-5C2BB1C8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65A7D-B889-45E7-B2DB-7042682E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EDC7F-124E-47CC-845A-78850C08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9BBA-96C8-4900-9391-A64B7D1861C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08000" y="2276640"/>
            <a:ext cx="691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影响药物作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剂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给药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耐受性和药物依赖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机体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生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年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营养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精神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遗传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病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肝、肾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枢神经系统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饮食对药物作用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时间药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心理因素与用药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对病人心理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心理因素对药物作用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情绪的影响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药物的信赖度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医护人员的语言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用药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1:2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