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6F84D-B09C-40ED-892C-EA07B8E6BE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D3733-6C36-4235-9443-8BE779335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92D0C-9ADE-47BC-ACF7-B14D5FA1B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D1C78-C4F2-403C-97BD-76A510F8765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4968C-DB49-4FA1-B7A0-FFA360E6B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12F1E-3264-4C28-BDD1-B7E47D329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BF094-0B8D-4B6D-AAB5-578DAF275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4D2D8-C07A-4E63-85F5-5BF71F4ED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DC6BA-5713-4DCB-9C8A-010E78E44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3DA66-9266-4218-97A5-5FD0E2D56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334F9-5AB9-4558-9768-71FF56839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7DBC5-D55B-4113-B286-776B60BBB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AF219-6B1C-4A52-835D-E9AC8AF4BCF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七章  拟胆碱药和抗胆碱药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560160"/>
            <a:ext cx="8077320" cy="56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、拟胆碱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胆碱受体激动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完全拟胆碱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M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激动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毛果芸香碱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pilocapine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作用：缩瞳 降低眼压 调节痉挛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应用：点眼治疗青光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二、抗胆碱酯酶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易逆行抗胆碱酯酶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1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新斯的明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neostigmine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应用：重症肌无力、 术后腹胀气和尿潴留、 阵发性室上性心动过速、肌松药过量中毒解救、对抗阿拖品中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不良反应和药物监护须知。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2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吡斯的明、安具氯胺、加兰他敏、毒扁豆碱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二）难逆性抗胆碱酯酶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有机磷酸酯类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1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急性中毒表现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轻度：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M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样作用为主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中度：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M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样和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N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样作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。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重度：除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M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、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N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样作用，还有中枢神经系统症状。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2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中毒解救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阿托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胆碱酯酶复活药：碘解磷定、氯解磷定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胆碱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M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胆碱受体阻断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阿托品类生物碱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阿托品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atropine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作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应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不良反应和药物监护须知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东莨菪碱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作用和应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不反应和药物监护须知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二、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N</a:t>
            </a:r>
            <a:r>
              <a:rPr b="1" lang="en-US" sz="2800" spc="-1" strike="noStrike" baseline="-25000">
                <a:solidFill>
                  <a:srgbClr val="3582a3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胆碱受体阻断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(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骨骼肌松弛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去极化型肌松药：琥珀胆碱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(scoline)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非去极化肌松药：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筒箭毒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582a3"/>
                </a:solidFill>
                <a:latin typeface="Verdana"/>
                <a:ea typeface="宋体"/>
              </a:rPr>
              <a:t>谢谢大家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7T05:28:18Z</dcterms:modified>
  <cp:revision>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