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AAABC-C515-4F03-BB36-B4F538F6DE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F7504-9B95-4395-9074-2D037E1B8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2DD89-2A2B-4883-B6D9-3993E722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7E807-B565-428D-9DA0-8AD030BD8B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BA76D-8ABA-43BB-96A9-0104C1ABD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34B55-7D1D-448F-B315-5201FA7D9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73B8A-B3F2-400D-B740-529668952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F862A-1781-4987-8CEB-C739BF359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374E3-DCD8-464F-97E3-CEED81844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7A0F4-DB46-4069-814C-46B83CA99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A8DFF-9124-40B2-9E23-80D0FDF6A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27AA2-BF79-4B17-AB5A-8B2D5067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CC65F-E81B-40E3-826E-C788CFAE60C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8000" y="2276640"/>
            <a:ext cx="7128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en-US" sz="4800" spc="-1" strike="noStrike">
                <a:solidFill>
                  <a:srgbClr val="ddb523"/>
                </a:solidFill>
                <a:latin typeface="Verdana"/>
              </a:rPr>
              <a:t>第二十七章  </a:t>
            </a: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宋体"/>
              </a:rPr>
              <a:t>  </a:t>
            </a:r>
            <a:r>
              <a:rPr b="1" lang="en-US" sz="4800" spc="-1" strike="noStrike">
                <a:solidFill>
                  <a:srgbClr val="ddb523"/>
                </a:solidFill>
                <a:latin typeface="Verdana"/>
              </a:rPr>
              <a:t>组胺</a:t>
            </a:r>
            <a:br>
              <a:rPr sz="4800"/>
            </a:b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宋体"/>
              </a:rPr>
              <a:t>                 </a:t>
            </a:r>
            <a:r>
              <a:rPr b="1" lang="en-US" sz="4800" spc="-1" strike="noStrike">
                <a:solidFill>
                  <a:srgbClr val="ddb523"/>
                </a:solidFill>
                <a:latin typeface="Verdana"/>
              </a:rPr>
              <a:t>与抗组胺药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80720" y="1267920"/>
            <a:ext cx="89312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对中枢神经系统抑制作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从轻度思睡到沉睡、嗜睡、肌肉软弱、乏力、头晕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头痛、共济失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偶有烦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、谵妄、抽搐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胃肠道反应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口干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食欲缺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、恶心、呕吐、上腹部不适、腹泻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便秘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心血管系统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胸闷、心悸、心动过速、高血压或低血压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4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其他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视力模糊、耳鸣、皮疹、光敏感、排尿困难、阳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二、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1" lang="zh-CN" sz="36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受体阻断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详见消化系统药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掌握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(1)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H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受体阻断药苯海拉明、异丙嗪、氯苯                                                                  那敏等的药理作用、临床应用、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(2)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H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受体阻断药的药理作用、临床应用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  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不良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熟悉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组胺受体分型及其作用特点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组胺、组胺受体及其效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组胺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广泛存在于机体各组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经肥大细胞脱颗粒释放入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作用强大而广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通过受体产生效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260360" y="1844640"/>
          <a:ext cx="6707160" cy="337176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796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组 织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效 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受 体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拮抗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血管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扩张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通透性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心脏（直接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收缩力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氯苯吡啶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心率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房室传导↓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氯苯丁嗪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肠道平滑肌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收缩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异丙嗪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支气管平滑肌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收缩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苯海拉明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胃壁细胞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胃液分泌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西咪替丁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中枢及外周神经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组胺合成与释放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硫丙咪胺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>
            <a:off x="2700360" y="1341360"/>
            <a:ext cx="396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组胺对人体的主要作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效应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60360" y="2205000"/>
            <a:ext cx="6696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16000" y="40464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药理作用及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6360" y="304560"/>
            <a:ext cx="8518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80416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诊断嗜铬细胞瘤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胃分泌功能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晨起空腹注入组胺后测胃液，无胃酸分泌为真性胃酸缺乏症（如胃癌、恶性贫血等）或胃酸减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不良反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颜面潮红、头痛、腹痛、心悸、体位性低血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还可引起严重的呼吸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 抗组胺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2360" y="3501720"/>
            <a:ext cx="878544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一、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1" lang="zh-CN" sz="36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受体阻断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苯海拉明、曲吡那敏、氯苯那敏、去氯羟嗪、异丙嗪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1414440"/>
            <a:ext cx="734724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受体阻断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抗组胺药     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受体阻断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受体阻断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87640" y="1773360"/>
            <a:ext cx="92160" cy="914400"/>
          </a:xfrm>
          <a:custGeom>
            <a:avLst/>
            <a:gdLst>
              <a:gd name="textAreaLeft" fmla="*/ 59040 w 92160"/>
              <a:gd name="textAreaRight" fmla="*/ 92520 w 921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和作用机制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81080" y="1052640"/>
            <a:ext cx="8929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．拮抗组胺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1" lang="zh-CN" sz="32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受体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完全对抗组胺的平滑肌兴奋、血管通透性增加作用、  部分对抗组胺的降压作用和心脏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．中枢抑制作用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镇静、嗜睡等中枢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特非那定和阿斯咪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无中枢抑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苯茚胺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略有中枢兴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．抗胆碱作用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多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H</a:t>
            </a:r>
            <a:r>
              <a:rPr b="1" lang="zh-CN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受体阻断药具有抗胆碱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特非那定和阿斯咪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无抗胆碱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．其他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子宫、膀胱平滑肌有直接兴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57080" y="304560"/>
            <a:ext cx="8158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变态反应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哮喘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晕动症及呕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苯海拉明、异丙嗪、布克利嗪、美克洛秦等对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动症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妊娠呕吐及放射病呕吐等均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其他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血管神经性水肿、输血反应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梅尼埃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综合征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血清病及其他药物过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xm</cp:lastModifiedBy>
  <dcterms:modified xsi:type="dcterms:W3CDTF">2016-03-09T06:13:30Z</dcterms:modified>
  <cp:revision>2</cp:revision>
  <dc:subject/>
  <dc:title>  第二十七章    组胺                  与抗组胺药</dc:title>
</cp:coreProperties>
</file>