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EE45-3AD1-4911-AFEA-D24245E7DE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4D844-05A2-46C1-98AA-62197DEC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E58CB-F9B0-4B62-BEF8-F911EC5B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24142-4EFA-4CC0-9C5B-9A8BFF7691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2B78-EEFD-4647-A1AD-592EBC35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DC514-22A6-4710-8408-6F6C74A8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C83AD-1B96-40F0-BD1F-C18A9536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A0295-9E5B-4827-B1F9-32B23A59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ADA2E-DD62-4EFC-91E5-1207CD88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B462A-C65F-4812-909B-6F70E633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354DC-A972-4BC5-96D1-43142863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26CC8-A6FE-41BD-8E92-CFD810AF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F0D2-638D-4883-A2EB-EA6AA54C78D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拟胆碱药和抗胆碱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胆碱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胆碱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完全拟胆碱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毛果芸香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iloca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：缩瞳 降低眼压 调节痉挛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点眼治疗青光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抗胆碱酯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易逆行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新斯的明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eostigm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重症肌无力、 术后腹胀气和尿潴留、 阵发性室上性心动过速、肌松药过量中毒解救、对抗阿拖品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吡斯的明、安具氯胺、加兰他敏、毒扁豆碱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难逆性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有机磷酸酯类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急性中毒表现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轻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为主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重度：除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，还有中枢神经系统症状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中毒解救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胆碱酯酶复活药：碘解磷定、氯解磷定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胆碱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阿托品类生物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阿托品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tro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东莨菪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和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</a:t>
            </a:r>
            <a:r>
              <a:rPr b="1" lang="en-US" sz="2800" spc="-1" strike="noStrike" baseline="-25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骨骼肌松弛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去极化型肌松药：琥珀胆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(scoline)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非去极化肌松药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筒箭毒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8:1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