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F4A4-5885-470F-9947-709AA1C936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151F-BFDE-4C9D-BB60-8F4D390F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5D38-8E8D-4F1C-A5B6-6C9999DC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2378-7D0C-4A01-8F5F-53EE5098D7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0DF54-CD58-4CB5-A1F8-DBFE833F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72B98-3774-4439-A9E0-FA9F09BF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C79A-E01D-4BCD-8D02-88405097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DDA61-2568-49B4-AC6C-535131C6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E6D0-707E-40BE-BA51-A0CBCDE5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36D54-CDA7-4066-8E36-F91F4C8B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0FFA7-DDDB-4967-B06D-F604F299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6EC9-9C1A-4768-8253-E4A0A7A7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06B3-F5F5-43E6-9DEB-0A649617DD6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绪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840" y="267840"/>
            <a:ext cx="8076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药理学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药理学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armacology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：是研究药物与机体相互作用规律和机制的科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效动力学：阐明药物对机体的作用和作用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代谢动力学：阐明药物在机体内吸收、分布、代谢和排泄等过程 和血药浓度随时间消长的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护理药理学：以人为对象，阐述临床如何合理用药和护士在合理用药中的地位及作用，做好药疗监护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士在临床用药中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协助医生合理用药，注意观察药效和不良反应。防治和减少药源性疾病和事故发生，使药物治疗达到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药物治疗中的护理须知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严格按医嘱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用药前“三查七对”，并充分了解有关新用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指导患者按时服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四）注意观察药效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6-03-11T03:04:05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