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DEA9-90E7-4F46-BFA2-4CB09CF996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873C-AEC9-45CA-BBB5-2995412E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E6A8-B3F3-43A6-A866-52CC7725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FFD7-18AC-42A7-BA38-E4B0F06621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A874-7F4D-495E-ADC1-F64364AB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A6D8-BEE2-42B2-95D3-7EE769ED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EAE9E-FAC8-49BE-81E1-AC3285D7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25F5A-2D9C-46B1-8C5F-9D392AF0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DB961-E5D2-4FC0-89F3-327C845A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79F7-211C-4F22-A81D-2822A956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79E6-13B9-4C1F-8A6A-1AF7AD7A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1053-CC35-42F8-A01B-AE51AB22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0ECB-C326-4957-BF45-0079261D1B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心血管系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：无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对延髓血管运动中枢产生抑制作用，使外周血管扩张，引起血压下降，还可因引起体内组胺释放而致血压明显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注射后对呼吸中枢有抑制作用，可致缺氧和血液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压增高，导致脑血管扩张、颅压增高、脑外伤、颅内占位性病变和颅压高的患者不宜选用吗啡类药物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平滑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胃肠道平滑肌和括约肌的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蠕动减少和推动性节律收缩明显减弱；抑制消化液分泌，食物消化慢，水分吸收多，引起大便干燥和便秘。临床常用阿片酊剂止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Oddi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括约肌的收缩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阻止胆汁分泌，使胆道压力上升，诱发胆绞痛，故胆绞痛患者不能单用吗啡止痛，而应并用解痉药如阿托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输尿管平滑肌和膀胱括约肌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致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大剂量支气管平滑肌收缩并有拮抗催产素的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故支气管哮喘，肺心病患者和临产前、哺乳期妇女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98960" y="260280"/>
            <a:ext cx="59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吗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药理作用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900000" y="1557360"/>
            <a:ext cx="457200" cy="4724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03280" y="1341360"/>
            <a:ext cx="1521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兴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滑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627280" y="1125360"/>
            <a:ext cx="304920" cy="1943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987640" y="981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痛镇静欣快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87640" y="141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987640" y="1844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987640" y="27082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987640" y="2276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缩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447920" y="327672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987640" y="3213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外周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脑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2700360" y="4508640"/>
            <a:ext cx="287280" cy="2133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987640" y="4365720"/>
            <a:ext cx="3124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：止泻、便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道：诱发胆绞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膀胱：排尿困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：诱发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宫：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700360" y="3284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5400" y="10822"/>
                  <a:pt x="0" y="10822"/>
                </a:cubicBezTo>
                <a:cubicBezTo>
                  <a:pt x="54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应用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镇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急性锐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吗啡对各种疼痛都有效，但因易成瘾，故仅用于其他镇痛药无效的严重创伤、烧伤等引起的急性锐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心肌梗死引起的剧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压正常时可用吗啡止痛同时还能使病人镇静、消除焦虑不安情绪和扩张外周血管，降低外周阻力，减轻心脏负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640" y="981000"/>
            <a:ext cx="39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心源性哮喘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左心衰竭表现为急性肺水肿而导致缺氧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堆积，产生呼吸困难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蓄积又可刺激呼吸中枢兴奋，使患者有呼吸急促、憋气和喘息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除应用强心苷、氨茶碱和吸氧外，小剂量的吗啡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可产生良好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呼吸中枢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敏感性，使呼吸频率变慢加深，增加换气量，减轻喘息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扩张外周血管，降低外周阻力，减轻心脏负荷有利病情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枢镇静作用，均有利于消除患者焦虑情绪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其它原因引起的肺水肿也可应用小剂量吗啡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7640" y="1341360"/>
            <a:ext cx="3324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．止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2636640"/>
            <a:ext cx="76388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急慢性消耗性腹泻，可减轻症状，一般选用阿片酊或复方樟脑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感染者应加用抗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10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经口、鼻黏膜（滴鼻）、肺（吸入）及注射（皮下和肌注）等途径给药，吸收迅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和静脉注射后，部分药物很快被肝代谢，效果不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常采用皮下或肌注。皮下注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，可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吸收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作用达高峰，维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通过胎盘和乳汁影响胎儿和乳儿，影响新生儿和婴儿的呼吸，应予以注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经肝代谢消除，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肾排泄，小量随胆汁排出，一般给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大部分药物可排出体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副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可引起恶心呕吐，排尿困难，呼吸抑制和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剂量过大可引起昏迷，呼吸高度抑制，瞳孔呈针尖大小，发绀，血压下降，尿少及脊髓兴奋，腱反射亢进等，不及时抢救可死于呼吸麻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抢救措施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是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呼吸兴奋药，人工呼吸、输液，吸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吗啡对抗剂纳洛酮、烯丙吗啡以维持呼吸循环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耐受性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易产生耐受性，开始宜选小剂量（约半个治疗量），逐渐加大以找到最佳有效剂量，各种止痛药交替使用可延缓耐受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成瘾性（慢性中毒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连续用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就可能产生，引起精神依赖和身体依赖，一旦停药会出现戒断症状。成瘾后患者不择手段地追求继续用药，危害极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禁忌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分娩止痛，哺乳妇女和婴儿止痛。支气管哮喘、多痰咳嗽、肺心病、颅内压增高、痢疾、消化道和泌尿道阻塞性疾病及严重肝功能障碍患者，禁用吗啡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甲基吗啡，脱去第三位甲基转为吗啡而起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经肝代谢为无活性成分由肾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相似，但比吗啡弱，镇痛作用只有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镇咳和呼吸抑制作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明显镇静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.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镇咳、镇痛，与阿斯匹林合用可增强止痛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恶心、呕吐、降压、便秘等作用均较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久用也能成瘾，并与吗啡之间有交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105080" y="1776600"/>
            <a:ext cx="1320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吗啡的药理作用、临床应用、不良反应和药疗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哌替啶的作用特点、临床应用、不良反应和药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待因的作用特点、临床应用、主要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它镇痛药、阿片受体拮抗剂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人工合成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最常用的人工合成镇痛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皮下或肌肉注射后吸收更迅速，故临床最常用注射给药，因皮下注射有刺激性，多选肌内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肌内注射给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出现镇静镇痛作用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高峰，维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在血液中蛋白结合率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本药可通过胎盘进入胎儿体内，也可由乳汁排出影响乳儿，药物经肝代谢后由肾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700360" y="1197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哌替啶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pethid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706200" y="20160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Arial"/>
                <a:ea typeface="宋体"/>
              </a:rPr>
              <a:t>（一）体内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和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中枢神经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约为吗啡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治疗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镇静和镇痛作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可出现欣快感；对呼吸抑制作用较弱；镇咳作用很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心血管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作用相同但较弱，扩张外周血管引起血压下降，剂量大时可引起体位性低血压，而脑血管扩张可使颅压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平滑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弱且短暂，不引起便秘，无止泻作用，用于内脏绞痛时仍需和解痉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妊娠后期子宫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收缩无影响，也无抗催产素作用，故可用于分娩止痛，但应选择在估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胎儿不会分娩的情况下使用，避免引起新生儿窒息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镇痛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虽比吗啡弱，但成瘾性也较轻，因此临床常选        用。哌替啶对各种剧痛都有效，但对慢性钝痛不宜使用，因易成瘾。可用于分娩之痛，但临产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内不宜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麻醉前给药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哌替啶使病人镇静，用后可消除患者手术前的紧张、恐惧情绪，可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人工冬眠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与氯丙嗪、异丙嗪合用，组成冬眠合剂，用于人工冬眠疗法。其中氯丙嗪虽可增强哌替啶的镇静作用，但也使后者呼吸抑制和降压作用增强，故用合剂后能引起血压降低、心动过速和呼吸抑制等，应予注意。对年老体弱者，婴幼儿和呼吸功能不良者，在应用冬眠合剂时，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和肺水肿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代替吗啡应用，但疗效并不比吗啡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禁忌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可引起恶心、呕吐、眩晕、心率过速和体位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反复用药易产生耐受性，连续用药两周可成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轻度呼吸抑制作用，久用可导致脑血管扩张，颅内压升高，因此脑外伤和颅内疑有占位性病变时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哮喘和慢性阻塞性肺部疾患，肺功能差者也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老体弱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婴幼儿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大剂量中毒表现为呼吸深度抑制和昏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见因哌替啶的体内代谢产物去甲哌替啶蓄积而引起中枢兴奋，心跳加快、谵妄、甚至惊厥。用纳络酮不能抗其惊厥症状，可选用巴比妥类药物对症治疗。故本药不宜长期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宋体"/>
              </a:rPr>
              <a:t>二、其他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052640"/>
          <a:ext cx="8856720" cy="5332320"/>
        </p:xfrm>
        <a:graphic>
          <a:graphicData uri="http://schemas.openxmlformats.org/drawingml/2006/table">
            <a:tbl>
              <a:tblPr/>
              <a:tblGrid>
                <a:gridCol w="1513080"/>
                <a:gridCol w="4464000"/>
                <a:gridCol w="2879640"/>
              </a:tblGrid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及应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不良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弱于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慢性钝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芬太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，起效快，维持时间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烈疼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于吗啡和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颅痛定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比哌替啶弱，对慢性持续性疼痛和内脏钝痛效果好：还有镇静催眠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于内脏钝痛、头痛、月经痛、分娩止痛等，比解热镇痛药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偶见眩晕、恶心、乏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；无成瘾性，过量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可产生呼吸抑制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二氢埃托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耐受性与依赖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美沙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度与吗啡相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耐受性与依赖性发生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慢，戒断症状较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9280" y="1268280"/>
          <a:ext cx="8713800" cy="5278680"/>
        </p:xfrm>
        <a:graphic>
          <a:graphicData uri="http://schemas.openxmlformats.org/drawingml/2006/table">
            <a:tbl>
              <a:tblPr/>
              <a:tblGrid>
                <a:gridCol w="1368360"/>
                <a:gridCol w="7345440"/>
              </a:tblGrid>
              <a:tr h="69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作用特点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洛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剂量应用能迅速翻转阿片类药物的作用，解除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吸抑制并使血压上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阿片类成瘾者应用纳洛酮后能立即出现戒断症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曲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与纳洛酮相似，但作用强（为纳洛酮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倍），作用维持时间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对阿片类药物或海洛因等毒品产生依赖性的患者，可明显降低复吸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烯丙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吗啡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属阿片受体部分激动剂，镇痛强度较吗啡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无耐受性和依赖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解救阿片类药物中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节  阿片受体拮抗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24000" y="1484280"/>
            <a:ext cx="835164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癌痛三阶梯用药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轻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解热镇痛药，如阿司匹林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乙酰氨基酚、吲哚美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弱阿片类药物，如可待因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曲马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重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强阿片类药物，如吗啡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替啶、芬太尼、美沙酮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五节 麻醉性镇痛药护理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严格按照麻醉品管理条例的规定保管和使用本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每次给药间隔时间至少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间隔太短易引起蓄积中毒或成瘾，反复用药更须注意掌握用药间隔时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继续用本类药时，应有医师新的处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过程密切观察患者成瘾性和耐受性的发生，并注意观察早期中毒症状，如出现呼吸抑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瞳孔缩小、嗜睡不醒等症状时应及时停药并报告医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若用药过程出现腹胀、便秘等副作用，应鼓励病人多食粗粮，多饮水，并可用些缓泻剂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708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吗啡（或哌替啶）用于内脏绞痛时为何需与解痉药如阿托品合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为什么吗啡和哌替啶可用于治疗心源性哮喘，但却禁用于支气管哮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哌替啶与吗啡相比较有哪些优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疼痛与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很多疾病常见的一个症状，常同时伴有不愉快的情绪反应，剧烈疼痛可导致患者生理功能紊乱，如失眠、焦虑等，甚至可引起疼痛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不影响病人的神智和意识条件下，能选择性产生止痛作用的一类药物，它同时能减轻疼痛引起的不愉快情绪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复使用易成瘾，一旦停药会产生戒断症状，故又称为成瘾性镇痛药，临床必须严格管理，控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13600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麻醉药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是指连续使用后易产生生理依赖性（成瘾性）的药品。包括阿片类、吗啡类、可卡因类及卫生部指定的其他易成瘾癖的毒性药品。其生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。麻醉药品只能用于医疗、科研和教学需要。本章药物喷他佐辛除外，其他药物均为麻醉药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10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天然阿片生物碱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吗啡、可待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人工合成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哌替啶、喷他佐辛、芬太尼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561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本类药物通过与中枢神经系统的阿片受体结合而产生镇痛效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904400" y="6912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阿片受体亚型激动时效应及有关药物的作用比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1628640"/>
          <a:ext cx="8494560" cy="4613400"/>
        </p:xfrm>
        <a:graphic>
          <a:graphicData uri="http://schemas.openxmlformats.org/drawingml/2006/table">
            <a:tbl>
              <a:tblPr/>
              <a:tblGrid>
                <a:gridCol w="1511280"/>
                <a:gridCol w="2228760"/>
                <a:gridCol w="2449440"/>
                <a:gridCol w="230508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亚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μ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κ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效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烦躁不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以上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幻觉，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抑制欣快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 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管运动中枢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成 瘾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激 动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部分激动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拮 抗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阿片生物碱类镇痛药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吗啡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morph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  <a:ea typeface="宋体"/>
              </a:rPr>
              <a:t>（一）药理作用和作用机制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平滑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692360" y="4194000"/>
            <a:ext cx="58561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．作用于中枢神经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痛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呼吸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咳作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缩瞳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催吐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995640" y="1557360"/>
            <a:ext cx="4608720" cy="2951280"/>
          </a:xfrm>
          <a:prstGeom prst="wedgeRectCallout">
            <a:avLst>
              <a:gd name="adj1" fmla="val -72185"/>
              <a:gd name="adj2" fmla="val -37574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就可产生明显的镇痛作用，同时也产生镇静、欣快感和改善情绪的效应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次给药可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各种疼痛均有效，对钝痛作用比锐痛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924360" y="1484280"/>
            <a:ext cx="5040360" cy="3311640"/>
          </a:xfrm>
          <a:prstGeom prst="wedgeRectCallout">
            <a:avLst>
              <a:gd name="adj1" fmla="val -71134"/>
              <a:gd name="adj2" fmla="val -9106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用强而持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量：可使呼吸中枢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敏感性降低， 使呼吸频率减慢，肺潮气量降低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量：可使呼吸频率降至每分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，最终导致呼吸停止，故吗啡不用于分娩止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995640" y="2852640"/>
            <a:ext cx="4608720" cy="1511280"/>
          </a:xfrm>
          <a:prstGeom prst="wedgeRectCallout">
            <a:avLst>
              <a:gd name="adj1" fmla="val -74046"/>
              <a:gd name="adj2" fmla="val 1460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强的镇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易成瘾，临床极少采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140360" y="2997360"/>
            <a:ext cx="4608360" cy="2232000"/>
          </a:xfrm>
          <a:prstGeom prst="wedgeRectCallout">
            <a:avLst>
              <a:gd name="adj1" fmla="val -79037"/>
              <a:gd name="adj2" fmla="val 2923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激动中脑动眼神经中枢部位的阿片受体，产生缩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剂量可使瞳孔缩呈针尖大小，是吗啡中毒特征之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3995640" y="4437000"/>
            <a:ext cx="4608720" cy="1728720"/>
          </a:xfrm>
          <a:prstGeom prst="wedgeRectCallout">
            <a:avLst>
              <a:gd name="adj1" fmla="val -76212"/>
              <a:gd name="adj2" fmla="val 25023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5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兴奋延脑催吐化学感受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引起恶心呕吐，可用氯丙嗪对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1:10:24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