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3515-779F-4273-B920-CA3D4BF38C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0312-B92E-404F-A9C0-F8644064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B845-32DE-4E0F-9398-3B71DA92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3119-91BC-4ED4-933A-FD6AC55EDE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E590-0E72-4B9F-91E0-E545636C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A358-3672-40BD-BB7F-802085D0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C72F-9B81-4D77-B80D-48377EE4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48B8-B451-4F67-9EEF-CB5C8F3F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E30FF-8806-4023-A583-275F0BF8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764F-FE97-45CD-9059-9053207C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82C8-22C5-40F8-999B-9EA39175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AC41-3C34-417E-A257-1CB17FC7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1D47-E1C5-4A7C-97D4-231EE2DCF2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效应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Times New Roman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的基本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基本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兴奋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选择性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在治疗剂量时，药物通常只选择性地对某一个或几个器官组织产生明显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的适应证取决于药物作用的选择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作用方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局部作用和吸收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直接作用和间接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临床效果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不良反应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副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毒性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变态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后遗效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继发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致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个体差异：个体之间对同一药物的反应可有明显差异称为药物作用的个体差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高敏性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耐受性（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toler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抗药性（耐药性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resist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量效关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剂量的概念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量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量反应和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量反应：药物效应凡能用具体数量来表示的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质反应：药物效应不能用数量表示，需用阴性或阳性、有或无来表示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指数：是用来估计一个药物安全性的指标，常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的比值表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机制和受体学说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从构效关系归纳作用机制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细胞周围环境的理化条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参与或干扰细胞物质代谢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通过抑制或促进体内某些酶而起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细胞膜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体内生理递质激素的释放或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药物和受体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完全激动剂：药物与受体有较强的亲和力，并有较强的内在活性，能兴奋受体产生明显效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拮抗剂：药物与受体有较强的亲和力，没有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部分激动剂：药物与受体有亲和力，但只有弱的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相加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增强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对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06:2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