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7C57F-349F-49A0-891D-9C45B4995A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EC0E-157C-4780-8D68-1F4CEF29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8A389-276B-492E-9467-22C39914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D9A112-648E-48E1-A1BF-3753B077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5752B7-2317-4540-926B-1721B8A3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CD5052-F4D2-4B66-B846-E953C34B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D433AE-0A46-4C53-B2A5-47DC4D40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7B882C-FA3F-4618-857B-1E35852A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746631-0F9C-4C32-B635-50BF9C38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0D3A4F-3E01-4100-BAD5-0F0E3E35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2AE5DC-5769-4CB4-9A24-9E0FA9C9FE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D4B986-3E6B-4E6A-B588-A4A035B47A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0615-0EA2-4FBE-ACA2-6B90EB6B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692277-0B0A-4DE8-AF79-BBB98427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CCDEF3-C6F2-4DBA-A48C-ABC06219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8FD7C6-9295-4FB4-883F-6D0DFF91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978667-BBBD-4419-9E97-771045B1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17E782-CF07-4A30-9A2B-18249670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1FA486-754A-404F-8FAC-70756118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2E2AFD-186D-45B5-927F-21821B69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74E919-8AD6-4C6B-A265-DE161684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1F2D28-B895-4A58-8EC0-70295B92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8CB9DB-C570-43B3-9810-1015055A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9379-9ABB-4D4C-8CDE-FD82260163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0B85F7-9354-4BD6-AC29-600793D1AA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DFDEF-736A-4C83-8A81-E0A79428B0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FCE7D-9173-494B-9C46-C6EFB4D1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0600E-CF59-49DF-90D3-48200031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9C9DB-BB67-4056-850A-EC0ED6D1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5B911-DF44-448A-8E1E-E5330F86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A1055-7B5C-44E7-A0F3-534F5C55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B0AA4-0CCD-4DAA-8911-5A5C8F07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13C1E-4C6D-4950-8008-A29C284C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B9E93-7E33-4C11-B287-0AE8EA34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4E5-3299-4EE6-9FA8-06519DFE3A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DB650-2EEF-4132-B47F-CBA5E5BC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74343-1DD1-4F29-AFA7-03042383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E7786-04E0-40E6-B925-4E6E673644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6C9A56-7EEC-4802-B6ED-239F3A40D5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589757-5ABD-4850-8B6B-D85D07D8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063D07-DB9F-444B-A391-7EAB97AB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04B5EC-818D-4CC7-80F9-9AB3E6B8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170EB8-1F78-4697-B43B-72A2947A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E9EF2A-7453-487B-8E48-8B62AE49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580A0F-D011-4F69-973C-9ED3221C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C512-EE41-4F83-ADDC-67B84AE4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A860E5-29AB-4A1D-92CE-3B9A41C8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E365FD-C828-44C2-AA56-AB8E646D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7B6880-144E-4253-98A5-D42A0AC6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748178-CBE1-431A-BEF3-32E35B0B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7F9186-36A1-4F97-8984-7E1CEEF996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4538D3-6705-4137-9A44-F53A8947F9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16556-E220-49AA-87C3-CA22020F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A8EB38-9E37-46EE-A3AA-A93FA4BF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6282A4-396C-4A6D-BC22-16F1B86B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93B488-9402-4A02-84DC-DCCD849B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9A4B-C5FF-406A-8BE7-C40A38F6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5DE9C-DEF2-4CBF-84E7-432B65CC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4A8675-6A1F-4E55-8F09-F8102B2D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4AE1F-0421-4982-9439-35CEDEAB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FC1C15-3EC1-4066-A97C-45B78BAB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69F37-11B8-45DB-9162-2C89EA8E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A0153B-1A48-40BC-9EDD-98CE2A79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204D31-C4D2-4E1E-9A50-74C02230C4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5FA5-1F98-4136-8357-3F5F1B82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1E0A-E4A3-4B63-AEEB-B80CE9B6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EF4A-B759-4947-B460-1DE895D7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0A82-019F-4F28-8D58-D59433A3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44D67-5BE1-49BD-AEA7-9A303ACA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B39-191C-4562-A3F4-FD6FB892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1025-2D15-4AF3-99DA-E3917421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5466-9F21-4FDB-9BCA-1E25CA17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41DC-CE92-4336-ADB0-5ABE7658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B53-5CF3-4D78-8484-09D07FAC46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119C0-CDC9-479B-8445-3C4742A5B8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D61DA-89D3-4F48-8326-00398F24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9A021-5587-4957-B3E5-DF532748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D717E-5A91-426D-9B62-A3929C06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45A05-05C6-417E-A5C9-282BD2A1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C1CE-B78A-446F-87DD-B9F55138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BA70E-3A23-4E63-B3CD-BDA77C5D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A3161-E427-4964-B283-D7374CE2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EA354-87C7-47C7-BBFC-89FD2A13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76BC5-3825-4908-A68B-7A7C6322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8C2BD-A00D-4C95-B9C6-DC615C99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1D758-FBF9-4D32-B9EA-585F6B19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5415D-F988-48D4-AD4F-8A26DAD36F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874154-C66E-47B8-B00D-768B2D5170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A88594-B81C-438D-AF65-17E354EA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36047C-09E9-4819-BEC4-D7AE2887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8085-31D1-4B4F-A95A-C9B5970C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700A06-AA0E-4031-8DAC-B75DEF5B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5AC515-BD0A-4230-9A1B-513161A6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9151DB-D578-4A20-A431-803BF5A6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9E011F-8BCE-4C81-B5EA-A300A714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750848-1852-47DE-9812-69E291BE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E22175-A16F-49D4-A72A-CA30BEA9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09E7F2-A5EA-48E7-9E42-45C6955C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D0DA45-2EEB-490F-AE90-1FC8CE59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D14E69-BF19-47E4-9FDF-B532DBEDE2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99EAF-DDEA-42EF-A08E-52D4776E78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AB7D-ACC7-4DE5-A350-D31308B2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F165C-C3EB-4847-81FA-3C363A62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BA527-953E-4E91-81F0-F8748E95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FA023-1780-4764-BA27-5FEB13AC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AFE14-96A4-4064-80F6-54866B03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A6F70-DBEE-4CA0-9647-F8D00CD7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71BB1-61E1-4E14-B004-90B23508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85EDD-C11E-44EE-819E-1173A68D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B97E2-7EF9-4E9E-8471-329EFB2B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DC564-EF0D-438D-B8C5-1D57863B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DABA6-B0B8-4816-A923-B4D2B31C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AFB4-B54C-40C7-B326-36833F80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C63DB-F29C-4DAB-AF10-DD43F579B6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97DA93-54AB-4D9C-9B53-2472173F55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06372B-FE2D-43E0-9E27-DA7E868D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B4BDB3-06D5-46A9-B01B-1FD061DF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7B7A1C-53F8-4E1B-82B3-F984BAE5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E43621-A69D-40F7-A7C6-891D36F8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0CA40D-88BC-42C6-9855-9BE55A06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8CE962-99F3-4477-A01F-423C7C1A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318D32-1F6F-42D7-8C2E-35DFF636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E7118E-B2CB-4B27-9DF3-DD707AF7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4BF86-F151-4767-A929-9A15A359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E81ECC-28CF-422C-B1DA-F0ED95D6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AC5055-D026-4D3F-85AE-91821E10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4E5900-A465-4495-B830-96D27C2556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D8378B-BE6E-480A-92DA-D6A05B870C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FDFB9E-31CD-4DE3-8F91-0CB700FC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169D20-F15B-4F75-914B-07047349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8E28DB-1E3F-4881-955C-27A4CDFA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64EC63-B064-4DA3-A0D3-59054B16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18DB88-0E75-4E8D-8893-9991F6CB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1A7AA5-2F25-47D0-9AC5-26AD764E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2C5B8-073E-4CDF-B96E-6365A162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D2EFDF-944B-439C-AA6D-80CFE572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352C16-68B9-46F8-8F43-60C7E2CF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923CAB-C1E5-498F-89FD-54879BFA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053C04-5F90-4F83-A305-6D383717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C82E5D-C5DF-47BE-B150-4761BA68A6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657EB-6DA2-46D6-A9F2-877E9F3F10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673CA-6598-44AB-9497-3D73BEF4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90FF1-04EC-4A20-B157-BF827458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1D583-076C-4C2F-885B-69A8D318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2B31B-3A32-44B0-A58F-6A69F1F8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C9A1A-91C5-4C84-94B6-DAE6D16E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8B831-623F-4295-9BC4-C5B30CA8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4476E-86FF-49B9-9C5B-2363F6F7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65EF8-44CB-419A-84A5-68DFA4DE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F8028-44DB-4BBC-A234-E1EB2CC4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3E698-4C2B-4ECE-A616-FB666545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59AB5-95B7-412D-8E7E-35729A4A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AB067-264B-430C-9A55-36CB7FC125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9829B0-AECC-4B4A-9925-E8D9C960EE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816AA4-008B-4DA2-975D-36553394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5E2A98-6EE0-46A4-B509-01EAD133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61DD-9097-429C-A99F-66E28F5AF7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D9C5-0E66-43AA-B4E8-9019B6C73D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D95D-7181-49FE-A2CF-8E87855069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DAB7-1AAB-4883-B897-22A8CB30F1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dt" idx="2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4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D9A2-1E4F-4195-B3A1-10C57F69B898}" type="slidenum">
              <a:rPr b="0" lang="zh-CN" sz="14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dt" idx="2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DE68-2850-4AC8-BB58-0D09FBFDE3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322A-FEA6-43E6-8EBD-5EC435F4C7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8086-35FB-4A2E-9DD2-64C3E21E8C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47F1-744C-4D59-8820-D639C09073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42B8-8F76-44C3-BE95-6B515D9FDB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6A74-786A-4884-B731-E152660F4C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CA80-7CBC-464D-AD50-E8F70DC3CF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dt" idx="1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3FAB-D599-4D2D-BCF6-00EC4B99CB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dt" idx="1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1"/>
          <p:cNvPicPr/>
          <p:nvPr/>
        </p:nvPicPr>
        <p:blipFill>
          <a:blip r:embed="rId1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8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8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8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9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9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05" name="Picture 24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496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以社区为中心的护理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600200" y="5311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843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94920" y="123660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资料整理与分析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复核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分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报告评估结果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诊断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对于个人、家庭、群体或社区现存的或潜在的不健康和（或）健康问题，以及与其相关原因的陈述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北美护理诊断协会护理诊断系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  <a:ea typeface="宋体"/>
              </a:rPr>
              <a:t>PSE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陈述公式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问题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症状或体征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ign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ymptoms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原因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tiolog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（问题）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干预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2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结果评量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324000" y="2171880"/>
          <a:ext cx="8496000" cy="4213080"/>
        </p:xfrm>
        <a:graphic>
          <a:graphicData uri="http://schemas.openxmlformats.org/drawingml/2006/table">
            <a:tbl>
              <a:tblPr/>
              <a:tblGrid>
                <a:gridCol w="1742760"/>
                <a:gridCol w="675324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领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护理诊断（问题）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收入，卫生，住宅，邻居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工作场所的安全，其他心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心理社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与社区资源的联系，社会接触，角色改变，人际关系，精神压力，哀伤，情绪稳定性，照顾，忽略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虐待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生长与发育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7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听觉，视觉，说话与语言，咀嚼，认知，疼痛，意识，皮肤，神经运动（肌肉、骨骼）系统与功能，呼吸，循环，消化，排便功能，生殖泌尿功能，产前产后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相关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营养，睡眠与休息形态，身体活动，个人卫生，物质滥用（酒精或药品），家庭计划，健康指导，处方用药，特殊护理技术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651" name="矩形 5"/>
          <p:cNvSpPr/>
          <p:nvPr/>
        </p:nvSpPr>
        <p:spPr>
          <a:xfrm>
            <a:off x="1867320" y="148428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诊断（问题）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矩形 5"/>
          <p:cNvSpPr/>
          <p:nvPr/>
        </p:nvSpPr>
        <p:spPr>
          <a:xfrm>
            <a:off x="233640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干预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95280" y="1989000"/>
          <a:ext cx="8209080" cy="4518000"/>
        </p:xfrm>
        <a:graphic>
          <a:graphicData uri="http://schemas.openxmlformats.org/drawingml/2006/table">
            <a:tbl>
              <a:tblPr/>
              <a:tblGrid>
                <a:gridCol w="1101600"/>
                <a:gridCol w="7107480"/>
              </a:tblGrid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指导、指引和咨询，处理和程序，个案管理，监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84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目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解剖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，行为修正，膀胱功能护理，与他人感情，肠道功能护理，维持呼吸道的通畅，心脏功能护理，照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为人父母，长期卧床护理，沟通，应对技巧，日间护理，管教，伤口护理，医疗设备，教育，职业，环境，运动，家庭计划，喂养方法，财务，食物，行走训练与康复，生长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育，家务管理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居住环境，人际关系，检验结果，相关法规，医疗照顾，药物作用及副作用，用药管理，协助用药安排，身体活动，辅助性护理活动，营养，营养咨询，造瘘口护理，其他社区资源，个人照护，体位，康复，放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技巧，休息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睡眠，安全，筛选，受伤护理，精神及情绪的症状，体征，皮肤护理，社会福利与咨询，化验标本收集，精神护理，促进身心发展的活动，压力管理，物质滥用，医疗器材，支持团体，交通运送，促进健康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矩形 5"/>
          <p:cNvSpPr/>
          <p:nvPr/>
        </p:nvSpPr>
        <p:spPr>
          <a:xfrm>
            <a:off x="231084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结果评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24000" y="1989000"/>
          <a:ext cx="8424720" cy="4175280"/>
        </p:xfrm>
        <a:graphic>
          <a:graphicData uri="http://schemas.openxmlformats.org/drawingml/2006/table">
            <a:tbl>
              <a:tblPr/>
              <a:tblGrid>
                <a:gridCol w="787320"/>
                <a:gridCol w="1884240"/>
                <a:gridCol w="1027080"/>
                <a:gridCol w="1198800"/>
                <a:gridCol w="1198440"/>
                <a:gridCol w="1123920"/>
                <a:gridCol w="120492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概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含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2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记忆与解释信息的能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没有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一点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基本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程度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良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2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出的可被观察的反应或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不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一些适当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是非常一致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通常是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一致且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的主、客观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普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很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没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62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计划的制订与实施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护理活动的指南，其目的是明确护理目标、确定护理要点、提供评价标准、设计实施方案。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一种合作性的、有顺序的、循环的程序，以达到预期的目标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78920" y="1052280"/>
            <a:ext cx="900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的排序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Mueck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Stanhop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Lancaster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优先顺序确定方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问题的了解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解决问题的动机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问题的严重程度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利用资源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0" name="文本框 5"/>
          <p:cNvSpPr/>
          <p:nvPr/>
        </p:nvSpPr>
        <p:spPr>
          <a:xfrm>
            <a:off x="3780000" y="306864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预防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士解决问题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政策与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解决问题的迅速性与持续的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52360" y="1052640"/>
            <a:ext cx="8639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掌握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估的内容、方法；社区居民健康档案的主要内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692aa2"/>
                </a:solidFill>
                <a:latin typeface="Verdana"/>
                <a:ea typeface="宋体"/>
              </a:rPr>
              <a:t>熟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；社区护理中护理诊断排列顺序的原则；实施护理措施时的注意事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了解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价的步骤与内容；社区健康档案的管理与使用要求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395280" y="1844640"/>
          <a:ext cx="8353440" cy="4146480"/>
        </p:xfrm>
        <a:graphic>
          <a:graphicData uri="http://schemas.openxmlformats.org/drawingml/2006/table">
            <a:tbl>
              <a:tblPr/>
              <a:tblGrid>
                <a:gridCol w="1079640"/>
                <a:gridCol w="1025280"/>
                <a:gridCol w="808200"/>
                <a:gridCol w="809640"/>
                <a:gridCol w="809640"/>
                <a:gridCol w="809640"/>
                <a:gridCol w="777960"/>
                <a:gridCol w="841320"/>
                <a:gridCol w="807840"/>
                <a:gridCol w="584280"/>
              </a:tblGrid>
              <a:tr h="107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及持续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2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1"/>
          <p:cNvSpPr/>
          <p:nvPr/>
        </p:nvSpPr>
        <p:spPr>
          <a:xfrm>
            <a:off x="684360" y="119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-4    Mueck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30320" y="1773360"/>
          <a:ext cx="8864280" cy="4406760"/>
        </p:xfrm>
        <a:graphic>
          <a:graphicData uri="http://schemas.openxmlformats.org/drawingml/2006/table">
            <a:tbl>
              <a:tblPr/>
              <a:tblGrid>
                <a:gridCol w="1017360"/>
                <a:gridCol w="615960"/>
                <a:gridCol w="328680"/>
                <a:gridCol w="463680"/>
                <a:gridCol w="287280"/>
                <a:gridCol w="628560"/>
                <a:gridCol w="436680"/>
                <a:gridCol w="436320"/>
                <a:gridCol w="508320"/>
                <a:gridCol w="507960"/>
                <a:gridCol w="436320"/>
                <a:gridCol w="436680"/>
                <a:gridCol w="434880"/>
                <a:gridCol w="412920"/>
                <a:gridCol w="436320"/>
                <a:gridCol w="524160"/>
                <a:gridCol w="417240"/>
                <a:gridCol w="534960"/>
              </a:tblGrid>
              <a:tr h="9586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及持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5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0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8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Rectangle 1"/>
          <p:cNvSpPr/>
          <p:nvPr/>
        </p:nvSpPr>
        <p:spPr>
          <a:xfrm>
            <a:off x="1191240" y="1198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-5   Stanhope &amp; Lancaster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78920" y="1196640"/>
            <a:ext cx="8736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预期目标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期望服务对象在接受护理干预后所能达到的结果，包括功能、认知、情感及行为等方面的改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目标的制订应做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特定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测量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达到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有时间期限的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08000" y="1196640"/>
            <a:ext cx="89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目标可分为长期目标和短期目标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例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问题：婴儿营养不良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因素：社区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6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母亲对婴儿喂养方法的认识不足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长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营养状况得到改善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短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正确演示。婴儿食品的制作；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按照营养师的建议为婴儿正确添加辅食。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书写目标时应注意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简单明了，使用可测量或可观察得到的词汇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一个护理诊断可制订多个目标，但是一个目标只针对一个护理诊断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目标陈述中要包括具体的评价日期和时间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以使用长期目标与短期目标相结合的方法，实施起来更有针对性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拟定护理措施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原则：合理性和可行性 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分类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社区护理措施以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和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为主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依赖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在医生指示下进行，如“遵医嘱给药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与其他卫生专业人员商讨完成，如“协助理疗师共同为服务对象进行康复评定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护士独立完成，如“为服务对象提供健康教育和咨询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计划成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-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　社区护理计划表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95280" y="2781360"/>
          <a:ext cx="8353440" cy="301464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  <a:gridCol w="1392120"/>
                <a:gridCol w="1392480"/>
                <a:gridCol w="1392120"/>
              </a:tblGrid>
              <a:tr h="647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相关因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具体目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计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执行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社区护理计划的实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79280" y="1125360"/>
            <a:ext cx="8640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将所制订计划付诸实践，是针对护理目标而采取的行动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前的准备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计划行动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后的记录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方式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IO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intervention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utcome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格式，即问题、措施、结果的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要求及时、准确、真实、重点突出，为下一步的评价工作奠定基础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98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99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的效果评价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评价形式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过程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形成性评价，是在护理程序的各个阶段进行评价，一直到护理活动不断完善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结果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终结性评价，是在服务对象经过各项计划执行后，针对护理活动的近期和远期效果进行评价，判断实施计划后的效果是否与预期目标相一致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3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位于某城市高校区附件的宏宇小区是一个新兴的居民住宅小区。该小区内住户大部分为高级知识分子，少部分为在该小区旁菜市场、商店里工作的民工。该小区内的人群年龄分布以中年人和老年人为主。大部分仍然工作在教学科研一线，工作压力较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均为高层楼房，由于是新建小区，因此楼梯走廊比较明亮、少堆积物，但有部分楼道内的灭火器缺失。多数住户数值火警电话，但不会使用防火器械。小区内绿化好，水泥路面平整通畅。地下车库还没有建成使用，因此小区内停车比较拥堵，机动车占用了一半的人行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704" name="内容占位符 6" descr=""/>
          <p:cNvPicPr/>
          <p:nvPr/>
        </p:nvPicPr>
        <p:blipFill>
          <a:blip r:embed="rId1"/>
          <a:stretch/>
        </p:blipFill>
        <p:spPr>
          <a:xfrm>
            <a:off x="665280" y="1395360"/>
            <a:ext cx="7740360" cy="4462560"/>
          </a:xfrm>
          <a:prstGeom prst="rect">
            <a:avLst/>
          </a:prstGeom>
          <a:ln w="0">
            <a:noFill/>
          </a:ln>
        </p:spPr>
      </p:pic>
      <p:sp>
        <p:nvSpPr>
          <p:cNvPr id="7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常用社区护理相关评价指标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数量和质量的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资源投入评价指标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服务满意度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影响力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11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340000" y="1628640"/>
            <a:ext cx="6408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居民健康档案的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立与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居民健康档案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记录与社区居民健康有关信息的系统性文件，是社区卫生技术人员全面掌握居民健康状况的基本工具，是居民提供连续性、综合性、协调性的社区卫生服务的重要依据，同时还是社区护理教学、社区护理研究和司法工作的重要参考资料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类型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档案主体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记录材质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纸质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主要针对社区卫生服务中心管辖范围内常住居民，包括居住半年以上的户籍及非户籍居民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以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岁儿童、孕产妇、老年人、慢性病患者和重性精神疾病患者等人群为重点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问题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个人基本信息、健康体检、重点人群健康管理记录和其他医疗卫生服务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预防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期性健康检查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免疫接种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45760" y="105228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“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S-O-A-P”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的形式对个人健康问题描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Text Box 2"/>
          <p:cNvSpPr/>
          <p:nvPr/>
        </p:nvSpPr>
        <p:spPr>
          <a:xfrm>
            <a:off x="395280" y="1700280"/>
            <a:ext cx="8379000" cy="4897440"/>
          </a:xfrm>
          <a:prstGeom prst="rect">
            <a:avLst/>
          </a:prstGeom>
          <a:gradFill rotWithShape="0">
            <a:gsLst>
              <a:gs pos="0">
                <a:srgbClr val="bbd5f0"/>
              </a:gs>
              <a:gs pos="100000">
                <a:srgbClr val="9cbee0"/>
              </a:gs>
            </a:gsLst>
            <a:lin ang="5400000"/>
          </a:gra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S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su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个体的主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由个体提供的主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症状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病史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家族史等。填写时尽量用个体的语言来描述，医护人员的主观看法不可加入其中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O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o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医生诊疗过程中观察到的个体资料，包括体征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实验室检查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X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线检查的资料以及个体的态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行为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ssessment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SOAP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中最重要的部分，应包括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鉴别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与其他问题的关系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问题的轻重程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预后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P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lan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针对问题而提出的，每一问题都有相应的计划，包括诊断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治疗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个体指导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基本资料　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评估资料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主要健康问题目录及健康问题描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成员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社区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基本资料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资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状况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居民健康状况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健康档案的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7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有一所小学，但校门开放方向正好面对社区外的马路，距离马路的距离也较近。小区内有棋牌室、麻将室，但是光顾的人不多。小区内无正式宗教团体。小区内有药店，但离社区医疗服务中心距离比较远，需要换乘公交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次才能到达。社区卫生服务中心以白天门诊服务为主，夜晚无就医条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社区医护人员在建档时发现该社区居民的高血压患病率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3.2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相比于全国成人高血压患病率平均水平高（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8.8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。通过与居民交谈后得知多数居民喜欢吃咸食，少运动，居民们对高血压疾病的相关知识了解不够，缺乏自我保护意识和保健知识。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社区居民健康档案的管理与使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7" name="内容占位符 1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4060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39" name="Object 2"/>
          <p:cNvGraphicFramePr/>
          <p:nvPr/>
        </p:nvGraphicFramePr>
        <p:xfrm>
          <a:off x="928800" y="214200"/>
          <a:ext cx="6858000" cy="636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14200"/>
                    <a:ext cx="6858000" cy="636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1" name="TextBox 4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确定建档对象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44" name="Object 1"/>
          <p:cNvGraphicFramePr/>
          <p:nvPr/>
        </p:nvGraphicFramePr>
        <p:xfrm>
          <a:off x="571680" y="214200"/>
          <a:ext cx="7362720" cy="642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14200"/>
                    <a:ext cx="7362720" cy="64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TextBox 5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居民健康档案管理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179280" y="119664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建档工作的考核指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档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立电子健康档案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合格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填写合格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使用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中有动态记录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(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有动态记录的档案是指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年内有符合各项服务规范要求的相关服务记录的健康档案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)</a:t>
            </a: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社区居民健康档案的管理与使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TextBox 7"/>
          <p:cNvSpPr/>
          <p:nvPr/>
        </p:nvSpPr>
        <p:spPr>
          <a:xfrm>
            <a:off x="468360" y="1484280"/>
            <a:ext cx="7920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</a:rPr>
              <a:t>作为一名工作在这个社区的护士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除了目前已有的评估资料外，你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需要对这个社区补充哪些评估资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本例中所得到的社区护理问题较多，你将以何种原则对这些社区护理问题进行排序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为这个社区的人群设计干预计划时，如何根据社区人群的文化程度来考虑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2" name="Picture 2" descr="http://down.tutu001.com/d/file/20120217/373dcfb4c8f401a2c8be033836_560.jpg"/>
          <p:cNvPicPr/>
          <p:nvPr/>
        </p:nvPicPr>
        <p:blipFill>
          <a:blip r:embed="rId1"/>
          <a:srcRect l="9449" t="12529" r="9550" b="12292"/>
          <a:stretch/>
        </p:blipFill>
        <p:spPr>
          <a:xfrm>
            <a:off x="6875640" y="1197000"/>
            <a:ext cx="192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5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26" name="TextBox 6"/>
          <p:cNvSpPr/>
          <p:nvPr/>
        </p:nvSpPr>
        <p:spPr>
          <a:xfrm>
            <a:off x="3059280" y="2421000"/>
            <a:ext cx="540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评估与诊断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收集社区实际存在和潜在健康问题有关资料的过程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目的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发现社区健康问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找出导致问题的相关因素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为社区护理诊断和计划提供依据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1" name="内容占位符 5" descr=""/>
          <p:cNvPicPr/>
          <p:nvPr/>
        </p:nvPicPr>
        <p:blipFill>
          <a:blip r:embed="rId1"/>
          <a:stretch/>
        </p:blipFill>
        <p:spPr>
          <a:xfrm>
            <a:off x="-476280" y="974880"/>
            <a:ext cx="12760200" cy="5591160"/>
          </a:xfrm>
          <a:prstGeom prst="rect">
            <a:avLst/>
          </a:prstGeom>
          <a:ln w="0">
            <a:noFill/>
          </a:ln>
        </p:spPr>
      </p:pic>
      <p:sp>
        <p:nvSpPr>
          <p:cNvPr id="6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79280" y="1125360"/>
            <a:ext cx="8856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方法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实地考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挡风玻璃式调查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windshield surve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重点人物访谈（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key informants interview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问卷调查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查阅文献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参与式观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讨论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3:15:35Z</dcterms:modified>
  <cp:revision>53</cp:revision>
  <dc:subject/>
  <dc:title>第二章 以社区为中心的护理</dc:title>
</cp:coreProperties>
</file>