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11.wmf" ContentType="image/x-wmf"/>
  <Override PartName="/ppt/media/image12.png" ContentType="image/png"/>
  <Override PartName="/ppt/media/image9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52990-A70B-4A88-8F74-26270BA4264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9D106-D4A3-4684-8DCB-CC1B98DEB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51A7A4-43C7-4459-ABD4-902B001B6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6AFB742-D914-497D-B39F-1387ED23D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F5B93C0-E618-42CC-A3A4-2A0298529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BC1D355-6963-4693-8A88-ABACA0EA8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336C8D4-7017-4045-AFE6-A336FA085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0DDCC79-5A22-40F5-A467-53E34EC6D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7BE7713-5EC1-4B9D-8FBB-A7D2A28BF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033DAEA-F2E2-4E03-86E1-2BC714C2E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B1B6616-1A47-46EC-B777-D5B486BCA68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6D23A11-65AE-4823-83F1-29F5E50D848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A6B46-8E82-47DD-804B-0B94449BD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546A675-FD5E-4A01-9D5B-1CDB61CAD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CE41B6E-A795-45BE-9C5D-BFB927889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10D8AD1-C925-4EFF-A66F-0DEBBA59D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534DF22-5EEB-42AC-B0BF-A36F274E7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32AD971-F50D-430E-82BC-D145EEA80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7B2D7DE-27B0-4581-8C30-3334331C4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81D064D-65A2-4225-B748-3E9610D9E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FC7BEBB-D4FB-4019-ABFE-78874434C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1AE483F-53DB-4DC7-97E7-45118FD82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14A3BCD-6375-4CC9-A607-43A1C79F9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F01D4-3071-490C-9C70-95D37175C2F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810EE5F-A390-487D-AAF5-1A48AFADCA3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B1757D-40A5-4E4F-AA15-97420102CDC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C6758D-70AD-4E5D-9ED1-BD134CB14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7298A9-F0F5-4568-B8A6-1402E7335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8CA76F-666E-47DA-8548-8E3616502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3FB809-750F-4844-BC34-0DB498931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716B70-360B-4CE5-AED0-4822E0C2F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981C5B-3F8D-46C3-9CA7-C82569CCF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28CA9D-96FB-4581-833E-D809CC5D7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F6C0AF-6DF3-4EBB-A934-A5A9CD681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964B-9E4C-4C76-BA78-3781F73AA19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8A9EAC-292F-4712-9A9B-B4D8531D8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C09C18-CC30-4CEE-929C-382E7AFBC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7C9B59-75E3-48C8-8614-1C9F6EF209E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3CD167A-CE0E-4FF3-B329-1CA3DB6C351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BA046DE-A42D-4D39-9C8D-A807BACFC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0B79786-286A-4FB9-9DF9-FCFB647AB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A1F33B4-B200-41FC-9858-21A5B3B42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C572ED7-6C33-4271-8DAD-12083C525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2A3F8B5-1DAF-4C12-8D15-6C6CC86C6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662ED83-1A00-4EE9-9E62-48B31C687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909F-CE81-4318-9E88-AADD93ED2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4855619-248C-4E95-A557-F6828A1FA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465A88D-6AA5-4C1E-8C32-7D6935BBA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D281F3B-1705-48BE-8BC6-5BE13227E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B4D7A30-9D6C-433C-A4DD-10290E486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7439910-4C2F-4DAA-A94F-E27F05D9ADE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F1EB6C-5297-40BF-A241-36E98604D85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76CAB5-FFF4-4A9A-842B-18C1B26A8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AD686A-BD48-4DC0-89BE-2B37B2CAE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ED2011-F7BC-4EFF-8636-43AC5B6FB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14A924-62FE-4247-9AE5-24A8A5CBC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C283-6B05-4F41-9682-3C5702CC1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CA349F-4F88-4760-9537-A44B1FA6D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47CB81-E680-4D03-B657-124D0A45C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2DFECB-99D6-40FE-9B60-09F0A76CE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E49D1A-DDB2-4E40-8F7B-F9102990D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6EB652-273D-4B55-9F38-327FEAABD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4E92AF-4CDB-4C89-A163-B011B00AF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83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84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944E97-D6FE-49B1-8F3A-E8E0E32A39F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0FC5-EC3A-4BC1-A276-EA334D424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23BA-F298-4AE1-8623-0DE4762FC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6A12-6384-4561-8F83-2A6A30CE2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C676-7F1D-43C4-9441-0EB2041B0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F0FF5-45FB-4947-B21F-A22A2FEA4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785C-4C1D-4767-AA17-2F78F7CDB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D8AC-ABD2-438B-B780-6EF20E4AE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5786-8706-4922-961C-81CA94427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7475-3B87-4417-9FDB-90D9E14D1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EFA2-5823-4E12-B0CA-0EB843A1A66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ED4A3F-58CA-4A2D-BA8D-A2660E8FAEA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BB7E85-1D87-4F01-B31F-237E58100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35EE2A-6972-4D7C-B714-37B60AEF3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65A0F2-53B2-4144-B6CB-8AE8C0D46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F7E87F-5CD9-477A-82B7-EAEB82ACA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55B1D-C023-4810-A766-A3E493F10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EBACCD-0203-4161-8E88-40E2E2687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BF1062-2790-49CB-955D-652C7FFAD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0ADE76-EDFA-4F1D-9470-9400262E6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3107C8-E820-4CC5-BD77-4F9EF2F28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DF977E-0382-44A1-A42F-97161C765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262B51-1895-4751-B845-B516CF941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9F5642-88D8-4989-86CF-237AA533AAF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3F26CCC-0AB2-4508-A6C9-B8BBBC9C250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8C6FFF5-DFF2-4444-9EC3-B62575491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D713647-96EC-4470-8203-5CA79FC15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69797-98B6-4865-BACE-3EEB9E15E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92FA5C7-5139-4926-9A29-DED605390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B4E679C-8DAF-4412-AE7E-34147E856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760DCAB-F409-4933-849B-3B0DB6C32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C7DCB3D-DC70-4224-A9A2-ECE5BD6F0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7935495-BC31-4EA6-88FF-8FE81727F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CE03244-85CD-416F-BEB7-25D6D9764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72FB217-ED4D-49C7-AC1C-62DA4FA06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74A6CB2-5294-49A0-9543-0F5229AFC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632CD83-B529-4E58-B2F9-1F3E5A9D936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990216-4C04-4F77-A85A-C9FDE980F71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120F4-3B2D-451B-A784-28EF3ABAD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7A4C62-2B5B-404E-88F7-7733252F5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D8A4CB-FC10-490A-9EB2-BDC63390A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E98170-EF7E-4E8D-989A-1CFAC849A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2A4117-64F4-4E18-97B3-4FEF67ED9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BA7DE3-723A-41EE-A124-AD029F4E1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8D55CF-C6EF-49D0-B037-892DC93D4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AEE7BA-08C5-4FFB-97A1-6E9345A8C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4ED0DB-41AF-435F-A651-671EF8BEE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8C05B9-C9FD-4428-9355-BA8B60870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FEA9AD-2E0D-4FE9-A832-9FFC009DA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A7D11-9A4A-4F03-998D-AE2D65625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740305-D0E4-4D3E-9257-3260D065659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C3F5810-1A51-4A53-881C-085A676C328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3442453-06EC-4800-AAB9-EEDA3629B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63AE840-ED81-4A2F-8C4A-F003CCC64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8995E23-C75C-4176-BEC2-E5FC11802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FF8AC34-FA97-41C7-BCA5-A1565C93F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783D226-07B7-4E66-8268-E12771CB1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52C129E-492B-4B73-B356-C5E79948E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C408632-F2E4-45CD-8EF0-984F31497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EE1D415-8315-4291-B39E-5CB5B7D5D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95950-8C28-44D2-B8C5-7EF5A238D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7505A86-3682-40A0-9E35-DBE3A5521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51DDE75-40F9-4590-916F-D53E712B4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23401AD-7A28-4128-B043-EC42AB54004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97477C7-2284-4107-BB15-DA0F981B1A7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1C782B0-7241-4016-B018-47D086CDD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9CAD0E0-146A-4B88-9BA2-EDDE96791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697FD0C-FBB1-4076-8522-BDC203DE1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AB7B2FA-9E01-423B-9923-3B12B68CA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9EE720C-A415-46C6-A26D-24162BF21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5C0F264-C0C7-4526-A50D-70CE35EC2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9014D-2744-48BF-9994-6E0E1A094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2BF85F9-131B-4B98-AF49-4D525F6B1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C3F6674-1FD7-407D-9E78-028063A69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F2D7F2E-5FF4-4395-B99E-F6A23DB90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598D8DB-1F87-484B-9FA7-AB0665625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4D28823-65F3-4546-82F0-96220198C79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A89081-159A-4213-BB3B-EA4863A673E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79AE8A-D247-4569-9292-0208D77A4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DF2720-B690-45FD-B546-37A4BCD96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8FD757-2257-4A74-B8C3-BDED327F2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C6EAEC-1058-4E21-9A9C-5A44A3830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97BB7-3534-46E8-926B-6A3D3E859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9E3E17-21F0-47CC-9DAE-66714F3EF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8F6F7E-9B61-4ABD-B9C3-3347B59EB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F6319F-C123-40B9-81C8-D006BC794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C3B30D-BBE4-4ACC-B30F-3D523CE9D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C3EE12-7019-4B55-8044-8C5ED9E1F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7A1319-4566-459E-87B5-BAC9CF3D5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536932-D55E-407E-A899-CE024412CA4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7FC01C4-166E-44BD-BCDF-64F7B11AE97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36C7F0C-7430-47F0-9D4C-E11F7DC95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A5A6A34-871E-4FA0-8009-3AEF86858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CD08C-5C3C-45FD-B111-DECD57FE18C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40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0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sldNum" idx="19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09874-AB07-4A33-9230-5F9E9B0EA2B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dt" idx="20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45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5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455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sldNum" idx="2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F3E8B-2554-4319-A05F-E5DC1F76022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dt" idx="2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49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9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500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 type="sldNum" idx="2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C5E46-4282-435D-857A-FAD6A242418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 type="dt" idx="2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54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54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545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 type="sldNum" idx="2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1D36F-4DCC-48F4-92D1-167D14B0DEF0}" type="slidenum">
              <a:rPr b="0" lang="zh-CN" sz="14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 type="dt" idx="26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1AC6A-2055-4DD6-B4C8-CE5FD733E47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dt" idx="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9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Num" idx="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91249-4A35-472C-A9CF-C96380FDB15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dt" idx="6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sldNum" idx="7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557B5-11EB-479F-BC49-D790D0A6741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dt" idx="8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sldNum" idx="9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493C7-937D-4DE0-8007-98D76B8CEB2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dt" idx="10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sldNum" idx="1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9DE09-9E0E-4DA4-B531-3E786A381BF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dt" idx="1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7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75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sldNum" idx="1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C03AB-463F-464D-AF28-F76D9486C9D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dt" idx="1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1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1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20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sldNum" idx="1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3429E-9E17-439C-8B4E-6C2FA46BEDF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 type="dt" idx="16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6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6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sldNum" idx="17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997C3-0015-435D-A585-BC4EB5C80FD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dt" idx="18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4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4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4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Picture 2" descr="21"/>
          <p:cNvPicPr/>
          <p:nvPr/>
        </p:nvPicPr>
        <p:blipFill>
          <a:blip r:embed="rId1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58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8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58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58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9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9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9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9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9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9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9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9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9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05" name="Picture 24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08000" y="2276640"/>
            <a:ext cx="4968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以社区为中心的护理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1600200" y="5311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059280" y="333000"/>
            <a:ext cx="5843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社区评估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394920" y="1236600"/>
            <a:ext cx="852012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资料整理与分析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资料复核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资料分析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报告评估结果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2123640" y="304560"/>
            <a:ext cx="6791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诊断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0" name=""/>
          <p:cNvSpPr txBox="1"/>
          <p:nvPr/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定义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ff6600"/>
                </a:solidFill>
                <a:latin typeface="Verdana"/>
                <a:ea typeface="宋体"/>
              </a:rPr>
              <a:t>社区护理诊断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是指对于个人、家庭、群体或社区现存的或潜在的不健康和（或）健康问题，以及与其相关原因的陈述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842920" y="304560"/>
            <a:ext cx="6072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诊断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178920" y="1268280"/>
            <a:ext cx="8736120" cy="498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护理诊断系统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北美护理诊断协会护理诊断系统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en-US" sz="2400" spc="-1" strike="noStrike">
                <a:solidFill>
                  <a:srgbClr val="ff6600"/>
                </a:solidFill>
                <a:latin typeface="Verdana"/>
                <a:ea typeface="宋体"/>
              </a:rPr>
              <a:t>PSE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  <a:ea typeface="宋体"/>
              </a:rPr>
              <a:t>陈述公式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3" marL="16002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P=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健康问题（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problem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）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3" marL="16002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S=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症状或体征（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sign 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＆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symptoms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）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3" marL="16002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E=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原因（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etiology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）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2842920" y="304560"/>
            <a:ext cx="6072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诊断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6" name=""/>
          <p:cNvSpPr txBox="1"/>
          <p:nvPr/>
        </p:nvSpPr>
        <p:spPr>
          <a:xfrm>
            <a:off x="178920" y="1268280"/>
            <a:ext cx="8736120" cy="498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护理诊断系统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Omaha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护理诊断系统  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护理诊断（问题）分类系统（表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2-1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）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护理干预分类系统（表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2-2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）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护理结果评量系统（表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2-3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）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2842920" y="304560"/>
            <a:ext cx="6072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诊断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650" name=""/>
          <p:cNvGraphicFramePr/>
          <p:nvPr/>
        </p:nvGraphicFramePr>
        <p:xfrm>
          <a:off x="324000" y="2171880"/>
          <a:ext cx="8496000" cy="4213080"/>
        </p:xfrm>
        <a:graphic>
          <a:graphicData uri="http://schemas.openxmlformats.org/drawingml/2006/table">
            <a:tbl>
              <a:tblPr/>
              <a:tblGrid>
                <a:gridCol w="1742760"/>
                <a:gridCol w="6753240"/>
              </a:tblGrid>
              <a:tr h="485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领域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护理诊断（问题）分类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4824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环境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收入，卫生，住宅，邻居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/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工作场所的安全，其他心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11019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心理社会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与社区资源的联系，社会接触，角色改变，人际关系，精神压力，哀伤，情绪稳定性，照顾，忽略儿童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/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成人，虐待儿童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/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成人，生长与发育，其他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10792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生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听觉，视觉，说话与语言，咀嚼，认知，疼痛，意识，皮肤，神经运动（肌肉、骨骼）系统与功能，呼吸，循环，消化，排便功能，生殖泌尿功能，产前产后，其他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10638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健康相关行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营养，睡眠与休息形态，身体活动，个人卫生，物质滥用（酒精或药品），家庭计划，健康指导，处方用药，特殊护理技术，其他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  <p:sp>
        <p:nvSpPr>
          <p:cNvPr id="651" name="矩形 5"/>
          <p:cNvSpPr/>
          <p:nvPr/>
        </p:nvSpPr>
        <p:spPr>
          <a:xfrm>
            <a:off x="1867320" y="1484280"/>
            <a:ext cx="546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Verdana"/>
              </a:rPr>
              <a:t>表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Verdana"/>
              </a:rPr>
              <a:t>2-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Verdana"/>
              </a:rPr>
              <a:t>　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Verdana"/>
              </a:rPr>
              <a:t>Omaha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Verdana"/>
              </a:rPr>
              <a:t>护理诊断（问题）分类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2842920" y="304560"/>
            <a:ext cx="6072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诊断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54" name="矩形 5"/>
          <p:cNvSpPr/>
          <p:nvPr/>
        </p:nvSpPr>
        <p:spPr>
          <a:xfrm>
            <a:off x="2336400" y="1341360"/>
            <a:ext cx="461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Verdana"/>
              </a:rPr>
              <a:t>表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Verdana"/>
              </a:rPr>
              <a:t>2-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Verdana"/>
              </a:rPr>
              <a:t>　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Verdana"/>
              </a:rPr>
              <a:t>Omaha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Verdana"/>
              </a:rPr>
              <a:t>护理干预分类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655" name=""/>
          <p:cNvGraphicFramePr/>
          <p:nvPr/>
        </p:nvGraphicFramePr>
        <p:xfrm>
          <a:off x="395280" y="1989000"/>
          <a:ext cx="8209080" cy="4518000"/>
        </p:xfrm>
        <a:graphic>
          <a:graphicData uri="http://schemas.openxmlformats.org/drawingml/2006/table">
            <a:tbl>
              <a:tblPr/>
              <a:tblGrid>
                <a:gridCol w="1101600"/>
                <a:gridCol w="7107480"/>
              </a:tblGrid>
              <a:tr h="338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项目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内容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3380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类别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指导、指引和咨询，处理和程序，个案管理，监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38415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目标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解剖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/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生理，行为修正，膀胱功能护理，与他人感情，肠道功能护理，维持呼吸道的通畅，心脏功能护理，照顾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/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为人父母，长期卧床护理，沟通，应对技巧，日间护理，管教，伤口护理，医疗设备，教育，职业，环境，运动，家庭计划，喂养方法，财务，食物，行走训练与康复，生长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/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发育，家务管理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/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居住环境，人际关系，检验结果，相关法规，医疗照顾，药物作用及副作用，用药管理，协助用药安排，身体活动，辅助性护理活动，营养，营养咨询，造瘘口护理，其他社区资源，个人照护，体位，康复，放松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/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呼吸技巧，休息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/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睡眠，安全，筛选，受伤护理，精神及情绪的症状，体征，皮肤护理，社会福利与咨询，化验标本收集，精神护理，促进身心发展的活动，压力管理，物质滥用，医疗器材，支持团体，交通运送，促进健康，其他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2842920" y="304560"/>
            <a:ext cx="6072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诊断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58" name="矩形 5"/>
          <p:cNvSpPr/>
          <p:nvPr/>
        </p:nvSpPr>
        <p:spPr>
          <a:xfrm>
            <a:off x="2310840" y="1341360"/>
            <a:ext cx="461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Verdana"/>
              </a:rPr>
              <a:t>表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Verdana"/>
              </a:rPr>
              <a:t>2-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Verdana"/>
              </a:rPr>
              <a:t>　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Verdana"/>
              </a:rPr>
              <a:t>Omaha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Verdana"/>
              </a:rPr>
              <a:t>护理结果评量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659" name=""/>
          <p:cNvGraphicFramePr/>
          <p:nvPr/>
        </p:nvGraphicFramePr>
        <p:xfrm>
          <a:off x="324000" y="1989000"/>
          <a:ext cx="8424720" cy="4175280"/>
        </p:xfrm>
        <a:graphic>
          <a:graphicData uri="http://schemas.openxmlformats.org/drawingml/2006/table">
            <a:tbl>
              <a:tblPr/>
              <a:tblGrid>
                <a:gridCol w="787320"/>
                <a:gridCol w="1884240"/>
                <a:gridCol w="1027080"/>
                <a:gridCol w="1198800"/>
                <a:gridCol w="1198440"/>
                <a:gridCol w="1123920"/>
                <a:gridCol w="1204920"/>
              </a:tblGrid>
              <a:tr h="596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概念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含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4</a:t>
                      </a: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5</a:t>
                      </a: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9273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知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个案记忆与解释信息的能力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完全没有知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具有一点知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具有基本知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认知程度适当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认知良好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12603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行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个案表现出的可被观察的反应或行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完全不适当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有一些适当的行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不是非常一致的行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通常是合适的行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一致且合适的行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13906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症状、体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个案表现的主、客观症状、体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非常严重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严重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普通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很少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没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6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662" name="图片 6" descr="4.png"/>
          <p:cNvPicPr/>
          <p:nvPr/>
        </p:nvPicPr>
        <p:blipFill>
          <a:blip r:embed="rId1"/>
          <a:stretch/>
        </p:blipFill>
        <p:spPr>
          <a:xfrm>
            <a:off x="468360" y="1628640"/>
            <a:ext cx="8280360" cy="4870440"/>
          </a:xfrm>
          <a:prstGeom prst="rect">
            <a:avLst/>
          </a:prstGeom>
          <a:ln w="0">
            <a:noFill/>
          </a:ln>
        </p:spPr>
      </p:pic>
      <p:sp>
        <p:nvSpPr>
          <p:cNvPr id="663" name="TextBox 6"/>
          <p:cNvSpPr/>
          <p:nvPr/>
        </p:nvSpPr>
        <p:spPr>
          <a:xfrm>
            <a:off x="2400480" y="2205000"/>
            <a:ext cx="633708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第二节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社区护理计划的制订与实施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社区护理计划的制定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ff6600"/>
                </a:solidFill>
                <a:latin typeface="Verdana"/>
                <a:ea typeface="宋体"/>
              </a:rPr>
              <a:t>护理计划</a:t>
            </a: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是护理活动的指南，其目的是明确护理目标、确定护理要点、提供评价标准、设计实施方案。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ff6600"/>
                </a:solidFill>
                <a:latin typeface="Verdana"/>
                <a:ea typeface="宋体"/>
              </a:rPr>
              <a:t>社区护理计划</a:t>
            </a: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是一种合作性的、有顺序的、循环的程序，以达到预期的目标。 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社区护理计划的制定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8" name=""/>
          <p:cNvSpPr txBox="1"/>
          <p:nvPr/>
        </p:nvSpPr>
        <p:spPr>
          <a:xfrm>
            <a:off x="178920" y="1052280"/>
            <a:ext cx="9001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护理诊断的排序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Muecke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与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Stanhope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＆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Lancaster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的优先顺序确定方法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社区对问题的了解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社区对解决问题的动机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问题的严重程度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可利用资源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70" name="文本框 5"/>
          <p:cNvSpPr/>
          <p:nvPr/>
        </p:nvSpPr>
        <p:spPr>
          <a:xfrm>
            <a:off x="3780000" y="3068640"/>
            <a:ext cx="518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预防效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护士解决问题的能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健康政策与目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解决问题的迅速性与持续的效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252360" y="1052640"/>
            <a:ext cx="86392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i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掌握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社区护理评估的内容、方法；社区居民健康档案的主要内容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i="1" lang="zh-CN" sz="3200" spc="-1" strike="noStrike">
                <a:solidFill>
                  <a:srgbClr val="692aa2"/>
                </a:solidFill>
                <a:latin typeface="Verdana"/>
                <a:ea typeface="宋体"/>
              </a:rPr>
              <a:t>熟悉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Omaha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护理诊断系统；社区护理中护理诊断排列顺序的原则；实施护理措施时的注意事项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i="1" lang="zh-CN" sz="3200" spc="-1" strike="noStrike">
                <a:solidFill>
                  <a:srgbClr val="ff6600"/>
                </a:solidFill>
                <a:latin typeface="Verdana"/>
                <a:ea typeface="宋体"/>
              </a:rPr>
              <a:t>了解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社区护理评价的步骤与内容；社区健康档案的管理与使用要求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</a:tabLst>
            </a:pP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672" name=""/>
          <p:cNvGraphicFramePr/>
          <p:nvPr/>
        </p:nvGraphicFramePr>
        <p:xfrm>
          <a:off x="395280" y="1844640"/>
          <a:ext cx="8353440" cy="4146480"/>
        </p:xfrm>
        <a:graphic>
          <a:graphicData uri="http://schemas.openxmlformats.org/drawingml/2006/table">
            <a:tbl>
              <a:tblPr/>
              <a:tblGrid>
                <a:gridCol w="1079640"/>
                <a:gridCol w="1025280"/>
                <a:gridCol w="808200"/>
                <a:gridCol w="809640"/>
                <a:gridCol w="809640"/>
                <a:gridCol w="809640"/>
                <a:gridCol w="777960"/>
                <a:gridCol w="841320"/>
                <a:gridCol w="807840"/>
                <a:gridCol w="584280"/>
              </a:tblGrid>
              <a:tr h="1079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社区诊断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社区对问题的了解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社区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动机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问题的严重性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可利用的资源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预防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效果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护理人员能力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政策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快速性及持续效果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总和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36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预防性的行为不足（乳腺癌筛检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0224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儿童龋齿预防知识缺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8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807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发生火灾的可能性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3" name="Rectangle 1"/>
          <p:cNvSpPr/>
          <p:nvPr/>
        </p:nvSpPr>
        <p:spPr>
          <a:xfrm>
            <a:off x="684360" y="119772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表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2-4    Muecke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护理诊断优先顺序确定方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675" name=""/>
          <p:cNvGraphicFramePr/>
          <p:nvPr/>
        </p:nvGraphicFramePr>
        <p:xfrm>
          <a:off x="130320" y="1773360"/>
          <a:ext cx="8864280" cy="4406760"/>
        </p:xfrm>
        <a:graphic>
          <a:graphicData uri="http://schemas.openxmlformats.org/drawingml/2006/table">
            <a:tbl>
              <a:tblPr/>
              <a:tblGrid>
                <a:gridCol w="1017360"/>
                <a:gridCol w="615960"/>
                <a:gridCol w="328680"/>
                <a:gridCol w="463680"/>
                <a:gridCol w="287280"/>
                <a:gridCol w="628560"/>
                <a:gridCol w="436680"/>
                <a:gridCol w="436320"/>
                <a:gridCol w="508320"/>
                <a:gridCol w="507960"/>
                <a:gridCol w="436320"/>
                <a:gridCol w="436680"/>
                <a:gridCol w="434880"/>
                <a:gridCol w="412920"/>
                <a:gridCol w="436320"/>
                <a:gridCol w="524160"/>
                <a:gridCol w="417240"/>
                <a:gridCol w="534960"/>
              </a:tblGrid>
              <a:tr h="958680"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社区诊断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社区对问题的了解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社区动机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问题的严重性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可利用的资源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预防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效果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护理人员能力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政策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快速性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及持续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效果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总和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1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比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重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资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源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比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重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资源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比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重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资源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比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重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资源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比重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资源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比重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资源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比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重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资源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比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重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资源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796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预防性的行为不足（乳腺癌筛检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6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5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5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8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6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8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453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9200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儿童龋齿预防知识缺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9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3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6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5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4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6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5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4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5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05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351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发生火灾的可能性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3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6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4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3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5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85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6" name="Rectangle 1"/>
          <p:cNvSpPr/>
          <p:nvPr/>
        </p:nvSpPr>
        <p:spPr>
          <a:xfrm>
            <a:off x="1191240" y="1198080"/>
            <a:ext cx="67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表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2-5   Stanhope &amp; Lancaster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护理诊断优先顺序确定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社区护理计划的制定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178920" y="1196640"/>
            <a:ext cx="87361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制订目标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ff6600"/>
                </a:solidFill>
                <a:latin typeface="Verdana"/>
                <a:ea typeface="宋体"/>
              </a:rPr>
              <a:t>预期目标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是期望服务对象在接受护理干预后所能达到的结果，包括功能、认知、情感及行为等方面的改变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目标的制订应做到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特定的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可测量的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可达到的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相关的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有时间期限的 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社区护理计划的制定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1" name=""/>
          <p:cNvSpPr txBox="1"/>
          <p:nvPr/>
        </p:nvSpPr>
        <p:spPr>
          <a:xfrm>
            <a:off x="108000" y="1196640"/>
            <a:ext cx="89280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制订目标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护理目标可分为长期目标和短期目标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例如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护理问题：婴儿营养不良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相关因素：社区内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60%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母亲对婴儿喂养方法的认识不足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ff6600"/>
                </a:solidFill>
                <a:latin typeface="Verdana"/>
                <a:ea typeface="宋体"/>
              </a:rPr>
              <a:t>长期目标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：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80%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营养不良婴儿的营养状况得到改善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ff6600"/>
                </a:solidFill>
                <a:latin typeface="Verdana"/>
                <a:ea typeface="宋体"/>
              </a:rPr>
              <a:t>短期目标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：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周内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80%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营养不良婴儿的母亲能正确演示。婴儿食品的制作；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周内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100%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营养不良婴儿的母亲能按照营养师的建议为婴儿正确添加辅食。 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社区护理计划的制定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4" name=""/>
          <p:cNvSpPr txBox="1"/>
          <p:nvPr/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制订目标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书写目标时应注意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简单明了，使用可测量或可观察得到的词汇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一个护理诊断可制订多个目标，但是一个目标只针对一个护理诊断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目标陈述中要包括具体的评价日期和时间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可以使用长期目标与短期目标相结合的方法，实施起来更有针对性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社区护理计划的制定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7" name=""/>
          <p:cNvSpPr txBox="1"/>
          <p:nvPr/>
        </p:nvSpPr>
        <p:spPr>
          <a:xfrm>
            <a:off x="179280" y="1052640"/>
            <a:ext cx="87854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拟定护理措施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原则：合理性和可行性 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分类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（社区护理措施以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  <a:ea typeface="宋体"/>
              </a:rPr>
              <a:t>协作性和独立性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为主）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	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  <a:ea typeface="宋体"/>
              </a:rPr>
              <a:t>依赖性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护理措施：指在医生指示下进行，如“遵医嘱给药”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ff6600"/>
                </a:solidFill>
                <a:latin typeface="Verdana"/>
                <a:ea typeface="宋体"/>
              </a:rPr>
              <a:t>协作性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护理措施：指与其他卫生专业人员商讨完成，如“协助理疗师共同为服务对象进行康复评定”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ff6600"/>
                </a:solidFill>
                <a:latin typeface="Verdana"/>
                <a:ea typeface="宋体"/>
              </a:rPr>
              <a:t>独立性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护理措施：指护士独立完成，如“为服务对象提供健康教育和咨询”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社区护理计划的制定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0" name=""/>
          <p:cNvSpPr txBox="1"/>
          <p:nvPr/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计划成文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表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2-6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　社区护理计划表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692" name=""/>
          <p:cNvGraphicFramePr/>
          <p:nvPr/>
        </p:nvGraphicFramePr>
        <p:xfrm>
          <a:off x="395280" y="2781360"/>
          <a:ext cx="8353440" cy="3014640"/>
        </p:xfrm>
        <a:graphic>
          <a:graphicData uri="http://schemas.openxmlformats.org/drawingml/2006/table">
            <a:tbl>
              <a:tblPr/>
              <a:tblGrid>
                <a:gridCol w="1392120"/>
                <a:gridCol w="1392480"/>
                <a:gridCol w="1392120"/>
                <a:gridCol w="1392120"/>
                <a:gridCol w="1392480"/>
                <a:gridCol w="1392120"/>
              </a:tblGrid>
              <a:tr h="64764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相关因素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具体目标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实施计划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92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实施内容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执行者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时间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场所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50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社区护理计划的实施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4" name=""/>
          <p:cNvSpPr txBox="1"/>
          <p:nvPr/>
        </p:nvSpPr>
        <p:spPr>
          <a:xfrm>
            <a:off x="179280" y="1125360"/>
            <a:ext cx="864072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将所制订计划付诸实践，是针对护理目标而采取的行动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实施前的准备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实施计划行动 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实施后的记录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</a:rPr>
              <a:t>  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记录方式：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PIO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problem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intervention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outcome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）格式，即问题、措施、结果的记录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记录要求及时、准确、真实、重点突出，为下一步的评价工作奠定基础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6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698" name="图片 6" descr="4.png"/>
          <p:cNvPicPr/>
          <p:nvPr/>
        </p:nvPicPr>
        <p:blipFill>
          <a:blip r:embed="rId1"/>
          <a:stretch/>
        </p:blipFill>
        <p:spPr>
          <a:xfrm>
            <a:off x="468360" y="1628640"/>
            <a:ext cx="8280360" cy="4870440"/>
          </a:xfrm>
          <a:prstGeom prst="rect">
            <a:avLst/>
          </a:prstGeom>
          <a:ln w="0">
            <a:noFill/>
          </a:ln>
        </p:spPr>
      </p:pic>
      <p:sp>
        <p:nvSpPr>
          <p:cNvPr id="699" name="TextBox 6"/>
          <p:cNvSpPr/>
          <p:nvPr/>
        </p:nvSpPr>
        <p:spPr>
          <a:xfrm>
            <a:off x="2400480" y="2205000"/>
            <a:ext cx="633708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第三节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社区护理的效果评价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701" name=""/>
          <p:cNvSpPr txBox="1"/>
          <p:nvPr/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评价形式</a:t>
            </a: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	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	</a:t>
            </a:r>
            <a:r>
              <a:rPr b="1" lang="zh-CN" sz="2800" spc="-1" strike="noStrike">
                <a:solidFill>
                  <a:srgbClr val="ff6600"/>
                </a:solidFill>
                <a:latin typeface="Verdana"/>
                <a:ea typeface="宋体"/>
              </a:rPr>
              <a:t>过程评价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：也称形成性评价，是在护理程序的各个阶段进行评价，一直到护理活动不断完善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	</a:t>
            </a:r>
            <a:r>
              <a:rPr b="1" lang="zh-CN" sz="2800" spc="-1" strike="noStrike">
                <a:solidFill>
                  <a:srgbClr val="ff6600"/>
                </a:solidFill>
                <a:latin typeface="Verdana"/>
                <a:ea typeface="宋体"/>
              </a:rPr>
              <a:t>结果评价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：也称终结性评价，是在服务对象经过各项计划执行后，针对护理活动的近期和远期效果进行评价，判断实施计划后的效果是否与预期目标相一致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6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613" name="Picture 15" descr="Chalkboard3"/>
          <p:cNvPicPr/>
          <p:nvPr/>
        </p:nvPicPr>
        <p:blipFill>
          <a:blip r:embed="rId1"/>
          <a:srcRect l="0" t="2168" r="0" b="0"/>
          <a:stretch/>
        </p:blipFill>
        <p:spPr>
          <a:xfrm>
            <a:off x="-181080" y="836640"/>
            <a:ext cx="9577440" cy="6121440"/>
          </a:xfrm>
          <a:prstGeom prst="rect">
            <a:avLst/>
          </a:prstGeom>
          <a:ln w="0">
            <a:noFill/>
          </a:ln>
        </p:spPr>
      </p:pic>
      <p:sp>
        <p:nvSpPr>
          <p:cNvPr id="614" name="文本框 2"/>
          <p:cNvSpPr/>
          <p:nvPr/>
        </p:nvSpPr>
        <p:spPr>
          <a:xfrm>
            <a:off x="1260360" y="1268280"/>
            <a:ext cx="6480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位于某城市高校区附件的宏宇小区是一个新兴的居民住宅小区。该小区内住户大部分为高级知识分子，少部分为在该小区旁菜市场、商店里工作的民工。该小区内的人群年龄分布以中年人和老年人为主。大部分仍然工作在教学科研一线，工作压力较大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小区内均为高层楼房，由于是新建小区，因此楼梯走廊比较明亮、少堆积物，但有部分楼道内的灭火器缺失。多数住户数值火警电话，但不会使用防火器械。小区内绿化好，水泥路面平整通畅。地下车库还没有建成使用，因此小区内停车比较拥堵，机动车占用了一半的人行道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pic>
        <p:nvPicPr>
          <p:cNvPr id="704" name="内容占位符 6" descr=""/>
          <p:cNvPicPr/>
          <p:nvPr/>
        </p:nvPicPr>
        <p:blipFill>
          <a:blip r:embed="rId1"/>
          <a:stretch/>
        </p:blipFill>
        <p:spPr>
          <a:xfrm>
            <a:off x="665280" y="1395360"/>
            <a:ext cx="7740360" cy="4462560"/>
          </a:xfrm>
          <a:prstGeom prst="rect">
            <a:avLst/>
          </a:prstGeom>
          <a:ln w="0">
            <a:noFill/>
          </a:ln>
        </p:spPr>
      </p:pic>
      <p:sp>
        <p:nvSpPr>
          <p:cNvPr id="7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707" name=""/>
          <p:cNvSpPr txBox="1"/>
          <p:nvPr/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常用社区护理相关评价指标 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社区卫生服务数量和质量的评价指标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社区卫生资源投入评价指标。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  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服务满意度评价指标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社区卫生服务影响力评价指标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7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711" name="图片 6" descr="4.png"/>
          <p:cNvPicPr/>
          <p:nvPr/>
        </p:nvPicPr>
        <p:blipFill>
          <a:blip r:embed="rId1"/>
          <a:stretch/>
        </p:blipFill>
        <p:spPr>
          <a:xfrm>
            <a:off x="468360" y="1628640"/>
            <a:ext cx="8280360" cy="4870440"/>
          </a:xfrm>
          <a:prstGeom prst="rect">
            <a:avLst/>
          </a:prstGeom>
          <a:ln w="0">
            <a:noFill/>
          </a:ln>
        </p:spPr>
      </p:pic>
      <p:sp>
        <p:nvSpPr>
          <p:cNvPr id="712" name="TextBox 6"/>
          <p:cNvSpPr/>
          <p:nvPr/>
        </p:nvSpPr>
        <p:spPr>
          <a:xfrm>
            <a:off x="2340000" y="1628640"/>
            <a:ext cx="640872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第四节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社区居民健康档案的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建立与管理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714" name=""/>
          <p:cNvSpPr txBox="1"/>
          <p:nvPr/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ff6600"/>
                </a:solidFill>
                <a:latin typeface="Verdana"/>
                <a:ea typeface="宋体"/>
              </a:rPr>
              <a:t>社区居民健康档案</a:t>
            </a: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是记录与社区居民健康有关信息的系统性文件，是社区卫生技术人员全面掌握居民健康状况的基本工具，是居民提供连续性、综合性、协调性的社区卫生服务的重要依据，同时还是社区护理教学、社区护理研究和司法工作的重要参考资料。 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健康档案的类型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7" name=""/>
          <p:cNvSpPr txBox="1"/>
          <p:nvPr/>
        </p:nvSpPr>
        <p:spPr>
          <a:xfrm>
            <a:off x="30456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根据档案主体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个人健康档案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家庭健康档案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社区健康档案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18" name=""/>
          <p:cNvSpPr txBox="1"/>
          <p:nvPr/>
        </p:nvSpPr>
        <p:spPr>
          <a:xfrm>
            <a:off x="468612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根据记录材质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纸质健康档案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电子健康档案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健康档案的内容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1" name=""/>
          <p:cNvSpPr txBox="1"/>
          <p:nvPr/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个人健康档案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主要针对社区卫生服务中心管辖范围内常住居民，包括居住半年以上的户籍及非户籍居民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以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0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岁儿童、孕产妇、老年人、慢性病患者和重性精神疾病患者等人群为重点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健康档案的内容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4" name=""/>
          <p:cNvSpPr txBox="1"/>
          <p:nvPr/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个人健康档案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ff6600"/>
                </a:solidFill>
                <a:latin typeface="Verdana"/>
                <a:ea typeface="宋体"/>
              </a:rPr>
              <a:t>以问题为导向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的健康记录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个人基本信息、健康体检、重点人群健康管理记录和其他医疗卫生服务记录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ff6600"/>
                </a:solidFill>
                <a:latin typeface="Verdana"/>
                <a:ea typeface="宋体"/>
              </a:rPr>
              <a:t>以预防为导向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的健康记录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周期性健康检查记录表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免疫接种记录表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3" marL="1600200" indent="-22860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45760" y="1052280"/>
            <a:ext cx="80773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以“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S-O-A-P”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的形式对个人健康问题描述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7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8" name="Text Box 2"/>
          <p:cNvSpPr/>
          <p:nvPr/>
        </p:nvSpPr>
        <p:spPr>
          <a:xfrm>
            <a:off x="395280" y="1700280"/>
            <a:ext cx="8379000" cy="4897440"/>
          </a:xfrm>
          <a:prstGeom prst="rect">
            <a:avLst/>
          </a:prstGeom>
          <a:gradFill rotWithShape="0">
            <a:gsLst>
              <a:gs pos="0">
                <a:srgbClr val="bbd5f0"/>
              </a:gs>
              <a:gs pos="100000">
                <a:srgbClr val="9cbee0"/>
              </a:gs>
            </a:gsLst>
            <a:lin ang="5400000"/>
          </a:gradFill>
          <a:ln w="15840">
            <a:solidFill>
              <a:srgbClr val="739c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--S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subjective data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）</a:t>
            </a: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=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个体的主观资料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    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是由个体提供的主诉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症状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病史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家族史等。填写时尽量用个体的语言来描述，医护人员的主观看法不可加入其中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--O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objective data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）</a:t>
            </a: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=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客观资料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    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是医生诊疗过程中观察到的个体资料，包括体征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实验室检查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X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线检查的资料以及个体的态度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行为等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--A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assessment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）</a:t>
            </a: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=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评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    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是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SOAP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中最重要的部分，应包括诊断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鉴别诊断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与其他问题的关系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问题的轻重程度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预后等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--P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plan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）</a:t>
            </a: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=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计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    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是针对问题而提出的，每一问题都有相应的计划，包括诊断计划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治疗计划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个体指导等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健康档案的内容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0" name=""/>
          <p:cNvSpPr txBox="1"/>
          <p:nvPr/>
        </p:nvSpPr>
        <p:spPr>
          <a:xfrm>
            <a:off x="468360" y="1236600"/>
            <a:ext cx="844704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家庭健康档案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家庭基本资料　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家庭评估资料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  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家庭主要健康问题目录及健康问题描述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家庭成员健康记录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"/>
          <p:cNvSpPr txBox="1"/>
          <p:nvPr/>
        </p:nvSpPr>
        <p:spPr>
          <a:xfrm>
            <a:off x="468360" y="1236600"/>
            <a:ext cx="844704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社区</a:t>
            </a: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健康档案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社区基本资料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社区卫生服务资源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社区卫生服务状况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社区居民健康状况 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34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二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健康档案的内容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6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617" name="Picture 15" descr="Chalkboard3"/>
          <p:cNvPicPr/>
          <p:nvPr/>
        </p:nvPicPr>
        <p:blipFill>
          <a:blip r:embed="rId1"/>
          <a:srcRect l="0" t="2168" r="0" b="0"/>
          <a:stretch/>
        </p:blipFill>
        <p:spPr>
          <a:xfrm>
            <a:off x="-181080" y="836640"/>
            <a:ext cx="9577440" cy="6121440"/>
          </a:xfrm>
          <a:prstGeom prst="rect">
            <a:avLst/>
          </a:prstGeom>
          <a:ln w="0">
            <a:noFill/>
          </a:ln>
        </p:spPr>
      </p:pic>
      <p:sp>
        <p:nvSpPr>
          <p:cNvPr id="618" name="文本框 2"/>
          <p:cNvSpPr/>
          <p:nvPr/>
        </p:nvSpPr>
        <p:spPr>
          <a:xfrm>
            <a:off x="1260360" y="1268280"/>
            <a:ext cx="6480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小区内有一所小学，但校门开放方向正好面对社区外的马路，距离马路的距离也较近。小区内有棋牌室、麻将室，但是光顾的人不多。小区内无正式宗教团体。小区内有药店，但离社区医疗服务中心距离比较远，需要换乘公交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次才能到达。社区卫生服务中心以白天门诊服务为主，夜晚无就医条件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社区医护人员在建档时发现该社区居民的高血压患病率为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23.2%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，相比于全国成人高血压患病率平均水平高（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18.8%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）。通过与居民交谈后得知多数居民喜欢吃咸食，少运动，居民们对高血压疾病的相关知识了解不够，缺乏自我保护意识和保健知识。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   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社区居民健康档案的管理与使用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37" name="内容占位符 1" descr=""/>
          <p:cNvPicPr/>
          <p:nvPr/>
        </p:nvPicPr>
        <p:blipFill>
          <a:blip r:embed="rId1"/>
          <a:stretch/>
        </p:blipFill>
        <p:spPr>
          <a:xfrm>
            <a:off x="-6480" y="1352520"/>
            <a:ext cx="9406080" cy="48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739" name="Object 2"/>
          <p:cNvGraphicFramePr/>
          <p:nvPr/>
        </p:nvGraphicFramePr>
        <p:xfrm>
          <a:off x="928800" y="214200"/>
          <a:ext cx="6858000" cy="636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800" y="214200"/>
                    <a:ext cx="6858000" cy="6367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41" name="TextBox 4"/>
          <p:cNvSpPr/>
          <p:nvPr/>
        </p:nvSpPr>
        <p:spPr>
          <a:xfrm>
            <a:off x="7732080" y="1143000"/>
            <a:ext cx="9118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</a:rPr>
              <a:t>图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1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</a:rPr>
              <a:t>确定建档对象流程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744" name="Object 1"/>
          <p:cNvGraphicFramePr/>
          <p:nvPr/>
        </p:nvGraphicFramePr>
        <p:xfrm>
          <a:off x="571680" y="214200"/>
          <a:ext cx="7362720" cy="642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5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680" y="214200"/>
                    <a:ext cx="7362720" cy="642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6" name="TextBox 5"/>
          <p:cNvSpPr/>
          <p:nvPr/>
        </p:nvSpPr>
        <p:spPr>
          <a:xfrm>
            <a:off x="7732080" y="1143000"/>
            <a:ext cx="9118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</a:rPr>
              <a:t>图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2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</a:rPr>
              <a:t>居民健康档案管理流程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"/>
          <p:cNvSpPr txBox="1"/>
          <p:nvPr/>
        </p:nvSpPr>
        <p:spPr>
          <a:xfrm>
            <a:off x="179280" y="1196640"/>
            <a:ext cx="88567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建档工作的考核指标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健康档案建档率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=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建档人数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辖区内常住居民数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×100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％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电子健康档案建档率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=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建立电子健康档案人数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辖区内常住居民数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×100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％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3. 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健康档案合格率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=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抽查填写合格的档案份数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抽查档案总份数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×100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％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4. 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健康档案使用率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=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抽查档案中有动态记录的档案份数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抽查档案总份数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×100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％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Verdana"/>
                <a:ea typeface="宋体"/>
              </a:rPr>
              <a:t>(</a:t>
            </a:r>
            <a:r>
              <a:rPr b="1" lang="zh-CN" sz="1800" spc="-1" strike="noStrike">
                <a:solidFill>
                  <a:srgbClr val="0070c0"/>
                </a:solidFill>
                <a:latin typeface="Verdana"/>
                <a:ea typeface="宋体"/>
              </a:rPr>
              <a:t>有动态记录的档案是指</a:t>
            </a:r>
            <a:r>
              <a:rPr b="1" lang="en-US" sz="1800" spc="-1" strike="noStrike">
                <a:solidFill>
                  <a:srgbClr val="0070c0"/>
                </a:solidFill>
                <a:latin typeface="Verdana"/>
                <a:ea typeface="宋体"/>
              </a:rPr>
              <a:t>1</a:t>
            </a:r>
            <a:r>
              <a:rPr b="1" lang="zh-CN" sz="1800" spc="-1" strike="noStrike">
                <a:solidFill>
                  <a:srgbClr val="0070c0"/>
                </a:solidFill>
                <a:latin typeface="Verdana"/>
                <a:ea typeface="宋体"/>
              </a:rPr>
              <a:t>年内有符合各项服务规范要求的相关服务记录的健康档案</a:t>
            </a:r>
            <a:r>
              <a:rPr b="1" lang="en-US" sz="1800" spc="-1" strike="noStrike">
                <a:solidFill>
                  <a:srgbClr val="0070c0"/>
                </a:solidFill>
                <a:latin typeface="Verdana"/>
                <a:ea typeface="宋体"/>
              </a:rPr>
              <a:t>)</a:t>
            </a:r>
            <a:endParaRPr b="1" lang="en-US" sz="18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endParaRPr b="1" lang="en-US" sz="1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9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三、社区居民健康档案的管理与使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6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1" name="TextBox 7"/>
          <p:cNvSpPr/>
          <p:nvPr/>
        </p:nvSpPr>
        <p:spPr>
          <a:xfrm>
            <a:off x="468360" y="1484280"/>
            <a:ext cx="792000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Verdana"/>
              </a:rPr>
              <a:t>作为一名工作在这个社区的护士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除了目前已有的评估资料外，你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需要对这个社区补充哪些评估资料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本例中所得到的社区护理问题较多，你将以何种原则对这些社区护理问题进行排序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为这个社区的人群设计干预计划时，如何根据社区人群的文化程度来考虑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622" name="Picture 2" descr="http://down.tutu001.com/d/file/20120217/373dcfb4c8f401a2c8be033836_560.jpg"/>
          <p:cNvPicPr/>
          <p:nvPr/>
        </p:nvPicPr>
        <p:blipFill>
          <a:blip r:embed="rId1"/>
          <a:srcRect l="9449" t="12529" r="9550" b="12292"/>
          <a:stretch/>
        </p:blipFill>
        <p:spPr>
          <a:xfrm>
            <a:off x="6875640" y="1197000"/>
            <a:ext cx="192060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6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625" name="图片 6" descr="4.png"/>
          <p:cNvPicPr/>
          <p:nvPr/>
        </p:nvPicPr>
        <p:blipFill>
          <a:blip r:embed="rId1"/>
          <a:stretch/>
        </p:blipFill>
        <p:spPr>
          <a:xfrm>
            <a:off x="468360" y="1628640"/>
            <a:ext cx="8280360" cy="4870440"/>
          </a:xfrm>
          <a:prstGeom prst="rect">
            <a:avLst/>
          </a:prstGeom>
          <a:ln w="0">
            <a:noFill/>
          </a:ln>
        </p:spPr>
      </p:pic>
      <p:sp>
        <p:nvSpPr>
          <p:cNvPr id="626" name="TextBox 6"/>
          <p:cNvSpPr/>
          <p:nvPr/>
        </p:nvSpPr>
        <p:spPr>
          <a:xfrm>
            <a:off x="3059280" y="2421000"/>
            <a:ext cx="540036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第一节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社区评估与诊断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2771640" y="304560"/>
            <a:ext cx="61437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社区评估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178920" y="1125000"/>
            <a:ext cx="8736120" cy="512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社区评估的</a:t>
            </a:r>
            <a:r>
              <a:rPr b="1" lang="zh-CN" sz="3200" spc="-1" strike="noStrike">
                <a:solidFill>
                  <a:srgbClr val="ff6600"/>
                </a:solidFill>
                <a:latin typeface="Verdana"/>
                <a:ea typeface="宋体"/>
              </a:rPr>
              <a:t>定义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是指收集社区实际存在和潜在健康问题有关资料的过程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社区评估的</a:t>
            </a:r>
            <a:r>
              <a:rPr b="1" lang="zh-CN" sz="3200" spc="-1" strike="noStrike">
                <a:solidFill>
                  <a:srgbClr val="ff6600"/>
                </a:solidFill>
                <a:latin typeface="Verdana"/>
                <a:ea typeface="宋体"/>
              </a:rPr>
              <a:t>目的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发现社区健康问题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找出导致问题的相关因素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为社区护理诊断和计划提供依据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2771640" y="304560"/>
            <a:ext cx="61437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社区评估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31" name="内容占位符 5" descr=""/>
          <p:cNvPicPr/>
          <p:nvPr/>
        </p:nvPicPr>
        <p:blipFill>
          <a:blip r:embed="rId1"/>
          <a:stretch/>
        </p:blipFill>
        <p:spPr>
          <a:xfrm>
            <a:off x="-476280" y="974880"/>
            <a:ext cx="12760200" cy="5591160"/>
          </a:xfrm>
          <a:prstGeom prst="rect">
            <a:avLst/>
          </a:prstGeom>
          <a:ln w="0">
            <a:noFill/>
          </a:ln>
        </p:spPr>
      </p:pic>
      <p:sp>
        <p:nvSpPr>
          <p:cNvPr id="6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6326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社区评估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179280" y="1125360"/>
            <a:ext cx="885672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社区评估的</a:t>
            </a:r>
            <a:r>
              <a:rPr b="1" lang="zh-CN" sz="3200" spc="-1" strike="noStrike">
                <a:solidFill>
                  <a:srgbClr val="ff6600"/>
                </a:solidFill>
                <a:latin typeface="Verdana"/>
                <a:ea typeface="宋体"/>
              </a:rPr>
              <a:t>方法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社区实地考察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挡风玻璃式调查（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windshield survey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） 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重点人物访谈（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key informants interview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问卷调查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查阅文献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参与式观察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社区讨论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6-03-11T03:15:35Z</dcterms:modified>
  <cp:revision>53</cp:revision>
  <dc:subject/>
  <dc:title>第二章 以社区为中心的护理</dc:title>
</cp:coreProperties>
</file>