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FA3C-D4DE-4CD3-982A-1678E9183B5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D9F4-59F8-4ECA-B649-90DBB10DCF3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DABE-7703-446F-9090-A6889E8FF43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0904-EC76-4263-B3C3-2C99B2A46EC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A88C-5FB6-40DF-9302-F8FE0484A13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EF8D-14C3-4E77-96AA-808FF6A4DDC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CCD2-8963-4598-A7A6-5C812E47050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7B7AC-2F00-44D5-A310-0F55A6EFF25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CA28-FC13-44F7-ABE6-F6DC7563BF5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C54A-4B3B-4A1A-B37D-3239A2D64BD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47820-D009-497C-8A86-F4866A58E1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76E73-C1CC-4A23-89C2-5B38F675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0C549-10D5-4910-9FC7-9734C846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EAA41-4E07-4482-840B-DFA164C59F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0735D-76D2-4CCA-9E5B-70B5A317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E674D-D419-4B00-9013-781E7327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7B7BD-9E47-4826-AE00-4326B21F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04041-67AC-4A43-B624-D8C13BAFA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E3C09-2D15-4C95-B9F6-5F052EF1D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1C667-247A-4239-8040-2499ABFC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78248-B243-429F-8505-7CA85A24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90C60-117A-4C9B-A157-B3C22433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381C-F658-40F0-83F8-2A14F6B8F0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五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护理程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程序的发展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1125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5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美国护理学家赫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al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首先提出了“护理程序”的概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翰逊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Johns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奥兰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rland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威登贝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iedenba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对护理程序作了进一步的理论阐述，试图将护理程序分为三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6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尤拉和沃尔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Yora &amp; Wals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将护理程序确定为四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7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盖比和拉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Gebbie &amp; Lav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在护理程序中加入了护理诊断，使护理程序分为五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7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美国护士协会将护理程序规定为评估、诊断、计划、实施、评价五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程序的发展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世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代初，美籍学者李式莺博士将护理程序引入我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9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经美籍华裔学者吴袁剑云介绍，国内部分医院开始试点建设以护理程序为核心的系统化整体护理“模式病房”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9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卫生部发文要求各医院积极推行整体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吴袁剑云又向我国介绍以护理程序为基本框架的临床路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护理程序的作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使解决服务对象的健康问题更具目标性和个体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使现代护理学更具科学性和系统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保证了整体护理的实施和护理质量的提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护理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整理和分析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内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资料、健康体检、生活状况及自理程度、心理社会状况、近期的实验室及其他检查结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类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观资料、客观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来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务对象本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家属及关系密切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医务人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务对象的健康记录或病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和护理的有关文献资料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的方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查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整理和分析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核实资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核实主观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明确内容含糊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整理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马斯洛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Maslow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需要层次论进行整理分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戈登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Gord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种功能性健康型态整理分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概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组成部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类型与陈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书写的注意事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护理诊断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关于个人、家庭、社区对现存或潜在的健康问题及生命过程反应的一种临床判断，是护士为达到预期的结果选择护理措施的基础，这些预期结果应能通过护理职能达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护理诊断的概念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 概  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 护理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 护理诊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四节  护理计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五节  实  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六节  评  价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名称：是对服务对象健康状况的概括性的描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义：是对名称的一种清晰的、正确的表达，并以此与其他诊断相鉴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诊断依据：是患者所具有的一组症状和体征，以及有关病史，也可以是危险因素，是做出诊断时的临床判断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相关因素：指影响个体健康状况，导致健康问题的直接因素、促成因素或危险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理生理方面、心理方面、治疗方面、情境方面、年龄方面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诊断的组成部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或体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陈述方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存的护理诊断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潜在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综合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与合作性问题及医疗诊断的关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潜在并发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与医疗诊断的区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80880" y="3573360"/>
          <a:ext cx="8523360" cy="2941920"/>
        </p:xfrm>
        <a:graphic>
          <a:graphicData uri="http://schemas.openxmlformats.org/drawingml/2006/table">
            <a:tbl>
              <a:tblPr/>
              <a:tblGrid>
                <a:gridCol w="1562400"/>
                <a:gridCol w="3781080"/>
                <a:gridCol w="317988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区别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护理诊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医疗诊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诊断对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人、家庭、社区的健康问题或生命过程反应的一种临床判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体病理生理改变的一种临床判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描述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问题状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稳定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对健康问题的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现存或潜在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目较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随患者健康状况的变化而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体的疾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多是现存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目较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相对稳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决策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护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医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属于护理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属于医疗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所列名称应明确、书写规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简单易懂，尽量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NAND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认可的护理诊断名称，这样有利于护士直接的交流和探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避免用症状或体征代替护理诊断，避免与护理目标、护理措施、医疗诊断相混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项护理诊断针对患者的一个健康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个患者可有多个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应是由护理措施能够解决的问题，应指出护理的方向，有利于制订护理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诊断书写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应明确相关因素，潜在的护理诊断应列出危险因素，因为护理计划制订的护理措施多是针对相关因素的，相同的护理诊断如果相关因素不同，护理措施也不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不应有引起法律纠纷的描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避免价值判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诊断书写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四节  护理计划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列护理诊断的顺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确定预期目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制订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计划成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排列护理诊断的优先顺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优先顺序分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首优问题：是指那些对生命威胁最大，需要立即采取行动予以解决的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优问题：是指那些虽然不直接威胁生命，但对服务对象的身心造成痛苦，严重影响服务对象健康或情绪上变化的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优问题：是指那些个人在应对发展和生活变化时所遇到的问题，这些问题虽然不如生理需要和安全需要问题迫切，但并非不重要，同样需要护士给予帮助，使问题得到解决，以便服务对象达到最佳健康状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排列护理诊断的优先顺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列原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马斯洛的人类基本需要层次论进行排序，优先解决生理需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无原则冲突的情况下，可考虑患者认为最重要的问题予以优先解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存的问题优先处理，但不要忽视潜在的和合作性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序不是固定不变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确定预期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短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陈述方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谓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为标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条件状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价时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护理程序、护理诊断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资料收集的内容、来源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护理诊断的组成、类型、陈述方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护理目标的种类、陈述方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主观资料和客观资料的不同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护理诊断的不同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护理诊断与合作性问题及医疗诊断的不同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确定预期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364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以服务对象为中心，即目标的主语一定是患者或患者的一部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有明确的针对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陈述应简单明了，切实可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具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有时间限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潜在并发症的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制订护理措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的类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独立性的护理措施：指不依赖医生的医嘱，护士能够独立提出并完成的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作性的护理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是护士与其他健康保健人员相互合作采取的行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依赖性的护理措施：是指护士执行医嘱的护理活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制订护理措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必须具有一定的科学依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应有针对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切实可行、因人而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应保证服务对象的安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要具体细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鼓励服务对象参与制订护理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计划成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计划记录计算机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护理评估资料输入计算机，计算机将会显示相应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定护理诊断后，计算机即可显示与护理诊断相对应的原因、预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预期目标后，计算机即提示可行的护理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择护理措施后，制订出一份个体化的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打印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五节  实  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中护士应具备的技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内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过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实施中护士应具备的技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认知能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际交往能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操作技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实施的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护理计划所制订的活动加以组织、任务落实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执行医嘱，保持医疗和护理有机结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答服务对象及家属的咨询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评价实施的质量、效果，观察病情，处理突发急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继续收集资料，及时、准确地完成护理记录，不断补充和修正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其他医务人员保持良好关系，做好交班工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咨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教育和指导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沟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记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报告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实施的方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思考整理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o how when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准备过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重新评估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检查和修改护理计划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准备实施护理措施所需要的知识和技能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预测可能发生的并发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组织资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实施的过程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执行计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运用操作技术、沟通技巧、观察能力、合作能力和应变能力执行护理措施的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实施的动态记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记录的内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记录的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问题为中心的记录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SOAPIE)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要点记录表格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问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干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价系统记录表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IE)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实施的过程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496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书写护理诊断和护理诊断排序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叙述制订护理目标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护理措施的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叙述护理措施制订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临床实践中，运用护理程序为患者制订护理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目的和形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的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的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六节  评 价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评价目的和形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676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了解服务对象对健康问题的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验证护理效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控护理质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积累护理经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过程的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效果的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价目标实现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评价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5676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建立评价标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确定评价阶段所需收集资料的类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判断服务对象健康资料的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预期目标是否实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重审护理计划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继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停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修订或增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有不同的方法和类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应贯穿在整个护理计划执行过程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评价、阶段评价、最终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除评价个体目标是否达到外，还应评价并改善群体护理质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构、过程和结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评价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关于预期目标的描述，以下错误的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可分近期目标和远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护理人员的护理活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患者的行为表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期望患者达到的健康状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设定目标是计划阶段的第二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制订护理计划的主要依据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      　　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诊断    　　　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报告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查体资料   　　　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既往病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下资料中属于主观资料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晕        　　　　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色苍白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高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肢冰冷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压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610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女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。因高热＼呼吸困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入院。体检：精神萎靡，体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0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呼吸困难，咳铁锈色痰，诊断为肺炎。以下对患者护理诊断的描述，正确的是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炎球菌性肺炎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欲下降　与高热有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高　与致病菌引起肺部感染有关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气管肺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 概  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概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与相关理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发展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作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护理程序的概念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是一种有计划、系统而科学的护理工作方法，目的是确认和解决服务对象对现存或潜在健康问题的反应。它是一个综合的、动态的、具有决策和反馈功能的护理工作过程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程序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评估：是护理程序的最初阶段。是有目的、有计划、系统地收集服务对象的生理、心理、社会、精神、文化等方面的健康资料并进行整理，以发现和确认其健康问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：是对护理评估阶段所收集的资料进行分析并确定护理问题，从护理的角度描述服务对象的健康问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计划：是针对护理诊断制订的具体护理措施，包括根据护理问题的轻重缓急将护理诊断排序、确定护理目标、制订护理措施和书写护理计划等内容，是护理行动的指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程序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实施：是为达到护理目标，而将计划中的内容付诸行动的过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评价：将服务对象的健康状态与预定目标进行比较并做出判断的过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程序与相关理论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系统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控制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6:58:40Z</dcterms:modified>
  <cp:revision>226</cp:revision>
  <dc:subject/>
  <dc:title>内科护理学</dc:title>
</cp:coreProperties>
</file>