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3329-067A-4B92-B9F6-7D9337AFA15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7CEBB-F437-4024-9A90-AAA78BA4B62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9FC78-C115-4B33-B635-9F42F671A19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AD0BB-98C4-410D-8B44-136C6F79657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9CF96-6862-4D25-A20E-8975CD9BAA2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E101D-AB20-46E5-A317-A0B75CDB030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5541-3F6D-4B25-A5D3-6FE748B8B75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DE71F-AA6F-4804-ADCB-6C020F7FE09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252A6-5289-48EA-91DF-0D3FE191238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6063B-E19B-44C8-9B8B-40BD107772F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9E6F7-3A50-4AF7-87B7-6BB4D1F73D9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B084B-809B-4E58-A600-773229573D7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8A5ED5-3F23-4B3F-A104-22F84248D5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7A0645C-BA3D-49E5-AE62-DB5EF1AB35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384D585C-9657-4661-A6D3-9419944FEB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2AD804A7-00E1-44E8-A4CE-F863E41DBF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BDA04B5-9F46-47A6-857F-CA96DDA169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71A88B9-7083-4A78-8AF8-6C821E68B8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1120933-637F-4CDF-9236-1EC8299799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8BD15B2B-F2E6-4F16-9D34-B6660CCE61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AB8B9D02-E982-4FE0-A006-6801AD7917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B12F000-C8A9-4C84-9176-C8F058A346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82B7AC7-5313-4A04-916B-29CD80A666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5EC6266-0672-4A32-9041-FBD92FFDA9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D4962-A935-4B0D-A2DE-69378290941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章 </a:t>
            </a:r>
            <a:br>
              <a:rPr sz="4400"/>
            </a:br>
            <a:r>
              <a:rPr b="1" lang="zh-CN" sz="4400" spc="-1" strike="noStrike">
                <a:solidFill>
                  <a:srgbClr val="ffffff"/>
                </a:solidFill>
                <a:latin typeface="黑体"/>
              </a:rPr>
              <a:t>舒适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评估，及时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对性采取有效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症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去除诱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恰当的心理社会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与维护患者自尊</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发展与完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客观评价，及时纠偏</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客观准确记录</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患者的清洁护理</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口腔清洁护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肤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口腔清洁、湿润，使患者舒适，预防口腔感染等并发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口臭，增进食欲，保持口腔正常功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口腔黏膜、舌苔变化及口腔气味，了解患者病情动态变化。</a:t>
            </a:r>
            <a:endParaRPr b="1" lang="en-US" sz="2400" spc="-1" strike="noStrike">
              <a:solidFill>
                <a:srgbClr val="000000"/>
              </a:solidFill>
              <a:latin typeface="宋体"/>
            </a:endParaRPr>
          </a:p>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病情、自理能力，患者及家属对清洁口腔正确方法的认识和掌握程度，口腔个人清洁能力。</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所患疾病特点、易出血性及是否有传染性、是否需要进行相关隔离与防护措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口腔评估</a:t>
            </a:r>
            <a:endParaRPr b="1" lang="en-US" sz="24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放置张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取开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擦洗一个部位，更换</a:t>
            </a:r>
            <a:r>
              <a:rPr b="1" lang="en-US" sz="2400" spc="-1" strike="noStrike">
                <a:solidFill>
                  <a:srgbClr val="000000"/>
                </a:solidFill>
                <a:latin typeface="宋体"/>
              </a:rPr>
              <a:t>1</a:t>
            </a:r>
            <a:r>
              <a:rPr b="1" lang="zh-CN" sz="2400" spc="-1" strike="noStrike">
                <a:solidFill>
                  <a:srgbClr val="000000"/>
                </a:solidFill>
                <a:latin typeface="宋体"/>
              </a:rPr>
              <a:t>个湿棉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动作应轻巧，钳端应用棉球包裹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棉球残留于口腔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口腔秽臭的患者，除按上述方法进行口腔护理外，每日可用漱口水、中药藿香煎剂、口洁净、茶叶水等含漱</a:t>
            </a:r>
            <a:r>
              <a:rPr b="1" lang="en-US" sz="2400" spc="-1" strike="noStrike">
                <a:solidFill>
                  <a:srgbClr val="000000"/>
                </a:solidFill>
                <a:latin typeface="宋体"/>
              </a:rPr>
              <a:t>30</a:t>
            </a:r>
            <a:r>
              <a:rPr b="1" lang="zh-CN" sz="2400" spc="-1" strike="noStrike">
                <a:solidFill>
                  <a:srgbClr val="000000"/>
                </a:solidFill>
                <a:latin typeface="宋体"/>
              </a:rPr>
              <a:t>秒后吐掉，一天多次漱口可除口臭，预防口腔炎症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4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特殊口腔护理</a:t>
            </a:r>
            <a:endParaRPr b="1" lang="en-US" sz="24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管插管固定情况，检查气管插管距门齿的距离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囊情况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者躁动，不能很好地配合，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余同特殊口腔护理</a:t>
            </a:r>
            <a:endParaRPr b="1" lang="en-US" sz="2400" spc="-1" strike="noStrike">
              <a:solidFill>
                <a:srgbClr val="000000"/>
              </a:solidFill>
              <a:latin typeface="宋体"/>
            </a:endParaRPr>
          </a:p>
        </p:txBody>
      </p:sp>
      <p:sp>
        <p:nvSpPr>
          <p:cNvPr id="14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患者的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疼痛护理</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4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吸痰</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松开固定</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固定气管插管</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前，气囊一定要饱满，以防止有液体顺气管插管流入下呼吸道</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气管插管前，再次检查气管插管距门齿的距离</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必要时</a:t>
            </a:r>
            <a:r>
              <a:rPr b="1" lang="en-US" sz="2400" spc="-1" strike="noStrike">
                <a:solidFill>
                  <a:srgbClr val="000000"/>
                </a:solidFill>
                <a:latin typeface="宋体"/>
              </a:rPr>
              <a:t>2</a:t>
            </a:r>
            <a:r>
              <a:rPr b="1" lang="zh-CN" sz="2400" spc="-1" strike="noStrike">
                <a:solidFill>
                  <a:srgbClr val="000000"/>
                </a:solidFill>
                <a:latin typeface="宋体"/>
              </a:rPr>
              <a:t>名护士配合完成</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患者躁动不配合者，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5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前多称为压力性溃疡</a:t>
            </a:r>
            <a:r>
              <a:rPr b="1" lang="en-US" sz="2800" spc="-1" strike="noStrike">
                <a:solidFill>
                  <a:srgbClr val="000000"/>
                </a:solidFill>
                <a:latin typeface="宋体"/>
              </a:rPr>
              <a:t>(pressure ulcer)</a:t>
            </a:r>
            <a:r>
              <a:rPr b="1" lang="zh-CN" sz="2800" spc="-1" strike="noStrike">
                <a:solidFill>
                  <a:srgbClr val="000000"/>
                </a:solidFill>
                <a:latin typeface="宋体"/>
              </a:rPr>
              <a:t>，是指身体局部，尤其是骨突部位，由于承受压力或者同时有剪切力和（或）摩擦力的作用，而导致的皮肤和（或）皮下组织局限性损伤，使局部组织血液循环障碍，持续缺血、缺氧、营养不良而致的软组织溃烂和坏死。 </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发生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摩擦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剪切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自身体质及疾病状况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抵抗力下降 </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常用的压疮危险性评估工具</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诺顿（</a:t>
            </a:r>
            <a:r>
              <a:rPr b="1" lang="en-US" sz="2800" spc="-1" strike="noStrike">
                <a:solidFill>
                  <a:srgbClr val="000000"/>
                </a:solidFill>
                <a:latin typeface="宋体"/>
              </a:rPr>
              <a:t>Norto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rade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Waterlow</a:t>
            </a:r>
            <a:r>
              <a:rPr b="1" lang="zh-CN" sz="2800" spc="-1" strike="noStrike">
                <a:solidFill>
                  <a:srgbClr val="000000"/>
                </a:solidFill>
                <a:latin typeface="宋体"/>
              </a:rPr>
              <a:t>压疮危险因素评估表</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预防压疮的评估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明确压疮高危人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活动状况评估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础疾病及治疗药物的影响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疮易发部位评估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的分期和表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疑深部组织损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Ⅰ</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Ⅱ</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Ⅲ</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Ⅳ</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分期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除压迫，控制感染，去除坏死组织和促进肉芽组织生长。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腐痂和焦痂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窦道或隧道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创面的评估与护理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清洁伤口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换药和包扎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他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舒适、压疮、疼痛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引起患者不舒适的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压疮发生的原因、分期和临床表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患者疼痛的原因和分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疱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压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身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护理与精神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与完善记录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免局部组织长期受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翻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骨隆突处和支持身体空隙处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摩擦力和剪切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治疗措施造成的皮肤损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持皮肤清洁干燥、避免局部刺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用肥皂、含乙醇的用品清洁皮肤，以免引起皮肤干燥或使皮肤残留碱性残余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床单、被服清洁、干燥、平整、无皱褶、无碎屑，定期更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皮肤血液循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机体营养状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患者的疼痛护理</a:t>
            </a:r>
            <a:endParaRPr b="1" lang="en-US" sz="4400" spc="-1" strike="noStrike">
              <a:solidFill>
                <a:srgbClr val="ffffff"/>
              </a:solidFill>
              <a:latin typeface="黑体"/>
            </a:endParaRPr>
          </a:p>
        </p:txBody>
      </p:sp>
      <p:sp>
        <p:nvSpPr>
          <p:cNvPr id="177" name=""/>
          <p:cNvSpPr txBox="1"/>
          <p:nvPr/>
        </p:nvSpPr>
        <p:spPr>
          <a:xfrm>
            <a:off x="356760" y="1212840"/>
            <a:ext cx="8474040" cy="5216400"/>
          </a:xfrm>
          <a:prstGeom prst="rect">
            <a:avLst/>
          </a:prstGeom>
          <a:noFill/>
          <a:ln w="0">
            <a:noFill/>
          </a:ln>
        </p:spPr>
        <p:txBody>
          <a:bodyPr anchor="t">
            <a:normAutofit fontScale="70000"/>
          </a:bodyPr>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概念</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原因和影响因素</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分类</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评估</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护理措施</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护理效果的评估</a:t>
            </a:r>
            <a:endParaRPr b="1" lang="en-US" sz="2400" spc="-1" strike="noStrike">
              <a:solidFill>
                <a:srgbClr val="000000"/>
              </a:solidFill>
              <a:latin typeface="宋体"/>
            </a:endParaRPr>
          </a:p>
          <a:p>
            <a:pPr marL="240120" indent="-240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7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定义</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是伴随现存的或潜在的组织损伤而产生的不愉快的主观感觉和情绪体验。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81"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性质特点</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主观感受，较难用客观尺度进行评估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为人体第五大生命体征，常表示存在着组织损伤，可提示有治疗的必要。</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强度、持续时间、节律、性质随引起疼痛的原因或侵犯器官系统的不同而不同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存在一个明确的强度界限，即存在最大限度</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身体保护机制，是重要的危险警告信号</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一般可以被治疗和治愈，也有顽固性疼痛，往往是与疾病相伴随，例如癌痛。</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年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背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情绪</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意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疲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方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支持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及护理因素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不舒适患者的护理措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简述压疮预防性评估的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压疮预防和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疼痛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疼痛评估的内容和护理要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8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神经生理学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躯体性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脏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病理性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9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部位分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出现的时程和程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疼痛伴随的不同感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引起疼痛的原因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疼痛患者的护理措施</a:t>
            </a:r>
            <a:endParaRPr b="1" lang="en-US" sz="4400" spc="-1" strike="noStrike">
              <a:solidFill>
                <a:srgbClr val="ffffff"/>
              </a:solidFill>
              <a:latin typeface="黑体"/>
            </a:endParaRPr>
          </a:p>
        </p:txBody>
      </p:sp>
      <p:sp>
        <p:nvSpPr>
          <p:cNvPr id="19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寻找原因、对症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药物止痛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灸或物理治疗措施止痛</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采取认知行为疗法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舒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疼痛护理效果的评价</a:t>
            </a:r>
            <a:endParaRPr b="1" lang="en-US" sz="4400" spc="-1" strike="noStrike">
              <a:solidFill>
                <a:srgbClr val="ffffff"/>
              </a:solidFill>
              <a:latin typeface="黑体"/>
            </a:endParaRPr>
          </a:p>
        </p:txBody>
      </p:sp>
      <p:sp>
        <p:nvSpPr>
          <p:cNvPr id="19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护理结局分类</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负面心理反应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控制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不良作用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程度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护理工作中的疼痛效果评价</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628280"/>
            <a:ext cx="8610480" cy="4248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患者局部压疮形成，部分真皮层缺损，形成表浅的开放性溃疡，基底粉红色，无坏死组织。此患者的压疮分期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I</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Ⅱ</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Ⅲ</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Ⅳ</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不可分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9"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局部骨隆突处皮肤发红，护士不适宜采取的措施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温水浴</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翻身，避免局部受压</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局部按摩</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使用纳米枕</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使用膜类敷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考虑患者口腔内真菌感染，最恰当的口腔护理溶液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1%</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碳酸氢钠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1%</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过氧化氢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0.l%</a:t>
            </a:r>
            <a:r>
              <a:rPr b="1" lang="zh-CN" sz="2800" spc="-1" strike="noStrike">
                <a:solidFill>
                  <a:srgbClr val="000000"/>
                </a:solidFill>
                <a:latin typeface="宋体"/>
              </a:rPr>
              <a:t>醋酸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硼酸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0.08%</a:t>
            </a:r>
            <a:r>
              <a:rPr b="1" lang="zh-CN" sz="2800" spc="-1" strike="noStrike">
                <a:solidFill>
                  <a:srgbClr val="000000"/>
                </a:solidFill>
                <a:latin typeface="宋体"/>
              </a:rPr>
              <a:t>甲硝唑溶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下面选项中不是直接导致压疮发生的主要力学因素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压力</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剪切力</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摩擦力</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拉力</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向心力 </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50560" y="1699920"/>
            <a:ext cx="88930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患者，男性，</a:t>
            </a:r>
            <a:r>
              <a:rPr b="1" lang="en-US" sz="2800" spc="-1" strike="noStrike">
                <a:solidFill>
                  <a:srgbClr val="000000"/>
                </a:solidFill>
                <a:latin typeface="宋体"/>
              </a:rPr>
              <a:t>87</a:t>
            </a:r>
            <a:r>
              <a:rPr b="1" lang="zh-CN" sz="2800" spc="-1" strike="noStrike">
                <a:solidFill>
                  <a:srgbClr val="000000"/>
                </a:solidFill>
                <a:latin typeface="宋体"/>
              </a:rPr>
              <a:t>岁，主因肺部感染入院治疗。体温</a:t>
            </a:r>
            <a:r>
              <a:rPr b="1" lang="en-US" sz="2800" spc="-1" strike="noStrike">
                <a:solidFill>
                  <a:srgbClr val="000000"/>
                </a:solidFill>
                <a:latin typeface="宋体"/>
              </a:rPr>
              <a:t>38.5℃</a:t>
            </a:r>
            <a:r>
              <a:rPr b="1" lang="zh-CN" sz="2800" spc="-1" strike="noStrike">
                <a:solidFill>
                  <a:srgbClr val="000000"/>
                </a:solidFill>
                <a:latin typeface="宋体"/>
              </a:rPr>
              <a:t>，脉搏</a:t>
            </a:r>
            <a:r>
              <a:rPr b="1" lang="en-US" sz="2800" spc="-1" strike="noStrike">
                <a:solidFill>
                  <a:srgbClr val="000000"/>
                </a:solidFill>
                <a:latin typeface="宋体"/>
              </a:rPr>
              <a:t>86</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呼吸</a:t>
            </a:r>
            <a:r>
              <a:rPr b="1" lang="en-US" sz="2800" spc="-1" strike="noStrike">
                <a:solidFill>
                  <a:srgbClr val="000000"/>
                </a:solidFill>
                <a:latin typeface="宋体"/>
              </a:rPr>
              <a:t>38</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伴咳嗽喘息。患者神志清楚，右侧肢体偏瘫，血糖正常，食欲欠佳，长期卧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问题：</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于该患者应该如何预防压疮的发生？</a:t>
            </a:r>
            <a:endParaRPr b="1" lang="en-US" sz="2800" spc="-1" strike="noStrike">
              <a:solidFill>
                <a:srgbClr val="000000"/>
              </a:solidFill>
              <a:latin typeface="宋体"/>
            </a:endParaRPr>
          </a:p>
        </p:txBody>
      </p:sp>
      <p:sp>
        <p:nvSpPr>
          <p:cNvPr id="20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情况，按规程进行特殊口腔护理技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正确对压疮患者进行评估，并为其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正确对疼痛患者进行评估，并为其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舒适护理相关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患者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舒适护理相关概念</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个体身心满足、轻松安适状态的自我感受</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舒适，心理舒适，环境舒适，社会舒适</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相对于舒适来说，没有达到身体、心理、社会及个人发展等某个或多个方面的安适或个人预期而出现的不满意、不安宁、负荷重以及躯体的疼痛、瘙痒、不自在等异常体验和感觉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卫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姿势或体位不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护理与康复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护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心理社会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焦虑与恐惧</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与应对</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心与尊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1:10:30Z</dcterms:created>
  <dc:creator>Microsoft Office 用户</dc:creator>
  <dc:description/>
  <dc:language>en-US</dc:language>
  <cp:lastModifiedBy>赵欣</cp:lastModifiedBy>
  <dcterms:modified xsi:type="dcterms:W3CDTF">2016-01-22T07:34:39Z</dcterms:modified>
  <cp:revision>5</cp:revision>
  <dc:subject/>
  <dc:title>第十章  舒适护理 </dc:title>
</cp:coreProperties>
</file>