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.png" ContentType="image/png"/>
  <Override PartName="/ppt/media/image25.png" ContentType="image/png"/>
  <Override PartName="/ppt/media/image28.wmf" ContentType="image/x-wmf"/>
  <Override PartName="/ppt/media/image27.jpeg" ContentType="image/jpeg"/>
  <Override PartName="/ppt/media/image23.jpeg" ContentType="image/jpeg"/>
  <Override PartName="/ppt/media/image18.jpeg" ContentType="image/jpeg"/>
  <Override PartName="/ppt/media/image19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7.wmf" ContentType="image/x-wmf"/>
  <Override PartName="/ppt/media/image14.jpeg" ContentType="image/jpe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63009-DF31-43AF-8C93-04B90C2806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BD830-8FCF-4863-A916-6C5ADA687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3675F-F67D-4290-A310-CF9ACDF2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6EC9F-F67B-4A2F-9755-72347EE7BA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2731F-044D-4601-A9E4-38B1EC22C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1DB14-5FD1-4EA6-9C04-B4BE5010B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71DF7-0EDD-4B0D-9B05-6435D91E9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0A6D9-0BBA-4AE7-B820-9AC3083BB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6AFE6-6593-4E96-B304-6B426D095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56A05-0146-4504-9DB0-CD44138BC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A392F-6802-4AD2-8CE1-0DA1F24D8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7D77B-C9E8-4A0C-8747-FEE21F73A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071D0-03AF-4895-AAA4-40CC71A81DC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0920" y="2636640"/>
            <a:ext cx="6264360" cy="16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六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静脉输液和输血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25200" y="1266840"/>
            <a:ext cx="8659800" cy="45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围静脉输液的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985680" y="2421000"/>
            <a:ext cx="2132280" cy="3168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0" name="TextBox 1"/>
          <p:cNvSpPr/>
          <p:nvPr/>
        </p:nvSpPr>
        <p:spPr>
          <a:xfrm>
            <a:off x="2050920" y="595008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755640" y="5786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上肢静脉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Box 2"/>
          <p:cNvSpPr/>
          <p:nvPr/>
        </p:nvSpPr>
        <p:spPr>
          <a:xfrm>
            <a:off x="3492360" y="2421000"/>
            <a:ext cx="237492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3" name="图片 7" descr=""/>
          <p:cNvPicPr/>
          <p:nvPr/>
        </p:nvPicPr>
        <p:blipFill>
          <a:blip r:embed="rId2"/>
          <a:stretch/>
        </p:blipFill>
        <p:spPr>
          <a:xfrm>
            <a:off x="3460680" y="2421000"/>
            <a:ext cx="2624040" cy="3273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Image06‘"/>
          <p:cNvPicPr/>
          <p:nvPr/>
        </p:nvPicPr>
        <p:blipFill>
          <a:blip r:embed="rId3">
            <a:grayscl/>
            <a:lum contrast="18000"/>
          </a:blip>
          <a:stretch/>
        </p:blipFill>
        <p:spPr>
          <a:xfrm>
            <a:off x="6227640" y="2332080"/>
            <a:ext cx="2665440" cy="32576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3500280" y="5805360"/>
            <a:ext cx="25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手背静脉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6588000" y="581184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足部静脉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外周静脉输液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与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的年龄、病情、意识状态、心肺功能、肢体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动情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理状态及合作程度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局部  穿刺部位的皮肤、血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向患者及家属解释输液的目的、方法、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250560" y="1773360"/>
            <a:ext cx="849780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准备  输液前排尿或排便，取舒适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护士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环境准备  清洁、宽敞，光线明亮，方便操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250560" y="1197000"/>
            <a:ext cx="3816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核对并检查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加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携用物至患者床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解释核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挂输液瓶于架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排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内容占位符 2"/>
          <p:cNvSpPr/>
          <p:nvPr/>
        </p:nvSpPr>
        <p:spPr>
          <a:xfrm>
            <a:off x="4500720" y="1484280"/>
            <a:ext cx="3816360" cy="44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选择血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消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和固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调滴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后整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洗手、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分类处理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79280" y="1773360"/>
            <a:ext cx="87854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执行“三查七对”制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执行无菌操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药物配伍禁忌，药物应现配现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前排尽输液管内的空气，输完后及时拔针，及时更换输液瓶及添加药液，预防空气栓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250560" y="1773360"/>
            <a:ext cx="856908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保护血管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选择较粗直、弹性好的血管，避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关节和静脉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过程中加强巡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⑦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不可自输液的肢体抽取血液化验标本。偏瘫患者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避免经患肢输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静脉留置针输液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病情、血液循环状况及自理能力，当前诊断及治疗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的心理状态及配合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部位皮肤、血管状况及肢体活动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26920" y="1844640"/>
            <a:ext cx="763272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护士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环境准备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Picture 4" descr="img029"/>
          <p:cNvPicPr/>
          <p:nvPr/>
        </p:nvPicPr>
        <p:blipFill>
          <a:blip r:embed="rId1"/>
          <a:stretch/>
        </p:blipFill>
        <p:spPr>
          <a:xfrm>
            <a:off x="4356000" y="1393920"/>
            <a:ext cx="324036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250920" y="1197000"/>
            <a:ext cx="4968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核对并检查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加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携用物至患者床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解释核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挂输液瓶于架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连接留置针与输液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内容占位符 2"/>
          <p:cNvSpPr/>
          <p:nvPr/>
        </p:nvSpPr>
        <p:spPr>
          <a:xfrm>
            <a:off x="3995640" y="1125360"/>
            <a:ext cx="4498920" cy="46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排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选择血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消毒、备胶布及透明敷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和固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调节滴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后整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封管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再次输液的处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第十六章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静脉输液和输血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8" name="Picture 2" descr="img023"/>
          <p:cNvPicPr/>
          <p:nvPr/>
        </p:nvPicPr>
        <p:blipFill>
          <a:blip r:embed="rId1"/>
          <a:stretch/>
        </p:blipFill>
        <p:spPr>
          <a:xfrm>
            <a:off x="25560" y="189000"/>
            <a:ext cx="3106440" cy="2820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9" name="Picture 3" descr="img024"/>
          <p:cNvPicPr/>
          <p:nvPr/>
        </p:nvPicPr>
        <p:blipFill>
          <a:blip r:embed="rId2"/>
          <a:stretch/>
        </p:blipFill>
        <p:spPr>
          <a:xfrm>
            <a:off x="3132000" y="189000"/>
            <a:ext cx="2816280" cy="2639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img025"/>
          <p:cNvPicPr/>
          <p:nvPr/>
        </p:nvPicPr>
        <p:blipFill>
          <a:blip r:embed="rId3"/>
          <a:stretch/>
        </p:blipFill>
        <p:spPr>
          <a:xfrm>
            <a:off x="5948280" y="189000"/>
            <a:ext cx="3195720" cy="2781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img026"/>
          <p:cNvPicPr/>
          <p:nvPr/>
        </p:nvPicPr>
        <p:blipFill>
          <a:blip r:embed="rId4"/>
          <a:stretch/>
        </p:blipFill>
        <p:spPr>
          <a:xfrm>
            <a:off x="1042920" y="3141720"/>
            <a:ext cx="3313080" cy="3311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img027"/>
          <p:cNvPicPr/>
          <p:nvPr/>
        </p:nvPicPr>
        <p:blipFill>
          <a:blip r:embed="rId5"/>
          <a:stretch/>
        </p:blipFill>
        <p:spPr>
          <a:xfrm>
            <a:off x="5003640" y="3141720"/>
            <a:ext cx="33847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429240" y="356760"/>
            <a:ext cx="250056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．列举静脉输液治疗常见的故障、处理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．说出静脉输血三查八对的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．阐述输液速度的调整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．概括静脉输血前的准备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．评估溶血反应的表现，制订急救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内容占位符 2"/>
          <p:cNvSpPr/>
          <p:nvPr/>
        </p:nvSpPr>
        <p:spPr>
          <a:xfrm>
            <a:off x="179280" y="1484280"/>
            <a:ext cx="871380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常用封管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无菌生理盐水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每次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-10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每隔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-8h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重复冲管一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稀释肝素溶液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每毫升生理盐水含肝素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-100u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每次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-5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179280" y="1125000"/>
            <a:ext cx="8785440" cy="547236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同静脉输液钢针输液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根据留置针使用说明严格掌握留置时间，一般保留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接受乳房根治术或腋下淋巴结清扫术的患者应选健侧肢体进行穿刺，有血栓史或血管手术史的静脉不宜进行置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皮肤消毒范围直径不小于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8cm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、中心静脉穿刺置管输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94920" y="2276280"/>
            <a:ext cx="8659800" cy="26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经外周穿刺置入中心静脉导管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(peripherally inserted central catheter,PICC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　　是一种从周围静脉（贵要静脉、肘正中静脉、头静脉、肱静脉、颈外静脉和下肢大隐静脉等）穿刺置管，尖端位于上腔静脉或下腔静脉的导管置入技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79280" y="1515960"/>
            <a:ext cx="88567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PICC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的优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保留时间长，可留置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年，减少反复穿刺的痛苦，同时保护外周静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避免颈部和胸部穿刺引起的严重并发症，如血气胸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感染的发生率较中心静脉置管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CVC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79280" y="1515600"/>
            <a:ext cx="8856720" cy="22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　　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3564000" y="3621240"/>
            <a:ext cx="2736720" cy="2786040"/>
          </a:xfrm>
          <a:prstGeom prst="rect">
            <a:avLst/>
          </a:prstGeom>
          <a:ln w="0">
            <a:noFill/>
          </a:ln>
        </p:spPr>
      </p:pic>
      <p:sp>
        <p:nvSpPr>
          <p:cNvPr id="184" name="内容占位符 2"/>
          <p:cNvSpPr/>
          <p:nvPr/>
        </p:nvSpPr>
        <p:spPr>
          <a:xfrm>
            <a:off x="155520" y="1292400"/>
            <a:ext cx="8856720" cy="23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PICC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应证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间歇性、持续性或需每日静脉输液治疗的患者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入高渗性和对血管有刺激性药物的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23640" y="1052640"/>
            <a:ext cx="3816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并选择静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知情同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摆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确定穿刺点并测量导管预置长度及臂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皮肤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建立无菌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内容占位符 2"/>
          <p:cNvSpPr/>
          <p:nvPr/>
        </p:nvSpPr>
        <p:spPr>
          <a:xfrm>
            <a:off x="4206960" y="1557360"/>
            <a:ext cx="4897440" cy="44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冲导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系止血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送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抽回血确认导管在静脉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撤出插管鞘及支撑导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修剪导管长度及安装连接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042560" y="1628280"/>
            <a:ext cx="3816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冲封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线确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记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导管的维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拔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0" name="Picture 2" descr="PIcc置管"/>
          <p:cNvPicPr/>
          <p:nvPr/>
        </p:nvPicPr>
        <p:blipFill>
          <a:blip r:embed="rId1"/>
          <a:stretch/>
        </p:blipFill>
        <p:spPr>
          <a:xfrm>
            <a:off x="3492360" y="1700280"/>
            <a:ext cx="53866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23640" y="1484280"/>
            <a:ext cx="828036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送管时速度不宜过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测量置入长度，不可插入过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进针角度为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5°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0°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直刺入血管，不可在皮下滑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密切观察局部皮肤情况。及时测量臂围与置管前比较，观察肿胀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95280" y="1413000"/>
            <a:ext cx="842472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局部加压止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怀疑导管移位时，应先行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线检查确定尖端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⑦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指导患者置管侧手臂勿提重物，并避免物品或躯体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　压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⑧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结束后，用大于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射器，以脉冲正压式冲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　封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⑨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下列情况不宜置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接受乳房根治术和腋下淋巴结清扫术的术侧肢体、锁骨下淋巴结肿大或有肿块侧、安装起搏器侧不宜进行同侧置管，患有上腔静脉压迫综合征的患者不宜置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有血栓史、血管手术史的静脉不应进行置管，放疗部位不宜置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908000" y="2923920"/>
            <a:ext cx="4770720" cy="8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第一节  静脉输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静脉输液速度的调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560" y="1371240"/>
            <a:ext cx="86598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时间（小时）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00" name="对象 1"/>
          <p:cNvGraphicFramePr/>
          <p:nvPr/>
        </p:nvGraphicFramePr>
        <p:xfrm>
          <a:off x="3924360" y="2924280"/>
          <a:ext cx="396252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对象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2924280"/>
                    <a:ext cx="39625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99760" y="214200"/>
            <a:ext cx="7643880" cy="9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五、静脉输液时常见故障及排除方法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溶液点滴不畅或不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针头滑出血管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针头斜面紧贴血管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针头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压力过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静脉痉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610920" y="1267920"/>
            <a:ext cx="6264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茂菲氏滴壶内液面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茂菲氏滴壶内液面过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滴壶内液面自行下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7" name="Picture 4" descr="液面过高1"/>
          <p:cNvPicPr/>
          <p:nvPr/>
        </p:nvPicPr>
        <p:blipFill>
          <a:blip r:embed="rId1"/>
          <a:stretch/>
        </p:blipFill>
        <p:spPr>
          <a:xfrm>
            <a:off x="2340000" y="1989000"/>
            <a:ext cx="2376360" cy="17272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液面过高2"/>
          <p:cNvPicPr/>
          <p:nvPr/>
        </p:nvPicPr>
        <p:blipFill>
          <a:blip r:embed="rId2"/>
          <a:stretch/>
        </p:blipFill>
        <p:spPr>
          <a:xfrm>
            <a:off x="4859280" y="1955880"/>
            <a:ext cx="2281320" cy="17604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液面过低1"/>
          <p:cNvPicPr/>
          <p:nvPr/>
        </p:nvPicPr>
        <p:blipFill>
          <a:blip r:embed="rId3"/>
          <a:stretch/>
        </p:blipFill>
        <p:spPr>
          <a:xfrm>
            <a:off x="4932360" y="4005360"/>
            <a:ext cx="1871640" cy="16095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液面过低2"/>
          <p:cNvPicPr/>
          <p:nvPr/>
        </p:nvPicPr>
        <p:blipFill>
          <a:blip r:embed="rId4"/>
          <a:stretch/>
        </p:blipFill>
        <p:spPr>
          <a:xfrm>
            <a:off x="6869160" y="4005360"/>
            <a:ext cx="202392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六、输液反应与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发热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静脉炎及血栓性静脉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三）循环负荷过重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四）空气栓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发热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：输入致热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药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未严格执行无菌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器具消毒灭菌不完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左大括号 1"/>
          <p:cNvSpPr/>
          <p:nvPr/>
        </p:nvSpPr>
        <p:spPr>
          <a:xfrm>
            <a:off x="1403280" y="3141720"/>
            <a:ext cx="144360" cy="1582560"/>
          </a:xfrm>
          <a:custGeom>
            <a:avLst/>
            <a:gdLst>
              <a:gd name="textAreaLeft" fmla="*/ 92160 w 144360"/>
              <a:gd name="textAreaRight" fmla="*/ 144360 w 144360"/>
              <a:gd name="textAreaTop" fmla="*/ 3600 h 1582560"/>
              <a:gd name="textAreaBottom" fmla="*/ 1578960 h 1582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2"/>
                  <a:pt x="10800" y="164"/>
                </a:cubicBezTo>
                <a:lnTo>
                  <a:pt x="10800" y="10636"/>
                </a:lnTo>
                <a:cubicBezTo>
                  <a:pt x="10800" y="10718"/>
                  <a:pt x="5400" y="10800"/>
                  <a:pt x="0" y="10800"/>
                </a:cubicBezTo>
                <a:cubicBezTo>
                  <a:pt x="5400" y="10800"/>
                  <a:pt x="10800" y="10882"/>
                  <a:pt x="10800" y="10964"/>
                </a:cubicBezTo>
                <a:lnTo>
                  <a:pt x="10800" y="21436"/>
                </a:lnTo>
                <a:cubicBezTo>
                  <a:pt x="10800" y="2151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：患者在输液过程中突然出现发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轻者发热常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8℃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左右，于停止输液后数小时内体温可恢复正常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重者初起有寒战，继而高热达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1℃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并伴有恶心、呕吐、头痛、周身不适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用具必须严格灭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时严格执行无菌操作，防止输液器具、药液及穿刺部位被污染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认真检查输液用液体及输液管的质量及有效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用具的保管应注意避免污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轻者，减慢或停止输液，观察体温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重者，应立即停止输液，按高热护理方法对患者进行处理，物理降温，严密观察生命体征，遵医嘱给予抗过敏药物或激素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保留剩余溶液和输液器，必要时细菌培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静脉炎及血栓性静脉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入刺激性较强的溶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内放置刺激性较强的塑料管时间过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过程中未严格执行无菌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沿静脉走向出现条索状红线，局部组织红、肿、热、痛，有时伴有全身发热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静脉输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静脉输液（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Intravenous  infusion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）是利用液体重量所产生的液体静压和大气压的作用，将大量的灭菌溶液、电解质或药物等由静脉输入体内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3" name="Picture 7" descr="x5"/>
          <p:cNvPicPr/>
          <p:nvPr/>
        </p:nvPicPr>
        <p:blipFill>
          <a:blip r:embed="rId1"/>
          <a:stretch/>
        </p:blipFill>
        <p:spPr>
          <a:xfrm>
            <a:off x="3286080" y="4214880"/>
            <a:ext cx="3017880" cy="24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内容占位符 2"/>
          <p:cNvSpPr/>
          <p:nvPr/>
        </p:nvSpPr>
        <p:spPr>
          <a:xfrm>
            <a:off x="250920" y="1484280"/>
            <a:ext cx="8785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执行无菌技术操作，避免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对刺激性强的药物要充分稀释，并防止药液溢出血管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保护静脉，需长期输液者应有计划地更换注射部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置管者做好留置导管的护理。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抬高患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局部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9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乙醇或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硫酸镁湿热敷或中药外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局部还可用超短波理疗。合并感染，应根据医嘱给予抗生素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三）循环负荷过重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速度过快，或患者原有心肺功能不良者，在短时间内输入液体过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24000" y="1628640"/>
            <a:ext cx="84960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：急性左心衰的症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突感胸闷、呼吸急促、咳嗽、咯粉红色泡沫痰，面色苍白、出冷汗，心前区疼痛或有压迫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重者可自口鼻涌出大量的泡沫样血性液体；肺部布满湿罗音；脉搏快且弱；还可有尿量减少、水肿、腹水、颈静脉怒张等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时要控制输液速度不宜过快，对老年人、小儿及心肺功能不良者尤应注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立即停止输液，并通知医生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病情允许的患者可取端坐位，两腿下垂，以减少下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肢静脉回流，减轻心脏负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按医嘱给予血管扩张药，扩张周围血管；给予利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药，有助于缓解肺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250560" y="1413000"/>
            <a:ext cx="86598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高流量吸氧，湿化瓶内注入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乙醇，减轻缺氧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根据医嘱给予氨茶碱和西地兰等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必要时可进行四肢轮扎，每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分钟轮流放松一个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肢体的止血带。另外还可采用静脉放血的方法，每次放血量为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0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00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以缓解循环负荷过重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179280" y="1371240"/>
            <a:ext cx="878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四）空气栓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导管内空气未排净、导管连接不紧、有缝隙；或在加压输液、输血时无人看守导致液体走空等；更换药液不及时，更换药液后未检查输液管内是否进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24000" y="1628640"/>
            <a:ext cx="84960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突然出现胸部感觉异常不适或有胸骨后疼痛，随即出现呼吸困难，严重发绀，濒死感、心前区可听到响亮持续的“水泡音”，心电图表现为心肌缺血和急性肺心病的改变。严重者意识丧失、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时必须排净空气，及时更换药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每次更换药液都要认真检查输液管内是否有空气，滴壶液面是否过低，发现异常及时予以调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需加压输液、输血，护士应严密监测，不得随意离开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（一）静脉输液的目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补充血容量，维持血压，改善微循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补充水和电解质，以维持或调节酸碱平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输入药物，控制感染、解毒和治疗疾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补充营养和热量，促进组织修复，维持正氮平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输入脱水剂，提高血浆的渗透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立即取左侧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病情允许最好取头低足高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给予高流量吸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9" name="图片 2" descr=""/>
          <p:cNvPicPr/>
          <p:nvPr/>
        </p:nvPicPr>
        <p:blipFill>
          <a:blip r:embed="rId1"/>
          <a:stretch/>
        </p:blipFill>
        <p:spPr>
          <a:xfrm>
            <a:off x="5292720" y="1628640"/>
            <a:ext cx="3672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1908000" y="2923920"/>
            <a:ext cx="4770720" cy="8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第二节  静脉输血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血液及血液制品的种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50560" y="1773360"/>
            <a:ext cx="8659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全血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：新鲜血和库存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成分血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：红细胞、白细胞、血小板、血浆和血浆蛋白、凝血制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5" name="Picture 3" descr="01quqnxue"/>
          <p:cNvPicPr/>
          <p:nvPr/>
        </p:nvPicPr>
        <p:blipFill>
          <a:blip r:embed="rId1"/>
          <a:stretch/>
        </p:blipFill>
        <p:spPr>
          <a:xfrm>
            <a:off x="4716360" y="4005360"/>
            <a:ext cx="3386160" cy="2512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静脉输血的目的和原则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826920" y="1916280"/>
            <a:ext cx="378000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输血的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补充血容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纠正贫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补充抗体、补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补充血浆蛋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补充凝血因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内容占位符 2"/>
          <p:cNvSpPr/>
          <p:nvPr/>
        </p:nvSpPr>
        <p:spPr>
          <a:xfrm>
            <a:off x="4859280" y="2776680"/>
            <a:ext cx="4071960" cy="17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促进骨髓系统和网状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内皮系统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改善组织缺氧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95280" y="1700280"/>
            <a:ext cx="842472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输血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必须做血型鉴定和交叉配血实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无论是输入全血还是成分血，首选应是同型血液输入，但在紧急情况下，若无同型血，可选输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O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型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如果患者需要再次输血，须重做交叉配血实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三、静脉输血的适应证和禁忌证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755640" y="1916280"/>
            <a:ext cx="547200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输血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各种原因引起的大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失血大于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应及时输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纠正贫血或低蛋白血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重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凝血功能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5" name="Picture 12" descr="10189110"/>
          <p:cNvPicPr/>
          <p:nvPr/>
        </p:nvPicPr>
        <p:blipFill>
          <a:blip r:embed="rId1"/>
          <a:stretch/>
        </p:blipFill>
        <p:spPr>
          <a:xfrm>
            <a:off x="6024600" y="1989000"/>
            <a:ext cx="29401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755280" y="2050560"/>
            <a:ext cx="7488360" cy="30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输血的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急性肺水肿、肺栓塞、充血性心力衰竭、肾极度衰竭、恶性高血压、真性红细胞增多症及对输血有变态反应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56800" y="642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四、血型和相容性检查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68000" y="1916280"/>
            <a:ext cx="828036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型（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blood types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指红细胞膜上特异性抗原的类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ABO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型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Rh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型系统：是以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D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抗原存在与否来表示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Rh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阳性或阴性。汉族中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99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的人为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Rh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阳性，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Rh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阴性者不足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108000" y="1916280"/>
            <a:ext cx="864072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交叉相容配血试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该试验的目的在于检查受血者与献血者之间有无不相容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直接交叉相容配血试验（主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间接交叉相容配血试验（次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3" name="图片 1" descr=""/>
          <p:cNvPicPr/>
          <p:nvPr/>
        </p:nvPicPr>
        <p:blipFill>
          <a:blip r:embed="rId1"/>
          <a:stretch/>
        </p:blipFill>
        <p:spPr>
          <a:xfrm>
            <a:off x="6059520" y="3645000"/>
            <a:ext cx="304956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56800" y="357120"/>
            <a:ext cx="807732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五、静脉输血方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24000" y="1341000"/>
            <a:ext cx="84247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7" name="Picture 31" descr="200604082338302549"/>
          <p:cNvPicPr/>
          <p:nvPr/>
        </p:nvPicPr>
        <p:blipFill>
          <a:blip r:embed="rId1"/>
          <a:srcRect l="7960" t="7259" r="8266" b="10458"/>
          <a:stretch/>
        </p:blipFill>
        <p:spPr>
          <a:xfrm>
            <a:off x="2843280" y="2347920"/>
            <a:ext cx="403236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24000" y="1557000"/>
            <a:ext cx="8424720" cy="37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（二）常用溶液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晶体溶液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胶体溶液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其他：静脉高营养液、浓缩白蛋白注射液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50560" y="1341000"/>
            <a:ext cx="8569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输血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应先取得患者的理解并征得患者的同意，签署知情同意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备血  抽取血标本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与已填写的输血申请单一起送往血库，做血型鉴定和交叉配血试验。采血时不要同时采集两个人的血标本，以免发生混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内容占位符 2"/>
          <p:cNvSpPr/>
          <p:nvPr/>
        </p:nvSpPr>
        <p:spPr>
          <a:xfrm>
            <a:off x="250920" y="1341360"/>
            <a:ext cx="889308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取血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做好“三查” “八对”：“三查”即查血的有效期、血的质量和输血装置是否完好；“八对”即对床号、姓名、住院号、血袋号、血型、交叉配血试验结果、血液种类和剂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检查血液质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查对无误，在交叉配血单上签名方可提取血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250560" y="1341000"/>
            <a:ext cx="8569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取血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液自血库取回后，切勿振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取回的血液在室温下放置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0min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后再输入，不能将血液加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需与另一护士再次进行核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4" name="Picture 3" descr="54"/>
          <p:cNvPicPr/>
          <p:nvPr/>
        </p:nvPicPr>
        <p:blipFill>
          <a:blip r:embed="rId1"/>
          <a:stretch/>
        </p:blipFill>
        <p:spPr>
          <a:xfrm>
            <a:off x="6372360" y="4292640"/>
            <a:ext cx="266364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内容占位符 2"/>
          <p:cNvSpPr/>
          <p:nvPr/>
        </p:nvSpPr>
        <p:spPr>
          <a:xfrm>
            <a:off x="179280" y="1341360"/>
            <a:ext cx="88567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静脉输血的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间接静脉输血法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：是将已抽出的血液在血袋中保存，然后采用静脉输液法输入患者体内的方法，在临床中广泛应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直接静脉输血法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：是指供血者血液抽出后立即输给患者的一种方法。适用于急需输血而又无血库设备时或婴幼儿少量输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250560" y="15044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与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的血型及交叉配血结果、输血史及过敏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病情、治疗情况、心理状态、对输血的理解与合作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部位皮肤及血管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向患者及其家属解释输血的目的和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250560" y="1484280"/>
            <a:ext cx="871380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前准备</a:t>
            </a:r>
            <a:r>
              <a:rPr b="1" lang="en-US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  生理盐水、无菌手套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间接静脉输血法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同密闭式输液，将输液器换为输血器、血液制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直接静脉输血法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同静脉注射，另备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0ml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射器数具（根据输血量多少而定）、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8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枸橼酸钠溶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468000" y="1628640"/>
            <a:ext cx="806436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准备  排尿或排便，取舒适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护士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环境准备  清洁、宽敞，光线明亮，方便操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250560" y="1052280"/>
            <a:ext cx="8713800" cy="55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间接输血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建立密闭式静脉输液，先输入少量生理盐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两人再次查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轻轻旋转摇匀血液，戴手套，打开储血袋封口，常规消毒开口处塑料管，将输血器针头从生理盐水瓶上拔下，插入血袋的接口处，缓慢倒置血袋，挂于输液架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250920" y="1125360"/>
            <a:ext cx="864216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调节速度 开始宜慢，观察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5min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如无不良反应再根据情况调节滴速，成人一般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滴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分，老人、小儿酌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再次核对，签名，对患者及家属交待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完毕，再输入生理盐水直到将输血器内的血液全部输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⑦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后整理、分类处理用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⑧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洗手，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321840" y="1299960"/>
            <a:ext cx="8497800" cy="551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直接输血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核对、解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准备患者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抽抗凝剂 每只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0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射器抽取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8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 枸橼酸钠溶液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加压 将血压计袖带缠于供血者上臂并充气，压力维持在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0mmHg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3.3kPa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左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（三）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输液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般遵照“先盐后糖、先晶后胶、先快后慢、宁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少勿多”的原则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补钾时应注意“四不宜”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不宜过浓（浓度不超过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0.3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％）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不宜过快（成人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30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40gtt/min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）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不宜过多（成人每日总量不超过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5g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，小儿每日不超过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0.1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0.3g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／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kg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）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不宜过早（见尿后补钾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250560" y="1267920"/>
            <a:ext cx="87138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抽血、输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三人协作：一人采血，一人传递，另一人行静脉注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完毕 根据需要继续输液或拔针，拔针时按压时间要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⑦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查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⑧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整理用物，分类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⑨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洗手后做好输血记录并签全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179280" y="1125000"/>
            <a:ext cx="8785440" cy="547236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执行无菌操作和查对制度，避免事故差错和输血反应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液取出后，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分钟内给患者输入，避免久置使血液变质或被污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后均应输入少量生理盐水，血液内不得随意加入其他药品，并避免和其它溶液相混，以防血液在酸、碱、高、低渗的环境中发生凝集和溶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250560" y="1052280"/>
            <a:ext cx="8713800" cy="55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开始时速度宜慢，观察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分钟后如无反应，可调至合适的滴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加强巡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按医嘱酌情给抗过敏药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大量输库存血时应注意补充钙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⑦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完血的血袋应低温保留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小时备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⑧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直接输血法抽血不可过急过快，并注意观察患者面色、血压等变化，询问有无不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六、输血反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发热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入致热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细菌污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多次受血后，血浆中产生抗白细胞抗体和抗血小板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先有寒战，随后体温迅速上升至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8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1℃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伴有头痛、恶心、呕吐、出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管理血库保养液和输血用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无菌操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反应轻者，减慢滴速即可使症状减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重者，应立即停止输血，严密观察生命体征，给予对症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12240" y="1413000"/>
            <a:ext cx="9131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过敏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是过敏体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供血者在献血前用过可致敏的药物或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多次输血的患者体内可产生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供血者体内的变态反应性抗体随血液传递给受血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-360" y="1628280"/>
            <a:ext cx="89838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轻者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出现皮肤瘙痒、荨麻疹、轻度血管性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重者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可发生平滑肌痉挛，表现为过敏性哮喘、喉头痉挛、支气管哮喘、喉头水肿，甚至可发生过敏性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内容占位符 2"/>
          <p:cNvSpPr/>
          <p:nvPr/>
        </p:nvSpPr>
        <p:spPr>
          <a:xfrm>
            <a:off x="468360" y="1484280"/>
            <a:ext cx="8136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勿选用有过敏史的献血员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献血员在采血前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小时内不吃高蛋白质和高脂肪食物，宜用少量清淡饮食或糖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37680" y="1897200"/>
            <a:ext cx="8610840" cy="23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左大括号 1"/>
          <p:cNvSpPr/>
          <p:nvPr/>
        </p:nvSpPr>
        <p:spPr>
          <a:xfrm>
            <a:off x="2124000" y="2498760"/>
            <a:ext cx="144360" cy="2055600"/>
          </a:xfrm>
          <a:custGeom>
            <a:avLst/>
            <a:gdLst>
              <a:gd name="textAreaLeft" fmla="*/ 92160 w 144360"/>
              <a:gd name="textAreaRight" fmla="*/ 144360 w 144360"/>
              <a:gd name="textAreaTop" fmla="*/ 3600 h 2055600"/>
              <a:gd name="textAreaBottom" fmla="*/ 2052000 h 2055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3"/>
                  <a:pt x="10800" y="126"/>
                </a:cubicBezTo>
                <a:lnTo>
                  <a:pt x="10800" y="10674"/>
                </a:lnTo>
                <a:cubicBezTo>
                  <a:pt x="10800" y="10737"/>
                  <a:pt x="5400" y="10800"/>
                  <a:pt x="0" y="10800"/>
                </a:cubicBezTo>
                <a:cubicBezTo>
                  <a:pt x="5400" y="10800"/>
                  <a:pt x="10800" y="10863"/>
                  <a:pt x="10800" y="10926"/>
                </a:cubicBezTo>
                <a:lnTo>
                  <a:pt x="10800" y="21474"/>
                </a:lnTo>
                <a:cubicBezTo>
                  <a:pt x="10800" y="2153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468360" y="317340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输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2268360" y="2386080"/>
            <a:ext cx="273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围静脉输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Box 9"/>
          <p:cNvSpPr/>
          <p:nvPr/>
        </p:nvSpPr>
        <p:spPr>
          <a:xfrm>
            <a:off x="2340000" y="4273560"/>
            <a:ext cx="23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中心静脉输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左大括号 10"/>
          <p:cNvSpPr/>
          <p:nvPr/>
        </p:nvSpPr>
        <p:spPr>
          <a:xfrm>
            <a:off x="4643280" y="1989000"/>
            <a:ext cx="87480" cy="1295640"/>
          </a:xfrm>
          <a:custGeom>
            <a:avLst/>
            <a:gdLst>
              <a:gd name="textAreaLeft" fmla="*/ 55800 w 87480"/>
              <a:gd name="textAreaRight" fmla="*/ 87480 w 87480"/>
              <a:gd name="textAreaTop" fmla="*/ 2160 h 1295640"/>
              <a:gd name="textAreaBottom" fmla="*/ 129348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1"/>
                  <a:pt x="10800" y="121"/>
                </a:cubicBezTo>
                <a:lnTo>
                  <a:pt x="10800" y="10679"/>
                </a:lnTo>
                <a:cubicBezTo>
                  <a:pt x="10800" y="10740"/>
                  <a:pt x="5400" y="10800"/>
                  <a:pt x="0" y="10800"/>
                </a:cubicBezTo>
                <a:cubicBezTo>
                  <a:pt x="5400" y="10800"/>
                  <a:pt x="10800" y="10861"/>
                  <a:pt x="10800" y="10921"/>
                </a:cubicBezTo>
                <a:lnTo>
                  <a:pt x="10800" y="21479"/>
                </a:lnTo>
                <a:cubicBezTo>
                  <a:pt x="10800" y="2154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Box 12"/>
          <p:cNvSpPr/>
          <p:nvPr/>
        </p:nvSpPr>
        <p:spPr>
          <a:xfrm>
            <a:off x="4716360" y="189720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外周静脉输液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Box 13"/>
          <p:cNvSpPr/>
          <p:nvPr/>
        </p:nvSpPr>
        <p:spPr>
          <a:xfrm>
            <a:off x="4716360" y="2852640"/>
            <a:ext cx="395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外周静脉留置针输液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左大括号 15"/>
          <p:cNvSpPr/>
          <p:nvPr/>
        </p:nvSpPr>
        <p:spPr>
          <a:xfrm>
            <a:off x="4643280" y="3814920"/>
            <a:ext cx="150840" cy="2396880"/>
          </a:xfrm>
          <a:custGeom>
            <a:avLst/>
            <a:gdLst>
              <a:gd name="textAreaLeft" fmla="*/ 96480 w 150840"/>
              <a:gd name="textAreaRight" fmla="*/ 151200 w 150840"/>
              <a:gd name="textAreaTop" fmla="*/ 3600 h 2396880"/>
              <a:gd name="textAreaBottom" fmla="*/ 2393280 h 239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7"/>
                  <a:pt x="10800" y="113"/>
                </a:cubicBezTo>
                <a:lnTo>
                  <a:pt x="10800" y="10687"/>
                </a:lnTo>
                <a:cubicBezTo>
                  <a:pt x="10800" y="10744"/>
                  <a:pt x="5400" y="10800"/>
                  <a:pt x="0" y="10800"/>
                </a:cubicBezTo>
                <a:cubicBezTo>
                  <a:pt x="5400" y="10800"/>
                  <a:pt x="10800" y="10857"/>
                  <a:pt x="10800" y="10913"/>
                </a:cubicBezTo>
                <a:lnTo>
                  <a:pt x="10800" y="21487"/>
                </a:lnTo>
                <a:cubicBezTo>
                  <a:pt x="10800" y="2154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Box 16"/>
          <p:cNvSpPr/>
          <p:nvPr/>
        </p:nvSpPr>
        <p:spPr>
          <a:xfrm>
            <a:off x="4869000" y="3554280"/>
            <a:ext cx="39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PICC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TextBox 17"/>
          <p:cNvSpPr/>
          <p:nvPr/>
        </p:nvSpPr>
        <p:spPr>
          <a:xfrm>
            <a:off x="4859280" y="4292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颈外静脉输液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Box 18"/>
          <p:cNvSpPr/>
          <p:nvPr/>
        </p:nvSpPr>
        <p:spPr>
          <a:xfrm>
            <a:off x="4859280" y="506556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输液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TextBox 19"/>
          <p:cNvSpPr/>
          <p:nvPr/>
        </p:nvSpPr>
        <p:spPr>
          <a:xfrm>
            <a:off x="4859280" y="578628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中心静脉输液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23640" y="151596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轻度的局部皮肤表现，不须特殊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重者，立即停止输血，给予抗过敏药物和肾上腺皮质激素等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对症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密观察生命体征及意识、尿量等，作好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三）溶血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入异型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入变质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中加入高渗或低渗溶液或能影响血液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pH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变化的药物，致使红细胞大量破坏所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324000" y="1484280"/>
            <a:ext cx="84960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红细胞凝集成团，阻塞部分小血管，可出现头部胀痛，四肢麻木、腰背剧痛等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凝集的红细胞溶解，大量血红蛋白进入血浆中，以致出现黄疸，血红蛋白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出现少尿、无尿等急性肾衰竭症状，严重者可导致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认真作好血型鉴定和交叉配血试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仔细查对，杜绝差错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执行血液保存规则，不可使用变质血液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323640" y="134136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停止输血并通知医生，保留余血，重新做血型鉴定和交叉配血试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给升压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输注碳酸氢钠以碱化尿液，防止血红蛋白结晶阻塞肾小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324000" y="1628640"/>
            <a:ext cx="84960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双侧腰部封闭，并用热水袋敷双侧肾区，解除肾血管痉挛，保护肾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密观察生命体征和尿量，并做好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四）与大量输血有关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常见的反应有循环负荷过重、出血倾向、枸橼酸钠中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五）传播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304560" y="1371240"/>
            <a:ext cx="8659800" cy="29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考 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有何准备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各种输液反应的处理方法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6" name="Picture 7" descr="BS00554_"/>
          <p:cNvPicPr/>
          <p:nvPr/>
        </p:nvPicPr>
        <p:blipFill>
          <a:blip r:embed="rId1"/>
          <a:stretch/>
        </p:blipFill>
        <p:spPr>
          <a:xfrm flipH="1">
            <a:off x="6172200" y="3860640"/>
            <a:ext cx="2286000" cy="2540160"/>
          </a:xfrm>
          <a:prstGeom prst="rect">
            <a:avLst/>
          </a:prstGeom>
          <a:ln w="0">
            <a:noFill/>
          </a:ln>
        </p:spPr>
      </p:pic>
      <p:sp>
        <p:nvSpPr>
          <p:cNvPr id="337" name="矩形 5"/>
          <p:cNvSpPr/>
          <p:nvPr/>
        </p:nvSpPr>
        <p:spPr>
          <a:xfrm>
            <a:off x="6541200" y="214200"/>
            <a:ext cx="2046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思 考 题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周围静脉输液的方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94920" y="2276280"/>
            <a:ext cx="8659800" cy="26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密闭式静脉输液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利用原装密封瓶或塑料袋，直接插入一次性输液管进行静脉输液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dell</cp:lastModifiedBy>
  <dcterms:modified xsi:type="dcterms:W3CDTF">2016-01-07T03:36:43Z</dcterms:modified>
  <cp:revision>148</cp:revision>
  <dc:subject/>
  <dc:title>内科护理学</dc:title>
</cp:coreProperties>
</file>