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7ED8-BCA8-47A1-94C5-71B6BD600C9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E329-68F2-4FB3-8660-372382BAA21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1428-B6BC-403D-89F4-C2914C1EEA8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220E4-3F77-4CDC-BA83-4C5CF0D070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D56EF-F362-4655-B9CD-93D92F4A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C871-1572-4171-8D6C-E5363177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D164-E073-40E1-A169-A797764340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1054-4D13-4409-865D-046BAECD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4962-103C-422A-B044-172A11F6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BE0B-CB44-4656-8977-63B27B44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6377-DE20-41E3-9CA1-5D899E18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C685-D899-4B51-BEF9-3692D3D2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1B61-59D3-40E3-97FF-731BE64E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C67F-1797-4A1F-9B72-84532913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462B-0373-40F6-9E02-A87EF22D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55ED-B7EC-46CA-9CFE-B9BCB9D625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2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3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4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8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9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62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5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70" name="Picture 11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三章  护理学理论及相关理论 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基本特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整体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相关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目的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动态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2781360"/>
            <a:ext cx="914400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9"/>
          <p:cNvSpPr/>
          <p:nvPr/>
        </p:nvSpPr>
        <p:spPr>
          <a:xfrm>
            <a:off x="324000" y="3068640"/>
            <a:ext cx="26492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质、能量、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61"/>
          <p:cNvSpPr/>
          <p:nvPr/>
        </p:nvSpPr>
        <p:spPr>
          <a:xfrm>
            <a:off x="3492360" y="2997360"/>
            <a:ext cx="178452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理与转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63"/>
          <p:cNvSpPr/>
          <p:nvPr/>
        </p:nvSpPr>
        <p:spPr>
          <a:xfrm>
            <a:off x="5796000" y="2997360"/>
            <a:ext cx="262872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产品、成果、人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AutoShape 167"/>
          <p:cNvCxnSpPr/>
          <p:nvPr/>
        </p:nvCxnSpPr>
        <p:spPr>
          <a:xfrm flipV="1">
            <a:off x="16189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168"/>
          <p:cNvCxnSpPr/>
          <p:nvPr/>
        </p:nvCxnSpPr>
        <p:spPr>
          <a:xfrm flipV="1">
            <a:off x="70927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Line 14"/>
          <p:cNvSpPr/>
          <p:nvPr/>
        </p:nvSpPr>
        <p:spPr>
          <a:xfrm>
            <a:off x="2987640" y="35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305320" y="3573360"/>
            <a:ext cx="49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1619280" y="4508640"/>
            <a:ext cx="2182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4859280" y="4508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164"/>
          <p:cNvSpPr/>
          <p:nvPr/>
        </p:nvSpPr>
        <p:spPr>
          <a:xfrm>
            <a:off x="3851280" y="4221000"/>
            <a:ext cx="95868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的关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辩证统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在的结构决定外部的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外部的功能作用于内在的结构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一般系统论在护理中的应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9280" y="2155680"/>
            <a:ext cx="4248360" cy="30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统一的整体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开放的、动态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具有主观能动性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465800" y="2158920"/>
            <a:ext cx="4465440" cy="26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复杂结构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决策与反馈功能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56760"/>
            <a:ext cx="80773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人类基本需要层次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7920" y="1281240"/>
            <a:ext cx="86104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基本需要层次理论的主要内容、主要观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影响基本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层次理论对护理实践的意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需要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需求，是个体对事物的欲望或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基本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个体为了维持身心平衡及求得生存、成长与发展，在生理上和精神上的最基本的需要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对象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物质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精神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起源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社会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特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发展性与无限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共同性与独特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社会历史制约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000" y="1231920"/>
            <a:ext cx="890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人类基本需要层次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170"/>
          <p:cNvSpPr/>
          <p:nvPr/>
        </p:nvSpPr>
        <p:spPr>
          <a:xfrm>
            <a:off x="665280" y="2254320"/>
            <a:ext cx="6192720" cy="4054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7" name="AutoShape 171"/>
          <p:cNvCxnSpPr/>
          <p:nvPr/>
        </p:nvCxnSpPr>
        <p:spPr>
          <a:xfrm flipV="1">
            <a:off x="1136520" y="5698440"/>
            <a:ext cx="5214240" cy="11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8" name="AutoShape 172"/>
          <p:cNvCxnSpPr/>
          <p:nvPr/>
        </p:nvCxnSpPr>
        <p:spPr>
          <a:xfrm>
            <a:off x="1547640" y="5090760"/>
            <a:ext cx="4352400" cy="37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9" name="AutoShape 173"/>
          <p:cNvCxnSpPr/>
          <p:nvPr/>
        </p:nvCxnSpPr>
        <p:spPr>
          <a:xfrm flipV="1">
            <a:off x="1979640" y="4525200"/>
            <a:ext cx="352656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0" name="AutoShape 174"/>
          <p:cNvCxnSpPr/>
          <p:nvPr/>
        </p:nvCxnSpPr>
        <p:spPr>
          <a:xfrm>
            <a:off x="2917440" y="4003200"/>
            <a:ext cx="2056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91" name="Text Box 175"/>
          <p:cNvSpPr/>
          <p:nvPr/>
        </p:nvSpPr>
        <p:spPr>
          <a:xfrm>
            <a:off x="2492280" y="5770440"/>
            <a:ext cx="30132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生理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76"/>
          <p:cNvSpPr/>
          <p:nvPr/>
        </p:nvSpPr>
        <p:spPr>
          <a:xfrm>
            <a:off x="2630520" y="5159520"/>
            <a:ext cx="26589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安全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77"/>
          <p:cNvSpPr/>
          <p:nvPr/>
        </p:nvSpPr>
        <p:spPr>
          <a:xfrm>
            <a:off x="2630520" y="4589640"/>
            <a:ext cx="26589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爱与归属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78"/>
          <p:cNvSpPr/>
          <p:nvPr/>
        </p:nvSpPr>
        <p:spPr>
          <a:xfrm>
            <a:off x="2886120" y="3965400"/>
            <a:ext cx="20556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尊重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179"/>
          <p:cNvSpPr/>
          <p:nvPr/>
        </p:nvSpPr>
        <p:spPr>
          <a:xfrm>
            <a:off x="2630520" y="2921040"/>
            <a:ext cx="225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自我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现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181"/>
          <p:cNvSpPr/>
          <p:nvPr/>
        </p:nvSpPr>
        <p:spPr>
          <a:xfrm>
            <a:off x="4889520" y="2576520"/>
            <a:ext cx="1233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182"/>
          <p:cNvSpPr/>
          <p:nvPr/>
        </p:nvSpPr>
        <p:spPr>
          <a:xfrm>
            <a:off x="6921360" y="5613480"/>
            <a:ext cx="1182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低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8" name="AutoShape 183"/>
          <p:cNvCxnSpPr/>
          <p:nvPr/>
        </p:nvCxnSpPr>
        <p:spPr>
          <a:xfrm>
            <a:off x="5605560" y="3104640"/>
            <a:ext cx="1937520" cy="249804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99" name="AutoShape 173"/>
          <p:cNvCxnSpPr/>
          <p:nvPr/>
        </p:nvCxnSpPr>
        <p:spPr>
          <a:xfrm>
            <a:off x="2519280" y="3868200"/>
            <a:ext cx="2540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维持个体生存所必须的最基本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氧气、水、食物、排泄、活动与休息、避免疼痛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4111560" y="4032360"/>
            <a:ext cx="5032440" cy="2349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79280" y="2519280"/>
            <a:ext cx="30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39528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内容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 rot="12939000">
            <a:off x="2965320" y="2638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4071960" y="1550880"/>
            <a:ext cx="5072040" cy="2305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第一节 护理学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一般系统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应激与适应理论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受到保护与免遭威胁、获得安全感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人身安全、财产安全以及健康保障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被他人或群体接纳、爱护、关注和支持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得到和给予两方面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对自己尊严和价值的追求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自我尊重、被尊重和尊重他人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6760" y="1371240"/>
            <a:ext cx="855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希望最大限度地发挥潜能，实现理想和抱负的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最高层次的需要，其需求程度和满足的方式也有个体差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371240"/>
            <a:ext cx="91440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人类基本需要层次理论的主要观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和满足具有一定的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与满足不是固定不变的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需要相互关联，彼此重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满足的程度与健康密切相关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267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影响基本需要满足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85840" y="2263680"/>
            <a:ext cx="26845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环境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物理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社会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00320" y="2552760"/>
            <a:ext cx="26845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化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育背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域习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念信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916600" y="2859120"/>
            <a:ext cx="299412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个人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理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情绪因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知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格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力因素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需要层次理论对护理实践的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观察、识别并预测患者的需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确定需要满足的次序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和领悟患者的言行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六）患者的基本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0" y="3814920"/>
            <a:ext cx="3065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患者的基本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32160" y="45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332160" y="337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3332160" y="395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987640" y="4221000"/>
            <a:ext cx="3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33216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816360" y="462456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816360" y="215100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生理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816360" y="4048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尊重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3348000" y="27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16360" y="3400560"/>
            <a:ext cx="2987640" cy="730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爱与归属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816360" y="2824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全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816360" y="520056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审美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816360" y="577692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我实现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3348000" y="5734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348000" y="6165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3332160" y="2781360"/>
            <a:ext cx="1584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应激与适应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840" y="78552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学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与适应理论在护理中的应用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士的应激与应对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应激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或紧张，是指个体对作用于自身的内外环境刺激做出认知评价后，引起的一系列非特异性的生理及心理紧张性反应状态的过程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035160" y="5267160"/>
            <a:ext cx="2997360" cy="80676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3265560" y="4299120"/>
            <a:ext cx="2611440" cy="961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5905440" y="5108400"/>
            <a:ext cx="2497320" cy="107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595440" y="5183280"/>
            <a:ext cx="2379600" cy="102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774960" y="5994360"/>
            <a:ext cx="15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203640" y="44244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知评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6480" y="537840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刺激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979960" y="538164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643280" y="42876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2440" y="1916280"/>
            <a:ext cx="8832960" cy="37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陈述系统、需要的特征和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描述系统、需要、应激、自理、适应的概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列举常见的应激源以及人类常见的应激反应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源或紧张源，指任何能使个体产生应激反应的内外环境的刺激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根据其性质可分为以下四类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3195720" y="2968560"/>
            <a:ext cx="2800440" cy="19098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3195720" y="1422360"/>
            <a:ext cx="273348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6113520" y="3003480"/>
            <a:ext cx="2773440" cy="180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351000" y="3022560"/>
            <a:ext cx="2687400" cy="1784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112920" y="160164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躯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311040" y="3402000"/>
            <a:ext cx="28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文化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195720" y="4788000"/>
            <a:ext cx="2800440" cy="1598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6113520" y="3343320"/>
            <a:ext cx="28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性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3637080" y="364824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7640" y="1327320"/>
            <a:ext cx="8807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反应指个体对应激源所产生的一系列身心反应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08000" y="4149720"/>
            <a:ext cx="2305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应激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436840" y="3357720"/>
            <a:ext cx="550800" cy="2447640"/>
          </a:xfrm>
          <a:custGeom>
            <a:avLst/>
            <a:gdLst>
              <a:gd name="textAreaLeft" fmla="*/ 352080 w 550800"/>
              <a:gd name="textAreaRight" fmla="*/ 551160 w 550800"/>
              <a:gd name="textAreaTop" fmla="*/ 49320 h 2447640"/>
              <a:gd name="textAreaBottom" fmla="*/ 23983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9"/>
                  <a:pt x="10800" y="1398"/>
                </a:cubicBezTo>
                <a:lnTo>
                  <a:pt x="10800" y="9402"/>
                </a:lnTo>
                <a:cubicBezTo>
                  <a:pt x="10800" y="10101"/>
                  <a:pt x="5400" y="10800"/>
                  <a:pt x="0" y="10800"/>
                </a:cubicBezTo>
                <a:cubicBezTo>
                  <a:pt x="5400" y="10800"/>
                  <a:pt x="10800" y="11499"/>
                  <a:pt x="10800" y="12198"/>
                </a:cubicBezTo>
                <a:lnTo>
                  <a:pt x="10800" y="20202"/>
                </a:lnTo>
                <a:cubicBezTo>
                  <a:pt x="10800" y="209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052800" y="2811600"/>
            <a:ext cx="609120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生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客观的、可观察、可测量的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心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认知反应：积极和消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情绪反应：焦虑、恐惧、抑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行为反应：对行为的控制力下降或丧失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：是机体通过调整自己以保持内外环境的平衡的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一个持续的、动态的过程，是应对的最终目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区别有生命机体和无生命机体的特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保证机体应对应激源以及健康生存的基础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600"/>
            <a:ext cx="8610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层次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11560" y="3649680"/>
            <a:ext cx="2943000" cy="14400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3541680" y="2425680"/>
            <a:ext cx="2236680" cy="129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6191280" y="3581280"/>
            <a:ext cx="2351160" cy="144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74720" y="3733920"/>
            <a:ext cx="2205000" cy="13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3708360" y="411012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适应层次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521160" y="274464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生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838080" y="404496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技术适应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3411360" y="5089680"/>
            <a:ext cx="2351160" cy="143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文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适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6226200" y="400860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特性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的最终目的是最大限度地维持机体的内稳态，维持个体最佳健康状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主动的自我调节，以保护自己免受伤害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包括多层面的、全身性的反应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能力因人而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有一定限度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应激学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ener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oc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8555040" y="2997360"/>
            <a:ext cx="360360" cy="2233440"/>
          </a:xfrm>
          <a:custGeom>
            <a:avLst/>
            <a:gdLst>
              <a:gd name="textAreaLeft" fmla="*/ 0 w 360360"/>
              <a:gd name="textAreaRight" fmla="*/ 129960 w 36036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一般适应综合征，是个体对应激源做出的全身性、紧张性、防御性的非特异性反应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身体各个系统都参与反应过程，主要是神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分泌系统。其中下丘脑、垂体及肾上腺在应激反应中起到重要作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期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警觉期：或称警告期，交感神经系统被激活，释放大量的肾上腺素，导致机体处于警觉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抵抗期：此期机体副交感神经兴奋对抗应激源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耗竭期：当机体的抵抗能力不再能够应对应激源的刺激，且机体适应性能量资源储备已经耗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3964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916280"/>
            <a:ext cx="9144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举例说明影响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简述适应的层次和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解释马斯洛的需要层次论、塞利的应激学说、奥瑞姆的自理理论、罗伊的适应模式的主要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指机体在面对应激源时，除了产生全身反应之外，也会出现某一器官或区域的局部反应，称为局部适应综合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如局部炎症、创伤愈合、血液凝聚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具备特点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短暂的，持续时间是确定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恢复性的，有助于机体组织、器官或局部恢复平衡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在有应激源刺激时产生的、局部的，具有适应性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应激与适应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识别患者常见的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分析患者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状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患者的应对方式及应对能力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对策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护士的应激与应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0" y="2565360"/>
            <a:ext cx="4356000" cy="3506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护士的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不良的工作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风险的工作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强度的工作负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复杂的人际氛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356000" y="2565360"/>
            <a:ext cx="4788000" cy="2531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科学管理，减轻工作压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加强护士心理素质训练，提高应对能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树立乐观的职业观，积极应对压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二节 护理学理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奥瑞姆的自理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1401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0" y="2792520"/>
            <a:ext cx="6877080" cy="1373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0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普罗维登斯医院护理学校（大专学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45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教育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-17640" y="4608360"/>
            <a:ext cx="683928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71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护理：实践的概念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Nursing</a:t>
            </a:r>
            <a:r>
              <a:rPr b="0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From Concept to Practice</a:t>
            </a: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-14400" y="2138400"/>
            <a:ext cx="6804000" cy="65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14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马里兰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15" descr="orem"/>
          <p:cNvPicPr/>
          <p:nvPr/>
        </p:nvPicPr>
        <p:blipFill>
          <a:blip r:embed="rId1"/>
          <a:stretch/>
        </p:blipFill>
        <p:spPr>
          <a:xfrm>
            <a:off x="6804000" y="2684520"/>
            <a:ext cx="2340000" cy="275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240" y="1441080"/>
            <a:ext cx="890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自理理论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44" name="Group 43"/>
          <p:cNvGrpSpPr/>
          <p:nvPr/>
        </p:nvGrpSpPr>
        <p:grpSpPr>
          <a:xfrm>
            <a:off x="0" y="2637000"/>
            <a:ext cx="9119880" cy="3269880"/>
            <a:chOff x="0" y="2637000"/>
            <a:chExt cx="9119880" cy="3269880"/>
          </a:xfrm>
        </p:grpSpPr>
        <p:grpSp>
          <p:nvGrpSpPr>
            <p:cNvPr id="345" name="Group 3"/>
            <p:cNvGrpSpPr/>
            <p:nvPr/>
          </p:nvGrpSpPr>
          <p:grpSpPr>
            <a:xfrm>
              <a:off x="283680" y="3800880"/>
              <a:ext cx="6732720" cy="794880"/>
              <a:chOff x="283680" y="3800880"/>
              <a:chExt cx="6732720" cy="79488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283680" y="3800880"/>
                <a:ext cx="6732720" cy="79488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1bafc3"/>
                  </a:gs>
                  <a:gs pos="50000">
                    <a:srgbClr val="19a1b4"/>
                  </a:gs>
                  <a:gs pos="100000">
                    <a:srgbClr val="1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47" name="Group 5"/>
              <p:cNvGrpSpPr/>
              <p:nvPr/>
            </p:nvGrpSpPr>
            <p:grpSpPr>
              <a:xfrm>
                <a:off x="299880" y="3825360"/>
                <a:ext cx="6706080" cy="734760"/>
                <a:chOff x="299880" y="3825360"/>
                <a:chExt cx="6706080" cy="734760"/>
              </a:xfrm>
            </p:grpSpPr>
            <p:sp>
              <p:nvSpPr>
                <p:cNvPr id="348" name="AutoShape 6"/>
                <p:cNvSpPr/>
                <p:nvPr/>
              </p:nvSpPr>
              <p:spPr>
                <a:xfrm>
                  <a:off x="299880" y="4370040"/>
                  <a:ext cx="6706080" cy="190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bafc3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7"/>
                <p:cNvSpPr/>
                <p:nvPr/>
              </p:nvSpPr>
              <p:spPr>
                <a:xfrm>
                  <a:off x="299880" y="3825360"/>
                  <a:ext cx="6706080" cy="190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baf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8"/>
            <p:cNvGrpSpPr/>
            <p:nvPr/>
          </p:nvGrpSpPr>
          <p:grpSpPr>
            <a:xfrm>
              <a:off x="175680" y="5011920"/>
              <a:ext cx="6819480" cy="894960"/>
              <a:chOff x="175680" y="5011920"/>
              <a:chExt cx="6819480" cy="894960"/>
            </a:xfrm>
          </p:grpSpPr>
          <p:sp>
            <p:nvSpPr>
              <p:cNvPr id="351" name="AutoShape 9"/>
              <p:cNvSpPr/>
              <p:nvPr/>
            </p:nvSpPr>
            <p:spPr>
              <a:xfrm>
                <a:off x="175680" y="5011920"/>
                <a:ext cx="6819480" cy="8949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98bf1d"/>
                  </a:gs>
                  <a:gs pos="50000">
                    <a:srgbClr val="8cb01b"/>
                  </a:gs>
                  <a:gs pos="100000">
                    <a:srgbClr val="98bf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52" name="Group 10"/>
              <p:cNvGrpSpPr/>
              <p:nvPr/>
            </p:nvGrpSpPr>
            <p:grpSpPr>
              <a:xfrm>
                <a:off x="192240" y="5039640"/>
                <a:ext cx="6794280" cy="827640"/>
                <a:chOff x="192240" y="5039640"/>
                <a:chExt cx="6794280" cy="827640"/>
              </a:xfrm>
            </p:grpSpPr>
            <p:sp>
              <p:nvSpPr>
                <p:cNvPr id="353" name="AutoShape 11"/>
                <p:cNvSpPr/>
                <p:nvPr/>
              </p:nvSpPr>
              <p:spPr>
                <a:xfrm>
                  <a:off x="192240" y="5653080"/>
                  <a:ext cx="6794280" cy="214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8bf1d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12"/>
                <p:cNvSpPr/>
                <p:nvPr/>
              </p:nvSpPr>
              <p:spPr>
                <a:xfrm>
                  <a:off x="192240" y="5039640"/>
                  <a:ext cx="6794280" cy="21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8bf1d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Text Box 24"/>
            <p:cNvSpPr/>
            <p:nvPr/>
          </p:nvSpPr>
          <p:spPr>
            <a:xfrm>
              <a:off x="873360" y="4003920"/>
              <a:ext cx="614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理缺陷理论 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self-care defici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25"/>
            <p:cNvSpPr/>
            <p:nvPr/>
          </p:nvSpPr>
          <p:spPr>
            <a:xfrm>
              <a:off x="348840" y="5301000"/>
              <a:ext cx="696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护理系统理论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nursing system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7" name="Picture 29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59760" y="3789720"/>
              <a:ext cx="961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33"/>
            <p:cNvSpPr/>
            <p:nvPr/>
          </p:nvSpPr>
          <p:spPr>
            <a:xfrm>
              <a:off x="451080" y="3888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9" name="Group 42"/>
            <p:cNvGrpSpPr/>
            <p:nvPr/>
          </p:nvGrpSpPr>
          <p:grpSpPr>
            <a:xfrm>
              <a:off x="0" y="2637000"/>
              <a:ext cx="7752600" cy="949320"/>
              <a:chOff x="0" y="2637000"/>
              <a:chExt cx="7752600" cy="949320"/>
            </a:xfrm>
          </p:grpSpPr>
          <p:grpSp>
            <p:nvGrpSpPr>
              <p:cNvPr id="360" name="Group 18"/>
              <p:cNvGrpSpPr/>
              <p:nvPr/>
            </p:nvGrpSpPr>
            <p:grpSpPr>
              <a:xfrm>
                <a:off x="237240" y="2641680"/>
                <a:ext cx="6732360" cy="750960"/>
                <a:chOff x="237240" y="2641680"/>
                <a:chExt cx="6732360" cy="750960"/>
              </a:xfrm>
            </p:grpSpPr>
            <p:sp>
              <p:nvSpPr>
                <p:cNvPr id="361" name="AutoShape 19"/>
                <p:cNvSpPr/>
                <p:nvPr/>
              </p:nvSpPr>
              <p:spPr>
                <a:xfrm>
                  <a:off x="237240" y="2641680"/>
                  <a:ext cx="6732360" cy="75096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646ade"/>
                    </a:gs>
                    <a:gs pos="50000">
                      <a:srgbClr val="5c62cd"/>
                    </a:gs>
                    <a:gs pos="100000">
                      <a:srgbClr val="646a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20"/>
                <p:cNvGrpSpPr/>
                <p:nvPr/>
              </p:nvGrpSpPr>
              <p:grpSpPr>
                <a:xfrm>
                  <a:off x="253440" y="2665080"/>
                  <a:ext cx="6707160" cy="694080"/>
                  <a:chOff x="253440" y="2665080"/>
                  <a:chExt cx="6707160" cy="694080"/>
                </a:xfrm>
              </p:grpSpPr>
              <p:sp>
                <p:nvSpPr>
                  <p:cNvPr id="363" name="AutoShape 21"/>
                  <p:cNvSpPr/>
                  <p:nvPr/>
                </p:nvSpPr>
                <p:spPr>
                  <a:xfrm>
                    <a:off x="253440" y="3179520"/>
                    <a:ext cx="6707160" cy="179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646ade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22"/>
                  <p:cNvSpPr/>
                  <p:nvPr/>
                </p:nvSpPr>
                <p:spPr>
                  <a:xfrm>
                    <a:off x="253440" y="2665080"/>
                    <a:ext cx="6707160" cy="180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46ade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Text Box 23"/>
              <p:cNvSpPr/>
              <p:nvPr/>
            </p:nvSpPr>
            <p:spPr>
              <a:xfrm>
                <a:off x="803520" y="2820960"/>
                <a:ext cx="599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理理论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the theory of self-car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66" name="Picture 30" descr="1"/>
              <p:cNvPicPr/>
              <p:nvPr/>
            </p:nvPicPr>
            <p:blipFill>
              <a:blip r:embed="rId2"/>
              <a:srcRect l="42620" t="64489" r="19467" b="0"/>
              <a:stretch/>
            </p:blipFill>
            <p:spPr>
              <a:xfrm>
                <a:off x="0" y="2637000"/>
                <a:ext cx="961920" cy="94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2"/>
              <p:cNvSpPr/>
              <p:nvPr/>
            </p:nvSpPr>
            <p:spPr>
              <a:xfrm>
                <a:off x="389160" y="2733840"/>
                <a:ext cx="46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左箭头 20"/>
              <p:cNvSpPr/>
              <p:nvPr/>
            </p:nvSpPr>
            <p:spPr>
              <a:xfrm>
                <a:off x="7201440" y="2882880"/>
                <a:ext cx="551160" cy="158760"/>
              </a:xfrm>
              <a:prstGeom prst="leftArrow">
                <a:avLst>
                  <a:gd name="adj1" fmla="val 50000"/>
                  <a:gd name="adj2" fmla="val 60690"/>
                </a:avLst>
              </a:prstGeom>
              <a:solidFill>
                <a:srgbClr val="8ac8de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9" name="TextBox 37"/>
            <p:cNvSpPr/>
            <p:nvPr/>
          </p:nvSpPr>
          <p:spPr>
            <a:xfrm>
              <a:off x="7977600" y="2708640"/>
              <a:ext cx="9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what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0" name="左箭头 13"/>
            <p:cNvSpPr/>
            <p:nvPr/>
          </p:nvSpPr>
          <p:spPr>
            <a:xfrm>
              <a:off x="7200000" y="4094640"/>
              <a:ext cx="551160" cy="158400"/>
            </a:xfrm>
            <a:prstGeom prst="leftArrow">
              <a:avLst>
                <a:gd name="adj1" fmla="val 50000"/>
                <a:gd name="adj2" fmla="val 60828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左箭头 14"/>
            <p:cNvSpPr/>
            <p:nvPr/>
          </p:nvSpPr>
          <p:spPr>
            <a:xfrm>
              <a:off x="7257600" y="5445360"/>
              <a:ext cx="555120" cy="158760"/>
            </a:xfrm>
            <a:prstGeom prst="leftArrow">
              <a:avLst>
                <a:gd name="adj1" fmla="val 50000"/>
                <a:gd name="adj2" fmla="val 60705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TextBox 41"/>
            <p:cNvSpPr/>
            <p:nvPr/>
          </p:nvSpPr>
          <p:spPr>
            <a:xfrm>
              <a:off x="7934400" y="5156640"/>
              <a:ext cx="11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how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3" name="TextBox 39"/>
          <p:cNvSpPr/>
          <p:nvPr/>
        </p:nvSpPr>
        <p:spPr>
          <a:xfrm>
            <a:off x="7967520" y="387972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whe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4" name="Group 41"/>
          <p:cNvGrpSpPr/>
          <p:nvPr/>
        </p:nvGrpSpPr>
        <p:grpSpPr>
          <a:xfrm>
            <a:off x="0" y="5084640"/>
            <a:ext cx="790560" cy="949320"/>
            <a:chOff x="0" y="5084640"/>
            <a:chExt cx="790560" cy="949320"/>
          </a:xfrm>
        </p:grpSpPr>
        <p:pic>
          <p:nvPicPr>
            <p:cNvPr id="375" name="Picture 28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0" y="5084640"/>
              <a:ext cx="790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4"/>
            <p:cNvSpPr/>
            <p:nvPr/>
          </p:nvSpPr>
          <p:spPr>
            <a:xfrm>
              <a:off x="288720" y="51573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  说明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什么是自理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有哪些自理需要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哪些因素会影响个体的自理能力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自理理论的核心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了个体何时需要护理帮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缺陷：当由于各种情况导致的个体的自理能力的下降或自理需求的增加，个体的自理能力不足以满足其治疗性自理需要时就存在自理缺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19040" y="11685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762200"/>
            <a:ext cx="8915400" cy="48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系统论分析护理工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需要理论分析患者的需要并提出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应激学说分析患者的应激源并找出干预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奥瑞姆自理理论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罗伊适应模式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如何通过护理系统提供护理帮助，满足个体治疗性自理需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奥瑞姆根据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患者的自理需要和自理能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以及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护士提供的帮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将护理系统分为三类：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87" name="内容占位符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82520" y="1436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4" name="Group 9"/>
          <p:cNvGrpSpPr/>
          <p:nvPr/>
        </p:nvGrpSpPr>
        <p:grpSpPr>
          <a:xfrm>
            <a:off x="588960" y="2576520"/>
            <a:ext cx="1425240" cy="1031400"/>
            <a:chOff x="588960" y="2576520"/>
            <a:chExt cx="1425240" cy="1031400"/>
          </a:xfrm>
        </p:grpSpPr>
        <p:sp>
          <p:nvSpPr>
            <p:cNvPr id="395" name="Oval 10"/>
            <p:cNvSpPr/>
            <p:nvPr/>
          </p:nvSpPr>
          <p:spPr>
            <a:xfrm>
              <a:off x="622800" y="2607480"/>
              <a:ext cx="1359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96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588960" y="2576520"/>
              <a:ext cx="14252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2"/>
          <p:cNvSpPr/>
          <p:nvPr/>
        </p:nvSpPr>
        <p:spPr>
          <a:xfrm>
            <a:off x="595440" y="276228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圆角矩形 8"/>
          <p:cNvSpPr/>
          <p:nvPr/>
        </p:nvSpPr>
        <p:spPr>
          <a:xfrm>
            <a:off x="171360" y="3573360"/>
            <a:ext cx="2197080" cy="2746440"/>
          </a:xfrm>
          <a:custGeom>
            <a:avLst/>
            <a:gdLst>
              <a:gd name="textAreaLeft" fmla="*/ 106920 w 2197080"/>
              <a:gd name="textAreaRight" fmla="*/ 2090160 w 2197080"/>
              <a:gd name="textAreaTop" fmla="*/ 106920 h 2746440"/>
              <a:gd name="textAreaBottom" fmla="*/ 2639520 h 27464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圆角矩形 34"/>
          <p:cNvSpPr/>
          <p:nvPr/>
        </p:nvSpPr>
        <p:spPr>
          <a:xfrm>
            <a:off x="4464000" y="3597120"/>
            <a:ext cx="2170080" cy="2746440"/>
          </a:xfrm>
          <a:custGeom>
            <a:avLst/>
            <a:gdLst>
              <a:gd name="textAreaLeft" fmla="*/ 105840 w 2170080"/>
              <a:gd name="textAreaRight" fmla="*/ 2064240 w 2170080"/>
              <a:gd name="textAreaTop" fmla="*/ 105840 h 2746440"/>
              <a:gd name="textAreaBottom" fmla="*/ 2640600 h 2746440"/>
            </a:gdLst>
            <a:ahLst/>
            <a:rect l="textAreaLeft" t="textAreaTop" r="textAreaRight" b="textAreaBottom"/>
            <a:pathLst>
              <a:path w="21600" h="27336">
                <a:moveTo>
                  <a:pt x="3600" y="0"/>
                </a:moveTo>
                <a:arcTo wR="3600" hR="3600" stAng="16200000" swAng="-5400000"/>
                <a:lnTo>
                  <a:pt x="0" y="23736"/>
                </a:lnTo>
                <a:arcTo wR="3600" hR="3600" stAng="10800000" swAng="-5400000"/>
                <a:lnTo>
                  <a:pt x="18000" y="27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6878520" y="2652840"/>
            <a:ext cx="1427040" cy="1031400"/>
            <a:chOff x="6878520" y="2652840"/>
            <a:chExt cx="1427040" cy="1031400"/>
          </a:xfrm>
        </p:grpSpPr>
        <p:sp>
          <p:nvSpPr>
            <p:cNvPr id="401" name="Oval 10"/>
            <p:cNvSpPr/>
            <p:nvPr/>
          </p:nvSpPr>
          <p:spPr>
            <a:xfrm>
              <a:off x="6912360" y="2683800"/>
              <a:ext cx="13608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878520" y="2652840"/>
              <a:ext cx="14270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圆角矩形 13"/>
          <p:cNvSpPr/>
          <p:nvPr/>
        </p:nvSpPr>
        <p:spPr>
          <a:xfrm>
            <a:off x="6588000" y="3665520"/>
            <a:ext cx="2127240" cy="2664000"/>
          </a:xfrm>
          <a:custGeom>
            <a:avLst/>
            <a:gdLst>
              <a:gd name="textAreaLeft" fmla="*/ 103680 w 2127240"/>
              <a:gd name="textAreaRight" fmla="*/ 2023560 w 2127240"/>
              <a:gd name="textAreaTop" fmla="*/ 103680 h 2664000"/>
              <a:gd name="textAreaBottom" fmla="*/ 2560320 h 2664000"/>
            </a:gdLst>
            <a:ahLst/>
            <a:rect l="textAreaLeft" t="textAreaTop" r="textAreaRight" b="textAreaBottom"/>
            <a:pathLst>
              <a:path w="21600" h="27049">
                <a:moveTo>
                  <a:pt x="3600" y="0"/>
                </a:moveTo>
                <a:arcTo wR="3600" hR="3600" stAng="16200000" swAng="-5400000"/>
                <a:lnTo>
                  <a:pt x="0" y="23449"/>
                </a:lnTo>
                <a:arcTo wR="3600" hR="3600" stAng="10800000" swAng="-5400000"/>
                <a:lnTo>
                  <a:pt x="18000" y="27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矩形 3"/>
          <p:cNvSpPr/>
          <p:nvPr/>
        </p:nvSpPr>
        <p:spPr>
          <a:xfrm>
            <a:off x="7045200" y="2814480"/>
            <a:ext cx="12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2649600" y="2565360"/>
            <a:ext cx="1347480" cy="1031400"/>
            <a:chOff x="2649600" y="2565360"/>
            <a:chExt cx="1347480" cy="1031400"/>
          </a:xfrm>
        </p:grpSpPr>
        <p:sp>
          <p:nvSpPr>
            <p:cNvPr id="406" name="Oval 10"/>
            <p:cNvSpPr/>
            <p:nvPr/>
          </p:nvSpPr>
          <p:spPr>
            <a:xfrm>
              <a:off x="2681640" y="2596320"/>
              <a:ext cx="1287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7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649600" y="2565360"/>
              <a:ext cx="134748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圆角矩形 18"/>
          <p:cNvSpPr/>
          <p:nvPr/>
        </p:nvSpPr>
        <p:spPr>
          <a:xfrm>
            <a:off x="2328840" y="3573360"/>
            <a:ext cx="2165400" cy="2746440"/>
          </a:xfrm>
          <a:custGeom>
            <a:avLst/>
            <a:gdLst>
              <a:gd name="textAreaLeft" fmla="*/ 105480 w 2165400"/>
              <a:gd name="textAreaRight" fmla="*/ 2059920 w 2165400"/>
              <a:gd name="textAreaTop" fmla="*/ 105480 h 2746440"/>
              <a:gd name="textAreaBottom" fmla="*/ 2640960 h 2746440"/>
            </a:gdLst>
            <a:ahLst/>
            <a:rect l="textAreaLeft" t="textAreaTop" r="textAreaRight" b="textAreaBottom"/>
            <a:pathLst>
              <a:path w="21600" h="27395">
                <a:moveTo>
                  <a:pt x="3600" y="0"/>
                </a:moveTo>
                <a:arcTo wR="3600" hR="3600" stAng="16200000" swAng="-5400000"/>
                <a:lnTo>
                  <a:pt x="0" y="23795"/>
                </a:lnTo>
                <a:arcTo wR="3600" hR="3600" stAng="10800000" swAng="-5400000"/>
                <a:lnTo>
                  <a:pt x="18000" y="27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2468520" y="278136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781520" y="2541600"/>
            <a:ext cx="1412640" cy="1104480"/>
            <a:chOff x="4781520" y="2541600"/>
            <a:chExt cx="1412640" cy="1104480"/>
          </a:xfrm>
        </p:grpSpPr>
        <p:sp>
          <p:nvSpPr>
            <p:cNvPr id="411" name="Oval 10"/>
            <p:cNvSpPr/>
            <p:nvPr/>
          </p:nvSpPr>
          <p:spPr>
            <a:xfrm>
              <a:off x="4815000" y="2574720"/>
              <a:ext cx="1347120" cy="107136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12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781520" y="2541600"/>
              <a:ext cx="1412640" cy="9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矩形 59"/>
          <p:cNvSpPr/>
          <p:nvPr/>
        </p:nvSpPr>
        <p:spPr>
          <a:xfrm>
            <a:off x="4809960" y="2781360"/>
            <a:ext cx="14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黑体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1"/>
          <p:cNvSpPr/>
          <p:nvPr/>
        </p:nvSpPr>
        <p:spPr>
          <a:xfrm>
            <a:off x="141120" y="364500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有学习和发展的能力；人不是通过本能而是通过学习行为来达到自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矩形 54"/>
          <p:cNvSpPr/>
          <p:nvPr/>
        </p:nvSpPr>
        <p:spPr>
          <a:xfrm>
            <a:off x="2328840" y="364500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定义健康不仅是没有疾病或虚弱，而且是一种生理、心理和社会文化的良好适应状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矩形 6"/>
          <p:cNvSpPr/>
          <p:nvPr/>
        </p:nvSpPr>
        <p:spPr>
          <a:xfrm>
            <a:off x="4494240" y="371628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环境是人以外的，所有可以影响人的自理能力的因素，包括物理、心理、社会等方面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1"/>
          <p:cNvSpPr/>
          <p:nvPr/>
        </p:nvSpPr>
        <p:spPr>
          <a:xfrm>
            <a:off x="6588000" y="375444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是为预防自理缺陷发展并为不能满足自理需要的个体提供帮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判断自理能力，评估自理需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选择护理系统，实施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护理效果，调整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罗伊的适应模式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231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6320" y="2558880"/>
            <a:ext cx="6667560" cy="18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洛杉矶圣玛丽学院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护理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7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博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76320" y="4724280"/>
            <a:ext cx="668952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《护理学导论：一种适应模式》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ntroduction to Nursing: An Adaptation Model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76320" y="2025720"/>
            <a:ext cx="66675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洛杉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Picture 11" descr="roy"/>
          <p:cNvPicPr/>
          <p:nvPr/>
        </p:nvPicPr>
        <p:blipFill>
          <a:blip r:embed="rId1"/>
          <a:stretch/>
        </p:blipFill>
        <p:spPr>
          <a:xfrm>
            <a:off x="6804000" y="2367000"/>
            <a:ext cx="2424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的基本内容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适应模式的基本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o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适应模式是围绕人的适应行为，即人对周围环境中的刺激的适应而组织的。该模式在结构上包括五个部分，即输入、控制过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对机制、适应方式、输出和反馈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0" y="2060640"/>
            <a:ext cx="916164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矩形 53"/>
          <p:cNvSpPr/>
          <p:nvPr/>
        </p:nvSpPr>
        <p:spPr>
          <a:xfrm>
            <a:off x="6818400" y="3068640"/>
            <a:ext cx="1803240" cy="2355840"/>
          </a:xfrm>
          <a:prstGeom prst="rect">
            <a:avLst/>
          </a:prstGeom>
          <a:solidFill>
            <a:srgbClr val="cce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效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" name="Group 28"/>
          <p:cNvGrpSpPr/>
          <p:nvPr/>
        </p:nvGrpSpPr>
        <p:grpSpPr>
          <a:xfrm>
            <a:off x="1134720" y="5423760"/>
            <a:ext cx="6624720" cy="843840"/>
            <a:chOff x="1134720" y="5423760"/>
            <a:chExt cx="6624720" cy="843840"/>
          </a:xfrm>
        </p:grpSpPr>
        <p:sp>
          <p:nvSpPr>
            <p:cNvPr id="440" name="矩形 5"/>
            <p:cNvSpPr/>
            <p:nvPr/>
          </p:nvSpPr>
          <p:spPr>
            <a:xfrm>
              <a:off x="3295800" y="5712120"/>
              <a:ext cx="2369880" cy="555480"/>
            </a:xfrm>
            <a:prstGeom prst="rect">
              <a:avLst/>
            </a:prstGeom>
            <a:solidFill>
              <a:srgbClr val="7ac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反 馈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直接连接符 8"/>
            <p:cNvSpPr/>
            <p:nvPr/>
          </p:nvSpPr>
          <p:spPr>
            <a:xfrm flipH="1">
              <a:off x="5670360" y="6000840"/>
              <a:ext cx="20890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直接连接符 9"/>
            <p:cNvSpPr/>
            <p:nvPr/>
          </p:nvSpPr>
          <p:spPr>
            <a:xfrm flipH="1">
              <a:off x="1134720" y="6000840"/>
              <a:ext cx="21589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443" name="直接箭头连接符 31"/>
            <p:cNvCxnSpPr/>
            <p:nvPr/>
          </p:nvCxnSpPr>
          <p:spPr>
            <a:xfrm flipV="1">
              <a:off x="1135080" y="5423760"/>
              <a:ext cx="2160" cy="577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</p:grpSp>
      <p:sp>
        <p:nvSpPr>
          <p:cNvPr id="444" name="TextBox 1"/>
          <p:cNvSpPr/>
          <p:nvPr/>
        </p:nvSpPr>
        <p:spPr>
          <a:xfrm>
            <a:off x="766800" y="250992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2489040" y="251604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控制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5003640" y="251784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效应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7288200" y="250992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矩形 28"/>
          <p:cNvSpPr/>
          <p:nvPr/>
        </p:nvSpPr>
        <p:spPr>
          <a:xfrm>
            <a:off x="4657680" y="3068640"/>
            <a:ext cx="1876320" cy="2355840"/>
          </a:xfrm>
          <a:prstGeom prst="rect">
            <a:avLst/>
          </a:prstGeom>
          <a:solidFill>
            <a:srgbClr val="cc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方式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生理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我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角色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互相依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29"/>
          <p:cNvSpPr/>
          <p:nvPr/>
        </p:nvSpPr>
        <p:spPr>
          <a:xfrm>
            <a:off x="250920" y="3068640"/>
            <a:ext cx="1778040" cy="2376360"/>
          </a:xfrm>
          <a:prstGeom prst="rect">
            <a:avLst/>
          </a:prstGeom>
          <a:solidFill>
            <a:srgbClr val="ff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2498760" y="3068640"/>
            <a:ext cx="1803240" cy="235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应对机制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调节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认知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51" name="直接箭头连接符 18"/>
          <p:cNvCxnSpPr/>
          <p:nvPr/>
        </p:nvCxnSpPr>
        <p:spPr>
          <a:xfrm flipV="1">
            <a:off x="7759800" y="5392080"/>
            <a:ext cx="2160" cy="577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左大括号 4"/>
          <p:cNvSpPr/>
          <p:nvPr/>
        </p:nvSpPr>
        <p:spPr>
          <a:xfrm>
            <a:off x="1179360" y="2604960"/>
            <a:ext cx="360360" cy="3322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322800"/>
              <a:gd name="textAreaBottom" fmla="*/ 3313440 h 33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6" name="圆角矩形 2"/>
          <p:cNvSpPr/>
          <p:nvPr/>
        </p:nvSpPr>
        <p:spPr>
          <a:xfrm>
            <a:off x="1619280" y="2095560"/>
            <a:ext cx="2376360" cy="9730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主要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foc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" name="圆角矩形 6"/>
          <p:cNvSpPr/>
          <p:nvPr/>
        </p:nvSpPr>
        <p:spPr>
          <a:xfrm>
            <a:off x="1598760" y="3562200"/>
            <a:ext cx="2376360" cy="13431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相关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context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圆角矩形 11"/>
          <p:cNvSpPr/>
          <p:nvPr/>
        </p:nvSpPr>
        <p:spPr>
          <a:xfrm>
            <a:off x="1627200" y="5259240"/>
            <a:ext cx="2368440" cy="99216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固有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resid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9" name="椭圆 8"/>
          <p:cNvGrpSpPr/>
          <p:nvPr/>
        </p:nvGrpSpPr>
        <p:grpSpPr>
          <a:xfrm>
            <a:off x="225360" y="3352680"/>
            <a:ext cx="817560" cy="1352520"/>
            <a:chOff x="225360" y="3352680"/>
            <a:chExt cx="817560" cy="1352520"/>
          </a:xfrm>
        </p:grpSpPr>
        <p:pic>
          <p:nvPicPr>
            <p:cNvPr id="460" name="椭圆 8" descr=""/>
            <p:cNvPicPr/>
            <p:nvPr/>
          </p:nvPicPr>
          <p:blipFill>
            <a:blip r:embed="rId1"/>
            <a:stretch/>
          </p:blipFill>
          <p:spPr>
            <a:xfrm>
              <a:off x="225360" y="3352680"/>
              <a:ext cx="8175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51000" y="3554280"/>
              <a:ext cx="56664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输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" name="Text Box 12"/>
          <p:cNvSpPr/>
          <p:nvPr/>
        </p:nvSpPr>
        <p:spPr>
          <a:xfrm>
            <a:off x="4211640" y="19890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一个手术后的患者，在术后两三天，疼痛可能是一个主要刺激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4206960" y="34434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对于焦虑患者，听一些轻音乐有助于缓解焦虑，因此，焦虑是主要刺激，而轻音乐是相关刺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4206960" y="532908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如文化背景，以前的经历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1071720" y="242892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护理学相关理论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圆角矩形 3"/>
          <p:cNvSpPr/>
          <p:nvPr/>
        </p:nvSpPr>
        <p:spPr>
          <a:xfrm>
            <a:off x="468360" y="3249720"/>
            <a:ext cx="4174920" cy="313200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调节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天具备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神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分泌过程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圆角矩形 11"/>
          <p:cNvSpPr/>
          <p:nvPr/>
        </p:nvSpPr>
        <p:spPr>
          <a:xfrm>
            <a:off x="4567320" y="3249720"/>
            <a:ext cx="3984480" cy="2998800"/>
          </a:xfrm>
          <a:prstGeom prst="roundRect">
            <a:avLst>
              <a:gd name="adj" fmla="val 16667"/>
            </a:avLst>
          </a:prstGeom>
          <a:solidFill>
            <a:srgbClr val="c4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认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后天习得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通过认知、信息处理、学习、判断和情感调试等途径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" name="椭圆 6"/>
          <p:cNvGrpSpPr/>
          <p:nvPr/>
        </p:nvGrpSpPr>
        <p:grpSpPr>
          <a:xfrm>
            <a:off x="2432160" y="1889280"/>
            <a:ext cx="3182760" cy="933120"/>
            <a:chOff x="2432160" y="1889280"/>
            <a:chExt cx="3182760" cy="933120"/>
          </a:xfrm>
        </p:grpSpPr>
        <p:pic>
          <p:nvPicPr>
            <p:cNvPr id="471" name="椭圆 6" descr=""/>
            <p:cNvPicPr/>
            <p:nvPr/>
          </p:nvPicPr>
          <p:blipFill>
            <a:blip r:embed="rId1"/>
            <a:stretch/>
          </p:blipFill>
          <p:spPr>
            <a:xfrm>
              <a:off x="2432160" y="1889280"/>
              <a:ext cx="318276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901960" y="2028960"/>
              <a:ext cx="22431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控制过程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473" name="直接箭头连接符 7"/>
          <p:cNvCxnSpPr/>
          <p:nvPr/>
        </p:nvCxnSpPr>
        <p:spPr>
          <a:xfrm flipH="1">
            <a:off x="2490120" y="2811240"/>
            <a:ext cx="935640" cy="3690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474" name="直接箭头连接符 8"/>
          <p:cNvCxnSpPr/>
          <p:nvPr/>
        </p:nvCxnSpPr>
        <p:spPr>
          <a:xfrm>
            <a:off x="4794120" y="2811240"/>
            <a:ext cx="866160" cy="432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83680" y="16506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-133920" y="-221400"/>
            <a:ext cx="9032760" cy="8435880"/>
            <a:chOff x="-133920" y="-221400"/>
            <a:chExt cx="9032760" cy="8435880"/>
          </a:xfrm>
        </p:grpSpPr>
        <p:sp>
          <p:nvSpPr>
            <p:cNvPr id="479" name="Rectangle 55"/>
            <p:cNvSpPr/>
            <p:nvPr/>
          </p:nvSpPr>
          <p:spPr>
            <a:xfrm>
              <a:off x="3141360" y="2790000"/>
              <a:ext cx="198936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Rectangle 56"/>
            <p:cNvSpPr/>
            <p:nvPr/>
          </p:nvSpPr>
          <p:spPr>
            <a:xfrm>
              <a:off x="2735640" y="4575600"/>
              <a:ext cx="23360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AutoShape 249"/>
            <p:cNvSpPr/>
            <p:nvPr/>
          </p:nvSpPr>
          <p:spPr>
            <a:xfrm rot="19690800">
              <a:off x="748080" y="1287360"/>
              <a:ext cx="7268400" cy="5418000"/>
            </a:xfrm>
            <a:prstGeom prst="pie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Line 250"/>
            <p:cNvSpPr/>
            <p:nvPr/>
          </p:nvSpPr>
          <p:spPr>
            <a:xfrm flipH="1">
              <a:off x="4406400" y="1996560"/>
              <a:ext cx="1380960" cy="1897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Line 251"/>
            <p:cNvSpPr/>
            <p:nvPr/>
          </p:nvSpPr>
          <p:spPr>
            <a:xfrm>
              <a:off x="3754440" y="1957680"/>
              <a:ext cx="689760" cy="2005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Line 253"/>
            <p:cNvSpPr/>
            <p:nvPr/>
          </p:nvSpPr>
          <p:spPr>
            <a:xfrm>
              <a:off x="1867320" y="2716920"/>
              <a:ext cx="2558160" cy="142884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Line 254"/>
            <p:cNvSpPr/>
            <p:nvPr/>
          </p:nvSpPr>
          <p:spPr>
            <a:xfrm flipH="1">
              <a:off x="4745160" y="3106440"/>
              <a:ext cx="2419920" cy="7506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86" name="Group 256"/>
            <p:cNvGrpSpPr/>
            <p:nvPr/>
          </p:nvGrpSpPr>
          <p:grpSpPr>
            <a:xfrm>
              <a:off x="2015640" y="1985760"/>
              <a:ext cx="5315400" cy="3962160"/>
              <a:chOff x="2015640" y="1985760"/>
              <a:chExt cx="5315400" cy="3962160"/>
            </a:xfrm>
          </p:grpSpPr>
          <p:sp>
            <p:nvSpPr>
              <p:cNvPr id="487" name="Oval 257"/>
              <p:cNvSpPr/>
              <p:nvPr/>
            </p:nvSpPr>
            <p:spPr>
              <a:xfrm>
                <a:off x="3195720" y="2865960"/>
                <a:ext cx="2954160" cy="2202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" name="AutoShape 258"/>
              <p:cNvSpPr/>
              <p:nvPr/>
            </p:nvSpPr>
            <p:spPr>
              <a:xfrm>
                <a:off x="2346480" y="2232720"/>
                <a:ext cx="4653000" cy="34678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" name="AutoShape 259"/>
              <p:cNvSpPr/>
              <p:nvPr/>
            </p:nvSpPr>
            <p:spPr>
              <a:xfrm>
                <a:off x="2015640" y="1985760"/>
                <a:ext cx="5315400" cy="396216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260"/>
            <p:cNvGrpSpPr/>
            <p:nvPr/>
          </p:nvGrpSpPr>
          <p:grpSpPr>
            <a:xfrm>
              <a:off x="3303360" y="2956320"/>
              <a:ext cx="2769840" cy="2070360"/>
              <a:chOff x="3303360" y="2956320"/>
              <a:chExt cx="2769840" cy="2070360"/>
            </a:xfrm>
          </p:grpSpPr>
          <p:sp>
            <p:nvSpPr>
              <p:cNvPr id="491" name="Oval 261"/>
              <p:cNvSpPr/>
              <p:nvPr/>
            </p:nvSpPr>
            <p:spPr>
              <a:xfrm>
                <a:off x="3303360" y="2956320"/>
                <a:ext cx="2769840" cy="207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" name="Oval 262"/>
              <p:cNvSpPr/>
              <p:nvPr/>
            </p:nvSpPr>
            <p:spPr>
              <a:xfrm>
                <a:off x="3337560" y="2967840"/>
                <a:ext cx="2704320" cy="201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" name="Oval 263"/>
              <p:cNvSpPr/>
              <p:nvPr/>
            </p:nvSpPr>
            <p:spPr>
              <a:xfrm>
                <a:off x="3363840" y="2986200"/>
                <a:ext cx="2574360" cy="1887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Oval 264"/>
              <p:cNvSpPr/>
              <p:nvPr/>
            </p:nvSpPr>
            <p:spPr>
              <a:xfrm>
                <a:off x="3515040" y="3039840"/>
                <a:ext cx="2290320" cy="153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" name="Rectangle 265"/>
            <p:cNvSpPr/>
            <p:nvPr/>
          </p:nvSpPr>
          <p:spPr>
            <a:xfrm>
              <a:off x="1648440" y="3780000"/>
              <a:ext cx="6071760" cy="617040"/>
            </a:xfrm>
            <a:prstGeom prst="rect">
              <a:avLst/>
            </a:prstGeom>
            <a:solidFill>
              <a:srgbClr val="afeaff"/>
            </a:solidFill>
            <a:ln w="0">
              <a:noFill/>
            </a:ln>
            <a:effectLst>
              <a:outerShdw dist="17819" dir="2700000" blurRad="0" rotWithShape="0">
                <a:srgbClr val="698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效应器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6" name="Group 276"/>
            <p:cNvGrpSpPr/>
            <p:nvPr/>
          </p:nvGrpSpPr>
          <p:grpSpPr>
            <a:xfrm>
              <a:off x="7351200" y="2202120"/>
              <a:ext cx="1410840" cy="1055160"/>
              <a:chOff x="7351200" y="2202120"/>
              <a:chExt cx="1410840" cy="1055160"/>
            </a:xfrm>
          </p:grpSpPr>
          <p:sp>
            <p:nvSpPr>
              <p:cNvPr id="497" name="Oval 277"/>
              <p:cNvSpPr/>
              <p:nvPr/>
            </p:nvSpPr>
            <p:spPr>
              <a:xfrm>
                <a:off x="7351200" y="220212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8" name="Oval 278"/>
              <p:cNvSpPr/>
              <p:nvPr/>
            </p:nvSpPr>
            <p:spPr>
              <a:xfrm>
                <a:off x="7369560" y="2215440"/>
                <a:ext cx="137844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0"/>
                    </a:srgbClr>
                  </a:gs>
                  <a:gs pos="100000">
                    <a:srgbClr val="ff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9" name="Oval 279"/>
              <p:cNvSpPr/>
              <p:nvPr/>
            </p:nvSpPr>
            <p:spPr>
              <a:xfrm>
                <a:off x="7401600" y="2248560"/>
                <a:ext cx="1311480" cy="961560"/>
              </a:xfrm>
              <a:prstGeom prst="ellipse">
                <a:avLst/>
              </a:prstGeom>
              <a:gradFill rotWithShape="0">
                <a:gsLst>
                  <a:gs pos="0">
                    <a:srgbClr val="caa200"/>
                  </a:gs>
                  <a:gs pos="100000">
                    <a:srgbClr val="ffcc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Oval 280"/>
              <p:cNvSpPr/>
              <p:nvPr/>
            </p:nvSpPr>
            <p:spPr>
              <a:xfrm>
                <a:off x="7474680" y="221076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91"/>
            <p:cNvGrpSpPr/>
            <p:nvPr/>
          </p:nvGrpSpPr>
          <p:grpSpPr>
            <a:xfrm>
              <a:off x="2476080" y="968400"/>
              <a:ext cx="1410840" cy="1055160"/>
              <a:chOff x="2476080" y="968400"/>
              <a:chExt cx="1410840" cy="1055160"/>
            </a:xfrm>
          </p:grpSpPr>
          <p:sp>
            <p:nvSpPr>
              <p:cNvPr id="502" name="Oval 292"/>
              <p:cNvSpPr/>
              <p:nvPr/>
            </p:nvSpPr>
            <p:spPr>
              <a:xfrm>
                <a:off x="2476080" y="96840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185e"/>
                  </a:gs>
                  <a:gs pos="100000">
                    <a:srgbClr val="ff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293"/>
              <p:cNvSpPr/>
              <p:nvPr/>
            </p:nvSpPr>
            <p:spPr>
              <a:xfrm>
                <a:off x="2491920" y="982080"/>
                <a:ext cx="1378800" cy="1027440"/>
              </a:xfrm>
              <a:prstGeom prst="ellipse">
                <a:avLst/>
              </a:prstGeom>
              <a:gradFill rotWithShape="0">
                <a:gsLst>
                  <a:gs pos="0">
                    <a:srgbClr val="ff33cc">
                      <a:alpha val="0"/>
                    </a:srgbClr>
                  </a:gs>
                  <a:gs pos="100000">
                    <a:srgbClr val="ffb8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" name="Oval 294"/>
              <p:cNvSpPr/>
              <p:nvPr/>
            </p:nvSpPr>
            <p:spPr>
              <a:xfrm>
                <a:off x="2526480" y="1013400"/>
                <a:ext cx="1312200" cy="961560"/>
              </a:xfrm>
              <a:prstGeom prst="ellipse">
                <a:avLst/>
              </a:prstGeom>
              <a:gradFill rotWithShape="0">
                <a:gsLst>
                  <a:gs pos="0">
                    <a:srgbClr val="ca28a2"/>
                  </a:gs>
                  <a:gs pos="100000">
                    <a:srgbClr val="ff33cc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" name="Oval 295"/>
              <p:cNvSpPr/>
              <p:nvPr/>
            </p:nvSpPr>
            <p:spPr>
              <a:xfrm>
                <a:off x="2599560" y="9896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cc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48"/>
            <p:cNvGrpSpPr/>
            <p:nvPr/>
          </p:nvGrpSpPr>
          <p:grpSpPr>
            <a:xfrm>
              <a:off x="543600" y="2066040"/>
              <a:ext cx="1495800" cy="1055160"/>
              <a:chOff x="543600" y="2066040"/>
              <a:chExt cx="1495800" cy="1055160"/>
            </a:xfrm>
          </p:grpSpPr>
          <p:sp>
            <p:nvSpPr>
              <p:cNvPr id="507" name="Oval 297"/>
              <p:cNvSpPr/>
              <p:nvPr/>
            </p:nvSpPr>
            <p:spPr>
              <a:xfrm>
                <a:off x="543600" y="2066040"/>
                <a:ext cx="1410480" cy="1055160"/>
              </a:xfrm>
              <a:prstGeom prst="ellipse">
                <a:avLst/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298"/>
              <p:cNvSpPr/>
              <p:nvPr/>
            </p:nvSpPr>
            <p:spPr>
              <a:xfrm>
                <a:off x="561960" y="2079360"/>
                <a:ext cx="1378080" cy="1027800"/>
              </a:xfrm>
              <a:prstGeom prst="ellipse">
                <a:avLst/>
              </a:prstGeom>
              <a:gradFill rotWithShape="0">
                <a:gsLst>
                  <a:gs pos="0">
                    <a:srgbClr val="6666ff">
                      <a:alpha val="0"/>
                    </a:srgbClr>
                  </a:gs>
                  <a:gs pos="100000">
                    <a:srgbClr val="caca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299"/>
              <p:cNvSpPr/>
              <p:nvPr/>
            </p:nvSpPr>
            <p:spPr>
              <a:xfrm>
                <a:off x="594360" y="2112480"/>
                <a:ext cx="1311120" cy="961560"/>
              </a:xfrm>
              <a:prstGeom prst="ellipse">
                <a:avLst/>
              </a:prstGeom>
              <a:gradFill rotWithShape="0">
                <a:gsLst>
                  <a:gs pos="0">
                    <a:srgbClr val="5151ca"/>
                  </a:gs>
                  <a:gs pos="100000">
                    <a:srgbClr val="6666ff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00"/>
              <p:cNvSpPr/>
              <p:nvPr/>
            </p:nvSpPr>
            <p:spPr>
              <a:xfrm>
                <a:off x="667080" y="2080800"/>
                <a:ext cx="137232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66ff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" name="Rectangle 53"/>
            <p:cNvSpPr/>
            <p:nvPr/>
          </p:nvSpPr>
          <p:spPr>
            <a:xfrm>
              <a:off x="2455560" y="1055880"/>
              <a:ext cx="142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自我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54"/>
            <p:cNvSpPr/>
            <p:nvPr/>
          </p:nvSpPr>
          <p:spPr>
            <a:xfrm>
              <a:off x="415800" y="2130840"/>
              <a:ext cx="171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生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13" name="Group 55"/>
            <p:cNvGrpSpPr/>
            <p:nvPr/>
          </p:nvGrpSpPr>
          <p:grpSpPr>
            <a:xfrm>
              <a:off x="5280840" y="829440"/>
              <a:ext cx="1758600" cy="1716120"/>
              <a:chOff x="5280840" y="829440"/>
              <a:chExt cx="1758600" cy="1716120"/>
            </a:xfrm>
          </p:grpSpPr>
          <p:sp>
            <p:nvSpPr>
              <p:cNvPr id="514" name="Oval 287"/>
              <p:cNvSpPr/>
              <p:nvPr/>
            </p:nvSpPr>
            <p:spPr>
              <a:xfrm>
                <a:off x="5511960" y="968400"/>
                <a:ext cx="1410840" cy="105480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288"/>
              <p:cNvSpPr/>
              <p:nvPr/>
            </p:nvSpPr>
            <p:spPr>
              <a:xfrm rot="846600">
                <a:off x="5529960" y="981720"/>
                <a:ext cx="137880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6600">
                      <a:alpha val="0"/>
                    </a:srgbClr>
                  </a:gs>
                  <a:gs pos="100000">
                    <a:srgbClr val="ffcaa6"/>
                  </a:gs>
                </a:gsLst>
                <a:lin ang="455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289"/>
              <p:cNvSpPr/>
              <p:nvPr/>
            </p:nvSpPr>
            <p:spPr>
              <a:xfrm>
                <a:off x="5603040" y="1036440"/>
                <a:ext cx="1311840" cy="960840"/>
              </a:xfrm>
              <a:prstGeom prst="ellipse">
                <a:avLst/>
              </a:prstGeom>
              <a:gradFill rotWithShape="0">
                <a:gsLst>
                  <a:gs pos="0">
                    <a:srgbClr val="ca5100"/>
                  </a:gs>
                  <a:gs pos="100000">
                    <a:srgbClr val="ff66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Oval 290"/>
              <p:cNvSpPr/>
              <p:nvPr/>
            </p:nvSpPr>
            <p:spPr>
              <a:xfrm>
                <a:off x="5603040" y="10364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Text Box 60"/>
              <p:cNvSpPr/>
              <p:nvPr/>
            </p:nvSpPr>
            <p:spPr>
              <a:xfrm rot="834000">
                <a:off x="5424120" y="1015200"/>
                <a:ext cx="14716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角色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功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9" name="Text Box 61"/>
            <p:cNvSpPr/>
            <p:nvPr/>
          </p:nvSpPr>
          <p:spPr>
            <a:xfrm>
              <a:off x="7331040" y="2251800"/>
              <a:ext cx="1563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相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依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流程图: 决策 4"/>
          <p:cNvSpPr/>
          <p:nvPr/>
        </p:nvSpPr>
        <p:spPr>
          <a:xfrm>
            <a:off x="3081240" y="2421000"/>
            <a:ext cx="224784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4" name="矩形 5" descr=""/>
          <p:cNvPicPr/>
          <p:nvPr/>
        </p:nvPicPr>
        <p:blipFill>
          <a:blip r:embed="rId1"/>
          <a:stretch/>
        </p:blipFill>
        <p:spPr>
          <a:xfrm>
            <a:off x="1779480" y="2127240"/>
            <a:ext cx="1683000" cy="1438200"/>
          </a:xfrm>
          <a:prstGeom prst="rect">
            <a:avLst/>
          </a:prstGeom>
          <a:ln w="0">
            <a:noFill/>
          </a:ln>
        </p:spPr>
      </p:pic>
      <p:sp>
        <p:nvSpPr>
          <p:cNvPr id="525" name="右箭头 6"/>
          <p:cNvSpPr/>
          <p:nvPr/>
        </p:nvSpPr>
        <p:spPr>
          <a:xfrm>
            <a:off x="5356080" y="2873520"/>
            <a:ext cx="955800" cy="260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6145200" y="269244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无效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流程图: 决策 8"/>
          <p:cNvSpPr/>
          <p:nvPr/>
        </p:nvSpPr>
        <p:spPr>
          <a:xfrm>
            <a:off x="231840" y="4064040"/>
            <a:ext cx="2035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流程图: 决策 9"/>
          <p:cNvSpPr/>
          <p:nvPr/>
        </p:nvSpPr>
        <p:spPr>
          <a:xfrm>
            <a:off x="3081240" y="4064040"/>
            <a:ext cx="2251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9" name="矩形 10" descr=""/>
          <p:cNvPicPr/>
          <p:nvPr/>
        </p:nvPicPr>
        <p:blipFill>
          <a:blip r:embed="rId2"/>
          <a:stretch/>
        </p:blipFill>
        <p:spPr>
          <a:xfrm>
            <a:off x="1743120" y="3816360"/>
            <a:ext cx="1682640" cy="1438200"/>
          </a:xfrm>
          <a:prstGeom prst="rect">
            <a:avLst/>
          </a:prstGeom>
          <a:ln w="0">
            <a:noFill/>
          </a:ln>
        </p:spPr>
      </p:pic>
      <p:sp>
        <p:nvSpPr>
          <p:cNvPr id="530" name="右箭头 11"/>
          <p:cNvSpPr/>
          <p:nvPr/>
        </p:nvSpPr>
        <p:spPr>
          <a:xfrm>
            <a:off x="5375160" y="4475160"/>
            <a:ext cx="957240" cy="26208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TextBox 17"/>
          <p:cNvSpPr/>
          <p:nvPr/>
        </p:nvSpPr>
        <p:spPr>
          <a:xfrm>
            <a:off x="6311880" y="430380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流程图: 决策 13"/>
          <p:cNvSpPr/>
          <p:nvPr/>
        </p:nvSpPr>
        <p:spPr>
          <a:xfrm>
            <a:off x="162000" y="2421000"/>
            <a:ext cx="210492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1371240"/>
            <a:ext cx="8915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是与人的生理需要相关的适应方式类型，是指人类机体的细胞、组织、器官和系统进行生理活动的外在表现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我概念：是个体在某一时间对自我的感觉、评价和信念，自我概念的形成源于自身的感知和他人的评价，经过自我内化而形成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1371240"/>
            <a:ext cx="89154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角色功能：是个体履行所承担的角色以及满足社会对其角色期待的情况。角色分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次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临时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相互依赖：是个体与其重要关系着或者支持系统间的相互关系，包括爱、尊重、价值观等方面的互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8728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罗伊认为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对变化能否适应取决于输入的刺激和人的适应水平的综合效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的目的是促进个体的适应性反应，减少或消除无效反应，从而促进个体恢复和维持健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1320" y="15066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5" name="Group 9"/>
          <p:cNvGrpSpPr/>
          <p:nvPr/>
        </p:nvGrpSpPr>
        <p:grpSpPr>
          <a:xfrm>
            <a:off x="600120" y="2732040"/>
            <a:ext cx="1368000" cy="1031400"/>
            <a:chOff x="600120" y="2732040"/>
            <a:chExt cx="1368000" cy="1031400"/>
          </a:xfrm>
        </p:grpSpPr>
        <p:sp>
          <p:nvSpPr>
            <p:cNvPr id="546" name="Oval 10"/>
            <p:cNvSpPr/>
            <p:nvPr/>
          </p:nvSpPr>
          <p:spPr>
            <a:xfrm>
              <a:off x="632520" y="2763000"/>
              <a:ext cx="13010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47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600120" y="2732040"/>
              <a:ext cx="13680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圆角矩形 7"/>
          <p:cNvSpPr/>
          <p:nvPr/>
        </p:nvSpPr>
        <p:spPr>
          <a:xfrm>
            <a:off x="295200" y="3738600"/>
            <a:ext cx="1933560" cy="2087640"/>
          </a:xfrm>
          <a:custGeom>
            <a:avLst/>
            <a:gdLst>
              <a:gd name="textAreaLeft" fmla="*/ 94320 w 1933560"/>
              <a:gd name="textAreaRight" fmla="*/ 1839240 w 1933560"/>
              <a:gd name="textAreaTop" fmla="*/ 94320 h 2087640"/>
              <a:gd name="textAreaBottom" fmla="*/ 1993320 h 2087640"/>
            </a:gdLst>
            <a:ahLst/>
            <a:rect l="textAreaLeft" t="textAreaTop" r="textAreaRight" b="textAreaBottom"/>
            <a:pathLst>
              <a:path w="21600" h="23321">
                <a:moveTo>
                  <a:pt x="3600" y="0"/>
                </a:moveTo>
                <a:arcTo wR="3600" hR="3600" stAng="16200000" swAng="-5400000"/>
                <a:lnTo>
                  <a:pt x="0" y="19721"/>
                </a:lnTo>
                <a:arcTo wR="3600" hR="3600" stAng="10800000" swAng="-5400000"/>
                <a:lnTo>
                  <a:pt x="18000" y="23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圆角矩形 36"/>
          <p:cNvSpPr/>
          <p:nvPr/>
        </p:nvSpPr>
        <p:spPr>
          <a:xfrm>
            <a:off x="4203720" y="3774960"/>
            <a:ext cx="2030400" cy="201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0" name="Group 9"/>
          <p:cNvGrpSpPr/>
          <p:nvPr/>
        </p:nvGrpSpPr>
        <p:grpSpPr>
          <a:xfrm>
            <a:off x="6566040" y="2768760"/>
            <a:ext cx="1396440" cy="1031400"/>
            <a:chOff x="6566040" y="2768760"/>
            <a:chExt cx="1396440" cy="1031400"/>
          </a:xfrm>
        </p:grpSpPr>
        <p:sp>
          <p:nvSpPr>
            <p:cNvPr id="551" name="Oval 10"/>
            <p:cNvSpPr/>
            <p:nvPr/>
          </p:nvSpPr>
          <p:spPr>
            <a:xfrm>
              <a:off x="6599160" y="2799720"/>
              <a:ext cx="13316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566040" y="2768760"/>
              <a:ext cx="13964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圆角矩形 12"/>
          <p:cNvSpPr/>
          <p:nvPr/>
        </p:nvSpPr>
        <p:spPr>
          <a:xfrm>
            <a:off x="6230880" y="3770280"/>
            <a:ext cx="2130480" cy="2016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4" name="Group 9"/>
          <p:cNvGrpSpPr/>
          <p:nvPr/>
        </p:nvGrpSpPr>
        <p:grpSpPr>
          <a:xfrm>
            <a:off x="2490840" y="2720880"/>
            <a:ext cx="1371240" cy="1031760"/>
            <a:chOff x="2490840" y="2720880"/>
            <a:chExt cx="1371240" cy="1031760"/>
          </a:xfrm>
        </p:grpSpPr>
        <p:sp>
          <p:nvSpPr>
            <p:cNvPr id="555" name="Oval 10"/>
            <p:cNvSpPr/>
            <p:nvPr/>
          </p:nvSpPr>
          <p:spPr>
            <a:xfrm>
              <a:off x="2523240" y="2751840"/>
              <a:ext cx="1304280" cy="100080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6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490840" y="2720880"/>
              <a:ext cx="1371240" cy="90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圆角矩形 16"/>
          <p:cNvSpPr/>
          <p:nvPr/>
        </p:nvSpPr>
        <p:spPr>
          <a:xfrm>
            <a:off x="2205000" y="3754440"/>
            <a:ext cx="1998720" cy="2087640"/>
          </a:xfrm>
          <a:custGeom>
            <a:avLst/>
            <a:gdLst>
              <a:gd name="textAreaLeft" fmla="*/ 97560 w 1998720"/>
              <a:gd name="textAreaRight" fmla="*/ 1901160 w 1998720"/>
              <a:gd name="textAreaTop" fmla="*/ 97560 h 2087640"/>
              <a:gd name="textAreaBottom" fmla="*/ 1990080 h 2087640"/>
            </a:gdLst>
            <a:ahLst/>
            <a:rect l="textAreaLeft" t="textAreaTop" r="textAreaRight" b="textAreaBottom"/>
            <a:pathLst>
              <a:path w="21600" h="22561">
                <a:moveTo>
                  <a:pt x="3600" y="0"/>
                </a:moveTo>
                <a:arcTo wR="3600" hR="3600" stAng="16200000" swAng="-5400000"/>
                <a:lnTo>
                  <a:pt x="0" y="18961"/>
                </a:lnTo>
                <a:arcTo wR="3600" hR="3600" stAng="10800000" swAng="-5400000"/>
                <a:lnTo>
                  <a:pt x="18000" y="225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4503600" y="2727360"/>
            <a:ext cx="1465200" cy="1031400"/>
            <a:chOff x="4503600" y="2727360"/>
            <a:chExt cx="1465200" cy="1031400"/>
          </a:xfrm>
        </p:grpSpPr>
        <p:sp>
          <p:nvSpPr>
            <p:cNvPr id="559" name="Oval 10"/>
            <p:cNvSpPr/>
            <p:nvPr/>
          </p:nvSpPr>
          <p:spPr>
            <a:xfrm>
              <a:off x="4538520" y="2758320"/>
              <a:ext cx="139716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60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503600" y="2727360"/>
              <a:ext cx="14652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矩形 1"/>
          <p:cNvSpPr/>
          <p:nvPr/>
        </p:nvSpPr>
        <p:spPr>
          <a:xfrm>
            <a:off x="295200" y="394488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是一个整体适应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矩形 48"/>
          <p:cNvSpPr/>
          <p:nvPr/>
        </p:nvSpPr>
        <p:spPr>
          <a:xfrm>
            <a:off x="2246400" y="39448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健康是适应的一种反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矩形 43"/>
          <p:cNvSpPr/>
          <p:nvPr/>
        </p:nvSpPr>
        <p:spPr>
          <a:xfrm>
            <a:off x="4189320" y="3825720"/>
            <a:ext cx="202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是由人体内部和外部的所有刺激构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矩形 41"/>
          <p:cNvSpPr/>
          <p:nvPr/>
        </p:nvSpPr>
        <p:spPr>
          <a:xfrm>
            <a:off x="6248520" y="3795840"/>
            <a:ext cx="211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促进四种适应性反应，减少无效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96960" y="287028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矩形 42"/>
          <p:cNvSpPr/>
          <p:nvPr/>
        </p:nvSpPr>
        <p:spPr>
          <a:xfrm>
            <a:off x="6756480" y="29592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2604960" y="288936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3"/>
          <p:cNvSpPr/>
          <p:nvPr/>
        </p:nvSpPr>
        <p:spPr>
          <a:xfrm>
            <a:off x="4643280" y="2930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1371240"/>
            <a:ext cx="918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8160" y="2414520"/>
            <a:ext cx="9144000" cy="27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0" y="2311560"/>
            <a:ext cx="2916360" cy="3115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估行为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生理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自我概念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角色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互依赖方面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990880" y="2771640"/>
            <a:ext cx="2913120" cy="246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辨识刺激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主要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关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固有刺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5907240" y="3036960"/>
            <a:ext cx="3279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制订护理目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5910120" y="4329000"/>
            <a:ext cx="32338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实施护理干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927760" y="5605560"/>
            <a:ext cx="3192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价行为结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5076720" y="2492280"/>
            <a:ext cx="1728720" cy="21600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9" name="AutoShape 12"/>
          <p:cNvSpPr/>
          <p:nvPr/>
        </p:nvSpPr>
        <p:spPr>
          <a:xfrm>
            <a:off x="7380360" y="373860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AutoShape 13"/>
          <p:cNvSpPr/>
          <p:nvPr/>
        </p:nvSpPr>
        <p:spPr>
          <a:xfrm>
            <a:off x="7380360" y="5022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Oval 9"/>
          <p:cNvSpPr/>
          <p:nvPr/>
        </p:nvSpPr>
        <p:spPr>
          <a:xfrm>
            <a:off x="0" y="2544840"/>
            <a:ext cx="3259080" cy="2305080"/>
          </a:xfrm>
          <a:prstGeom prst="ellipse">
            <a:avLst/>
          </a:prstGeom>
          <a:gradFill rotWithShape="0">
            <a:gsLst>
              <a:gs pos="0">
                <a:srgbClr val="ff33cc">
                  <a:alpha val="40000"/>
                </a:srgbClr>
              </a:gs>
              <a:gs pos="100000">
                <a:srgbClr val="7618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621320" y="2043000"/>
            <a:ext cx="4522680" cy="201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节 护理学相关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系统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激与适应理论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AutoShape 19"/>
          <p:cNvSpPr/>
          <p:nvPr/>
        </p:nvSpPr>
        <p:spPr>
          <a:xfrm>
            <a:off x="4621320" y="4365720"/>
            <a:ext cx="4522680" cy="1900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6" name="Freeform 12"/>
          <p:cNvSpPr/>
          <p:nvPr/>
        </p:nvSpPr>
        <p:spPr>
          <a:xfrm rot="12939000">
            <a:off x="3429000" y="2827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225360" y="2654280"/>
            <a:ext cx="2808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1371240"/>
            <a:ext cx="89154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于系统的描述不正确的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指若干相互关联又相互作用的部分组成的一个整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系统各部分有着相同的目的和功能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几个系统可以联合为更大的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各部分共同作用发挥着整体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系统是次系统还是超系统是相对而言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99880"/>
            <a:ext cx="8624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一般系统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0000" y="1483920"/>
            <a:ext cx="8610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般系统论在护理中的应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马斯洛的人类基本需要层次理论，属于最低层次的需要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患者因患肺癌，对死亡产生的恐惧，该应激源属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躯体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心理性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社会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文化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技术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属于奥瑞姆自理理论的核心部分的是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能力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需要理论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是围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自理能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适应行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压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患关系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预防保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多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符合系统论的观点的陈述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是辩证统一的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反映系统的外部行为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是开放系统           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是由自然系统和人造系统混合构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具有决策和反馈功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DE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下列有关人类基本需要各层次之间关系的陈述，正确的包括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基本需要重叠出现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们满足各层次基本需要的活动基本相同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是最低层次的需要，可延缓给予满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较高层次需要的满足方式有很大的个体差异性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的各层次基本需要之间相互联系、相互影响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关于适应的特性，下列描述正确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的最终目的是维持机体的内稳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能力因人而异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无限度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主动的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最佳适应就是健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D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奥瑞姆自理理论，下列需选择全补偿护理系统的患者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昏迷患者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脑出血急性期患者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精神障碍患者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大手术前清醒患者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高位截瘫失去自理能力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C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的效应器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水平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概念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角色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相互依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CDE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0" name="WordArt 4" descr=""/>
          <p:cNvPicPr/>
          <p:nvPr/>
        </p:nvPicPr>
        <p:blipFill>
          <a:blip r:embed="rId1"/>
          <a:stretch/>
        </p:blipFill>
        <p:spPr>
          <a:xfrm>
            <a:off x="1255680" y="1487520"/>
            <a:ext cx="680868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念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系统（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ystem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由若干相互联系、相互作用的要素所组成的具有一定结构和功能的有机整体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分类  常用的分类方法有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组成系统的要素性质：分为自然系统和人造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的运动状态：分为动态系统和静态系统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与环境的关系：分为开放系统和封闭系统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1:51:45Z</dcterms:modified>
  <cp:revision>119</cp:revision>
  <dc:subject/>
  <dc:title>内科护理学</dc:title>
</cp:coreProperties>
</file>