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7525CB-0E1F-4819-8D44-D9CCF6F635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CA0F37-3F1F-44FB-8B05-769BC8A651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59678EA-A337-4B37-A06D-E253AEC4C3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E6F7A28-7B23-4012-9B9A-33105522D3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B20D60-4BAB-4D7F-B04F-D41E585FA2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467320-4EF1-4756-B2B9-39B1A590E3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1588F0-711F-4200-9AFD-09C95DE968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9EE782F-8155-4FBB-9579-56A7241844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2811F7E-AEF7-461C-B84A-636AE3661B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D9D077-1DF1-4A60-B6F2-324A0F680C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417009-11D5-4DD9-8A70-F52F52D443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CA53F9-43B2-4625-9E4B-EE06DE4CCF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51BB4-EB56-49F2-8AEA-08EB3E923A47}"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140716851&amp;tn=baiduimagedetail&amp;word=&#26790;&#28216;&amp;in=3"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二章 </a:t>
            </a:r>
            <a:br>
              <a:rPr sz="4000"/>
            </a:br>
            <a:r>
              <a:rPr b="1" lang="zh-CN" sz="4000" spc="-1" strike="noStrike">
                <a:solidFill>
                  <a:srgbClr val="ffffff"/>
                </a:solidFill>
                <a:latin typeface="Verdana"/>
                <a:ea typeface="宋体"/>
              </a:rPr>
              <a:t>心理因素相关生理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制作人   姚大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治疗要点</a:t>
            </a:r>
            <a:endParaRPr b="0" lang="en-US" sz="3200" spc="-1" strike="noStrike">
              <a:solidFill>
                <a:srgbClr val="ffffff"/>
              </a:solidFill>
              <a:latin typeface="Verdana"/>
            </a:endParaRPr>
          </a:p>
        </p:txBody>
      </p:sp>
      <p:sp>
        <p:nvSpPr>
          <p:cNvPr id="167" name=""/>
          <p:cNvSpPr txBox="1"/>
          <p:nvPr/>
        </p:nvSpPr>
        <p:spPr>
          <a:xfrm>
            <a:off x="304920" y="1700280"/>
            <a:ext cx="8610480" cy="4548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支持治疗：急性期患者以支持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理治疗：治疗方法以心理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药物治疗：目前尚无有效的药物治疗进食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二节 睡眠障碍患者的护理</a:t>
            </a:r>
            <a:endParaRPr b="1" lang="en-US" sz="40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障碍</a:t>
            </a:r>
            <a:r>
              <a:rPr b="1" lang="zh-CN" sz="2800" spc="-1" strike="noStrike">
                <a:solidFill>
                  <a:srgbClr val="8ac8de"/>
                </a:solidFill>
                <a:latin typeface="Times New Roman"/>
                <a:ea typeface="宋体"/>
              </a:rPr>
              <a:t>（</a:t>
            </a:r>
            <a:r>
              <a:rPr b="1" lang="en-US" sz="2800" spc="-1" strike="noStrike">
                <a:solidFill>
                  <a:srgbClr val="8ac8de"/>
                </a:solidFill>
                <a:latin typeface="Times New Roman"/>
                <a:ea typeface="宋体"/>
              </a:rPr>
              <a:t>sleep disorder</a:t>
            </a:r>
            <a:r>
              <a:rPr b="1" lang="zh-CN" sz="2800" spc="-1" strike="noStrike">
                <a:solidFill>
                  <a:srgbClr val="8ac8de"/>
                </a:solidFill>
                <a:latin typeface="Times New Roman"/>
                <a:ea typeface="宋体"/>
              </a:rPr>
              <a:t>）</a:t>
            </a:r>
            <a:r>
              <a:rPr b="1" lang="zh-CN" sz="2800" spc="-1" strike="noStrike">
                <a:solidFill>
                  <a:srgbClr val="8ac8de"/>
                </a:solidFill>
                <a:latin typeface="Verdana"/>
                <a:ea typeface="宋体"/>
              </a:rPr>
              <a:t>是睡眠量不正常以及睡眠中出现异常行为的表现，也是睡眠和觉醒正常节律性交替紊乱的表现。</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75" name="Picture 6" descr="images1111"/>
          <p:cNvPicPr/>
          <p:nvPr/>
        </p:nvPicPr>
        <p:blipFill>
          <a:blip r:embed="rId1"/>
          <a:stretch/>
        </p:blipFill>
        <p:spPr>
          <a:xfrm>
            <a:off x="6732720" y="3618000"/>
            <a:ext cx="2095200" cy="27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美国睡眠障碍协会标准，睡眠障碍可分为四大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入睡和维持睡眠障碍，即失眠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睡眠过多，或日间睡眠过多，即嗜睡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睡眠的昼夜节律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异常睡眠，包括梦游、梦魇、不宁腿综合征、遗尿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失眠症</a:t>
            </a:r>
            <a:r>
              <a:rPr b="1" lang="en-US" sz="2800" spc="-1" strike="noStrike">
                <a:solidFill>
                  <a:srgbClr val="8ac8de"/>
                </a:solidFill>
                <a:latin typeface="Verdana"/>
                <a:ea typeface="宋体"/>
              </a:rPr>
              <a:t>(insomnia)</a:t>
            </a:r>
            <a:r>
              <a:rPr b="1" lang="zh-CN" sz="2800" spc="-1" strike="noStrike">
                <a:solidFill>
                  <a:srgbClr val="8ac8de"/>
                </a:solidFill>
                <a:latin typeface="Verdana"/>
                <a:ea typeface="宋体"/>
              </a:rPr>
              <a:t>是一种对睡眠的质和量持续相当长时间的不满意状况，是最常见的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82" name="Picture 2" descr="c:\users\administrator\appdata\roaming\360se6\User Data\temp\01300000190639122194767739851.jpg"/>
          <p:cNvPicPr/>
          <p:nvPr/>
        </p:nvPicPr>
        <p:blipFill>
          <a:blip r:embed="rId1"/>
          <a:stretch/>
        </p:blipFill>
        <p:spPr>
          <a:xfrm>
            <a:off x="6588000" y="4005360"/>
            <a:ext cx="2314800" cy="21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失眠的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心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药物和食物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睡眠节律改变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各种躯体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主要为入睡困难、睡眠不深、易惊醒、自觉多梦、醒后不易再入睡感到疲乏或缺乏清醒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恐惧失眠，担心失眠所致的后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就寝前服用药物来安慰自己的紧张情绪，服药剂量逐渐加大，种类逐渐增多，甚至造成药物依赖，疗效越来越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首先应针对病因，消除或减轻造成失眠的各种因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采用心理治疗为主，适当配合镇静催眠药物治疗。另外各种放松训练疗法、生物反馈疗法、电针及中医治疗均有助于睡眠的改善。</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睡症</a:t>
            </a:r>
            <a:r>
              <a:rPr b="1" lang="en-US" sz="2800" spc="-1" strike="noStrike">
                <a:solidFill>
                  <a:srgbClr val="8ac8de"/>
                </a:solidFill>
                <a:latin typeface="Verdana"/>
                <a:ea typeface="宋体"/>
              </a:rPr>
              <a:t>(hypersomnia)</a:t>
            </a:r>
            <a:r>
              <a:rPr b="1" lang="zh-CN" sz="2800" spc="-1" strike="noStrike">
                <a:solidFill>
                  <a:srgbClr val="8ac8de"/>
                </a:solidFill>
                <a:latin typeface="Verdana"/>
                <a:ea typeface="宋体"/>
              </a:rPr>
              <a:t>是指不存在睡眠量不足的情况下出现睡眠过多，或醒来时达到完全觉醒状态的过渡时间延长的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95" name="Picture 2" descr="c:\users\administrator\appdata\roaming\360se6\User Data\temp\140552pcg7koswxsqbus7w.jpg"/>
          <p:cNvPicPr/>
          <p:nvPr/>
        </p:nvPicPr>
        <p:blipFill>
          <a:blip r:embed="rId1"/>
          <a:stretch/>
        </p:blipFill>
        <p:spPr>
          <a:xfrm>
            <a:off x="6084720" y="4437000"/>
            <a:ext cx="2729160" cy="17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7" name=""/>
          <p:cNvSpPr txBox="1"/>
          <p:nvPr/>
        </p:nvSpPr>
        <p:spPr>
          <a:xfrm>
            <a:off x="25092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病因较多，包括心理社会因素、精神障碍及躯体器质性疾病等。部分患者有家族遗传倾向。</a:t>
            </a:r>
            <a:endParaRPr b="1" lang="en-US" sz="2800" spc="-1" strike="noStrike">
              <a:solidFill>
                <a:srgbClr val="8ac8de"/>
              </a:solidFill>
              <a:latin typeface="Verdan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9200" y="109080"/>
            <a:ext cx="8885520" cy="793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学习目标：</a:t>
            </a:r>
            <a:endParaRPr b="0" lang="en-US" sz="2800" spc="-1" strike="noStrike">
              <a:solidFill>
                <a:srgbClr val="ffffff"/>
              </a:solidFill>
              <a:latin typeface="Verdana"/>
            </a:endParaRPr>
          </a:p>
        </p:txBody>
      </p:sp>
      <p:sp>
        <p:nvSpPr>
          <p:cNvPr id="107" name=""/>
          <p:cNvSpPr txBox="1"/>
          <p:nvPr/>
        </p:nvSpPr>
        <p:spPr>
          <a:xfrm>
            <a:off x="394920" y="2039760"/>
            <a:ext cx="7705800" cy="2743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描述常见心理因素相关生理障碍的临床表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解释常见心理因素相关生理障碍的可能病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综合评估患者的整体情况，运用护理程序对心理因素相关生理障碍患者进行护理及健康宣教。</a:t>
            </a:r>
            <a:endParaRPr b="1" lang="en-US" sz="2400" spc="-1" strike="noStrike">
              <a:solidFill>
                <a:srgbClr val="8ac8de"/>
              </a:solidFill>
              <a:latin typeface="Verdana"/>
            </a:endParaRPr>
          </a:p>
          <a:p>
            <a:pPr marL="343080" indent="-343080">
              <a:spcBef>
                <a:spcPts val="601"/>
              </a:spcBef>
              <a:buClr>
                <a:srgbClr val="ddb523"/>
              </a:buClr>
              <a:buFont typeface="Times New Roman"/>
              <a:buChar char="Δ"/>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7738920" y="1052640"/>
            <a:ext cx="1405080" cy="1584000"/>
            <a:chOff x="7738920" y="1052640"/>
            <a:chExt cx="1405080" cy="1584000"/>
          </a:xfrm>
        </p:grpSpPr>
        <p:sp>
          <p:nvSpPr>
            <p:cNvPr id="109" name="Line 5"/>
            <p:cNvSpPr/>
            <p:nvPr/>
          </p:nvSpPr>
          <p:spPr>
            <a:xfrm flipV="1">
              <a:off x="8262720" y="1705320"/>
              <a:ext cx="177120" cy="87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0" name="Line 6"/>
            <p:cNvSpPr/>
            <p:nvPr/>
          </p:nvSpPr>
          <p:spPr>
            <a:xfrm>
              <a:off x="8472600" y="1734480"/>
              <a:ext cx="43992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1" name="Line 7"/>
            <p:cNvSpPr/>
            <p:nvPr/>
          </p:nvSpPr>
          <p:spPr>
            <a:xfrm flipV="1">
              <a:off x="7968600" y="1734480"/>
              <a:ext cx="43956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2" name="Oval 8"/>
            <p:cNvSpPr/>
            <p:nvPr/>
          </p:nvSpPr>
          <p:spPr>
            <a:xfrm>
              <a:off x="7738920" y="1052640"/>
              <a:ext cx="1405080" cy="1295640"/>
            </a:xfrm>
            <a:prstGeom prst="ellipse">
              <a:avLst/>
            </a:prstGeom>
            <a:solidFill>
              <a:srgbClr val="99669b"/>
            </a:solidFill>
            <a:ln w="9360">
              <a:solidFill>
                <a:srgbClr val="046ca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Oval 9"/>
            <p:cNvSpPr/>
            <p:nvPr/>
          </p:nvSpPr>
          <p:spPr>
            <a:xfrm>
              <a:off x="7833600" y="1139040"/>
              <a:ext cx="12157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4" name="Oval 10"/>
            <p:cNvSpPr/>
            <p:nvPr/>
          </p:nvSpPr>
          <p:spPr>
            <a:xfrm>
              <a:off x="7833600" y="1139040"/>
              <a:ext cx="1215720" cy="11239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5" name="Oval 11"/>
            <p:cNvSpPr/>
            <p:nvPr/>
          </p:nvSpPr>
          <p:spPr>
            <a:xfrm>
              <a:off x="7926480" y="1225440"/>
              <a:ext cx="1028160" cy="9507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6" name="Oval 12"/>
            <p:cNvSpPr/>
            <p:nvPr/>
          </p:nvSpPr>
          <p:spPr>
            <a:xfrm>
              <a:off x="7926480" y="1225440"/>
              <a:ext cx="1028160" cy="950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7" name="Oval 13"/>
            <p:cNvSpPr/>
            <p:nvPr/>
          </p:nvSpPr>
          <p:spPr>
            <a:xfrm>
              <a:off x="8021160" y="1311840"/>
              <a:ext cx="83880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8" name="Oval 14"/>
            <p:cNvSpPr/>
            <p:nvPr/>
          </p:nvSpPr>
          <p:spPr>
            <a:xfrm>
              <a:off x="8021160" y="1311840"/>
              <a:ext cx="838800" cy="777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9" name="Oval 15"/>
            <p:cNvSpPr/>
            <p:nvPr/>
          </p:nvSpPr>
          <p:spPr>
            <a:xfrm>
              <a:off x="8115840" y="1398240"/>
              <a:ext cx="650880" cy="6051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0" name="Oval 16"/>
            <p:cNvSpPr/>
            <p:nvPr/>
          </p:nvSpPr>
          <p:spPr>
            <a:xfrm>
              <a:off x="8115840" y="1398240"/>
              <a:ext cx="650880" cy="6051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1" name="Oval 17"/>
            <p:cNvSpPr/>
            <p:nvPr/>
          </p:nvSpPr>
          <p:spPr>
            <a:xfrm>
              <a:off x="8199720" y="1474920"/>
              <a:ext cx="483120" cy="451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2" name="Oval 18"/>
            <p:cNvSpPr/>
            <p:nvPr/>
          </p:nvSpPr>
          <p:spPr>
            <a:xfrm>
              <a:off x="8199720" y="1474920"/>
              <a:ext cx="483120" cy="451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3" name="Oval 19"/>
            <p:cNvSpPr/>
            <p:nvPr/>
          </p:nvSpPr>
          <p:spPr>
            <a:xfrm>
              <a:off x="8283600" y="1561680"/>
              <a:ext cx="315000" cy="27864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4" name="Oval 20"/>
            <p:cNvSpPr/>
            <p:nvPr/>
          </p:nvSpPr>
          <p:spPr>
            <a:xfrm>
              <a:off x="8283600" y="1561680"/>
              <a:ext cx="315000" cy="278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5" name="Oval 21"/>
            <p:cNvSpPr/>
            <p:nvPr/>
          </p:nvSpPr>
          <p:spPr>
            <a:xfrm>
              <a:off x="8398080" y="1667520"/>
              <a:ext cx="7452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6" name="Oval 22"/>
            <p:cNvSpPr/>
            <p:nvPr/>
          </p:nvSpPr>
          <p:spPr>
            <a:xfrm>
              <a:off x="8398080" y="1667520"/>
              <a:ext cx="74520" cy="66960"/>
            </a:xfrm>
            <a:prstGeom prst="ellipse">
              <a:avLst/>
            </a:prstGeom>
            <a:noFill/>
            <a:ln w="1260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7" name="Line 23"/>
            <p:cNvSpPr/>
            <p:nvPr/>
          </p:nvSpPr>
          <p:spPr>
            <a:xfrm>
              <a:off x="8084160" y="2434680"/>
              <a:ext cx="735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Verdana"/>
              </a:endParaRPr>
            </a:p>
          </p:txBody>
        </p:sp>
        <p:sp>
          <p:nvSpPr>
            <p:cNvPr id="128" name="Freeform 24"/>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29" name="Freeform 25"/>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0" name="Freeform 26"/>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1" name="Freeform 27"/>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2" name="Freeform 28"/>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3" name="Freeform 29"/>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4" name="Freeform 30"/>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5" name="Freeform 31"/>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path>
              </a:pathLst>
            </a:custGeom>
            <a:noFill/>
            <a:ln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6" name="Freeform 32"/>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7" name="Freeform 33"/>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8" name="Freeform 34"/>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39" name="Freeform 35"/>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40" name="Freeform 36"/>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sp>
          <p:nvSpPr>
            <p:cNvPr id="141" name="Freeform 37"/>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表现为患者无夜间睡眠减少，但白昼睡眠时间延长，醒转时要想达到完全的觉醒状态非常困难，醒转后常有短暂意识模糊，呼吸及心率增快，常可伴有抑郁情绪。</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对症治疗，首先消除发病的诱导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次可辅以支持疗法和疏导疗法，以达到治疗和预防疾病的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是指个体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与患者所在环境的社会要求和大多数人所遵循的睡眠节律不符合，导致患者失眠或嗜睡而影响生活或工作的一种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07" name="Picture 3" descr="C:\Users\Administrator\Desktop\104218bzn4q5mq5pv3dhp0_副本.png"/>
          <p:cNvPicPr/>
          <p:nvPr/>
        </p:nvPicPr>
        <p:blipFill>
          <a:blip r:embed="rId1"/>
          <a:stretch/>
        </p:blipFill>
        <p:spPr>
          <a:xfrm>
            <a:off x="5364000" y="4221000"/>
            <a:ext cx="3419640" cy="192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引起这一障碍的原因很多，如心理社会、外界环境、某些药物等都可能造成个体出现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目前还缺乏对该病的流行病学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睡眠时相延迟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紊乱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频繁改变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昼夜节律障碍的治疗首先应针对病因，消除或减轻各种疾病因素，使睡眠和觉醒时间与个体的生物钟同步。光照疗法对该病尤其是紊乱型、频繁改变型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睡行症</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行症</a:t>
            </a:r>
            <a:r>
              <a:rPr b="1" lang="en-US" sz="2800" spc="-1" strike="noStrike">
                <a:solidFill>
                  <a:srgbClr val="8ac8de"/>
                </a:solidFill>
                <a:latin typeface="Verdana"/>
                <a:ea typeface="宋体"/>
              </a:rPr>
              <a:t>(somnambulism)</a:t>
            </a:r>
            <a:r>
              <a:rPr b="1" lang="zh-CN" sz="2800" spc="-1" strike="noStrike">
                <a:solidFill>
                  <a:srgbClr val="8ac8de"/>
                </a:solidFill>
                <a:latin typeface="Verdana"/>
                <a:ea typeface="宋体"/>
              </a:rPr>
              <a:t>俗称梦游症，是睡眠和觉醒现象同时存在的一种意识模糊状态。</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20" name="Picture 3" descr="u=3728251145,1756631166&amp;gp=1">
            <a:hlinkClick r:id="rId1"/>
          </p:cNvPr>
          <p:cNvPicPr/>
          <p:nvPr/>
        </p:nvPicPr>
        <p:blipFill>
          <a:blip r:embed="rId2"/>
          <a:stretch/>
        </p:blipFill>
        <p:spPr>
          <a:xfrm>
            <a:off x="6804000" y="3573360"/>
            <a:ext cx="2340000" cy="23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20"/>
                                        </p:tgtEl>
                                        <p:attrNameLst>
                                          <p:attrName>style.visibility</p:attrName>
                                        </p:attrNameLst>
                                      </p:cBhvr>
                                      <p:to>
                                        <p:strVal val="visible"/>
                                      </p:to>
                                    </p:set>
                                    <p:animEffect filter="wheel(4)" transition="in">
                                      <p:cBhvr additive="repl">
                                        <p:cTn id="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睡眠障碍患者的护理</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理诊断</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睡眠型态紊乱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活动休息形态受损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焦虑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绝望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应对无效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消除诱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眠卫生宣教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   </a:t>
            </a:r>
            <a:r>
              <a:rPr b="0" lang="zh-CN" sz="2400" spc="-1" strike="noStrike">
                <a:solidFill>
                  <a:srgbClr val="046ca6"/>
                </a:solidFill>
                <a:latin typeface="Arial"/>
                <a:ea typeface="宋体"/>
              </a:rPr>
              <a:t>保证患者安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消除心理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重建规律、有质量的睡眠模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护理效果评价</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患者是否陈述睡眠充足，醒后无疲乏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患者是否反映其睡眠有所改善。</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心理因素相关生理障碍概念</a:t>
            </a:r>
            <a:endParaRPr b="0" lang="en-US" sz="2800" spc="-1" strike="noStrike">
              <a:solidFill>
                <a:srgbClr val="ffffff"/>
              </a:solidFill>
              <a:latin typeface="Verdana"/>
            </a:endParaRPr>
          </a:p>
        </p:txBody>
      </p:sp>
      <p:sp>
        <p:nvSpPr>
          <p:cNvPr id="143" name=""/>
          <p:cNvSpPr txBox="1"/>
          <p:nvPr/>
        </p:nvSpPr>
        <p:spPr>
          <a:xfrm>
            <a:off x="304920" y="1484280"/>
            <a:ext cx="8610480" cy="4764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一组在病因方面以心理社会因素为主要原因，临床方面以生理障碍为主要表现形式的一组疾病。</a:t>
            </a:r>
            <a:endParaRPr b="1" lang="en-US" sz="2400" spc="-1" strike="noStrike">
              <a:solidFill>
                <a:srgbClr val="8ac8de"/>
              </a:solidFill>
              <a:latin typeface="Verdana"/>
            </a:endParaRPr>
          </a:p>
        </p:txBody>
      </p:sp>
      <p:pic>
        <p:nvPicPr>
          <p:cNvPr id="144" name="Picture 5" descr="c:\DOCUME~1\ADMINI~1\APPLIC~1\360se6\USERDA~1\Temp\ANOREX~2.JPG"/>
          <p:cNvPicPr/>
          <p:nvPr/>
        </p:nvPicPr>
        <p:blipFill>
          <a:blip r:embed="rId1"/>
          <a:stretch/>
        </p:blipFill>
        <p:spPr>
          <a:xfrm>
            <a:off x="6084720" y="3003480"/>
            <a:ext cx="2160720" cy="3122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
        <p:nvSpPr>
          <p:cNvPr id="233" name="WordArt 2"/>
          <p:cNvSpPr txBox="1"/>
          <p:nvPr/>
        </p:nvSpPr>
        <p:spPr>
          <a:xfrm>
            <a:off x="3581280" y="2819520"/>
            <a:ext cx="4724640" cy="761760"/>
          </a:xfrm>
          <a:prstGeom prst="rect">
            <a:avLst/>
          </a:prstGeom>
        </p:spPr>
        <p:txBody>
          <a:bodyPr wrap="none" lIns="90000" rIns="90000" tIns="46800" bIns="46800" anchor="t">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rPr>
              <a:t>Thank You !</a:t>
            </a:r>
            <a:endPar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一节 进食障碍患者的护理</a:t>
            </a:r>
            <a:endParaRPr b="1" lang="en-US" sz="40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病因及发病机制</a:t>
            </a:r>
            <a:endParaRPr b="0" lang="en-US" sz="3200" spc="-1" strike="noStrike">
              <a:solidFill>
                <a:srgbClr val="ffffff"/>
              </a:solidFill>
              <a:latin typeface="Verdana"/>
            </a:endParaRPr>
          </a:p>
        </p:txBody>
      </p:sp>
      <p:pic>
        <p:nvPicPr>
          <p:cNvPr id="149" name="内容占位符 4" descr=""/>
          <p:cNvPicPr/>
          <p:nvPr/>
        </p:nvPicPr>
        <p:blipFill>
          <a:blip r:embed="rId1"/>
          <a:stretch/>
        </p:blipFill>
        <p:spPr>
          <a:xfrm>
            <a:off x="1974960" y="1682640"/>
            <a:ext cx="5700600" cy="4572000"/>
          </a:xfrm>
          <a:prstGeom prst="rect">
            <a:avLst/>
          </a:prstGeom>
          <a:ln w="0">
            <a:noFill/>
          </a:ln>
        </p:spPr>
      </p:pic>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a:t>
            </a:r>
            <a:r>
              <a:rPr b="1" lang="en-US" sz="2800" spc="-1" strike="noStrike">
                <a:solidFill>
                  <a:srgbClr val="8ac8de"/>
                </a:solidFill>
                <a:latin typeface="Times New Roman"/>
                <a:ea typeface="宋体"/>
              </a:rPr>
              <a:t>(anorex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恐惧肥胖，关注体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饮食，控制体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常伴有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导致生理功能紊乱</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4" name="Picture 6" descr="C:\Users\Administrator\Desktop\101.jpg"/>
          <p:cNvPicPr/>
          <p:nvPr/>
        </p:nvPicPr>
        <p:blipFill>
          <a:blip r:embed="rId1"/>
          <a:stretch/>
        </p:blipFill>
        <p:spPr>
          <a:xfrm>
            <a:off x="6875640" y="3925800"/>
            <a:ext cx="1795320" cy="20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a:t>
            </a:r>
            <a:r>
              <a:rPr b="1" lang="en-US" sz="2800" spc="-1" strike="noStrike">
                <a:solidFill>
                  <a:srgbClr val="8ac8de"/>
                </a:solidFill>
                <a:latin typeface="Times New Roman"/>
                <a:ea typeface="宋体"/>
              </a:rPr>
              <a:t>(bulim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不可控制的暴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避免体重增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功能受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8" name="Picture 5" descr="C:\Users\Administrator\Desktop\7427ea2a0ea313fce12306.jpg"/>
          <p:cNvPicPr/>
          <p:nvPr/>
        </p:nvPicPr>
        <p:blipFill>
          <a:blip r:embed="rId1"/>
          <a:stretch/>
        </p:blipFill>
        <p:spPr>
          <a:xfrm>
            <a:off x="5392800" y="3789360"/>
            <a:ext cx="3151080" cy="23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的诊断标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的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62" name="Picture 5" descr="C:\Users\Administrator\Desktop\u=3464643624,3363063868&amp;fm=21&amp;gp=0.jpg"/>
          <p:cNvPicPr/>
          <p:nvPr/>
        </p:nvPicPr>
        <p:blipFill>
          <a:blip r:embed="rId1"/>
          <a:stretch/>
        </p:blipFill>
        <p:spPr>
          <a:xfrm>
            <a:off x="6012000" y="3716280"/>
            <a:ext cx="298116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病程和预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厌食症的病程常为慢性迁延性，有周期性缓解和复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贪食症呈慢性病程，症状可迁延数年，但在无电解质紊乱或代谢低下的并发症时，对患者的生命没有严重伤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6-01-04T07:56:47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