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8.png" ContentType="image/png"/>
  <Override PartName="/ppt/media/image13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4298-78DF-4D47-82F0-4707C17AA3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对症处理：骨质疏松症早期症状不明显。病情发展到一定阶段时可见疼痛、身长缩短、驼背、骨折、呼吸功能下降等。开应用止痛药、物理疗法、矫形器、背带等方法，缓解临床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．降低骨折发生率：康复护理最重要也是最终目标。减少患者接触外界作用力的可能，同时鼓励患者在能力范围内多运动，减少骨丢失。对已骨折的患者可采用牵引、固定、复位、或手术治疗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AD3B-E494-446E-BDDF-4CB9C26160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尽早采用适当的康复运动疗法，并长期坚持。积极参加户外活动，多晒太阳能，促进钙的吸收。但运动量不宜过大，防止人为造成骨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饮食搭配要合理，及时补充钙剂和有利于钙吸收的食品或药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避免不良嗜好，如吸烟、酗酒、喝过多的碳酸饮料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证充足睡眠，积极学习防止骨质疏松症发生及预防骨折的相关知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保持健康快乐的生活态度，乐观的面对每一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美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ɑstɪopə'rosɪs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英音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,ɔstiəupə'rəusis]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steoporosis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中文翻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下结果由 译典通提供词典解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名词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n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骨质疏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中、老年人性激素分泌减少是导致骨质疏松的重要原因之一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随年龄的增长，钙调节激素的分泌失调致使骨代谢紊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老年人由于牙齿脱落及消化功能降低，骨纳差，进食少，多种营养缺乏，致使蛋白质、钙、磷、维生素及微量元素摄入不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与骨质疏松症相关的基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649A-09D8-48F1-862E-F5F53947DC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7211-AB83-4223-B82C-010F071DEB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536C-B4E5-43E6-9F8A-FD93D900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F776-EE1E-4F0D-B240-765A0C8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16BB-E892-451A-9827-E90BCF928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7261-0594-4371-A738-83249D3A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B92C0-70C9-454C-8013-92F4E190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8882-0603-41FA-9E45-12B853B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32321-3C54-4E48-9156-FAEBED91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A09DA-557C-4A3B-80EF-D591C433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EB32F-259D-47DC-99DF-803A5949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5918-559E-4F08-BDDD-FE1B99E3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1E0A-42D0-4D39-BACE-FC9F180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420E-8600-47F4-8088-F34B480A06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1.xml"/><Relationship Id="rId16" Type="http://schemas.openxmlformats.org/officeDocument/2006/relationships/slide" Target="slide21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1.xml"/><Relationship Id="rId20" Type="http://schemas.openxmlformats.org/officeDocument/2006/relationships/slide" Target="slide21.xml"/><Relationship Id="rId21" Type="http://schemas.openxmlformats.org/officeDocument/2006/relationships/image" Target="../media/image5.png"/><Relationship Id="rId22" Type="http://schemas.openxmlformats.org/officeDocument/2006/relationships/slide" Target="slide2.xml"/><Relationship Id="rId23" Type="http://schemas.openxmlformats.org/officeDocument/2006/relationships/image" Target="../media/image6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5.png"/><Relationship Id="rId3" Type="http://schemas.openxmlformats.org/officeDocument/2006/relationships/slide" Target="slide36.xml"/><Relationship Id="rId4" Type="http://schemas.openxmlformats.org/officeDocument/2006/relationships/image" Target="../media/image5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3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6.xml"/><Relationship Id="rId8" Type="http://schemas.openxmlformats.org/officeDocument/2006/relationships/slide" Target="slide26.xml"/><Relationship Id="rId9" Type="http://schemas.openxmlformats.org/officeDocument/2006/relationships/slide" Target="slide26.xml"/><Relationship Id="rId10" Type="http://schemas.openxmlformats.org/officeDocument/2006/relationships/slide" Target="slide43.xml"/><Relationship Id="rId11" Type="http://schemas.openxmlformats.org/officeDocument/2006/relationships/slide" Target="slide43.xml"/><Relationship Id="rId12" Type="http://schemas.openxmlformats.org/officeDocument/2006/relationships/slide" Target="slide43.xml"/><Relationship Id="rId13" Type="http://schemas.openxmlformats.org/officeDocument/2006/relationships/image" Target="../media/image5.png"/><Relationship Id="rId14" Type="http://schemas.openxmlformats.org/officeDocument/2006/relationships/image" Target="../media/image6.gif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2565360"/>
            <a:ext cx="5473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十一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骨质疏松的康复护理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227640" y="5516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张红石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183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．一般情况及临床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骨痛分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．放射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．生化指标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5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．骨折评定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—VDS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指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3" action="ppaction://hlinksldjump"/>
              </a:rPr>
              <a:t>6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4" action="ppaction://hlinksldjump"/>
              </a:rPr>
              <a:t>．腰椎活动度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5" action="ppaction://hlinksldjump"/>
              </a:rPr>
              <a:t>7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6" action="ppaction://hlinksldjump"/>
              </a:rPr>
              <a:t>．腰背肌肌力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7" action="ppaction://hlinksldjump"/>
              </a:rPr>
              <a:t>8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8" action="ppaction://hlinksldjump"/>
              </a:rPr>
              <a:t>．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9" action="ppaction://hlinksldjump"/>
              </a:rPr>
              <a:t>ADL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0" action="ppaction://hlinksldjump"/>
              </a:rPr>
              <a:t>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143000" y="380880"/>
            <a:ext cx="6705000" cy="1371240"/>
            <a:chOff x="1143000" y="380880"/>
            <a:chExt cx="6705000" cy="1371240"/>
          </a:xfrm>
        </p:grpSpPr>
        <p:sp>
          <p:nvSpPr>
            <p:cNvPr id="173" name="AutoShape 5"/>
            <p:cNvSpPr/>
            <p:nvPr/>
          </p:nvSpPr>
          <p:spPr>
            <a:xfrm>
              <a:off x="1683360" y="61884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1143000" y="38088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012400" y="7297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复 评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1349280" y="62532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7" name="Picture 9" descr="1"/>
          <p:cNvPicPr/>
          <p:nvPr/>
        </p:nvPicPr>
        <p:blipFill>
          <a:blip r:embed="rId2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医生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一般情况及临床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3080"/>
            <a:ext cx="7620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质、营养、身体患病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方式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运动习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临床表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严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心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Picture 4" descr="文件名: j0429343.wmf&#13;关键字: 人, 体格检查, 保健 ...&#13;文件大小: 69 KB"/>
          <p:cNvPicPr/>
          <p:nvPr/>
        </p:nvPicPr>
        <p:blipFill>
          <a:blip r:embed="rId1"/>
          <a:stretch/>
        </p:blipFill>
        <p:spPr>
          <a:xfrm>
            <a:off x="5791320" y="37339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痛分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四级（口述分级）评分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剧痛，活动时疼痛无法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中度疼痛，活动时疼痛可以忍耐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轻度疼痛，活动时疼痛可以意识到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 无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5" name="Picture 4" descr="文件名: j0429353.wmf&#13;关键字: 人, 体格检查, 保健 ...&#13;文件大小: 89 KB"/>
          <p:cNvPicPr/>
          <p:nvPr/>
        </p:nvPicPr>
        <p:blipFill>
          <a:blip r:embed="rId1"/>
          <a:stretch/>
        </p:blipFill>
        <p:spPr>
          <a:xfrm>
            <a:off x="6400800" y="41911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5943600" y="19051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文件名: j0238409.wmf&#13;关键字: healthcare, medicine, radiography ...&#13;文件大小: 4 KB"/>
          <p:cNvPicPr/>
          <p:nvPr/>
        </p:nvPicPr>
        <p:blipFill>
          <a:blip r:embed="rId1"/>
          <a:stretch/>
        </p:blipFill>
        <p:spPr>
          <a:xfrm>
            <a:off x="6629400" y="3429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9120" y="35712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骨密度测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简称骨密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单位横径的平均骨矿含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反映大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骨强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诊断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预测骨质疏松性骨折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监测自然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－评价药物干预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Picture 4" descr="文件名: j0425330.jpg&#13;关键字: MRI, 保健, 医学影像 ...&#13;文件大小: 357 KB"/>
          <p:cNvPicPr/>
          <p:nvPr/>
        </p:nvPicPr>
        <p:blipFill>
          <a:blip r:embed="rId1"/>
          <a:stretch/>
        </p:blipFill>
        <p:spPr>
          <a:xfrm>
            <a:off x="6313320" y="299736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6095880" y="251460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5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70102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WHO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诊断骨质疏松的标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6492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骨密度值低于同性别、同种族健康成人骨峰值不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低下：降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降低程度等于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骨质疏松：骨密度降低程度符合骨质疏松  诊断标准，同时伴有一处或多处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9" name="Picture 4" descr="文件名: j0425260.jpg&#13;关键字: 保健, 照片, 科学 ...&#13;文件大小: 230 KB"/>
          <p:cNvPicPr/>
          <p:nvPr/>
        </p:nvPicPr>
        <p:blipFill>
          <a:blip r:embed="rId1"/>
          <a:stretch/>
        </p:blipFill>
        <p:spPr>
          <a:xfrm>
            <a:off x="7391520" y="50292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-score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值）表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≥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1.0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量减少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 &lt; 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&lt; -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值≤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2.5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的测量部位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~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SimSun-ExtB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股骨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2" name="Picture 4" descr="文件名: j0433893.png&#13;关键字: PNG, 体格检查, 保健 ...&#13;文件大小: 40 KB"/>
          <p:cNvPicPr/>
          <p:nvPr/>
        </p:nvPicPr>
        <p:blipFill>
          <a:blip r:embed="rId1"/>
          <a:stretch/>
        </p:blipFill>
        <p:spPr>
          <a:xfrm>
            <a:off x="6934320" y="4572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放射线检查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用于测量骨密度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X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定量超声波测量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Q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单光子吸收法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5638680" y="3124080"/>
            <a:ext cx="38124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172200" y="37339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5791320" y="4419720"/>
            <a:ext cx="38088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8" name="Picture 7" descr="文件名: j0425340.jpg&#13;关键字: X 射线, 保健, 照片 ...&#13;文件大小: 204 KB"/>
          <p:cNvPicPr/>
          <p:nvPr/>
        </p:nvPicPr>
        <p:blipFill>
          <a:blip r:embed="rId1"/>
          <a:stretch/>
        </p:blipFill>
        <p:spPr>
          <a:xfrm>
            <a:off x="6553080" y="3962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4726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生化指标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607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矿代谢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、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形成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碱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L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骨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G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胶原羧基末端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吸收指标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抗酒石酸酸性磷酸酶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RA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酸性磷酸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P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尿羟脯氨酸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H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尿中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Y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脱氧吡啶啉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P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性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、甲状旁腺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降钙素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Picture 4" descr="文件名: j0416442.wmf&#13;关键字: 化学, 器材, 学术 ...&#13;文件大小: 55 KB"/>
          <p:cNvPicPr/>
          <p:nvPr/>
        </p:nvPicPr>
        <p:blipFill>
          <a:blip r:embed="rId1"/>
          <a:stretch/>
        </p:blipFill>
        <p:spPr>
          <a:xfrm>
            <a:off x="731520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330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92aa2"/>
                </a:solidFill>
                <a:latin typeface="宋体"/>
                <a:ea typeface="宋体"/>
              </a:rPr>
              <a:t>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143000" y="1374840"/>
            <a:ext cx="6705000" cy="1368000"/>
            <a:chOff x="1143000" y="1374840"/>
            <a:chExt cx="6705000" cy="1368000"/>
          </a:xfrm>
        </p:grpSpPr>
        <p:sp>
          <p:nvSpPr>
            <p:cNvPr id="115" name="AutoShape 4"/>
            <p:cNvSpPr/>
            <p:nvPr/>
          </p:nvSpPr>
          <p:spPr>
            <a:xfrm>
              <a:off x="1683360" y="161244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1143000" y="137484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2012400" y="1722960"/>
              <a:ext cx="48621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 述</a:t>
              </a:r>
              <a:endParaRPr b="0" lang="en-US" sz="3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1314000" y="147024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1143000" y="2286000"/>
            <a:ext cx="6705000" cy="1371240"/>
            <a:chOff x="1143000" y="2286000"/>
            <a:chExt cx="6705000" cy="1371240"/>
          </a:xfrm>
        </p:grpSpPr>
        <p:sp>
          <p:nvSpPr>
            <p:cNvPr id="120" name="AutoShape 9"/>
            <p:cNvSpPr/>
            <p:nvPr/>
          </p:nvSpPr>
          <p:spPr>
            <a:xfrm>
              <a:off x="1683360" y="2523960"/>
              <a:ext cx="6164640" cy="91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8de"/>
                </a:gs>
                <a:gs pos="50000">
                  <a:srgbClr val="e6f3f8"/>
                </a:gs>
                <a:gs pos="100000">
                  <a:srgbClr val="8ac8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AutoShape 10"/>
            <p:cNvSpPr/>
            <p:nvPr/>
          </p:nvSpPr>
          <p:spPr>
            <a:xfrm>
              <a:off x="1143000" y="2286000"/>
              <a:ext cx="973080" cy="137124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2012400" y="263484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、康  复  评  定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1365480" y="253044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wo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1143000" y="3124080"/>
            <a:ext cx="6705000" cy="1523520"/>
            <a:chOff x="1143000" y="3124080"/>
            <a:chExt cx="6705000" cy="1523520"/>
          </a:xfrm>
        </p:grpSpPr>
        <p:sp>
          <p:nvSpPr>
            <p:cNvPr id="125" name="AutoShape 14"/>
            <p:cNvSpPr/>
            <p:nvPr/>
          </p:nvSpPr>
          <p:spPr>
            <a:xfrm>
              <a:off x="1683360" y="3388680"/>
              <a:ext cx="616464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15"/>
            <p:cNvSpPr/>
            <p:nvPr/>
          </p:nvSpPr>
          <p:spPr>
            <a:xfrm>
              <a:off x="1143000" y="31240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2012400" y="35118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1293480" y="33782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1143000" y="4114800"/>
            <a:ext cx="6705000" cy="1447200"/>
            <a:chOff x="1143000" y="4114800"/>
            <a:chExt cx="6705000" cy="1447200"/>
          </a:xfrm>
        </p:grpSpPr>
        <p:sp>
          <p:nvSpPr>
            <p:cNvPr id="130" name="AutoShape 19"/>
            <p:cNvSpPr/>
            <p:nvPr/>
          </p:nvSpPr>
          <p:spPr>
            <a:xfrm>
              <a:off x="1683360" y="4366080"/>
              <a:ext cx="616464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AutoShape 20"/>
            <p:cNvSpPr/>
            <p:nvPr/>
          </p:nvSpPr>
          <p:spPr>
            <a:xfrm>
              <a:off x="1143000" y="4114800"/>
              <a:ext cx="97308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 Box 21"/>
            <p:cNvSpPr/>
            <p:nvPr/>
          </p:nvSpPr>
          <p:spPr>
            <a:xfrm>
              <a:off x="2012400" y="448308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 Box 22"/>
            <p:cNvSpPr/>
            <p:nvPr/>
          </p:nvSpPr>
          <p:spPr>
            <a:xfrm>
              <a:off x="1348560" y="436320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4" name="Picture 23" descr="1">
            <a:hlinkClick r:id="rId1" action="ppaction://hlinksldjump"/>
          </p:cNvPr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7086600" y="36529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1">
            <a:hlinkClick r:id="rId3" action="ppaction://hlinksldjump"/>
          </p:cNvPr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7086600" y="457200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1">
            <a:hlinkClick r:id="rId5" action="ppaction://hlinksldjump"/>
          </p:cNvPr>
          <p:cNvPicPr/>
          <p:nvPr/>
        </p:nvPicPr>
        <p:blipFill>
          <a:blip r:embed="rId6"/>
          <a:srcRect l="42620" t="64489" r="19467" b="0"/>
          <a:stretch/>
        </p:blipFill>
        <p:spPr>
          <a:xfrm>
            <a:off x="7086600" y="2738520"/>
            <a:ext cx="576360" cy="690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6" descr="1">
            <a:hlinkClick r:id="rId7" action="ppaction://hlinksldjump"/>
          </p:cNvPr>
          <p:cNvPicPr/>
          <p:nvPr/>
        </p:nvPicPr>
        <p:blipFill>
          <a:blip r:embed="rId8"/>
          <a:srcRect l="42620" t="64489" r="19467" b="0"/>
          <a:stretch/>
        </p:blipFill>
        <p:spPr>
          <a:xfrm>
            <a:off x="7086600" y="17524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骨折评定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VDS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对每一椎体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4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的变形进行评估，根据变形的程度分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级，即每一椎体前中后高度的改变进行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锥体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终板变形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下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楔形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（高度减少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以上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33480" indent="-533520">
              <a:lnSpc>
                <a:spcPct val="115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行压缩骨折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级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6" name="Picture 4" descr="文件名: j0198964.wmf&#13;关键字: boys, checkups, children ...&#13;文件大小: 61 KB"/>
          <p:cNvPicPr/>
          <p:nvPr/>
        </p:nvPicPr>
        <p:blipFill>
          <a:blip r:embed="rId1"/>
          <a:stretch/>
        </p:blipFill>
        <p:spPr>
          <a:xfrm>
            <a:off x="716292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其它康复护理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6600" y="1523520"/>
            <a:ext cx="8466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椎活动度评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33480" indent="-533520">
              <a:lnSpc>
                <a:spcPct val="13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坐位或站位，前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后伸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旋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左、右侧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腰背肌肌力的评定：主要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M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评定：见康复评定方法，第三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常生活活动能力评定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4" descr="文件名: j0199911.wmf&#13;关键字: barbells, dumbbells, exercise equipment ...&#13;文件大小: 8 KB"/>
          <p:cNvPicPr/>
          <p:nvPr/>
        </p:nvPicPr>
        <p:blipFill>
          <a:blip r:embed="rId1"/>
          <a:stretch/>
        </p:blipFill>
        <p:spPr>
          <a:xfrm>
            <a:off x="762012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康复护理措施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（一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的康复护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（二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的康复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（三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9" action="ppaction://hlinksldjump"/>
              </a:rPr>
              <a:t>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0" action="ppaction://hlinksldjump"/>
              </a:rPr>
              <a:t>（四）</a:t>
            </a: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1" action="ppaction://hlinksldjump"/>
              </a:rPr>
              <a:t>OP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2" action="ppaction://hlinksldjump"/>
              </a:rPr>
              <a:t>继发骨折的康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219320" y="380880"/>
            <a:ext cx="6704640" cy="1523520"/>
            <a:chOff x="1219320" y="380880"/>
            <a:chExt cx="6704640" cy="1523520"/>
          </a:xfrm>
        </p:grpSpPr>
        <p:sp>
          <p:nvSpPr>
            <p:cNvPr id="225" name="AutoShape 5"/>
            <p:cNvSpPr/>
            <p:nvPr/>
          </p:nvSpPr>
          <p:spPr>
            <a:xfrm>
              <a:off x="1759680" y="645480"/>
              <a:ext cx="6164280" cy="101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219320" y="380880"/>
              <a:ext cx="973080" cy="15235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7"/>
            <p:cNvSpPr/>
            <p:nvPr/>
          </p:nvSpPr>
          <p:spPr>
            <a:xfrm>
              <a:off x="2088720" y="76860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三、康复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1352160" y="63504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hre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29" name="Picture 9" descr="1"/>
          <p:cNvPicPr/>
          <p:nvPr/>
        </p:nvPicPr>
        <p:blipFill>
          <a:blip r:embed="rId13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医生"/>
          <p:cNvPicPr/>
          <p:nvPr/>
        </p:nvPicPr>
        <p:blipFill>
          <a:blip r:embed="rId14"/>
          <a:stretch/>
        </p:blipFill>
        <p:spPr>
          <a:xfrm>
            <a:off x="6172200" y="2514600"/>
            <a:ext cx="261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强调三级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一级预防：健康生活方式，未病先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二级预防：有危险因素时，预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三级预防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应防止进一步发展，如骨折、骨痛、椎体变形等。对已有骨折的患者应及时处理骨折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3" name="Picture 4" descr="文件名: j0422204.jpg&#13;关键字: 人, 保健, 医师 ...&#13;文件大小: 179 KB"/>
          <p:cNvPicPr/>
          <p:nvPr/>
        </p:nvPicPr>
        <p:blipFill>
          <a:blip r:embed="rId1"/>
          <a:stretch/>
        </p:blipFill>
        <p:spPr>
          <a:xfrm>
            <a:off x="7162920" y="472428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康复护理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应用止痛药、物理疗法、矫形器、背带等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降低骨折发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患者接触外界作用力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者在能力范围内多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已骨折的患者可采用牵引、固定、复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手术治疗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6" name="Picture 4" descr="文件名: j0424358.jpg&#13;关键字: 人, 夏季, 女人 ...&#13;文件大小: 219 KB"/>
          <p:cNvPicPr/>
          <p:nvPr/>
        </p:nvPicPr>
        <p:blipFill>
          <a:blip r:embed="rId1"/>
          <a:stretch/>
        </p:blipFill>
        <p:spPr>
          <a:xfrm>
            <a:off x="6705720" y="4343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二）康复护理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解疼痛，提高生存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控制病情发展，减少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防止废用综合征，降低病死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测继发性骨折的发生，防止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Picture 4" descr="文件名: j0422742.jpg&#13;关键字: 人, 保健, 医生 ...&#13;文件大小: 154 KB"/>
          <p:cNvPicPr/>
          <p:nvPr/>
        </p:nvPicPr>
        <p:blipFill>
          <a:blip r:embed="rId1"/>
          <a:stretch/>
        </p:blipFill>
        <p:spPr>
          <a:xfrm>
            <a:off x="6643800" y="42861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营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均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食蛋白质：每日半斤以上牛奶（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mg/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含钙丰富的食物，蔬菜和水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充足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盐、少吃腌制食物，减少钙质流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运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握力锻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耐力运动（有氧运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肢外展等长收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肢后伸等长运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躯干伸肌过伸等长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11040"/>
            <a:ext cx="81835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步行训练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0920" y="1371240"/>
            <a:ext cx="79232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每日步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，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为宜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k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合老年骨质疏松患者，能防治下肢及脊柱的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本学者发现，每日步行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步则骨量下降，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步则骨量增加不明显，而两者之间则骨量明显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文件名: j0429499.wmf&#13;关键字: 人, 体育馆, 健康状况 ...&#13;文件大小: 61 KB"/>
          <p:cNvPicPr/>
          <p:nvPr/>
        </p:nvPicPr>
        <p:blipFill>
          <a:blip r:embed="rId1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1526760"/>
            <a:ext cx="8183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物理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原则：温热法疗为主，促进骨愈合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常用高频热疗，如超短波、微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疼痛明显者可用中频电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合并骨折急性期者应采用冷热交替的理疗方法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还可采用光疗、超声疗法、离子导入疗法、磁疗法等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6920" y="1549440"/>
            <a:ext cx="705492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1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2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 action="ppaction://hlinksldjump"/>
              </a:rPr>
              <a:t>3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6" action="ppaction://hlinksldjump"/>
              </a:rPr>
              <a:t>病因与发病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7" action="ppaction://hlinksldjump"/>
              </a:rPr>
              <a:t>4.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8" action="ppaction://hlinksldjump"/>
              </a:rPr>
              <a:t>主要症状与体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医生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867280" y="1676520"/>
            <a:ext cx="261324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5"/>
          <p:cNvGrpSpPr/>
          <p:nvPr/>
        </p:nvGrpSpPr>
        <p:grpSpPr>
          <a:xfrm>
            <a:off x="1143000" y="457200"/>
            <a:ext cx="6705000" cy="1368000"/>
            <a:chOff x="1143000" y="457200"/>
            <a:chExt cx="6705000" cy="1368000"/>
          </a:xfrm>
        </p:grpSpPr>
        <p:sp>
          <p:nvSpPr>
            <p:cNvPr id="142" name="AutoShape 6"/>
            <p:cNvSpPr/>
            <p:nvPr/>
          </p:nvSpPr>
          <p:spPr>
            <a:xfrm>
              <a:off x="1683360" y="694800"/>
              <a:ext cx="6164640" cy="91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9b"/>
                </a:gs>
                <a:gs pos="50000">
                  <a:srgbClr val="e9dfea"/>
                </a:gs>
                <a:gs pos="100000">
                  <a:srgbClr val="99669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>
              <a:off x="1143000" y="457200"/>
              <a:ext cx="973080" cy="136800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>
              <a:off x="2012400" y="805320"/>
              <a:ext cx="486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、概     述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1314000" y="552600"/>
              <a:ext cx="59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one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46" name="Picture 10" descr="1"/>
          <p:cNvPicPr/>
          <p:nvPr/>
        </p:nvPicPr>
        <p:blipFill>
          <a:blip r:embed="rId1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7960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活环境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全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装光线要充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地面干燥、无障碍物，地毯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穿防滑、有底纹、有弹性的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不稳者应配以合适的助行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3" name="Picture 4" descr="文件名: j0420812.wmf&#13;关键字: 人, 保健, 儿子 ...&#13;文件大小: 112 KB"/>
          <p:cNvPicPr/>
          <p:nvPr/>
        </p:nvPicPr>
        <p:blipFill>
          <a:blip r:embed="rId1"/>
          <a:stretch/>
        </p:blipFill>
        <p:spPr>
          <a:xfrm>
            <a:off x="6934320" y="4572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作业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其身体状况作出全面评定后，有目的、有针对性地从日常生活、职业劳动、认知活动中选择一些进行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确的姿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位：硬床垫、低的枕头，使背部肌肉保持挺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站立：肩膀要向后伸展，挺直腰部并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：双足触地，挺腰收颈，椅高及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：近年来人们逐渐认识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心理状况与病情发展有着密切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胸宽广、心情愉快、性格豁达者症状较轻、疗效较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之则不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药物疗法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选用抑制骨吸收、促进骨形成两类药物，如雌激素、孕激素、骨生长因子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前列腺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应用要求：尽早用药、长期用药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文件名: j0424682.wmf&#13;关键字: 保健, 图标, 符号 ...&#13;文件大小: 4 KB"/>
          <p:cNvPicPr/>
          <p:nvPr/>
        </p:nvPicPr>
        <p:blipFill>
          <a:blip r:embed="rId1"/>
          <a:stretch/>
        </p:blipFill>
        <p:spPr>
          <a:xfrm>
            <a:off x="7467480" y="5181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115"/>
          <p:cNvPicPr/>
          <p:nvPr/>
        </p:nvPicPr>
        <p:blipFill>
          <a:blip r:embed="rId2"/>
          <a:stretch/>
        </p:blipFill>
        <p:spPr>
          <a:xfrm>
            <a:off x="75438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文件名: j0286861.wmf&#13;关键字: healthcare, injections, medical equipment ...&#13;文件大小: 57 KB"/>
          <p:cNvPicPr/>
          <p:nvPr/>
        </p:nvPicPr>
        <p:blipFill>
          <a:blip r:embed="rId3"/>
          <a:stretch/>
        </p:blipFill>
        <p:spPr>
          <a:xfrm>
            <a:off x="6477120" y="518148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传统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灸、推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太极拳、气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药内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熏洗、外敷塌渍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文件名: j0421562.wmf&#13;关键字: 中药, 亚洲的, 粘土坩埚 ...&#13;文件大小: 40 KB"/>
          <p:cNvPicPr/>
          <p:nvPr/>
        </p:nvPicPr>
        <p:blipFill>
          <a:blip r:embed="rId1"/>
          <a:stretch/>
        </p:blipFill>
        <p:spPr>
          <a:xfrm>
            <a:off x="61722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三）骨质疏松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矫形器和腰围佩戴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，佩戴合适的矫形器和腰围可以缓解疼痛、矫正姿势、预防骨折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矫形器的选用详见康复工程章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腰围既限制脊柱的过度屈伸，又使其能自如地侧弯及旋转，预防椎体出现压缩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文件名: j0286865.wmf&#13;关键字: crutches, healthcare, injuries ...&#13;文件大小: 66 KB"/>
          <p:cNvPicPr/>
          <p:nvPr/>
        </p:nvPicPr>
        <p:blipFill>
          <a:blip r:embed="rId1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logo"/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64008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选择合理健康的生活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教会患者如何预防骨折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积极治疗与骨质疏松有关的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990720" y="380880"/>
            <a:ext cx="6933240" cy="1447200"/>
            <a:chOff x="990720" y="380880"/>
            <a:chExt cx="6933240" cy="1447200"/>
          </a:xfrm>
        </p:grpSpPr>
        <p:sp>
          <p:nvSpPr>
            <p:cNvPr id="272" name="AutoShape 5"/>
            <p:cNvSpPr/>
            <p:nvPr/>
          </p:nvSpPr>
          <p:spPr>
            <a:xfrm>
              <a:off x="1549440" y="632160"/>
              <a:ext cx="6374520" cy="964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990720" y="380880"/>
              <a:ext cx="1006200" cy="14472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1890000" y="749160"/>
              <a:ext cx="502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46ca6"/>
                  </a:solidFill>
                  <a:latin typeface="Times New Roman"/>
                  <a:ea typeface="黑体"/>
                </a:rPr>
                <a:t>四、康复教育指导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8"/>
            <p:cNvSpPr/>
            <p:nvPr/>
          </p:nvSpPr>
          <p:spPr>
            <a:xfrm>
              <a:off x="1193760" y="629280"/>
              <a:ext cx="57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four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76" name="Picture 9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086600" y="838080"/>
            <a:ext cx="576360" cy="6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" descr="医生"/>
          <p:cNvPicPr/>
          <p:nvPr/>
        </p:nvPicPr>
        <p:blipFill>
          <a:blip r:embed="rId2"/>
          <a:stretch/>
        </p:blipFill>
        <p:spPr>
          <a:xfrm>
            <a:off x="6248520" y="1676520"/>
            <a:ext cx="2350800" cy="3429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100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选择合理健康的生活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83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尽早采用适当的康复运动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饮食搭配要合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避免不良嗜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证充足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学习预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保持健康乐观的生活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1" name="Picture 4" descr="文件名: j0433795.png&#13;关键字: PNG, 不, 不允许的 ...&#13;文件大小: 40 KB"/>
          <p:cNvPicPr/>
          <p:nvPr/>
        </p:nvPicPr>
        <p:blipFill>
          <a:blip r:embed="rId1"/>
          <a:stretch/>
        </p:blipFill>
        <p:spPr>
          <a:xfrm>
            <a:off x="6781680" y="4495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logo"/>
          <p:cNvPicPr/>
          <p:nvPr/>
        </p:nvPicPr>
        <p:blipFill>
          <a:blip r:embed="rId2"/>
          <a:stretch/>
        </p:blipFill>
        <p:spPr>
          <a:xfrm>
            <a:off x="533520" y="533412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-1717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教会患者如何预防骨折发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药物预防：雌激素等。不可滥用药物，尤其是利尿药、四环素、抗癌药等，可影响骨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环境预防：减少引起骨折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运动预防：尽量避免卧床，多活动，及时给予被动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康复工程预防：佩戴矫形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4" descr="文件名: j0281280.wmf&#13;关键字: healthcare, medical equipment, medicines ...&#13;文件大小: 37 KB"/>
          <p:cNvPicPr/>
          <p:nvPr/>
        </p:nvPicPr>
        <p:blipFill>
          <a:blip r:embed="rId1"/>
          <a:stretch/>
        </p:blipFill>
        <p:spPr>
          <a:xfrm>
            <a:off x="7227720" y="478944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．积极治疗与</a:t>
            </a:r>
            <a:r>
              <a:rPr b="0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OP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有关的疾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可引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糖尿病、类风湿关节炎、慢性肾炎、甲状腺功能亢进、骨转移瘤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积极治疗由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的相关病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骨折、脊柱变形、疼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4" descr="文件名: j0280302.wmf&#13;关键字: joggers, leisure, males ...&#13;文件大小: 23 KB"/>
          <p:cNvPicPr/>
          <p:nvPr/>
        </p:nvPicPr>
        <p:blipFill>
          <a:blip r:embed="rId1"/>
          <a:stretch/>
        </p:blipFill>
        <p:spPr>
          <a:xfrm>
            <a:off x="7010280" y="46483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logo"/>
          <p:cNvPicPr/>
          <p:nvPr/>
        </p:nvPicPr>
        <p:blipFill>
          <a:blip r:embed="rId2"/>
          <a:stretch/>
        </p:blipFill>
        <p:spPr>
          <a:xfrm>
            <a:off x="457200" y="5486400"/>
            <a:ext cx="63828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18352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6794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质疏松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steoporosis, 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以骨组织显微结构受损，骨矿成分和骨基质等比例减少，骨质变薄，骨小梁数量减少，骨脆性增加和骨折危险度升高为特征的一种全身骨代谢障碍性疾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文件名: j0434880.png&#13;关键字: PNG, 人, 保健 ...&#13;文件大小: 38 KB"/>
          <p:cNvPicPr/>
          <p:nvPr/>
        </p:nvPicPr>
        <p:blipFill>
          <a:blip r:embed="rId3"/>
          <a:stretch/>
        </p:blipFill>
        <p:spPr>
          <a:xfrm>
            <a:off x="6781680" y="45720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82296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2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70640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5%</a:t>
            </a:r>
            <a:r>
              <a:rPr b="1" lang="en-US" sz="2800" spc="-1" strike="noStrike">
                <a:solidFill>
                  <a:srgbClr val="000000"/>
                </a:solidFill>
                <a:latin typeface="Traditional Arabic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绝经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－老年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继发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发性骨质疏松症：多见于儿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4" descr="文件名: j0436323.png&#13;关键字: PNG, 万圣节, 保健 ...&#13;文件大小: 20 KB"/>
          <p:cNvPicPr/>
          <p:nvPr/>
        </p:nvPicPr>
        <p:blipFill>
          <a:blip r:embed="rId1"/>
          <a:stretch/>
        </p:blipFill>
        <p:spPr>
          <a:xfrm>
            <a:off x="6153120" y="1554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logo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与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3476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激素分泌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要原因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调节激素的分泌失调：降钙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甲状旁腺素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、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营养物质吸收、摄入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的基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7" name="Picture 4" descr="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57200"/>
            <a:ext cx="637920" cy="771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文件名: j0199103.wmf&#13;关键字: healthcare, medications, medicine ...&#13;文件大小: 16 KB"/>
          <p:cNvPicPr/>
          <p:nvPr/>
        </p:nvPicPr>
        <p:blipFill>
          <a:blip r:embed="rId3"/>
          <a:stretch/>
        </p:blipFill>
        <p:spPr>
          <a:xfrm>
            <a:off x="640080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733920" y="1905120"/>
            <a:ext cx="4876560" cy="3809880"/>
          </a:xfrm>
          <a:prstGeom prst="borderCallout1">
            <a:avLst>
              <a:gd name="adj1" fmla="val 18750"/>
              <a:gd name="adj2" fmla="val -8333"/>
              <a:gd name="adj3" fmla="val -2000"/>
              <a:gd name="adj4" fmla="val -21810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最常见的症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腰背酸痛或周身疼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负荷增加时疼痛加重或活动受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严重时翻身、起坐及行走有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5" descr="文件名: j0438751.jpg&#13;关键字: Fotolia, X 光线照相术, 人类 ...&#13;文件大小: 462 KB&#13;提供商: Fotolia.com"/>
          <p:cNvPicPr/>
          <p:nvPr/>
        </p:nvPicPr>
        <p:blipFill>
          <a:blip r:embed="rId1"/>
          <a:stretch/>
        </p:blipFill>
        <p:spPr>
          <a:xfrm>
            <a:off x="533520" y="45720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657600" y="2666880"/>
            <a:ext cx="4648320" cy="3276720"/>
          </a:xfrm>
          <a:prstGeom prst="borderCallout1">
            <a:avLst>
              <a:gd name="adj1" fmla="val 18750"/>
              <a:gd name="adj2" fmla="val -8333"/>
              <a:gd name="adj3" fmla="val -2324"/>
              <a:gd name="adj4" fmla="val -8472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身高缩短和驼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椎体压缩性骨折会导致胸廓畸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腹部受压，影响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隶书"/>
                <a:ea typeface="隶书"/>
              </a:rPr>
              <a:t>心肺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5" descr="文件名: j0438791.jpg&#13;关键字: Fotolia, X 光线照相术, 人类 ...&#13;文件大小: 769 KB&#13;提供商: Fotolia.com"/>
          <p:cNvPicPr/>
          <p:nvPr/>
        </p:nvPicPr>
        <p:blipFill>
          <a:blip r:embed="rId1"/>
          <a:stretch/>
        </p:blipFill>
        <p:spPr>
          <a:xfrm>
            <a:off x="6094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4.OP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与体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48896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脊柱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3124080" y="3200400"/>
            <a:ext cx="5410440" cy="3124080"/>
          </a:xfrm>
          <a:prstGeom prst="borderCallout1">
            <a:avLst>
              <a:gd name="adj1" fmla="val 18750"/>
              <a:gd name="adj2" fmla="val -8333"/>
              <a:gd name="adj3" fmla="val -2439"/>
              <a:gd name="adj4" fmla="val -12351"/>
            </a:avLst>
          </a:prstGeom>
          <a:solidFill>
            <a:srgbClr val="8ac8de"/>
          </a:solidFill>
          <a:ln w="63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脆性骨折：指轻度外伤或日常活  动后发生的骨折，常见部位为肋骨、腰椎、髋部以及桡、尺骨远端和肱骨的近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脊柱压缩性骨折：多见于绝经后骨质疏松患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髋部骨折：以老年性骨质疏松患者多见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0" name="Picture 5" descr="文件名: j0422272.jpg&#13;关键字: 人, 保健, 医师 ...&#13;文件大小: 250 KB"/>
          <p:cNvPicPr/>
          <p:nvPr/>
        </p:nvPicPr>
        <p:blipFill>
          <a:blip r:embed="rId1"/>
          <a:stretch/>
        </p:blipFill>
        <p:spPr>
          <a:xfrm>
            <a:off x="838080" y="43434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2:03:40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