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2B0B-7E58-4420-8E94-25C0C91CF33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3E28-6550-4FF2-9612-AEF3894A23A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01A7-0FC0-4AA7-8A48-C62550F7CF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66F7D-3DE1-49DE-B2EE-19A6AAF8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9C568-B2DA-4427-A1F2-39B02F32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D1E1-6D7C-4F72-A18C-EFA8FFAB57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6C20-34B5-4ECA-B30D-EA7858C7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A621-3AB7-49B5-8599-478D6DB7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831E-3908-4749-B1A6-EB0E36CE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8B92F-F10E-490A-840A-4EE8C2FB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EE80A-2F22-41DD-9300-8BAAD418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3757B-408E-436B-8F41-55626122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7FE6-0A31-4660-A59B-D176F42D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11EA-2E33-4746-A5C6-AED89535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8AAA-D17C-4291-93CC-3418550C1E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6329160" cy="11430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七节   关节炎的康复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084720" y="5445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杨晓莲</a:t>
            </a:r>
            <a:r>
              <a:rPr b="1" lang="zh-CN" sz="36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136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缓解期的康复护理：改善关节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通过徒手锻炼或利用各种康复器械进 行关节功能训练。利用器械的重力、阻力、牵拉力、杠杆作用或惯性作用以增强肌力，增大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OM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①关节体操； ②肌力练习；③有氧运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康复工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作业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70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功能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培养正确的生活和工作方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做好宣教工作：加强肌肉锻炼、钙制剂的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充、雌激素替代、营养的合理搭配等方面都是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和治疗骨性关节炎的有效方法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281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类风湿性关节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类风湿关节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heumatoid arthr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A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是一种非特异性炎症，是以慢性、对称性、多发性关节炎为特征的一种全身性的结缔组织疾病。本病好发于女性，男女比例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: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年龄为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全身关节均可受累，尤其以掌指关节、近端指间关节和足趾关节为多见，有的以侵犯脊柱关节为主，也可累及肩、肘、腕、膝、踝等关节以及关节外的组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53720" y="1268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疼痛、肿胀：为主要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关节活动受限：后期可引起关节畸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5" descr="3G$ROO6Z[S[PXITGIFM~G70"/>
          <p:cNvPicPr/>
          <p:nvPr/>
        </p:nvPicPr>
        <p:blipFill>
          <a:blip r:embed="rId1"/>
          <a:stretch/>
        </p:blipFill>
        <p:spPr>
          <a:xfrm>
            <a:off x="1263600" y="3284640"/>
            <a:ext cx="3038400" cy="2381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AKKH}_}NQC_AXQZ{(A{QC$3"/>
          <p:cNvPicPr/>
          <p:nvPr/>
        </p:nvPicPr>
        <p:blipFill>
          <a:blip r:embed="rId2"/>
          <a:stretch/>
        </p:blipFill>
        <p:spPr>
          <a:xfrm>
            <a:off x="4788000" y="3159000"/>
            <a:ext cx="309564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5280" y="1988640"/>
            <a:ext cx="74674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肌力降低：疼痛、制动可使附近肌肉肌力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降低：疼痛、活动受限及疾病后期造成的关节畸形等可影响患者的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炎症活动性的评定：晨僵（持续时间）、疲劳感（出现时间）、疼痛程度（缓解疼痛所需药物种类、用量）、肌力（主要检查握力，用血压计式握力计测定）、红细胞沉降率、关节炎（肿胀关节数及程度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RO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评定：用小型半圆规量角器和分规进行测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评定：国际惯用的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级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和社会因素评定：焦虑、抑郁等心理反应，对工作及家庭的影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残疾评定：美国风湿协会提供的标准将其分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4678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急性期（活动期）：以休息、药物、理疗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活动期患者需完全卧床休息 ，不超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采取正确的体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抗风湿药的选用：首选非甾体抗炎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00000" y="11253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慢性期（稳定期）：关节疼痛减轻，以关节挛缩、僵硬、活动受限为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和作业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推拿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矫形器及辅助用具的应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412640"/>
            <a:ext cx="748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预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积极控制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加强对危险因素的干预，减少发病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指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参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家庭关怀和社会支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适当的运动锻炼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993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强制性脊柱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义：强直性脊柱炎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nkylosing spondeeliti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S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为脊柱各关节包括骶髂关节、关节突关节、椎间韧带、肋椎关节及关节周围组织、跟腱、筋膜和肋间肌的慢性、进行性、侵袭性炎症，至晚期，各关节发生骨性融合，韧带骨化，脊柱呈强直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本病与遗传因素有关，有明显家族史，男性多于女性，男∶女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=10: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好发于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6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青壮年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858960" y="1212840"/>
            <a:ext cx="30970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ook Antiqua"/>
                <a:ea typeface="宋体"/>
              </a:rPr>
              <a:t>一、骨性关节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11280" y="2492280"/>
            <a:ext cx="7921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定义：骨性关节炎（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osteoarthritis, OA )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是一种常见的、缓慢发展的慢性退行性关节炎，又称为骨性关节病、增生性关节炎、退行性关节病等，是关节软骨退行性变和继发性骨质增生而导致的一种慢性、不对称的非炎症性疾病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表现：脊柱竹节样变为本病特征性表现之一。早期骶髂关节最易受累，呈现骶髂关节炎改变；中期胸、腰椎呈方形变；晚期由于椎体间的纤维环，前、后纵韧带发生骨化，而形成典型的竹节样脊柱，导致骨性融合，椎体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检查：可早期发现骶髂关节轻微的变化，适于本病的早期诊断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684360" y="1557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6" descr="896_22~1"/>
          <p:cNvPicPr/>
          <p:nvPr/>
        </p:nvPicPr>
        <p:blipFill>
          <a:blip r:embed="rId1"/>
          <a:stretch/>
        </p:blipFill>
        <p:spPr>
          <a:xfrm>
            <a:off x="252360" y="1554120"/>
            <a:ext cx="468000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1619280" y="5084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骶髂关节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9" descr="U_6003~1"/>
          <p:cNvPicPr/>
          <p:nvPr/>
        </p:nvPicPr>
        <p:blipFill>
          <a:blip r:embed="rId2"/>
          <a:stretch/>
        </p:blipFill>
        <p:spPr>
          <a:xfrm>
            <a:off x="5256360" y="148284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5867280" y="5291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竹节样改变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13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主要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疼痛：缓慢出现疼痛，开始时为两侧骶髂关节、腰臀和髋部疼痛及活动受限，腰骶部僵硬感，阴天、活动劳累后加重，休息或遇热后减轻。晨起时脊柱僵硬，起床活动后可略有缓解。逐渐变为持续性，并波及胸椎和颈椎，可出现一侧或双侧坐骨神经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539640" y="1413000"/>
            <a:ext cx="806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脊柱活动受限：早期晨起时脊柱僵硬感，活动后逐渐缓解；病至后期出现腰、胸、颈椎活动受限，驼背畸形，髋、膝、踝关节畸形强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心肺功能下降：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S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可出现关节外表现，如复发性虹膜炎，心脏、肺部病变等，尤其是病至晚期心肺受累，再加之胸廓的变化，导致心肺功能下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9" name="Picture 5" descr="U_3626~1"/>
          <p:cNvPicPr/>
          <p:nvPr/>
        </p:nvPicPr>
        <p:blipFill>
          <a:blip r:embed="rId1"/>
          <a:stretch/>
        </p:blipFill>
        <p:spPr>
          <a:xfrm>
            <a:off x="2843280" y="4221000"/>
            <a:ext cx="3209760" cy="20955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7"/>
          <p:cNvSpPr/>
          <p:nvPr/>
        </p:nvSpPr>
        <p:spPr>
          <a:xfrm>
            <a:off x="3059280" y="5516640"/>
            <a:ext cx="1800000" cy="976320"/>
          </a:xfrm>
          <a:prstGeom prst="upArrow">
            <a:avLst>
              <a:gd name="adj1" fmla="val 68611"/>
              <a:gd name="adj2" fmla="val 2601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评定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发病期和炎症活动期的分析：疼痛加重，并可出现发热、疲劳、食欲下降等全身症状。关节外表现：出现虹膜炎、红细胞沉降率加快。病变程度主要靠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线检查，早期为双侧骶髂关节侵蚀，晚期椎突关节消失，椎旁韧带钙化呈竹节样改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脊柱关节活动度的评定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Schober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心肺功能的评测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评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640" y="1773000"/>
            <a:ext cx="73454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康复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康复护理目标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控制炎症，缓解症状。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防止脊柱、髋关节僵直畸形，保持关节处于最佳功能位置。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避免治疗所致副作用的发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467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早期或疾病活动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应用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晚期或症状缓解期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注意坐卧姿势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AD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训练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心理护理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康复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加强早期诊断、治疗的观念，以减少治疗的难度和复杂性，降低致残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病程和预后，认识治疗的意义及长期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了解药物的作用和副作用及其处理办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认识正确的行为和医疗体育的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6560" y="1483920"/>
            <a:ext cx="8785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疼痛：劳累后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痛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度活动后或负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疼痛加剧，如上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时或下蹲起立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休息后疼痛减轻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0%6W3%1LVD$QJJ}JPCRYN)O"/>
          <p:cNvPicPr/>
          <p:nvPr/>
        </p:nvPicPr>
        <p:blipFill>
          <a:blip r:embed="rId1"/>
          <a:stretch/>
        </p:blipFill>
        <p:spPr>
          <a:xfrm>
            <a:off x="5076720" y="3645000"/>
            <a:ext cx="3241800" cy="25923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2484360" y="260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（一）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684360" y="1413000"/>
            <a:ext cx="7632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僵硬：发病初期，晨起时或久坐起立时出现髋、膝部僵硬、活动不便与酸痛不适，持续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，活动后好转。晚期症状加重，间歇期变短，僵硬时间延长，可为持续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功能障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随着患者病情的进展及活动量的减少，出现受累关节周围肌肉的失用性萎缩、关节畸形，最终导致功能障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042920" y="234936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990882~1"/>
          <p:cNvPicPr/>
          <p:nvPr/>
        </p:nvPicPr>
        <p:blipFill>
          <a:blip r:embed="rId1"/>
          <a:stretch/>
        </p:blipFill>
        <p:spPr>
          <a:xfrm>
            <a:off x="1042920" y="671400"/>
            <a:ext cx="6480360" cy="5545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340000" y="566100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1258920" y="5016600"/>
            <a:ext cx="6049800" cy="1191240"/>
          </a:xfrm>
          <a:prstGeom prst="rect">
            <a:avLst/>
          </a:prstGeom>
          <a:solidFill>
            <a:srgbClr val="d0e9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膝关节骨性关节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24000" y="98100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评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疼痛程度的评估：根据疼痛发生的持续时间、严重程度、缓解方式、服用止痛药类别和药量来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力测定：徒手肌力检查法，等速肌力测试仪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定：出现关节活动障碍及关节畸形时测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O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 ADL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的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640" y="1628280"/>
            <a:ext cx="7416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治疗护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目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消炎消肿，缓解疼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减轻关节负荷，保持关节和肢体活动功能。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强肌肉力量，预防与治疗肌软弱和肌萎缩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关节稳定性，防止关节畸形和疼痛复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1125000"/>
            <a:ext cx="820908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发作期康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休息与制动：出现关节肿胀、疼痛加重时需减少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药物的选用：阿司匹林、非甾体抗炎药物、透明质酸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物理治疗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热疗法、低中频电疗法、高频电疗法等。水疗（热水浴、矿泉水浴、药物浴）、药物离子导入、直流电、磁疗等均可选用，也可以用针灸、按摩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牵引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064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运动疗法：开始时以主动运动为主；随着病情好转，由主动运动逐渐过渡到辅助运动，最后进行抗阻运动。肌力训练：采用肌肉等长收缩练习，待疼痛缓解或解除固定后 ，应行等张肌力练习，直至抗阻练习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活动量的指征：活动后无任何不适，可稍增加活动量；活动后有短暂的轻度疼痛，说明可耐受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7T01:36:34Z</dcterms:modified>
  <cp:revision>4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