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2FB0-84F0-4269-8F69-FBFF2CCBD5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3674-E886-4C01-A621-81568EC9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0E36-9507-425E-943E-9D30AA78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9218-CF29-4BAD-A192-5BA53D1F97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DD71-DBA7-47C2-A565-6B492B18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77E3-FA83-46C4-84F3-CD7A00DE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368DF-DD43-462B-A6C0-5B97F0FD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B8FB-CAAA-4239-85E2-5EE50F6F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EF7A8-B0DE-40CB-BC2E-37273529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1ACA-FC25-486D-A755-62413B35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71D3-543A-4AB5-AF13-7AF7065F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4673-65DA-4BDD-9168-FBD614B6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0D61-5554-47B6-AE17-FA7E21CB65A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560" y="2924280"/>
            <a:ext cx="79930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第三节   日常生活活动能力评定</a:t>
            </a:r>
            <a:endParaRPr b="0" lang="en-US" sz="4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059280" y="5516280"/>
            <a:ext cx="5184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章  稼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31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0000"/>
              </a:solidFill>
              <a:latin typeface="Verdana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2492280"/>
            <a:ext cx="87552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基本概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评定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评定方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077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日常生活活动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4000" y="2491920"/>
            <a:ext cx="86104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人们为了维持生存以及适应生存环境而每天必须反复进行的、最基本的、最具有共同性的活动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的或基本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杂性或工具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主要内容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920" y="2276640"/>
            <a:ext cx="86421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流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务劳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娱乐活动方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AD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方法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2133360"/>
            <a:ext cx="8610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arthe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数评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大便控制、小便控制、修饰、用厕、进食、转移、步行、穿衣、上楼梯、洗澡，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是否需要帮助及其帮助程度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四个等级，总分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评分标准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1728720"/>
          <a:ext cx="8610480" cy="4481640"/>
        </p:xfrm>
        <a:graphic>
          <a:graphicData uri="http://schemas.openxmlformats.org/drawingml/2006/table">
            <a:tbl>
              <a:tblPr/>
              <a:tblGrid>
                <a:gridCol w="709560"/>
                <a:gridCol w="3949560"/>
                <a:gridCol w="3951360"/>
              </a:tblGrid>
              <a:tr h="10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和评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大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周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≤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在帮助下使用灌肠剂或栓剂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能控制；如果需要，能使用灌肠剂或栓剂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便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失禁；或需由他人导尿；或无失禁，但有昏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偶尔失禁（每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4h≤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每周＞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，或需要器具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能控制；如果需要，能使用集尿器或其它用具，并清洗。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如无需帮助，自行导尿，并清洗导尿管，视为能控制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饰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个人卫生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在提供器具的情况下，可独立完成洗脸、刷牙、梳头、剃须（如需用电则应会用插头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厕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在穿脱衣裤，使用卫生纸擦净会阴，保持平衡或便后清洁时需要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进出厕所，使用厕所或便盆，并能穿脱衣裤、使用卫生纸，擦净会阴和冲洗排泄物，或倒掉并清洗便盆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进食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部分帮助：指能吃任何正常食物，但在切割、搅拌食物或夹菜、盛饭时需要帮助，或较长时间才能完成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使用任何必要的装置，在适当的时间内独立地完成包括夹菜、盛饭在内的进食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转移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依赖：不能坐起，需两人以上帮助，或用提升机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能坐，需两个人或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个强壮且动作娴熟的人帮助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为保安全，需一人搀扶或语言指导、监督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独立地从床上转移到椅子上并返回。独立地从轮椅到床，再从床回到轮椅，包括从床上坐起，刹住轮椅，抬起脚踏板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">
                <a:tc rowSpan="4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平地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步行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大量帮助：如果不能行走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，并能向各方向移动以及进出厕所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小量帮助：指在一人帮助下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帮助可以是体力或语言指导、监督。如坐轮椅，必须是无需帮助，能使用轮椅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并能拐弯。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任何帮助都应由未经特殊训练者提供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能在家中或病房周围水平路面上独自行走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</a:t>
                      </a: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米以上，可以用辅助装置，但不包括带轮的助行器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穿衣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指在适当的时间内至少做完一半的工作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在无人指导的情况下能独立穿脱适合自己身体的各类衣裤，包括穿鞋、系鞋带、扣、解钮扣、开关拉链、穿脱矫形器和各类护具等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3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上楼梯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：不能上下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需要帮助：在体力帮助或语言指导、监督下上、下一层楼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（包括使用辅助器）：指能独立地上、下一层楼，可以使用扶手或用手杖、腋杖等辅助用具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rowSpan="2"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洗澡（池浴、盆浴或淋浴）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依赖或需要帮助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840" rIns="60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理：指无需指导和他人帮助能安全进出浴池，并完成洗澡全过程。</a:t>
                      </a:r>
                      <a:endParaRPr b="0" lang="en-US" sz="7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0769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Barthel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指数判断标准 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4000" y="213336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上者为虽然有轻度残疾，但生活基本自理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0~6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中度残疾，生活需要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~4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者为重度残疾，生活需要很大帮助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以下者为完全残疾，生活完全依赖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IM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评定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2205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独立性评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functional independence meassure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包括六个方面共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功能，即自理活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括约肌控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转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行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、交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和社会认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项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级，最高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最低得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，总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80769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功能活动问卷（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FAQ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699920"/>
            <a:ext cx="79261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用于研究社区老年人的独立性和轻症老年性痴呆，包括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项内容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Guest2</cp:lastModifiedBy>
  <dcterms:modified xsi:type="dcterms:W3CDTF">2015-12-16T04:55:27Z</dcterms:modified>
  <cp:revision>95</cp:revision>
  <dc:subject/>
  <dc:title>内科护理学</dc:title>
</cp:coreProperties>
</file>