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11A3-6A5D-447F-9D22-CC9A56E241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CE74-9847-4E1A-B13B-F67B46BB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D91E-B63E-4CCC-A986-BDD2CD91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6DD7-41DB-4C67-BC86-52A27594FB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DB53-7D30-48CF-9901-C263F86D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B4C5-FA3A-436A-9B6D-4995003D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B4FC-DECF-4BD8-A143-093DE4B2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8C39-2DAE-42D5-8B72-222BDE2B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512D2-5958-4E67-B270-EC95EBC5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E3FD-AA8B-4BF5-824A-08BEB10B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E2F7-DB8D-4A4C-9BB5-880C2D24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A5EC-E1A0-4B52-A9BB-BBFA1DBB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0819-49C7-4D50-9F4E-775036B406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20872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四章  康复护理技术</a:t>
            </a:r>
            <a:br>
              <a:rPr sz="3600"/>
            </a:b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第一节   康复护理专业技术</a:t>
            </a:r>
            <a:br>
              <a:rPr sz="3600"/>
            </a:b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(</a:t>
            </a:r>
            <a:r>
              <a:rPr b="1" lang="zh-CN" sz="3600" spc="-1" strike="noStrike">
                <a:solidFill>
                  <a:srgbClr val="fe230c"/>
                </a:solidFill>
                <a:latin typeface="宋体"/>
                <a:ea typeface="宋体"/>
              </a:rPr>
              <a:t>一、二、三、四</a:t>
            </a:r>
            <a:r>
              <a:rPr b="1" lang="en-US" sz="3600" spc="-1" strike="noStrike">
                <a:solidFill>
                  <a:srgbClr val="fe230c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王翔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07960" y="25200"/>
            <a:ext cx="332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床上坐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4632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床上坐起，髋关节屈曲近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后可给予足够的枕头垫实，以使脊柱伸展，达到直立坐位的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头部无须支持固定，以利于患者主动控制头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给一横过床上的可调节桌子，让患者的上肢放在上面，桌上放一枕头，可缓解肘部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4" descr="2 的副本 (2)"/>
          <p:cNvPicPr/>
          <p:nvPr/>
        </p:nvPicPr>
        <p:blipFill>
          <a:blip r:embed="rId1"/>
          <a:srcRect l="4955" t="51180" r="14036" b="10996"/>
          <a:stretch/>
        </p:blipFill>
        <p:spPr>
          <a:xfrm>
            <a:off x="542880" y="4213080"/>
            <a:ext cx="3743280" cy="2089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9"/>
          <p:cNvPicPr/>
          <p:nvPr/>
        </p:nvPicPr>
        <p:blipFill>
          <a:blip r:embed="rId2"/>
          <a:srcRect l="0" t="0" r="1705" b="8843"/>
          <a:stretch/>
        </p:blipFill>
        <p:spPr>
          <a:xfrm>
            <a:off x="5492880" y="4100400"/>
            <a:ext cx="25113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400" y="1080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骨关节疾病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要是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位：指当肌肉、关节功能不能或尚未恢复时，必须使肢体处于发挥最佳功能活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常采用石膏、矫形支具、系列夹板等固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83880" y="1080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上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774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无内、外旋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前臂中间位（无旋前或旋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背伸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稍内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各掌指关节和指间关节稍屈曲，由示指至小指屈曲度有规律地递增；拇指在对掌的中间位（即在掌平面前方，其掌指关节半屈曲，指间关节轻微屈曲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178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下肢功能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髋伸直，无内、外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膝稍屈曲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踝处于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间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080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最有利于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活动的关节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关节最有用的活动范围是：外展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前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外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肘关节最有用的活动范围是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尺桡关节（前臂）最有用的活动范围是旋前、旋后各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腕关节最有用的活动范围是背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烧伤患者抗挛缩畸形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挛缩畸形体位是指烧伤患者应保持的正确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为与烧伤部位软组织收缩方向相反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52520" y="260280"/>
            <a:ext cx="4546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体位排痰：是指将病人的身体置于不同的位置，利用重力的作用使肺内分泌物引流至大气管，再配合正确的呼吸和咳痰，将痰液排出的方法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601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又称为气道分泌物去除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促进呼吸道分泌物排出、维持呼吸道通畅、减少感染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痰技术：气道湿化、有效的咳嗽训练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辅助咳嗽技术、体位引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叩打、振动及分泌物清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82560" y="404640"/>
            <a:ext cx="2398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①排痰前的准备； ②确定痰潴留的部位；           ③确定排痰的体位；④叩击痰液潴留的部位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20600" y="404640"/>
            <a:ext cx="2830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排痰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骤：⑤压迫与振动； ⑥咳嗽将痰咳出； ⑦复检痰液潴留情况 ；⑧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的摆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排痰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肠道护理技术、膀胱护理技术、放松训练护理技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6480" y="439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3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老体弱、久病体虚、胸部手术后、疼痛等原因，不能有效地咳出肺内分泌物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支气管炎、肺气肿等患者发生急性呼吸道感染及急性肺脓肿痰量多（痰量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00~400ml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d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且黏稠并位于气管末端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适应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潴留分泌物长期不能排清者，如支气管扩张、囊性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特殊检查前的准备，如支气管镜、纤维镜、支气管造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34920" y="78840"/>
            <a:ext cx="180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、外科急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循环系统疾病如肺水肿、充血性心力衰竭、高血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疼痛明显、认知障碍或不合作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明显呼吸困难、严重心脏病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腹部膨胀、裂孔疝、进食后不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8920" y="259920"/>
            <a:ext cx="32511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气道湿化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66760" y="1197000"/>
            <a:ext cx="729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持续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蒸汽加温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雾化湿化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工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空气湿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满意：痰液稀薄，能顺利吸出或咳出，人工气道内无痰栓，听诊气管内无干鸣音或大量痰鸣音，呼吸通畅，患者安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 湿化过度：痰液过度稀薄，需不断吸引，听诊气道内痰鸣音多，患者频繁咳嗽，烦躁不安，人机对抗，可出现缺氧性发绀、脉搏氧饱和度下降及心率、血压改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325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湿化效果的判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48608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湿化不足：痰液黏稠，不易吸出或咳出，听诊气道内有干鸣音，人工气道内可形成痰痂，患者可出现突然的吸气性呼吸困难、烦躁、发绀及脉搏氧饱和度下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71640" y="1155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引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4" descr="图4-7 体位引流法"/>
          <p:cNvPicPr/>
          <p:nvPr/>
        </p:nvPicPr>
        <p:blipFill>
          <a:blip r:embed="rId1"/>
          <a:stretch/>
        </p:blipFill>
        <p:spPr>
          <a:xfrm>
            <a:off x="2486160" y="1052640"/>
            <a:ext cx="3814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3610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选在餐前进行为宜：每次引流一个部位，一般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有多个部位，则总时间不超过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；如分泌物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仍未排出，应更换引流部位和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每天上、下午各引流一次，痰量较多时，增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天。结合轻拍背部进行，不能自行排痰者应及时用吸引器吸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腋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股血管搭桥术、近期肋骨骨折、肩滑囊炎、肌腱炎等慎用侧卧位引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引流结束后应适当休息，防止体位性低血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41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排痰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9944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认真做好宣教，使患者认识到，即使引流时未咳出痰，未必无效，松动的痰液可能需要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才能咳出，坚持治疗则利于痰液咳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引流时令患者放松，做深呼吸，防止过度换气或呼吸急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终止体位引流的条件：胸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线摄片示肺纹理清楚；患者体温正常，并持续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时以上；肺部听诊呼吸音正常或基本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保持室内空气新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98728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辅助排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2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6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叩击法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五指并拢，掌心空虚，于患者呼气时在与肺段相应的特定胸壁部位进行有节律的快速叩击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），每一部位叩击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叩击与体位引流结合将使排痰具有方向性并更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06600" y="522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正确体位的摆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：是指人的身体所保持的姿势或某种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体位：患者根据治疗、护理以及康复的需要所采取并能保持的身体姿势和位置，如功能位、对抗痉挛模式的体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47640" y="260280"/>
            <a:ext cx="2530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振动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操作者将手置于胸廓并压紧，在呼气相对患者施以快速、细小的弹性振动，每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至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钟，每一部位振动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。振动法有助于纤毛系统清除分泌物，常用于叩击法之后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禁忌证同叩击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咳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深吸气后，迅速收腹，大声咳嗽，利用有力的呼气所产生的快速气流，将分泌物清除出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次深吸气可连续咳嗽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；待平静呼吸片刻后，再做第二次咳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配合手法加压，操作者双手向上、向里用力推膈肌，帮助患者快速呼气，引起咳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不易长时间进行，应选择在两餐之间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8920" y="333360"/>
            <a:ext cx="253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评估与记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  采用触诊、叩诊、听诊器听诊等方式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判断分泌物潴留情况，注明呼吸音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记录  包括痰液潴留的部位，痰液排出的量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颜色、性状及气味，患者对引流的忍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程度，血压、心率情况，呼吸模式，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壁扩张的对称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2746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护理是研究护理实践中的心理学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工作的过程中，护士运用心理学的理论和技术，以良好的人际关系为基础，通过各种方式或途径，积极地影响、改变患者的不良心理状态和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患者的心理健康问题，促进患者的康复，从而发挥医疗护理的最佳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260280"/>
            <a:ext cx="34671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⑴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广泛性与情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⑵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个体化与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⑶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⑷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意识的心理护理和无意识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⑸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技术无止境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771280" y="43920"/>
            <a:ext cx="38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心理护理内容和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要求：创造积极的情绪环境，建立和谐的沟通环境，注意心理状态的观察，尊重、理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支持：倾听、疏导、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56000" y="259920"/>
            <a:ext cx="4114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障碍护理技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94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器质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性吞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19640" y="43920"/>
            <a:ext cx="274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综合评估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确定患者是摄食行为障碍，还是食物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循序渐进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针对不同的患者，采取相应措施，逐渐增加进食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理疏导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加强与患者的交流，增强患者战胜疾病的信心，积极配合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治疗与训练相结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通过合理的刺激，诱发吞咽反射，配合适当的体位，促进进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27280" y="788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一种较方便、实用的检查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取坐位，先让患者喝下一茶匙水，如无异常，则将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0ml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温水一口咽下，注意观察患者饮水过程，并记录饮水所用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97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饮水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般可分为下列</a:t>
            </a:r>
            <a:r>
              <a:rPr b="0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种情况：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一口喝完，无呛咳。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之内喝完为正常，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秒以上喝完为可疑。②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无呛咳，为可疑。③能一次喝完，但有呛咳，为有吞咽障碍。④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次以上喝完，有呛咳，为吞咽障碍。⑤呛咳多次发生，不能将水喝完，为吞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360" y="11556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体位摆放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预防或减轻痉挛或畸形的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助于预防并发症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时应根据患者疾病的特点，为患者设计正确的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87640" y="260280"/>
            <a:ext cx="4835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X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线钡剂造影录像（</a:t>
            </a:r>
            <a:r>
              <a:rPr b="1" lang="en-US" sz="3200" spc="-1" strike="noStrike">
                <a:solidFill>
                  <a:srgbClr val="fe230c"/>
                </a:solidFill>
                <a:latin typeface="Verdana"/>
                <a:ea typeface="宋体"/>
              </a:rPr>
              <a:t>VF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F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检查对观察吞咽反射，软腭、舌骨、舌根的活动，喉头的举上和闭锁，咽壁的蠕动，梨状隐窝及会厌上凹的残留物非常有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确定是否误咽有决定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鉴别吞咽障碍系器质性还是功能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确切掌握吞咽障碍与患者的体位、食物形态的相互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027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其他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包括脑神经检查，认知评定，口腔、咽喉、食管的感觉、反射及运动功能评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吞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基础训练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间接训练，是针对那些与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活动有关的器官所进行的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用于脑血管意外后早期，患者自主进食前及中、重度摄食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障碍的患者进行摄食训练前的预备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0" y="18864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肌肉运动控制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舌部运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吞咽反射刺激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屏气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声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4000" y="344160"/>
            <a:ext cx="381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基础训练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01880" y="1576080"/>
            <a:ext cx="767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构音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门德尔松手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9280" y="115560"/>
            <a:ext cx="2746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摄食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又称直接训练，是实际进食活动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体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物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食量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吞咽法选择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32000" y="259920"/>
            <a:ext cx="281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进食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防止急躁和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将训练的吞咽动作运用到日常生活活动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激发患者的主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3190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3520" y="15760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充分利用触觉、视觉、听觉等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做好风险预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必要的抢救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加强管理，预防交叉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4360" y="260280"/>
            <a:ext cx="4330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脑损伤患者的体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防止或对抗痉挛模式的出现，诱发分离运动而设计的一种治疗性体位，即对抗痉挛模式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去常称为良肢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12560" y="13464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患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247760"/>
            <a:ext cx="523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受累侧肢体在下方，非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通过体重对受累侧肢体产生挤压作用，刺激受累侧肢体本体感受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197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既强化感觉的输入，又抑制受累侧肢体的痉挛模式，有利于非受累侧肢体早日进行各项日常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5" name="Picture 4" descr="3"/>
          <p:cNvPicPr/>
          <p:nvPr/>
        </p:nvPicPr>
        <p:blipFill>
          <a:blip r:embed="rId1"/>
          <a:stretch/>
        </p:blipFill>
        <p:spPr>
          <a:xfrm>
            <a:off x="5688000" y="2637000"/>
            <a:ext cx="3456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38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健侧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受累侧肢体在下方，受累侧肢体在上方的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可避免受累侧肩关节直接受压，减少肩关节损伤，缺点是限制了患者健侧肢体的主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"/>
          <p:cNvPicPr/>
          <p:nvPr/>
        </p:nvPicPr>
        <p:blipFill>
          <a:blip r:embed="rId1"/>
          <a:stretch/>
        </p:blipFill>
        <p:spPr>
          <a:xfrm>
            <a:off x="2124000" y="4437000"/>
            <a:ext cx="42260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0520" y="-36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人及家属最喜欢采用的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符合大多数人睡觉的习惯姿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有利于诊疗及进行各种护理操作和方便清洁处理大小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5" descr="2 的副本 (2)"/>
          <p:cNvPicPr/>
          <p:nvPr/>
        </p:nvPicPr>
        <p:blipFill>
          <a:blip r:embed="rId1"/>
          <a:srcRect l="5075" t="0" r="5649" b="60996"/>
          <a:stretch/>
        </p:blipFill>
        <p:spPr>
          <a:xfrm>
            <a:off x="1908000" y="3573360"/>
            <a:ext cx="46087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41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俯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背朝上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心、肺压迫明显，影响呼吸，且不利于患者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除因患者背部、骶部、髋部等出现压疮，一般都不采用此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6T06:22:01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