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6E74-D572-42EE-934C-E6182777F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22D7-2612-4CD1-B74B-A4CD700A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CE45-B3C9-4AD8-AF94-EF76F68E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E230-4BCB-4F91-B3D7-DE7EC9A53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0759-F680-43FC-96D9-6BF87469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4053-37C3-438D-BB02-20EE365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C571-9BD3-4E95-B8A1-C1F910FF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A251-F1ED-45CB-956F-4CD4BFA0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0C27-CEB8-4CD4-9791-33DEB15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959B-B5F5-4883-BB42-4C25CEF9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573E-0F18-4EB8-B3D9-453BDB65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3448-1895-4AC5-9D57-0398B342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BD80-57D1-43BE-B3EA-5A6877BE26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637000"/>
            <a:ext cx="597708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二节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传统物理疗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211640" y="522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吴军     袁海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治疗疾病的方法称为中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中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双向无电解作用；②对神经肌肉组织有兴奋作用；③能克服组织电阻，与低频电流相比，能作用到更深的组织；④可用低频电流调制，调制中频电流具有双重作用；⑤有镇痛和促进血液循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2340000" y="1052640"/>
            <a:ext cx="5113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760" y="1989000"/>
            <a:ext cx="86108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等幅正弦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频率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等幅正弦电流治疗疾病的方法，习惯称为“音频电”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1028" descr="uniscan26"/>
          <p:cNvPicPr/>
          <p:nvPr/>
        </p:nvPicPr>
        <p:blipFill>
          <a:blip r:embed="rId1"/>
          <a:stretch/>
        </p:blipFill>
        <p:spPr>
          <a:xfrm>
            <a:off x="5005440" y="3432240"/>
            <a:ext cx="3571920" cy="30970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050920" y="1052640"/>
            <a:ext cx="59756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3276720" y="407664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3276720" y="4724280"/>
            <a:ext cx="934920" cy="14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276720" y="537372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3276720" y="6021360"/>
            <a:ext cx="934920" cy="144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66760" y="2063520"/>
            <a:ext cx="8610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调制中频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是应用被低频电流调制后的中频电流治疗疾病的方法，又称脉冲中频电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2556000" y="981000"/>
            <a:ext cx="5111640" cy="1079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3348000" y="386064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3348000" y="4581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348000" y="515772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348000" y="5805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2349360"/>
            <a:ext cx="8610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干扰电疗法：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两路频率分别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与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4000±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正弦交流电通过两组电极交叉输入人体，在电场线交叉处形成干扰场，产生差频为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0</a:t>
            </a: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0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的低频调制中频电流，以这种干扰电流治疗疾病的方法称为干扰电疗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195640" y="1052640"/>
            <a:ext cx="612144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中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2700360" y="494172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2700360" y="537372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2700360" y="5805360"/>
            <a:ext cx="1224000" cy="14472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2700360" y="6237360"/>
            <a:ext cx="1224000" cy="14436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610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k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的高频电流作用于人体以治疗疾病的方法称为高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高频电流的特点有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对神经肌肉不产生兴奋性；②在治疗时电极可以离开皮肤；③温热效应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908000" y="1341360"/>
            <a:ext cx="648180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989000"/>
            <a:ext cx="8610480" cy="42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超短波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应用波长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0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、频率为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00MHz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电流的超高频电场治疗疾病的方法称为超短波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2050920" y="981000"/>
            <a:ext cx="597708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276720" y="4076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276720" y="465300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276720" y="530064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203640" y="5950080"/>
            <a:ext cx="1224000" cy="21744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Picture 5" descr="c:\users\sam\appdata\roaming\360se6\USERDA~1\Temp\902291~1.JPG"/>
          <p:cNvPicPr/>
          <p:nvPr/>
        </p:nvPicPr>
        <p:blipFill>
          <a:blip r:embed="rId1"/>
          <a:stretch/>
        </p:blipFill>
        <p:spPr>
          <a:xfrm>
            <a:off x="5580000" y="3429000"/>
            <a:ext cx="3052800" cy="30528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2637000"/>
            <a:ext cx="9001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）微波疗法：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微波是波长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的高频电磁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波长不同将其分为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个波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分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厘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c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毫米波（波长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0mm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，频率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 000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00 000MHz</a:t>
            </a:r>
            <a:r>
              <a:rPr b="0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258920" y="1341360"/>
            <a:ext cx="6480000" cy="1295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24922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微波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692360" y="1341360"/>
            <a:ext cx="5184720" cy="10810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高频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492360" y="3573360"/>
            <a:ext cx="1224000" cy="216000"/>
          </a:xfrm>
          <a:custGeom>
            <a:avLst/>
            <a:gdLst>
              <a:gd name="textAreaLeft" fmla="*/ 153000 w 1224000"/>
              <a:gd name="textAreaRight" fmla="*/ 1071000 w 1224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3419640" y="429264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3419640" y="501336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3419640" y="5734080"/>
            <a:ext cx="1223640" cy="216000"/>
          </a:xfrm>
          <a:custGeom>
            <a:avLst/>
            <a:gdLst>
              <a:gd name="textAreaLeft" fmla="*/ 15300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3" descr="20090225043747862.jpg"/>
          <p:cNvPicPr/>
          <p:nvPr/>
        </p:nvPicPr>
        <p:blipFill>
          <a:blip r:embed="rId1"/>
          <a:stretch/>
        </p:blipFill>
        <p:spPr>
          <a:xfrm>
            <a:off x="6012000" y="3213000"/>
            <a:ext cx="2525400" cy="26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4000" y="206064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人工光源或日光辐射治疗疾病的方法称为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常用的光疗法分为红外线疗法、可见光疗法、紫外线疗法和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1979640" y="1268280"/>
            <a:ext cx="5040360" cy="1152720"/>
          </a:xfrm>
          <a:custGeom>
            <a:avLst/>
            <a:gdLst>
              <a:gd name="textAreaLeft" fmla="*/ 1150560 w 5040360"/>
              <a:gd name="textAreaRight" fmla="*/ 3889800 w 5040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71760" y="357120"/>
            <a:ext cx="4309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红外线治疗疾病的方法称为红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红外线根据波长可将红外线分为两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00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远红外线（长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波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7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5μm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波段为近红外线（短波红外线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3059280" y="1197000"/>
            <a:ext cx="3168360" cy="865080"/>
          </a:xfrm>
          <a:prstGeom prst="wedgeEllipseCallout">
            <a:avLst>
              <a:gd name="adj1" fmla="val -43736"/>
              <a:gd name="adj2" fmla="val 109814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6380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电治疗疾病的方法称为电疗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所采用电流频率的不同，通常将电疗法分为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直流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低频电疗法（小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0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中频电疗法（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高频电疗法（大于</a:t>
            </a:r>
            <a:r>
              <a:rPr b="0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00kHz</a:t>
            </a: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电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179280" y="260280"/>
            <a:ext cx="6264360" cy="129564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一）电疗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27810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6" descr="NA01062_"/>
          <p:cNvPicPr/>
          <p:nvPr/>
        </p:nvPicPr>
        <p:blipFill>
          <a:blip r:embed="rId1"/>
          <a:stretch/>
        </p:blipFill>
        <p:spPr>
          <a:xfrm>
            <a:off x="5940360" y="3141720"/>
            <a:ext cx="2635200" cy="234936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/>
          <p:cNvSpPr/>
          <p:nvPr/>
        </p:nvSpPr>
        <p:spPr>
          <a:xfrm>
            <a:off x="2700360" y="1484280"/>
            <a:ext cx="3456000" cy="719280"/>
          </a:xfrm>
          <a:prstGeom prst="wedgeEllipseCallout">
            <a:avLst>
              <a:gd name="adj1" fmla="val -25009"/>
              <a:gd name="adj2" fmla="val 120199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红外线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35280" y="314172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3708360" y="386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708360" y="458136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3708360" y="5300640"/>
            <a:ext cx="1368360" cy="21600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蓝紫光治疗疾病的方法称为蓝紫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76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蓝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9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紫光波长为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00</a:t>
            </a: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5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用于治疗新生儿高胆红素血症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268360" y="1052640"/>
            <a:ext cx="3672000" cy="674640"/>
          </a:xfrm>
          <a:prstGeom prst="wedgeEllipseCallout">
            <a:avLst>
              <a:gd name="adj1" fmla="val -43731"/>
              <a:gd name="adj2" fmla="val 79884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3141360"/>
            <a:ext cx="86104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27280" y="1773360"/>
            <a:ext cx="3816360" cy="934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蓝紫光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780000" y="3429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780000" y="422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80000" y="5661000"/>
            <a:ext cx="1441440" cy="28908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3780000" y="4869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0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紫外线防治疾病的方法称为紫外线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光谱分段及其生物学作用特点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长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A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40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色素沉着、荧光反应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B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32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红斑反应及生物学作用最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短波紫外线亦称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段紫外线（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UVC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），波长范围为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180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1d1496"/>
                </a:solidFill>
                <a:latin typeface="Arial"/>
                <a:ea typeface="宋体"/>
              </a:rPr>
              <a:t>280nm</a:t>
            </a:r>
            <a:r>
              <a:rPr b="0" lang="zh-CN" sz="2000" spc="-1" strike="noStrike">
                <a:solidFill>
                  <a:srgbClr val="1d1496"/>
                </a:solidFill>
                <a:latin typeface="Arial"/>
                <a:ea typeface="宋体"/>
              </a:rPr>
              <a:t>，对细菌和病毒的杀灭及抑制作用强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556000" y="1052640"/>
            <a:ext cx="3959280" cy="720720"/>
          </a:xfrm>
          <a:prstGeom prst="wedgeEllipseCallout">
            <a:avLst>
              <a:gd name="adj1" fmla="val -43745"/>
              <a:gd name="adj2" fmla="val 93833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50920" y="2852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红斑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是一定剂量的紫外线照射皮肤或黏膜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小时后，局部出现界限清楚的红斑，红斑持续时间为十余小时至数日，局部可有皮肤脱屑或色素沉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紫外线红斑剂量见教材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紫外线红斑分级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2411280" y="1052640"/>
            <a:ext cx="4608720" cy="936360"/>
          </a:xfrm>
          <a:prstGeom prst="wedgeEllipseCallout">
            <a:avLst>
              <a:gd name="adj1" fmla="val -17962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920" y="3284280"/>
            <a:ext cx="861048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紫外线生物剂量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个生物剂量即最小红斑量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minimal erythema dose, MED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，是指紫外线灯管在一定距离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5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cm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垂直照射下引起机体最弱红斑反应（阈红斑反应）所需要的时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2627280" y="1628640"/>
            <a:ext cx="4033800" cy="720720"/>
          </a:xfrm>
          <a:prstGeom prst="wedgeEllipseCallout">
            <a:avLst>
              <a:gd name="adj1" fmla="val -43740"/>
              <a:gd name="adj2" fmla="val 155949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6104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2627280" y="1341360"/>
            <a:ext cx="4033800" cy="936720"/>
          </a:xfrm>
          <a:prstGeom prst="wedgeEllipseCallout">
            <a:avLst>
              <a:gd name="adj1" fmla="val -43740"/>
              <a:gd name="adj2" fmla="val 108476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紫外线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995640" y="5950080"/>
            <a:ext cx="1513080" cy="21564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3995640" y="5084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67280" y="3429000"/>
            <a:ext cx="1512720" cy="21600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3995640" y="4292640"/>
            <a:ext cx="1513080" cy="21600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79930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是指受激辐射放大的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激光既具有一般光的反射、折射、干涉等物理特性，又具有亮度高、单色性好、定向性强、相干性好等特性。应用激光治疗疾病的方法称为激光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2771640" y="1413000"/>
            <a:ext cx="3456000" cy="1079280"/>
          </a:xfrm>
          <a:prstGeom prst="cloudCallout">
            <a:avLst>
              <a:gd name="adj1" fmla="val -45037"/>
              <a:gd name="adj2" fmla="val 70000"/>
            </a:avLst>
          </a:pr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激光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324000" y="2852280"/>
            <a:ext cx="86104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351240" y="1745280"/>
            <a:ext cx="2391480" cy="794160"/>
          </a:xfrm>
          <a:prstGeom prst="rect">
            <a:avLst/>
          </a:prstGeom>
          <a:solidFill>
            <a:srgbClr val="e781e2"/>
          </a:solidFill>
          <a:ln w="9360">
            <a:solidFill>
              <a:srgbClr val="046ca6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光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92436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3924360" y="393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3924360" y="465300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3924360" y="5373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Users\sam\AppData\Roaming\Tencent\Users\437005999\QQ\WinTemp\RichOle\9XS1`Y09QU`0AC0@4]9QJ_E.jpg"/>
          <p:cNvPicPr/>
          <p:nvPr/>
        </p:nvPicPr>
        <p:blipFill>
          <a:blip r:embed="rId1"/>
          <a:stretch/>
        </p:blipFill>
        <p:spPr>
          <a:xfrm>
            <a:off x="1643040" y="2786040"/>
            <a:ext cx="6000840" cy="342108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5"/>
          <p:cNvSpPr/>
          <p:nvPr/>
        </p:nvSpPr>
        <p:spPr>
          <a:xfrm>
            <a:off x="2050920" y="1341360"/>
            <a:ext cx="5042160" cy="1150920"/>
          </a:xfrm>
          <a:prstGeom prst="downArrowCallout">
            <a:avLst>
              <a:gd name="adj1" fmla="val 109535"/>
              <a:gd name="adj2" fmla="val 1095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三）超声波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6366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直流电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直流电药物离子导入疗法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借助直流电将药物离子通过皮肤、黏膜或伤口导入人体以治疗疾病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755640" y="1341360"/>
            <a:ext cx="7850160" cy="115272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5600" y="491400"/>
            <a:ext cx="409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57176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超声波是指频率在</a:t>
            </a:r>
            <a:r>
              <a:rPr b="1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20kHz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以上，不能引起正常人听觉反应的机械振动波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应用超声波治疗疾病的方法称为超声波疗法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临床治疗常用的超声波频率为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800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～</a:t>
            </a:r>
            <a:r>
              <a:rPr b="0" lang="en-US" sz="3000" spc="-1" strike="noStrike">
                <a:solidFill>
                  <a:srgbClr val="1d1496"/>
                </a:solidFill>
                <a:latin typeface="Verdana"/>
                <a:ea typeface="宋体"/>
              </a:rPr>
              <a:t>1000kHz</a:t>
            </a:r>
            <a:r>
              <a:rPr b="0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2340000" y="260280"/>
            <a:ext cx="4680000" cy="1081080"/>
          </a:xfrm>
          <a:prstGeom prst="downArrowCallout">
            <a:avLst>
              <a:gd name="adj1" fmla="val 108235"/>
              <a:gd name="adj2" fmla="val 10822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4957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. 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治疗作用 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镇痛、解痉；②软化瘢痕、松解粘连；③促进水肿吸收；④组织修复；⑤溶栓效应；⑥调节神经血管及内脏功能；⑦治癌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2411280" y="1052640"/>
            <a:ext cx="4681800" cy="1081080"/>
          </a:xfrm>
          <a:prstGeom prst="downArrowCallout">
            <a:avLst>
              <a:gd name="adj1" fmla="val 108277"/>
              <a:gd name="adj2" fmla="val 108267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57160" y="571320"/>
            <a:ext cx="511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610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间接接触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药物渗入疗法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超声雾化吸入法：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763640" y="1125360"/>
            <a:ext cx="4537080" cy="1081440"/>
          </a:xfrm>
          <a:prstGeom prst="downArrowCallout">
            <a:avLst>
              <a:gd name="adj1" fmla="val 104895"/>
              <a:gd name="adj2" fmla="val 104885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4211640" y="3284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4427640" y="4076640"/>
            <a:ext cx="1512720" cy="287280"/>
          </a:xfrm>
          <a:custGeom>
            <a:avLst/>
            <a:gdLst>
              <a:gd name="textAreaLeft" fmla="*/ 236160 w 1512720"/>
              <a:gd name="textAreaRight" fmla="*/ 1323720 w 151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5580000" y="472428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5364000" y="5589720"/>
            <a:ext cx="1513080" cy="287280"/>
          </a:xfrm>
          <a:custGeom>
            <a:avLst/>
            <a:gdLst>
              <a:gd name="textAreaLeft" fmla="*/ 236160 w 1513080"/>
              <a:gd name="textAreaRight" fmla="*/ 1324080 w 15130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2708280"/>
            <a:ext cx="86104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适应证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AutoShape 4"/>
          <p:cNvSpPr/>
          <p:nvPr/>
        </p:nvSpPr>
        <p:spPr>
          <a:xfrm>
            <a:off x="2556000" y="1484280"/>
            <a:ext cx="4465440" cy="1081080"/>
          </a:xfrm>
          <a:prstGeom prst="downArrowCallout">
            <a:avLst>
              <a:gd name="adj1" fmla="val 103273"/>
              <a:gd name="adj2" fmla="val 103263"/>
              <a:gd name="adj3" fmla="val 16667"/>
              <a:gd name="adj4" fmla="val 66667"/>
            </a:avLst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超声波疗法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2340000" y="364500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573b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2340000" y="4292640"/>
            <a:ext cx="1079640" cy="144360"/>
          </a:xfrm>
          <a:custGeom>
            <a:avLst/>
            <a:gdLst>
              <a:gd name="textAreaLeft" fmla="*/ 168480 w 1079640"/>
              <a:gd name="textAreaRight" fmla="*/ 945000 w 107964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395280" y="2421000"/>
            <a:ext cx="561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利用磁场的物理性能作用于人体以治疗疾病的方法称为磁疗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根据磁场强度和方向的变化，磁场可分为恒定磁场、交变磁场、脉动磁场及脉冲磁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2916360" y="1341360"/>
            <a:ext cx="4321080" cy="1079640"/>
          </a:xfrm>
          <a:custGeom>
            <a:avLst/>
            <a:gdLst>
              <a:gd name="textAreaLeft" fmla="*/ 986400 w 4321080"/>
              <a:gd name="textAreaRight" fmla="*/ 3334680 w 432108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图片 3" descr="200964944444002.jpg"/>
          <p:cNvPicPr/>
          <p:nvPr/>
        </p:nvPicPr>
        <p:blipFill>
          <a:blip r:embed="rId1"/>
          <a:stretch/>
        </p:blipFill>
        <p:spPr>
          <a:xfrm>
            <a:off x="5961240" y="2852640"/>
            <a:ext cx="3182760" cy="3500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2627280" y="5013360"/>
            <a:ext cx="4392720" cy="1079640"/>
          </a:xfrm>
          <a:custGeom>
            <a:avLst/>
            <a:gdLst>
              <a:gd name="textAreaLeft" fmla="*/ 1002600 w 4392720"/>
              <a:gd name="textAreaRight" fmla="*/ 3390120 w 4392720"/>
              <a:gd name="textAreaTop" fmla="*/ 246240 h 1079640"/>
              <a:gd name="textAreaBottom" fmla="*/ 8334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磁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4427640" y="1773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4427640" y="249228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7"/>
          <p:cNvSpPr/>
          <p:nvPr/>
        </p:nvSpPr>
        <p:spPr>
          <a:xfrm>
            <a:off x="4427640" y="314172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356000" y="4005360"/>
            <a:ext cx="1368360" cy="28728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bf87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9" descr="hf"/>
          <p:cNvPicPr/>
          <p:nvPr/>
        </p:nvPicPr>
        <p:blipFill>
          <a:blip r:embed="rId1"/>
          <a:stretch/>
        </p:blipFill>
        <p:spPr>
          <a:xfrm>
            <a:off x="6156360" y="2205000"/>
            <a:ext cx="2663640" cy="15843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20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生物反馈疗法是将人们正常情况下意识不到的肌电、皮温、心率、血压等体内功能变化，借助电子仪器，转变为可识别的光、声、图像、曲线等信号，再让患者根据这种信号学会控制其自身的不随意功能，以达到调节生理功能及治疗某些身心疾病的目的。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1979640" y="1197000"/>
            <a:ext cx="5256360" cy="1224000"/>
          </a:xfrm>
          <a:custGeom>
            <a:avLst/>
            <a:gdLst>
              <a:gd name="textAreaLeft" fmla="*/ 1199880 w 5256360"/>
              <a:gd name="textAreaRight" fmla="*/ 4056480 w 525636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物反馈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95280" y="3141360"/>
            <a:ext cx="8610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治疗技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注意事项：</a:t>
            </a: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572640" y="2089080"/>
            <a:ext cx="2565360" cy="577080"/>
          </a:xfrm>
          <a:prstGeom prst="rect">
            <a:avLst/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物反馈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4211640" y="342900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211640" y="4149720"/>
            <a:ext cx="1511280" cy="28908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4211640" y="486900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4211640" y="5734080"/>
            <a:ext cx="1511280" cy="288720"/>
          </a:xfrm>
          <a:custGeom>
            <a:avLst/>
            <a:gdLst>
              <a:gd name="textAreaLeft" fmla="*/ 236160 w 1511280"/>
              <a:gd name="textAreaRight" fmla="*/ 1322640 w 1511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0" name="Picture 8" descr="hh"/>
          <p:cNvPicPr/>
          <p:nvPr/>
        </p:nvPicPr>
        <p:blipFill>
          <a:blip r:embed="rId1"/>
          <a:stretch/>
        </p:blipFill>
        <p:spPr>
          <a:xfrm>
            <a:off x="6300720" y="3573360"/>
            <a:ext cx="2289240" cy="2473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000" y="2852640"/>
            <a:ext cx="38876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26920" y="205992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传导热疗法种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34034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8" name="Picture 5" descr="u=1817464996,3584166768&amp;fm=23&amp;gp=0"/>
          <p:cNvPicPr/>
          <p:nvPr/>
        </p:nvPicPr>
        <p:blipFill>
          <a:blip r:embed="rId1"/>
          <a:stretch/>
        </p:blipFill>
        <p:spPr>
          <a:xfrm>
            <a:off x="4427640" y="981000"/>
            <a:ext cx="4295520" cy="2857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8-1111291SSR38"/>
          <p:cNvPicPr/>
          <p:nvPr/>
        </p:nvPicPr>
        <p:blipFill>
          <a:blip r:embed="rId2"/>
          <a:srcRect l="0" t="0" r="0" b="31715"/>
          <a:stretch/>
        </p:blipFill>
        <p:spPr>
          <a:xfrm>
            <a:off x="4643280" y="3860640"/>
            <a:ext cx="381636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药物离子导入人体的深度及去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药物离子被直流电直接导入的深度不超过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其去向有：①在皮下</a:t>
            </a:r>
            <a:r>
              <a:rPr b="0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cm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以内的深度形成“离子堆”；②导入的药物也可随血液或淋巴液进入人体远隔部位产生治疗作用；③通过刺激神经末梢或经络腧穴产生治疗作用</a:t>
            </a:r>
            <a:r>
              <a:rPr b="1" lang="zh-CN" sz="30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637360" y="1569240"/>
            <a:ext cx="3168360" cy="4942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直流电疗法与直流电药物离子导入疗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340344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石蜡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2" name="Picture 5" descr="xianyiyuan2011929161057"/>
          <p:cNvPicPr/>
          <p:nvPr/>
        </p:nvPicPr>
        <p:blipFill>
          <a:blip r:embed="rId1"/>
          <a:srcRect l="28274" t="34519" r="19751" b="0"/>
          <a:stretch/>
        </p:blipFill>
        <p:spPr>
          <a:xfrm>
            <a:off x="6327720" y="1628640"/>
            <a:ext cx="2816280" cy="3894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"/>
          <p:cNvPicPr/>
          <p:nvPr/>
        </p:nvPicPr>
        <p:blipFill>
          <a:blip r:embed="rId2"/>
          <a:srcRect l="16606" t="0" r="16155" b="13412"/>
          <a:stretch/>
        </p:blipFill>
        <p:spPr>
          <a:xfrm>
            <a:off x="1979640" y="3645000"/>
            <a:ext cx="40323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6" name="Picture 5" descr="u=3882561586,1752628040&amp;fm=23&amp;gp=0"/>
          <p:cNvPicPr/>
          <p:nvPr/>
        </p:nvPicPr>
        <p:blipFill>
          <a:blip r:embed="rId1"/>
          <a:stretch/>
        </p:blipFill>
        <p:spPr>
          <a:xfrm>
            <a:off x="4859280" y="3500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u=372992456,1291015261&amp;fm=21&amp;gp=0"/>
          <p:cNvPicPr/>
          <p:nvPr/>
        </p:nvPicPr>
        <p:blipFill>
          <a:blip r:embed="rId2"/>
          <a:stretch/>
        </p:blipFill>
        <p:spPr>
          <a:xfrm>
            <a:off x="5292720" y="1413000"/>
            <a:ext cx="279072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347472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泥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0" name="Picture 7" descr="u=167722838,292901374&amp;fm=23&amp;gp=0"/>
          <p:cNvPicPr/>
          <p:nvPr/>
        </p:nvPicPr>
        <p:blipFill>
          <a:blip r:embed="rId1"/>
          <a:stretch/>
        </p:blipFill>
        <p:spPr>
          <a:xfrm>
            <a:off x="4932360" y="3645000"/>
            <a:ext cx="3657600" cy="2857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u=2723483286,2708663520&amp;fm=21&amp;gp=0"/>
          <p:cNvPicPr/>
          <p:nvPr/>
        </p:nvPicPr>
        <p:blipFill>
          <a:blip r:embed="rId2"/>
          <a:stretch/>
        </p:blipFill>
        <p:spPr>
          <a:xfrm>
            <a:off x="4932360" y="1052640"/>
            <a:ext cx="33847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3640" y="2205000"/>
            <a:ext cx="3259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地蜡疗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4" name="Picture 5" descr="u=1415306219,1793046454&amp;fm=23&amp;gp=0"/>
          <p:cNvPicPr/>
          <p:nvPr/>
        </p:nvPicPr>
        <p:blipFill>
          <a:blip r:embed="rId1"/>
          <a:stretch/>
        </p:blipFill>
        <p:spPr>
          <a:xfrm>
            <a:off x="4284720" y="1716120"/>
            <a:ext cx="417672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2" descr="u=958240499,2809129390&amp;fm=23&amp;gp=0"/>
          <p:cNvPicPr/>
          <p:nvPr/>
        </p:nvPicPr>
        <p:blipFill>
          <a:blip r:embed="rId1"/>
          <a:stretch/>
        </p:blipFill>
        <p:spPr>
          <a:xfrm>
            <a:off x="6156360" y="988920"/>
            <a:ext cx="3095640" cy="193536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690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砂浴疗法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8" name="Picture 7" descr="u=3076176869,282206348&amp;fm=23&amp;gp=0"/>
          <p:cNvPicPr/>
          <p:nvPr/>
        </p:nvPicPr>
        <p:blipFill>
          <a:blip r:embed="rId2"/>
          <a:stretch/>
        </p:blipFill>
        <p:spPr>
          <a:xfrm>
            <a:off x="6119640" y="2492280"/>
            <a:ext cx="3024360" cy="20764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u=2048766348,3133871720&amp;fm=15&amp;gp=0"/>
          <p:cNvPicPr/>
          <p:nvPr/>
        </p:nvPicPr>
        <p:blipFill>
          <a:blip r:embed="rId3"/>
          <a:stretch/>
        </p:blipFill>
        <p:spPr>
          <a:xfrm>
            <a:off x="6119640" y="4581360"/>
            <a:ext cx="3024360" cy="1874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u=4062452839,2590065808&amp;fm=15&amp;gp=0"/>
          <p:cNvPicPr/>
          <p:nvPr/>
        </p:nvPicPr>
        <p:blipFill>
          <a:blip r:embed="rId4"/>
          <a:stretch/>
        </p:blipFill>
        <p:spPr>
          <a:xfrm>
            <a:off x="1390680" y="4292640"/>
            <a:ext cx="36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六）传导热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947960"/>
            <a:ext cx="333036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坎离砂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3" name="Picture 6" descr="u=2818144435,1530857793&amp;fm=21&amp;gp=0"/>
          <p:cNvPicPr/>
          <p:nvPr/>
        </p:nvPicPr>
        <p:blipFill>
          <a:blip r:embed="rId1"/>
          <a:stretch/>
        </p:blipFill>
        <p:spPr>
          <a:xfrm>
            <a:off x="5064120" y="2421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七）水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9640" y="1341360"/>
            <a:ext cx="2880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9" name="Picture 7" descr="22123"/>
          <p:cNvPicPr/>
          <p:nvPr/>
        </p:nvPicPr>
        <p:blipFill>
          <a:blip r:embed="rId1"/>
          <a:srcRect l="25204" t="13069" r="0" b="19055"/>
          <a:stretch/>
        </p:blipFill>
        <p:spPr>
          <a:xfrm>
            <a:off x="4572000" y="2709720"/>
            <a:ext cx="4103640" cy="37436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8" descr="121102090557407"/>
          <p:cNvPicPr/>
          <p:nvPr/>
        </p:nvPicPr>
        <p:blipFill>
          <a:blip r:embed="rId2"/>
          <a:srcRect l="0" t="0" r="0" b="14712"/>
          <a:stretch/>
        </p:blipFill>
        <p:spPr>
          <a:xfrm>
            <a:off x="4572000" y="981000"/>
            <a:ext cx="4103640" cy="200844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12"/>
          <p:cNvSpPr/>
          <p:nvPr/>
        </p:nvSpPr>
        <p:spPr>
          <a:xfrm>
            <a:off x="2967120" y="2381400"/>
            <a:ext cx="3209760" cy="20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13" descr="100709-3"/>
          <p:cNvPicPr/>
          <p:nvPr/>
        </p:nvPicPr>
        <p:blipFill>
          <a:blip r:embed="rId3"/>
          <a:srcRect l="0" t="7647" r="0" b="15993"/>
          <a:stretch/>
        </p:blipFill>
        <p:spPr>
          <a:xfrm>
            <a:off x="179280" y="3933720"/>
            <a:ext cx="4319640" cy="24735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4"/>
          <p:cNvSpPr/>
          <p:nvPr/>
        </p:nvSpPr>
        <p:spPr>
          <a:xfrm>
            <a:off x="3490920" y="4365720"/>
            <a:ext cx="28908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116000" y="530064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179280" y="443700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Rectangle 17"/>
          <p:cNvSpPr/>
          <p:nvPr/>
        </p:nvSpPr>
        <p:spPr>
          <a:xfrm>
            <a:off x="3995640" y="4294080"/>
            <a:ext cx="28908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Rectangle 18"/>
          <p:cNvSpPr/>
          <p:nvPr/>
        </p:nvSpPr>
        <p:spPr>
          <a:xfrm>
            <a:off x="1979640" y="4363920"/>
            <a:ext cx="2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19"/>
          <p:cNvSpPr/>
          <p:nvPr/>
        </p:nvSpPr>
        <p:spPr>
          <a:xfrm>
            <a:off x="7308720" y="4653000"/>
            <a:ext cx="289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3640" y="2708280"/>
            <a:ext cx="2879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114560" y="1843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低温疗法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333072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5" descr="634256032289843750"/>
          <p:cNvPicPr/>
          <p:nvPr/>
        </p:nvPicPr>
        <p:blipFill>
          <a:blip r:embed="rId1"/>
          <a:stretch/>
        </p:blipFill>
        <p:spPr>
          <a:xfrm>
            <a:off x="5364000" y="1268280"/>
            <a:ext cx="3311640" cy="2648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468431"/>
          <p:cNvPicPr/>
          <p:nvPr/>
        </p:nvPicPr>
        <p:blipFill>
          <a:blip r:embed="rId2"/>
          <a:stretch/>
        </p:blipFill>
        <p:spPr>
          <a:xfrm>
            <a:off x="5580000" y="4292640"/>
            <a:ext cx="2951280" cy="20350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2" name="Picture 8" descr="1268261083682660220"/>
          <p:cNvPicPr/>
          <p:nvPr/>
        </p:nvPicPr>
        <p:blipFill>
          <a:blip r:embed="rId3"/>
          <a:srcRect l="6674" t="13490" r="9319" b="12250"/>
          <a:stretch/>
        </p:blipFill>
        <p:spPr>
          <a:xfrm>
            <a:off x="1116000" y="4292640"/>
            <a:ext cx="3743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200931117253675285687"/>
          <p:cNvPicPr/>
          <p:nvPr/>
        </p:nvPicPr>
        <p:blipFill>
          <a:blip r:embed="rId1"/>
          <a:srcRect l="25222" t="26444" r="16831" b="19364"/>
          <a:stretch/>
        </p:blipFill>
        <p:spPr>
          <a:xfrm>
            <a:off x="5832360" y="105264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八）低温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354636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冷冻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治疗技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临床应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注意事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8" descr="20300000887868134449102860866"/>
          <p:cNvPicPr/>
          <p:nvPr/>
        </p:nvPicPr>
        <p:blipFill>
          <a:blip r:embed="rId2"/>
          <a:stretch/>
        </p:blipFill>
        <p:spPr>
          <a:xfrm>
            <a:off x="5796000" y="3860640"/>
            <a:ext cx="3024000" cy="26164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AutoShape 10"/>
          <p:cNvSpPr/>
          <p:nvPr/>
        </p:nvSpPr>
        <p:spPr>
          <a:xfrm>
            <a:off x="3429000" y="2119320"/>
            <a:ext cx="22860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AutoShape 13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AutoShape 14"/>
          <p:cNvSpPr/>
          <p:nvPr/>
        </p:nvSpPr>
        <p:spPr>
          <a:xfrm>
            <a:off x="2486160" y="2000160"/>
            <a:ext cx="4171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7" name="Picture 16" descr="0129-00176-061b3"/>
          <p:cNvPicPr/>
          <p:nvPr/>
        </p:nvPicPr>
        <p:blipFill>
          <a:blip r:embed="rId3"/>
          <a:srcRect l="12611" t="3334" r="0" b="0"/>
          <a:stretch/>
        </p:blipFill>
        <p:spPr>
          <a:xfrm>
            <a:off x="1547640" y="3933720"/>
            <a:ext cx="3167280" cy="262728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7"/>
          <p:cNvSpPr/>
          <p:nvPr/>
        </p:nvSpPr>
        <p:spPr>
          <a:xfrm>
            <a:off x="2050920" y="4508640"/>
            <a:ext cx="86364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Rectangle 18"/>
          <p:cNvSpPr/>
          <p:nvPr/>
        </p:nvSpPr>
        <p:spPr>
          <a:xfrm>
            <a:off x="709308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Rectangle 19"/>
          <p:cNvSpPr/>
          <p:nvPr/>
        </p:nvSpPr>
        <p:spPr>
          <a:xfrm>
            <a:off x="8028000" y="5084640"/>
            <a:ext cx="57456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840" y="2276640"/>
            <a:ext cx="86104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-181080" y="1197000"/>
            <a:ext cx="9614160" cy="1224000"/>
          </a:xfrm>
          <a:prstGeom prst="irregularSeal2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直流电疗法与直流电药物离子导入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708360" y="256536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708360" y="328464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3708360" y="393372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3708360" y="4724280"/>
            <a:ext cx="1297080" cy="360360"/>
          </a:xfrm>
          <a:custGeom>
            <a:avLst/>
            <a:gdLst>
              <a:gd name="textAreaLeft" fmla="*/ 202680 w 1297080"/>
              <a:gd name="textAreaRight" fmla="*/ 1135080 w 1297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e781e2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2565000"/>
            <a:ext cx="883944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应用频率在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000Hz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以下的脉冲电流来治疗疾病的方法称为低频电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低频电流的特点有：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①电解作用较直流电弱，有些电流无明显的电解作用；②对感觉神经和运动神经都有强的刺激作用；③无明显热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1692360" y="1557360"/>
            <a:ext cx="4968720" cy="10080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220464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电体操疗法：是应用低频脉冲电流刺激神经或肌肉产生收缩起到治疗作用的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285840"/>
            <a:ext cx="5857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258920" y="1341360"/>
            <a:ext cx="6478560" cy="90828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3419640" y="393372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419640" y="465300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3419640" y="5300640"/>
            <a:ext cx="1223640" cy="216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3419640" y="6093000"/>
            <a:ext cx="1223640" cy="21564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0f8e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840" y="2708280"/>
            <a:ext cx="86104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经皮神经电刺激（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TEN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通过皮肤将特定的低频脉冲电流输入人体刺激神经以镇痛、治疗疾病的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419640" y="4221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4869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419640" y="5445000"/>
            <a:ext cx="1079280" cy="7308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419640" y="6093000"/>
            <a:ext cx="1079280" cy="72720"/>
          </a:xfrm>
          <a:custGeom>
            <a:avLst/>
            <a:gdLst>
              <a:gd name="textAreaLeft" fmla="*/ 134640 w 1079280"/>
              <a:gd name="textAreaRight" fmla="*/ 944640 w 107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1403280" y="1700280"/>
            <a:ext cx="6193080" cy="86364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61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2781360"/>
            <a:ext cx="86104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功能性电刺激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FE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疗法：是应用一定强度的低频脉冲电流刺激已丧失功能的器官或肢体，以所产生的即时效应来代替或纠正器官或肢体功能的康复治疗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a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作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b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治疗技术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c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临床应用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.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692360" y="1484280"/>
            <a:ext cx="5184720" cy="914400"/>
          </a:xfrm>
          <a:prstGeom prst="irregularSeal1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低频电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419640" y="4292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419640" y="4797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419640" y="530064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419640" y="5805360"/>
            <a:ext cx="1368360" cy="360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835280" y="33336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统物理疗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40:56Z</dcterms:modified>
  <cp:revision>120</cp:revision>
  <dc:subject/>
  <dc:title>内科护理学</dc:title>
</cp:coreProperties>
</file>