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5F613-3B76-4A5A-9A20-A26FCB4AC3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45DAD-E5EC-493B-BBC9-9E9C419D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5FDD6-EC81-441E-BBF6-AF93521C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04E80-67A6-4A44-B37B-026E6E8CFB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5283F-D91F-4CF2-A0DA-FCE906AB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DA460-30FF-46EB-80E2-E10DD5B9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D9C6E-F77F-4646-89BF-05C0D4E2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08061-D2CB-406B-847B-A8ECFC3A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822D8-142F-456A-804A-16C94B334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53B01-38BB-46C3-9A63-69A79EC9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94DF1-5175-466A-AE98-18CEDC53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6924B-96C8-471F-A2B7-0DE19B80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0CDD-5C29-4C43-8B21-9B4A79EC30E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五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恶性肿瘤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084720" y="55897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陈慧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喉癌根治术后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33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气管造口康复护理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①康复环境 ；② 避免刺激性食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功能康复护理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①非言语交流；②食管言语；③电子喉；④喉再造术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活动功能训练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局部低中频电疗、按摩、主动运动、抗阻运动。②必要时用吊带牵拉或进行矫形手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放在关节活动那"/>
          <p:cNvPicPr/>
          <p:nvPr/>
        </p:nvPicPr>
        <p:blipFill>
          <a:blip r:embed="rId1"/>
          <a:stretch/>
        </p:blipFill>
        <p:spPr>
          <a:xfrm>
            <a:off x="4788000" y="1413000"/>
            <a:ext cx="38512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喉癌根治术后的康复及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形体康复：术后患者可穿高领衣服适当掩盖颈前造口。肩下垂者可穿垫肩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教育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避免说话过多。②劳逸结合。③禁止游泳。④预防感冒等呼吸道疾病的发生。⑤合理饮食，进食稠糊状食品，防止误咽。多吃新鲜水果、蔬菜，预防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癌术后肺功能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术后体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技巧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训练：①深呼吸；   ②腹式呼吸；③辅助呼吸活动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5" name="Picture 4" descr="放呼吸训练那"/>
          <p:cNvPicPr/>
          <p:nvPr/>
        </p:nvPicPr>
        <p:blipFill>
          <a:blip r:embed="rId1"/>
          <a:stretch/>
        </p:blipFill>
        <p:spPr>
          <a:xfrm>
            <a:off x="4788000" y="1700280"/>
            <a:ext cx="3960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癌术后肺功能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下肢与全身运动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术后卧床期间经常伸屈下肢，防止下肢静脉血栓形成。②尽早下地活动，做呼吸操与全身体操，并进行步行、登楼梯等活动，以加大肺通气量。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教育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戒烟； ②练习缓慢、均匀的腹式呼吸； ③指出锻炼的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844280"/>
            <a:ext cx="8610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康教育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身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避免不良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职业性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娱乐康复治疗的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恶性肿瘤的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广义上讲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包括肿瘤的根治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狭义上讲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针对肿瘤所导致的原发性或继发性残疾，通过医学、教育、心理、职业等综合性手段，使肿瘤致残者尽可能改善或恢复功能，提高生活和生存质量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护理评定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躯体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癌症疼痛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cancerous pain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原因及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活动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心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40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恶性肿瘤患者从疑诊、确诊到治疗前后都可能发生剧烈心理变化和心理反应，出现震惊、恐惧、否认、淡漠、抑郁、焦虑、悲伤等情绪。异常心理状态的出现多源于对疾病和治疗不了解及思想准备不足，产生了许多疑问，顾虑重重，使患者不能正确对待疾病，不能适应病后的现实，以致不能配合进行临床治疗和康复治疗，甚至因绝望而拒绝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恶性肿瘤患者心理评定的原则和方法与一般心理评定相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躯体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肿瘤本身所致的功能障碍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原发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继发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肿瘤治疗所致的功能障碍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化疗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手术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放疗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癌症疼痛的原因及评定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压迫致疼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浸润致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治疗损伤致疼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55640" y="3789360"/>
          <a:ext cx="6481800" cy="2311560"/>
        </p:xfrm>
        <a:graphic>
          <a:graphicData uri="http://schemas.openxmlformats.org/drawingml/2006/table">
            <a:tbl>
              <a:tblPr/>
              <a:tblGrid>
                <a:gridCol w="865080"/>
                <a:gridCol w="56167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Verdana"/>
                          <a:ea typeface="宋体"/>
                        </a:rPr>
                        <a:t>级别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Verdana"/>
                          <a:ea typeface="宋体"/>
                        </a:rPr>
                        <a:t>应用镇痛药情况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痛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 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非麻醉性镇痛药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口服麻醉剂 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口服与／或需肌内注射麻醉剂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静脉注射麻醉剂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活动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24000" y="1773360"/>
          <a:ext cx="8610480" cy="429732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133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表现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计分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，无症状，无疾病的表现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10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能正常生活，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能进行正常活动，症状与体征很轻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90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需特殊照顾           经努力能正常活动，有些症状与体征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80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能自我照料，但不能进行正常活动或工作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7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工作，生活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偶需他人协助，但尚能自理多数的个人需要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6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不同程度协助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需他人较多的帮助，常需医疗护理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5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残疾需特殊照顾与协助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自理生活，       严重残疾，应住院，无死亡危险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30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特殊照顾，病       病重，需住院，必须给予积极的支持性治疗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情发展加重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濒临死亡                        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死亡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0     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Rectangle 69"/>
          <p:cNvSpPr/>
          <p:nvPr/>
        </p:nvSpPr>
        <p:spPr>
          <a:xfrm>
            <a:off x="2700360" y="1231920"/>
            <a:ext cx="396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Karnofsky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活动状况评定量表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措施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一）心理康复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二）营养支持康复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三）功能障碍的康复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四）常见癌症康复治疗护理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乳腺癌术后上肢水肿的康复及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喉癌根治术后的康复及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肺癌术后肺功能的康复及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乳腺癌术后上肢水肿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49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保持功能位：可减轻肿胀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被动运动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术后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天即进行小幅度的肩关节被动运动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主动运动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保护患肢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以免引起患肢循环受损及感染。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康复教育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定期体格检查，发现乳房肿块及时诊治。②建立高维生素、高纤维素、低脂肪的饮食结构。③术后尽早进行患侧上肢锻炼。④保护患侧上肢免受损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7T02:23:29Z</dcterms:modified>
  <cp:revision>109</cp:revision>
  <dc:subject/>
  <dc:title>内科护理学</dc:title>
</cp:coreProperties>
</file>