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5896-DB4B-4462-AE33-40810BC465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C0B2-7AEA-4BAF-A4A3-5DB19865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1B76-1ECD-4E63-96DA-9671752E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16D3-A045-4C81-988F-FC72D7C182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8D6C-C139-4882-B44E-5125F16E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F859-06B1-4D26-9411-D345B183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8AFA-73B5-4374-99CC-A9DA7526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7DB8-6449-48D5-8DFE-3522E404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FE32-F358-46F0-A487-F1395CED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1715-CD9A-490B-9EC9-C3A1C31A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F204-B63F-48DF-BD25-44260103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D7E7-5739-41D2-B0DE-7DC5C0B6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B5D7-C102-4314-B5A9-23F60E60C06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539640" y="2276640"/>
            <a:ext cx="187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第十四节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627280" y="249228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843280" y="213372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糖尿病的康复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6299280" y="537372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张金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频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以每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为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或每周运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动次数过少，运动间歇超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，则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训练的效果及运动蓄积效应将减少，已获得改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胰岛素敏感性将会消失，难以达到运动的效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故运动疗法实施必须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每周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次以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强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制订运动计划时，需考虑个体差异、肥胖程度等，多采取低至中等强度的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先从低强度运动，最大耗氧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左右开始，运动时间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良好并能继续适应运动时，可逐渐进入中等强度运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、重度肥胖者可进行中等甚至更强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ma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6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840280"/>
            <a:ext cx="971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适应证和禁忌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应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轻度和中度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为最佳适应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只有在病情稳定、血糖控制良好时，方能进行适当的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禁忌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并发症如酮症酸中毒及高渗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空腹血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&gt;15.0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严重的低血糖倾向，感染，心力衰竭或心律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糖尿病肾病，严重糖尿病视网膜病变，严重糖尿病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2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近发生的血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注意事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制订运动方案前应对患者进行全面的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坚持个体化、循序渐进和持之以恒的原则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实施前后必须行热身活动和放松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运动应适量，如有不适，及时采取措施，修改运动方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存在糖尿病并发症时，尤其要重视运动可能带来的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险，应尽量避免剧烈运动或在医护人员的监护下进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低血糖：胰岛素的注射部位应避开运动肌群，一般选择腹部为好；运动时间应选在餐后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必要时适当减少口服降糖药和胰岛素的剂量。运动中适当补充糖水或甜饮料，预防低血糖的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监测可反映治疗的效果，并指导对治疗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案的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水平的监测可通过检查血和尿来进行，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糖的检查是最理想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频率取决于治疗方法、治疗的目标、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个人的经济条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监测的基本形式是患者的自我血糖监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1" name="Picture 4" descr="西红柿副本"/>
          <p:cNvPicPr/>
          <p:nvPr/>
        </p:nvPicPr>
        <p:blipFill>
          <a:blip r:embed="rId1"/>
          <a:stretch/>
        </p:blipFill>
        <p:spPr>
          <a:xfrm>
            <a:off x="7020000" y="5229360"/>
            <a:ext cx="16556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知识链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0872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糖预防策略“五驾马车”之一：血糖监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确定血糖控制目标值，患者血糖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b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1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控制应个体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性能稳定的血糖仪，学会正确的血糖监测方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血糖监测可及时发现低血糖，处理低血糖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初诊糖尿病患者治疗过程中或降糖方案调整过程中，随着糖、脂毒性解除，胰岛素分泌能力增强，低血糖发生率增加，通过发现血糖下降趋势及时减少降糖药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血糖监测可及时发现一些无感知低血糖及夜间低血糖，对及时调整治疗方案、预防低血糖有着重要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摘自：闫波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杜家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许坤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“五驾马车”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低血糖预防策略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[J]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外医学研究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,2013,11(6):147-148.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4" descr="wybj2_637"/>
          <p:cNvPicPr/>
          <p:nvPr/>
        </p:nvPicPr>
        <p:blipFill>
          <a:blip r:embed="rId1"/>
          <a:stretch/>
        </p:blipFill>
        <p:spPr>
          <a:xfrm>
            <a:off x="5727600" y="2852640"/>
            <a:ext cx="3416400" cy="35877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四）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采取多种形式让糖尿病患者及其家属接受康复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，如组织糖尿病学习班、举办讲座、个别咨询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患者了解糖尿病的基本知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识自我管理、饮食控制、加强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等对控制疾病的益处，以提高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疗和护理的依从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19300001352975132143290529520"/>
          <p:cNvPicPr/>
          <p:nvPr/>
        </p:nvPicPr>
        <p:blipFill>
          <a:blip r:embed="rId1"/>
          <a:stretch/>
        </p:blipFill>
        <p:spPr>
          <a:xfrm>
            <a:off x="7559640" y="4437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398" name="WordArt 3"/>
          <p:cNvSpPr txBox="1"/>
          <p:nvPr/>
        </p:nvSpPr>
        <p:spPr>
          <a:xfrm>
            <a:off x="1763640" y="1197000"/>
            <a:ext cx="3457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高危因素</a:t>
            </a:r>
            <a:endParaRPr b="1" lang="en-US" sz="2800" spc="1" strike="noStrike">
              <a:ln w="0">
                <a:noFill/>
              </a:ln>
              <a:solidFill>
                <a:srgbClr val="ff0000"/>
              </a:soli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99" name="Group 4"/>
          <p:cNvGrpSpPr/>
          <p:nvPr/>
        </p:nvGrpSpPr>
        <p:grpSpPr>
          <a:xfrm>
            <a:off x="324000" y="1844640"/>
            <a:ext cx="7272360" cy="4680000"/>
            <a:chOff x="324000" y="1844640"/>
            <a:chExt cx="7272360" cy="4680000"/>
          </a:xfrm>
        </p:grpSpPr>
        <p:sp>
          <p:nvSpPr>
            <p:cNvPr id="400" name="AutoShape 5"/>
            <p:cNvSpPr/>
            <p:nvPr/>
          </p:nvSpPr>
          <p:spPr>
            <a:xfrm>
              <a:off x="902520" y="2082960"/>
              <a:ext cx="6115320" cy="4204080"/>
            </a:xfrm>
            <a:prstGeom prst="flowChartPredefined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AutoShape 6"/>
            <p:cNvSpPr/>
            <p:nvPr/>
          </p:nvSpPr>
          <p:spPr>
            <a:xfrm>
              <a:off x="32400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AutoShape 7"/>
            <p:cNvSpPr/>
            <p:nvPr/>
          </p:nvSpPr>
          <p:spPr>
            <a:xfrm>
              <a:off x="7017840" y="1844640"/>
              <a:ext cx="578520" cy="4680000"/>
            </a:xfrm>
            <a:prstGeom prst="can">
              <a:avLst>
                <a:gd name="adj" fmla="val 1400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" name="Text Box 8"/>
          <p:cNvSpPr/>
          <p:nvPr/>
        </p:nvSpPr>
        <p:spPr>
          <a:xfrm>
            <a:off x="1744560" y="262728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763640" y="2133720"/>
            <a:ext cx="47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溃疡或截肢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伴保护性感觉受损的周围神经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神经病变的足部生物力学的改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足部压力增加和骨骼变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围血管病变（足背动脉搏动减弱或消失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的趾甲病变和足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振动感觉受损，跟腱反射缺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适当的鞋袜和缺乏教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未知"/>
          <p:cNvSpPr/>
          <p:nvPr/>
        </p:nvSpPr>
        <p:spPr>
          <a:xfrm>
            <a:off x="900000" y="2494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未知"/>
          <p:cNvSpPr/>
          <p:nvPr/>
        </p:nvSpPr>
        <p:spPr>
          <a:xfrm>
            <a:off x="900000" y="285444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900000" y="3502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未知"/>
          <p:cNvSpPr/>
          <p:nvPr/>
        </p:nvSpPr>
        <p:spPr>
          <a:xfrm>
            <a:off x="900000" y="41608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未知"/>
          <p:cNvSpPr/>
          <p:nvPr/>
        </p:nvSpPr>
        <p:spPr>
          <a:xfrm>
            <a:off x="900000" y="4510080"/>
            <a:ext cx="646200" cy="2872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未知"/>
          <p:cNvSpPr/>
          <p:nvPr/>
        </p:nvSpPr>
        <p:spPr>
          <a:xfrm>
            <a:off x="882720" y="5203800"/>
            <a:ext cx="647640" cy="28908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未知"/>
          <p:cNvSpPr/>
          <p:nvPr/>
        </p:nvSpPr>
        <p:spPr>
          <a:xfrm>
            <a:off x="882720" y="5562720"/>
            <a:ext cx="647640" cy="288720"/>
          </a:xfrm>
          <a:custGeom>
            <a:avLst/>
            <a:gdLst/>
            <a:ahLst/>
            <a:rect l="l" t="t" r="r" b="b"/>
            <a:pathLst>
              <a:path w="261" h="124">
                <a:moveTo>
                  <a:pt x="8" y="97"/>
                </a:moveTo>
                <a:cubicBezTo>
                  <a:pt x="3" y="87"/>
                  <a:pt x="0" y="76"/>
                  <a:pt x="0" y="64"/>
                </a:cubicBezTo>
                <a:cubicBezTo>
                  <a:pt x="0" y="50"/>
                  <a:pt x="3" y="38"/>
                  <a:pt x="9" y="27"/>
                </a:cubicBezTo>
                <a:cubicBezTo>
                  <a:pt x="21" y="27"/>
                  <a:pt x="32" y="27"/>
                  <a:pt x="44" y="27"/>
                </a:cubicBezTo>
                <a:cubicBezTo>
                  <a:pt x="73" y="14"/>
                  <a:pt x="98" y="6"/>
                  <a:pt x="120" y="0"/>
                </a:cubicBezTo>
                <a:cubicBezTo>
                  <a:pt x="132" y="6"/>
                  <a:pt x="144" y="11"/>
                  <a:pt x="156" y="18"/>
                </a:cubicBezTo>
                <a:cubicBezTo>
                  <a:pt x="175" y="18"/>
                  <a:pt x="194" y="18"/>
                  <a:pt x="213" y="19"/>
                </a:cubicBezTo>
                <a:cubicBezTo>
                  <a:pt x="217" y="19"/>
                  <a:pt x="221" y="19"/>
                  <a:pt x="225" y="19"/>
                </a:cubicBezTo>
                <a:cubicBezTo>
                  <a:pt x="249" y="19"/>
                  <a:pt x="261" y="24"/>
                  <a:pt x="261" y="36"/>
                </a:cubicBezTo>
                <a:cubicBezTo>
                  <a:pt x="261" y="46"/>
                  <a:pt x="250" y="52"/>
                  <a:pt x="228" y="52"/>
                </a:cubicBezTo>
                <a:cubicBezTo>
                  <a:pt x="225" y="51"/>
                  <a:pt x="222" y="51"/>
                  <a:pt x="219" y="51"/>
                </a:cubicBezTo>
                <a:cubicBezTo>
                  <a:pt x="201" y="52"/>
                  <a:pt x="183" y="52"/>
                  <a:pt x="166" y="52"/>
                </a:cubicBezTo>
                <a:cubicBezTo>
                  <a:pt x="166" y="55"/>
                  <a:pt x="166" y="58"/>
                  <a:pt x="166" y="61"/>
                </a:cubicBezTo>
                <a:cubicBezTo>
                  <a:pt x="166" y="72"/>
                  <a:pt x="161" y="78"/>
                  <a:pt x="152" y="82"/>
                </a:cubicBezTo>
                <a:cubicBezTo>
                  <a:pt x="152" y="84"/>
                  <a:pt x="152" y="86"/>
                  <a:pt x="152" y="87"/>
                </a:cubicBezTo>
                <a:cubicBezTo>
                  <a:pt x="152" y="98"/>
                  <a:pt x="146" y="104"/>
                  <a:pt x="134" y="106"/>
                </a:cubicBezTo>
                <a:cubicBezTo>
                  <a:pt x="134" y="107"/>
                  <a:pt x="134" y="108"/>
                  <a:pt x="134" y="109"/>
                </a:cubicBezTo>
                <a:cubicBezTo>
                  <a:pt x="134" y="115"/>
                  <a:pt x="131" y="119"/>
                  <a:pt x="125" y="121"/>
                </a:cubicBezTo>
                <a:cubicBezTo>
                  <a:pt x="119" y="124"/>
                  <a:pt x="107" y="124"/>
                  <a:pt x="90" y="124"/>
                </a:cubicBezTo>
                <a:cubicBezTo>
                  <a:pt x="81" y="124"/>
                  <a:pt x="73" y="124"/>
                  <a:pt x="67" y="123"/>
                </a:cubicBezTo>
                <a:cubicBezTo>
                  <a:pt x="52" y="116"/>
                  <a:pt x="39" y="107"/>
                  <a:pt x="32" y="97"/>
                </a:cubicBezTo>
                <a:cubicBezTo>
                  <a:pt x="24" y="97"/>
                  <a:pt x="16" y="97"/>
                  <a:pt x="8" y="97"/>
                </a:cubicBezTo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糖尿病足的康复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措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4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4"/>
          <p:cNvSpPr/>
          <p:nvPr/>
        </p:nvSpPr>
        <p:spPr>
          <a:xfrm>
            <a:off x="2031840" y="98100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足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agn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级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47640" y="1341360"/>
          <a:ext cx="7848720" cy="4176720"/>
        </p:xfrm>
        <a:graphic>
          <a:graphicData uri="http://schemas.openxmlformats.org/drawingml/2006/table">
            <a:tbl>
              <a:tblPr/>
              <a:tblGrid>
                <a:gridCol w="863640"/>
                <a:gridCol w="698508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临床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有发生足溃疡的危险因素，目前无溃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表面溃疡，临床上无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较深的溃疡，常合并软组织炎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cellulitis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）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无脓肿或骨的感染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深度感染，伴有骨组织病变或脓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局限性坏疽（趾、足跟或前足背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全足坏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Text Box 57"/>
          <p:cNvSpPr/>
          <p:nvPr/>
        </p:nvSpPr>
        <p:spPr>
          <a:xfrm>
            <a:off x="1260360" y="558972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摘自：中华人民共和国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中国人民解放军总后勤部卫生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.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《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临床护理实践指南（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201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版）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糖尿病足的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减轻足部压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治疗性鞋袜，全接触式支具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殊的支具靴，拐杖和轮椅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足部保护性感觉丧失的患者推荐的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是游泳、骑自行车、划船、坐式运动及手臂的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禁忌长时间行走、跑步和爬楼梯。患者可做患肢伸直抬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高运动、踝关节的伸屈活动、足趾的背伸和跖屈活动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局部治疗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锐器清创和酶或化学清创，敷料包扎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用药和皮肤移植等。足深部感染时，需住院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0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516640"/>
            <a:ext cx="1332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3648240" y="333360"/>
            <a:ext cx="176184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学习目标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9" name="Picture 3" descr="2010042614535375345984_副本"/>
          <p:cNvPicPr/>
          <p:nvPr/>
        </p:nvPicPr>
        <p:blipFill>
          <a:blip r:embed="rId3"/>
          <a:stretch/>
        </p:blipFill>
        <p:spPr>
          <a:xfrm>
            <a:off x="7020000" y="465444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1763640" y="4181400"/>
            <a:ext cx="5400720" cy="1076400"/>
          </a:xfrm>
          <a:prstGeom prst="cube">
            <a:avLst>
              <a:gd name="adj" fmla="val 14856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道糖尿病的主要功能障碍及康复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定的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763640" y="2781360"/>
            <a:ext cx="5400720" cy="1117440"/>
          </a:xfrm>
          <a:prstGeom prst="cube">
            <a:avLst>
              <a:gd name="adj" fmla="val 14856"/>
            </a:avLst>
          </a:prstGeom>
          <a:solidFill>
            <a:srgbClr val="aca4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糖尿病的康复护理指导内容及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052720" y="1825560"/>
            <a:ext cx="2471760" cy="7192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概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357800" y="1825560"/>
            <a:ext cx="2446200" cy="719280"/>
          </a:xfrm>
          <a:prstGeom prst="cube">
            <a:avLst>
              <a:gd name="adj" fmla="val 25000"/>
            </a:avLst>
          </a:prstGeom>
          <a:solidFill>
            <a:srgbClr val="ddb5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2917800" y="1279440"/>
            <a:ext cx="2806560" cy="720720"/>
          </a:xfrm>
          <a:prstGeom prst="cube">
            <a:avLst>
              <a:gd name="adj" fmla="val 21472"/>
            </a:avLst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糖尿病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未知"/>
          <p:cNvSpPr/>
          <p:nvPr/>
        </p:nvSpPr>
        <p:spPr>
          <a:xfrm>
            <a:off x="831960" y="1916280"/>
            <a:ext cx="865080" cy="43308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WordArt 10"/>
          <p:cNvSpPr txBox="1"/>
          <p:nvPr/>
        </p:nvSpPr>
        <p:spPr>
          <a:xfrm>
            <a:off x="950760" y="2030400"/>
            <a:ext cx="241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16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816120" y="30481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WordArt 12"/>
          <p:cNvSpPr txBox="1"/>
          <p:nvPr/>
        </p:nvSpPr>
        <p:spPr>
          <a:xfrm>
            <a:off x="907920" y="3182760"/>
            <a:ext cx="287640" cy="1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16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未知"/>
          <p:cNvSpPr/>
          <p:nvPr/>
        </p:nvSpPr>
        <p:spPr>
          <a:xfrm>
            <a:off x="816120" y="4338720"/>
            <a:ext cx="865080" cy="433440"/>
          </a:xfrm>
          <a:custGeom>
            <a:avLst/>
            <a:gdLst/>
            <a:ahLst/>
            <a:rect l="l" t="t" r="r" b="b"/>
            <a:pathLst>
              <a:path w="1093" h="410">
                <a:moveTo>
                  <a:pt x="21" y="353"/>
                </a:moveTo>
                <a:cubicBezTo>
                  <a:pt x="62" y="348"/>
                  <a:pt x="103" y="344"/>
                  <a:pt x="145" y="340"/>
                </a:cubicBezTo>
                <a:cubicBezTo>
                  <a:pt x="186" y="361"/>
                  <a:pt x="232" y="378"/>
                  <a:pt x="280" y="392"/>
                </a:cubicBezTo>
                <a:cubicBezTo>
                  <a:pt x="300" y="390"/>
                  <a:pt x="328" y="385"/>
                  <a:pt x="364" y="379"/>
                </a:cubicBezTo>
                <a:cubicBezTo>
                  <a:pt x="377" y="391"/>
                  <a:pt x="391" y="397"/>
                  <a:pt x="403" y="403"/>
                </a:cubicBezTo>
                <a:cubicBezTo>
                  <a:pt x="415" y="409"/>
                  <a:pt x="428" y="410"/>
                  <a:pt x="440" y="410"/>
                </a:cubicBezTo>
                <a:cubicBezTo>
                  <a:pt x="463" y="410"/>
                  <a:pt x="483" y="402"/>
                  <a:pt x="501" y="383"/>
                </a:cubicBezTo>
                <a:cubicBezTo>
                  <a:pt x="514" y="390"/>
                  <a:pt x="527" y="392"/>
                  <a:pt x="540" y="392"/>
                </a:cubicBezTo>
                <a:cubicBezTo>
                  <a:pt x="583" y="392"/>
                  <a:pt x="613" y="374"/>
                  <a:pt x="630" y="337"/>
                </a:cubicBezTo>
                <a:cubicBezTo>
                  <a:pt x="638" y="338"/>
                  <a:pt x="647" y="339"/>
                  <a:pt x="656" y="339"/>
                </a:cubicBezTo>
                <a:cubicBezTo>
                  <a:pt x="697" y="339"/>
                  <a:pt x="729" y="332"/>
                  <a:pt x="750" y="319"/>
                </a:cubicBezTo>
                <a:cubicBezTo>
                  <a:pt x="772" y="304"/>
                  <a:pt x="782" y="286"/>
                  <a:pt x="782" y="259"/>
                </a:cubicBezTo>
                <a:cubicBezTo>
                  <a:pt x="782" y="235"/>
                  <a:pt x="772" y="217"/>
                  <a:pt x="751" y="205"/>
                </a:cubicBezTo>
                <a:cubicBezTo>
                  <a:pt x="730" y="193"/>
                  <a:pt x="699" y="187"/>
                  <a:pt x="657" y="187"/>
                </a:cubicBezTo>
                <a:cubicBezTo>
                  <a:pt x="653" y="187"/>
                  <a:pt x="646" y="187"/>
                  <a:pt x="640" y="187"/>
                </a:cubicBezTo>
                <a:cubicBezTo>
                  <a:pt x="633" y="187"/>
                  <a:pt x="625" y="188"/>
                  <a:pt x="618" y="189"/>
                </a:cubicBezTo>
                <a:cubicBezTo>
                  <a:pt x="638" y="178"/>
                  <a:pt x="653" y="169"/>
                  <a:pt x="662" y="163"/>
                </a:cubicBezTo>
                <a:cubicBezTo>
                  <a:pt x="731" y="163"/>
                  <a:pt x="799" y="163"/>
                  <a:pt x="868" y="163"/>
                </a:cubicBezTo>
                <a:cubicBezTo>
                  <a:pt x="954" y="163"/>
                  <a:pt x="1013" y="156"/>
                  <a:pt x="1045" y="139"/>
                </a:cubicBezTo>
                <a:cubicBezTo>
                  <a:pt x="1077" y="122"/>
                  <a:pt x="1093" y="93"/>
                  <a:pt x="1093" y="49"/>
                </a:cubicBezTo>
                <a:cubicBezTo>
                  <a:pt x="1093" y="45"/>
                  <a:pt x="1093" y="41"/>
                  <a:pt x="1093" y="38"/>
                </a:cubicBezTo>
                <a:cubicBezTo>
                  <a:pt x="882" y="24"/>
                  <a:pt x="671" y="13"/>
                  <a:pt x="461" y="0"/>
                </a:cubicBezTo>
                <a:cubicBezTo>
                  <a:pt x="344" y="29"/>
                  <a:pt x="211" y="64"/>
                  <a:pt x="61" y="111"/>
                </a:cubicBezTo>
                <a:cubicBezTo>
                  <a:pt x="57" y="113"/>
                  <a:pt x="43" y="117"/>
                  <a:pt x="20" y="123"/>
                </a:cubicBezTo>
                <a:cubicBezTo>
                  <a:pt x="13" y="138"/>
                  <a:pt x="8" y="155"/>
                  <a:pt x="5" y="175"/>
                </a:cubicBezTo>
                <a:cubicBezTo>
                  <a:pt x="1" y="194"/>
                  <a:pt x="0" y="216"/>
                  <a:pt x="0" y="239"/>
                </a:cubicBezTo>
                <a:cubicBezTo>
                  <a:pt x="0" y="279"/>
                  <a:pt x="7" y="316"/>
                  <a:pt x="21" y="353"/>
                </a:cubicBezTo>
                <a:close/>
                <a:moveTo>
                  <a:pt x="46" y="320"/>
                </a:moveTo>
                <a:cubicBezTo>
                  <a:pt x="39" y="295"/>
                  <a:pt x="35" y="267"/>
                  <a:pt x="35" y="234"/>
                </a:cubicBezTo>
                <a:cubicBezTo>
                  <a:pt x="35" y="218"/>
                  <a:pt x="36" y="203"/>
                  <a:pt x="38" y="189"/>
                </a:cubicBezTo>
                <a:cubicBezTo>
                  <a:pt x="40" y="175"/>
                  <a:pt x="43" y="160"/>
                  <a:pt x="46" y="146"/>
                </a:cubicBezTo>
                <a:cubicBezTo>
                  <a:pt x="191" y="102"/>
                  <a:pt x="331" y="66"/>
                  <a:pt x="463" y="32"/>
                </a:cubicBezTo>
                <a:cubicBezTo>
                  <a:pt x="660" y="43"/>
                  <a:pt x="858" y="55"/>
                  <a:pt x="1056" y="66"/>
                </a:cubicBezTo>
                <a:cubicBezTo>
                  <a:pt x="1048" y="111"/>
                  <a:pt x="998" y="134"/>
                  <a:pt x="908" y="134"/>
                </a:cubicBezTo>
                <a:cubicBezTo>
                  <a:pt x="896" y="133"/>
                  <a:pt x="884" y="133"/>
                  <a:pt x="872" y="133"/>
                </a:cubicBezTo>
                <a:cubicBezTo>
                  <a:pt x="797" y="133"/>
                  <a:pt x="723" y="133"/>
                  <a:pt x="648" y="133"/>
                </a:cubicBezTo>
                <a:cubicBezTo>
                  <a:pt x="623" y="151"/>
                  <a:pt x="589" y="168"/>
                  <a:pt x="547" y="184"/>
                </a:cubicBezTo>
                <a:cubicBezTo>
                  <a:pt x="497" y="167"/>
                  <a:pt x="446" y="157"/>
                  <a:pt x="395" y="150"/>
                </a:cubicBezTo>
                <a:cubicBezTo>
                  <a:pt x="391" y="160"/>
                  <a:pt x="385" y="170"/>
                  <a:pt x="380" y="180"/>
                </a:cubicBezTo>
                <a:cubicBezTo>
                  <a:pt x="458" y="194"/>
                  <a:pt x="524" y="209"/>
                  <a:pt x="578" y="230"/>
                </a:cubicBezTo>
                <a:cubicBezTo>
                  <a:pt x="590" y="226"/>
                  <a:pt x="604" y="223"/>
                  <a:pt x="617" y="221"/>
                </a:cubicBezTo>
                <a:cubicBezTo>
                  <a:pt x="630" y="219"/>
                  <a:pt x="642" y="218"/>
                  <a:pt x="656" y="218"/>
                </a:cubicBezTo>
                <a:cubicBezTo>
                  <a:pt x="685" y="218"/>
                  <a:pt x="708" y="222"/>
                  <a:pt x="723" y="230"/>
                </a:cubicBezTo>
                <a:cubicBezTo>
                  <a:pt x="738" y="236"/>
                  <a:pt x="745" y="247"/>
                  <a:pt x="745" y="261"/>
                </a:cubicBezTo>
                <a:cubicBezTo>
                  <a:pt x="745" y="277"/>
                  <a:pt x="738" y="288"/>
                  <a:pt x="723" y="297"/>
                </a:cubicBezTo>
                <a:cubicBezTo>
                  <a:pt x="708" y="305"/>
                  <a:pt x="687" y="309"/>
                  <a:pt x="657" y="309"/>
                </a:cubicBezTo>
                <a:cubicBezTo>
                  <a:pt x="630" y="309"/>
                  <a:pt x="604" y="304"/>
                  <a:pt x="580" y="296"/>
                </a:cubicBezTo>
                <a:cubicBezTo>
                  <a:pt x="496" y="320"/>
                  <a:pt x="398" y="340"/>
                  <a:pt x="290" y="359"/>
                </a:cubicBezTo>
                <a:cubicBezTo>
                  <a:pt x="243" y="350"/>
                  <a:pt x="196" y="334"/>
                  <a:pt x="150" y="307"/>
                </a:cubicBezTo>
                <a:cubicBezTo>
                  <a:pt x="115" y="312"/>
                  <a:pt x="81" y="316"/>
                  <a:pt x="46" y="320"/>
                </a:cubicBezTo>
                <a:close/>
                <a:moveTo>
                  <a:pt x="575" y="329"/>
                </a:moveTo>
                <a:cubicBezTo>
                  <a:pt x="580" y="330"/>
                  <a:pt x="585" y="331"/>
                  <a:pt x="589" y="332"/>
                </a:cubicBezTo>
                <a:cubicBezTo>
                  <a:pt x="579" y="352"/>
                  <a:pt x="562" y="362"/>
                  <a:pt x="537" y="362"/>
                </a:cubicBezTo>
                <a:cubicBezTo>
                  <a:pt x="528" y="362"/>
                  <a:pt x="517" y="357"/>
                  <a:pt x="507" y="346"/>
                </a:cubicBezTo>
                <a:cubicBezTo>
                  <a:pt x="530" y="340"/>
                  <a:pt x="552" y="335"/>
                  <a:pt x="575" y="329"/>
                </a:cubicBezTo>
                <a:close/>
                <a:moveTo>
                  <a:pt x="481" y="351"/>
                </a:moveTo>
                <a:cubicBezTo>
                  <a:pt x="474" y="370"/>
                  <a:pt x="461" y="380"/>
                  <a:pt x="441" y="380"/>
                </a:cubicBezTo>
                <a:cubicBezTo>
                  <a:pt x="435" y="380"/>
                  <a:pt x="429" y="379"/>
                  <a:pt x="424" y="377"/>
                </a:cubicBezTo>
                <a:cubicBezTo>
                  <a:pt x="418" y="375"/>
                  <a:pt x="412" y="374"/>
                  <a:pt x="408" y="371"/>
                </a:cubicBezTo>
                <a:cubicBezTo>
                  <a:pt x="432" y="364"/>
                  <a:pt x="457" y="357"/>
                  <a:pt x="481" y="351"/>
                </a:cubicBezTo>
                <a:close/>
              </a:path>
            </a:pathLst>
          </a:custGeom>
          <a:gradFill rotWithShape="0">
            <a:gsLst>
              <a:gs pos="0">
                <a:srgbClr val="000080"/>
              </a:gs>
              <a:gs pos="100000">
                <a:srgbClr val="00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WordArt 14"/>
          <p:cNvSpPr txBox="1"/>
          <p:nvPr/>
        </p:nvSpPr>
        <p:spPr>
          <a:xfrm>
            <a:off x="898560" y="4459320"/>
            <a:ext cx="287280" cy="1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16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0" descr="20100314085414924"/>
          <p:cNvPicPr/>
          <p:nvPr/>
        </p:nvPicPr>
        <p:blipFill>
          <a:blip r:embed="rId1"/>
          <a:stretch/>
        </p:blipFill>
        <p:spPr>
          <a:xfrm>
            <a:off x="7885080" y="4984920"/>
            <a:ext cx="1258920" cy="150156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539640" y="1628640"/>
            <a:ext cx="7658280" cy="4540320"/>
            <a:chOff x="539640" y="1628640"/>
            <a:chExt cx="7658280" cy="4540320"/>
          </a:xfrm>
        </p:grpSpPr>
        <p:sp>
          <p:nvSpPr>
            <p:cNvPr id="423" name="Oval 4"/>
            <p:cNvSpPr/>
            <p:nvPr/>
          </p:nvSpPr>
          <p:spPr>
            <a:xfrm>
              <a:off x="2057040" y="1628640"/>
              <a:ext cx="4597560" cy="4540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0196"/>
                  </a:srgbClr>
                </a:gs>
                <a:gs pos="100000">
                  <a:srgbClr val="ffffff">
                    <a:alpha val="30196"/>
                  </a:srgbClr>
                </a:gs>
              </a:gsLst>
              <a:lin ang="5400000"/>
            </a:gradFill>
            <a:ln w="19080">
              <a:solidFill>
                <a:srgbClr val="c0c0c0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AutoShape 5"/>
            <p:cNvSpPr/>
            <p:nvPr/>
          </p:nvSpPr>
          <p:spPr>
            <a:xfrm>
              <a:off x="539640" y="2034720"/>
              <a:ext cx="177912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饮食指导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Dotum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AutoShape 6"/>
            <p:cNvSpPr/>
            <p:nvPr/>
          </p:nvSpPr>
          <p:spPr>
            <a:xfrm>
              <a:off x="539640" y="365724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" name="AutoShape 7"/>
            <p:cNvSpPr/>
            <p:nvPr/>
          </p:nvSpPr>
          <p:spPr>
            <a:xfrm>
              <a:off x="539640" y="5162400"/>
              <a:ext cx="177912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用药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" name="AutoShape 8"/>
            <p:cNvSpPr/>
            <p:nvPr/>
          </p:nvSpPr>
          <p:spPr>
            <a:xfrm>
              <a:off x="6418080" y="3665520"/>
              <a:ext cx="1779840" cy="49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预防并发症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AutoShape 9"/>
            <p:cNvSpPr/>
            <p:nvPr/>
          </p:nvSpPr>
          <p:spPr>
            <a:xfrm>
              <a:off x="6418080" y="2098440"/>
              <a:ext cx="1779840" cy="58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自我监测指导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AutoShape 10"/>
            <p:cNvSpPr/>
            <p:nvPr/>
          </p:nvSpPr>
          <p:spPr>
            <a:xfrm>
              <a:off x="6418080" y="5153040"/>
              <a:ext cx="177984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心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2315520" y="4711680"/>
              <a:ext cx="1533240" cy="695160"/>
            </a:xfrm>
            <a:custGeom>
              <a:avLst/>
              <a:gdLst/>
              <a:ahLst/>
              <a:rect l="l" t="t" r="r" b="b"/>
              <a:pathLst>
                <a:path w="966" h="438">
                  <a:moveTo>
                    <a:pt x="0" y="430"/>
                  </a:moveTo>
                  <a:lnTo>
                    <a:pt x="396" y="438"/>
                  </a:lnTo>
                  <a:lnTo>
                    <a:pt x="966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2315520" y="2320560"/>
              <a:ext cx="1476360" cy="838080"/>
            </a:xfrm>
            <a:custGeom>
              <a:avLst/>
              <a:gdLst/>
              <a:ahLst/>
              <a:rect l="l" t="t" r="r" b="b"/>
              <a:pathLst>
                <a:path w="930" h="528">
                  <a:moveTo>
                    <a:pt x="0" y="16"/>
                  </a:moveTo>
                  <a:lnTo>
                    <a:pt x="402" y="0"/>
                  </a:lnTo>
                  <a:lnTo>
                    <a:pt x="930" y="528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>
              <a:off x="2325240" y="3873240"/>
              <a:ext cx="116208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5097240" y="2368080"/>
              <a:ext cx="1333440" cy="771480"/>
            </a:xfrm>
            <a:custGeom>
              <a:avLst/>
              <a:gdLst/>
              <a:ahLst/>
              <a:rect l="l" t="t" r="r" b="b"/>
              <a:pathLst>
                <a:path w="840" h="486">
                  <a:moveTo>
                    <a:pt x="840" y="0"/>
                  </a:moveTo>
                  <a:lnTo>
                    <a:pt x="450" y="0"/>
                  </a:lnTo>
                  <a:lnTo>
                    <a:pt x="0" y="486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" name="Line 15"/>
            <p:cNvSpPr/>
            <p:nvPr/>
          </p:nvSpPr>
          <p:spPr>
            <a:xfrm flipH="1">
              <a:off x="5392080" y="3882960"/>
              <a:ext cx="1028520" cy="1800"/>
            </a:xfrm>
            <a:prstGeom prst="line">
              <a:avLst/>
            </a:prstGeom>
            <a:ln w="1908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020920" y="4711680"/>
              <a:ext cx="1419120" cy="695160"/>
            </a:xfrm>
            <a:custGeom>
              <a:avLst/>
              <a:gdLst/>
              <a:ahLst/>
              <a:rect l="l" t="t" r="r" b="b"/>
              <a:pathLst>
                <a:path w="894" h="438">
                  <a:moveTo>
                    <a:pt x="894" y="438"/>
                  </a:moveTo>
                  <a:lnTo>
                    <a:pt x="486" y="43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96969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AutoShape 17"/>
            <p:cNvSpPr/>
            <p:nvPr/>
          </p:nvSpPr>
          <p:spPr>
            <a:xfrm>
              <a:off x="2982240" y="2514240"/>
              <a:ext cx="2743200" cy="2698560"/>
            </a:xfrm>
            <a:custGeom>
              <a:avLst/>
              <a:gdLst>
                <a:gd name="textAreaLeft" fmla="*/ 401760 w 2743200"/>
                <a:gd name="textAreaRight" fmla="*/ 2341440 w 2743200"/>
                <a:gd name="textAreaTop" fmla="*/ 394920 h 2698560"/>
                <a:gd name="textAreaBottom" fmla="*/ 2303640 h 26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9c9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AutoShape 18"/>
            <p:cNvSpPr/>
            <p:nvPr/>
          </p:nvSpPr>
          <p:spPr>
            <a:xfrm>
              <a:off x="3306240" y="2833920"/>
              <a:ext cx="2085840" cy="2050920"/>
            </a:xfrm>
            <a:custGeom>
              <a:avLst/>
              <a:gdLst>
                <a:gd name="textAreaLeft" fmla="*/ 305280 w 2085840"/>
                <a:gd name="textAreaRight" fmla="*/ 1780560 w 2085840"/>
                <a:gd name="textAreaTop" fmla="*/ 300240 h 2050920"/>
                <a:gd name="textAreaBottom" fmla="*/ 1750680 h 20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421" y="10800"/>
                  </a:moveTo>
                  <a:cubicBezTo>
                    <a:pt x="4421" y="14323"/>
                    <a:pt x="7277" y="17179"/>
                    <a:pt x="10800" y="17179"/>
                  </a:cubicBezTo>
                  <a:cubicBezTo>
                    <a:pt x="14323" y="17179"/>
                    <a:pt x="17179" y="14323"/>
                    <a:pt x="17179" y="10800"/>
                  </a:cubicBezTo>
                  <a:cubicBezTo>
                    <a:pt x="17179" y="7277"/>
                    <a:pt x="14323" y="4421"/>
                    <a:pt x="10800" y="4421"/>
                  </a:cubicBezTo>
                  <a:cubicBezTo>
                    <a:pt x="7277" y="4421"/>
                    <a:pt x="4421" y="7277"/>
                    <a:pt x="4421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Oval 19"/>
            <p:cNvSpPr/>
            <p:nvPr/>
          </p:nvSpPr>
          <p:spPr>
            <a:xfrm>
              <a:off x="3524040" y="3046320"/>
              <a:ext cx="1613880" cy="16603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Ｄ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cc00"/>
                  </a:solidFill>
                  <a:latin typeface="Arial Black"/>
                  <a:ea typeface="宋体"/>
                </a:rPr>
                <a:t>护理指导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>
              <a:off x="3735000" y="3961080"/>
              <a:ext cx="125712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五）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93920" y="2919240"/>
            <a:ext cx="2254320" cy="1779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1413000"/>
            <a:ext cx="835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abetes mellit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M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组由于胰岛素分泌不足和（或）作用缺陷，引起糖类、脂肪、蛋白质等代谢紊乱，以长期高血糖为主要表现的综合征，是临床的常见病和多发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图片 3" descr="护士.jpg"/>
          <p:cNvPicPr/>
          <p:nvPr/>
        </p:nvPicPr>
        <p:blipFill>
          <a:blip r:embed="rId2"/>
          <a:stretch/>
        </p:blipFill>
        <p:spPr>
          <a:xfrm>
            <a:off x="7716960" y="4941720"/>
            <a:ext cx="1427040" cy="1640160"/>
          </a:xfrm>
          <a:prstGeom prst="rect">
            <a:avLst/>
          </a:prstGeom>
          <a:ln w="0">
            <a:noFill/>
          </a:ln>
        </p:spPr>
      </p:pic>
      <p:sp>
        <p:nvSpPr>
          <p:cNvPr id="124" name="内容占位符 2"/>
          <p:cNvSpPr/>
          <p:nvPr/>
        </p:nvSpPr>
        <p:spPr>
          <a:xfrm>
            <a:off x="0" y="3933720"/>
            <a:ext cx="839484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国际糖尿病联盟估计，目前全世界约有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2.8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糖尿病患者，预测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将上升到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我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上成年人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尿病患病率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.7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成人糖尿病总数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2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-14400" y="2158920"/>
            <a:ext cx="1846440" cy="2060640"/>
            <a:chOff x="-14400" y="2158920"/>
            <a:chExt cx="1846440" cy="2060640"/>
          </a:xfrm>
        </p:grpSpPr>
        <p:sp>
          <p:nvSpPr>
            <p:cNvPr id="127" name="Line 3"/>
            <p:cNvSpPr/>
            <p:nvPr/>
          </p:nvSpPr>
          <p:spPr>
            <a:xfrm flipV="1">
              <a:off x="923400" y="2584440"/>
              <a:ext cx="74340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4"/>
            <p:cNvSpPr/>
            <p:nvPr/>
          </p:nvSpPr>
          <p:spPr>
            <a:xfrm>
              <a:off x="282240" y="2925000"/>
              <a:ext cx="1021320" cy="1197000"/>
            </a:xfrm>
            <a:custGeom>
              <a:avLst/>
              <a:gdLst>
                <a:gd name="textAreaLeft" fmla="*/ 0 w 1021320"/>
                <a:gd name="textAreaRight" fmla="*/ 1021680 w 1021320"/>
                <a:gd name="textAreaTop" fmla="*/ 0 h 1197000"/>
                <a:gd name="textAreaBottom" fmla="*/ 1197360 h 1197000"/>
              </a:gdLst>
              <a:ahLst/>
              <a:rect l="textAreaLeft" t="textAreaTop" r="textAreaRight" b="textAreaBottom"/>
              <a:pathLst>
                <a:path w="439" h="616">
                  <a:moveTo>
                    <a:pt x="65" y="42"/>
                  </a:moveTo>
                  <a:cubicBezTo>
                    <a:pt x="65" y="42"/>
                    <a:pt x="89" y="86"/>
                    <a:pt x="89" y="101"/>
                  </a:cubicBezTo>
                  <a:cubicBezTo>
                    <a:pt x="88" y="116"/>
                    <a:pt x="86" y="153"/>
                    <a:pt x="77" y="164"/>
                  </a:cubicBezTo>
                  <a:cubicBezTo>
                    <a:pt x="67" y="175"/>
                    <a:pt x="23" y="237"/>
                    <a:pt x="20" y="244"/>
                  </a:cubicBezTo>
                  <a:cubicBezTo>
                    <a:pt x="17" y="251"/>
                    <a:pt x="0" y="300"/>
                    <a:pt x="45" y="339"/>
                  </a:cubicBezTo>
                  <a:cubicBezTo>
                    <a:pt x="90" y="377"/>
                    <a:pt x="78" y="350"/>
                    <a:pt x="117" y="353"/>
                  </a:cubicBezTo>
                  <a:cubicBezTo>
                    <a:pt x="156" y="356"/>
                    <a:pt x="143" y="361"/>
                    <a:pt x="121" y="369"/>
                  </a:cubicBezTo>
                  <a:cubicBezTo>
                    <a:pt x="100" y="377"/>
                    <a:pt x="95" y="395"/>
                    <a:pt x="116" y="433"/>
                  </a:cubicBezTo>
                  <a:cubicBezTo>
                    <a:pt x="138" y="471"/>
                    <a:pt x="152" y="489"/>
                    <a:pt x="152" y="479"/>
                  </a:cubicBezTo>
                  <a:cubicBezTo>
                    <a:pt x="152" y="469"/>
                    <a:pt x="154" y="459"/>
                    <a:pt x="159" y="468"/>
                  </a:cubicBezTo>
                  <a:cubicBezTo>
                    <a:pt x="165" y="477"/>
                    <a:pt x="223" y="552"/>
                    <a:pt x="230" y="552"/>
                  </a:cubicBezTo>
                  <a:cubicBezTo>
                    <a:pt x="236" y="552"/>
                    <a:pt x="221" y="533"/>
                    <a:pt x="225" y="529"/>
                  </a:cubicBezTo>
                  <a:cubicBezTo>
                    <a:pt x="229" y="524"/>
                    <a:pt x="253" y="544"/>
                    <a:pt x="279" y="560"/>
                  </a:cubicBezTo>
                  <a:cubicBezTo>
                    <a:pt x="305" y="577"/>
                    <a:pt x="373" y="616"/>
                    <a:pt x="406" y="578"/>
                  </a:cubicBezTo>
                  <a:cubicBezTo>
                    <a:pt x="439" y="540"/>
                    <a:pt x="360" y="471"/>
                    <a:pt x="351" y="462"/>
                  </a:cubicBezTo>
                  <a:cubicBezTo>
                    <a:pt x="343" y="454"/>
                    <a:pt x="336" y="450"/>
                    <a:pt x="346" y="452"/>
                  </a:cubicBezTo>
                  <a:cubicBezTo>
                    <a:pt x="355" y="454"/>
                    <a:pt x="365" y="459"/>
                    <a:pt x="358" y="449"/>
                  </a:cubicBezTo>
                  <a:cubicBezTo>
                    <a:pt x="351" y="439"/>
                    <a:pt x="305" y="383"/>
                    <a:pt x="300" y="370"/>
                  </a:cubicBezTo>
                  <a:cubicBezTo>
                    <a:pt x="296" y="357"/>
                    <a:pt x="276" y="332"/>
                    <a:pt x="276" y="278"/>
                  </a:cubicBezTo>
                  <a:cubicBezTo>
                    <a:pt x="276" y="278"/>
                    <a:pt x="255" y="244"/>
                    <a:pt x="254" y="211"/>
                  </a:cubicBezTo>
                  <a:cubicBezTo>
                    <a:pt x="252" y="178"/>
                    <a:pt x="256" y="151"/>
                    <a:pt x="260" y="138"/>
                  </a:cubicBezTo>
                  <a:cubicBezTo>
                    <a:pt x="265" y="125"/>
                    <a:pt x="287" y="49"/>
                    <a:pt x="290" y="43"/>
                  </a:cubicBezTo>
                  <a:cubicBezTo>
                    <a:pt x="294" y="37"/>
                    <a:pt x="279" y="12"/>
                    <a:pt x="267" y="8"/>
                  </a:cubicBezTo>
                  <a:cubicBezTo>
                    <a:pt x="255" y="4"/>
                    <a:pt x="238" y="0"/>
                    <a:pt x="233" y="6"/>
                  </a:cubicBezTo>
                  <a:cubicBezTo>
                    <a:pt x="227" y="12"/>
                    <a:pt x="197" y="48"/>
                    <a:pt x="188" y="70"/>
                  </a:cubicBezTo>
                  <a:cubicBezTo>
                    <a:pt x="180" y="92"/>
                    <a:pt x="171" y="111"/>
                    <a:pt x="166" y="102"/>
                  </a:cubicBezTo>
                  <a:cubicBezTo>
                    <a:pt x="162" y="93"/>
                    <a:pt x="137" y="66"/>
                    <a:pt x="97" y="20"/>
                  </a:cubicBezTo>
                  <a:cubicBezTo>
                    <a:pt x="97" y="20"/>
                    <a:pt x="84" y="20"/>
                    <a:pt x="65" y="4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5"/>
            <p:cNvSpPr/>
            <p:nvPr/>
          </p:nvSpPr>
          <p:spPr>
            <a:xfrm>
              <a:off x="908640" y="2902320"/>
              <a:ext cx="676800" cy="12528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1252800"/>
                <a:gd name="textAreaBottom" fmla="*/ 1253160 h 1252800"/>
              </a:gdLst>
              <a:ahLst/>
              <a:rect l="textAreaLeft" t="textAreaTop" r="textAreaRight" b="textAreaBottom"/>
              <a:pathLst>
                <a:path w="290" h="644">
                  <a:moveTo>
                    <a:pt x="117" y="43"/>
                  </a:moveTo>
                  <a:cubicBezTo>
                    <a:pt x="95" y="48"/>
                    <a:pt x="65" y="62"/>
                    <a:pt x="41" y="86"/>
                  </a:cubicBezTo>
                  <a:cubicBezTo>
                    <a:pt x="41" y="86"/>
                    <a:pt x="5" y="135"/>
                    <a:pt x="3" y="161"/>
                  </a:cubicBezTo>
                  <a:cubicBezTo>
                    <a:pt x="0" y="186"/>
                    <a:pt x="7" y="235"/>
                    <a:pt x="22" y="299"/>
                  </a:cubicBezTo>
                  <a:cubicBezTo>
                    <a:pt x="37" y="368"/>
                    <a:pt x="163" y="536"/>
                    <a:pt x="188" y="582"/>
                  </a:cubicBezTo>
                  <a:cubicBezTo>
                    <a:pt x="201" y="605"/>
                    <a:pt x="261" y="644"/>
                    <a:pt x="279" y="558"/>
                  </a:cubicBezTo>
                  <a:cubicBezTo>
                    <a:pt x="286" y="526"/>
                    <a:pt x="272" y="473"/>
                    <a:pt x="271" y="458"/>
                  </a:cubicBezTo>
                  <a:cubicBezTo>
                    <a:pt x="270" y="442"/>
                    <a:pt x="267" y="414"/>
                    <a:pt x="265" y="382"/>
                  </a:cubicBezTo>
                  <a:cubicBezTo>
                    <a:pt x="262" y="350"/>
                    <a:pt x="267" y="350"/>
                    <a:pt x="266" y="340"/>
                  </a:cubicBezTo>
                  <a:cubicBezTo>
                    <a:pt x="265" y="330"/>
                    <a:pt x="258" y="307"/>
                    <a:pt x="265" y="292"/>
                  </a:cubicBezTo>
                  <a:cubicBezTo>
                    <a:pt x="272" y="278"/>
                    <a:pt x="263" y="275"/>
                    <a:pt x="266" y="249"/>
                  </a:cubicBezTo>
                  <a:cubicBezTo>
                    <a:pt x="269" y="224"/>
                    <a:pt x="274" y="236"/>
                    <a:pt x="273" y="209"/>
                  </a:cubicBezTo>
                  <a:cubicBezTo>
                    <a:pt x="273" y="183"/>
                    <a:pt x="277" y="196"/>
                    <a:pt x="278" y="172"/>
                  </a:cubicBezTo>
                  <a:cubicBezTo>
                    <a:pt x="280" y="148"/>
                    <a:pt x="290" y="141"/>
                    <a:pt x="290" y="118"/>
                  </a:cubicBezTo>
                  <a:cubicBezTo>
                    <a:pt x="290" y="96"/>
                    <a:pt x="290" y="53"/>
                    <a:pt x="287" y="46"/>
                  </a:cubicBezTo>
                  <a:cubicBezTo>
                    <a:pt x="284" y="40"/>
                    <a:pt x="278" y="39"/>
                    <a:pt x="273" y="24"/>
                  </a:cubicBezTo>
                  <a:cubicBezTo>
                    <a:pt x="267" y="9"/>
                    <a:pt x="263" y="1"/>
                    <a:pt x="248" y="0"/>
                  </a:cubicBezTo>
                  <a:cubicBezTo>
                    <a:pt x="233" y="0"/>
                    <a:pt x="180" y="2"/>
                    <a:pt x="147" y="15"/>
                  </a:cubicBezTo>
                  <a:cubicBezTo>
                    <a:pt x="114" y="26"/>
                    <a:pt x="118" y="25"/>
                    <a:pt x="114" y="34"/>
                  </a:cubicBezTo>
                  <a:cubicBezTo>
                    <a:pt x="110" y="43"/>
                    <a:pt x="132" y="51"/>
                    <a:pt x="148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AutoShape 6"/>
            <p:cNvSpPr/>
            <p:nvPr/>
          </p:nvSpPr>
          <p:spPr>
            <a:xfrm>
              <a:off x="405360" y="2890080"/>
              <a:ext cx="593280" cy="287640"/>
            </a:xfrm>
            <a:custGeom>
              <a:avLst/>
              <a:gdLst>
                <a:gd name="textAreaLeft" fmla="*/ 0 w 593280"/>
                <a:gd name="textAreaRight" fmla="*/ 593640 w 59328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5" h="148">
                  <a:moveTo>
                    <a:pt x="8" y="100"/>
                  </a:moveTo>
                  <a:cubicBezTo>
                    <a:pt x="15" y="93"/>
                    <a:pt x="15" y="93"/>
                    <a:pt x="15" y="93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39" y="16"/>
                    <a:pt x="50" y="24"/>
                  </a:cubicBezTo>
                  <a:cubicBezTo>
                    <a:pt x="61" y="32"/>
                    <a:pt x="76" y="50"/>
                    <a:pt x="91" y="60"/>
                  </a:cubicBezTo>
                  <a:cubicBezTo>
                    <a:pt x="106" y="71"/>
                    <a:pt x="116" y="90"/>
                    <a:pt x="116" y="90"/>
                  </a:cubicBezTo>
                  <a:cubicBezTo>
                    <a:pt x="116" y="90"/>
                    <a:pt x="169" y="12"/>
                    <a:pt x="174" y="11"/>
                  </a:cubicBezTo>
                  <a:cubicBezTo>
                    <a:pt x="179" y="10"/>
                    <a:pt x="237" y="0"/>
                    <a:pt x="255" y="57"/>
                  </a:cubicBezTo>
                  <a:cubicBezTo>
                    <a:pt x="255" y="57"/>
                    <a:pt x="232" y="110"/>
                    <a:pt x="226" y="148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7"/>
            <p:cNvSpPr/>
            <p:nvPr/>
          </p:nvSpPr>
          <p:spPr>
            <a:xfrm>
              <a:off x="110880" y="3553200"/>
              <a:ext cx="235800" cy="357480"/>
            </a:xfrm>
            <a:custGeom>
              <a:avLst/>
              <a:gdLst>
                <a:gd name="textAreaLeft" fmla="*/ 0 w 235800"/>
                <a:gd name="textAreaRight" fmla="*/ 236160 w 23580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01" h="184">
                  <a:moveTo>
                    <a:pt x="47" y="0"/>
                  </a:moveTo>
                  <a:cubicBezTo>
                    <a:pt x="0" y="152"/>
                    <a:pt x="0" y="152"/>
                    <a:pt x="0" y="152"/>
                  </a:cubicBezTo>
                  <a:cubicBezTo>
                    <a:pt x="0" y="152"/>
                    <a:pt x="9" y="173"/>
                    <a:pt x="31" y="179"/>
                  </a:cubicBezTo>
                  <a:cubicBezTo>
                    <a:pt x="54" y="184"/>
                    <a:pt x="69" y="174"/>
                    <a:pt x="69" y="174"/>
                  </a:cubicBezTo>
                  <a:cubicBezTo>
                    <a:pt x="101" y="70"/>
                    <a:pt x="101" y="70"/>
                    <a:pt x="101" y="7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8"/>
            <p:cNvSpPr/>
            <p:nvPr/>
          </p:nvSpPr>
          <p:spPr>
            <a:xfrm>
              <a:off x="119160" y="2446560"/>
              <a:ext cx="409320" cy="638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638640"/>
                <a:gd name="textAreaBottom" fmla="*/ 639000 h 638640"/>
              </a:gdLst>
              <a:ahLst/>
              <a:rect l="textAreaLeft" t="textAreaTop" r="textAreaRight" b="textAreaBottom"/>
              <a:pathLst>
                <a:path w="176" h="329">
                  <a:moveTo>
                    <a:pt x="114" y="329"/>
                  </a:moveTo>
                  <a:cubicBezTo>
                    <a:pt x="114" y="329"/>
                    <a:pt x="6" y="67"/>
                    <a:pt x="6" y="44"/>
                  </a:cubicBezTo>
                  <a:cubicBezTo>
                    <a:pt x="6" y="44"/>
                    <a:pt x="0" y="23"/>
                    <a:pt x="30" y="12"/>
                  </a:cubicBezTo>
                  <a:cubicBezTo>
                    <a:pt x="60" y="0"/>
                    <a:pt x="71" y="14"/>
                    <a:pt x="71" y="17"/>
                  </a:cubicBezTo>
                  <a:cubicBezTo>
                    <a:pt x="71" y="19"/>
                    <a:pt x="125" y="192"/>
                    <a:pt x="176" y="25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>
              <a:off x="810720" y="2754000"/>
              <a:ext cx="102240" cy="156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44" h="81">
                  <a:moveTo>
                    <a:pt x="30" y="0"/>
                  </a:moveTo>
                  <a:cubicBezTo>
                    <a:pt x="30" y="0"/>
                    <a:pt x="44" y="1"/>
                    <a:pt x="44" y="11"/>
                  </a:cubicBezTo>
                  <a:cubicBezTo>
                    <a:pt x="44" y="21"/>
                    <a:pt x="30" y="48"/>
                    <a:pt x="0" y="8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>
              <a:off x="994320" y="2748600"/>
              <a:ext cx="672480" cy="272160"/>
            </a:xfrm>
            <a:custGeom>
              <a:avLst/>
              <a:gdLst>
                <a:gd name="textAreaLeft" fmla="*/ 0 w 672480"/>
                <a:gd name="textAreaRight" fmla="*/ 672840 w 6724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89" h="140">
                  <a:moveTo>
                    <a:pt x="0" y="140"/>
                  </a:moveTo>
                  <a:cubicBezTo>
                    <a:pt x="0" y="140"/>
                    <a:pt x="27" y="72"/>
                    <a:pt x="107" y="32"/>
                  </a:cubicBezTo>
                  <a:cubicBezTo>
                    <a:pt x="145" y="13"/>
                    <a:pt x="193" y="3"/>
                    <a:pt x="289" y="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11"/>
            <p:cNvSpPr/>
            <p:nvPr/>
          </p:nvSpPr>
          <p:spPr>
            <a:xfrm>
              <a:off x="1631520" y="2586240"/>
              <a:ext cx="68760" cy="16200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12"/>
            <p:cNvSpPr/>
            <p:nvPr/>
          </p:nvSpPr>
          <p:spPr>
            <a:xfrm>
              <a:off x="1641960" y="2602080"/>
              <a:ext cx="47880" cy="1342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>
              <a:off x="862920" y="2568960"/>
              <a:ext cx="173160" cy="22320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74" h="115">
                  <a:moveTo>
                    <a:pt x="19" y="115"/>
                  </a:moveTo>
                  <a:cubicBezTo>
                    <a:pt x="19" y="115"/>
                    <a:pt x="0" y="96"/>
                    <a:pt x="5" y="57"/>
                  </a:cubicBezTo>
                  <a:cubicBezTo>
                    <a:pt x="10" y="18"/>
                    <a:pt x="37" y="0"/>
                    <a:pt x="53" y="1"/>
                  </a:cubicBezTo>
                  <a:cubicBezTo>
                    <a:pt x="68" y="2"/>
                    <a:pt x="74" y="11"/>
                    <a:pt x="74" y="1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>
              <a:off x="413640" y="2158920"/>
              <a:ext cx="1010880" cy="886320"/>
            </a:xfrm>
            <a:custGeom>
              <a:avLst/>
              <a:gdLst>
                <a:gd name="textAreaLeft" fmla="*/ 0 w 1010880"/>
                <a:gd name="textAreaRight" fmla="*/ 1011240 w 1010880"/>
                <a:gd name="textAreaTop" fmla="*/ 0 h 886320"/>
                <a:gd name="textAreaBottom" fmla="*/ 886680 h 886320"/>
              </a:gdLst>
              <a:ahLst/>
              <a:rect l="textAreaLeft" t="textAreaTop" r="textAreaRight" b="textAreaBottom"/>
              <a:pathLst>
                <a:path w="434" h="456">
                  <a:moveTo>
                    <a:pt x="118" y="456"/>
                  </a:moveTo>
                  <a:cubicBezTo>
                    <a:pt x="118" y="456"/>
                    <a:pt x="74" y="410"/>
                    <a:pt x="56" y="362"/>
                  </a:cubicBezTo>
                  <a:cubicBezTo>
                    <a:pt x="38" y="315"/>
                    <a:pt x="42" y="272"/>
                    <a:pt x="40" y="230"/>
                  </a:cubicBezTo>
                  <a:cubicBezTo>
                    <a:pt x="39" y="188"/>
                    <a:pt x="17" y="163"/>
                    <a:pt x="2" y="145"/>
                  </a:cubicBezTo>
                  <a:cubicBezTo>
                    <a:pt x="2" y="145"/>
                    <a:pt x="0" y="115"/>
                    <a:pt x="23" y="98"/>
                  </a:cubicBezTo>
                  <a:cubicBezTo>
                    <a:pt x="47" y="81"/>
                    <a:pt x="65" y="78"/>
                    <a:pt x="76" y="77"/>
                  </a:cubicBezTo>
                  <a:cubicBezTo>
                    <a:pt x="76" y="77"/>
                    <a:pt x="102" y="116"/>
                    <a:pt x="132" y="105"/>
                  </a:cubicBezTo>
                  <a:cubicBezTo>
                    <a:pt x="162" y="94"/>
                    <a:pt x="193" y="72"/>
                    <a:pt x="197" y="56"/>
                  </a:cubicBezTo>
                  <a:cubicBezTo>
                    <a:pt x="202" y="41"/>
                    <a:pt x="201" y="22"/>
                    <a:pt x="201" y="22"/>
                  </a:cubicBezTo>
                  <a:cubicBezTo>
                    <a:pt x="201" y="22"/>
                    <a:pt x="231" y="0"/>
                    <a:pt x="265" y="26"/>
                  </a:cubicBezTo>
                  <a:cubicBezTo>
                    <a:pt x="265" y="26"/>
                    <a:pt x="252" y="87"/>
                    <a:pt x="282" y="94"/>
                  </a:cubicBezTo>
                  <a:cubicBezTo>
                    <a:pt x="312" y="102"/>
                    <a:pt x="353" y="56"/>
                    <a:pt x="362" y="43"/>
                  </a:cubicBezTo>
                  <a:cubicBezTo>
                    <a:pt x="362" y="43"/>
                    <a:pt x="416" y="39"/>
                    <a:pt x="423" y="90"/>
                  </a:cubicBezTo>
                  <a:cubicBezTo>
                    <a:pt x="423" y="90"/>
                    <a:pt x="384" y="123"/>
                    <a:pt x="401" y="162"/>
                  </a:cubicBezTo>
                  <a:cubicBezTo>
                    <a:pt x="419" y="201"/>
                    <a:pt x="434" y="220"/>
                    <a:pt x="434" y="220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 flipV="1">
              <a:off x="403200" y="2748240"/>
              <a:ext cx="112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6"/>
            <p:cNvSpPr/>
            <p:nvPr/>
          </p:nvSpPr>
          <p:spPr>
            <a:xfrm>
              <a:off x="-14400" y="2608920"/>
              <a:ext cx="237960" cy="142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42920"/>
                <a:gd name="textAreaBottom" fmla="*/ 142920 h 142920"/>
              </a:gdLst>
              <a:ahLst/>
              <a:rect l="textAreaLeft" t="textAreaTop" r="textAreaRight" b="textAreaBottom"/>
              <a:pathLst>
                <a:path w="102" h="73">
                  <a:moveTo>
                    <a:pt x="76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0" y="26"/>
                    <a:pt x="32" y="73"/>
                  </a:cubicBezTo>
                  <a:cubicBezTo>
                    <a:pt x="102" y="73"/>
                    <a:pt x="102" y="73"/>
                    <a:pt x="102" y="7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 flipH="1">
              <a:off x="336240" y="2605320"/>
              <a:ext cx="169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AutoShape 18"/>
            <p:cNvSpPr/>
            <p:nvPr/>
          </p:nvSpPr>
          <p:spPr>
            <a:xfrm>
              <a:off x="1084320" y="2917800"/>
              <a:ext cx="93960" cy="644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40" h="33">
                  <a:moveTo>
                    <a:pt x="0" y="0"/>
                  </a:moveTo>
                  <a:cubicBezTo>
                    <a:pt x="0" y="0"/>
                    <a:pt x="38" y="28"/>
                    <a:pt x="40" y="33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19"/>
            <p:cNvSpPr/>
            <p:nvPr/>
          </p:nvSpPr>
          <p:spPr>
            <a:xfrm>
              <a:off x="131760" y="2876040"/>
              <a:ext cx="1700280" cy="1343520"/>
            </a:xfrm>
            <a:custGeom>
              <a:avLst/>
              <a:gdLst>
                <a:gd name="textAreaLeft" fmla="*/ 0 w 1700280"/>
                <a:gd name="textAreaRight" fmla="*/ 1700640 w 1700280"/>
                <a:gd name="textAreaTop" fmla="*/ 0 h 1343520"/>
                <a:gd name="textAreaBottom" fmla="*/ 1343880 h 1343520"/>
              </a:gdLst>
              <a:ahLst/>
              <a:rect l="textAreaLeft" t="textAreaTop" r="textAreaRight" b="textAreaBottom"/>
              <a:pathLst>
                <a:path w="730" h="691">
                  <a:moveTo>
                    <a:pt x="441" y="44"/>
                  </a:moveTo>
                  <a:cubicBezTo>
                    <a:pt x="441" y="44"/>
                    <a:pt x="456" y="22"/>
                    <a:pt x="484" y="19"/>
                  </a:cubicBezTo>
                  <a:cubicBezTo>
                    <a:pt x="512" y="15"/>
                    <a:pt x="579" y="0"/>
                    <a:pt x="592" y="8"/>
                  </a:cubicBezTo>
                  <a:cubicBezTo>
                    <a:pt x="605" y="16"/>
                    <a:pt x="612" y="41"/>
                    <a:pt x="620" y="48"/>
                  </a:cubicBezTo>
                  <a:cubicBezTo>
                    <a:pt x="629" y="55"/>
                    <a:pt x="642" y="82"/>
                    <a:pt x="642" y="87"/>
                  </a:cubicBezTo>
                  <a:cubicBezTo>
                    <a:pt x="642" y="92"/>
                    <a:pt x="637" y="147"/>
                    <a:pt x="643" y="160"/>
                  </a:cubicBezTo>
                  <a:cubicBezTo>
                    <a:pt x="649" y="174"/>
                    <a:pt x="692" y="258"/>
                    <a:pt x="695" y="312"/>
                  </a:cubicBezTo>
                  <a:cubicBezTo>
                    <a:pt x="695" y="350"/>
                    <a:pt x="695" y="350"/>
                    <a:pt x="695" y="350"/>
                  </a:cubicBezTo>
                  <a:cubicBezTo>
                    <a:pt x="695" y="350"/>
                    <a:pt x="721" y="635"/>
                    <a:pt x="585" y="653"/>
                  </a:cubicBezTo>
                  <a:cubicBezTo>
                    <a:pt x="448" y="671"/>
                    <a:pt x="348" y="636"/>
                    <a:pt x="275" y="598"/>
                  </a:cubicBezTo>
                  <a:cubicBezTo>
                    <a:pt x="202" y="560"/>
                    <a:pt x="155" y="470"/>
                    <a:pt x="139" y="427"/>
                  </a:cubicBezTo>
                  <a:cubicBezTo>
                    <a:pt x="122" y="383"/>
                    <a:pt x="117" y="392"/>
                    <a:pt x="117" y="392"/>
                  </a:cubicBezTo>
                  <a:cubicBezTo>
                    <a:pt x="64" y="347"/>
                    <a:pt x="57" y="335"/>
                    <a:pt x="60" y="284"/>
                  </a:cubicBezTo>
                  <a:cubicBezTo>
                    <a:pt x="64" y="232"/>
                    <a:pt x="74" y="252"/>
                    <a:pt x="82" y="232"/>
                  </a:cubicBezTo>
                  <a:cubicBezTo>
                    <a:pt x="90" y="212"/>
                    <a:pt x="104" y="200"/>
                    <a:pt x="104" y="187"/>
                  </a:cubicBezTo>
                  <a:cubicBezTo>
                    <a:pt x="104" y="174"/>
                    <a:pt x="117" y="150"/>
                    <a:pt x="119" y="142"/>
                  </a:cubicBezTo>
                  <a:cubicBezTo>
                    <a:pt x="120" y="134"/>
                    <a:pt x="125" y="104"/>
                    <a:pt x="125" y="104"/>
                  </a:cubicBezTo>
                  <a:cubicBezTo>
                    <a:pt x="109" y="104"/>
                    <a:pt x="79" y="134"/>
                    <a:pt x="79" y="134"/>
                  </a:cubicBezTo>
                  <a:cubicBezTo>
                    <a:pt x="34" y="149"/>
                    <a:pt x="52" y="159"/>
                    <a:pt x="30" y="177"/>
                  </a:cubicBezTo>
                  <a:cubicBezTo>
                    <a:pt x="9" y="195"/>
                    <a:pt x="10" y="240"/>
                    <a:pt x="10" y="240"/>
                  </a:cubicBezTo>
                  <a:cubicBezTo>
                    <a:pt x="0" y="264"/>
                    <a:pt x="12" y="285"/>
                    <a:pt x="14" y="298"/>
                  </a:cubicBezTo>
                  <a:cubicBezTo>
                    <a:pt x="15" y="312"/>
                    <a:pt x="14" y="313"/>
                    <a:pt x="29" y="338"/>
                  </a:cubicBezTo>
                  <a:cubicBezTo>
                    <a:pt x="44" y="363"/>
                    <a:pt x="39" y="347"/>
                    <a:pt x="44" y="357"/>
                  </a:cubicBezTo>
                  <a:cubicBezTo>
                    <a:pt x="49" y="367"/>
                    <a:pt x="50" y="370"/>
                    <a:pt x="62" y="382"/>
                  </a:cubicBezTo>
                  <a:cubicBezTo>
                    <a:pt x="74" y="393"/>
                    <a:pt x="97" y="420"/>
                    <a:pt x="99" y="432"/>
                  </a:cubicBezTo>
                  <a:cubicBezTo>
                    <a:pt x="100" y="443"/>
                    <a:pt x="144" y="520"/>
                    <a:pt x="154" y="528"/>
                  </a:cubicBezTo>
                  <a:cubicBezTo>
                    <a:pt x="164" y="537"/>
                    <a:pt x="185" y="558"/>
                    <a:pt x="204" y="580"/>
                  </a:cubicBezTo>
                  <a:cubicBezTo>
                    <a:pt x="222" y="602"/>
                    <a:pt x="258" y="626"/>
                    <a:pt x="337" y="656"/>
                  </a:cubicBezTo>
                  <a:cubicBezTo>
                    <a:pt x="415" y="686"/>
                    <a:pt x="482" y="688"/>
                    <a:pt x="558" y="690"/>
                  </a:cubicBezTo>
                  <a:cubicBezTo>
                    <a:pt x="635" y="691"/>
                    <a:pt x="668" y="655"/>
                    <a:pt x="668" y="655"/>
                  </a:cubicBezTo>
                  <a:cubicBezTo>
                    <a:pt x="668" y="655"/>
                    <a:pt x="730" y="595"/>
                    <a:pt x="695" y="31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AutoShape 20"/>
            <p:cNvSpPr/>
            <p:nvPr/>
          </p:nvSpPr>
          <p:spPr>
            <a:xfrm>
              <a:off x="1217880" y="2813040"/>
              <a:ext cx="578520" cy="81720"/>
            </a:xfrm>
            <a:custGeom>
              <a:avLst/>
              <a:gdLst>
                <a:gd name="textAreaLeft" fmla="*/ 0 w 578520"/>
                <a:gd name="textAreaRight" fmla="*/ 578880 w 5785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49" h="42">
                  <a:moveTo>
                    <a:pt x="0" y="8"/>
                  </a:moveTo>
                  <a:cubicBezTo>
                    <a:pt x="0" y="8"/>
                    <a:pt x="21" y="5"/>
                    <a:pt x="27" y="11"/>
                  </a:cubicBezTo>
                  <a:cubicBezTo>
                    <a:pt x="27" y="11"/>
                    <a:pt x="55" y="0"/>
                    <a:pt x="61" y="14"/>
                  </a:cubicBezTo>
                  <a:cubicBezTo>
                    <a:pt x="61" y="14"/>
                    <a:pt x="88" y="7"/>
                    <a:pt x="97" y="22"/>
                  </a:cubicBezTo>
                  <a:cubicBezTo>
                    <a:pt x="97" y="22"/>
                    <a:pt x="134" y="15"/>
                    <a:pt x="151" y="42"/>
                  </a:cubicBezTo>
                  <a:cubicBezTo>
                    <a:pt x="151" y="42"/>
                    <a:pt x="230" y="21"/>
                    <a:pt x="249" y="22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AutoShape 21"/>
            <p:cNvSpPr/>
            <p:nvPr/>
          </p:nvSpPr>
          <p:spPr>
            <a:xfrm>
              <a:off x="1589760" y="2917800"/>
              <a:ext cx="214920" cy="5220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3" h="27">
                  <a:moveTo>
                    <a:pt x="93" y="0"/>
                  </a:moveTo>
                  <a:cubicBezTo>
                    <a:pt x="93" y="0"/>
                    <a:pt x="32" y="8"/>
                    <a:pt x="0" y="2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AutoShape 22"/>
            <p:cNvSpPr/>
            <p:nvPr/>
          </p:nvSpPr>
          <p:spPr>
            <a:xfrm>
              <a:off x="1608840" y="2963160"/>
              <a:ext cx="22680" cy="79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0" h="41">
                  <a:moveTo>
                    <a:pt x="0" y="0"/>
                  </a:moveTo>
                  <a:cubicBezTo>
                    <a:pt x="10" y="24"/>
                    <a:pt x="8" y="31"/>
                    <a:pt x="9" y="41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>
              <a:off x="1617120" y="2968560"/>
              <a:ext cx="171000" cy="9216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73" h="47">
                  <a:moveTo>
                    <a:pt x="0" y="9"/>
                  </a:moveTo>
                  <a:cubicBezTo>
                    <a:pt x="0" y="9"/>
                    <a:pt x="59" y="0"/>
                    <a:pt x="67" y="2"/>
                  </a:cubicBezTo>
                  <a:cubicBezTo>
                    <a:pt x="67" y="2"/>
                    <a:pt x="72" y="7"/>
                    <a:pt x="73" y="32"/>
                  </a:cubicBezTo>
                  <a:cubicBezTo>
                    <a:pt x="73" y="32"/>
                    <a:pt x="20" y="37"/>
                    <a:pt x="5" y="47"/>
                  </a:cubicBez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>
              <a:off x="1784160" y="2855160"/>
              <a:ext cx="31320" cy="62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3" h="33">
                  <a:moveTo>
                    <a:pt x="12" y="16"/>
                  </a:moveTo>
                  <a:cubicBezTo>
                    <a:pt x="13" y="25"/>
                    <a:pt x="11" y="33"/>
                    <a:pt x="8" y="33"/>
                  </a:cubicBezTo>
                  <a:cubicBezTo>
                    <a:pt x="4" y="33"/>
                    <a:pt x="1" y="26"/>
                    <a:pt x="0" y="17"/>
                  </a:cubicBezTo>
                  <a:cubicBezTo>
                    <a:pt x="0" y="8"/>
                    <a:pt x="2" y="1"/>
                    <a:pt x="5" y="0"/>
                  </a:cubicBezTo>
                  <a:cubicBezTo>
                    <a:pt x="8" y="0"/>
                    <a:pt x="12" y="7"/>
                    <a:pt x="12" y="16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9" name="Picture 25" descr=""/>
          <p:cNvPicPr/>
          <p:nvPr/>
        </p:nvPicPr>
        <p:blipFill>
          <a:blip r:embed="rId1"/>
          <a:stretch/>
        </p:blipFill>
        <p:spPr>
          <a:xfrm>
            <a:off x="6292800" y="4867200"/>
            <a:ext cx="2738520" cy="15940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1835280" y="1700280"/>
            <a:ext cx="1450800" cy="2735280"/>
            <a:chOff x="1835280" y="1700280"/>
            <a:chExt cx="1450800" cy="2735280"/>
          </a:xfrm>
        </p:grpSpPr>
        <p:grpSp>
          <p:nvGrpSpPr>
            <p:cNvPr id="151" name="Group 27"/>
            <p:cNvGrpSpPr/>
            <p:nvPr/>
          </p:nvGrpSpPr>
          <p:grpSpPr>
            <a:xfrm>
              <a:off x="1835280" y="1700280"/>
              <a:ext cx="1450800" cy="2735280"/>
              <a:chOff x="1835280" y="1700280"/>
              <a:chExt cx="1450800" cy="2735280"/>
            </a:xfrm>
          </p:grpSpPr>
          <p:sp>
            <p:nvSpPr>
              <p:cNvPr id="152" name="AutoShape 28"/>
              <p:cNvSpPr/>
              <p:nvPr/>
            </p:nvSpPr>
            <p:spPr>
              <a:xfrm>
                <a:off x="1835280" y="1908720"/>
                <a:ext cx="1446480" cy="1936800"/>
              </a:xfrm>
              <a:custGeom>
                <a:avLst/>
                <a:gdLst>
                  <a:gd name="textAreaLeft" fmla="*/ 74160 w 1446480"/>
                  <a:gd name="textAreaRight" fmla="*/ 1372320 w 14464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920">
                    <a:moveTo>
                      <a:pt x="3782" y="0"/>
                    </a:moveTo>
                    <a:arcTo wR="3782" hR="3782" stAng="16200000" swAng="-5400000"/>
                    <a:lnTo>
                      <a:pt x="0" y="25138"/>
                    </a:lnTo>
                    <a:arcTo wR="3782" hR="3782" stAng="10800000" swAng="-5400000"/>
                    <a:lnTo>
                      <a:pt x="17818" y="28920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AutoShape 29"/>
              <p:cNvSpPr/>
              <p:nvPr/>
            </p:nvSpPr>
            <p:spPr>
              <a:xfrm>
                <a:off x="1857600" y="1914480"/>
                <a:ext cx="1402920" cy="1900080"/>
              </a:xfrm>
              <a:custGeom>
                <a:avLst/>
                <a:gdLst>
                  <a:gd name="textAreaLeft" fmla="*/ 68400 w 1402920"/>
                  <a:gd name="textAreaRight" fmla="*/ 1334520 w 140292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53">
                    <a:moveTo>
                      <a:pt x="3600" y="0"/>
                    </a:moveTo>
                    <a:arcTo wR="3600" hR="3600" stAng="16200000" swAng="-5400000"/>
                    <a:lnTo>
                      <a:pt x="0" y="25653"/>
                    </a:lnTo>
                    <a:arcTo wR="3600" hR="3600" stAng="10800000" swAng="-5400000"/>
                    <a:lnTo>
                      <a:pt x="18000" y="2925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4" name="AutoShape 30"/>
              <p:cNvSpPr/>
              <p:nvPr/>
            </p:nvSpPr>
            <p:spPr>
              <a:xfrm>
                <a:off x="1869120" y="3313080"/>
                <a:ext cx="13838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5" name="AutoShape 31"/>
              <p:cNvSpPr/>
              <p:nvPr/>
            </p:nvSpPr>
            <p:spPr>
              <a:xfrm>
                <a:off x="1869120" y="1929240"/>
                <a:ext cx="13838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6" name="AutoShape 32"/>
              <p:cNvSpPr/>
              <p:nvPr/>
            </p:nvSpPr>
            <p:spPr>
              <a:xfrm>
                <a:off x="1839600" y="3845880"/>
                <a:ext cx="14464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AutoShape 33"/>
              <p:cNvSpPr/>
              <p:nvPr/>
            </p:nvSpPr>
            <p:spPr>
              <a:xfrm>
                <a:off x="1869120" y="3861720"/>
                <a:ext cx="138384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58" name="Group 34"/>
              <p:cNvGrpSpPr/>
              <p:nvPr/>
            </p:nvGrpSpPr>
            <p:grpSpPr>
              <a:xfrm>
                <a:off x="2332800" y="1700280"/>
                <a:ext cx="429840" cy="435600"/>
                <a:chOff x="2332800" y="1700280"/>
                <a:chExt cx="429840" cy="435600"/>
              </a:xfrm>
            </p:grpSpPr>
            <p:sp>
              <p:nvSpPr>
                <p:cNvPr id="159" name="Oval 35"/>
                <p:cNvSpPr/>
                <p:nvPr/>
              </p:nvSpPr>
              <p:spPr>
                <a:xfrm>
                  <a:off x="2332800" y="1700280"/>
                  <a:ext cx="42984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0" name="Oval 36"/>
                <p:cNvSpPr/>
                <p:nvPr/>
              </p:nvSpPr>
              <p:spPr>
                <a:xfrm>
                  <a:off x="2337120" y="1703520"/>
                  <a:ext cx="41580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1" name="Oval 37"/>
                <p:cNvSpPr/>
                <p:nvPr/>
              </p:nvSpPr>
              <p:spPr>
                <a:xfrm>
                  <a:off x="2342160" y="1706040"/>
                  <a:ext cx="40608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Oval 38"/>
                <p:cNvSpPr/>
                <p:nvPr/>
              </p:nvSpPr>
              <p:spPr>
                <a:xfrm>
                  <a:off x="2346840" y="1710000"/>
                  <a:ext cx="38592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3" name="Oval 39"/>
                <p:cNvSpPr/>
                <p:nvPr/>
              </p:nvSpPr>
              <p:spPr>
                <a:xfrm>
                  <a:off x="2369160" y="1720440"/>
                  <a:ext cx="34308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40"/>
              <p:cNvSpPr/>
              <p:nvPr/>
            </p:nvSpPr>
            <p:spPr>
              <a:xfrm>
                <a:off x="2425320" y="176256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Text Box 41"/>
              <p:cNvSpPr/>
              <p:nvPr/>
            </p:nvSpPr>
            <p:spPr>
              <a:xfrm>
                <a:off x="1886040" y="2216520"/>
                <a:ext cx="13755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Text Box 42"/>
            <p:cNvSpPr/>
            <p:nvPr/>
          </p:nvSpPr>
          <p:spPr>
            <a:xfrm>
              <a:off x="2041560" y="206064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生理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功能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589800" y="1720800"/>
            <a:ext cx="1628640" cy="2735280"/>
            <a:chOff x="6589800" y="1720800"/>
            <a:chExt cx="1628640" cy="2735280"/>
          </a:xfrm>
        </p:grpSpPr>
        <p:grpSp>
          <p:nvGrpSpPr>
            <p:cNvPr id="168" name="Group 44"/>
            <p:cNvGrpSpPr/>
            <p:nvPr/>
          </p:nvGrpSpPr>
          <p:grpSpPr>
            <a:xfrm>
              <a:off x="6661440" y="1720800"/>
              <a:ext cx="1449000" cy="2735280"/>
              <a:chOff x="6661440" y="1720800"/>
              <a:chExt cx="1449000" cy="2735280"/>
            </a:xfrm>
          </p:grpSpPr>
          <p:sp>
            <p:nvSpPr>
              <p:cNvPr id="169" name="AutoShape 45"/>
              <p:cNvSpPr/>
              <p:nvPr/>
            </p:nvSpPr>
            <p:spPr>
              <a:xfrm>
                <a:off x="6665760" y="1929240"/>
                <a:ext cx="1444680" cy="1936800"/>
              </a:xfrm>
              <a:custGeom>
                <a:avLst/>
                <a:gdLst>
                  <a:gd name="textAreaLeft" fmla="*/ 73800 w 1444680"/>
                  <a:gd name="textAreaRight" fmla="*/ 1370880 w 1444680"/>
                  <a:gd name="textAreaTop" fmla="*/ 73800 h 1936800"/>
                  <a:gd name="textAreaBottom" fmla="*/ 1863000 h 1936800"/>
                </a:gdLst>
                <a:ahLst/>
                <a:rect l="textAreaLeft" t="textAreaTop" r="textAreaRight" b="textAreaBottom"/>
                <a:pathLst>
                  <a:path w="21600" h="28956">
                    <a:moveTo>
                      <a:pt x="3782" y="0"/>
                    </a:moveTo>
                    <a:arcTo wR="3782" hR="3782" stAng="16200000" swAng="-5400000"/>
                    <a:lnTo>
                      <a:pt x="0" y="25174"/>
                    </a:lnTo>
                    <a:arcTo wR="3782" hR="3782" stAng="10800000" swAng="-5400000"/>
                    <a:lnTo>
                      <a:pt x="17818" y="28956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AutoShape 46"/>
              <p:cNvSpPr/>
              <p:nvPr/>
            </p:nvSpPr>
            <p:spPr>
              <a:xfrm>
                <a:off x="6687720" y="1935000"/>
                <a:ext cx="1401480" cy="1900080"/>
              </a:xfrm>
              <a:custGeom>
                <a:avLst/>
                <a:gdLst>
                  <a:gd name="textAreaLeft" fmla="*/ 68400 w 1401480"/>
                  <a:gd name="textAreaRight" fmla="*/ 1333080 w 1401480"/>
                  <a:gd name="textAreaTop" fmla="*/ 68400 h 1900080"/>
                  <a:gd name="textAreaBottom" fmla="*/ 1831680 h 1900080"/>
                </a:gdLst>
                <a:ahLst/>
                <a:rect l="textAreaLeft" t="textAreaTop" r="textAreaRight" b="textAreaBottom"/>
                <a:pathLst>
                  <a:path w="21600" h="29283">
                    <a:moveTo>
                      <a:pt x="3600" y="0"/>
                    </a:moveTo>
                    <a:arcTo wR="3600" hR="3600" stAng="16200000" swAng="-5400000"/>
                    <a:lnTo>
                      <a:pt x="0" y="25683"/>
                    </a:lnTo>
                    <a:arcTo wR="3600" hR="3600" stAng="10800000" swAng="-5400000"/>
                    <a:lnTo>
                      <a:pt x="18000" y="292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1" name="AutoShape 47"/>
              <p:cNvSpPr/>
              <p:nvPr/>
            </p:nvSpPr>
            <p:spPr>
              <a:xfrm>
                <a:off x="6699600" y="3333600"/>
                <a:ext cx="1382040" cy="48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2" name="AutoShape 48"/>
              <p:cNvSpPr/>
              <p:nvPr/>
            </p:nvSpPr>
            <p:spPr>
              <a:xfrm>
                <a:off x="6699600" y="1949760"/>
                <a:ext cx="13820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73" name="Group 49"/>
              <p:cNvGrpSpPr/>
              <p:nvPr/>
            </p:nvGrpSpPr>
            <p:grpSpPr>
              <a:xfrm>
                <a:off x="7162560" y="1720800"/>
                <a:ext cx="429120" cy="435600"/>
                <a:chOff x="7162560" y="1720800"/>
                <a:chExt cx="429120" cy="435600"/>
              </a:xfrm>
            </p:grpSpPr>
            <p:sp>
              <p:nvSpPr>
                <p:cNvPr id="174" name="Oval 50"/>
                <p:cNvSpPr/>
                <p:nvPr/>
              </p:nvSpPr>
              <p:spPr>
                <a:xfrm>
                  <a:off x="7162560" y="1720800"/>
                  <a:ext cx="429120" cy="4356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7160" bIns="4716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1"/>
                <p:cNvSpPr/>
                <p:nvPr/>
              </p:nvSpPr>
              <p:spPr>
                <a:xfrm>
                  <a:off x="7166880" y="1724040"/>
                  <a:ext cx="415080" cy="42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2"/>
                <p:cNvSpPr/>
                <p:nvPr/>
              </p:nvSpPr>
              <p:spPr>
                <a:xfrm>
                  <a:off x="7171920" y="1726560"/>
                  <a:ext cx="405360" cy="41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3"/>
                <p:cNvSpPr/>
                <p:nvPr/>
              </p:nvSpPr>
              <p:spPr>
                <a:xfrm>
                  <a:off x="7176600" y="1730520"/>
                  <a:ext cx="385560" cy="38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4"/>
                <p:cNvSpPr/>
                <p:nvPr/>
              </p:nvSpPr>
              <p:spPr>
                <a:xfrm>
                  <a:off x="7198920" y="1740960"/>
                  <a:ext cx="342360" cy="31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7160" bIns="471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Text Box 55"/>
              <p:cNvSpPr/>
              <p:nvPr/>
            </p:nvSpPr>
            <p:spPr>
              <a:xfrm>
                <a:off x="7254720" y="1783080"/>
                <a:ext cx="2365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Text Box 56"/>
              <p:cNvSpPr/>
              <p:nvPr/>
            </p:nvSpPr>
            <p:spPr>
              <a:xfrm>
                <a:off x="6716160" y="2237040"/>
                <a:ext cx="1373760" cy="78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" name="AutoShape 57"/>
              <p:cNvSpPr/>
              <p:nvPr/>
            </p:nvSpPr>
            <p:spPr>
              <a:xfrm>
                <a:off x="6661440" y="3866400"/>
                <a:ext cx="144468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58"/>
              <p:cNvSpPr/>
              <p:nvPr/>
            </p:nvSpPr>
            <p:spPr>
              <a:xfrm>
                <a:off x="6690960" y="3882240"/>
                <a:ext cx="1382400" cy="523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7160" bIns="47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3" name="Text Box 59"/>
            <p:cNvSpPr/>
            <p:nvPr/>
          </p:nvSpPr>
          <p:spPr>
            <a:xfrm>
              <a:off x="6589800" y="2153160"/>
              <a:ext cx="1628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理、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参与能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4" name="Group 60"/>
          <p:cNvGrpSpPr/>
          <p:nvPr/>
        </p:nvGrpSpPr>
        <p:grpSpPr>
          <a:xfrm>
            <a:off x="36360" y="5518080"/>
            <a:ext cx="9141480" cy="1195560"/>
            <a:chOff x="36360" y="5518080"/>
            <a:chExt cx="9141480" cy="1195560"/>
          </a:xfrm>
        </p:grpSpPr>
        <p:grpSp>
          <p:nvGrpSpPr>
            <p:cNvPr id="185" name="Group 61"/>
            <p:cNvGrpSpPr/>
            <p:nvPr/>
          </p:nvGrpSpPr>
          <p:grpSpPr>
            <a:xfrm>
              <a:off x="4605840" y="5518080"/>
              <a:ext cx="4572000" cy="1195560"/>
              <a:chOff x="4605840" y="5518080"/>
              <a:chExt cx="4572000" cy="1195560"/>
            </a:xfrm>
          </p:grpSpPr>
          <p:sp>
            <p:nvSpPr>
              <p:cNvPr id="186" name="Line 62"/>
              <p:cNvSpPr/>
              <p:nvPr/>
            </p:nvSpPr>
            <p:spPr>
              <a:xfrm>
                <a:off x="4605840" y="5518080"/>
                <a:ext cx="457200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4605840" y="5518080"/>
                <a:ext cx="457200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4605840" y="5518080"/>
                <a:ext cx="4336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4605840" y="5518080"/>
                <a:ext cx="3632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4605840" y="5518080"/>
                <a:ext cx="2971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Line 67"/>
              <p:cNvSpPr/>
              <p:nvPr/>
            </p:nvSpPr>
            <p:spPr>
              <a:xfrm>
                <a:off x="4605840" y="5518080"/>
                <a:ext cx="23054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68"/>
              <p:cNvSpPr/>
              <p:nvPr/>
            </p:nvSpPr>
            <p:spPr>
              <a:xfrm>
                <a:off x="4605840" y="5518080"/>
                <a:ext cx="17193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69"/>
              <p:cNvSpPr/>
              <p:nvPr/>
            </p:nvSpPr>
            <p:spPr>
              <a:xfrm>
                <a:off x="4605840" y="5518080"/>
                <a:ext cx="11350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4" name="Line 70"/>
              <p:cNvSpPr/>
              <p:nvPr/>
            </p:nvSpPr>
            <p:spPr>
              <a:xfrm>
                <a:off x="4605840" y="5518080"/>
                <a:ext cx="5475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Line 71"/>
              <p:cNvSpPr/>
              <p:nvPr/>
            </p:nvSpPr>
            <p:spPr>
              <a:xfrm>
                <a:off x="4605840" y="5518080"/>
                <a:ext cx="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72"/>
              <p:cNvSpPr/>
              <p:nvPr/>
            </p:nvSpPr>
            <p:spPr>
              <a:xfrm>
                <a:off x="4605840" y="5518080"/>
                <a:ext cx="457200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Line 73"/>
              <p:cNvSpPr/>
              <p:nvPr/>
            </p:nvSpPr>
            <p:spPr>
              <a:xfrm>
                <a:off x="4605840" y="5518080"/>
                <a:ext cx="457200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Line 74"/>
              <p:cNvSpPr/>
              <p:nvPr/>
            </p:nvSpPr>
            <p:spPr>
              <a:xfrm>
                <a:off x="4605840" y="5518080"/>
                <a:ext cx="457200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Line 75"/>
              <p:cNvSpPr/>
              <p:nvPr/>
            </p:nvSpPr>
            <p:spPr>
              <a:xfrm>
                <a:off x="4605840" y="5518080"/>
                <a:ext cx="457200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76"/>
              <p:cNvSpPr/>
              <p:nvPr/>
            </p:nvSpPr>
            <p:spPr>
              <a:xfrm>
                <a:off x="4645440" y="5518080"/>
                <a:ext cx="453204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1" name="Line 77"/>
              <p:cNvSpPr/>
              <p:nvPr/>
            </p:nvSpPr>
            <p:spPr>
              <a:xfrm>
                <a:off x="4605840" y="5518080"/>
                <a:ext cx="457200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2" name="Line 78"/>
              <p:cNvSpPr/>
              <p:nvPr/>
            </p:nvSpPr>
            <p:spPr>
              <a:xfrm>
                <a:off x="4605840" y="5518080"/>
                <a:ext cx="457200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Line 79"/>
              <p:cNvSpPr/>
              <p:nvPr/>
            </p:nvSpPr>
            <p:spPr>
              <a:xfrm>
                <a:off x="4605840" y="5518080"/>
                <a:ext cx="457200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80"/>
              <p:cNvSpPr/>
              <p:nvPr/>
            </p:nvSpPr>
            <p:spPr>
              <a:xfrm>
                <a:off x="4605840" y="5518080"/>
                <a:ext cx="457200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5" name="Line 81"/>
              <p:cNvSpPr/>
              <p:nvPr/>
            </p:nvSpPr>
            <p:spPr>
              <a:xfrm>
                <a:off x="4605840" y="5518080"/>
                <a:ext cx="457200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6" name="Line 82"/>
              <p:cNvSpPr/>
              <p:nvPr/>
            </p:nvSpPr>
            <p:spPr>
              <a:xfrm>
                <a:off x="4605840" y="5518080"/>
                <a:ext cx="457200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83"/>
            <p:cNvGrpSpPr/>
            <p:nvPr/>
          </p:nvGrpSpPr>
          <p:grpSpPr>
            <a:xfrm>
              <a:off x="36360" y="5518080"/>
              <a:ext cx="4569120" cy="1195560"/>
              <a:chOff x="36360" y="5518080"/>
              <a:chExt cx="4569120" cy="1195560"/>
            </a:xfrm>
          </p:grpSpPr>
          <p:sp>
            <p:nvSpPr>
              <p:cNvPr id="208" name="Line 84"/>
              <p:cNvSpPr/>
              <p:nvPr/>
            </p:nvSpPr>
            <p:spPr>
              <a:xfrm flipH="1">
                <a:off x="36360" y="5518080"/>
                <a:ext cx="4569120" cy="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9" name="Line 85"/>
              <p:cNvSpPr/>
              <p:nvPr/>
            </p:nvSpPr>
            <p:spPr>
              <a:xfrm flipH="1">
                <a:off x="36360" y="5518080"/>
                <a:ext cx="4569120" cy="909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Line 86"/>
              <p:cNvSpPr/>
              <p:nvPr/>
            </p:nvSpPr>
            <p:spPr>
              <a:xfrm flipH="1">
                <a:off x="36360" y="5518080"/>
                <a:ext cx="4569120" cy="10717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1" name="Line 87"/>
              <p:cNvSpPr/>
              <p:nvPr/>
            </p:nvSpPr>
            <p:spPr>
              <a:xfrm flipH="1">
                <a:off x="273240" y="5518080"/>
                <a:ext cx="4331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Line 88"/>
              <p:cNvSpPr/>
              <p:nvPr/>
            </p:nvSpPr>
            <p:spPr>
              <a:xfrm flipH="1">
                <a:off x="976680" y="5518080"/>
                <a:ext cx="362880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Line 89"/>
              <p:cNvSpPr/>
              <p:nvPr/>
            </p:nvSpPr>
            <p:spPr>
              <a:xfrm flipH="1">
                <a:off x="1637280" y="5518080"/>
                <a:ext cx="29674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4" name="Line 90"/>
              <p:cNvSpPr/>
              <p:nvPr/>
            </p:nvSpPr>
            <p:spPr>
              <a:xfrm flipH="1">
                <a:off x="2302200" y="5518080"/>
                <a:ext cx="230292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5" name="Line 91"/>
              <p:cNvSpPr/>
              <p:nvPr/>
            </p:nvSpPr>
            <p:spPr>
              <a:xfrm flipH="1">
                <a:off x="2892600" y="5518080"/>
                <a:ext cx="171288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6" name="Line 92"/>
              <p:cNvSpPr/>
              <p:nvPr/>
            </p:nvSpPr>
            <p:spPr>
              <a:xfrm flipH="1">
                <a:off x="3474720" y="5518080"/>
                <a:ext cx="113004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Line 93"/>
              <p:cNvSpPr/>
              <p:nvPr/>
            </p:nvSpPr>
            <p:spPr>
              <a:xfrm flipH="1">
                <a:off x="4063320" y="5518080"/>
                <a:ext cx="542160" cy="11955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Line 94"/>
              <p:cNvSpPr/>
              <p:nvPr/>
            </p:nvSpPr>
            <p:spPr>
              <a:xfrm flipH="1">
                <a:off x="36360" y="5518080"/>
                <a:ext cx="4569120" cy="786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9" name="Line 95"/>
              <p:cNvSpPr/>
              <p:nvPr/>
            </p:nvSpPr>
            <p:spPr>
              <a:xfrm flipH="1">
                <a:off x="36360" y="5518080"/>
                <a:ext cx="4569120" cy="67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Line 96"/>
              <p:cNvSpPr/>
              <p:nvPr/>
            </p:nvSpPr>
            <p:spPr>
              <a:xfrm flipH="1">
                <a:off x="36360" y="5518080"/>
                <a:ext cx="4569120" cy="583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Line 97"/>
              <p:cNvSpPr/>
              <p:nvPr/>
            </p:nvSpPr>
            <p:spPr>
              <a:xfrm flipH="1">
                <a:off x="36360" y="5518080"/>
                <a:ext cx="4569120" cy="488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2" name="Line 98"/>
              <p:cNvSpPr/>
              <p:nvPr/>
            </p:nvSpPr>
            <p:spPr>
              <a:xfrm flipH="1">
                <a:off x="36360" y="5518080"/>
                <a:ext cx="4530960" cy="40788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3" name="Line 99"/>
              <p:cNvSpPr/>
              <p:nvPr/>
            </p:nvSpPr>
            <p:spPr>
              <a:xfrm flipH="1">
                <a:off x="36360" y="5518080"/>
                <a:ext cx="4569120" cy="3265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4" name="Line 100"/>
              <p:cNvSpPr/>
              <p:nvPr/>
            </p:nvSpPr>
            <p:spPr>
              <a:xfrm flipH="1">
                <a:off x="36360" y="5518080"/>
                <a:ext cx="4569120" cy="25704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Line 101"/>
              <p:cNvSpPr/>
              <p:nvPr/>
            </p:nvSpPr>
            <p:spPr>
              <a:xfrm flipH="1">
                <a:off x="36360" y="5518080"/>
                <a:ext cx="4569120" cy="189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Line 102"/>
              <p:cNvSpPr/>
              <p:nvPr/>
            </p:nvSpPr>
            <p:spPr>
              <a:xfrm flipH="1">
                <a:off x="36360" y="5518080"/>
                <a:ext cx="4569120" cy="13500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7" name="Line 103"/>
              <p:cNvSpPr/>
              <p:nvPr/>
            </p:nvSpPr>
            <p:spPr>
              <a:xfrm flipH="1">
                <a:off x="36360" y="5518080"/>
                <a:ext cx="4569120" cy="7992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Line 104"/>
              <p:cNvSpPr/>
              <p:nvPr/>
            </p:nvSpPr>
            <p:spPr>
              <a:xfrm flipH="1">
                <a:off x="36360" y="5518080"/>
                <a:ext cx="4569120" cy="39960"/>
              </a:xfrm>
              <a:prstGeom prst="line">
                <a:avLst/>
              </a:prstGeom>
              <a:ln w="3240">
                <a:solidFill>
                  <a:srgbClr val="4d4d4d">
                    <a:alpha val="1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05"/>
            <p:cNvGrpSpPr/>
            <p:nvPr/>
          </p:nvGrpSpPr>
          <p:grpSpPr>
            <a:xfrm>
              <a:off x="36360" y="5530320"/>
              <a:ext cx="9141480" cy="1019160"/>
              <a:chOff x="36360" y="5530320"/>
              <a:chExt cx="9141480" cy="1019160"/>
            </a:xfrm>
          </p:grpSpPr>
          <p:grpSp>
            <p:nvGrpSpPr>
              <p:cNvPr id="230" name="Group 106"/>
              <p:cNvGrpSpPr/>
              <p:nvPr/>
            </p:nvGrpSpPr>
            <p:grpSpPr>
              <a:xfrm>
                <a:off x="36360" y="6105600"/>
                <a:ext cx="9141480" cy="443880"/>
                <a:chOff x="36360" y="6105600"/>
                <a:chExt cx="9141480" cy="443880"/>
              </a:xfrm>
            </p:grpSpPr>
            <p:sp>
              <p:nvSpPr>
                <p:cNvPr id="231" name="Line 107"/>
                <p:cNvSpPr/>
                <p:nvPr/>
              </p:nvSpPr>
              <p:spPr>
                <a:xfrm>
                  <a:off x="36360" y="65494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08"/>
                <p:cNvSpPr/>
                <p:nvPr/>
              </p:nvSpPr>
              <p:spPr>
                <a:xfrm>
                  <a:off x="36360" y="638568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09"/>
                <p:cNvSpPr/>
                <p:nvPr/>
              </p:nvSpPr>
              <p:spPr>
                <a:xfrm>
                  <a:off x="36360" y="623772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10"/>
                <p:cNvSpPr/>
                <p:nvPr/>
              </p:nvSpPr>
              <p:spPr>
                <a:xfrm>
                  <a:off x="36360" y="6105600"/>
                  <a:ext cx="913860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111"/>
              <p:cNvGrpSpPr/>
              <p:nvPr/>
            </p:nvGrpSpPr>
            <p:grpSpPr>
              <a:xfrm>
                <a:off x="36360" y="5530320"/>
                <a:ext cx="9141480" cy="462240"/>
                <a:chOff x="36360" y="5530320"/>
                <a:chExt cx="9141480" cy="462240"/>
              </a:xfrm>
            </p:grpSpPr>
            <p:sp>
              <p:nvSpPr>
                <p:cNvPr id="236" name="Line 112"/>
                <p:cNvSpPr/>
                <p:nvPr/>
              </p:nvSpPr>
              <p:spPr>
                <a:xfrm>
                  <a:off x="36360" y="599256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13"/>
                <p:cNvSpPr/>
                <p:nvPr/>
              </p:nvSpPr>
              <p:spPr>
                <a:xfrm flipV="1">
                  <a:off x="36360" y="5883840"/>
                  <a:ext cx="9141480" cy="7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14"/>
                <p:cNvSpPr/>
                <p:nvPr/>
              </p:nvSpPr>
              <p:spPr>
                <a:xfrm>
                  <a:off x="36360" y="5784840"/>
                  <a:ext cx="9141480" cy="288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15"/>
                <p:cNvSpPr/>
                <p:nvPr/>
              </p:nvSpPr>
              <p:spPr>
                <a:xfrm>
                  <a:off x="36360" y="5706000"/>
                  <a:ext cx="91000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16"/>
                <p:cNvSpPr/>
                <p:nvPr/>
              </p:nvSpPr>
              <p:spPr>
                <a:xfrm flipV="1">
                  <a:off x="36360" y="5638680"/>
                  <a:ext cx="9141480" cy="360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17"/>
                <p:cNvSpPr/>
                <p:nvPr/>
              </p:nvSpPr>
              <p:spPr>
                <a:xfrm>
                  <a:off x="36360" y="5595120"/>
                  <a:ext cx="9141480" cy="216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18"/>
                <p:cNvSpPr/>
                <p:nvPr/>
              </p:nvSpPr>
              <p:spPr>
                <a:xfrm flipV="1">
                  <a:off x="36360" y="5570280"/>
                  <a:ext cx="9141480" cy="612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19"/>
                <p:cNvSpPr/>
                <p:nvPr/>
              </p:nvSpPr>
              <p:spPr>
                <a:xfrm>
                  <a:off x="75960" y="5544000"/>
                  <a:ext cx="910152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20"/>
                <p:cNvSpPr/>
                <p:nvPr/>
              </p:nvSpPr>
              <p:spPr>
                <a:xfrm>
                  <a:off x="36360" y="5530320"/>
                  <a:ext cx="9141480" cy="0"/>
                </a:xfrm>
                <a:prstGeom prst="line">
                  <a:avLst/>
                </a:prstGeom>
                <a:ln w="3240">
                  <a:solidFill>
                    <a:srgbClr val="4d4d4d">
                      <a:alpha val="1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5" name="未知"/>
          <p:cNvSpPr/>
          <p:nvPr/>
        </p:nvSpPr>
        <p:spPr>
          <a:xfrm>
            <a:off x="611280" y="4149720"/>
            <a:ext cx="3887640" cy="1320840"/>
          </a:xfrm>
          <a:custGeom>
            <a:avLst/>
            <a:gdLst/>
            <a:ahLst/>
            <a:rect l="l" t="t" r="r" b="b"/>
            <a:pathLst>
              <a:path w="5034" h="1908">
                <a:moveTo>
                  <a:pt x="2502" y="0"/>
                </a:moveTo>
                <a:lnTo>
                  <a:pt x="1465" y="383"/>
                </a:lnTo>
                <a:lnTo>
                  <a:pt x="1783" y="383"/>
                </a:lnTo>
                <a:lnTo>
                  <a:pt x="0" y="1908"/>
                </a:lnTo>
                <a:lnTo>
                  <a:pt x="5034" y="1908"/>
                </a:lnTo>
                <a:lnTo>
                  <a:pt x="3229" y="383"/>
                </a:lnTo>
                <a:lnTo>
                  <a:pt x="3613" y="395"/>
                </a:lnTo>
                <a:lnTo>
                  <a:pt x="250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Oval 122"/>
          <p:cNvSpPr/>
          <p:nvPr/>
        </p:nvSpPr>
        <p:spPr>
          <a:xfrm>
            <a:off x="108000" y="6165720"/>
            <a:ext cx="14731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Oval 123"/>
          <p:cNvSpPr/>
          <p:nvPr/>
        </p:nvSpPr>
        <p:spPr>
          <a:xfrm>
            <a:off x="176364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124"/>
          <p:cNvSpPr/>
          <p:nvPr/>
        </p:nvSpPr>
        <p:spPr>
          <a:xfrm>
            <a:off x="3492360" y="6237360"/>
            <a:ext cx="1474920" cy="395280"/>
          </a:xfrm>
          <a:prstGeom prst="ellipse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25"/>
          <p:cNvGrpSpPr/>
          <p:nvPr/>
        </p:nvGrpSpPr>
        <p:grpSpPr>
          <a:xfrm>
            <a:off x="4287960" y="1700280"/>
            <a:ext cx="1450440" cy="2735280"/>
            <a:chOff x="4287960" y="1700280"/>
            <a:chExt cx="1450440" cy="2735280"/>
          </a:xfrm>
        </p:grpSpPr>
        <p:grpSp>
          <p:nvGrpSpPr>
            <p:cNvPr id="250" name="Group 126"/>
            <p:cNvGrpSpPr/>
            <p:nvPr/>
          </p:nvGrpSpPr>
          <p:grpSpPr>
            <a:xfrm>
              <a:off x="4287960" y="1700280"/>
              <a:ext cx="1450440" cy="2735280"/>
              <a:chOff x="4287960" y="1700280"/>
              <a:chExt cx="1450440" cy="2735280"/>
            </a:xfrm>
          </p:grpSpPr>
          <p:sp>
            <p:nvSpPr>
              <p:cNvPr id="251" name="AutoShape 127"/>
              <p:cNvSpPr/>
              <p:nvPr/>
            </p:nvSpPr>
            <p:spPr>
              <a:xfrm>
                <a:off x="4287960" y="1908720"/>
                <a:ext cx="1448280" cy="1936800"/>
              </a:xfrm>
              <a:custGeom>
                <a:avLst/>
                <a:gdLst>
                  <a:gd name="textAreaLeft" fmla="*/ 74160 w 1448280"/>
                  <a:gd name="textAreaRight" fmla="*/ 1374120 w 1448280"/>
                  <a:gd name="textAreaTop" fmla="*/ 74160 h 1936800"/>
                  <a:gd name="textAreaBottom" fmla="*/ 1862640 h 1936800"/>
                </a:gdLst>
                <a:ahLst/>
                <a:rect l="textAreaLeft" t="textAreaTop" r="textAreaRight" b="textAreaBottom"/>
                <a:pathLst>
                  <a:path w="21600" h="28884">
                    <a:moveTo>
                      <a:pt x="3782" y="0"/>
                    </a:moveTo>
                    <a:arcTo wR="3782" hR="3782" stAng="16200000" swAng="-5400000"/>
                    <a:lnTo>
                      <a:pt x="0" y="25102"/>
                    </a:lnTo>
                    <a:arcTo wR="3782" hR="3782" stAng="10800000" swAng="-5400000"/>
                    <a:lnTo>
                      <a:pt x="17818" y="28884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34b034"/>
                  </a:gs>
                  <a:gs pos="100000">
                    <a:srgbClr val="3f8b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128"/>
              <p:cNvSpPr/>
              <p:nvPr/>
            </p:nvSpPr>
            <p:spPr>
              <a:xfrm>
                <a:off x="4309920" y="1914120"/>
                <a:ext cx="1405080" cy="1900440"/>
              </a:xfrm>
              <a:custGeom>
                <a:avLst/>
                <a:gdLst>
                  <a:gd name="textAreaLeft" fmla="*/ 68400 w 1405080"/>
                  <a:gd name="textAreaRight" fmla="*/ 1336680 w 1405080"/>
                  <a:gd name="textAreaTop" fmla="*/ 68400 h 1900440"/>
                  <a:gd name="textAreaBottom" fmla="*/ 1832040 h 1900440"/>
                </a:gdLst>
                <a:ahLst/>
                <a:rect l="textAreaLeft" t="textAreaTop" r="textAreaRight" b="textAreaBottom"/>
                <a:pathLst>
                  <a:path w="21600" h="29213">
                    <a:moveTo>
                      <a:pt x="3600" y="0"/>
                    </a:moveTo>
                    <a:arcTo wR="3600" hR="3600" stAng="16200000" swAng="-5400000"/>
                    <a:lnTo>
                      <a:pt x="0" y="25613"/>
                    </a:lnTo>
                    <a:arcTo wR="3600" hR="3600" stAng="10800000" swAng="-5400000"/>
                    <a:lnTo>
                      <a:pt x="18000" y="292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3e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29"/>
              <p:cNvSpPr/>
              <p:nvPr/>
            </p:nvSpPr>
            <p:spPr>
              <a:xfrm>
                <a:off x="4321800" y="3313080"/>
                <a:ext cx="1385640" cy="480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b3f2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30"/>
              <p:cNvSpPr/>
              <p:nvPr/>
            </p:nvSpPr>
            <p:spPr>
              <a:xfrm>
                <a:off x="4321800" y="1929240"/>
                <a:ext cx="1385640" cy="47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0f7d4"/>
                  </a:gs>
                  <a:gs pos="100000">
                    <a:srgbClr val="73e77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Oval 131"/>
              <p:cNvSpPr/>
              <p:nvPr/>
            </p:nvSpPr>
            <p:spPr>
              <a:xfrm>
                <a:off x="4786200" y="1700280"/>
                <a:ext cx="430560" cy="435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Oval 132"/>
              <p:cNvSpPr/>
              <p:nvPr/>
            </p:nvSpPr>
            <p:spPr>
              <a:xfrm>
                <a:off x="4790160" y="1703160"/>
                <a:ext cx="416520" cy="421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7" name="Oval 133"/>
              <p:cNvSpPr/>
              <p:nvPr/>
            </p:nvSpPr>
            <p:spPr>
              <a:xfrm>
                <a:off x="4795920" y="1705320"/>
                <a:ext cx="406800" cy="412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8" name="Oval 134"/>
              <p:cNvSpPr/>
              <p:nvPr/>
            </p:nvSpPr>
            <p:spPr>
              <a:xfrm>
                <a:off x="4800240" y="1709640"/>
                <a:ext cx="386640" cy="384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9" name="Oval 135"/>
              <p:cNvSpPr/>
              <p:nvPr/>
            </p:nvSpPr>
            <p:spPr>
              <a:xfrm>
                <a:off x="4823640" y="1720440"/>
                <a:ext cx="343080" cy="31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0" name="AutoShape 136"/>
              <p:cNvSpPr/>
              <p:nvPr/>
            </p:nvSpPr>
            <p:spPr>
              <a:xfrm>
                <a:off x="4289760" y="3845880"/>
                <a:ext cx="1448640" cy="5896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58a4a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37"/>
              <p:cNvSpPr/>
              <p:nvPr/>
            </p:nvSpPr>
            <p:spPr>
              <a:xfrm>
                <a:off x="4319640" y="3861720"/>
                <a:ext cx="1385640" cy="524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b2b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2" name="Text Box 138"/>
            <p:cNvSpPr/>
            <p:nvPr/>
          </p:nvSpPr>
          <p:spPr>
            <a:xfrm>
              <a:off x="4505040" y="2276640"/>
              <a:ext cx="1008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L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3" name="Group 139"/>
          <p:cNvGrpSpPr/>
          <p:nvPr/>
        </p:nvGrpSpPr>
        <p:grpSpPr>
          <a:xfrm>
            <a:off x="179280" y="5229360"/>
            <a:ext cx="1474920" cy="1041120"/>
            <a:chOff x="179280" y="5229360"/>
            <a:chExt cx="1474920" cy="1041120"/>
          </a:xfrm>
        </p:grpSpPr>
        <p:sp>
          <p:nvSpPr>
            <p:cNvPr id="264" name="Oval 140"/>
            <p:cNvSpPr/>
            <p:nvPr/>
          </p:nvSpPr>
          <p:spPr>
            <a:xfrm>
              <a:off x="179280" y="5229360"/>
              <a:ext cx="1474920" cy="104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41"/>
            <p:cNvSpPr/>
            <p:nvPr/>
          </p:nvSpPr>
          <p:spPr>
            <a:xfrm>
              <a:off x="446040" y="5456520"/>
              <a:ext cx="93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视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142"/>
          <p:cNvGrpSpPr/>
          <p:nvPr/>
        </p:nvGrpSpPr>
        <p:grpSpPr>
          <a:xfrm>
            <a:off x="1835280" y="5229360"/>
            <a:ext cx="1474560" cy="1041120"/>
            <a:chOff x="1835280" y="5229360"/>
            <a:chExt cx="1474560" cy="1041120"/>
          </a:xfrm>
        </p:grpSpPr>
        <p:sp>
          <p:nvSpPr>
            <p:cNvPr id="267" name="Oval 143"/>
            <p:cNvSpPr/>
            <p:nvPr/>
          </p:nvSpPr>
          <p:spPr>
            <a:xfrm>
              <a:off x="1835280" y="5229360"/>
              <a:ext cx="1474560" cy="1041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Text Box 144"/>
            <p:cNvSpPr/>
            <p:nvPr/>
          </p:nvSpPr>
          <p:spPr>
            <a:xfrm>
              <a:off x="2122200" y="5253840"/>
              <a:ext cx="91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心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9" name="Group 145"/>
          <p:cNvGrpSpPr/>
          <p:nvPr/>
        </p:nvGrpSpPr>
        <p:grpSpPr>
          <a:xfrm>
            <a:off x="3502080" y="5251320"/>
            <a:ext cx="1476360" cy="1040040"/>
            <a:chOff x="3502080" y="5251320"/>
            <a:chExt cx="1476360" cy="1040040"/>
          </a:xfrm>
        </p:grpSpPr>
        <p:sp>
          <p:nvSpPr>
            <p:cNvPr id="270" name="Oval 146"/>
            <p:cNvSpPr/>
            <p:nvPr/>
          </p:nvSpPr>
          <p:spPr>
            <a:xfrm>
              <a:off x="3502080" y="5251320"/>
              <a:ext cx="1476360" cy="10400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Text Box 147"/>
            <p:cNvSpPr/>
            <p:nvPr/>
          </p:nvSpPr>
          <p:spPr>
            <a:xfrm>
              <a:off x="3779640" y="5270760"/>
              <a:ext cx="103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运动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WordArt 149"/>
          <p:cNvSpPr txBox="1"/>
          <p:nvPr/>
        </p:nvSpPr>
        <p:spPr>
          <a:xfrm>
            <a:off x="2340000" y="1803240"/>
            <a:ext cx="414360" cy="2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１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4" name="WordArt 150"/>
          <p:cNvSpPr txBox="1"/>
          <p:nvPr/>
        </p:nvSpPr>
        <p:spPr>
          <a:xfrm>
            <a:off x="4794120" y="1797120"/>
            <a:ext cx="41436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２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5" name="WordArt 151"/>
          <p:cNvSpPr txBox="1"/>
          <p:nvPr/>
        </p:nvSpPr>
        <p:spPr>
          <a:xfrm>
            <a:off x="7172280" y="1828800"/>
            <a:ext cx="41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３</a:t>
            </a:r>
            <a:endParaRPr b="1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理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血糖及胰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细胞功能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慢性病变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糖尿病康复疗效评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及参与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8" name="Picture 4" descr="5d06cf5b3ef"/>
          <p:cNvPicPr/>
          <p:nvPr/>
        </p:nvPicPr>
        <p:blipFill>
          <a:blip r:embed="rId1"/>
          <a:stretch/>
        </p:blipFill>
        <p:spPr>
          <a:xfrm>
            <a:off x="7308720" y="5013360"/>
            <a:ext cx="15242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755640" y="1486080"/>
            <a:ext cx="1536840" cy="1704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08720" y="4654440"/>
            <a:ext cx="1659240" cy="18432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3140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2" name="Picture 5" descr="eb54c3202103e651f13d3e796b918432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7113600" y="1484280"/>
            <a:ext cx="2030400" cy="1844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4"/>
          <a:stretch/>
        </p:blipFill>
        <p:spPr>
          <a:xfrm>
            <a:off x="466560" y="4726080"/>
            <a:ext cx="1646280" cy="16462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7"/>
          <p:cNvGrpSpPr/>
          <p:nvPr/>
        </p:nvGrpSpPr>
        <p:grpSpPr>
          <a:xfrm>
            <a:off x="1674000" y="2709720"/>
            <a:ext cx="5436360" cy="2901600"/>
            <a:chOff x="1674000" y="2709720"/>
            <a:chExt cx="5436360" cy="2901600"/>
          </a:xfrm>
        </p:grpSpPr>
        <p:grpSp>
          <p:nvGrpSpPr>
            <p:cNvPr id="285" name="Group 8"/>
            <p:cNvGrpSpPr/>
            <p:nvPr/>
          </p:nvGrpSpPr>
          <p:grpSpPr>
            <a:xfrm>
              <a:off x="1674000" y="2709720"/>
              <a:ext cx="5436360" cy="2901600"/>
              <a:chOff x="1674000" y="2709720"/>
              <a:chExt cx="5436360" cy="2901600"/>
            </a:xfrm>
          </p:grpSpPr>
          <p:grpSp>
            <p:nvGrpSpPr>
              <p:cNvPr id="286" name="Group 9"/>
              <p:cNvGrpSpPr/>
              <p:nvPr/>
            </p:nvGrpSpPr>
            <p:grpSpPr>
              <a:xfrm>
                <a:off x="2593800" y="3070440"/>
                <a:ext cx="4406040" cy="2018160"/>
                <a:chOff x="2593800" y="3070440"/>
                <a:chExt cx="4406040" cy="2018160"/>
              </a:xfrm>
            </p:grpSpPr>
            <p:pic>
              <p:nvPicPr>
                <p:cNvPr id="287" name="椭圆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93800" y="3070440"/>
                  <a:ext cx="4406040" cy="201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11"/>
                <p:cNvSpPr/>
                <p:nvPr/>
              </p:nvSpPr>
              <p:spPr>
                <a:xfrm>
                  <a:off x="3318840" y="3445920"/>
                  <a:ext cx="287964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12"/>
              <p:cNvGrpSpPr/>
              <p:nvPr/>
            </p:nvGrpSpPr>
            <p:grpSpPr>
              <a:xfrm>
                <a:off x="4371840" y="2853720"/>
                <a:ext cx="858960" cy="861480"/>
                <a:chOff x="4371840" y="2853720"/>
                <a:chExt cx="858960" cy="861480"/>
              </a:xfrm>
            </p:grpSpPr>
            <p:sp>
              <p:nvSpPr>
                <p:cNvPr id="290" name="任意多边形 30"/>
                <p:cNvSpPr/>
                <p:nvPr/>
              </p:nvSpPr>
              <p:spPr>
                <a:xfrm>
                  <a:off x="4374000" y="3106800"/>
                  <a:ext cx="855360" cy="217080"/>
                </a:xfrm>
                <a:custGeom>
                  <a:avLst/>
                  <a:gdLst/>
                  <a:ahLst/>
                  <a:rect l="l" t="t" r="r" b="b"/>
                  <a:pathLst>
                    <a:path w="1097280" h="279699">
                      <a:moveTo>
                        <a:pt x="0" y="10758"/>
                      </a:moveTo>
                      <a:lnTo>
                        <a:pt x="0" y="279699"/>
                      </a:lnTo>
                      <a:lnTo>
                        <a:pt x="1097280" y="279699"/>
                      </a:lnTo>
                      <a:lnTo>
                        <a:pt x="1097280" y="0"/>
                      </a:lnTo>
                      <a:lnTo>
                        <a:pt x="0" y="10758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pic>
              <p:nvPicPr>
                <p:cNvPr id="291" name="任意多边形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840" y="2853720"/>
                  <a:ext cx="858960" cy="662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矩形 32"/>
                <p:cNvSpPr/>
                <p:nvPr/>
              </p:nvSpPr>
              <p:spPr>
                <a:xfrm>
                  <a:off x="4530960" y="3501360"/>
                  <a:ext cx="515520" cy="213840"/>
                </a:xfrm>
                <a:prstGeom prst="rect">
                  <a:avLst/>
                </a:prstGeom>
                <a:solidFill>
                  <a:srgbClr val="7f7f7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16"/>
              <p:cNvGrpSpPr/>
              <p:nvPr/>
            </p:nvGrpSpPr>
            <p:grpSpPr>
              <a:xfrm>
                <a:off x="5074560" y="3287880"/>
                <a:ext cx="1798920" cy="720000"/>
                <a:chOff x="5074560" y="3287880"/>
                <a:chExt cx="1798920" cy="720000"/>
              </a:xfrm>
            </p:grpSpPr>
            <p:sp>
              <p:nvSpPr>
                <p:cNvPr id="294" name="任意多边形 25"/>
                <p:cNvSpPr/>
                <p:nvPr/>
              </p:nvSpPr>
              <p:spPr>
                <a:xfrm flipH="1">
                  <a:off x="5879880" y="3288960"/>
                  <a:ext cx="5785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solidFill>
                  <a:srgbClr val="11970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5" name="任意多边形 26"/>
                <p:cNvSpPr/>
                <p:nvPr/>
              </p:nvSpPr>
              <p:spPr>
                <a:xfrm flipH="1">
                  <a:off x="6427800" y="3371040"/>
                  <a:ext cx="44568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6" name="任意多边形 27"/>
                <p:cNvSpPr/>
                <p:nvPr/>
              </p:nvSpPr>
              <p:spPr>
                <a:xfrm flipH="1">
                  <a:off x="5090040" y="3287880"/>
                  <a:ext cx="178308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7" name="任意多边形 28"/>
                <p:cNvSpPr/>
                <p:nvPr/>
              </p:nvSpPr>
              <p:spPr>
                <a:xfrm flipH="1">
                  <a:off x="5285160" y="3598920"/>
                  <a:ext cx="99360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19707"/>
                    </a:gs>
                    <a:gs pos="100000">
                      <a:srgbClr val="bceb6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298" name="任意多边形 29"/>
                <p:cNvSpPr/>
                <p:nvPr/>
              </p:nvSpPr>
              <p:spPr>
                <a:xfrm flipH="1">
                  <a:off x="5074560" y="3524040"/>
                  <a:ext cx="24552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be1247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2"/>
              <p:cNvGrpSpPr/>
              <p:nvPr/>
            </p:nvGrpSpPr>
            <p:grpSpPr>
              <a:xfrm>
                <a:off x="2719440" y="3285720"/>
                <a:ext cx="1793880" cy="720000"/>
                <a:chOff x="2719440" y="3285720"/>
                <a:chExt cx="1793880" cy="720000"/>
              </a:xfrm>
            </p:grpSpPr>
            <p:sp>
              <p:nvSpPr>
                <p:cNvPr id="300" name="任意多边形 20"/>
                <p:cNvSpPr/>
                <p:nvPr/>
              </p:nvSpPr>
              <p:spPr>
                <a:xfrm>
                  <a:off x="3133080" y="3286800"/>
                  <a:ext cx="576720" cy="718920"/>
                </a:xfrm>
                <a:custGeom>
                  <a:avLst/>
                  <a:gdLst/>
                  <a:ahLst/>
                  <a:rect l="l" t="t" r="r" b="b"/>
                  <a:pathLst>
                    <a:path w="739896" h="921381">
                      <a:moveTo>
                        <a:pt x="0" y="600294"/>
                      </a:moveTo>
                      <a:lnTo>
                        <a:pt x="41880" y="921381"/>
                      </a:lnTo>
                      <a:lnTo>
                        <a:pt x="739896" y="293167"/>
                      </a:lnTo>
                      <a:lnTo>
                        <a:pt x="704995" y="0"/>
                      </a:lnTo>
                      <a:lnTo>
                        <a:pt x="0" y="60029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1" name="任意多边形 21"/>
                <p:cNvSpPr/>
                <p:nvPr/>
              </p:nvSpPr>
              <p:spPr>
                <a:xfrm>
                  <a:off x="2719440" y="3368880"/>
                  <a:ext cx="444240" cy="630000"/>
                </a:xfrm>
                <a:custGeom>
                  <a:avLst/>
                  <a:gdLst/>
                  <a:ahLst/>
                  <a:rect l="l" t="t" r="r" b="b"/>
                  <a:pathLst>
                    <a:path w="570016" h="807523">
                      <a:moveTo>
                        <a:pt x="0" y="0"/>
                      </a:moveTo>
                      <a:lnTo>
                        <a:pt x="47502" y="308759"/>
                      </a:lnTo>
                      <a:lnTo>
                        <a:pt x="570016" y="807523"/>
                      </a:lnTo>
                      <a:lnTo>
                        <a:pt x="534390" y="5106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2" name="任意多边形 22"/>
                <p:cNvSpPr/>
                <p:nvPr/>
              </p:nvSpPr>
              <p:spPr>
                <a:xfrm>
                  <a:off x="2719440" y="3285720"/>
                  <a:ext cx="1778040" cy="472320"/>
                </a:xfrm>
                <a:custGeom>
                  <a:avLst/>
                  <a:gdLst/>
                  <a:ahLst/>
                  <a:rect l="l" t="t" r="r" b="b"/>
                  <a:pathLst>
                    <a:path w="2280063" h="605641">
                      <a:moveTo>
                        <a:pt x="1995055" y="605641"/>
                      </a:moveTo>
                      <a:lnTo>
                        <a:pt x="760021" y="403761"/>
                      </a:lnTo>
                      <a:lnTo>
                        <a:pt x="534390" y="605641"/>
                      </a:lnTo>
                      <a:lnTo>
                        <a:pt x="0" y="106877"/>
                      </a:lnTo>
                      <a:lnTo>
                        <a:pt x="1246909" y="0"/>
                      </a:lnTo>
                      <a:lnTo>
                        <a:pt x="1092530" y="118753"/>
                      </a:lnTo>
                      <a:lnTo>
                        <a:pt x="2280063" y="308758"/>
                      </a:lnTo>
                      <a:lnTo>
                        <a:pt x="1995055" y="6056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3" name="任意多边形 23"/>
                <p:cNvSpPr/>
                <p:nvPr/>
              </p:nvSpPr>
              <p:spPr>
                <a:xfrm>
                  <a:off x="3312720" y="3596760"/>
                  <a:ext cx="990720" cy="386640"/>
                </a:xfrm>
                <a:custGeom>
                  <a:avLst/>
                  <a:gdLst/>
                  <a:ahLst/>
                  <a:rect l="l" t="t" r="r" b="b"/>
                  <a:pathLst>
                    <a:path w="1270388" h="495591">
                      <a:moveTo>
                        <a:pt x="0" y="0"/>
                      </a:moveTo>
                      <a:lnTo>
                        <a:pt x="27921" y="314107"/>
                      </a:lnTo>
                      <a:lnTo>
                        <a:pt x="1270388" y="495591"/>
                      </a:lnTo>
                      <a:lnTo>
                        <a:pt x="1242467" y="2024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6a96"/>
                    </a:gs>
                    <a:gs pos="100000">
                      <a:srgbClr val="00b8ff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任意多边形 24"/>
                <p:cNvSpPr/>
                <p:nvPr/>
              </p:nvSpPr>
              <p:spPr>
                <a:xfrm>
                  <a:off x="4268520" y="3521880"/>
                  <a:ext cx="244800" cy="478440"/>
                </a:xfrm>
                <a:custGeom>
                  <a:avLst/>
                  <a:gdLst/>
                  <a:ahLst/>
                  <a:rect l="l" t="t" r="r" b="b"/>
                  <a:pathLst>
                    <a:path w="314107" h="579353">
                      <a:moveTo>
                        <a:pt x="0" y="286187"/>
                      </a:moveTo>
                      <a:lnTo>
                        <a:pt x="34901" y="579353"/>
                      </a:lnTo>
                      <a:lnTo>
                        <a:pt x="314107" y="286187"/>
                      </a:lnTo>
                      <a:lnTo>
                        <a:pt x="293167" y="0"/>
                      </a:lnTo>
                      <a:lnTo>
                        <a:pt x="0" y="286187"/>
                      </a:lnTo>
                      <a:close/>
                    </a:path>
                  </a:pathLst>
                </a:custGeom>
                <a:solidFill>
                  <a:srgbClr val="d9d9d9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5" name="椭圆 8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7320" y="3734640"/>
                <a:ext cx="1316520" cy="62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Group 29"/>
              <p:cNvGrpSpPr/>
              <p:nvPr/>
            </p:nvGrpSpPr>
            <p:grpSpPr>
              <a:xfrm>
                <a:off x="2401200" y="3874320"/>
                <a:ext cx="2231280" cy="1723320"/>
                <a:chOff x="2401200" y="3874320"/>
                <a:chExt cx="2231280" cy="1723320"/>
              </a:xfrm>
            </p:grpSpPr>
            <p:sp>
              <p:nvSpPr>
                <p:cNvPr id="307" name="任意多边形 17"/>
                <p:cNvSpPr/>
                <p:nvPr/>
              </p:nvSpPr>
              <p:spPr>
                <a:xfrm>
                  <a:off x="3762360" y="4078080"/>
                  <a:ext cx="87012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8" name="任意多边形 18"/>
                <p:cNvSpPr/>
                <p:nvPr/>
              </p:nvSpPr>
              <p:spPr>
                <a:xfrm>
                  <a:off x="2401200" y="4856400"/>
                  <a:ext cx="162036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9" name="任意多边形 19"/>
                <p:cNvSpPr/>
                <p:nvPr/>
              </p:nvSpPr>
              <p:spPr>
                <a:xfrm>
                  <a:off x="2410200" y="3874320"/>
                  <a:ext cx="222228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e1247"/>
                    </a:gs>
                    <a:gs pos="100000">
                      <a:srgbClr val="fa9496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33"/>
              <p:cNvGrpSpPr/>
              <p:nvPr/>
            </p:nvGrpSpPr>
            <p:grpSpPr>
              <a:xfrm>
                <a:off x="4878360" y="3888000"/>
                <a:ext cx="2232000" cy="1723320"/>
                <a:chOff x="4878360" y="3888000"/>
                <a:chExt cx="2232000" cy="1723320"/>
              </a:xfrm>
            </p:grpSpPr>
            <p:sp>
              <p:nvSpPr>
                <p:cNvPr id="311" name="任意多边形 14"/>
                <p:cNvSpPr/>
                <p:nvPr/>
              </p:nvSpPr>
              <p:spPr>
                <a:xfrm flipH="1">
                  <a:off x="4878360" y="4091760"/>
                  <a:ext cx="870480" cy="935640"/>
                </a:xfrm>
                <a:custGeom>
                  <a:avLst/>
                  <a:gdLst/>
                  <a:ahLst/>
                  <a:rect l="l" t="t" r="r" b="b"/>
                  <a:pathLst>
                    <a:path w="1116281" h="1199408">
                      <a:moveTo>
                        <a:pt x="1104405" y="0"/>
                      </a:moveTo>
                      <a:lnTo>
                        <a:pt x="1116281" y="332509"/>
                      </a:lnTo>
                      <a:lnTo>
                        <a:pt x="166255" y="1104405"/>
                      </a:lnTo>
                      <a:lnTo>
                        <a:pt x="47502" y="1199408"/>
                      </a:lnTo>
                      <a:lnTo>
                        <a:pt x="0" y="831273"/>
                      </a:lnTo>
                      <a:lnTo>
                        <a:pt x="110440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2" name="任意多边形 15"/>
                <p:cNvSpPr/>
                <p:nvPr/>
              </p:nvSpPr>
              <p:spPr>
                <a:xfrm flipH="1">
                  <a:off x="5489640" y="4870080"/>
                  <a:ext cx="1620720" cy="741240"/>
                </a:xfrm>
                <a:custGeom>
                  <a:avLst/>
                  <a:gdLst/>
                  <a:ahLst/>
                  <a:rect l="l" t="t" r="r" b="b"/>
                  <a:pathLst>
                    <a:path w="2078182" h="950026">
                      <a:moveTo>
                        <a:pt x="0" y="558140"/>
                      </a:moveTo>
                      <a:lnTo>
                        <a:pt x="118754" y="950026"/>
                      </a:lnTo>
                      <a:lnTo>
                        <a:pt x="2078182" y="356259"/>
                      </a:lnTo>
                      <a:lnTo>
                        <a:pt x="2066307" y="0"/>
                      </a:lnTo>
                      <a:lnTo>
                        <a:pt x="0" y="5581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3" name="任意多边形 16"/>
                <p:cNvSpPr/>
                <p:nvPr/>
              </p:nvSpPr>
              <p:spPr>
                <a:xfrm flipH="1">
                  <a:off x="4878000" y="3888000"/>
                  <a:ext cx="2223000" cy="1427040"/>
                </a:xfrm>
                <a:custGeom>
                  <a:avLst/>
                  <a:gdLst/>
                  <a:ahLst/>
                  <a:rect l="l" t="t" r="r" b="b"/>
                  <a:pathLst>
                    <a:path w="2850078" h="1828800">
                      <a:moveTo>
                        <a:pt x="0" y="1828800"/>
                      </a:moveTo>
                      <a:lnTo>
                        <a:pt x="843149" y="581891"/>
                      </a:lnTo>
                      <a:lnTo>
                        <a:pt x="1092530" y="748145"/>
                      </a:lnTo>
                      <a:lnTo>
                        <a:pt x="2280063" y="0"/>
                      </a:lnTo>
                      <a:lnTo>
                        <a:pt x="2850078" y="261257"/>
                      </a:lnTo>
                      <a:lnTo>
                        <a:pt x="1733798" y="1092530"/>
                      </a:lnTo>
                      <a:lnTo>
                        <a:pt x="2054432" y="1258784"/>
                      </a:lnTo>
                      <a:lnTo>
                        <a:pt x="0" y="18288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73e01"/>
                    </a:gs>
                    <a:gs pos="100000">
                      <a:srgbClr val="fece02"/>
                    </a:gs>
                  </a:gsLst>
                  <a:lin ang="0"/>
                </a:gra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14" name="椭圆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7320" y="3454560"/>
                <a:ext cx="132228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TextBox 11"/>
              <p:cNvSpPr/>
              <p:nvPr/>
            </p:nvSpPr>
            <p:spPr>
              <a:xfrm flipH="1">
                <a:off x="4206240" y="3566160"/>
                <a:ext cx="113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    </a:t>
                </a:r>
                <a:endParaRPr b="0" lang="en-US" sz="1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16" name="椭圆 13" descr=""/>
              <p:cNvPicPr/>
              <p:nvPr/>
            </p:nvPicPr>
            <p:blipFill>
              <a:blip r:embed="rId9"/>
              <a:stretch/>
            </p:blipFill>
            <p:spPr>
              <a:xfrm>
                <a:off x="4253040" y="3511440"/>
                <a:ext cx="1035720" cy="4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7" name="Group 40"/>
              <p:cNvGrpSpPr/>
              <p:nvPr/>
            </p:nvGrpSpPr>
            <p:grpSpPr>
              <a:xfrm>
                <a:off x="1674000" y="2709720"/>
                <a:ext cx="4335120" cy="2436480"/>
                <a:chOff x="1674000" y="2709720"/>
                <a:chExt cx="4335120" cy="2436480"/>
              </a:xfrm>
            </p:grpSpPr>
            <p:sp>
              <p:nvSpPr>
                <p:cNvPr id="318" name="TextBox 11"/>
                <p:cNvSpPr/>
                <p:nvPr/>
              </p:nvSpPr>
              <p:spPr>
                <a:xfrm flipH="1" rot="20625600">
                  <a:off x="1692000" y="4611600"/>
                  <a:ext cx="1456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19" name="TextBox 11"/>
                <p:cNvSpPr/>
                <p:nvPr/>
              </p:nvSpPr>
              <p:spPr>
                <a:xfrm flipH="1" rot="895800">
                  <a:off x="4533840" y="4624560"/>
                  <a:ext cx="145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0" name="TextBox 11"/>
                <p:cNvSpPr/>
                <p:nvPr/>
              </p:nvSpPr>
              <p:spPr>
                <a:xfrm flipH="1" rot="21097800">
                  <a:off x="4172040" y="3256560"/>
                  <a:ext cx="1456560" cy="30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1" name="TextBox 11"/>
                <p:cNvSpPr/>
                <p:nvPr/>
              </p:nvSpPr>
              <p:spPr>
                <a:xfrm flipH="1" rot="519000">
                  <a:off x="2047680" y="3250800"/>
                  <a:ext cx="145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   </a:t>
                  </a:r>
                  <a:endParaRPr b="0" lang="en-US" sz="1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22" name="TextBox 11"/>
                <p:cNvSpPr/>
                <p:nvPr/>
              </p:nvSpPr>
              <p:spPr>
                <a:xfrm flipH="1">
                  <a:off x="3714480" y="2709720"/>
                  <a:ext cx="347760" cy="67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404040"/>
                      </a:solidFill>
                      <a:latin typeface="微软雅黑"/>
                      <a:ea typeface="微软雅黑"/>
                    </a:rPr>
                    <a:t>  </a:t>
                  </a:r>
                  <a:endParaRPr b="0" lang="en-US" sz="11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3" name="WordArt 46"/>
            <p:cNvSpPr txBox="1"/>
            <p:nvPr/>
          </p:nvSpPr>
          <p:spPr>
            <a:xfrm>
              <a:off x="4402080" y="3556080"/>
              <a:ext cx="711000" cy="40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1" strike="noStrike">
                  <a:ln w="0">
                    <a:noFill/>
                  </a:ln>
                  <a:blipFill rotWithShape="0">
                    <a:blip r:embed="rId10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宋体"/>
                </a:rPr>
                <a:t>措施</a:t>
              </a:r>
              <a:endParaRPr b="1" lang="en-US" sz="2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4" name="WordArt 47"/>
          <p:cNvSpPr txBox="1"/>
          <p:nvPr/>
        </p:nvSpPr>
        <p:spPr>
          <a:xfrm>
            <a:off x="539640" y="3357720"/>
            <a:ext cx="152424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饮食疗法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5" name="WordArt 48"/>
          <p:cNvSpPr txBox="1"/>
          <p:nvPr/>
        </p:nvSpPr>
        <p:spPr>
          <a:xfrm>
            <a:off x="2195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运动疗法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6" name="图片 3" descr="护士.jpg"/>
          <p:cNvPicPr/>
          <p:nvPr/>
        </p:nvPicPr>
        <p:blipFill>
          <a:blip r:embed="rId12"/>
          <a:stretch/>
        </p:blipFill>
        <p:spPr>
          <a:xfrm>
            <a:off x="4282920" y="1125360"/>
            <a:ext cx="1490760" cy="1713240"/>
          </a:xfrm>
          <a:prstGeom prst="rect">
            <a:avLst/>
          </a:prstGeom>
          <a:ln w="0">
            <a:noFill/>
          </a:ln>
        </p:spPr>
      </p:pic>
      <p:sp>
        <p:nvSpPr>
          <p:cNvPr id="327" name="WordArt 50"/>
          <p:cNvSpPr txBox="1"/>
          <p:nvPr/>
        </p:nvSpPr>
        <p:spPr>
          <a:xfrm>
            <a:off x="5651640" y="5950080"/>
            <a:ext cx="1625400" cy="46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血糖监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8" name="WordArt 51"/>
          <p:cNvSpPr txBox="1"/>
          <p:nvPr/>
        </p:nvSpPr>
        <p:spPr>
          <a:xfrm>
            <a:off x="7308720" y="3502080"/>
            <a:ext cx="15242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教育</a:t>
            </a:r>
            <a:endParaRPr b="1" lang="en-US" sz="3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9" name="WordArt 52"/>
          <p:cNvSpPr txBox="1"/>
          <p:nvPr/>
        </p:nvSpPr>
        <p:spPr>
          <a:xfrm>
            <a:off x="2843280" y="1628640"/>
            <a:ext cx="147168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糖尿病足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宋体"/>
              </a:rPr>
              <a:t>康复护理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西红柿副本"/>
          <p:cNvPicPr/>
          <p:nvPr/>
        </p:nvPicPr>
        <p:blipFill>
          <a:blip r:embed="rId1"/>
          <a:stretch/>
        </p:blipFill>
        <p:spPr>
          <a:xfrm>
            <a:off x="6732720" y="4797360"/>
            <a:ext cx="2049480" cy="1497240"/>
          </a:xfrm>
          <a:prstGeom prst="rect">
            <a:avLst/>
          </a:prstGeom>
          <a:ln w="0">
            <a:noFill/>
          </a:ln>
        </p:spPr>
      </p:pic>
      <p:grpSp>
        <p:nvGrpSpPr>
          <p:cNvPr id="331" name="Group 3"/>
          <p:cNvGrpSpPr/>
          <p:nvPr/>
        </p:nvGrpSpPr>
        <p:grpSpPr>
          <a:xfrm>
            <a:off x="-303120" y="1051560"/>
            <a:ext cx="5883120" cy="4141080"/>
            <a:chOff x="-303120" y="1051560"/>
            <a:chExt cx="5883120" cy="4141080"/>
          </a:xfrm>
        </p:grpSpPr>
        <p:sp>
          <p:nvSpPr>
            <p:cNvPr id="332" name="Oval 4"/>
            <p:cNvSpPr/>
            <p:nvPr/>
          </p:nvSpPr>
          <p:spPr>
            <a:xfrm>
              <a:off x="592560" y="3714840"/>
              <a:ext cx="4987440" cy="1158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rot="20580000">
              <a:off x="-24840" y="1868040"/>
              <a:ext cx="5097240" cy="263700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dddddd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rot="20580000">
              <a:off x="-7920" y="1725120"/>
              <a:ext cx="4988880" cy="2556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Arc 7"/>
            <p:cNvSpPr/>
            <p:nvPr/>
          </p:nvSpPr>
          <p:spPr>
            <a:xfrm rot="20580000">
              <a:off x="2372760" y="1628280"/>
              <a:ext cx="2555640" cy="17190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e8ce6c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Arc 8"/>
            <p:cNvSpPr/>
            <p:nvPr/>
          </p:nvSpPr>
          <p:spPr>
            <a:xfrm flipH="1" rot="20640000">
              <a:off x="212760" y="3267720"/>
              <a:ext cx="2941920" cy="1290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547a87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Arc 9"/>
            <p:cNvSpPr/>
            <p:nvPr/>
          </p:nvSpPr>
          <p:spPr>
            <a:xfrm rot="20580000">
              <a:off x="1051560" y="1699920"/>
              <a:ext cx="2809800" cy="12394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Arc 10"/>
            <p:cNvSpPr/>
            <p:nvPr/>
          </p:nvSpPr>
          <p:spPr>
            <a:xfrm flipH="1" rot="20640000">
              <a:off x="-98280" y="2162160"/>
              <a:ext cx="2553840" cy="184608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533854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11"/>
            <p:cNvSpPr/>
            <p:nvPr/>
          </p:nvSpPr>
          <p:spPr>
            <a:xfrm rot="20580000">
              <a:off x="1301040" y="2350800"/>
              <a:ext cx="2417760" cy="11714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7f7f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12"/>
            <p:cNvSpPr/>
            <p:nvPr/>
          </p:nvSpPr>
          <p:spPr>
            <a:xfrm>
              <a:off x="235080" y="3016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限烟忌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Text Box 13"/>
            <p:cNvSpPr/>
            <p:nvPr/>
          </p:nvSpPr>
          <p:spPr>
            <a:xfrm>
              <a:off x="1943280" y="16635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当增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膳食纤维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Text Box 14"/>
            <p:cNvSpPr/>
            <p:nvPr/>
          </p:nvSpPr>
          <p:spPr>
            <a:xfrm>
              <a:off x="3797280" y="1785960"/>
              <a:ext cx="9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适量补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维生素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矿物元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473280" y="3100320"/>
              <a:ext cx="1588680" cy="155268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5b5b5b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Arc 16"/>
            <p:cNvSpPr/>
            <p:nvPr/>
          </p:nvSpPr>
          <p:spPr>
            <a:xfrm rot="20520000">
              <a:off x="2631600" y="2564640"/>
              <a:ext cx="2448000" cy="162540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697120" y="3516120"/>
              <a:ext cx="828720" cy="114804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Text Box 18"/>
            <p:cNvSpPr/>
            <p:nvPr/>
          </p:nvSpPr>
          <p:spPr>
            <a:xfrm>
              <a:off x="3328200" y="32619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合理分配三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产热营养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19"/>
            <p:cNvSpPr/>
            <p:nvPr/>
          </p:nvSpPr>
          <p:spPr>
            <a:xfrm>
              <a:off x="1543680" y="35953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严格控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总热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642040" y="3452400"/>
              <a:ext cx="751320" cy="96876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46ca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Oval 21"/>
            <p:cNvSpPr/>
            <p:nvPr/>
          </p:nvSpPr>
          <p:spPr>
            <a:xfrm rot="20580000">
              <a:off x="1394640" y="2568960"/>
              <a:ext cx="2320200" cy="97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饮食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图片 7" descr=""/>
          <p:cNvPicPr/>
          <p:nvPr/>
        </p:nvPicPr>
        <p:blipFill>
          <a:blip r:embed="rId2"/>
          <a:stretch/>
        </p:blipFill>
        <p:spPr>
          <a:xfrm>
            <a:off x="4429080" y="393372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4"/>
          <p:cNvSpPr/>
          <p:nvPr/>
        </p:nvSpPr>
        <p:spPr>
          <a:xfrm>
            <a:off x="6300720" y="2276640"/>
            <a:ext cx="267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5292720" y="2205000"/>
            <a:ext cx="38163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类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膳食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蛋白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要量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g/(kg·d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脂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总热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以不饱和脂肪酸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wybj2_637"/>
          <p:cNvPicPr/>
          <p:nvPr/>
        </p:nvPicPr>
        <p:blipFill>
          <a:blip r:embed="rId1"/>
          <a:stretch/>
        </p:blipFill>
        <p:spPr>
          <a:xfrm>
            <a:off x="5364000" y="2997360"/>
            <a:ext cx="3346560" cy="3516120"/>
          </a:xfrm>
          <a:prstGeom prst="rect">
            <a:avLst/>
          </a:prstGeom>
          <a:ln w="0">
            <a:noFill/>
          </a:ln>
        </p:spPr>
      </p:pic>
      <p:grpSp>
        <p:nvGrpSpPr>
          <p:cNvPr id="355" name="Group 3"/>
          <p:cNvGrpSpPr/>
          <p:nvPr/>
        </p:nvGrpSpPr>
        <p:grpSpPr>
          <a:xfrm>
            <a:off x="813600" y="1562400"/>
            <a:ext cx="7216200" cy="1767600"/>
            <a:chOff x="813600" y="1562400"/>
            <a:chExt cx="7216200" cy="1767600"/>
          </a:xfrm>
        </p:grpSpPr>
        <p:sp>
          <p:nvSpPr>
            <p:cNvPr id="356" name="Rectangle 4"/>
            <p:cNvSpPr/>
            <p:nvPr/>
          </p:nvSpPr>
          <p:spPr>
            <a:xfrm rot="3360000">
              <a:off x="1130760" y="171360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5"/>
            <p:cNvSpPr/>
            <p:nvPr/>
          </p:nvSpPr>
          <p:spPr>
            <a:xfrm>
              <a:off x="1122840" y="2140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处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8" name="Group 6"/>
            <p:cNvGrpSpPr/>
            <p:nvPr/>
          </p:nvGrpSpPr>
          <p:grpSpPr>
            <a:xfrm>
              <a:off x="2337480" y="1988640"/>
              <a:ext cx="2159280" cy="123840"/>
              <a:chOff x="2337480" y="1988640"/>
              <a:chExt cx="2159280" cy="123840"/>
            </a:xfrm>
          </p:grpSpPr>
          <p:sp>
            <p:nvSpPr>
              <p:cNvPr id="359" name="Oval 7"/>
              <p:cNvSpPr/>
              <p:nvPr/>
            </p:nvSpPr>
            <p:spPr>
              <a:xfrm>
                <a:off x="2337480" y="1988640"/>
                <a:ext cx="363960" cy="12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Rectangle 8"/>
              <p:cNvSpPr/>
              <p:nvPr/>
            </p:nvSpPr>
            <p:spPr>
              <a:xfrm>
                <a:off x="2544480" y="1989360"/>
                <a:ext cx="1790280" cy="1231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Oval 9"/>
              <p:cNvSpPr/>
              <p:nvPr/>
            </p:nvSpPr>
            <p:spPr>
              <a:xfrm>
                <a:off x="4169520" y="1990440"/>
                <a:ext cx="327240" cy="118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2" name="Oval 10"/>
              <p:cNvSpPr/>
              <p:nvPr/>
            </p:nvSpPr>
            <p:spPr>
              <a:xfrm>
                <a:off x="4344120" y="203040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3" name="Rectangle 11"/>
            <p:cNvSpPr/>
            <p:nvPr/>
          </p:nvSpPr>
          <p:spPr>
            <a:xfrm rot="3360000">
              <a:off x="3943800" y="1743120"/>
              <a:ext cx="1158480" cy="1358280"/>
            </a:xfrm>
            <a:prstGeom prst="rect">
              <a:avLst/>
            </a:prstGeom>
            <a:solidFill>
              <a:srgbClr val="8ac8d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227120" y="20286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适应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禁忌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65" name="Group 13"/>
            <p:cNvGrpSpPr/>
            <p:nvPr/>
          </p:nvGrpSpPr>
          <p:grpSpPr>
            <a:xfrm>
              <a:off x="5130000" y="1992240"/>
              <a:ext cx="2159280" cy="124200"/>
              <a:chOff x="5130000" y="1992240"/>
              <a:chExt cx="2159280" cy="124200"/>
            </a:xfrm>
          </p:grpSpPr>
          <p:sp>
            <p:nvSpPr>
              <p:cNvPr id="366" name="Oval 14"/>
              <p:cNvSpPr/>
              <p:nvPr/>
            </p:nvSpPr>
            <p:spPr>
              <a:xfrm>
                <a:off x="5130000" y="1992240"/>
                <a:ext cx="3639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7" name="Rectangle 15"/>
              <p:cNvSpPr/>
              <p:nvPr/>
            </p:nvSpPr>
            <p:spPr>
              <a:xfrm>
                <a:off x="5337000" y="1992960"/>
                <a:ext cx="179028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Oval 16"/>
              <p:cNvSpPr/>
              <p:nvPr/>
            </p:nvSpPr>
            <p:spPr>
              <a:xfrm>
                <a:off x="6962040" y="1993680"/>
                <a:ext cx="3272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9" name="Oval 17"/>
              <p:cNvSpPr/>
              <p:nvPr/>
            </p:nvSpPr>
            <p:spPr>
              <a:xfrm>
                <a:off x="7136640" y="2033640"/>
                <a:ext cx="9180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0" name="Rectangle 18"/>
            <p:cNvSpPr/>
            <p:nvPr/>
          </p:nvSpPr>
          <p:spPr>
            <a:xfrm rot="3360000">
              <a:off x="6636240" y="1840680"/>
              <a:ext cx="1076040" cy="133776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65410"/>
                </a:gs>
              </a:gsLst>
              <a:lin ang="204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6652800" y="2123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运动注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 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事项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708120" y="3362400"/>
            <a:ext cx="2063520" cy="2738520"/>
            <a:chOff x="708120" y="3362400"/>
            <a:chExt cx="2063520" cy="2738520"/>
          </a:xfrm>
        </p:grpSpPr>
        <p:sp>
          <p:nvSpPr>
            <p:cNvPr id="373" name="AutoShape 21"/>
            <p:cNvSpPr/>
            <p:nvPr/>
          </p:nvSpPr>
          <p:spPr>
            <a:xfrm>
              <a:off x="708120" y="3362400"/>
              <a:ext cx="2063520" cy="2738520"/>
            </a:xfrm>
            <a:custGeom>
              <a:avLst/>
              <a:gdLst>
                <a:gd name="textAreaLeft" fmla="*/ 82800 w 2063520"/>
                <a:gd name="textAreaRight" fmla="*/ 1980720 w 2063520"/>
                <a:gd name="textAreaTop" fmla="*/ 82800 h 2738520"/>
                <a:gd name="textAreaBottom" fmla="*/ 2655720 h 2738520"/>
              </a:gdLst>
              <a:ahLst/>
              <a:rect l="textAreaLeft" t="textAreaTop" r="textAreaRight" b="textAreaBottom"/>
              <a:pathLst>
                <a:path w="21600" h="28664">
                  <a:moveTo>
                    <a:pt x="2969" y="0"/>
                  </a:moveTo>
                  <a:arcTo wR="2969" hR="2969" stAng="16200000" swAng="-5400000"/>
                  <a:lnTo>
                    <a:pt x="0" y="25695"/>
                  </a:lnTo>
                  <a:arcTo wR="2969" hR="2969" stAng="10800000" swAng="-5400000"/>
                  <a:lnTo>
                    <a:pt x="18631" y="2866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Text Box 22"/>
            <p:cNvSpPr/>
            <p:nvPr/>
          </p:nvSpPr>
          <p:spPr>
            <a:xfrm>
              <a:off x="828000" y="3783960"/>
              <a:ext cx="1798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方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强度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运动的频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运动疗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运动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有氧运动为主，通常采用有较多肌群参加的持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的周期性运动，运动方式因人而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糖尿病患者多为儿童和青少年，可根据其兴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爱好及运动能力选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并周围神经病变的患者可进行游泳、上肢运动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阻力功率车等训练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老年患者适合平道快走或步行、太极拳、体操、自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行车及轻度家务劳动等低强度的运动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8" name="Picture 4" descr="喜庆节日图标矢量素材"/>
          <p:cNvPicPr/>
          <p:nvPr/>
        </p:nvPicPr>
        <p:blipFill>
          <a:blip r:embed="rId1"/>
          <a:srcRect l="68014" t="48645" r="899" b="33696"/>
          <a:stretch/>
        </p:blipFill>
        <p:spPr>
          <a:xfrm>
            <a:off x="0" y="59040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Guest2</cp:lastModifiedBy>
  <cp:lastPrinted>1899-12-30T00:00:00Z</cp:lastPrinted>
  <dcterms:modified xsi:type="dcterms:W3CDTF">2015-12-17T02:18:59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