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8602-8460-4A12-8007-2A1E4FB79B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3A55-F8F0-4E14-B29C-C8748317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9715-1EE8-44C2-BDF5-8D657B8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4984-40E1-4EB8-9ACB-B934C791D9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C3DB-9BAB-4056-80C7-F51566FF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E549-4460-4C3C-B5F1-F642E70C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D3DB-D5FC-4EDC-93CC-86490830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5D6-2B32-4E4B-9CF4-5BC2A01C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A0FC-A242-4163-991A-EF74BA90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D5F3-89FC-419B-9BB1-EC8C00EF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06CB-AA82-4025-8561-B23463F4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B395-DA95-40FA-BEB9-474B97C4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D610-5507-49BF-BEBA-146CC23520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8ac8de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8ac8de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五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恶性肿瘤的康复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84720" y="5589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陈慧娟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气管造口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康复环境 ；② 避免刺激性食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言语功能康复护理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①非言语交流；②食管言语；③电子喉；④喉再造术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肩活动功能训练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局部低中频电疗、按摩、主动运动、抗阻运动。②必要时用吊带牵拉或进行矫形手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放在关节活动那"/>
          <p:cNvPicPr/>
          <p:nvPr/>
        </p:nvPicPr>
        <p:blipFill>
          <a:blip r:embed="rId1"/>
          <a:stretch/>
        </p:blipFill>
        <p:spPr>
          <a:xfrm>
            <a:off x="4788000" y="1413000"/>
            <a:ext cx="3851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喉癌根治术后的康复及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体康复：术后患者可穿高领衣服适当掩盖颈前造口。肩下垂者可穿垫肩衣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避免说话过多。②劳逸结合。③禁止游泳。④预防感冒等呼吸道疾病的发生。⑤合理饮食，进食稠糊状食品，防止误咽。多吃新鲜水果、蔬菜，预防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咳嗽技巧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训练：①深呼吸；   ②腹式呼吸；③辅助呼吸活动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放呼吸训练那"/>
          <p:cNvPicPr/>
          <p:nvPr/>
        </p:nvPicPr>
        <p:blipFill>
          <a:blip r:embed="rId1"/>
          <a:stretch/>
        </p:blipFill>
        <p:spPr>
          <a:xfrm>
            <a:off x="4788000" y="1700280"/>
            <a:ext cx="3960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癌术后肺功能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下肢与全身运动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术后卧床期间经常伸屈下肢，防止下肢静脉血栓形成。②尽早下地活动，做呼吸操与全身体操，并进行步行、登楼梯等活动，以加大肺通气量。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教育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①戒烟； ②练习缓慢、均匀的腹式呼吸； ③指出锻炼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护理指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844280"/>
            <a:ext cx="86104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教育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身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避免不良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职业性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娱乐康复治疗的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广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包括肿瘤的根治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狭义上讲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是针对肿瘤所导致的原发性或继发性残疾，通过医学、教育、心理、职业等综合性手段，使肿瘤致残者尽可能改善或恢复功能，提高生活和生存质量。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护理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躯体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癌症疼痛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ancerous pain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原因及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活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一）心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40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恶性肿瘤患者从疑诊、确诊到治疗前后都可能发生剧烈心理变化和心理反应，出现震惊、恐惧、否认、淡漠、抑郁、焦虑、悲伤等情绪。异常心理状态的出现多源于对疾病和治疗不了解及思想准备不足，产生了许多疑问，顾虑重重，使患者不能正确对待疾病，不能适应病后的现实，以致不能配合进行临床治疗和康复治疗，甚至因绝望而拒绝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恶性肿瘤患者心理评定的原则和方法与一般心理评定相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躯体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本身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原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继发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所致的功能障碍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化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手术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放疗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癌症疼痛的原因及评定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压迫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浸润致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肿瘤治疗损伤致疼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55640" y="3789360"/>
          <a:ext cx="6481800" cy="2311560"/>
        </p:xfrm>
        <a:graphic>
          <a:graphicData uri="http://schemas.openxmlformats.org/drawingml/2006/table">
            <a:tbl>
              <a:tblPr/>
              <a:tblGrid>
                <a:gridCol w="865080"/>
                <a:gridCol w="561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级别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66"/>
                          </a:solidFill>
                          <a:latin typeface="Verdana"/>
                          <a:ea typeface="宋体"/>
                        </a:rPr>
                        <a:t>应用镇痛药情况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痛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非麻醉性镇痛药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麻醉剂 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口服与／或需肌内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级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需静脉注射麻醉剂</a:t>
                      </a:r>
                      <a:endParaRPr b="1" lang="en-US" sz="18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活动功能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773360"/>
          <a:ext cx="8610480" cy="4297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513396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计分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，无症状，无疾病的表现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正常生活，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能进行正常活动，症状与体征很轻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9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76320">
                        <a:lnSpc>
                          <a:spcPct val="100000"/>
                        </a:lnSpc>
                        <a:tabLst>
                          <a:tab algn="l" pos="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需特殊照顾           经努力能正常活动，有些症状与体征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80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能自我照料，但不能进行正常活动或工作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工作，生活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偶需他人协助，但尚能自理多数的个人需要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6120"/>
                          <a:tab algn="l" pos="1762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r" pos="55785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不同程度协助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需他人较多的帮助，常需医疗护理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残疾需特殊照顾与协助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自理生活，       严重残疾，应住院，无死亡危险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30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特殊照顾，病       病重，需住院，必须给予积极的支持性治疗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情发展加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濒临死亡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83816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         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0             </a:t>
                      </a:r>
                      <a:endParaRPr b="1" lang="en-US" sz="2000" spc="-1" strike="noStrike">
                        <a:solidFill>
                          <a:srgbClr val="8ac8de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69"/>
          <p:cNvSpPr/>
          <p:nvPr/>
        </p:nvSpPr>
        <p:spPr>
          <a:xfrm>
            <a:off x="2700360" y="1231920"/>
            <a:ext cx="396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Karnofsky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活动状况评定量表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护理措施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康复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一）心理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二）营养支持康复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三）功能障碍的康复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四）常见癌症康复治疗护理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乳腺癌术后上肢水肿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喉癌根治术后的康复及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肺癌术后肺功能的康复及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乳腺癌术后上肢水肿的康复及护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持功能位：可减轻肿胀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被动运动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术后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1~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天即进行小幅度的肩关节被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动运动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保护患肢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免引起患肢循环受损及感染。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康复教育：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①定期体格检查，发现乳房肿块及时诊治。②建立高维生素、高纤维素、低脂肪的饮食结构。③术后尽早进行患侧上肢锻炼。④保护患侧上肢免受损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7T02:23:29Z</dcterms:modified>
  <cp:revision>109</cp:revision>
  <dc:subject/>
  <dc:title>内科护理学</dc:title>
</cp:coreProperties>
</file>