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3207C-63E0-4991-BDC0-0DB2B53B0A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230E1-6C34-46DF-A1AD-15333720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AED7D-81EF-4C45-9BE1-55FA434B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A132D-E64C-4D5F-924F-53704C8F44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C3973-3976-4BA4-B0FB-CD2750CF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F5818-D6A0-493E-9F79-60346818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EF4AB-773D-42B1-A652-493E2743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16D85-61C5-4028-A228-DF23BB5EA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DD5E0-8004-4130-B8D2-B95227BED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6EABC-DB09-4B12-8E1B-2081856A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C9A94-19C8-4AF5-A054-FD2B3503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AB0BB-0879-4512-B268-2B6D0830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06DB-C5B9-4B27-A87C-9291A4E5F45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2492280"/>
            <a:ext cx="590544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732720" y="551664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林萍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感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视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听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嗅觉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味觉功能减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806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血管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肌逐渐萎缩，心脏收缩力减弱 ，心率减慢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动脉弹性降低，心肌的血液不足时，引发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冠心病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。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主要表现：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绞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律失常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或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心肌梗死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、康复护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一）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进食、更衣、沐浴、移动、如厕和控制大小便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二）心理健康状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情绪与情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认知能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压力与应对能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三）生活质量综合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四、康复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短期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创造良好生活和训练环境，稳定病人情绪；增强自我照顾能力，延缓躯体、心理老化进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长期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促进保持最佳功能状态，延缓老化进程，提高生活质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孤独自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与外界联系 ，多参加娱乐活动 。多些时间陪伴老人，使其享受天伦之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焦虑或抑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建立规律的活动与睡眠习惯。鼓励和倾听老年人的内心宣泄，关心体贴老年人，严防自杀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自理能力下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鼓励老年人多参与家务劳动，尽量自己照顾自己，防止过早退化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营养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老年人的食物应以细软、易消化为原则，少量多餐，多给易消化的、含蛋白质的食物，如牛奶、鱼、鸡蛋、蔬菜、水果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便秘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食含粗纤维的食物，如粗粮、蔬菜和水果，多饮水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日可饮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杯水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睡眠障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不过多饮食，睡前看书、看报时间不宜过长，睡前不饮茶或咖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骨质疏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多参加户外活动，增加日光照射时间。在日光照射难以保证的情况下，口服适量的鱼肝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五、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8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前列腺肥大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每天喝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5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开水，以冲洗尿道。每天温水坐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避免憋尿、长时间的骑跨、久坐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9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退行性骨关节炎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保护关节功能，避免过度使用，适当锻炼或医疗做体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10.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老年性痴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视智力的训练。防止意外伤和外出迷失方向。外出时身上可带随身卡，记清家庭住址、电话、联系人姓名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六、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合理营养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积极运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安全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安全用药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心理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一、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随着医学技术的发展和人们生活水准的提高，人的健康水平得到了明显改善，因此，人的寿命延长，老龄人口逐渐增加。根据老年人的身体特点和需要，老年人群必然是康复领域中的主要对象之一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（一）心理功能降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孤独自闭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或抑郁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突然感到不明原因的惊慌、不安、心烦意乱、易怒、失眠、健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多疑、自卑、心境低落、少言寡语、不愿意交往、容易激惹、常常为小事自责自罪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0872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（二）生理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消化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营养失调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功能减弱，消化吸收能力减弱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便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因排便动力缺乏，膈肌、腹肌、肛提肌及肠平滑肌衰弱，使收缩和蠕动减弱而形成无力性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神经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睡眠障碍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现为入睡困难、睡眠不深、易醒、早醒、醒后不易再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老年性痴呆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现为记忆力障碍、定向力障碍、计算力障碍、情感障碍、行为异常等症状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内分泌系统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骨质疏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老年性糖尿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104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泌尿系统功能减退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随着年龄增长，老年人膀胱肌萎缩、容量逐渐减少，排尿时膀胱收缩力减弱，残余尿量增多，从而出现尿急、尿频甚至尿失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51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宋体"/>
                <a:ea typeface="宋体"/>
              </a:rPr>
              <a:t>二、主要功能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30c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运动系统功能减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肌肉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肌肉弹性降低，收缩力减弱，肌肉变得松弛，容易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疲劳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骨骼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骨的弹性和韧性降低，骨质疏松，易出现骨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关节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关节面上的软骨退化，出现骨质增生、关节炎等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十六节    老年人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28036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二、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呼吸系统功能减退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老年人由于呼吸肌、膈肌以及韧带萎缩，气管及支气管上皮退行性变化，使肺及气管弹性减弱，通气和换气功能减退，易发生肺部感染、肺气肿及阻塞性肺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2:28:08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