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A93DD-C2A6-4DAC-AD5D-1E007431CC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37B2E4-3DFD-458B-9B1D-24403A78EA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AD1A73-EAFE-483C-9D9C-E8823E4A09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F812368-4414-46E0-ACCF-6A7ACE8A3E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F71264-FD93-4DD8-8BD5-320AA8CC2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D305C7-EDEE-4EF2-9AB7-D9DED7D35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3C14A3-8D1C-40B3-ACCB-60790516E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3C2064-901E-4A42-8700-7592FAA82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39C579-8AE0-47A1-89D7-AA6B846C1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F7543D-B969-4F9C-BEA9-03CE8513B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CF1E93-0153-4A2A-899E-9B696A2CD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D64FD2-64BF-42B6-8031-FB709F8C86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9238-23B5-4E11-AF9B-D2B2CACB04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360" y="836640"/>
            <a:ext cx="8783640" cy="31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ffffff"/>
                </a:solidFill>
                <a:latin typeface="楷体"/>
                <a:ea typeface="楷体"/>
              </a:rPr>
              <a:t>第二节  </a:t>
            </a:r>
            <a:br>
              <a:rPr sz="4000"/>
            </a:br>
            <a:r>
              <a:rPr b="1" lang="en-US" sz="4000" spc="-1" strike="noStrike">
                <a:solidFill>
                  <a:srgbClr val="ffffff"/>
                </a:solidFill>
                <a:latin typeface="楷体"/>
                <a:ea typeface="楷体"/>
              </a:rPr>
              <a:t>   </a:t>
            </a:r>
            <a:r>
              <a:rPr b="1" lang="zh-CN" sz="4000" spc="-1" strike="noStrike">
                <a:solidFill>
                  <a:srgbClr val="ffffff"/>
                </a:solidFill>
                <a:latin typeface="楷体"/>
                <a:ea typeface="楷体"/>
              </a:rPr>
              <a:t>七、传统疗法在康复护理中的应用</a:t>
            </a:r>
            <a:endParaRPr b="0" lang="en-US" sz="4000" spc="-1" strike="noStrike">
              <a:solidFill>
                <a:srgbClr val="ffffff"/>
              </a:solidFill>
              <a:latin typeface="Verdana"/>
            </a:endParaRPr>
          </a:p>
        </p:txBody>
      </p:sp>
      <p:sp>
        <p:nvSpPr>
          <p:cNvPr id="105" name="Text Box 4"/>
          <p:cNvSpPr/>
          <p:nvPr/>
        </p:nvSpPr>
        <p:spPr>
          <a:xfrm>
            <a:off x="6300720" y="522936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Arial"/>
                <a:ea typeface="宋体"/>
              </a:rPr>
              <a:t>  </a:t>
            </a:r>
            <a:r>
              <a:rPr b="1" lang="zh-CN" sz="3600" spc="-1" strike="noStrike">
                <a:solidFill>
                  <a:srgbClr val="fe230c"/>
                </a:solidFill>
                <a:latin typeface="Arial"/>
                <a:ea typeface="宋体"/>
              </a:rPr>
              <a:t>姜贵云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475920"/>
            <a:ext cx="828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9" name="PlaceHolder 2"/>
          <p:cNvSpPr>
            <a:spLocks noGrp="1"/>
          </p:cNvSpPr>
          <p:nvPr>
            <p:ph/>
          </p:nvPr>
        </p:nvSpPr>
        <p:spPr>
          <a:xfrm>
            <a:off x="468000" y="1844280"/>
            <a:ext cx="8280360" cy="3816360"/>
          </a:xfrm>
          <a:prstGeom prst="rect">
            <a:avLst/>
          </a:prstGeom>
          <a:noFill/>
          <a:ln w="0">
            <a:noFill/>
          </a:ln>
        </p:spPr>
        <p:txBody>
          <a:bodyPr anchor="t">
            <a:normAutofit/>
          </a:bodyPr>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适应证：</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由于脑血管意外等原因引起的肢体瘫痪、失语、失眠、焦虑不安，经其他治疗效果不佳者</a:t>
            </a:r>
            <a:endParaRPr b="0" lang="en-US" sz="2800" spc="-1" strike="noStrike">
              <a:solidFill>
                <a:srgbClr val="046ca6"/>
              </a:solidFill>
              <a:latin typeface="Arial"/>
            </a:endParaRPr>
          </a:p>
          <a:p>
            <a:pPr lvl="1" marL="179280" indent="0">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各种疼痛的对症治疗、对病因治疗</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1" name="PlaceHolder 2"/>
          <p:cNvSpPr>
            <a:spLocks noGrp="1"/>
          </p:cNvSpPr>
          <p:nvPr>
            <p:ph/>
          </p:nvPr>
        </p:nvSpPr>
        <p:spPr>
          <a:xfrm>
            <a:off x="250560" y="1557000"/>
            <a:ext cx="8281800" cy="410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2800" spc="-1" strike="noStrike">
                <a:solidFill>
                  <a:srgbClr val="046ca6"/>
                </a:solidFill>
                <a:latin typeface="Verdana"/>
                <a:ea typeface="宋体"/>
              </a:rPr>
              <a:t>四）注意事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体位：在针灸前应先使患者选择一个舒适的体位，避免造成弯针、滞针、断针等意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针灸部位及手法：根据不同的部位、皮肤薄厚、病情轻重、年龄和体质的不同，严格掌握针刺的角度、深度和手法，避免造成内脏出血、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333000"/>
            <a:ext cx="7921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33" name="PlaceHolder 2"/>
          <p:cNvSpPr>
            <a:spLocks noGrp="1"/>
          </p:cNvSpPr>
          <p:nvPr>
            <p:ph/>
          </p:nvPr>
        </p:nvSpPr>
        <p:spPr>
          <a:xfrm>
            <a:off x="108000" y="1052280"/>
            <a:ext cx="8610480" cy="49798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避免意外情况发生：</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避免在过饥、过劳、过度紧张时针灸。</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身体瘦弱的患者，针刺手法不宜过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高热患病、实证及阴虚发热者，皮肤有溃疡、伤口感染，瘢痕或肿瘤的部位，孕妇下腹部、腰骶部不宜针刺。</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三阴交、合谷、昆仑、至阴等通经活血的腧穴，在怀孕期亦应禁刺，妇女行经时亦慎用。</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小儿囟门未合时，头项部的腧穴不宜针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9640" y="1484280"/>
            <a:ext cx="8137800" cy="322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有自发性出血倾向的患者，不宜针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胸、腰、背部腧穴，不宜直刺、深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针刺眼区和项部风府、哑门等穴及脊椎部的腧穴，不宜大幅度提插、捻转和长时间留针。</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对尿潴留患者针刺小腹部穴位时，应掌握适当的针刺方向、角度、深度等。</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颜面、五官、大血管处，黏膜附近及毛发生长部位不宜直接灸。</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关节活动部位，不宜瘢痕灸。</a:t>
            </a:r>
            <a:endParaRPr b="0" lang="en-US" sz="2400" spc="-1" strike="noStrike">
              <a:solidFill>
                <a:srgbClr val="046ca6"/>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5" name="Text Box 5"/>
          <p:cNvSpPr/>
          <p:nvPr/>
        </p:nvSpPr>
        <p:spPr>
          <a:xfrm>
            <a:off x="1763640" y="333360"/>
            <a:ext cx="7201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七、</a:t>
            </a:r>
            <a:r>
              <a:rPr b="1" lang="zh-CN" sz="3200" spc="-1" strike="noStrike">
                <a:solidFill>
                  <a:srgbClr val="ffffff"/>
                </a:solidFill>
                <a:latin typeface="Arial"/>
                <a:ea typeface="宋体"/>
              </a:rPr>
              <a:t>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7" name="PlaceHolder 2"/>
          <p:cNvSpPr>
            <a:spLocks noGrp="1"/>
          </p:cNvSpPr>
          <p:nvPr>
            <p:ph/>
          </p:nvPr>
        </p:nvSpPr>
        <p:spPr>
          <a:xfrm>
            <a:off x="324000" y="2349360"/>
            <a:ext cx="8610480" cy="24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异常情况的处理：晕针、断针、气胸、血肿等出现，要马上出针并对症处理；滞针、弯针时不能强行出针，要使肌肉放松后，顺着方向缓慢出针。灸后如病人皮肤起小水疱，可暴露通风干燥，可以自行修复，数日后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39" name="PlaceHolder 2"/>
          <p:cNvSpPr>
            <a:spLocks noGrp="1"/>
          </p:cNvSpPr>
          <p:nvPr>
            <p:ph/>
          </p:nvPr>
        </p:nvSpPr>
        <p:spPr>
          <a:xfrm>
            <a:off x="250920" y="1628640"/>
            <a:ext cx="8610480" cy="410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推拿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推拿疗法古称按摩、按跷，是以中医理论为指导，运用推拿手法（有时要借助于一定的推拿工具），作用于患者体表特定部位或穴位来防治疾病的一种技术。可通过手法外力的直接作用，使各种原因造成的组织解剖位置异常得到纠正。关节脱位者，回复到正常的解剖位置；软组织错位者，使之各守其位。</a:t>
            </a:r>
            <a:r>
              <a:rPr b="1" lang="en-US"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41" name="PlaceHolder 2"/>
          <p:cNvSpPr>
            <a:spLocks noGrp="1"/>
          </p:cNvSpPr>
          <p:nvPr>
            <p:ph/>
          </p:nvPr>
        </p:nvSpPr>
        <p:spPr>
          <a:xfrm>
            <a:off x="323640" y="1700280"/>
            <a:ext cx="8135640" cy="451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推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或拳在体表做直线缓慢运动。指推法：用拇指指腹在颈、项、手、足等部位做推动。掌推法：用手掌在背、腰或四肢处做推动。拳推法：用示、中、无名、小指指间关节作用于脊椎两侧做推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3" name="PlaceHolder 2"/>
          <p:cNvSpPr>
            <a:spLocks noGrp="1"/>
          </p:cNvSpPr>
          <p:nvPr>
            <p:ph/>
          </p:nvPr>
        </p:nvSpPr>
        <p:spPr>
          <a:xfrm>
            <a:off x="468000" y="2060640"/>
            <a:ext cx="4103640" cy="386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拿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拇指和余四指相对用力于患处组织，用力紧而不死，适于全身各处运用。具有解表发汗、镇静开窍作用。</a:t>
            </a:r>
            <a:endParaRPr b="1" lang="en-US" sz="2400" spc="-1" strike="noStrike">
              <a:solidFill>
                <a:srgbClr val="8ac8de"/>
              </a:solidFill>
              <a:latin typeface="Verdana"/>
            </a:endParaRPr>
          </a:p>
        </p:txBody>
      </p:sp>
      <p:pic>
        <p:nvPicPr>
          <p:cNvPr id="144" name="Picture 4" descr=""/>
          <p:cNvPicPr/>
          <p:nvPr/>
        </p:nvPicPr>
        <p:blipFill>
          <a:blip r:embed="rId1"/>
          <a:stretch/>
        </p:blipFill>
        <p:spPr>
          <a:xfrm>
            <a:off x="4859280" y="1557360"/>
            <a:ext cx="352908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8713800" cy="431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按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指端、指腹或手掌按压体表或穴位的方法。指按法：用拇指端或指腹按压穴位。掌按法：用单掌或双掌，也可用双掌重叠按压体表。着力部位要紧贴体表，不可移动，用力要由轻而重，再到轻，可配合重心的移位，不可用暴力。</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5500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48" name="PlaceHolder 2"/>
          <p:cNvSpPr>
            <a:spLocks noGrp="1"/>
          </p:cNvSpPr>
          <p:nvPr>
            <p:ph/>
          </p:nvPr>
        </p:nvSpPr>
        <p:spPr>
          <a:xfrm>
            <a:off x="250560" y="1413000"/>
            <a:ext cx="85690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摩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做直线往返或环形移动的手法。指摩法：用示、中、无名指指面附着在一定的部位上，做节律性环旋运动。掌摩法：用手掌掌面附着于体表，连同前臂做节律性的环旋或往返运动。操作时肘关节自然屈曲、腕部放松，指掌自然伸直，动作缓和而协调。指摩法每分钟</a:t>
            </a:r>
            <a:r>
              <a:rPr b="1" lang="en-US" sz="2400" spc="-1" strike="noStrike">
                <a:solidFill>
                  <a:srgbClr val="046ca6"/>
                </a:solidFill>
                <a:latin typeface="Verdana"/>
                <a:ea typeface="宋体"/>
              </a:rPr>
              <a:t>9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次，掌摩法每分钟</a:t>
            </a:r>
            <a:r>
              <a:rPr b="1" lang="en-US" sz="2400" spc="-1" strike="noStrike">
                <a:solidFill>
                  <a:srgbClr val="046ca6"/>
                </a:solidFill>
                <a:latin typeface="Verdana"/>
                <a:ea typeface="宋体"/>
              </a:rPr>
              <a:t>7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24000" y="1341000"/>
            <a:ext cx="871200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是在中医理论的指导下对患者进行康复治疗的方法，是中国古代人民数千年来与疾病作斗争的实践经验的总结，具有安全、有效、乐于为群众所接受等特点。近年来，传统疗法越来越受到人们的关注，得到了很好的整理和提高，使之更科学、更适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国传统的康复疗法主要手段有：针灸、导引、中药、推拿、拔罐、食疗和运动等。</a:t>
            </a:r>
            <a:endParaRPr b="1" lang="en-US" sz="2800" spc="-1" strike="noStrike">
              <a:solidFill>
                <a:srgbClr val="8ac8de"/>
              </a:solidFill>
              <a:latin typeface="Verdana"/>
            </a:endParaRPr>
          </a:p>
        </p:txBody>
      </p:sp>
      <p:sp>
        <p:nvSpPr>
          <p:cNvPr id="107" name="Text Box 5"/>
          <p:cNvSpPr/>
          <p:nvPr/>
        </p:nvSpPr>
        <p:spPr>
          <a:xfrm>
            <a:off x="826920" y="476280"/>
            <a:ext cx="813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3200" spc="-1" strike="noStrike">
                <a:solidFill>
                  <a:srgbClr val="ffffff"/>
                </a:solidFill>
                <a:latin typeface="Arial"/>
                <a:ea typeface="宋体"/>
              </a:rPr>
              <a:t>七、   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2800" spc="-1" strike="noStrike">
                <a:solidFill>
                  <a:srgbClr val="ffffff"/>
                </a:solidFill>
                <a:latin typeface="Verdana"/>
                <a:ea typeface="宋体"/>
              </a:rPr>
              <a:t>传统疗法在康复护理中的应用</a:t>
            </a:r>
            <a:endParaRPr b="0" lang="en-US" sz="2800" spc="-1" strike="noStrike">
              <a:solidFill>
                <a:srgbClr val="ffffff"/>
              </a:solidFill>
              <a:latin typeface="Verdana"/>
            </a:endParaRPr>
          </a:p>
        </p:txBody>
      </p:sp>
      <p:sp>
        <p:nvSpPr>
          <p:cNvPr id="150" name="PlaceHolder 2"/>
          <p:cNvSpPr>
            <a:spLocks noGrp="1"/>
          </p:cNvSpPr>
          <p:nvPr>
            <p:ph/>
          </p:nvPr>
        </p:nvSpPr>
        <p:spPr>
          <a:xfrm>
            <a:off x="682200" y="1773000"/>
            <a:ext cx="7777080" cy="3097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点法  </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拇指指尖或示指的第一指间关节突起部，按压一定部位的手法。屈拇指点：拇指指间关节屈曲，关节桡侧突起部位点住某一穴位。屈示指点：示指第一指间关节屈曲，关节突起部位点住某一穴位。拇指点：需手握空拳，拇指伸直，用指端点住某一穴位，前臂及腕用力下压。点法接触面积较小，刺激的强弱容易控制调节，对全身各部的经络穴位都可以应用。</a:t>
            </a:r>
            <a:endParaRPr b="1" lang="en-US" sz="2400" spc="-1" strike="noStrike">
              <a:solidFill>
                <a:srgbClr val="8ac8de"/>
              </a:solidFill>
              <a:latin typeface="Verdana"/>
            </a:endParaRPr>
          </a:p>
        </p:txBody>
      </p:sp>
      <p:sp>
        <p:nvSpPr>
          <p:cNvPr id="151"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50920" y="260280"/>
            <a:ext cx="68421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3" name="PlaceHolder 2"/>
          <p:cNvSpPr>
            <a:spLocks noGrp="1"/>
          </p:cNvSpPr>
          <p:nvPr>
            <p:ph/>
          </p:nvPr>
        </p:nvSpPr>
        <p:spPr>
          <a:xfrm>
            <a:off x="380520" y="1362240"/>
            <a:ext cx="851220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揉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用手指或手掌在体表穴位处做揉动的手法。指揉法：用拇指指腹或示、中指指腹揉动体表的穴位。掌揉法：用全手掌在体表的腰、腹、四肢等处揉动，又可分为大鱼际揉法、掌根揉法。操作时紧贴体表，以带动皮下肌肉组织。腕部放松，以肘部为支点，前臂做主动摆动，带动腕部做轻柔缓和的摆动。频率为每分钟</a:t>
            </a:r>
            <a:r>
              <a:rPr b="1" lang="en-US" sz="2400" spc="-1" strike="noStrike">
                <a:solidFill>
                  <a:srgbClr val="046ca6"/>
                </a:solidFill>
                <a:latin typeface="Verdana"/>
                <a:ea typeface="宋体"/>
              </a:rPr>
              <a:t>100</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20</a:t>
            </a:r>
            <a:r>
              <a:rPr b="1" lang="zh-CN" sz="2400" spc="-1" strike="noStrike">
                <a:solidFill>
                  <a:srgbClr val="046ca6"/>
                </a:solidFill>
                <a:latin typeface="Verdana"/>
                <a:ea typeface="宋体"/>
              </a:rPr>
              <a:t>次。</a:t>
            </a:r>
            <a:endParaRPr b="1" lang="en-US" sz="2400" spc="-1" strike="noStrike">
              <a:solidFill>
                <a:srgbClr val="8ac8de"/>
              </a:solidFill>
              <a:latin typeface="Verdana"/>
            </a:endParaRPr>
          </a:p>
        </p:txBody>
      </p:sp>
      <p:sp>
        <p:nvSpPr>
          <p:cNvPr id="154" name="Rectangle 4"/>
          <p:cNvSpPr/>
          <p:nvPr/>
        </p:nvSpPr>
        <p:spPr>
          <a:xfrm>
            <a:off x="380880" y="1341360"/>
            <a:ext cx="361476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0560" y="33300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6" name="PlaceHolder 2"/>
          <p:cNvSpPr>
            <a:spLocks noGrp="1"/>
          </p:cNvSpPr>
          <p:nvPr>
            <p:ph/>
          </p:nvPr>
        </p:nvSpPr>
        <p:spPr>
          <a:xfrm>
            <a:off x="304920" y="1773000"/>
            <a:ext cx="8299440" cy="4475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捏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以拇指及其他手指相对用力捏住肌肉或肌腱，循其走向向前推进的手法称为捏法。用于小儿疳积、消化不良、厌食、腹泻等治疗，对于体弱多病者可增强免疫功能；成人适用于慢性消化性疾病、月经不调、痛经、颈椎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39640" y="333000"/>
            <a:ext cx="661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58" name="PlaceHolder 2"/>
          <p:cNvSpPr>
            <a:spLocks noGrp="1"/>
          </p:cNvSpPr>
          <p:nvPr>
            <p:ph/>
          </p:nvPr>
        </p:nvSpPr>
        <p:spPr>
          <a:xfrm>
            <a:off x="250920" y="1699920"/>
            <a:ext cx="8137440" cy="38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拍法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用手掌拍击治疗部位，注意手部肌肉放松，手腕发软，以前臂发力。用力沉而不僵，富于弹性，适用于躯干、四肢。具有兴奋肌肤、解除疲劳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123640" y="333000"/>
            <a:ext cx="67690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0" name="PlaceHolder 2"/>
          <p:cNvSpPr>
            <a:spLocks noGrp="1"/>
          </p:cNvSpPr>
          <p:nvPr>
            <p:ph/>
          </p:nvPr>
        </p:nvSpPr>
        <p:spPr>
          <a:xfrm>
            <a:off x="826560" y="2492280"/>
            <a:ext cx="7201080" cy="16560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推拿疗法特别适用于肢体瘫痪、疼痛以及关节活动障碍者。对肌肉劳损、四肢软组织和骨关节病变也效果很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marL="812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2" name="PlaceHolder 2"/>
          <p:cNvSpPr>
            <a:spLocks noGrp="1"/>
          </p:cNvSpPr>
          <p:nvPr>
            <p:ph/>
          </p:nvPr>
        </p:nvSpPr>
        <p:spPr>
          <a:xfrm>
            <a:off x="394920" y="2276640"/>
            <a:ext cx="7705800" cy="24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传统体育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是运动与意念、呼吸调节相结合的医疗体操，以强身健体、康复身心为主要目标。主要运动形式有：气功、五禽戏、八段锦、易筋经、太极拳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4" name="PlaceHolder 2"/>
          <p:cNvSpPr>
            <a:spLocks noGrp="1"/>
          </p:cNvSpPr>
          <p:nvPr>
            <p:ph/>
          </p:nvPr>
        </p:nvSpPr>
        <p:spPr>
          <a:xfrm>
            <a:off x="304560" y="1628640"/>
            <a:ext cx="8227800" cy="489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作用机制  </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增强正气，祛除病邪：传统体育康复法能锻炼人体的正气，提高人体抵抗病邪的能力，使人体血脉疏通，脏腑协调，代谢正常，从而修复机体的缺损，恢复或代偿丧失的功能，达到康复的目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调节精神，改善功能：传统体育康复通过“动”和“静”调节精神，使人感到心情舒畅，传入大脑皮层的不良冲动减少，消除消极情绪，脱离病态心理，促进机体功能的改善，达到康复身心的目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971640" y="2421000"/>
            <a:ext cx="74880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疏通经络，调和气血：在传统体育锻炼中发现，意到、气到的部位比锻炼前温度提高</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a:t>
            </a:r>
            <a:r>
              <a:rPr b="1" lang="en-US" sz="2800" spc="-1" strike="noStrike">
                <a:solidFill>
                  <a:srgbClr val="046ca6"/>
                </a:solidFill>
                <a:latin typeface="Arial"/>
                <a:ea typeface="宋体"/>
              </a:rPr>
              <a:t>40℃</a:t>
            </a:r>
            <a:r>
              <a:rPr b="1" lang="zh-CN" sz="2800" spc="-1" strike="noStrike">
                <a:solidFill>
                  <a:srgbClr val="046ca6"/>
                </a:solidFill>
                <a:latin typeface="Arial"/>
                <a:ea typeface="宋体"/>
              </a:rPr>
              <a:t>，血流量也增加</a:t>
            </a:r>
            <a:r>
              <a:rPr b="1" lang="en-US" sz="2800" spc="-1" strike="noStrike">
                <a:solidFill>
                  <a:srgbClr val="046ca6"/>
                </a:solidFill>
                <a:latin typeface="Arial"/>
                <a:ea typeface="宋体"/>
              </a:rPr>
              <a:t>30%</a:t>
            </a:r>
            <a:r>
              <a:rPr b="1" lang="zh-CN" sz="2800" spc="-1" strike="noStrike">
                <a:solidFill>
                  <a:srgbClr val="046ca6"/>
                </a:solidFill>
                <a:latin typeface="Arial"/>
                <a:ea typeface="宋体"/>
              </a:rPr>
              <a:t>左右，白细胞的吞噬能力提高，从而证明传统体育锻炼可以疏通经络、调和气血，达到防病、治病、康复之功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6" name="Text Box 5"/>
          <p:cNvSpPr/>
          <p:nvPr/>
        </p:nvSpPr>
        <p:spPr>
          <a:xfrm>
            <a:off x="2050920" y="404640"/>
            <a:ext cx="676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68" name="PlaceHolder 2"/>
          <p:cNvSpPr>
            <a:spLocks noGrp="1"/>
          </p:cNvSpPr>
          <p:nvPr>
            <p:ph/>
          </p:nvPr>
        </p:nvSpPr>
        <p:spPr>
          <a:xfrm>
            <a:off x="5579640" y="1980720"/>
            <a:ext cx="1584360" cy="4876920"/>
          </a:xfrm>
          <a:prstGeom prst="rect">
            <a:avLst/>
          </a:prstGeom>
          <a:noFill/>
          <a:ln w="0">
            <a:noFill/>
          </a:ln>
        </p:spPr>
        <p:txBody>
          <a:bodyPr anchor="t" vert="eaVert">
            <a:normAutofit/>
          </a:bodyPr>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太 极 拳    </a:t>
            </a:r>
            <a:endParaRPr b="1" lang="en-US" sz="3200" spc="-1" strike="noStrike">
              <a:solidFill>
                <a:srgbClr val="8ac8de"/>
              </a:solidFill>
              <a:latin typeface="Verdana"/>
            </a:endParaRPr>
          </a:p>
        </p:txBody>
      </p:sp>
      <p:sp>
        <p:nvSpPr>
          <p:cNvPr id="169"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1"/>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2" name="Picture 14" descr="t013e76fe8a4fe72337"/>
          <p:cNvPicPr/>
          <p:nvPr/>
        </p:nvPicPr>
        <p:blipFill>
          <a:blip r:embed="rId1"/>
          <a:stretch/>
        </p:blipFill>
        <p:spPr>
          <a:xfrm>
            <a:off x="1258920" y="206064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4" name="Picture 7" descr="t01c55a0905db16c1f5"/>
          <p:cNvPicPr/>
          <p:nvPr/>
        </p:nvPicPr>
        <p:blipFill>
          <a:blip r:embed="rId1"/>
          <a:stretch/>
        </p:blipFill>
        <p:spPr>
          <a:xfrm>
            <a:off x="1692360" y="2565360"/>
            <a:ext cx="2095560" cy="2793960"/>
          </a:xfrm>
          <a:prstGeom prst="rect">
            <a:avLst/>
          </a:prstGeom>
          <a:ln w="0">
            <a:noFill/>
          </a:ln>
        </p:spPr>
      </p:pic>
      <p:pic>
        <p:nvPicPr>
          <p:cNvPr id="175" name="Picture 8" descr="t01c80b901091d1b4fd"/>
          <p:cNvPicPr/>
          <p:nvPr/>
        </p:nvPicPr>
        <p:blipFill>
          <a:blip r:embed="rId2">
            <a:lum bright="20000"/>
          </a:blip>
          <a:stretch/>
        </p:blipFill>
        <p:spPr>
          <a:xfrm>
            <a:off x="5076720" y="1844640"/>
            <a:ext cx="268632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七、传统疗法在康复护理中的应用</a:t>
            </a:r>
            <a:endParaRPr b="0" lang="en-US" sz="3200" spc="-1" strike="noStrike">
              <a:solidFill>
                <a:srgbClr val="ffffff"/>
              </a:solidFill>
              <a:latin typeface="Verdana"/>
            </a:endParaRPr>
          </a:p>
        </p:txBody>
      </p:sp>
      <p:sp>
        <p:nvSpPr>
          <p:cNvPr id="109" name=""/>
          <p:cNvSpPr txBox="1"/>
          <p:nvPr/>
        </p:nvSpPr>
        <p:spPr>
          <a:xfrm>
            <a:off x="394920" y="1557000"/>
            <a:ext cx="8466120" cy="4103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内容简介</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针灸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推拿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传统体育疗法</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气功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饮食疗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六、调摄情志疗法</a:t>
            </a:r>
            <a:r>
              <a:rPr b="1" lang="zh-CN" sz="2400" spc="-1" strike="noStrike">
                <a:solidFill>
                  <a:srgbClr val="046ca6"/>
                </a:solidFill>
                <a:latin typeface="楷体"/>
                <a:ea typeface="楷体"/>
              </a:rPr>
              <a:t> </a:t>
            </a:r>
            <a:endParaRPr b="1" lang="en-US" sz="24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pic>
        <p:nvPicPr>
          <p:cNvPr id="177" name="Picture 46" descr="t01679f2e822caccaeb"/>
          <p:cNvPicPr/>
          <p:nvPr/>
        </p:nvPicPr>
        <p:blipFill>
          <a:blip r:embed="rId1"/>
          <a:stretch/>
        </p:blipFill>
        <p:spPr>
          <a:xfrm>
            <a:off x="1476360" y="2205000"/>
            <a:ext cx="575964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79" name="PlaceHolder 2"/>
          <p:cNvSpPr>
            <a:spLocks noGrp="1"/>
          </p:cNvSpPr>
          <p:nvPr>
            <p:ph/>
          </p:nvPr>
        </p:nvSpPr>
        <p:spPr>
          <a:xfrm>
            <a:off x="899640" y="2565360"/>
            <a:ext cx="7201080" cy="29512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传统体育疗法特别适用于增强患者的体质，改善患者的整体功能。可根据患者身体的状况和肢体伤残的情况，选择不同的功法进行锻炼，也可选择某一个动作进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1" name="PlaceHolder 2"/>
          <p:cNvSpPr>
            <a:spLocks noGrp="1"/>
          </p:cNvSpPr>
          <p:nvPr>
            <p:ph/>
          </p:nvPr>
        </p:nvSpPr>
        <p:spPr>
          <a:xfrm>
            <a:off x="533160" y="1773360"/>
            <a:ext cx="7926120" cy="3311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气功</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气功，又称“导引”、“吐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源于原始社会末期，经诸子百家的研习，以调整呼吸、吐故纳新（即练气）为主要特征，是神（精神）、形（形体）、气（气息）综合修炼的养生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826920" y="1413000"/>
            <a:ext cx="7705800" cy="36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作用机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提高人体免疫功能，增强抗病能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疏通经络，改善血液循环。</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松弛身心，消除不良情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降低基础代谢，增加能量储备</a:t>
            </a:r>
            <a:r>
              <a:rPr b="1" lang="zh-CN" sz="3200" spc="-1" strike="noStrike">
                <a:solidFill>
                  <a:srgbClr val="046ca6"/>
                </a:solidFill>
                <a:latin typeface="Arial"/>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基本练法归纳起来就是“三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调身</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息</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调心 </a:t>
            </a:r>
            <a:endParaRPr b="0" lang="en-US" sz="2800" spc="-1" strike="noStrike">
              <a:solidFill>
                <a:srgbClr val="046ca6"/>
              </a:solidFill>
              <a:latin typeface="Arial"/>
            </a:endParaRPr>
          </a:p>
        </p:txBody>
      </p:sp>
      <p:sp>
        <p:nvSpPr>
          <p:cNvPr id="183" name="Text Box 5"/>
          <p:cNvSpPr/>
          <p:nvPr/>
        </p:nvSpPr>
        <p:spPr>
          <a:xfrm>
            <a:off x="2124000" y="404640"/>
            <a:ext cx="6696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4"/>
          <p:cNvSpPr/>
          <p:nvPr/>
        </p:nvSpPr>
        <p:spPr>
          <a:xfrm>
            <a:off x="1042920" y="2060640"/>
            <a:ext cx="7272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气功在康复护理中适用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体质较差者：有良好的强身健体、促进康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卒中后遗症患者：有改善脑循环、促进脑功能恢复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慢性病、老年人机体功能减退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1908000" y="682560"/>
            <a:ext cx="561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Text Box 6"/>
          <p:cNvSpPr/>
          <p:nvPr/>
        </p:nvSpPr>
        <p:spPr>
          <a:xfrm>
            <a:off x="2411280" y="404640"/>
            <a:ext cx="6551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88"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饮食疗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饮食疗法是通过改变饮食的品种、结构、烹饪的方法等来防治疾病、康复身心的治疗方法。中医在这方面有较为深入与广泛的研究，对患者的康复有良好的促进作用。</a:t>
            </a:r>
            <a:endParaRPr b="1" lang="en-US" sz="2400" spc="-1" strike="noStrike">
              <a:solidFill>
                <a:srgbClr val="8ac8de"/>
              </a:solidFill>
              <a:latin typeface="Verdana"/>
            </a:endParaRPr>
          </a:p>
          <a:p>
            <a:pPr lvl="1"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身体虚弱、食欲不佳的康复患者特别适合辅以饮食疗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0" name="PlaceHolder 2"/>
          <p:cNvSpPr>
            <a:spLocks noGrp="1"/>
          </p:cNvSpPr>
          <p:nvPr>
            <p:ph/>
          </p:nvPr>
        </p:nvSpPr>
        <p:spPr>
          <a:xfrm>
            <a:off x="304560" y="1371240"/>
            <a:ext cx="88390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调摄情志</a:t>
            </a:r>
            <a:endParaRPr b="1" lang="en-US" sz="2800" spc="-1" strike="noStrike">
              <a:solidFill>
                <a:srgbClr val="8ac8de"/>
              </a:solidFill>
              <a:latin typeface="Verdan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广义的调摄情志疗法就是具有中医特色的心理治疗，主要包括：五志相胜疗法、言语开导疗法、清心静神疗法、疏导宣泄疗法、生活娱乐疗法、私欲节制疗法等。狭义的调摄情志疗法就是五志相胜疗法。  </a:t>
            </a:r>
            <a:endParaRPr b="1" lang="en-US" sz="24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中医理论认为人有七情，即喜、怒、忧、思、悲、恐、惊。七情归于五脏，五脏分属木、火、土、水、金五行，五行相生相克，因而喜、怒、忧、思、恐之间存在着相生相克的关系。</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七、</a:t>
            </a:r>
            <a:r>
              <a:rPr b="1" lang="zh-CN" sz="3200" spc="-1" strike="noStrike">
                <a:solidFill>
                  <a:srgbClr val="ffffff"/>
                </a:solidFill>
                <a:latin typeface="Verdana"/>
                <a:ea typeface="宋体"/>
              </a:rPr>
              <a:t>传统疗法在康复护理中的应用</a:t>
            </a:r>
            <a:endParaRPr b="0" lang="en-US" sz="3200" spc="-1" strike="noStrike">
              <a:solidFill>
                <a:srgbClr val="ffffff"/>
              </a:solidFill>
              <a:latin typeface="Verdana"/>
            </a:endParaRPr>
          </a:p>
        </p:txBody>
      </p:sp>
      <p:sp>
        <p:nvSpPr>
          <p:cNvPr id="194" name="PlaceHolder 2"/>
          <p:cNvSpPr>
            <a:spLocks noGrp="1"/>
          </p:cNvSpPr>
          <p:nvPr>
            <p:ph/>
          </p:nvPr>
        </p:nvSpPr>
        <p:spPr>
          <a:xfrm>
            <a:off x="899640" y="1773360"/>
            <a:ext cx="7488360" cy="40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具体方法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恐胜喜疗法：以恐吓的方法使患者从狂喜的病态中解脱出来。例如：范进的岳父以打骂的方式，通过恐吓将他从中举后的喜疯之中解救出来，使其恢复了常态（余下的操作方法以此类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怒胜思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喜胜忧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思胜恐疗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悲胜怒疗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404640"/>
            <a:ext cx="86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2" name="PlaceHolder 2"/>
          <p:cNvSpPr>
            <a:spLocks noGrp="1"/>
          </p:cNvSpPr>
          <p:nvPr>
            <p:ph/>
          </p:nvPr>
        </p:nvSpPr>
        <p:spPr>
          <a:xfrm>
            <a:off x="324000" y="1196640"/>
            <a:ext cx="864072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针灸疗法</a:t>
            </a:r>
            <a:endParaRPr b="1" lang="en-US" sz="32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与艾灸疗法的合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针刺疗法：是应用不同的针具，在人体腧穴（穴位）或病变部位，运用不同的操作手法进行刺激来防病治病的方法。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艾灸疗法：是以艾绒等为主要原料，做成一定的形状，在人体的腧穴或病变部位进行烧灼或温烤，用来治疗和预防疾病的方法。</a:t>
            </a:r>
            <a:endParaRPr b="1" lang="en-US" sz="24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113" name="Picture 6" descr=""/>
          <p:cNvPicPr/>
          <p:nvPr/>
        </p:nvPicPr>
        <p:blipFill>
          <a:blip r:embed="rId1"/>
          <a:stretch/>
        </p:blipFill>
        <p:spPr>
          <a:xfrm>
            <a:off x="5796000" y="4724280"/>
            <a:ext cx="2736720" cy="172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5" name="PlaceHolder 2"/>
          <p:cNvSpPr>
            <a:spLocks noGrp="1"/>
          </p:cNvSpPr>
          <p:nvPr>
            <p:ph/>
          </p:nvPr>
        </p:nvSpPr>
        <p:spPr>
          <a:xfrm>
            <a:off x="304920" y="907560"/>
            <a:ext cx="8610480" cy="5340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作用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46ca6"/>
                </a:solidFill>
                <a:latin typeface="宋体"/>
                <a:ea typeface="宋体"/>
              </a:rPr>
              <a:t>针灸疗法的理论基础是中医的经络学说。中医认为，人体功能的维持靠周身的气血运行，而气血运行的通道就是遍布周身、连接五脏六腑、沟通体表与内脏的经络。经络中的气血运行是否畅通直接关系到人体的健康与否。针灸则是调节经络中气血运行的重要方法，通过调节使经络中阻塞的气血变得通畅，使气血运行趋于平衡，从而达到防病治病的目的。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双向调节作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调节人体的免疫功能</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    </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镇痛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17" name="PlaceHolder 2"/>
          <p:cNvSpPr>
            <a:spLocks noGrp="1"/>
          </p:cNvSpPr>
          <p:nvPr>
            <p:ph/>
          </p:nvPr>
        </p:nvSpPr>
        <p:spPr>
          <a:xfrm>
            <a:off x="533520" y="2276640"/>
            <a:ext cx="861048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处方原则</a:t>
            </a:r>
            <a:endParaRPr b="1" lang="en-US" sz="2800" spc="-1" strike="noStrike">
              <a:solidFill>
                <a:srgbClr val="8ac8de"/>
              </a:solidFill>
              <a:latin typeface="Verdana"/>
            </a:endParaRPr>
          </a:p>
        </p:txBody>
      </p:sp>
      <p:sp>
        <p:nvSpPr>
          <p:cNvPr id="118" name="Rectangle 12"/>
          <p:cNvSpPr/>
          <p:nvPr/>
        </p:nvSpPr>
        <p:spPr>
          <a:xfrm>
            <a:off x="611280" y="3369600"/>
            <a:ext cx="784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宋体"/>
                <a:ea typeface="宋体"/>
              </a:rPr>
              <a:t>针灸处方是根据病情进行辨证后，选择适当的腧穴和针灸方法并加以配伍而取得的治疗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选穴的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近部取穴：选取疾病部位或附近的穴位进行治疗。</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远部取穴：选取病变部位所属和相关的经络，根据“经脉所过，主治所及”的原则取穴。如四总穴歌：肚腹三里留，腰背委中求，头项寻列缺，面口合谷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611280" y="2133720"/>
            <a:ext cx="799308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  </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随症取穴：有些疾病可出现全身的症状，可针对症状选取有特定作用的穴位，如发热取大椎、呃逆取内关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配穴方法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400" spc="-1" strike="noStrike">
                <a:solidFill>
                  <a:srgbClr val="046ca6"/>
                </a:solidFill>
                <a:latin typeface="宋体"/>
                <a:ea typeface="宋体"/>
              </a:rPr>
              <a:t>常用的配穴方法有远近配穴法、前后配穴法、上下配穴法、左右配穴法等。</a:t>
            </a:r>
            <a:r>
              <a:rPr b="0" lang="zh-CN" sz="2800" spc="-1" strike="noStrike">
                <a:solidFill>
                  <a:srgbClr val="046ca6"/>
                </a:solidFill>
                <a:latin typeface="楷体"/>
                <a:ea typeface="楷体"/>
              </a:rPr>
              <a:t>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0" name="Text Box 5"/>
          <p:cNvSpPr/>
          <p:nvPr/>
        </p:nvSpPr>
        <p:spPr>
          <a:xfrm>
            <a:off x="1403280" y="620640"/>
            <a:ext cx="684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6"/>
          <p:cNvSpPr/>
          <p:nvPr/>
        </p:nvSpPr>
        <p:spPr>
          <a:xfrm>
            <a:off x="1908000" y="476280"/>
            <a:ext cx="7056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3" name="PlaceHolder 2"/>
          <p:cNvSpPr>
            <a:spLocks noGrp="1"/>
          </p:cNvSpPr>
          <p:nvPr>
            <p:ph/>
          </p:nvPr>
        </p:nvSpPr>
        <p:spPr>
          <a:xfrm>
            <a:off x="250560" y="1052640"/>
            <a:ext cx="8281800" cy="540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三）操作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  </a:t>
            </a:r>
            <a:r>
              <a:rPr b="1" lang="en-US" sz="2400" spc="-1" strike="noStrike">
                <a:solidFill>
                  <a:srgbClr val="046ca6"/>
                </a:solidFill>
                <a:latin typeface="Verdana"/>
                <a:ea typeface="宋体"/>
              </a:rPr>
              <a:t>1. </a:t>
            </a:r>
            <a:r>
              <a:rPr b="1" lang="zh-CN" sz="2400" spc="-1" strike="noStrike">
                <a:solidFill>
                  <a:srgbClr val="046ca6"/>
                </a:solidFill>
                <a:latin typeface="Verdana"/>
                <a:ea typeface="宋体"/>
              </a:rPr>
              <a:t>针刺法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体位选择：仰卧位、侧卧位、坐位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进针法</a:t>
            </a:r>
            <a:endParaRPr b="1" lang="en-US" sz="24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指切进针法：左手拇指或示指端切按在穴位的旁边，右手持针紧靠指甲缘将针刺入皮肤内。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夹持进针法：左手拇指、示指持捏消毒棉球夹住针身下端，将针尖固定在腧穴皮肤表面，右手将针迅速刺入。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捏进针法：左手拇指、示指将针刺部位的皮肤捏起，右手持针从捏起的皮肤上端将针刺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舒张进针法：左手拇指、示指将针刺部位的皮肤向两侧撑开，使皮肤绷紧，右手持针从左手拇指、示指的中间刺入。</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Rectangle 6"/>
          <p:cNvSpPr/>
          <p:nvPr/>
        </p:nvSpPr>
        <p:spPr>
          <a:xfrm>
            <a:off x="-4861080" y="2994840"/>
            <a:ext cx="16376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920" y="333000"/>
            <a:ext cx="8066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七、传统疗法在康复护理中的应用</a:t>
            </a:r>
            <a:endParaRPr b="0" lang="en-US" sz="3200" spc="-1" strike="noStrike">
              <a:solidFill>
                <a:srgbClr val="ffffff"/>
              </a:solidFill>
              <a:latin typeface="Verdana"/>
            </a:endParaRPr>
          </a:p>
        </p:txBody>
      </p:sp>
      <p:sp>
        <p:nvSpPr>
          <p:cNvPr id="126" name="PlaceHolder 2"/>
          <p:cNvSpPr>
            <a:spLocks noGrp="1"/>
          </p:cNvSpPr>
          <p:nvPr>
            <p:ph/>
          </p:nvPr>
        </p:nvSpPr>
        <p:spPr>
          <a:xfrm>
            <a:off x="250560" y="1341000"/>
            <a:ext cx="5707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艾灸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艾条灸：点燃艾条熏烤穴位或患处。艾条灸分为温和灸、雀啄灸和回旋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药条灸：药条即艾绒中掺入其他中药粉末，一起卷入艾条。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艾柱灸：艾柱是指将艾绒捏成上小下大的圆锥体，可为莲子、半个橄榄大小不等。燃烧一个艾柱为一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温针灸：这种方法是针刺与艾灸相结合的治疗方法，适用于既需要针刺又要施灸的疾病。 </a:t>
            </a:r>
            <a:endParaRPr b="1" lang="en-US" sz="2400" spc="-1" strike="noStrike">
              <a:solidFill>
                <a:srgbClr val="8ac8de"/>
              </a:solidFill>
              <a:latin typeface="Verdana"/>
            </a:endParaRPr>
          </a:p>
        </p:txBody>
      </p:sp>
      <p:pic>
        <p:nvPicPr>
          <p:cNvPr id="127" name="Picture 4" descr="t012731b2ab97306482"/>
          <p:cNvPicPr/>
          <p:nvPr/>
        </p:nvPicPr>
        <p:blipFill>
          <a:blip r:embed="rId1"/>
          <a:stretch/>
        </p:blipFill>
        <p:spPr>
          <a:xfrm>
            <a:off x="6156360" y="3141720"/>
            <a:ext cx="240012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7:40:0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