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ED0D-D84D-4CB2-9D38-4BB9AC7FFC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5E1C-B125-4BD1-A961-FB37ABE3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059F-5DFF-417C-9875-2A8FD880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1BBD4-E8D0-4F32-B22D-7485D096AC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485A-B002-4A0C-BC4C-099BBC59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98B0-155A-416C-85BE-FA795CFD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6F45-44D1-44BE-8F4C-0FAEDD8F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BF57-3274-4F07-A08B-23EA494A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51B1-8FF0-4DF1-A773-3641408A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09C6-D99E-4908-A524-F9D177AA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AB2E1-9DA6-4FC5-8E14-DDE2ADE7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FBFC-BA34-490F-8477-72089219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8226-FA8C-4B25-88D1-B49A99BCCB6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心理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76360" y="5732280"/>
            <a:ext cx="6324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66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300720" y="551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李红玲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生物反馈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7" descr="20100730_093246"/>
          <p:cNvPicPr/>
          <p:nvPr/>
        </p:nvPicPr>
        <p:blipFill>
          <a:blip r:embed="rId1"/>
          <a:stretch/>
        </p:blipFill>
        <p:spPr>
          <a:xfrm>
            <a:off x="611280" y="191628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rBEhVFI36DIIAAAAAAPsuLC7NVYAADPMwCJTXAAA-zQ858"/>
          <p:cNvPicPr/>
          <p:nvPr/>
        </p:nvPicPr>
        <p:blipFill>
          <a:blip r:embed="rId2"/>
          <a:stretch/>
        </p:blipFill>
        <p:spPr>
          <a:xfrm>
            <a:off x="5003640" y="1844640"/>
            <a:ext cx="3024360" cy="2519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20100730_093130"/>
          <p:cNvPicPr/>
          <p:nvPr/>
        </p:nvPicPr>
        <p:blipFill>
          <a:blip r:embed="rId3"/>
          <a:stretch/>
        </p:blipFill>
        <p:spPr>
          <a:xfrm>
            <a:off x="539640" y="4221000"/>
            <a:ext cx="340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d2750e6f-ce96-43d6-b3b8-0f28a2ae9755"/>
          <p:cNvPicPr/>
          <p:nvPr/>
        </p:nvPicPr>
        <p:blipFill>
          <a:blip r:embed="rId4"/>
          <a:stretch/>
        </p:blipFill>
        <p:spPr>
          <a:xfrm>
            <a:off x="5364000" y="4724280"/>
            <a:ext cx="266544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777440" cy="38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认知疗法：运用认知行为技术来改变患者的不良认知，从而达到治疗目的的一类心理治疗方法。认知疗法可用于治疗疑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康复治疗护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86104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五、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是以心理学理论为指导，运用心理技术，调节人的心理与生理功能，从而防治疾病、恢复健康的一类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治疗以语言、行为、情景等为载体，运用某种心理技术，通过调整情绪、改善认知、规范行为，从而起到防病治病、康复身心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075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专业程度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治疗对象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按心理治疗所依据的理论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3160" y="2049120"/>
            <a:ext cx="7872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治疗的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心理评估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实施治疗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巩固结束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864800"/>
            <a:ext cx="8610480" cy="45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二）心理治疗者的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思想品德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知识能力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心理素质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5" descr="20100916104642_small"/>
          <p:cNvPicPr/>
          <p:nvPr/>
        </p:nvPicPr>
        <p:blipFill>
          <a:blip r:embed="rId1"/>
          <a:stretch/>
        </p:blipFill>
        <p:spPr>
          <a:xfrm>
            <a:off x="500364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7640" y="1792440"/>
            <a:ext cx="4554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三）心理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精神支持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给患者提供精神上的支持为主要内容的心理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168a1ba578be8cd3cebfe6538538eed1_big"/>
          <p:cNvPicPr/>
          <p:nvPr/>
        </p:nvPicPr>
        <p:blipFill>
          <a:blip r:embed="rId1"/>
          <a:stretch/>
        </p:blipFill>
        <p:spPr>
          <a:xfrm>
            <a:off x="4932360" y="3284640"/>
            <a:ext cx="3714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813744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暗示疗法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患者不经过逻辑判断，自觉地、不加批判地接受医生灌输的观念，从而取得治疗效果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9920" y="2492280"/>
            <a:ext cx="784836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行为疗法：行为疗法是基于实验心理学的研究成果，帮助患者消除或建立某种行为，从而达到治疗目的，如脱敏疗法治疗强迫症、奖励良好行为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55:54Z</dcterms:modified>
  <cp:revision>82</cp:revision>
  <dc:subject/>
  <dc:title>内科护理学</dc:title>
</cp:coreProperties>
</file>