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B4AB9-7B98-4826-84E2-048697C7D3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78B68-34B1-489A-A2AC-422879F76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A279E-7596-44AC-9B0F-B74551A1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BE85B-37EA-45BC-AD1C-5AF62525D8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8AA13-CE75-49AF-B89C-72C0AD9C0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FA7DA-A5A8-4137-95F7-35DC9E723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CB582-1148-433C-AD17-A6F7C730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C2974-966D-4F07-998C-A39817E20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E0695-7D51-4C1E-8525-82F4C9445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37A73-EF48-40E5-A4F5-1B7289ED9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479AA-C23C-4605-ADA7-87AFB7F05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6E338-E57D-43E3-8748-CA5664F59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2B4F6-CB8A-4ACB-9A79-39D814C93A8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28622-6180-46CF-8169-9329E41BC42F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349360"/>
            <a:ext cx="6480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第十八节 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抽搐与惊厥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ABA60-47E6-4521-95DB-A2B8E5E7983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临床表现特点  抽搐与惊厥起病的年龄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有无发作诱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发作的频率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持续时间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部位是全身性还是局限性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是持续强直性还是间歇阵挛性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饮食营养状况  询问每日进食量与食物类型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注意营养平衡，患儿需询问喂养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出入量  详细记录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小时出入液体量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注意出入液体总量是否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84" name="Group 6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85" name="AutoShape 7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AutoShape 8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Text Box 9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评估要点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Text Box 10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89" name="Picture 12" descr="MCj03474310000[1]"/>
          <p:cNvPicPr/>
          <p:nvPr/>
        </p:nvPicPr>
        <p:blipFill>
          <a:blip r:embed="rId1"/>
          <a:stretch/>
        </p:blipFill>
        <p:spPr>
          <a:xfrm>
            <a:off x="6145200" y="4890960"/>
            <a:ext cx="2664000" cy="15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1BE55-709D-45F7-892E-781E0631B71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既往健康史  既往有无引起抽搐与惊厥相关的疾病史、有无毒物接触史及某些药物服用史；有无外伤及狗咬伤等病史；有无癫痫家族史及类似发作史；对患儿应询问出生及生长发育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身体反应  评估生命体征、意识状态、瞳孔变化、神经反射等以及对患者生活质量的影响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如发作时可引起舌咬伤、跌伤等意外；发作后感疲乏、头痛、肌肉酸痛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93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94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评估要点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98" name="Picture 10" descr="CLIPBRD"/>
          <p:cNvPicPr/>
          <p:nvPr/>
        </p:nvPicPr>
        <p:blipFill>
          <a:blip r:embed="rId1"/>
          <a:stretch/>
        </p:blipFill>
        <p:spPr>
          <a:xfrm>
            <a:off x="7367760" y="5229360"/>
            <a:ext cx="12445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F8140-7598-4541-8F4F-A0B77A32CF4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0" name="Group 4"/>
          <p:cNvGrpSpPr/>
          <p:nvPr/>
        </p:nvGrpSpPr>
        <p:grpSpPr>
          <a:xfrm>
            <a:off x="1042920" y="1700280"/>
            <a:ext cx="7024680" cy="721800"/>
            <a:chOff x="1042920" y="1700280"/>
            <a:chExt cx="7024680" cy="721800"/>
          </a:xfrm>
        </p:grpSpPr>
        <p:sp>
          <p:nvSpPr>
            <p:cNvPr id="201" name="AutoShape 5"/>
            <p:cNvSpPr/>
            <p:nvPr/>
          </p:nvSpPr>
          <p:spPr>
            <a:xfrm>
              <a:off x="3203640" y="1700280"/>
              <a:ext cx="4863960" cy="682560"/>
            </a:xfrm>
            <a:prstGeom prst="roundRect">
              <a:avLst>
                <a:gd name="adj" fmla="val 7574"/>
              </a:avLst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93300"/>
                  </a:solidFill>
                  <a:latin typeface="宋体"/>
                  <a:ea typeface="宋体"/>
                </a:rPr>
                <a:t>    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AutoShape 6"/>
            <p:cNvSpPr/>
            <p:nvPr/>
          </p:nvSpPr>
          <p:spPr>
            <a:xfrm>
              <a:off x="1058760" y="1844640"/>
              <a:ext cx="2217960" cy="5774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dddddd"/>
                </a:gs>
                <a:gs pos="100000">
                  <a:srgbClr val="99ffcc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Rectangle 7"/>
            <p:cNvSpPr/>
            <p:nvPr/>
          </p:nvSpPr>
          <p:spPr>
            <a:xfrm>
              <a:off x="1042920" y="184464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有受伤害危险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4" name="Group 11"/>
          <p:cNvGrpSpPr/>
          <p:nvPr/>
        </p:nvGrpSpPr>
        <p:grpSpPr>
          <a:xfrm>
            <a:off x="971640" y="3789360"/>
            <a:ext cx="7230600" cy="863280"/>
            <a:chOff x="971640" y="3789360"/>
            <a:chExt cx="7230600" cy="863280"/>
          </a:xfrm>
        </p:grpSpPr>
        <p:sp>
          <p:nvSpPr>
            <p:cNvPr id="205" name="AutoShape 12"/>
            <p:cNvSpPr/>
            <p:nvPr/>
          </p:nvSpPr>
          <p:spPr>
            <a:xfrm>
              <a:off x="3184920" y="3789360"/>
              <a:ext cx="5017320" cy="788400"/>
            </a:xfrm>
            <a:prstGeom prst="roundRect">
              <a:avLst>
                <a:gd name="adj" fmla="val 43648"/>
              </a:avLst>
            </a:prstGeom>
            <a:noFill/>
            <a:ln w="3492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9669b"/>
                  </a:solidFill>
                  <a:latin typeface="Arial"/>
                  <a:ea typeface="宋体"/>
                </a:rPr>
                <a:t>与抽搐与惊厥发作所致短暂意识丧失有关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AutoShape 13"/>
            <p:cNvSpPr/>
            <p:nvPr/>
          </p:nvSpPr>
          <p:spPr>
            <a:xfrm>
              <a:off x="971640" y="3986280"/>
              <a:ext cx="2327400" cy="66636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排尿障碍</a:t>
              </a:r>
              <a:r>
                <a:rPr b="1" lang="en-US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/</a:t>
              </a:r>
              <a:r>
                <a:rPr b="1" lang="zh-CN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排便失禁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7" name="Group 14"/>
          <p:cNvGrpSpPr/>
          <p:nvPr/>
        </p:nvGrpSpPr>
        <p:grpSpPr>
          <a:xfrm>
            <a:off x="971640" y="2852640"/>
            <a:ext cx="7154280" cy="757080"/>
            <a:chOff x="971640" y="2852640"/>
            <a:chExt cx="7154280" cy="757080"/>
          </a:xfrm>
        </p:grpSpPr>
        <p:grpSp>
          <p:nvGrpSpPr>
            <p:cNvPr id="208" name="Group 15"/>
            <p:cNvGrpSpPr/>
            <p:nvPr/>
          </p:nvGrpSpPr>
          <p:grpSpPr>
            <a:xfrm>
              <a:off x="971640" y="2852640"/>
              <a:ext cx="7153920" cy="757080"/>
              <a:chOff x="971640" y="2852640"/>
              <a:chExt cx="7153920" cy="757080"/>
            </a:xfrm>
          </p:grpSpPr>
          <p:sp>
            <p:nvSpPr>
              <p:cNvPr id="209" name="AutoShape 16"/>
              <p:cNvSpPr/>
              <p:nvPr/>
            </p:nvSpPr>
            <p:spPr>
              <a:xfrm>
                <a:off x="3089880" y="2852640"/>
                <a:ext cx="5035680" cy="757080"/>
              </a:xfrm>
              <a:prstGeom prst="roundRect">
                <a:avLst>
                  <a:gd name="adj" fmla="val 7574"/>
                </a:avLst>
              </a:prstGeom>
              <a:noFill/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993300"/>
                    </a:solidFill>
                    <a:latin typeface="宋体"/>
                    <a:ea typeface="宋体"/>
                  </a:rPr>
                  <a:t>   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0" name="AutoShape 17"/>
              <p:cNvSpPr/>
              <p:nvPr/>
            </p:nvSpPr>
            <p:spPr>
              <a:xfrm>
                <a:off x="971640" y="2967840"/>
                <a:ext cx="2262960" cy="640440"/>
              </a:xfrm>
              <a:prstGeom prst="roundRect">
                <a:avLst>
                  <a:gd name="adj" fmla="val 7574"/>
                </a:avLst>
              </a:prstGeom>
              <a:gradFill rotWithShape="0">
                <a:gsLst>
                  <a:gs pos="0">
                    <a:srgbClr val="ffcc99"/>
                  </a:gs>
                  <a:gs pos="50000">
                    <a:srgbClr val="d0e8a0"/>
                  </a:gs>
                  <a:gs pos="100000">
                    <a:srgbClr val="ffcc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993300"/>
                    </a:solidFill>
                    <a:latin typeface="Arial"/>
                    <a:ea typeface="楷体_GB2312"/>
                  </a:rPr>
                  <a:t>潜在并发症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1" name="Rectangle 18"/>
            <p:cNvSpPr/>
            <p:nvPr/>
          </p:nvSpPr>
          <p:spPr>
            <a:xfrm>
              <a:off x="3460320" y="2852640"/>
              <a:ext cx="4665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2" name="AutoShape 19"/>
          <p:cNvSpPr/>
          <p:nvPr/>
        </p:nvSpPr>
        <p:spPr>
          <a:xfrm>
            <a:off x="3203640" y="5373720"/>
            <a:ext cx="4970520" cy="685800"/>
          </a:xfrm>
          <a:prstGeom prst="roundRect">
            <a:avLst>
              <a:gd name="adj" fmla="val 7574"/>
            </a:avLst>
          </a:prstGeom>
          <a:noFill/>
          <a:ln w="349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e230c"/>
                </a:solidFill>
                <a:latin typeface="Arial"/>
                <a:ea typeface="宋体"/>
              </a:rPr>
              <a:t>与不可预知的惊厥发作有关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20"/>
          <p:cNvSpPr/>
          <p:nvPr/>
        </p:nvSpPr>
        <p:spPr>
          <a:xfrm>
            <a:off x="826920" y="5373720"/>
            <a:ext cx="2329200" cy="6652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99ff"/>
              </a:gs>
              <a:gs pos="50000">
                <a:srgbClr val="ccccff"/>
              </a:gs>
              <a:gs pos="100000">
                <a:srgbClr val="99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恐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4" name="Group 21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215" name="AutoShape 22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AutoShape 23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Text Box 24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诊断及合作性问题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Text Box 25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9" name="Rectangle 27"/>
          <p:cNvSpPr/>
          <p:nvPr/>
        </p:nvSpPr>
        <p:spPr>
          <a:xfrm>
            <a:off x="3419640" y="186984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与惊厥发作所致的不受控制的强直性肌肉收缩和意识丧失有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矩形 22"/>
          <p:cNvSpPr/>
          <p:nvPr/>
        </p:nvSpPr>
        <p:spPr>
          <a:xfrm>
            <a:off x="3571920" y="292896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窒息 ；高热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2BC79-4718-4C7E-A523-06BCA3D2D46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学内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病因与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护理评估要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相关护理诊断与合作问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灯片编号占位符 2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2CA9B-5207-482E-8E2D-D5F413CED01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1015D-B6A5-43D3-B1FB-D6C586DED8D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560" y="1213920"/>
            <a:ext cx="88390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识记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说出抽搐与惊厥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阐述抽搐与惊厥的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说出抽搐与惊厥的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解释抽搐与惊厥的发生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用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用所学知识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能对患者做出全面准确的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根据护理评估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能正确做出护理诊断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并列出相关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AEFD6-0DBE-4514-99C1-CBD0B6585B1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B5EAA-8009-4171-9519-E090B7217BC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280DC-D8FD-4448-B391-1EF72A670A1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抽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tic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惊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convulsion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均属于不随意运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抽搐是指全身或局部骨骼肌发生非自主抽动或强烈收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可引起关节运动和强直。当肌群收缩表现为强直性和阵挛性时，称为惊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2C62-2E5E-48EB-8225-B05D64033ED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1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抽搐与惊厥可分为两大类，即特发性与症状性，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特发性常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于先天性脑部不稳定状态所致，与遗传因素有较密切的关系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状性则由于脑部疾病和全身性疾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所引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见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脑部疾病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686EF-CD19-40F2-A5CB-F23A49780C9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8" name="Group 9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39" name="AutoShape 10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AutoShape 11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Text Box 12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病因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13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3" name="AutoShape 17"/>
          <p:cNvSpPr/>
          <p:nvPr/>
        </p:nvSpPr>
        <p:spPr>
          <a:xfrm>
            <a:off x="1496880" y="3906720"/>
            <a:ext cx="6191280" cy="2570400"/>
          </a:xfrm>
          <a:prstGeom prst="borderCallout1">
            <a:avLst>
              <a:gd name="adj1" fmla="val 18750"/>
              <a:gd name="adj2" fmla="val -8333"/>
              <a:gd name="adj3" fmla="val -2962"/>
              <a:gd name="adj4" fmla="val -1235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染：脑炎、脑膜炎、脑脓肿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伤：如产伤、颅脑外伤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肿瘤：如原发性脑肿瘤、脑转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管疾病：如脑栓塞、脑出血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寄生虫病：如脑血吸虫病、脑型疟疾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：如先天性脑发育障碍、核黄疸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1775A-BE6B-4155-A681-3A43B5FE4A3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610840" cy="51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全身性疾病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0E86B-A27A-4C05-96ED-C13AE3367EB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8" name="Group 9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49" name="AutoShape 10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AutoShape 11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Text Box 12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病因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Text Box 13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3" name="AutoShape 25"/>
          <p:cNvSpPr/>
          <p:nvPr/>
        </p:nvSpPr>
        <p:spPr>
          <a:xfrm>
            <a:off x="2071800" y="2214720"/>
            <a:ext cx="6858000" cy="2663640"/>
          </a:xfrm>
          <a:prstGeom prst="borderCallout1">
            <a:avLst>
              <a:gd name="adj1" fmla="val 18750"/>
              <a:gd name="adj2" fmla="val -8333"/>
              <a:gd name="adj3" fmla="val -2861"/>
              <a:gd name="adj4" fmla="val -28888"/>
            </a:avLst>
          </a:prstGeom>
          <a:solidFill>
            <a:srgbClr val="33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感染：如急性胃肠炎、败血症、中毒型菌痢等，小儿高热惊厥主要由急性感染所致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心血管疾病：如高血压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Adams-Stokes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综合征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中毒：如有机磷、阿托品中毒、尿毒症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风湿性疾病：如风湿热、系统性红斑狼疮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代谢障碍：如低血糖、低钙血症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其他：中暑、溺水、触电、突然停用安眠药，抗癫痫药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AutoShape 26"/>
          <p:cNvSpPr/>
          <p:nvPr/>
        </p:nvSpPr>
        <p:spPr>
          <a:xfrm>
            <a:off x="2411280" y="5516640"/>
            <a:ext cx="6193080" cy="914400"/>
          </a:xfrm>
          <a:prstGeom prst="borderCallout1">
            <a:avLst>
              <a:gd name="adj1" fmla="val 18750"/>
              <a:gd name="adj2" fmla="val -8333"/>
              <a:gd name="adj3" fmla="val -8333"/>
              <a:gd name="adj4" fmla="val -1053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如癔症性抽搐和惊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57667-B55B-4CE3-801D-0F13FBFB0D3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BBCBC-2495-45F6-9A75-2CEEC36C494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560" y="1988640"/>
            <a:ext cx="889308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生机制尚未完全阐明，可能是大脑运动神经元的异常放电所致。这种异常放电主要是因为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元膜电位的不稳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引起的，可能与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遗传、免疫、内分泌微量元素、精神因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等有关，可由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代谢、营养、脑皮质肿物或瘢痕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等激发。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59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60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发生机制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64" name="Picture 7" descr="u=1600387006,2529631094&amp;fm=0&amp;gp=8"/>
          <p:cNvPicPr/>
          <p:nvPr/>
        </p:nvPicPr>
        <p:blipFill>
          <a:blip r:embed="rId1"/>
          <a:stretch/>
        </p:blipFill>
        <p:spPr>
          <a:xfrm>
            <a:off x="6588000" y="5300640"/>
            <a:ext cx="100008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276C3-8F52-449B-ABCA-6864D7C4F68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全身性抽搐  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全身骨骼肌痉挛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主要表现，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伴有意识丧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癫痫大发作：发作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全身抽搐和意识障碍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特征，患者突发意识模糊或丧失，全身骨骼肌持续收缩，伴二便失禁，发作约半分钟自行停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癔症性发作：发作前常有一定的诱因，如生气或各种不良刺激。发作样式不固定，一般无舌咬伤和二便失禁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68" name="Group 4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69" name="AutoShape 5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AutoShape 6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Text Box 7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临床表现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Text Box 8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EA67-F990-4746-92E5-8B0B7A4ADB4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局限性抽搐  以身体某一局部肌肉收缩为主要表现多见于手足、口角、眼睑等部位，低钙血症所致手足抽搐发作时呈“助产士手”；踝关节伸直，足趾跖屈，足呈弓状，似“芭蕾舞足”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77" name="AutoShape 5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AutoShape 6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Text Box 7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临床表现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Text Box 8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6T08:16:53Z</dcterms:modified>
  <cp:revision>16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