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07B0A-5A86-4B29-BAC7-E4EF25286C1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A6F62-AFE7-481C-B442-BE5487A5A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5CCEA-E66B-4632-A988-EBD6A980A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8290D3-24CC-4BBB-9021-33EFB3347A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DA4CB-4C84-459E-A34F-6C73E0E8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39363-FB91-427D-8709-D40EC616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90A3-0548-4FDA-9659-99826561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2776F-6E29-48AC-948F-25AD805D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3F2F-E6D6-4B0F-8A74-467BE4DA7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4D3D0-9D5E-4622-9786-133C49F13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35790-180E-4508-AA9D-EACE0AAA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53557-19EB-4BE4-91F3-5F604A44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6214-C2A6-478C-922E-C4295EB0F8B0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619280" y="2349360"/>
            <a:ext cx="6408720" cy="116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二节  一般状态评估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四、营养状态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  营养状态可依据皮肤、毛发、皮下脂肪、肌肉情况，结合年龄、身高、体重等综合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测量体重：测量一定时间内体重的增减是观察营养状态的常用方法之一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成人的理想体重可用下列公式粗略计算：理想体重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=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身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c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-10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。一般认为体重在标准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±1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范围内为正常；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超重，超过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肥胖；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 %~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为消瘦，低于理想体重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0 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以上为明显消瘦，极度消瘦称为恶病质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ody mass ind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计算方法为：体质指数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＝体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kg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÷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身高平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</a:t>
            </a:r>
            <a:r>
              <a:rPr b="1" lang="en-US" sz="2800" spc="-1" strike="noStrike" baseline="30000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。我国成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的正常范围为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~2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BMI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＜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8.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消瘦，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4.0~27.9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超重，≥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8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皮褶厚度：常用测量部位有：肱三头肌、肩胛下和脐部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4" descr="皮下脂肪检查1"/>
          <p:cNvPicPr/>
          <p:nvPr/>
        </p:nvPicPr>
        <p:blipFill>
          <a:blip r:embed="rId1"/>
          <a:stretch/>
        </p:blipFill>
        <p:spPr>
          <a:xfrm>
            <a:off x="1042920" y="4653000"/>
            <a:ext cx="2516400" cy="1857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皮下脂肪检查2"/>
          <p:cNvPicPr/>
          <p:nvPr/>
        </p:nvPicPr>
        <p:blipFill>
          <a:blip r:embed="rId2"/>
          <a:stretch/>
        </p:blipFill>
        <p:spPr>
          <a:xfrm>
            <a:off x="3780000" y="4581360"/>
            <a:ext cx="27716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综合判断 临床通常以皮肤黏膜、毛发、皮下脂肪及肌肉发育状况对营养状态作出综合判断，以营养良好、营养中等、营养不良三个等级来描述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良好：皮肤黏膜红润、皮肤光泽、弹性好，指甲、毛发润泽，皮下脂肪丰满，肌肉结实，肩胛部及股部肌肉丰满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皮肤黏膜干燥、弹性减低，毛发稀疏，指甲粗糙无光泽，皮下脂肪菲薄，肌肉松弛无力，肩胛骨、髂骨嶙峋突出。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中等：介于良好和不良之间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5335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营养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不良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营养过度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肥胖包括单纯性肥胖和继发性肥胖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3516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五、意识状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consciousnes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大脑皮质功能活动的综合表现。正常人意识清晰，反应敏捷精确，思维活动正常，语言流畅、准确，言能达意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的意识障碍有：嗜睡、意识模糊、昏睡、谵妄、昏迷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六、面容与表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面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facial features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表情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xpres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评价个体情绪状态和身体状况的重要指标。健康人表情自然、神态安逸。疾病可使人的面容与表情发生变化，某些疾病发展到一定程度时，可出现特征性的面容与表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507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常见的典型病容如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急性病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慢性病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甲状腺功能亢进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黏液性水肿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二尖瓣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肢端肥大症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满月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48360" y="2636640"/>
            <a:ext cx="3240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面具面容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．脱水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0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贫血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1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肝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肾病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3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病危面容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七、体位与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体位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osition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指个体身体在卧位时所处的状态。疾病常可使体位发生改变。常见体位如下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自动体位  身体活动自如，不受限制。见于正常人、轻症患者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被动体位  不能随意调整或变换体位。见于意识丧失或极度衰弱的患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强迫体位  为减轻疾病痛苦被迫采取的体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97164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步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ai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走动时所表现的姿势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常见异常步态如下：</a:t>
            </a:r>
            <a:br>
              <a:rPr sz="2800"/>
            </a:b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蹒跚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醉酒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慌张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共济失调步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跨阈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剪刀步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7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间歇性跛行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评估是对患者全身状况的概括性观察。全身一般状态评估方法以视诊为主，有时需配合触诊或借助体温表、血压计、听诊器等进行检查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评估内容包括性别、年龄、生命体征、发育与体型、营养、意识状态、面容与表情、体位与步态。掌握正常表现，熟悉异常改变及其临床意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性别与年龄 性别通常以生殖器与第二性征的发育情况来区别。评估时注意年龄同某些疾病发生与预后的关系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 是标志生命活动存在与质量的重要征象。其内容包括体温、脉搏、呼吸、血压，是观察患者病情变化的重要指标之一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营养状态的评估方法 营养状态可依据皮肤、毛发、皮下脂肪、肌肉情况，结合年龄、身高、体重等综合判断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意识状态 意识状态是大脑皮质功能活动的综合表现。意识障碍的表现有：嗜睡、意识模糊、昏睡、昏迷、谵妄等。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面容与表情 是评价个体情绪状态和身体状况的重要指标。临床常见的典型病容如下：急性病容、慢性病容、甲状腺功能亢进面容、黏液性水肿面容、二尖瓣面容、肢端肥大症面容、满月面容、面具面容、脱水面容、贫血面容、肝病面容、肾病面容、病危面容。</a:t>
            </a:r>
            <a:br>
              <a:rPr sz="1800"/>
            </a:b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046ca6"/>
                </a:solidFill>
                <a:latin typeface="Verdana"/>
                <a:ea typeface="宋体"/>
              </a:rPr>
              <a:t>8.</a:t>
            </a:r>
            <a:r>
              <a:rPr b="1" lang="zh-CN" sz="1800" spc="-1" strike="noStrike">
                <a:solidFill>
                  <a:srgbClr val="046ca6"/>
                </a:solidFill>
                <a:latin typeface="Verdana"/>
                <a:ea typeface="宋体"/>
              </a:rPr>
              <a:t>体位 是指个体身体在卧位时所处的状态。常见体位有：自动体位、被动体位、强迫体位。步态是走动时所表现的姿势。常见异常步态如下：蹒跚步态、醉酒步态、慌张步态、共济失调步态、跨阈步态、剪刀步态、间歇性跛行。 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844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一般状态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一般状态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一般状态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78920" y="162828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一般状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general body stat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评估是对患者全身状况的概括性观察。评估方法以视诊为主，有时需配合触诊或借助体温表、血压计、听诊器等进行检查。评估内容包括性别、年龄、生命体征、发育与体型、营养、意识状态、面容与表情、体位与步态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ex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通常以生殖器与第二性征的发育情况来区别。正常成人男女性征明显，不难判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异常发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某些疾病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染色体异常对性征的影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性别与某些疾病发病率之间的关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性别与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年龄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g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时注意年龄同某些疾病发生与预后的关系，如佝偻病、麻疹、白喉等多见于幼儿与儿童；结核病、风湿热等多见于青、少年；动脉硬化、冠心病等多发生于老年人。青年患病后易康复，老年人则相对较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59c9142e3696cf5d4fc226b0"/>
          <p:cNvPicPr/>
          <p:nvPr/>
        </p:nvPicPr>
        <p:blipFill>
          <a:blip r:embed="rId1"/>
          <a:stretch/>
        </p:blipFill>
        <p:spPr>
          <a:xfrm>
            <a:off x="468360" y="4508640"/>
            <a:ext cx="2158920" cy="1973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246880"/>
          <p:cNvPicPr/>
          <p:nvPr/>
        </p:nvPicPr>
        <p:blipFill>
          <a:blip r:embed="rId2"/>
          <a:stretch/>
        </p:blipFill>
        <p:spPr>
          <a:xfrm>
            <a:off x="2843280" y="4508640"/>
            <a:ext cx="2539800" cy="191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8"/>
          <p:cNvPicPr/>
          <p:nvPr/>
        </p:nvPicPr>
        <p:blipFill>
          <a:blip r:embed="rId3"/>
          <a:stretch/>
        </p:blipFill>
        <p:spPr>
          <a:xfrm>
            <a:off x="5651640" y="4508640"/>
            <a:ext cx="2154240" cy="1954080"/>
          </a:xfrm>
          <a:prstGeom prst="rect">
            <a:avLst/>
          </a:prstGeom>
          <a:ln w="2556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生命体征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vital sig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是标志生命活动存在与质量的重要征象。其内容包括体温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ody temperat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脉搏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puls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、呼吸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respirat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和血压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(blood pressure)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是观察患者病情变化的重要指标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20091129452953916192"/>
          <p:cNvPicPr/>
          <p:nvPr/>
        </p:nvPicPr>
        <p:blipFill>
          <a:blip r:embed="rId1"/>
          <a:stretch/>
        </p:blipFill>
        <p:spPr>
          <a:xfrm>
            <a:off x="324000" y="4292640"/>
            <a:ext cx="2885760" cy="216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10000400_G_1239341350550"/>
          <p:cNvPicPr/>
          <p:nvPr/>
        </p:nvPicPr>
        <p:blipFill>
          <a:blip r:embed="rId2"/>
          <a:stretch/>
        </p:blipFill>
        <p:spPr>
          <a:xfrm>
            <a:off x="4140360" y="4149720"/>
            <a:ext cx="259236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370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三、发育与体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育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development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成人发育正常的判断指标包括：头部长度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8~1/7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胸围为身高的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/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，坐高等于下肢的长度，两上肢展开的长度约等于身高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179280" y="1371240"/>
            <a:ext cx="5184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体型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habitus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临床上将正常体型分为三种类型：</a:t>
            </a: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  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瘦长型（无力型）：身高肌瘦、颈长肩窄、胸廓扁平，腹上角小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矮胖型（超力型）：身短粗壮、颈粗肩宽、胸廓宽厚，腹上角大于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br>
              <a:rPr sz="2400"/>
            </a:b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 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）均称型（正力型）：身体各部匀称适中，腹上角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  <a:ea typeface="宋体"/>
              </a:rPr>
              <a:t>90°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宋体"/>
              </a:rPr>
              <a:t>左右。此型较多见。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5364000" y="2060640"/>
            <a:ext cx="335772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28:10Z</dcterms:modified>
  <cp:revision>138</cp:revision>
  <dc:subject/>
  <dc:title>内科护理学</dc:title>
</cp:coreProperties>
</file>