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B8E6-5F98-43F4-BF83-3209CCC342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5937-3AC9-4815-A851-860617F2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B206-F5BD-4444-80D0-4A83213D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2DDAD-3BF9-479F-8D13-B6334133E8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321A-1215-49D3-A79D-07974368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9FEF-E948-4546-B7E9-F66974C6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8369-DE7A-4A1F-B9A1-C1357192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A4F0-20F7-4005-8A7E-69D33293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08B8-9952-49EF-9BB1-B07198E9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E528-4F7C-4BA9-820E-75F2CB3A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5438-54C7-4461-A46C-57DB2858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05861-DCFB-48E8-B923-F375654D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B416-7509-4815-88FA-D3F67CAFCB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997000"/>
            <a:ext cx="5413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五节 便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相关疾病史与诱发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临床表现  便血出现的急缓、次数、出血量、颜色、性状及其变化，以作为失血量的粗略估计参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对患者的影响  主要包括有无头晕、心悸、气促、乏力等贫血的表现，有无紧张、焦虑、恐惧的负性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组织灌注量无效  与大量便血所致血容量减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活动无耐力  与便血所致贫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皮肤完整性受损的危险  与排泄物对肛门周围皮肤刺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焦虑  与长期便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阐述便血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说出便血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比较不用病因的便血，正确说明其临床表现的区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本节所学知识，能针对便血的患者作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根据护理评估，能正确作出护理诊断，并列出相关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413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便血：消化道出血，自肛门排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下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052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上消化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小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结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直肠肛管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826920" y="1295280"/>
            <a:ext cx="7591320" cy="4930560"/>
            <a:chOff x="826920" y="1295280"/>
            <a:chExt cx="7591320" cy="4930560"/>
          </a:xfrm>
        </p:grpSpPr>
        <p:sp>
          <p:nvSpPr>
            <p:cNvPr id="128" name="Text Box 3"/>
            <p:cNvSpPr/>
            <p:nvPr/>
          </p:nvSpPr>
          <p:spPr>
            <a:xfrm>
              <a:off x="5364000" y="5857560"/>
              <a:ext cx="12970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肛裂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826920" y="1295280"/>
              <a:ext cx="7591320" cy="4576680"/>
              <a:chOff x="826920" y="1295280"/>
              <a:chExt cx="7591320" cy="4576680"/>
            </a:xfrm>
          </p:grpSpPr>
          <p:pic>
            <p:nvPicPr>
              <p:cNvPr id="130" name="Picture 5" descr="u=2959308952,3312499843&amp;gp=3"/>
              <p:cNvPicPr/>
              <p:nvPr/>
            </p:nvPicPr>
            <p:blipFill>
              <a:blip r:embed="rId1"/>
              <a:stretch/>
            </p:blipFill>
            <p:spPr>
              <a:xfrm>
                <a:off x="4787640" y="3495600"/>
                <a:ext cx="2270160" cy="23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TXT-200611603426779"/>
              <p:cNvPicPr/>
              <p:nvPr/>
            </p:nvPicPr>
            <p:blipFill>
              <a:blip r:embed="rId2"/>
              <a:stretch/>
            </p:blipFill>
            <p:spPr>
              <a:xfrm>
                <a:off x="826920" y="3566880"/>
                <a:ext cx="3524400" cy="22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7" descr="111489270582683500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1295280"/>
                <a:ext cx="2333520" cy="220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便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血量与时间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量多时呈鲜红色，停留时间长则为暗红色、黑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部位：小肠、结肠、直肠肛管肛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血色鲜红附粪便表面，便后滴血（直肠肛管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病因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洗肉水样血性便、腥臭（急性出血性坏死性肠炎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黏液血便或脓血便（急性细菌性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暗红色果酱便（阿米巴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146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Verdana"/>
              </a:rPr>
              <a:t>黑便与便血鉴别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黑便            便血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既往史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多曾有溃疡病       多有下腹部疼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肝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胆疾患病史      块及排便异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或有呕血史       病史或便血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先兆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上腹部闷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疼       中、下腹不适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痛或绞痛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恶心       下坠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欲排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方式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呕血伴柏油样便      便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呕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便血特点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柏油样便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稠或       暗红或鲜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血块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多不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大量出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      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血时可有血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8:06:06Z</dcterms:modified>
  <cp:revision>107</cp:revision>
  <dc:subject/>
  <dc:title>咯　血 (hemoptysis)</dc:title>
</cp:coreProperties>
</file>