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FF62F-9142-4A57-8C4F-46501973F9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70028-24F0-4DA8-80E0-64CB944F1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5F7F9-8118-4F85-8F11-84171970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7B9E9-A15F-44E1-BE19-A8111C256EC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7C8B5-862B-4740-90D6-C9DE84643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E16EC-B60D-424E-AEC1-6304095E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15B2D-70FA-4341-B43A-5620BE5D9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D40BE-31E3-4A7B-A00F-E6AC719BE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6E446-30A1-4110-9D60-3D3036CA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12AD-C998-44A8-8DBA-A8292EE31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0C12-02E0-44F2-BFB3-BA245284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7C1CB-109F-4FFA-B385-ED6DC974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5EDE2-F68F-48AC-8BA7-81499A5D8146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0C61-DF33-4060-BE16-4BC2D96756F6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349360"/>
            <a:ext cx="648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八节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抽搐与惊厥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AEEFD-57C1-4B5D-9C39-AA7A3F17B17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抽搐与惊厥起病的年龄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有无发作诱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发作的频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持续时间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部位是全身性还是局限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是持续强直性还是间歇阵挛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患儿需询问喂养情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84" name="Group 6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85" name="AutoShape 7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6" name="AutoShape 8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7" name="Text Box 9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8" name="Text Box 10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89" name="Picture 12" descr="MCj03474310000[1]"/>
          <p:cNvPicPr/>
          <p:nvPr/>
        </p:nvPicPr>
        <p:blipFill>
          <a:blip r:embed="rId1"/>
          <a:stretch/>
        </p:blipFill>
        <p:spPr>
          <a:xfrm>
            <a:off x="6145200" y="4890960"/>
            <a:ext cx="2664000" cy="15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45B69-ED54-41E3-A845-58165D32DBC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抽搐与惊厥相关的疾病史、有无毒物接触史及某些药物服用史；有无外伤及狗咬伤等病史；有无癫痫家族史及类似发作史；对患儿应询问出生及生长发育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意识状态、瞳孔变化、神经反射等以及对患者生活质量的影响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如发作时可引起舌咬伤、跌伤等意外；发作后感疲乏、头痛、肌肉酸痛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3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4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5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6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7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98" name="Picture 10" descr="CLIPBRD"/>
          <p:cNvPicPr/>
          <p:nvPr/>
        </p:nvPicPr>
        <p:blipFill>
          <a:blip r:embed="rId1"/>
          <a:stretch/>
        </p:blipFill>
        <p:spPr>
          <a:xfrm>
            <a:off x="7367760" y="5229360"/>
            <a:ext cx="124452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FA96-E879-45F9-B179-68D685086C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0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有受伤害危险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0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669b"/>
                  </a:solidFill>
                  <a:latin typeface="Arial"/>
                  <a:ea typeface="宋体"/>
                </a:rPr>
                <a:t>与抽搐与惊厥发作所致短暂意识丧失有关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0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0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0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1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潜在并发症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1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2" name="AutoShape 19"/>
          <p:cNvSpPr/>
          <p:nvPr/>
        </p:nvSpPr>
        <p:spPr>
          <a:xfrm>
            <a:off x="3203640" y="5373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e230c"/>
                </a:solidFill>
                <a:latin typeface="Arial"/>
                <a:ea typeface="宋体"/>
              </a:rPr>
              <a:t>与不可预知的惊厥发作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AutoShape 20"/>
          <p:cNvSpPr/>
          <p:nvPr/>
        </p:nvSpPr>
        <p:spPr>
          <a:xfrm>
            <a:off x="826920" y="5373720"/>
            <a:ext cx="2329200" cy="66528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恐惧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1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与惊厥发作所致的不受控制的强直性肌肉收缩和意识丧失有关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矩形 22"/>
          <p:cNvSpPr/>
          <p:nvPr/>
        </p:nvSpPr>
        <p:spPr>
          <a:xfrm>
            <a:off x="3571920" y="292896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窒息 ；高热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356BA-A51F-4665-8DBB-BFC50E9CFA4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1D257-29CC-4300-A294-45C8E50355F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6A5C-19F7-4FCE-B70E-965A37C18BC4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抽搐与惊厥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抽搐与惊厥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抽搐与惊厥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5772B-0E67-4590-8DE4-4AA63FFC7DF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873B8-85BC-4D8D-B60D-22CE6B836BB3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9E9FB-6C7E-4F59-BFAB-885D5EA019E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tic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惊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convulsion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均属于不随意运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抽搐是指全身或局部骨骼肌发生非自主抽动或强烈收缩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可引起关节运动和强直。当肌群收缩表现为强直性和阵挛性时，称为惊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FFDC-D33F-4FD9-AE5A-66D8576714CE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89308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抽搐与惊厥可分为两大类，即特发性与症状性，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特发性常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于先天性脑部不稳定状态所致，与遗传因素有较密切的关系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状性则由于脑部疾病和全身性疾病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所引起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常见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部疾病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4C1B-B89A-449E-A0AF-B57C197BD1E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7"/>
          <p:cNvSpPr/>
          <p:nvPr/>
        </p:nvSpPr>
        <p:spPr>
          <a:xfrm>
            <a:off x="1496880" y="3906720"/>
            <a:ext cx="6191280" cy="2570400"/>
          </a:xfrm>
          <a:prstGeom prst="borderCallout1">
            <a:avLst>
              <a:gd name="adj1" fmla="val 18750"/>
              <a:gd name="adj2" fmla="val -8333"/>
              <a:gd name="adj3" fmla="val -2962"/>
              <a:gd name="adj4" fmla="val -1235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产伤、颅脑外伤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肿瘤：如原发性脑肿瘤、脑转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管疾病：如脑栓塞、脑出血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寄生虫病：如脑血吸虫病、脑型疟疾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其他：如先天性脑发育障碍、核黄疸等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FA84-783F-4168-93BC-6E9FDD1A59AB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861084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神经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0B8D-A621-4C7B-9936-18354CCB1E6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5"/>
          <p:cNvSpPr/>
          <p:nvPr/>
        </p:nvSpPr>
        <p:spPr>
          <a:xfrm>
            <a:off x="2071800" y="2214720"/>
            <a:ext cx="6858000" cy="2663640"/>
          </a:xfrm>
          <a:prstGeom prst="borderCallout1">
            <a:avLst>
              <a:gd name="adj1" fmla="val 18750"/>
              <a:gd name="adj2" fmla="val -8333"/>
              <a:gd name="adj3" fmla="val -2861"/>
              <a:gd name="adj4" fmla="val -28888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感染：如急性胃肠炎、败血症、中毒型菌痢等，小儿高热惊厥主要由急性感染所致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心血管疾病：如高血压、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Adams-Stokes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综合征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中毒：如有机磷、阿托品中毒、尿毒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风湿性疾病：如风湿热、系统性红斑狼疮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代谢障碍：如低血糖、低钙血症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他：中暑、溺水、触电、突然停用安眠药，抗癫痫药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AutoShape 26"/>
          <p:cNvSpPr/>
          <p:nvPr/>
        </p:nvSpPr>
        <p:spPr>
          <a:xfrm>
            <a:off x="2411280" y="5516640"/>
            <a:ext cx="6193080" cy="914400"/>
          </a:xfrm>
          <a:prstGeom prst="borderCallout1">
            <a:avLst>
              <a:gd name="adj1" fmla="val 18750"/>
              <a:gd name="adj2" fmla="val -8333"/>
              <a:gd name="adj3" fmla="val -8333"/>
              <a:gd name="adj4" fmla="val -1053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如癔症性抽搐和惊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EFC8-6574-4015-AD75-FFE4635F729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54A9-D8C9-4D8B-8FB8-D5FCB092D6F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50560" y="1988640"/>
            <a:ext cx="889308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生机制尚未完全阐明，可能是大脑运动神经元的异常放电所致。这种异常放电主要是因为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神经元膜电位的不稳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引起的，可能与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遗传、免疫、内分泌微量元素、精神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有关，可由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代谢、营养、脑皮质肿物或瘢痕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等激发。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9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0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3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4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6588000" y="5300640"/>
            <a:ext cx="1000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5B8DE-75BE-4DCC-8901-203F88A202A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性抽搐  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骨骼肌痉挛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主要表现，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意识丧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癫痫大发作：发作以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全身抽搐和意识障碍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特征，患者突发意识模糊或丧失，全身骨骼肌持续收缩，伴二便失禁，发作约半分钟自行停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癔症性发作：发作前常有一定的诱因，如生气或各种不良刺激。发作样式不固定，一般无舌咬伤和二便失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E0F41-D08F-4530-BC73-1A57F963E21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局限性抽搐  以身体某一局部肌肉收缩为主要表现多见于手足、口角、眼睑等部位，低钙血症所致手足抽搐发作时呈“助产士手”；踝关节伸直，足趾跖屈，足呈弓状，似“芭蕾舞足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6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77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8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9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80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6:53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