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C982C-C5AB-4451-BF6E-0A19F54F215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C365-8785-4854-AB62-4D765FB8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6354C-390E-44D8-AABC-1B9F98F4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8E177-CCEC-4895-9383-6BA2F8132A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9CD5F-E2E4-4501-94BB-612EA472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9E94-3D99-4A23-8E4C-63DC0164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9320-C927-41AE-ADBA-115B9AD1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1820A-BA66-44C8-BB25-4569691B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2574-F9FA-44CB-B47E-1DF01A90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FE7C4-5C07-4A44-9682-C7D48F5A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A1C47-8603-43A9-B53B-EE0489F2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92FC8-F80F-42B9-BAD2-4D5135C9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DE41-1E9D-4E5F-89B5-3D56F8120CC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E119A-4C3B-4E2E-9CED-B98AECFF9EE8}" type="datetime">
              <a:rPr b="0" lang="zh-CN" sz="1000" spc="-1" strike="noStrike">
                <a:solidFill>
                  <a:srgbClr val="ffffff"/>
                </a:solidFill>
                <a:latin typeface="Verdana"/>
                <a:ea typeface="宋体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832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第十九节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意识障碍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AD70-94B7-4C07-AE58-9C90A90B3DA6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昏迷：是最严重的意识障碍，按其程度不同又可分为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轻度昏迷：大部分意识丧失，无自主运动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声、光刺激无反应，对疼痛刺激尚可出现痛苦表情或肢体退缩等防御反应吞咽反射、角膜反射、瞳孔对光反射、眼球运动等可存在，血压、脉搏、呼吸无明显变化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中度昏迷：对周围事物及各种刺激均无反应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剧烈刺激可有防御反应。无眼球转动，角膜反射减弱，瞳孔对光反射迟钝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深度昏迷：意识完全丧失，全身肌肉松弛，</a:t>
            </a:r>
            <a:r>
              <a:rPr b="1" lang="zh-CN" sz="2400" spc="-1" strike="noStrike">
                <a:solidFill>
                  <a:srgbClr val="ff9966"/>
                </a:solidFill>
                <a:latin typeface="宋体"/>
                <a:ea typeface="宋体"/>
              </a:rPr>
              <a:t>对任何刺激均无反应，深、浅反射均消失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。血压、脉搏、呼吸常有改变，二便失禁 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8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9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0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1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B59C8-0585-4BEF-BF8D-8F06B582694A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46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临床表现特点  意识障碍发生的时间，发病前有无诱因、病程长短、意识障碍程度及其进展等，根据患者对刺激的反应，回答问题的准确性、肢体活动情况、痛觉试验、神经反射等可以判断有无意识障碍及程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饮食营养状况  询问每日进食量与食物类型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营养平衡，有无低血糖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出入量  详细记录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小时出入液体量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注意出入液体总量是否平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07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8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0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6DE2-EA2E-4A69-B300-89099581F779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  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既往健康史  既往有无引起意识障碍相关的疾病史；有无癫痫等病史；有无类似发作史有无毒物或药物接触史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    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身体反应  评估生命体征、营养状况、意识状态、有无压疮等以及对患者生活质量的影响</a:t>
            </a:r>
            <a:r>
              <a:rPr b="1" lang="en-US" sz="32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  <a:ea typeface="宋体"/>
              </a:rPr>
              <a:t>如昏迷患者易并发肺部感染或尿路感染、口腔炎、结膜炎以及肢体肌肉挛缩畸形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14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15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6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7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评估要点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18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3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6731-1E32-4EF9-ACB2-8B12A05BE26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20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21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2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3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急性意识障碍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4" name="Group 11"/>
          <p:cNvGrpSpPr/>
          <p:nvPr/>
        </p:nvGrpSpPr>
        <p:grpSpPr>
          <a:xfrm>
            <a:off x="971640" y="3789360"/>
            <a:ext cx="7230600" cy="863280"/>
            <a:chOff x="971640" y="3789360"/>
            <a:chExt cx="7230600" cy="863280"/>
          </a:xfrm>
        </p:grpSpPr>
        <p:sp>
          <p:nvSpPr>
            <p:cNvPr id="225" name="AutoShape 12"/>
            <p:cNvSpPr/>
            <p:nvPr/>
          </p:nvSpPr>
          <p:spPr>
            <a:xfrm>
              <a:off x="3184920" y="3789360"/>
              <a:ext cx="5017320" cy="78840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丧失所致排尿</a:t>
              </a:r>
              <a:r>
                <a:rPr b="1" lang="en-US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/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排便功能障碍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6" name="AutoShape 13"/>
            <p:cNvSpPr/>
            <p:nvPr/>
          </p:nvSpPr>
          <p:spPr>
            <a:xfrm>
              <a:off x="971640" y="3986280"/>
              <a:ext cx="2327400" cy="66636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尿障碍</a:t>
              </a:r>
              <a:r>
                <a:rPr b="1" lang="en-US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/</a:t>
              </a:r>
              <a:r>
                <a:rPr b="1" lang="zh-CN" sz="22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排便失禁</a:t>
              </a:r>
              <a:endParaRPr b="0" lang="en-US" sz="2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7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28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29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30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清理呼吸道无效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31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2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3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口腔黏膜受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34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35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7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8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9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脑出血有关；与肺性脑病、肝性脑病有关等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27"/>
          <p:cNvSpPr/>
          <p:nvPr/>
        </p:nvSpPr>
        <p:spPr>
          <a:xfrm>
            <a:off x="4426560" y="5299920"/>
            <a:ext cx="298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丧失自理能力及唾液分泌减少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1E99-B33B-421A-BA1E-25C8049F51C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3" name="Group 4"/>
          <p:cNvGrpSpPr/>
          <p:nvPr/>
        </p:nvGrpSpPr>
        <p:grpSpPr>
          <a:xfrm>
            <a:off x="1042920" y="1700280"/>
            <a:ext cx="7024680" cy="721800"/>
            <a:chOff x="1042920" y="1700280"/>
            <a:chExt cx="7024680" cy="721800"/>
          </a:xfrm>
        </p:grpSpPr>
        <p:sp>
          <p:nvSpPr>
            <p:cNvPr id="244" name="AutoShape 5"/>
            <p:cNvSpPr/>
            <p:nvPr/>
          </p:nvSpPr>
          <p:spPr>
            <a:xfrm>
              <a:off x="3203640" y="1700280"/>
              <a:ext cx="4863960" cy="682560"/>
            </a:xfrm>
            <a:prstGeom prst="roundRect">
              <a:avLst>
                <a:gd name="adj" fmla="val 7574"/>
              </a:avLst>
            </a:prstGeom>
            <a:noFill/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993300"/>
                  </a:solidFill>
                  <a:latin typeface="宋体"/>
                  <a:ea typeface="宋体"/>
                </a:rPr>
                <a:t>    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AutoShape 6"/>
            <p:cNvSpPr/>
            <p:nvPr/>
          </p:nvSpPr>
          <p:spPr>
            <a:xfrm>
              <a:off x="1058760" y="1844640"/>
              <a:ext cx="2217960" cy="57744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99ffcc"/>
                </a:gs>
                <a:gs pos="50000">
                  <a:srgbClr val="dddddd"/>
                </a:gs>
                <a:gs pos="100000">
                  <a:srgbClr val="99ffcc"/>
                </a:gs>
              </a:gsLst>
              <a:lin ang="27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6" name="Rectangle 7"/>
            <p:cNvSpPr/>
            <p:nvPr/>
          </p:nvSpPr>
          <p:spPr>
            <a:xfrm>
              <a:off x="1042920" y="184464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营养失调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7" name="Group 11"/>
          <p:cNvGrpSpPr/>
          <p:nvPr/>
        </p:nvGrpSpPr>
        <p:grpSpPr>
          <a:xfrm>
            <a:off x="900000" y="4005360"/>
            <a:ext cx="7230960" cy="791640"/>
            <a:chOff x="900000" y="4005360"/>
            <a:chExt cx="7230960" cy="791640"/>
          </a:xfrm>
        </p:grpSpPr>
        <p:sp>
          <p:nvSpPr>
            <p:cNvPr id="248" name="AutoShape 12"/>
            <p:cNvSpPr/>
            <p:nvPr/>
          </p:nvSpPr>
          <p:spPr>
            <a:xfrm>
              <a:off x="3113640" y="4005360"/>
              <a:ext cx="5017320" cy="723240"/>
            </a:xfrm>
            <a:prstGeom prst="roundRect">
              <a:avLst>
                <a:gd name="adj" fmla="val 43648"/>
              </a:avLst>
            </a:prstGeom>
            <a:noFill/>
            <a:ln w="349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自主运动消失有关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   </a:t>
              </a:r>
              <a:r>
                <a:rPr b="1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与意识障碍所致排便、排尿失禁有关</a:t>
              </a:r>
              <a:r>
                <a:rPr b="0" lang="zh-CN" sz="1800" spc="-1" strike="noStrike">
                  <a:solidFill>
                    <a:srgbClr val="046ca6"/>
                  </a:solidFill>
                  <a:latin typeface="Arial"/>
                  <a:ea typeface="宋体"/>
                </a:rPr>
                <a:t> 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9" name="AutoShape 13"/>
            <p:cNvSpPr/>
            <p:nvPr/>
          </p:nvSpPr>
          <p:spPr>
            <a:xfrm>
              <a:off x="900000" y="4186080"/>
              <a:ext cx="2327400" cy="610920"/>
            </a:xfrm>
            <a:prstGeom prst="roundRect">
              <a:avLst>
                <a:gd name="adj" fmla="val 7574"/>
              </a:avLst>
            </a:prstGeom>
            <a:gradFill rotWithShape="0">
              <a:gsLst>
                <a:gs pos="0">
                  <a:srgbClr val="ccffcc"/>
                </a:gs>
                <a:gs pos="100000">
                  <a:srgbClr val="5e765e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46ca6"/>
                  </a:solidFill>
                  <a:latin typeface="Arial"/>
                  <a:ea typeface="楷体_GB2312"/>
                </a:rPr>
                <a:t>有皮肤完整性受损的危险</a:t>
              </a:r>
              <a:endParaRPr b="0" lang="en-US" sz="1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0" name="Group 14"/>
          <p:cNvGrpSpPr/>
          <p:nvPr/>
        </p:nvGrpSpPr>
        <p:grpSpPr>
          <a:xfrm>
            <a:off x="971640" y="2852640"/>
            <a:ext cx="7154280" cy="757080"/>
            <a:chOff x="971640" y="2852640"/>
            <a:chExt cx="7154280" cy="757080"/>
          </a:xfrm>
        </p:grpSpPr>
        <p:grpSp>
          <p:nvGrpSpPr>
            <p:cNvPr id="251" name="Group 15"/>
            <p:cNvGrpSpPr/>
            <p:nvPr/>
          </p:nvGrpSpPr>
          <p:grpSpPr>
            <a:xfrm>
              <a:off x="971640" y="2852640"/>
              <a:ext cx="7153920" cy="757080"/>
              <a:chOff x="971640" y="2852640"/>
              <a:chExt cx="7153920" cy="757080"/>
            </a:xfrm>
          </p:grpSpPr>
          <p:sp>
            <p:nvSpPr>
              <p:cNvPr id="252" name="AutoShape 16"/>
              <p:cNvSpPr/>
              <p:nvPr/>
            </p:nvSpPr>
            <p:spPr>
              <a:xfrm>
                <a:off x="3089880" y="2852640"/>
                <a:ext cx="5035680" cy="757080"/>
              </a:xfrm>
              <a:prstGeom prst="roundRect">
                <a:avLst>
                  <a:gd name="adj" fmla="val 7574"/>
                </a:avLst>
              </a:prstGeom>
              <a:noFill/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993300"/>
                    </a:solidFill>
                    <a:latin typeface="宋体"/>
                    <a:ea typeface="宋体"/>
                  </a:rPr>
                  <a:t>   </a:t>
                </a:r>
                <a:endParaRPr b="0" lang="en-US" sz="20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53" name="AutoShape 17"/>
              <p:cNvSpPr/>
              <p:nvPr/>
            </p:nvSpPr>
            <p:spPr>
              <a:xfrm>
                <a:off x="971640" y="2967840"/>
                <a:ext cx="2262960" cy="640440"/>
              </a:xfrm>
              <a:prstGeom prst="roundRect">
                <a:avLst>
                  <a:gd name="adj" fmla="val 7574"/>
                </a:avLst>
              </a:prstGeom>
              <a:gradFill rotWithShape="0">
                <a:gsLst>
                  <a:gs pos="0">
                    <a:srgbClr val="ffcc99"/>
                  </a:gs>
                  <a:gs pos="50000">
                    <a:srgbClr val="d0e8a0"/>
                  </a:gs>
                  <a:gs pos="100000">
                    <a:srgbClr val="ffcc99"/>
                  </a:gs>
                </a:gsLst>
                <a:lin ang="27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993300"/>
                    </a:solidFill>
                    <a:latin typeface="Arial"/>
                    <a:ea typeface="楷体_GB2312"/>
                  </a:rPr>
                  <a:t>有感染的危险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254" name="Rectangle 18"/>
            <p:cNvSpPr/>
            <p:nvPr/>
          </p:nvSpPr>
          <p:spPr>
            <a:xfrm>
              <a:off x="3460320" y="2852640"/>
              <a:ext cx="46656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55" name="AutoShape 19"/>
          <p:cNvSpPr/>
          <p:nvPr/>
        </p:nvSpPr>
        <p:spPr>
          <a:xfrm>
            <a:off x="3348000" y="5157720"/>
            <a:ext cx="4970520" cy="685800"/>
          </a:xfrm>
          <a:prstGeom prst="roundRect">
            <a:avLst>
              <a:gd name="adj" fmla="val 7574"/>
            </a:avLst>
          </a:prstGeom>
          <a:noFill/>
          <a:ln w="3492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e230c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AutoShape 20"/>
          <p:cNvSpPr/>
          <p:nvPr/>
        </p:nvSpPr>
        <p:spPr>
          <a:xfrm>
            <a:off x="1042920" y="5300640"/>
            <a:ext cx="2241720" cy="579600"/>
          </a:xfrm>
          <a:prstGeom prst="roundRect">
            <a:avLst>
              <a:gd name="adj" fmla="val 7574"/>
            </a:avLst>
          </a:prstGeom>
          <a:gradFill rotWithShape="0">
            <a:gsLst>
              <a:gs pos="0">
                <a:srgbClr val="9999ff"/>
              </a:gs>
              <a:gs pos="50000">
                <a:srgbClr val="ccccff"/>
              </a:gs>
              <a:gs pos="100000">
                <a:srgbClr val="9999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Arial"/>
                <a:ea typeface="楷体_GB2312"/>
              </a:rPr>
              <a:t>有受伤害的危险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57" name="Group 21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258" name="AutoShape 22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9" name="AutoShape 23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24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护理诊断及合作性问题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1" name="Text Box 25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4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62" name="Rectangle 27"/>
          <p:cNvSpPr/>
          <p:nvPr/>
        </p:nvSpPr>
        <p:spPr>
          <a:xfrm>
            <a:off x="3419640" y="1869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低于机体需要量  与意识障碍不能正常进食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矩形 22"/>
          <p:cNvSpPr/>
          <p:nvPr/>
        </p:nvSpPr>
        <p:spPr>
          <a:xfrm>
            <a:off x="3571920" y="292896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咳嗽、吞咽反射减弱或消失有关；与侵入性导尿装置有关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24"/>
          <p:cNvSpPr/>
          <p:nvPr/>
        </p:nvSpPr>
        <p:spPr>
          <a:xfrm>
            <a:off x="4100760" y="5299920"/>
            <a:ext cx="202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与意识障碍所致躁动不安有关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E513-27FE-4DA4-B48E-31675A3080B7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内容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病因与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评估要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相关护理诊断与合作问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EC1AE-B9C3-4F48-8668-354D01E867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790C-2F58-4B46-8520-DC7B5E1B42E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阐述意识障碍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说出意识障碍的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释意识障碍的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运用所学知识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对患者做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根据护理评估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能正确做出护理诊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并列出相关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A6188-B263-440B-AC8D-989166FB45C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52DB-699C-4B72-9881-8F47E4AE422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3CB8-6285-45D0-A5E6-DF655D7C7F0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意识障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(disturbance of consciousnes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指人对周围环境及自身状态的识别和察觉能力出现障碍，对外界环境刺激缺乏反应的一种精神状态。意识障碍多由于高级神经中枢功能活动受损而引起，可表现为嗜睡、意识模糊、昏睡和谵妄，严重的意识障碍为昏迷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DA03-CF22-41FA-AA7D-54DB96DBCDF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61048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颅脑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15445-484A-4B6E-A093-9678944C32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3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3" name="AutoShape 18"/>
          <p:cNvSpPr/>
          <p:nvPr/>
        </p:nvSpPr>
        <p:spPr>
          <a:xfrm>
            <a:off x="1287360" y="2146320"/>
            <a:ext cx="6099120" cy="4357800"/>
          </a:xfrm>
          <a:prstGeom prst="horizontalScroll">
            <a:avLst>
              <a:gd name="adj" fmla="val 12500"/>
            </a:avLst>
          </a:prstGeom>
          <a:solidFill>
            <a:srgbClr val="33cccc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感染：如脑炎、脑膜炎、脑脓肿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脑血管疾病：如脑出血、高血压脑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占位性病变：如脑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外伤：如脑震荡、脑挫伤、颅骨骨折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癫痫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C2EC-955E-49E6-8071-797BE7C27B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24000" y="1428480"/>
            <a:ext cx="914400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全身性疾病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04254-443A-4771-86B0-7B3A026E4E2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8" name="Group 9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49" name="AutoShape 10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0" name="AutoShape 11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1" name="Text Box 12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病因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2" name="Text Box 13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3" name="AutoShape 20"/>
          <p:cNvSpPr/>
          <p:nvPr/>
        </p:nvSpPr>
        <p:spPr>
          <a:xfrm>
            <a:off x="1258920" y="1071720"/>
            <a:ext cx="7599240" cy="5786280"/>
          </a:xfrm>
          <a:prstGeom prst="horizontalScroll">
            <a:avLst>
              <a:gd name="adj" fmla="val 1250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严重感染：如败血症、中毒性肺炎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心血管疾病：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dams-Stokes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内分泌与代谢性疾病：如肝性脑病、尿毒症等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中毒：安眠药、有机磷、乙醇、一氧化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物理性及缺氧性损害：如触电、溺水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水、电解质平衡紊乱：如低钠血症、低氯性碱中毒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05EB-3D83-454B-8889-9300A11C77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482E-C0AE-4E33-A444-57261A3F1AD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7800" y="1639800"/>
            <a:ext cx="8569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由意识内容和其“开关”系统组成。意识“开关”系统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可激活大脑皮质并使之维持一定水平的兴奋性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使机体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处于觉醒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在此基础上产生意识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大脑皮质和皮质下网状结构功能完整时，意识活动是清醒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58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59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1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2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63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759800" y="5464080"/>
            <a:ext cx="874440" cy="10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12DC8-FBB9-4397-8CE2-76F9D17AD96D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565E0-13EB-45D7-B83A-2968BE45CEE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42920" y="259920"/>
            <a:ext cx="77961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67" name="Group 5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68" name="AutoShape 6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8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发生机制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1" name="Text Box 9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1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172" name="Picture 7" descr="u=1600387006,2529631094&amp;fm=0&amp;gp=8"/>
          <p:cNvPicPr/>
          <p:nvPr/>
        </p:nvPicPr>
        <p:blipFill>
          <a:blip r:embed="rId1"/>
          <a:stretch/>
        </p:blipFill>
        <p:spPr>
          <a:xfrm>
            <a:off x="755640" y="5229360"/>
            <a:ext cx="1000080" cy="115236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13"/>
          <p:cNvSpPr/>
          <p:nvPr/>
        </p:nvSpPr>
        <p:spPr>
          <a:xfrm>
            <a:off x="2484360" y="2637000"/>
            <a:ext cx="2087640" cy="792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脑缺血、缺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2411280" y="3716280"/>
            <a:ext cx="230364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葡萄糖供给不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2484360" y="4941720"/>
            <a:ext cx="2232000" cy="792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酶代谢异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 flipV="1">
            <a:off x="1476360" y="3068280"/>
            <a:ext cx="43164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AutoShape 18"/>
          <p:cNvSpPr/>
          <p:nvPr/>
        </p:nvSpPr>
        <p:spPr>
          <a:xfrm>
            <a:off x="4859280" y="2852640"/>
            <a:ext cx="73080" cy="2808360"/>
          </a:xfrm>
          <a:custGeom>
            <a:avLst/>
            <a:gdLst>
              <a:gd name="textAreaLeft" fmla="*/ 0 w 73080"/>
              <a:gd name="textAreaRight" fmla="*/ 26280 w 73080"/>
              <a:gd name="textAreaTop" fmla="*/ 73080 h 2808360"/>
              <a:gd name="textAreaBottom" fmla="*/ 2735280 h 28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Line 19"/>
          <p:cNvSpPr/>
          <p:nvPr/>
        </p:nvSpPr>
        <p:spPr>
          <a:xfrm>
            <a:off x="507672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20"/>
          <p:cNvSpPr/>
          <p:nvPr/>
        </p:nvSpPr>
        <p:spPr>
          <a:xfrm>
            <a:off x="5580000" y="2421000"/>
            <a:ext cx="792360" cy="36734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胞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紊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6516720" y="4221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Rectangle 23"/>
          <p:cNvSpPr/>
          <p:nvPr/>
        </p:nvSpPr>
        <p:spPr>
          <a:xfrm>
            <a:off x="8388360" y="2637000"/>
            <a:ext cx="576360" cy="2808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意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识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障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24"/>
          <p:cNvSpPr/>
          <p:nvPr/>
        </p:nvSpPr>
        <p:spPr>
          <a:xfrm>
            <a:off x="539640" y="3141720"/>
            <a:ext cx="720720" cy="1800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Line 16"/>
          <p:cNvSpPr/>
          <p:nvPr/>
        </p:nvSpPr>
        <p:spPr>
          <a:xfrm>
            <a:off x="1547640" y="407664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547640" y="4941720"/>
            <a:ext cx="505080" cy="28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20"/>
          <p:cNvSpPr/>
          <p:nvPr/>
        </p:nvSpPr>
        <p:spPr>
          <a:xfrm>
            <a:off x="6948360" y="1052640"/>
            <a:ext cx="863640" cy="561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干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结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构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害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或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功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抑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制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Line 22"/>
          <p:cNvSpPr/>
          <p:nvPr/>
        </p:nvSpPr>
        <p:spPr>
          <a:xfrm>
            <a:off x="7885080" y="414972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8AFDF-6027-499B-B281-7608FC5B8B32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评估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嗜睡：患者处于一种持续性的病理性睡眠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可被轻刺激唤醒，并能正确回答问题和做出各种反应，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但反应迟钝，当刺激去除后很快又入睡嗜睡是最轻的一种意识障碍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意识模糊：是较嗜睡为深的一种意识障碍。患者意识水平轻度降低，能保持简单的精神活动，但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对时间、地点、人物等定向能力发生障碍，思维和语言不连贯，可有错觉、幻觉、躁动不安、精神错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昏睡：是较严重的意识障碍。患者处于沉睡状态，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难于唤醒，虽在强烈刺激下（如大声呼喊其姓名、摇动其身体、压迫眶上神经等），可被唤醒，但很快又入睡，醒时答话含糊或答非所问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谵妄：是一种以中枢神经系统兴奋性增高为主的急性脑功能失调。</a:t>
            </a:r>
            <a:r>
              <a:rPr b="1" lang="zh-CN" sz="2000" spc="-1" strike="noStrike">
                <a:solidFill>
                  <a:srgbClr val="ff9966"/>
                </a:solidFill>
                <a:latin typeface="Verdana"/>
                <a:ea typeface="宋体"/>
              </a:rPr>
              <a:t>表现为意识模糊，感觉错乱（幻觉、错觉等），定向力丧失、躁动不安、言语杂乱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等。主要见于急性感染高热期，中枢神经系统疾病，肝性脑病、急性酒精中毒、某些药物中毒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90" name="Group 4"/>
          <p:cNvGrpSpPr/>
          <p:nvPr/>
        </p:nvGrpSpPr>
        <p:grpSpPr>
          <a:xfrm>
            <a:off x="3745080" y="189000"/>
            <a:ext cx="5398560" cy="900000"/>
            <a:chOff x="3745080" y="189000"/>
            <a:chExt cx="5398560" cy="900000"/>
          </a:xfrm>
        </p:grpSpPr>
        <p:sp>
          <p:nvSpPr>
            <p:cNvPr id="191" name="AutoShape 5"/>
            <p:cNvSpPr/>
            <p:nvPr/>
          </p:nvSpPr>
          <p:spPr>
            <a:xfrm>
              <a:off x="4179600" y="344160"/>
              <a:ext cx="4964040" cy="599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b523"/>
                </a:gs>
                <a:gs pos="50000">
                  <a:srgbClr val="f8efd0"/>
                </a:gs>
                <a:gs pos="100000">
                  <a:srgbClr val="ddb523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2" name="AutoShape 6"/>
            <p:cNvSpPr/>
            <p:nvPr/>
          </p:nvSpPr>
          <p:spPr>
            <a:xfrm>
              <a:off x="3745080" y="189000"/>
              <a:ext cx="784080" cy="900000"/>
            </a:xfrm>
            <a:prstGeom prst="diamond">
              <a:avLst/>
            </a:prstGeom>
            <a:solidFill>
              <a:srgbClr val="ddb52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3" name="Text Box 7"/>
            <p:cNvSpPr/>
            <p:nvPr/>
          </p:nvSpPr>
          <p:spPr>
            <a:xfrm>
              <a:off x="4592520" y="390240"/>
              <a:ext cx="447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临床表现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4" name="Text Box 8"/>
            <p:cNvSpPr/>
            <p:nvPr/>
          </p:nvSpPr>
          <p:spPr>
            <a:xfrm>
              <a:off x="3926880" y="22536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楷体_GB2312"/>
                  <a:ea typeface="楷体_GB2312"/>
                </a:rPr>
                <a:t>2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8:19:40Z</dcterms:modified>
  <cp:revision>1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