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16.jpeg" ContentType="image/jpeg"/>
  <Override PartName="/ppt/media/image24.jpeg" ContentType="image/jpeg"/>
  <Override PartName="/ppt/media/image14.jpeg" ContentType="image/jpeg"/>
  <Override PartName="/ppt/media/image41.jpeg" ContentType="image/jpeg"/>
  <Override PartName="/ppt/media/image29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media/image37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C0052-0FF1-4532-AA40-44752544B9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86F75-7EFA-44FF-AA2C-6C84CBF44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A88E-80ED-4639-BE41-8957627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0918C-7978-46CF-8902-64B838007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C1296-2D41-4705-98BE-34877505A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0B3C8-970E-4877-B955-FD062F561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CF24-2F7C-423C-95F9-C906BF41F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03DD-66CE-452F-86C1-9A843661C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697CB-C657-4CE3-B180-5C551C4D5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E265-6B4F-44DC-8A4D-FF3B428A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26385-4915-4FBF-AAEA-5DCE20F94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CB7E3-68BC-47D3-9D60-59E9B7C2F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C4EC-E525-46DE-8F8A-7A5281168245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yuanwenspine.com/pic/2007326163429.jpg&amp;imgrefurl=http://www.yuanwenspine.com/&amp;h=168&amp;w=154&amp;sz=5&amp;hl=zh-CN&amp;start=2&amp;tbnid=XY1fZc335KMqvM:&amp;tbnh=99&amp;tbnw=91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9%C7%D6%CA%D4%F6%C9%FA&amp;in=14247&amp;cl=2&amp;cm=1&amp;sc=0&amp;lm=-1&amp;pn=2&amp;rn=1&amp;di=154099012&amp;ln=2000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photocdn.sohu.com/20060207/Img241710481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51qe.cn/pic/30/11/48/03415.jpg&amp;imgrefurl=http://www.51qe.cn/pic/30/11/48/034.htm&amp;h=228&amp;w=238&amp;sz=9&amp;hl=zh-CN&amp;start=5&amp;tbnid=tvGkqWwaDuJxoM:&amp;tbnh=104&amp;tbnw=109&amp;prev=/images%3Fq%3D%25E8%2587%2582%25E4%25B8%259B%25E7%25A5%259E%25E7%25BB%258F,%25E6%25AD%25A3%25E4%25B8%25AD%25E7%25A5%259E%25E7%25BB%258F%25E6%258D%259F%25E4%25BC%25A4%26gbv%3D2%26ndsp%3D20%26complete%3D1%26hl%3Dzh-CN%26newwindow%3D1%26sa%3DN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12320.gov.cn/jinianri_zhuanti/12month/mafeng/jinianri_mafeng_clip_image008.jpg&amp;imgrefurl=http://www.12320.gov.cn/jinianri_zhuanti/12month/jinianri_mafeng.jsp&amp;h=138&amp;w=135&amp;sz=5&amp;hl=zh-CN&amp;start=1&amp;tbnid=UGg1QzuNByVYgM:&amp;tbnh=93&amp;tbnw=91&amp;prev=/images%3Fq%3D%25E7%2588%25AA%25E5%25BD%25A2%25E6%2589%258B:%26gbv%3D2%26complete%3D1%26hl%3Dzh-CN%26newwindow%3D1%26sa%3D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baike.baidu.com/pic/4/116332402656420.jpg&amp;imgrefurl=http://baike.baidu.com/view/39334.html&amp;h=480&amp;w=640&amp;sz=20&amp;hl=zh-CN&amp;start=1&amp;um=1&amp;tbnid=eIYoDf306wJHfM:&amp;tbnh=103&amp;tbnw=137&amp;prev=/images%3Fq%3D%25E6%259D%25B5%25E7%258A%25B6%25E6%258C%2587(%25E8%25B6%25BE)%26um%3D1%26complete%3D1%26hl%3Dzh-CN%26newwindow%3D1%26sa%3D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images.google.cn/imgres?imgurl=http://img.39.net/jb/2007/12/13/bc547da7920.jpg&amp;imgrefurl=http://jbk.39.net/keshi/neike/xiaohua/sign/4e3aa.html&amp;h=180&amp;w=225&amp;sz=5&amp;hl=zh-CN&amp;start=6&amp;um=1&amp;tbnid=sQFaYFjFqPAaVM:&amp;tbnh=86&amp;tbnw=108&amp;prev=/images%3Fq%3D%25E6%259D%25B5%25E7%258A%25B6%25E6%258C%2587(%25E8%25B6%25BE)%26ndsp%3D20%26um%3D1%26complete%3D1%26hl%3Dzh-CN%26newwindow%3D1%26sa%3DN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7%B4%BC%D7&amp;in=14958&amp;cl=2&amp;cm=1&amp;sc=0&amp;lm=-1&amp;pn=0&amp;rn=1&amp;di=1508365332&amp;ln=6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B7%B4%BC%D7&amp;in=14005&amp;cl=2&amp;cm=1&amp;sc=0&amp;lm=-1&amp;pn=1&amp;rn=1&amp;di=655148100&amp;ln=6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image.baidu.com/i?ct=503316480&amp;z=0&amp;tn=baiduimagedetail&amp;word=%B7%B4%BC%D7&amp;in=27131&amp;cl=2&amp;cm=1&amp;sc=0&amp;lm=-1&amp;pn=4&amp;rn=1&amp;di=333522296&amp;ln=6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D%C3%D5%FDx%D0%CD%CD%C8&amp;in=4915&amp;cl=2&amp;cm=1&amp;sc=0&amp;lm=-1&amp;pn=13&amp;rn=1&amp;di=2040873532&amp;ln=73" TargetMode="External"/><Relationship Id="rId2" Type="http://schemas.openxmlformats.org/officeDocument/2006/relationships/image" Target="../media/image24.jpeg"/><Relationship Id="rId3" Type="http://schemas.openxmlformats.org/officeDocument/2006/relationships/hyperlink" Target="http://images.google.cn/imgres?imgurl=http://ortho.clmed.ncku.edu.tw/~tpos/electron/newborn/Image1.jpg&amp;imgrefurl=http://ortho.clmed.ncku.edu.tw/~tpos/electron/newborn/4_3-3.htm&amp;h=1309&amp;w=1353&amp;sz=117&amp;hl=zh-CN&amp;start=6&amp;tbnid=ALDQ-XxdQOHt9M:&amp;tbnh=145&amp;tbnw=150&amp;prev=/images%3Fq%3DO%25E5%259E%258B%25E8%2585%25BF%26gbv%3D2%26complete%3D1%26hl%3Dzh-CN%26newwindow%3D1%26sa%3DG" TargetMode="External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jiaoxing.com/UploadFiles/200511159024391.jpg&amp;imgrefurl=http://www.hsjiaoxing.com/&amp;h=375&amp;w=500&amp;sz=27&amp;hl=zh-CN&amp;start=1&amp;tbnid=0PGk7dD-NhWT9M:&amp;tbnh=98&amp;tbnw=130&amp;prev=/images%3Fq%3D%25E8%2586%259D%25E5%258F%258D%25E5%25BC%25A0:%26gbv%3D2%26ndsp%3D20%26complete%3D1%26hl%3Dzh-CN%26newwindow%3D1%26sa%3DN" TargetMode="External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BE%B2%C2%F6%C7%FA%D5%C5&amp;in=6500&amp;cl=2&amp;cm=1&amp;sc=0&amp;lm=-1&amp;pn=18&amp;rn=1&amp;di=1120818732&amp;ln=175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445;%B5%D7%D7%E3&amp;in=24909&amp;cl=2&amp;cm=1&amp;sc=0&amp;lm=-1&amp;pn=0&amp;rn=1&amp;di=2096267900&amp;ln=3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iujik.com/images/newsimg/139_h4.gif&amp;imgrefurl=http://www.jiujik.com/jsarticle.php%3Flcid%3DHK.B5%26arttype%3DHEALT%26artsection%3DCAREER%26artid%3D3000007537&amp;h=150&amp;w=200&amp;sz=23&amp;hl=zh-CN&amp;start=4&amp;tbnid=0-dfhw42rFYvAM:&amp;tbnh=78&amp;tbnw=104&amp;prev=/images%3Fq%3D%25E9%25AB%2598%25E5%25BC%2593%25E8%25B6%25B3%26gbv%3D2%26complete%3D1%26hl%3Dzh-CN%26newwindow%3D1%26sa%3DG" TargetMode="External"/><Relationship Id="rId2" Type="http://schemas.openxmlformats.org/officeDocument/2006/relationships/image" Target="../media/image30.jpeg"/><Relationship Id="rId3" Type="http://schemas.openxmlformats.org/officeDocument/2006/relationships/hyperlink" Target="http://images.google.cn/imgres?imgurl=http://tw.blog.yahoo.com/photo/photo.php%3Fid%3D7.LS6fWdHQMZu5BCvQ--%26photo%3Dap_20061211103749340.jpg&amp;imgrefurl=http://tw.myblog.yahoo.com/omt-pt/article%3Fmid%3D423%26prev%3D434%26next%3D415%26l%3Df%26fid%3D24&amp;h=308&amp;w=500&amp;sz=29&amp;hl=zh-CN&amp;start=5&amp;tbnid=wpT0LLqrH2-SfM:&amp;tbnh=80&amp;tbnw=130&amp;prev=/images%3Fq%3D%25E9%25AB%2598%25E5%25BC%2593%25E8%25B6%25B3%26gbv%3D2%26complete%3D1%26hl%3Dzh-CN%26newwindow%3D1%26sa%3DG" TargetMode="External"/><Relationship Id="rId4" Type="http://schemas.openxmlformats.org/officeDocument/2006/relationships/image" Target="../media/image31.jpeg"/><Relationship Id="rId5" Type="http://schemas.openxmlformats.org/officeDocument/2006/relationships/hyperlink" Target="http://images.google.cn/imgres?imgurl=http://www.104info.com.tw/webfile/g/great-arch/img/anim_w1.gif&amp;imgrefurl=http://www.great-arch.com.tw/content3.htm&amp;h=124&amp;w=180&amp;sz=20&amp;hl=zh-CN&amp;start=9&amp;tbnid=1qQwSGHx8fx34M:&amp;tbnh=70&amp;tbnw=101&amp;prev=/images%3Fq%3D%25E9%25AB%2598%25E5%25BC%2593%25E8%25B6%25B3%26gbv%3D2%26complete%3D1%26hl%3Dzh-CN%26newwindow%3D1%26sa%3DG" TargetMode="External"/><Relationship Id="rId6" Type="http://schemas.openxmlformats.org/officeDocument/2006/relationships/image" Target="../media/image3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edortho.cn/images/mtz02.jpg&amp;imgrefurl=http://www.pedortho.cn/&amp;h=120&amp;w=79&amp;sz=5&amp;hl=zh-CN&amp;start=2&amp;tbnid=O82f3VX48EMAqM:&amp;tbnh=88&amp;tbnw=58&amp;prev=/images%3Fq%3D%25E9%25A9%25AC%25E8%25B9%2584%25E8%25B6%25B3%26gbv%3D2%26ndsp%3D20%26complete%3D1%26hl%3Dzh-CN%26newwindow%3D1%26sa%3DN" TargetMode="External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7%E3%C4&#1719;%AD&amp;in=6473&amp;cl=2&amp;cm=1&amp;sc=0&amp;lm=-1&amp;pn=4&amp;rn=1&amp;di=2879733924&amp;ln=36" TargetMode="External"/><Relationship Id="rId2" Type="http://schemas.openxmlformats.org/officeDocument/2006/relationships/image" Target="../media/image34.jpeg"/><Relationship Id="rId3" Type="http://schemas.openxmlformats.org/officeDocument/2006/relationships/hyperlink" Target="http://image.baidu.com/i?ct=503316480&amp;z=0&amp;tn=baiduimagedetail&amp;word=%D7%E3%CD&#11757;&amp;in=10012&amp;cl=2&amp;cm=1&amp;sc=0&amp;lm=-1&amp;pn=9&amp;rn=1&amp;di=598202212&amp;ln=13" TargetMode="External"/><Relationship Id="rId4" Type="http://schemas.openxmlformats.org/officeDocument/2006/relationships/image" Target="../media/image35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0%D8&#1525;%BD%E1%BA%CB&amp;in=5558&amp;cl=2&amp;cm=1&amp;sc=0&amp;lm=-1&amp;pn=0&amp;rn=1&amp;di=2370372336&amp;ln=50" TargetMode="External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F%C2&#1451;%CF%F3&#420;%D6%D7&amp;in=492&amp;cl=2&amp;cm=1&amp;sc=0&amp;lm=-1&amp;pn=7&amp;rn=1&amp;di=730492&amp;ln=18" TargetMode="External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997;%CD&#11757;&amp;in=19134&amp;cl=2&amp;cm=1&amp;sc=0&amp;lm=-1&amp;pn=23&amp;rn=1&amp;di=1001655492&amp;ln=52" TargetMode="External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nggj.cn/7098_2006122916535287084.gif&amp;imgrefurl=http://www.jnggj.cn/gb58568_164145.html&amp;h=426&amp;w=568&amp;sz=73&amp;hl=zh-CN&amp;start=39&amp;tbnid=La7FonISVgPNHM:&amp;tbnh=101&amp;tbnw=134&amp;prev=/images%3Fq%3D%25E7%25B1%25BB%25E9%25A3%258E%25E6%25B9%25BF%25E6%2580%25A7%25E5%2585%25B3%25E8%258A%2582%25E7%2582%258E%26start%3D20%26gbv%3D2%26ndsp%3D20%26complete%3D1%26hl%3Dzh-CN%26newwindow%3D1%26sa%3DN" TargetMode="External"/><Relationship Id="rId2" Type="http://schemas.openxmlformats.org/officeDocument/2006/relationships/image" Target="../media/image39.jpeg"/><Relationship Id="rId3" Type="http://schemas.openxmlformats.org/officeDocument/2006/relationships/hyperlink" Target="http://image.baidu.com/i?ct=503316480&amp;z=0&amp;tn=baiduimagedetail&amp;word=%C0%E0%B7%E7&#682;%B9&#1597;%DA%D1%D7&amp;in=18033&amp;cl=2&amp;cm=1&amp;sc=0&amp;lm=-1&amp;pn=0&amp;rn=1&amp;di=1117247892&amp;ln=468" TargetMode="External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hsguke.com/Files/BeyondPic/2006092520385471863.gif&amp;imgrefurl=http://www.hsguke.com/Html/jzkp/203502618.html&amp;h=225&amp;w=144&amp;sz=11&amp;hl=zh-CN&amp;start=6&amp;tbnid=zyOWvhAlp47vNM:&amp;tbnh=108&amp;tbnw=69&amp;prev=/images%3Fq%3D%25E8%2584%258A%25E6%259F%25B1%25E4%25BE%25A7%25E5%2587%25B8%25EF%25BC%259A%2B%26gbv%3D2%26complete%3D1%26hl%3Dzh-CN%26newwindow%3D1%26sa%3D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xjbyy.com/images/jingluan_05.jpg&amp;imgrefurl=http://www.xjbyy.com/&amp;h=353&amp;w=500&amp;sz=53&amp;hl=zh-CN&amp;start=4&amp;tbnid=qOfXcOuNAPmV4M:&amp;tbnh=92&amp;tbnw=130&amp;prev=/images%3Fq%3D%25E5%2585%2588%25E5%25A4%25A9%25E6%2580%25A7%25E6%2596%259C%25E9%25A2%2588%26gbv%3D2%26complete%3D1%26hl%3Dzh-CN%26newwindow%3D1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jococ.org/jococ_things/women_stoop2.jpg&amp;imgrefurl=http://www.jococ.org/html/zh/leftmenu/osteoSymtom.htm&amp;h=152&amp;w=100&amp;sz=8&amp;hl=zh-CN&amp;start=15&amp;tbnid=ABlsu60ZLt_uZM:&amp;tbnh=96&amp;tbnw=63&amp;prev=/images%3Fq%3D%25E9%25A9%25BC%25E8%2583%258C.%26gbv%3D2%26complete%3D1%26hl%3Dzh-CN%26newwindow%3D1%26sa%3D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ages.google.cn/imgres?imgurl=http://www.postal.com.tw/&#22294;&#27284;/&#33136;&#32972;&#30171;&#21450;&#36939;&#21205;&#27835;&#30274;&#27861;/&#39389;&#32972;&#32769;&#20154;&#23567;&#23401;.gif&amp;imgrefurl=http://www.postal.com.tw/%25E7%25B6%25B2%25E7%25AB%2599%25E8%25A1%259B%25E6%2595%2599%25E5%2596%25AE%25E5%25BC%25B5/%25E9%25AA%25A8%25E7%25A7%2591/%25E9%25AA%25A8%25E8%25B3%25AA%25E7%2596%258F%25E9%25AC%2586%25E8%2588%2587%25E8%2584%258A%25E6%25A4%258E%25E5%25A3%2593%25E8%25BF%25AB%25E6%2580%25A7%25E9%25AA%25A8%25E6%258A%2598.htm&amp;h=1122&amp;w=1471&amp;sz=849&amp;hl=zh-CN&amp;start=28&amp;tbnid=W5Fna941BUPmjM:&amp;tbnh=114&amp;tbnw=150&amp;prev=/images%3Fq%3D%25E9%25A9%25BC%25E8%2583%258C.%26start%3D20%26gbv%3D2%26ndsp%3D20%26complete%3D1%26hl%3Dzh-CN%26newwindow%3D1%26sa%3DN" TargetMode="External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n/imgres?imgurl=http://www.pumch.ac.cn/Article/UploadFiles/200604/20060413164446888.jpg&amp;imgrefurl=http://www.pumch.ac.cn/Article/ShowArticle.asp%3FArticleID%3D783&amp;h=225&amp;w=300&amp;sz=38&amp;hl=zh-CN&amp;start=5&amp;tbnid=F_GRZZuKBDMYLM:&amp;tbnh=87&amp;tbnw=116&amp;prev=/images%3Fq%3D%25E8%2585%25B9%25E8%2585%2594%25E5%25B7%25A8%25E5%25A4%25A7%25E8%2582%25BF%25E7%2598%25A4%26gbv%3D2%26complete%3D1%26hl%3Dzh-CN%26newwindow%3D1%26sa%3D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n/imgres?imgurl=http://www.jskfw120.com/images/bl1.jpg&amp;imgrefurl=http://www.jskfw120.com/dxbl.htm&amp;h=298&amp;w=300&amp;sz=17&amp;hl=zh-CN&amp;start=20&amp;tbnid=NJygDuy_2LehmM:&amp;tbnh=115&amp;tbnw=116&amp;prev=/images%3Fq%3D%25E5%25A4%25A7%25E9%2587%258F%25E8%2585%25B9%25E6%25B0%25B4%26gbv%3D2%26complete%3D1%26hl%3Dzh-CN%26newwindow%3D1%26sa%3D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九节  脊柱与四肢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99680" y="928440"/>
            <a:ext cx="846468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侧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离开后正中线向左或右偏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侧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姿势性侧凸：儿童坐、立姿势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代偿性：一侧下肢短于另一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坐骨神经性侧突：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7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22800" y="3500280"/>
            <a:ext cx="2721240" cy="2959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67160" y="4000680"/>
            <a:ext cx="1612800" cy="25254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28400" y="357120"/>
            <a:ext cx="871524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脊柱活动度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、侧弯、后伸、旋转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组织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韧带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增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质破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或脱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：炎症、结核、外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2" name="Picture 6" descr="u=99814293,902409457&amp;gp=1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43280" y="1341360"/>
            <a:ext cx="4176720" cy="3094200"/>
          </a:xfrm>
          <a:prstGeom prst="rect">
            <a:avLst/>
          </a:prstGeom>
          <a:ln w="0">
            <a:noFill/>
          </a:ln>
        </p:spPr>
      </p:pic>
      <p:sp>
        <p:nvSpPr>
          <p:cNvPr id="93" name="Line 7"/>
          <p:cNvSpPr/>
          <p:nvPr/>
        </p:nvSpPr>
        <p:spPr>
          <a:xfrm flipV="1">
            <a:off x="2484360" y="3141360"/>
            <a:ext cx="2808360" cy="576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4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811840" y="4581360"/>
            <a:ext cx="1765440" cy="1970280"/>
          </a:xfrm>
          <a:prstGeom prst="rect">
            <a:avLst/>
          </a:prstGeom>
          <a:ln w="0">
            <a:noFill/>
          </a:ln>
        </p:spPr>
      </p:pic>
      <p:sp>
        <p:nvSpPr>
          <p:cNvPr id="95" name="Line 10"/>
          <p:cNvSpPr/>
          <p:nvPr/>
        </p:nvSpPr>
        <p:spPr>
          <a:xfrm>
            <a:off x="2843280" y="4724280"/>
            <a:ext cx="2952720" cy="36036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3"/>
          <p:cNvSpPr/>
          <p:nvPr/>
        </p:nvSpPr>
        <p:spPr>
          <a:xfrm>
            <a:off x="285840" y="1052640"/>
            <a:ext cx="5726160" cy="51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触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过触诊检查病人脊柱有无压痛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：嘱患者取端坐位，身体稍向前倾，评估者以右手拇指自上而下逐个按压脊椎棘突及椎旁肌肉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3152880" cy="3676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9640" y="836640"/>
            <a:ext cx="785808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叩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叩击法：叩击脊椎棘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间接叩击法：头顶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传导痛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局部病变常有压痛与叩击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椎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椎间盘突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腰背肌纤维织炎或劳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42600" y="1557360"/>
            <a:ext cx="8286840" cy="50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四肢与关节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部手掌的神经、血管、肌腱及骨骼的损伤或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天性因素，均可引起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腕垂症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桡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猿掌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正中神经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86240" y="3143160"/>
            <a:ext cx="3168720" cy="302256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7120" y="1196640"/>
            <a:ext cx="878688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爪形手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呈鸟爪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尺神经损伤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进行性肌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0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2421000"/>
            <a:ext cx="338148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125000"/>
            <a:ext cx="828648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餐叉样畸形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 Colles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骨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患者跌倒时肘部伸直位，前臂旋前，腕关节背伸，手掌撑地传至桡骨远端而发生骨折。暴力轻时骨折嵌插而无明显移位，暴力大时骨折远端桡侧和背侧移位，常伴有尺骨茎突和下端桡关节分离。老年患者骨折常呈粉碎并可波及关节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5" descr="11974631064458068"/>
          <p:cNvPicPr/>
          <p:nvPr/>
        </p:nvPicPr>
        <p:blipFill>
          <a:blip r:embed="rId1"/>
          <a:stretch/>
        </p:blipFill>
        <p:spPr>
          <a:xfrm>
            <a:off x="1979640" y="3645000"/>
            <a:ext cx="4319640" cy="29559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Line 6"/>
          <p:cNvSpPr/>
          <p:nvPr/>
        </p:nvSpPr>
        <p:spPr>
          <a:xfrm flipH="1">
            <a:off x="5651280" y="4869000"/>
            <a:ext cx="1871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56760" y="1341360"/>
            <a:ext cx="857268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杵状指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或足趾末端增生、肥厚、增宽，指甲从根部到末端拱形隆起呈杵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8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8000" y="3801960"/>
            <a:ext cx="2665440" cy="20034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3801960"/>
            <a:ext cx="2448000" cy="19494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95280" y="1052280"/>
            <a:ext cx="8215200" cy="27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匙状指（反甲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特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中央凹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边缘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指甲变薄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面粗糙有条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铁性贫血、高原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2" name="Picture 6" descr="u=657819182,417166935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3357720"/>
            <a:ext cx="1803240" cy="26301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8" descr="u=105352172,2179108253&amp;gp=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427640" y="3357720"/>
            <a:ext cx="4321080" cy="2687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0" descr="u=404860863,3708608723&amp;gp=4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411280" y="3357720"/>
            <a:ext cx="1801800" cy="2665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98320" y="1084320"/>
            <a:ext cx="8358480" cy="32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膝关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内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O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型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Picture 5" descr="u=1105082648,72683448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2708280"/>
            <a:ext cx="3214440" cy="3600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00720" y="2549520"/>
            <a:ext cx="3887640" cy="37591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脊柱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四肢与关节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0040" y="1699920"/>
            <a:ext cx="8072640" cy="48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反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过度后伸形成向前的反屈状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膝反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见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儿麻痹病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膝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3141720"/>
            <a:ext cx="4535280" cy="34192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6"/>
          <p:cNvSpPr/>
          <p:nvPr/>
        </p:nvSpPr>
        <p:spPr>
          <a:xfrm>
            <a:off x="4932360" y="522936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楷体_GB2312"/>
              </a:rPr>
              <a:t>膝反张矫形器</a:t>
            </a:r>
            <a:br>
              <a:rPr sz="1800"/>
            </a:b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0040" y="1484280"/>
            <a:ext cx="814392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膑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方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平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伸直放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医师一手虎口卡于患膝髌骨上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并加压压迫髌上囊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使关液集中于髌骨低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另一手示指垂直按压髌骨并迅速抬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按压时髌骨与关节面有碰触感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松手时髌骨浮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浮髌试验阳性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临床意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节腔积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等量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0040" y="1052280"/>
            <a:ext cx="8429760" cy="53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浮髌试验方法示意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1" name="Picture 4" descr="Image-1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9640" y="2997360"/>
            <a:ext cx="7417080" cy="256032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85480" y="1268280"/>
            <a:ext cx="87152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四）膝及足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病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骨节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髓灰质炎后遗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跖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肢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Picture 5" descr="u=274879411,3750211076&amp;gp=3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19640" y="1557360"/>
            <a:ext cx="3476520" cy="46800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28400" y="1341000"/>
            <a:ext cx="84294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扁平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跟外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伴足外展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形成足旋前畸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塌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足增宽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底前部形成胼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9" name="Picture 5" descr="u=392655846,2020278790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2981160"/>
            <a:ext cx="6264360" cy="332748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26600" y="1196640"/>
            <a:ext cx="8217000" cy="551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高弓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纵弓高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横弓下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背隆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趾分开</a:t>
            </a:r>
            <a:r>
              <a:rPr b="0" lang="zh-CN" sz="2800" spc="-1" strike="noStrike">
                <a:solidFill>
                  <a:srgbClr val="663300"/>
                </a:solidFill>
                <a:latin typeface="楷体_GB2312"/>
                <a:ea typeface="楷体_GB2312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3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4508640"/>
            <a:ext cx="2520720" cy="1890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32360" y="4724280"/>
            <a:ext cx="2851200" cy="175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843280" y="2303640"/>
            <a:ext cx="3168720" cy="21952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71320" y="907920"/>
            <a:ext cx="80722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马蹄足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踝关节跖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半足着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常因跟腱挛缩或腓总神经麻痹引起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8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2349360"/>
            <a:ext cx="3076560" cy="416268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0040" y="980640"/>
            <a:ext cx="842976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内翻（内翻、内收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足外翻（外翻、外展位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2" name="Picture 7" descr="u=3575717274,3786825465&amp;gp=-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213000"/>
            <a:ext cx="3672000" cy="2932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u=2167240228,2942673349&amp;gp=1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3284640"/>
            <a:ext cx="3168720" cy="242244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4920" y="2276640"/>
            <a:ext cx="8132760" cy="36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00"/>
                </a:solidFill>
                <a:latin typeface="Verdana"/>
                <a:ea typeface="宋体"/>
              </a:rPr>
              <a:t>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神经的协调下肌肉、肌腱带动关节活动来完成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检查法  关节各方向的主动运动；被动运动。观察其活动范围及有无疼痛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关节活动障碍  见于相应部位骨折、脱位、炎症、肿瘤、关节的退行性变及肌腱、软组织损伤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642960" y="1557360"/>
            <a:ext cx="82868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四肢与关节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6668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四肢与关节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324000" y="134136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脊柱评估  按视诊、触诊、叩诊的顺序进行，评估的主要内容包括：脊柱弯曲度、活动度、压痛与叩击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形态  正常人四肢与关节左右对称，形态正常，无肿胀、压痛、无活动受限。异常的包括：匙状甲、杵状指、肢端肥大、指关节变形、腕关节变形、肘关节变形、肩关节变形、髋关节变形、膝关节变形、足部形态异常、肌肉萎缩、下肢静脉曲张、水肿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四肢与关节的运动  正常关节活动不受限，可屈曲、外展、内收、外旋、内旋等。当各关节不能达到各自的活动幅度时，为关节运动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识记脊柱、四肢的正常解剖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理解脊柱、四肢检查的检查项目及临床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正确的运用脊柱与四肢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95364-3896-4804-9CAA-635BA66CA9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56760" y="1267920"/>
            <a:ext cx="85726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儿童、青年胸椎后凸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骨折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结核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胸椎肿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类风湿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2" name="Picture 5" descr="u=783520980,4282990846&amp;gp=-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238120" cy="31338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57120" y="1125360"/>
            <a:ext cx="878688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象皮肿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淋巴管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丝虫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右心衰竭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腔静脉阻塞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下肢静脉曲张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6" name="Picture 7" descr="u=1826311397,2766083059&amp;gp=42">
            <a:hlinkClick r:id="rId1"/>
          </p:cNvPr>
          <p:cNvPicPr/>
          <p:nvPr/>
        </p:nvPicPr>
        <p:blipFill>
          <a:blip r:embed="rId2"/>
          <a:srcRect l="0" t="0" r="35132" b="0"/>
          <a:stretch/>
        </p:blipFill>
        <p:spPr>
          <a:xfrm>
            <a:off x="6012000" y="2349360"/>
            <a:ext cx="2447640" cy="37436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7120" y="1267920"/>
            <a:ext cx="878688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内、外翻畸形常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膝外伤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佝偻病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脊髓灰质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先天性畸形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肢端肥大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0" name="Picture 5" descr="u=1875542062,3760411497&amp;gp=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3789360"/>
            <a:ext cx="4284720" cy="26208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7640" y="692280"/>
            <a:ext cx="864396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．指关节梭形肿大畸形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风湿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结核性关节炎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化脓性关节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肥大性关节炎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．类风湿性关节炎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7840" y="1500120"/>
            <a:ext cx="3456000" cy="26035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u=266389779,4033070083&amp;gp=4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4292640"/>
            <a:ext cx="3527640" cy="216684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28400" y="907920"/>
            <a:ext cx="87152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匙状甲多见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支气管扩张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慢性肺脓肿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溶血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缺铁性贫血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恶性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9" name="Picture 4" descr="u=105352172,2179108253&amp;gp=0"/>
          <p:cNvPicPr/>
          <p:nvPr/>
        </p:nvPicPr>
        <p:blipFill>
          <a:blip r:embed="rId1"/>
          <a:stretch/>
        </p:blipFill>
        <p:spPr>
          <a:xfrm>
            <a:off x="4211640" y="1773360"/>
            <a:ext cx="4321080" cy="268740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24000" y="620640"/>
            <a:ext cx="867888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腱鞘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近端指间关节对称性肿胀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远端指间关节背部内外侧坚硬的结节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腕关节背面或桡侧圆形无痛形包块，移动好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．指关节变形，局部红肿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E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指关节呈鸟爪样变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93" name="Picture 5" descr="u=4281547656,1311526762&amp;gp=-28"/>
          <p:cNvPicPr/>
          <p:nvPr/>
        </p:nvPicPr>
        <p:blipFill>
          <a:blip r:embed="rId1"/>
          <a:stretch/>
        </p:blipFill>
        <p:spPr>
          <a:xfrm>
            <a:off x="971640" y="4292640"/>
            <a:ext cx="3166920" cy="2104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u=1816766504,469680495&amp;gp=-28"/>
          <p:cNvPicPr/>
          <p:nvPr/>
        </p:nvPicPr>
        <p:blipFill>
          <a:blip r:embed="rId2"/>
          <a:stretch/>
        </p:blipFill>
        <p:spPr>
          <a:xfrm>
            <a:off x="5003640" y="4292640"/>
            <a:ext cx="2808360" cy="20858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85840" y="428400"/>
            <a:ext cx="65721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视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脊柱弯曲度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四个生理弯曲是否存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、腰前凸，胸、骶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脊柱侧弯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患者坐或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评估者从后用拇指划压、红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00840" y="1785960"/>
            <a:ext cx="2620800" cy="4103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8200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二）病理性变形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颈椎变形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侧偏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先天性斜颈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前屈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过度后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僵硬感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6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6160" y="1928880"/>
            <a:ext cx="4386240" cy="31035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549360"/>
            <a:ext cx="784692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后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过度后弯称为脊柱后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称驼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0" name="Picture 5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2349360"/>
            <a:ext cx="2770200" cy="393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67280" y="2492280"/>
            <a:ext cx="4464000" cy="3392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85880" y="1268280"/>
            <a:ext cx="79293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佝偻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明显均匀性向后变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病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下段、腰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角后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强直性脊柱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弧形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9680" y="857160"/>
            <a:ext cx="828684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脊柱退行性变：多见于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椎明显后凸，形成驼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其他：后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伤：脊椎压缩性骨折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胸段：脊椎软骨炎</a:t>
            </a: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71320" y="928800"/>
            <a:ext cx="81435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脊柱前凸：多发生腰椎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定义：脊柱过度向前凸出性弯曲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称为脊柱前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巨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髋关节结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◇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量腹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81" name="Picture 6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2857680"/>
            <a:ext cx="3384720" cy="2538360"/>
          </a:xfrm>
          <a:prstGeom prst="rect">
            <a:avLst/>
          </a:prstGeom>
          <a:ln w="0">
            <a:noFill/>
          </a:ln>
        </p:spPr>
      </p:pic>
      <p:sp>
        <p:nvSpPr>
          <p:cNvPr id="82" name="Line 7"/>
          <p:cNvSpPr/>
          <p:nvPr/>
        </p:nvSpPr>
        <p:spPr>
          <a:xfrm>
            <a:off x="3500280" y="3286080"/>
            <a:ext cx="1079640" cy="0"/>
          </a:xfrm>
          <a:prstGeom prst="line">
            <a:avLst/>
          </a:prstGeom>
          <a:ln cap="sq" w="572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83" name="Picture 9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85880" y="4500720"/>
            <a:ext cx="2160360" cy="21412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脊柱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9:17:15Z</dcterms:modified>
  <cp:revision>95</cp:revision>
  <dc:subject/>
  <dc:title>内科护理学</dc:title>
</cp:coreProperties>
</file>