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D9212-212A-489F-84C7-4B8D27C1D4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F3249-0C6F-4CAC-9D3E-62CA2939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2EE84-A741-42E4-8A33-164E1223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C7C8-4BD5-462E-9DB8-C8EF0FB4AC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5E5B1-3505-401F-86B4-12DBE278E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07B93-9B72-4D7D-9099-F18DFFE33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CA687-CFBF-414F-9A61-58E154E76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02B52-A1E2-4470-85CD-113521D95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CD6AA-FBFA-471E-8E27-1014E5DCE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797B7-46FB-48F5-A28A-D8D3089B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6B455-9251-466F-BF44-529BA4C45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C3C6-5C5F-4CB5-91DA-3A9D3473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56A7-B7E5-447C-8659-9B76E5640E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79280" y="2997000"/>
            <a:ext cx="6400800" cy="74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</a:rPr>
              <a:t>　</a:t>
            </a:r>
            <a:r>
              <a:rPr b="1" lang="zh-CN" sz="4400" spc="-1" strike="noStrike">
                <a:solidFill>
                  <a:srgbClr val="ffffff"/>
                </a:solidFill>
                <a:latin typeface="宋体"/>
              </a:rPr>
              <a:t>第十一节  恶心与呕吐</a:t>
            </a:r>
            <a:r>
              <a:rPr b="0" lang="zh-CN" sz="37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00"/>
                </a:solidFill>
                <a:latin typeface="Verdana"/>
                <a:ea typeface="华文新魏"/>
              </a:rPr>
              <a:t>相关护理问题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体液不足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体液不足的危险：与呕吐引起体液丧失及摄入量减少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营养失调：低于机体需要量 与长期呕吐和食物摄入量不足有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潜在并发症：窒息；肺部感染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恶心、呕吐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吐的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恶心、呕吐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描述恶心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不同类型的呕吐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恶心、呕吐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与呕吐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2487240"/>
            <a:ext cx="861048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恶心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为上腹不适，紧迫欲呕吐的感觉并伴有迷走神经兴奋的症状，如皮肤苍白、出汗、流涎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呕吐：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是胃或小肠的内容物，通过食管逆流经口腔而排出体外的现象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WordArt 4" descr=""/>
          <p:cNvPicPr/>
          <p:nvPr/>
        </p:nvPicPr>
        <p:blipFill>
          <a:blip r:embed="rId1"/>
          <a:stretch/>
        </p:blipFill>
        <p:spPr>
          <a:xfrm>
            <a:off x="5864400" y="1427040"/>
            <a:ext cx="21272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Oval 3"/>
          <p:cNvSpPr/>
          <p:nvPr/>
        </p:nvSpPr>
        <p:spPr>
          <a:xfrm>
            <a:off x="1187280" y="3213000"/>
            <a:ext cx="2376720" cy="647640"/>
          </a:xfrm>
          <a:prstGeom prst="ellipse">
            <a:avLst/>
          </a:prstGeom>
          <a:gradFill rotWithShape="0">
            <a:gsLst>
              <a:gs pos="0">
                <a:srgbClr val="99669b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Verdana"/>
              </a:rPr>
              <a:t>延髓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呕吐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5" name="AutoShape 4"/>
          <p:cNvSpPr/>
          <p:nvPr/>
        </p:nvSpPr>
        <p:spPr>
          <a:xfrm>
            <a:off x="4572000" y="2205000"/>
            <a:ext cx="2087640" cy="792360"/>
          </a:xfrm>
          <a:prstGeom prst="flowChartDocument">
            <a:avLst/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神经反射中枢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呕吐中枢</a:t>
            </a:r>
            <a:r>
              <a:rPr b="1" lang="en-US" sz="1800" spc="-1" strike="noStrike">
                <a:solidFill>
                  <a:srgbClr val="cc33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6" name="AutoShape 5"/>
          <p:cNvSpPr/>
          <p:nvPr/>
        </p:nvSpPr>
        <p:spPr>
          <a:xfrm>
            <a:off x="4427640" y="4076640"/>
            <a:ext cx="2232000" cy="647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Verdana"/>
              </a:rPr>
              <a:t>化学感受器触发带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7" name="Line 6"/>
          <p:cNvSpPr/>
          <p:nvPr/>
        </p:nvSpPr>
        <p:spPr>
          <a:xfrm>
            <a:off x="4067280" y="2565360"/>
            <a:ext cx="0" cy="187164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8" name="Line 7"/>
          <p:cNvSpPr/>
          <p:nvPr/>
        </p:nvSpPr>
        <p:spPr>
          <a:xfrm>
            <a:off x="4067280" y="2565360"/>
            <a:ext cx="50472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19" name="Line 8"/>
          <p:cNvSpPr/>
          <p:nvPr/>
        </p:nvSpPr>
        <p:spPr>
          <a:xfrm>
            <a:off x="4067280" y="4437000"/>
            <a:ext cx="36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3564000" y="3500280"/>
            <a:ext cx="50328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4356000" y="5300640"/>
            <a:ext cx="3240360" cy="7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接受各种外来的化学物质或药物的刺激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吗啡、洋地黄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内生代谢产物 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如酸中毒</a:t>
            </a:r>
            <a:r>
              <a:rPr b="1" lang="en-US" sz="1600" spc="-1" strike="noStrike">
                <a:solidFill>
                  <a:srgbClr val="046ca6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2" name="AutoShape 11"/>
          <p:cNvSpPr/>
          <p:nvPr/>
        </p:nvSpPr>
        <p:spPr>
          <a:xfrm>
            <a:off x="5651640" y="4724280"/>
            <a:ext cx="72720" cy="576360"/>
          </a:xfrm>
          <a:prstGeom prst="upArrow">
            <a:avLst>
              <a:gd name="adj1" fmla="val 50000"/>
              <a:gd name="adj2" fmla="val 198144"/>
            </a:avLst>
          </a:prstGeom>
          <a:solidFill>
            <a:srgbClr val="8ac8de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12"/>
          <p:cNvSpPr/>
          <p:nvPr/>
        </p:nvSpPr>
        <p:spPr>
          <a:xfrm>
            <a:off x="6661080" y="2565360"/>
            <a:ext cx="144360" cy="1727280"/>
          </a:xfrm>
          <a:custGeom>
            <a:avLst/>
            <a:gdLst>
              <a:gd name="textAreaLeft" fmla="*/ 0 w 144360"/>
              <a:gd name="textAreaRight" fmla="*/ 123840 w 144360"/>
              <a:gd name="textAreaTop" fmla="*/ 1151640 h 1727280"/>
              <a:gd name="textAreaBottom" fmla="*/ 1727640 h 17272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46ca6"/>
          </a:solidFill>
          <a:ln w="9360">
            <a:solidFill>
              <a:srgbClr val="8ac8d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019560" y="2852640"/>
            <a:ext cx="6066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引发神经冲动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5" name="Text Box 14"/>
          <p:cNvSpPr/>
          <p:nvPr/>
        </p:nvSpPr>
        <p:spPr>
          <a:xfrm>
            <a:off x="7020000" y="1989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Verdana"/>
              </a:rPr>
              <a:t>接受来自消化道、大脑皮质、前庭及化学感受器触发带的传入冲动</a:t>
            </a:r>
            <a:endParaRPr b="0" lang="en-US" sz="1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AutoShape 15"/>
          <p:cNvSpPr/>
          <p:nvPr/>
        </p:nvSpPr>
        <p:spPr>
          <a:xfrm>
            <a:off x="6659640" y="2276640"/>
            <a:ext cx="504720" cy="72720"/>
          </a:xfrm>
          <a:prstGeom prst="leftArrow">
            <a:avLst>
              <a:gd name="adj1" fmla="val 50000"/>
              <a:gd name="adj2" fmla="val 173515"/>
            </a:avLst>
          </a:prstGeom>
          <a:solidFill>
            <a:srgbClr val="046ca6"/>
          </a:solidFill>
          <a:ln w="9360">
            <a:solidFill>
              <a:srgbClr val="ddb5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消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4211640" y="1908000"/>
            <a:ext cx="45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口咽刺激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胃肠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胃肠炎、幽门梗阻、肠梗阻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肝、胆、胰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肝炎、急性胆囊炎、急性胰腺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腹膜及肠系膜疾病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腹膜炎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284720" y="3789360"/>
            <a:ext cx="446400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泌尿系统及生殖系统疾病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泌尿系统结石、肾绞痛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心血管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急性心肌梗死、休克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眼部疾病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</a:rPr>
              <a:t>：</a:t>
            </a:r>
            <a:r>
              <a:rPr b="1" lang="zh-CN" sz="1400" spc="-1" strike="noStrike">
                <a:solidFill>
                  <a:srgbClr val="046ca6"/>
                </a:solidFill>
                <a:latin typeface="Verdana"/>
              </a:rPr>
              <a:t>如青光眼等</a:t>
            </a:r>
            <a:endParaRPr b="0" lang="en-US" sz="1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000" spc="-1" strike="noStrike">
                <a:solidFill>
                  <a:srgbClr val="ff0066"/>
                </a:solidFill>
                <a:latin typeface="Verdana"/>
              </a:rPr>
              <a:t>急性传染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2" name="WordArt 6"/>
          <p:cNvSpPr txBox="1"/>
          <p:nvPr/>
        </p:nvSpPr>
        <p:spPr>
          <a:xfrm>
            <a:off x="826920" y="1268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反射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病因、发生机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2099880"/>
            <a:ext cx="86104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中枢神经系统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(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药物或化学毒物的作用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抗生素、抗癌药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）其他：妊娠、代谢障碍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酸中毒、尿毒症等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精神因素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(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如癔症、神经性厌食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4932360" y="1628640"/>
            <a:ext cx="2808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①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中枢神经感染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②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脑内血管疾病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③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脑损伤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④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颅内占位性病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WordArt 5"/>
          <p:cNvSpPr txBox="1"/>
          <p:nvPr/>
        </p:nvSpPr>
        <p:spPr>
          <a:xfrm>
            <a:off x="971640" y="1557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中枢性呕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Verdana"/>
                <a:ea typeface="华文新魏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与进食的关系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66"/>
                </a:solidFill>
                <a:latin typeface="Verdana"/>
              </a:rPr>
              <a:t>呕吐物的性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3203640" y="1557360"/>
            <a:ext cx="3313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晨起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妊娠、尿毒症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晚上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4140360" y="2565360"/>
            <a:ext cx="4319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即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精神性厌食、食物中毒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餐后较久呕吐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916360" y="3718080"/>
            <a:ext cx="61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颅内高压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多无恶心，喷射性呕吐，伴头痛或意识障碍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419640" y="4653000"/>
            <a:ext cx="5113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幽门梗阻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发酵、腐败气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小肠梗阻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----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低位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: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粪臭味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</a:rPr>
              <a:t>高位：呕吐频繁、量多，含胆汁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zh-CN" sz="3200" spc="-1" strike="noStrike">
                <a:solidFill>
                  <a:srgbClr val="969696"/>
                </a:solidFill>
                <a:latin typeface="Verdana"/>
              </a:rPr>
              <a:t>注意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注意区分呕吐和返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发生的时间和诱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的次数和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物的性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呕吐与进食的关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宋体"/>
              </a:rPr>
              <a:t>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2627280" y="189000"/>
            <a:ext cx="5940360" cy="2736720"/>
          </a:xfrm>
          <a:prstGeom prst="wedgeRoundRectCallout">
            <a:avLst>
              <a:gd name="adj1" fmla="val -38643"/>
              <a:gd name="adj2" fmla="val 49361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妊娠呕吐：早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幽门梗阻：夜晚或凌晨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食物中毒：不洁饮食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药物性呕吐：有用药史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神经官能症：厌恶食物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胃源性：与进食有关，呕吐后轻松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1042920" y="2060640"/>
            <a:ext cx="7561440" cy="2305080"/>
          </a:xfrm>
          <a:prstGeom prst="wedgeRoundRectCallout">
            <a:avLst>
              <a:gd name="adj1" fmla="val -16805"/>
              <a:gd name="adj2" fmla="val 51513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发酵、腐败气味提示胃潴留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带粪臭味提示低位小肠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胆汁说明梗阻在十二指肠乳头以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含有大量酸性液体提示胃泌素瘤或溃疡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AutoShape 6"/>
          <p:cNvSpPr/>
          <p:nvPr/>
        </p:nvSpPr>
        <p:spPr>
          <a:xfrm>
            <a:off x="826920" y="1557360"/>
            <a:ext cx="8317080" cy="2592360"/>
          </a:xfrm>
          <a:prstGeom prst="wedgeRoundRectCallout">
            <a:avLst>
              <a:gd name="adj1" fmla="val -22893"/>
              <a:gd name="adj2" fmla="val 81782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进食过程中或餐后即刻呕吐为精神性或幽门管溃疡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较长时间或数餐后呕吐提示幽门梗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餐后近期发生、集体发病提示食物中毒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Verdana"/>
                <a:ea typeface="华文新魏"/>
              </a:rPr>
              <a:t>问诊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有无与恶心、呕吐相关的疾病和诱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呕吐的特点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恶心、呕吐对功能型态的影响；水电解质紊乱、营养不良、窒息或肺部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、诊断、治疗及护理经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13:27:33Z</dcterms:created>
  <dc:creator>yi</dc:creator>
  <dc:description/>
  <cp:keywords/>
  <dc:language>en-US</dc:language>
  <cp:lastModifiedBy>赵欣</cp:lastModifiedBy>
  <cp:lastPrinted>1899-12-30T00:00:00Z</cp:lastPrinted>
  <dcterms:modified xsi:type="dcterms:W3CDTF">2015-12-16T07:57:00Z</dcterms:modified>
  <cp:revision>46</cp:revision>
  <dc:subject/>
  <dc:title>症状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