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45171-0DE6-4717-B8D5-569F8DCC24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4EA05-614F-47EB-9FE8-E32F2584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9B84-1B10-4C56-9913-2BAB2126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3D0A-5B28-44BE-AA3D-EB9245D8854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EB1B-FF90-4486-9AED-C305DC59A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89908-3D54-4E6F-8273-C137A0DA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0B420-B115-43DD-828A-823C6B050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507CA-2210-4C33-ABCB-1D5A12D90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F35B5-AE42-4ED4-A6B1-6C4B31F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60A63-8564-42C0-AA9B-655FA34E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C5F4D-2688-4A0A-A435-EE8031553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8A95B-9904-4AA4-AA0D-C4CA8B24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6ABE4-457A-477F-AC2B-2A59792967F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5856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SimHei"/>
                <a:ea typeface="SimHei"/>
              </a:rPr>
              <a:t>第七节 呼吸困难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困难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呼吸困难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低效性呼吸型态  与上呼吸道梗阻有关，与心肺功能不全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气体交换受损  与心肺功能不全、肺部感染等引起有效肺组织减少、肺弹性减退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 与呼吸困难所致能量消耗增加和缺氧有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语言沟通障碍  与严重喘息有关；与辅助呼吸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自理能力缺陷  与严重呼吸困难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79280" y="155700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定义  呼吸困难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病因  包括呼吸系统疾病、循环系统疾病、中毒、血液系统疾病、神经精神因素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临床表现  肺源性呼吸困难常见有三种类型：吸气性呼吸困难、呼气性呼吸困难、混合性呼吸困难。吸气性呼吸困难表现为吸气时间明显延长，吸气显著困难，主要表现为“三凹征”；呼气性呼吸困难表现为呼气时间延长或缓慢，呼气费力，可伴哮鸣音；混合性呼吸困难表现为吸气与呼气均感费力。左心衰竭主要表现劳力性呼吸困难、夜间阵发性呼吸困难、端坐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护理评估要点  呼吸困难的特点、伴随症状、呼吸困难对患者的影响、有无呼吸困难相关的疾病史或诱发因素、诊断、治疗与护理经过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呼吸困难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呼吸困难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呼吸困难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呼吸困难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51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呼吸困难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yspne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患者主观上感到空气不足，呼吸费力；客观上常有呼吸频率、深度和节律的改变，严重时可出现鼻翼扇动、发绀、端坐呼吸、辅助呼吸肌参与活动等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25892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呼吸系统疾病  由于呼吸系统疾病引起的通气和（或）换气功能障碍，导致缺氧和（或）二氧化碳潴留而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循环系统疾病  主要因左心衰竭和（或）右心衰竭引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中毒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血液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神经精神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源性呼吸困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常见有三种类型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吸气性呼吸困难：表现为吸气时间明显延长，吸气显著困难，重者由于呼吸肌极度用力，胸腔负压增大，吸气时胸骨上窝、锁骨上窝和肋间隙明显凹陷，称为“三凹征”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呼气性呼吸困难：主要表现为呼气时间延长或缓慢，呼气费力，可伴哮鸣音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混合性呼吸困难：表现为吸气与呼气均感费力，呼吸频率增快、变浅。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P1010238"/>
          <p:cNvPicPr/>
          <p:nvPr/>
        </p:nvPicPr>
        <p:blipFill>
          <a:blip r:embed="rId1"/>
          <a:stretch/>
        </p:blipFill>
        <p:spPr>
          <a:xfrm>
            <a:off x="2411280" y="1197000"/>
            <a:ext cx="4042080" cy="4176720"/>
          </a:xfrm>
          <a:prstGeom prst="rect">
            <a:avLst/>
          </a:prstGeom>
          <a:ln w="25560">
            <a:solidFill>
              <a:srgbClr val="ffffff"/>
            </a:solidFill>
            <a:miter/>
          </a:ln>
        </p:spPr>
      </p:pic>
      <p:sp>
        <p:nvSpPr>
          <p:cNvPr id="115" name="Line 5"/>
          <p:cNvSpPr/>
          <p:nvPr/>
        </p:nvSpPr>
        <p:spPr>
          <a:xfrm>
            <a:off x="1897200" y="2362320"/>
            <a:ext cx="1595160" cy="1930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H="1">
            <a:off x="4284720" y="2060640"/>
            <a:ext cx="2735280" cy="267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1835280" y="5157720"/>
            <a:ext cx="2095200" cy="71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340000" y="5300640"/>
            <a:ext cx="4518000" cy="6048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吸气性呼吸困难  三 凹 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28600" y="198756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幼圆"/>
                <a:ea typeface="幼圆"/>
              </a:rPr>
              <a:t>锁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7341480" y="1720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胸骨上窝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871200" y="48690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肋间隙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1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0" y="1125360"/>
            <a:ext cx="8820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心源性呼吸困难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左心衰竭：劳力性呼吸困难、夜间阵发性呼吸困难 、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端坐呼吸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右心衰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中毒性呼吸困难：在尿毒症、糖尿病酮症酸中毒时，出现深而规则的呼吸，可伴有鼾声，称为酸中毒大呼吸。急性感染时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,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呼吸增快。吗啡、巴比妥类药物、有机磷农药中毒时，呼吸浅慢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神经、精神性呼吸困难：重症颅脑疾病呼吸慢而深，常伴有呼吸节律的改变。精神因素引起者呼吸频速浅表，发生呼吸性碱中毒，出现口周、肢体麻木或手足抽搐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血液源性呼吸困难：重度贫血、高铁血红蛋白血症等，呼吸急促、心率增快。急性大出血或休克时呼吸增快。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3:36Z</dcterms:modified>
  <cp:revision>223</cp:revision>
  <dc:subject/>
  <dc:title>内科护理学</dc:title>
</cp:coreProperties>
</file>