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6891-B6F6-4D3C-8913-8F5B9858102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4F9A3-2C3B-4DE0-A1F1-11B5B746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FFB79-FDA0-4E8F-8AC1-35024B27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7E98E-23CF-4CD3-ADCD-CD989CE41BB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89BB4-8274-4D64-820B-71F3B3F8C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FD864-1ECB-4812-951D-7325C1B9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E4FF-5F2E-49E5-B2D5-5F8993BFA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8B3D7-5FF7-4056-8DFA-A562B502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CFFE1-C07E-4A38-A6E8-F2E024FF9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846C1-8E9D-40D9-BF6B-46FA737E2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F7935-3E8C-43FB-B93B-26A41F14D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ECA0A-C8A3-46DB-95BC-9DFCEF70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20FE-774F-4B24-9287-18CF87C930E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三节  脱水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脱水的严重程度及临床特点：起病时间、体重下降程度、出入量、生命体征、皮肤弹性、眼窝凹陷及静脉充盈情况、有无意识障碍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病因及诱发因素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患者的影响  重点评估有无血容量不足及中枢神经功能受损的表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24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诊断、治疗和护理经过 </a:t>
            </a: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1" lang="en-US" sz="37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ransition>
    <p:wipe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液不足 与液体摄入不足或丢失过多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8179" r="0" b="9089"/>
          <a:stretch/>
        </p:blipFill>
        <p:spPr>
          <a:xfrm>
            <a:off x="3060720" y="4510080"/>
            <a:ext cx="2589120" cy="188424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基本概念；高渗性、低渗性和等渗性脱水的判断标准和临床主要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人体体液调节机制；说出引起脱水的常见病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应用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脱水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指体液丢失致使体液容量不足、细胞外液明显减少而引起的一组临床症候群，严重时会导致虚脱，甚至危及生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分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根据血钠浓度和血浆胶体渗透压的不同将脱水分为高渗性脱水、低渗性脱水和等渗性脱水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种类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 “原发性缺水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失水多于失钠，血清钠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50mmol/L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主要见于水摄入不足、水丢失过多：包括经胃肠道失水过多、经呼吸道和皮肤失水过多、经肾失水过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同时缺失，失钠多于失水，血清钠浓度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＜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低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肾失水失钠过多，如长期使用排钠利尿剂；高渗或等渗失水治疗过程中只注重补水而忽视补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病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水和钠成比例丢失，血清钠浓度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3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45mmol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血浆渗透压保持在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80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10mOsm/L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细胞外液呈等渗状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常见病因：消化液的急性丧失，如急性腹泻、剧烈呕吐，肠瘘等；大面积烧伤；反复大量放胸腔或腹腔积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2278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高渗性脱水：根据体重下降分为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度</a:t>
            </a:r>
            <a:endParaRPr b="1" lang="en-US" sz="38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395280" y="1917720"/>
          <a:ext cx="8280360" cy="4603680"/>
        </p:xfrm>
        <a:graphic>
          <a:graphicData uri="http://schemas.openxmlformats.org/drawingml/2006/table">
            <a:tbl>
              <a:tblPr/>
              <a:tblGrid>
                <a:gridCol w="1041480"/>
                <a:gridCol w="1485720"/>
                <a:gridCol w="5753160"/>
              </a:tblGrid>
              <a:tr h="117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分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体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临床表现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1224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轻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口渴、乏力、皮肤黏膜干燥、直立性低血压、尿量减少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1224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中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%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9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皮肤弹性下降、眼窝深陷、心悸、血压下降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noFill/>
                  </a:tcPr>
                </a:tc>
              </a:tr>
              <a:tr h="129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重度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＞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%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循环衰竭和中枢功能受损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: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少尿、血压↓、谵妄、嗜睡、昏迷</a:t>
                      </a:r>
                      <a:endParaRPr b="0" lang="en-US" sz="32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4bacc6"/>
                      </a:solidFill>
                    </a:lnL>
                    <a:lnR w="5760">
                      <a:solidFill>
                        <a:srgbClr val="4bacc6"/>
                      </a:solidFill>
                    </a:lnR>
                    <a:lnT w="5760">
                      <a:solidFill>
                        <a:srgbClr val="4bacc6"/>
                      </a:solidFill>
                    </a:lnT>
                    <a:lnB w="5760">
                      <a:solidFill>
                        <a:srgbClr val="4bacc6"/>
                      </a:solidFill>
                    </a:lnB>
                    <a:solidFill>
                      <a:srgbClr val="4bacc6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即有低钠血症表现如手足麻木、恶心、呕吐等，尿比重降低；血容量明显不足，出现脉搏细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重度低钠血症可导致脑细胞水肿而出现意识障碍；皮肤弹性明显下降、黏膜干燥、眼窝深陷等脱水貌较为明显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临床表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等渗性脱水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早期或轻症者无明显口渴感，血容量不足的临床表现出现较早；细胞外液容量严重减少时，可出现血压下降、现脉搏细速、肢端湿冷、休克甚至肾衰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rcRect l="0" t="0" r="-344" b="5704"/>
          <a:stretch/>
        </p:blipFill>
        <p:spPr>
          <a:xfrm>
            <a:off x="3924360" y="4437000"/>
            <a:ext cx="2103480" cy="1976400"/>
          </a:xfrm>
          <a:prstGeom prst="rect">
            <a:avLst/>
          </a:prstGeom>
          <a:ln w="0">
            <a:noFill/>
          </a:ln>
        </p:spPr>
      </p:pic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34:31Z</dcterms:modified>
  <cp:revision>77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