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D2A91-A85F-4677-953C-1073AB86C2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528FF91-44BC-41C9-9CE2-F3BC9F4987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3886B87-20F0-496D-9259-16A1360678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40967A0-58C6-4FBE-943F-2A388D5523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00C7BD8-420E-451C-96DD-EEAB13618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6B6288E-0772-4D00-94FB-61698955F9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4CE9EFA-1A6C-4912-A168-DE5D918641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594E53C-DE99-4807-BEB7-22F688F4C6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CB9F22C-79E5-4394-8473-2068E2287A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C210C8E-EFBD-4858-9424-4D9D19C8AF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7B70DB8-F859-400E-A2FE-7A62EF3030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8F406D9-3477-4837-A20A-7D27FF0F5B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E249B-8404-40C3-A966-4D7D9B064B6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899640" y="2205000"/>
            <a:ext cx="554364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六节 咳嗽与咳痰</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1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 </a:t>
            </a:r>
            <a:r>
              <a:rPr b="1" lang="zh-CN" sz="2000" spc="-1" strike="noStrike">
                <a:solidFill>
                  <a:srgbClr val="046ca6"/>
                </a:solidFill>
                <a:latin typeface="Verdana"/>
                <a:ea typeface="宋体"/>
              </a:rPr>
              <a:t>定义 咳嗽是呼吸道受到刺激后引发的紧跟在短暂吸气后的一种防御性反射动作，借以将呼吸道的异物或分泌物排出。咳痰指呼吸道内病理性分泌物借助咳嗽动作而排出体外的状态。</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包括呼吸系统疾病、胸膜疾病、心血管系统疾病、中枢神经系统疾病、其他疾病等。</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包括咳嗽的性质包括干性咳嗽与湿性咳嗽、持续时间、音色及其体位、睡眠的关系，痰液的性质、颜色、痰量、气味、黏稠度及咳痰与体位的关系等。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咳嗽与咳痰的特点、伴随症状、咳嗽与咳痰对患者的影响、有无咳嗽、咳痰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目 录</a:t>
            </a:r>
            <a:endParaRPr b="0" lang="en-US" sz="2800" spc="-1" strike="noStrike">
              <a:solidFill>
                <a:srgbClr val="ffffff"/>
              </a:solidFill>
              <a:latin typeface="Verdana"/>
            </a:endParaRPr>
          </a:p>
        </p:txBody>
      </p:sp>
      <p:sp>
        <p:nvSpPr>
          <p:cNvPr id="107" name="PlaceHolder 2"/>
          <p:cNvSpPr>
            <a:spLocks noGrp="1"/>
          </p:cNvSpPr>
          <p:nvPr>
            <p:ph/>
          </p:nvPr>
        </p:nvSpPr>
        <p:spPr>
          <a:xfrm>
            <a:off x="1547280" y="155700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习目标</a:t>
            </a:r>
            <a:endParaRPr b="0" lang="en-US" sz="2800" spc="-1" strike="noStrike">
              <a:solidFill>
                <a:srgbClr val="ffffff"/>
              </a:solidFill>
              <a:latin typeface="Verdana"/>
            </a:endParaRPr>
          </a:p>
        </p:txBody>
      </p:sp>
      <p:sp>
        <p:nvSpPr>
          <p:cNvPr id="109" name="PlaceHolder 2"/>
          <p:cNvSpPr>
            <a:spLocks noGrp="1"/>
          </p:cNvSpPr>
          <p:nvPr>
            <p:ph/>
          </p:nvPr>
        </p:nvSpPr>
        <p:spPr>
          <a:xfrm>
            <a:off x="0" y="1371240"/>
            <a:ext cx="9144000" cy="4876920"/>
          </a:xfrm>
          <a:prstGeom prst="rect">
            <a:avLst/>
          </a:prstGeom>
          <a:noFill/>
          <a:ln w="0">
            <a:noFill/>
          </a:ln>
        </p:spPr>
        <p:txBody>
          <a:bodyPr anchor="t">
            <a:normAutofit/>
          </a:bodyPr>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学习目标：</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识记：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正确阐述咳嗽与咳痰的病因</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正确说出咳嗽与咳痰的临床表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理解：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解释咳嗽与咳痰的发生机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运用：  </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1</a:t>
            </a:r>
            <a:r>
              <a:rPr b="1" lang="zh-CN" sz="2400" spc="-1" strike="noStrike">
                <a:solidFill>
                  <a:srgbClr val="046ca6"/>
                </a:solidFill>
                <a:latin typeface="Arial"/>
                <a:ea typeface="宋体"/>
              </a:rPr>
              <a:t>．运用本节所学知识，能针对咳嗽与咳痰的患者作出全面准确的护理评估</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根据护理评估，能正确作出护理诊断，并列出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95280" y="170028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嗽（</a:t>
            </a:r>
            <a:r>
              <a:rPr b="1" lang="en-US" sz="2800" spc="-1" strike="noStrike">
                <a:solidFill>
                  <a:srgbClr val="046ca6"/>
                </a:solidFill>
                <a:latin typeface="Verdana"/>
                <a:ea typeface="宋体"/>
              </a:rPr>
              <a:t>cough</a:t>
            </a:r>
            <a:r>
              <a:rPr b="1" lang="zh-CN" sz="2800" spc="-1" strike="noStrike">
                <a:solidFill>
                  <a:srgbClr val="046ca6"/>
                </a:solidFill>
                <a:latin typeface="Verdana"/>
                <a:ea typeface="宋体"/>
              </a:rPr>
              <a:t>）是呼吸道受到刺激后引发的紧跟在短暂吸气后的一种防御性反射动作，借以将呼吸道的异物或分泌物排出。</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咳痰（</a:t>
            </a:r>
            <a:r>
              <a:rPr b="1" lang="en-US" sz="2800" spc="-1" strike="noStrike">
                <a:solidFill>
                  <a:srgbClr val="046ca6"/>
                </a:solidFill>
                <a:latin typeface="Verdana"/>
                <a:ea typeface="宋体"/>
              </a:rPr>
              <a:t>expectoration</a:t>
            </a:r>
            <a:r>
              <a:rPr b="1" lang="zh-CN" sz="2800" spc="-1" strike="noStrike">
                <a:solidFill>
                  <a:srgbClr val="046ca6"/>
                </a:solidFill>
                <a:latin typeface="Verdana"/>
                <a:ea typeface="宋体"/>
              </a:rPr>
              <a:t>）指呼吸道内病理性分泌物借助咳嗽动作而排出体外的状态。 </a:t>
            </a:r>
            <a:endParaRPr b="1" lang="en-US" sz="2800" spc="-1" strike="noStrike">
              <a:solidFill>
                <a:srgbClr val="8ac8de"/>
              </a:solidFill>
              <a:latin typeface="Verdana"/>
            </a:endParaRPr>
          </a:p>
        </p:txBody>
      </p:sp>
      <p:sp>
        <p:nvSpPr>
          <p:cNvPr id="111" name="Rectangle 2"/>
          <p:cNvSpPr/>
          <p:nvPr/>
        </p:nvSpPr>
        <p:spPr>
          <a:xfrm>
            <a:off x="82692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68000" y="1557000"/>
            <a:ext cx="8351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咳嗽是由延髓咳嗽中枢受刺激引起。</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正常人每天有少量痰液产生，通过呼吸道黏液</a:t>
            </a:r>
            <a:r>
              <a:rPr b="1" lang="en-US" sz="2400" spc="-1" strike="noStrike">
                <a:solidFill>
                  <a:srgbClr val="046ca6"/>
                </a:solidFill>
                <a:latin typeface="Verdana"/>
                <a:ea typeface="宋体"/>
              </a:rPr>
              <a:t>-</a:t>
            </a:r>
            <a:r>
              <a:rPr b="1" lang="zh-CN" sz="2400" spc="-1" strike="noStrike">
                <a:solidFill>
                  <a:srgbClr val="046ca6"/>
                </a:solidFill>
                <a:latin typeface="Verdana"/>
                <a:ea typeface="宋体"/>
              </a:rPr>
              <a:t>纤毛转运机制从下呼吸道向咽部运送，于不自觉中咽下，所以并不觉痰的存在。在炎症、感染等病理情况下，痰量增多，借咳嗽动作排出口腔外时方觉咳痰。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1258560" y="1557000"/>
            <a:ext cx="648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呼吸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胸膜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心血管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中枢神经系统疾病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其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395280" y="1413000"/>
            <a:ext cx="8610480" cy="487656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咳嗽的性质 ：干性咳嗽；湿性咳嗽</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咳嗽出现的时间 ：急性咳嗽；慢性咳嗽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咳嗽的音色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4</a:t>
            </a:r>
            <a:r>
              <a:rPr b="1" lang="zh-CN" sz="2400" spc="-1" strike="noStrike">
                <a:solidFill>
                  <a:srgbClr val="046ca6"/>
                </a:solidFill>
                <a:latin typeface="Verdana"/>
                <a:ea typeface="宋体"/>
              </a:rPr>
              <a:t>．痰的性状、颜色、量、气味</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无色透明痰见于急性支气管炎、支气管哮喘；白色黏稠痰，见于慢性支气管炎、支气管哮喘；黄色或黄绿色痰见于大量脓细胞；铁锈色或褐色痰见于肺炎球菌肺炎或肺梗死；红色或粉红色痰含血液见于支气管肺癌、肺结核、肺淤血；浆液性或浆液血性泡沫样痰见于急性肺水肿；绿色痰见于铜绿假单胞菌感染；黑色痰见于大量灰尘、尘肺。</a:t>
            </a:r>
            <a:r>
              <a:rPr b="1" lang="zh-CN" sz="2400" spc="-1" strike="noStrike">
                <a:solidFill>
                  <a:srgbClr val="8ac8de"/>
                </a:solidFill>
                <a:latin typeface="Verdana"/>
                <a:ea typeface="宋体"/>
              </a:rPr>
              <a:t> </a:t>
            </a:r>
            <a:r>
              <a:rPr b="1" lang="zh-CN" sz="2400" spc="-1" strike="noStrike">
                <a:solidFill>
                  <a:srgbClr val="046ca6"/>
                </a:solidFill>
                <a:latin typeface="Verdana"/>
                <a:ea typeface="宋体"/>
              </a:rPr>
              <a:t> </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5</a:t>
            </a:r>
            <a:r>
              <a:rPr b="1" lang="zh-CN" sz="2400" spc="-1" strike="noStrike">
                <a:solidFill>
                  <a:srgbClr val="046ca6"/>
                </a:solidFill>
                <a:latin typeface="Verdana"/>
                <a:ea typeface="宋体"/>
              </a:rPr>
              <a:t>．咳嗽与体位的关系</a:t>
            </a:r>
            <a:r>
              <a:rPr b="1" lang="zh-CN" sz="2400" spc="-1" strike="noStrike">
                <a:solidFill>
                  <a:srgbClr val="8ac8de"/>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咳嗽与咳痰的特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咳嗽与咳痰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咳嗽、咳痰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清理呼吸道无效 与痰液黏稠或咳嗽无力或不能进行有效的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活动无耐力 与长期频繁咳嗽或机体组织缺氧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睡眠型态紊乱 睡眠剥夺，与夜间频繁咳嗽有关</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知识缺乏：缺乏对疾病发作的预防及吸烟有害健康方面的知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潜在并发症：自发性气胸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41:14Z</dcterms:modified>
  <cp:revision>223</cp:revision>
  <dc:subject/>
  <dc:title>内科护理学</dc:title>
</cp:coreProperties>
</file>