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_rels/notesSlide3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140E-181C-4F0A-8AE3-B7DE370B8C7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AE999-8561-4871-B3C6-7712C002C99F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A217-C40B-4565-BA6A-72EA50E19094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BD805-5FEE-4470-AF4A-F9D22EB6AA1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55B16-8212-474F-81E6-F294FA388E9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F55A-987E-48FD-B290-BEE2EF640D9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E1AC-D73C-4D43-8603-A283FD7F814D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46D43-5FEA-47F2-97E5-F7777E0B0992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3A6C2-E3B7-45D3-9350-B9663013F02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FF12-A825-44CB-A49F-CB2A80C0269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0C55D-3BA4-4842-A152-2EEBF8A37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B89D0-CA15-4B39-9AC6-8C1E3878C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71D89-0EA1-4586-963F-87E7E785C4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393C4-8164-44EC-91C9-099D6E5B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26FD4-F943-4B96-BE03-90F709FB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2430-8FEE-449A-94DA-BA38A3499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F29AB-E942-4FDA-BDF1-C867EE7BC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A8471-0B1A-4773-9972-8E2E43151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BA52E-BE7B-4833-A24C-B57B38B9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AB096-F9D7-4D80-9A94-DD30F372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32DA-4F11-4DB3-95D3-38A468301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2F3AC-863F-4A35-BD7E-50DB3E61F0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46ca6"/>
                  </a:solidFill>
                  <a:latin typeface="Tahom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79280" y="26366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六节  黄 疸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92000" y="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经典繁行书"/>
                <a:ea typeface="黑体"/>
              </a:rPr>
              <a:t>溶血性黄疸</a:t>
            </a:r>
            <a:r>
              <a:rPr b="1" lang="zh-CN" sz="2000" spc="-1" strike="noStrike">
                <a:solidFill>
                  <a:srgbClr val="ffffff"/>
                </a:solidFill>
                <a:latin typeface="Verdana"/>
                <a:ea typeface="黑体"/>
              </a:rPr>
              <a:t>病因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先天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0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膜缺陷（遗传性球形红细胞增多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红细胞酶缺乏（葡萄糖</a:t>
            </a:r>
            <a:r>
              <a:rPr b="0" lang="en-US" sz="2000" spc="-1" strike="noStrike">
                <a:solidFill>
                  <a:srgbClr val="046ca6"/>
                </a:solidFill>
                <a:latin typeface="黑体"/>
                <a:ea typeface="黑体"/>
              </a:rPr>
              <a:t>-6-</a:t>
            </a:r>
            <a:r>
              <a:rPr b="0" lang="zh-CN" sz="2000" spc="-1" strike="noStrike">
                <a:solidFill>
                  <a:srgbClr val="046ca6"/>
                </a:solidFill>
                <a:latin typeface="黑体"/>
                <a:ea typeface="黑体"/>
              </a:rPr>
              <a:t>磷酸脱氢酶缺乏症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1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获得性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自身免疫性贫血、异型输血后溶血、新生儿溶血症、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黑体"/>
              </a:rPr>
              <a:t>恶性疟疾、药物或毒物（如蛇毒）引起的溶血等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4" name="Picture 2" descr="遗传性球形细胞增多症"/>
          <p:cNvPicPr/>
          <p:nvPr/>
        </p:nvPicPr>
        <p:blipFill>
          <a:blip r:embed="rId1"/>
          <a:stretch/>
        </p:blipFill>
        <p:spPr>
          <a:xfrm>
            <a:off x="1476360" y="119700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877080" y="1412640"/>
            <a:ext cx="504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8ac8de"/>
                </a:solidFill>
                <a:latin typeface="Verdana"/>
                <a:ea typeface="黑体"/>
              </a:rPr>
              <a:t>遗传性球形红细胞增多症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77" name="Picture 2" descr="蚕豆"/>
          <p:cNvPicPr/>
          <p:nvPr/>
        </p:nvPicPr>
        <p:blipFill>
          <a:blip r:embed="rId1"/>
          <a:stretch/>
        </p:blipFill>
        <p:spPr>
          <a:xfrm>
            <a:off x="5219640" y="3789360"/>
            <a:ext cx="2881440" cy="19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蚕豆病"/>
          <p:cNvPicPr/>
          <p:nvPr/>
        </p:nvPicPr>
        <p:blipFill>
          <a:blip r:embed="rId2"/>
          <a:stretch/>
        </p:blipFill>
        <p:spPr>
          <a:xfrm>
            <a:off x="1763640" y="1557360"/>
            <a:ext cx="2833920" cy="429264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1640" y="1628640"/>
            <a:ext cx="43210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蚕豆病（葡萄糖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-6-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磷酸脱氢酶缺乏症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84" name="Picture 3" descr="溶血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2"/>
          <p:cNvSpPr/>
          <p:nvPr/>
        </p:nvSpPr>
        <p:spPr>
          <a:xfrm>
            <a:off x="2411280" y="6164640"/>
            <a:ext cx="396108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溶血性黄疸发生机制示意图</a:t>
            </a:r>
            <a:br>
              <a:rPr sz="2400"/>
            </a:b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859280" y="1989000"/>
            <a:ext cx="72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7" name="WordArt 5"/>
          <p:cNvSpPr txBox="1"/>
          <p:nvPr/>
        </p:nvSpPr>
        <p:spPr>
          <a:xfrm>
            <a:off x="4427640" y="2133720"/>
            <a:ext cx="10666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1" strike="noStrike">
                <a:ln cap="sq" w="19080">
                  <a:solidFill>
                    <a:srgbClr val="046ca6"/>
                  </a:solidFill>
                  <a:miter/>
                </a:ln>
                <a:solidFill>
                  <a:srgbClr val="046ca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大量破坏</a:t>
            </a:r>
            <a:endParaRPr b="1" lang="en-US" sz="2000" spc="1" strike="noStrike">
              <a:ln cap="sq" w="19080">
                <a:solidFill>
                  <a:srgbClr val="046ca6"/>
                </a:solidFill>
                <a:miter/>
              </a:ln>
              <a:solidFill>
                <a:srgbClr val="046ca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8" name="AutoShape 6"/>
          <p:cNvSpPr/>
          <p:nvPr/>
        </p:nvSpPr>
        <p:spPr>
          <a:xfrm>
            <a:off x="179280" y="4149720"/>
            <a:ext cx="2089080" cy="1943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粪胆原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89" name="Line 10"/>
          <p:cNvSpPr/>
          <p:nvPr/>
        </p:nvSpPr>
        <p:spPr>
          <a:xfrm flipV="1">
            <a:off x="2556000" y="234936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0" name="Line 11"/>
          <p:cNvSpPr/>
          <p:nvPr/>
        </p:nvSpPr>
        <p:spPr>
          <a:xfrm flipV="1">
            <a:off x="485928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1" name="Line 12"/>
          <p:cNvSpPr/>
          <p:nvPr/>
        </p:nvSpPr>
        <p:spPr>
          <a:xfrm flipV="1">
            <a:off x="5364000" y="54468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2" name="Line 14"/>
          <p:cNvSpPr/>
          <p:nvPr/>
        </p:nvSpPr>
        <p:spPr>
          <a:xfrm flipV="1">
            <a:off x="7740720" y="3645000"/>
            <a:ext cx="0" cy="503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3" name="AutoShape 15"/>
          <p:cNvSpPr/>
          <p:nvPr/>
        </p:nvSpPr>
        <p:spPr>
          <a:xfrm>
            <a:off x="7308720" y="836640"/>
            <a:ext cx="1440000" cy="86508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zh-CN" sz="18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8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animClr clrSpc="rgb">
                                      <p:cBhvr>
                                        <p:cTn id="79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46ca6"/>
                                      </p:to>
                                    </p:animClr>
                                    <p:set>
                                      <p:cBhvr>
                                        <p:cTn id="80" dur="475" fill="hold">
                                          <p:stCondLst>
                                            <p:cond delay="25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81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82" dur="50" fill="hold">
                                          <p:stCondLst>
                                            <p:cond delay="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83" dur="150" fill="hold">
                                          <p:stCondLst>
                                            <p:cond delay="3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8775720" cy="494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溶血性黄疸：黄疸较轻，皮肤呈浅柠檬色，不伴皮肤瘙痒，粪便颜色加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急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高热、寒战、头痛、腰背痛、血红蛋白尿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慢性溶血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贫血、黄疸、脾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加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非结合胆红素增高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结合胆红素正常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尿结合胆红素（</a:t>
            </a:r>
            <a:r>
              <a:rPr b="0" lang="en-US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-</a:t>
            </a:r>
            <a:r>
              <a:rPr b="0" lang="zh-CN" sz="2400" spc="-1" strike="noStrike">
                <a:solidFill>
                  <a:srgbClr val="cc00cc"/>
                </a:solidFill>
                <a:latin typeface="楷体_GB2312"/>
                <a:ea typeface="楷体_GB2312"/>
              </a:rPr>
              <a:t>），粪胆原增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3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4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肝细胞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50920" y="2017800"/>
            <a:ext cx="870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最常见病因：病毒性肝炎（甲、乙、丙、丁、戊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他肝炎：酒精肝、药物肝、脂肪肝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硬化、肝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黄疸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黄疸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正常胆红素代谢的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举例说明不同类型黄疸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不同类型黄疸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黄疸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黄疸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16" name="Picture 3" descr="肝细胞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7" name="Rectangle 2"/>
          <p:cNvSpPr/>
          <p:nvPr/>
        </p:nvSpPr>
        <p:spPr>
          <a:xfrm>
            <a:off x="2627280" y="616464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肝细胞性黄疸发生机制示意图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8" name="AutoShape 4"/>
          <p:cNvSpPr/>
          <p:nvPr/>
        </p:nvSpPr>
        <p:spPr>
          <a:xfrm>
            <a:off x="395280" y="4365720"/>
            <a:ext cx="1655640" cy="115092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19" name="AutoShape 5"/>
          <p:cNvSpPr/>
          <p:nvPr/>
        </p:nvSpPr>
        <p:spPr>
          <a:xfrm>
            <a:off x="7236000" y="549360"/>
            <a:ext cx="1728720" cy="115236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尿胆红素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</a:rPr>
              <a:t>+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2987640" y="4076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ccff33"/>
                </a:solidFill>
                <a:latin typeface="Arial"/>
              </a:rPr>
              <a:t>肝受损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1" name="Line 7"/>
          <p:cNvSpPr/>
          <p:nvPr/>
        </p:nvSpPr>
        <p:spPr>
          <a:xfrm flipV="1">
            <a:off x="2627280" y="191628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2" name="Line 8"/>
          <p:cNvSpPr/>
          <p:nvPr/>
        </p:nvSpPr>
        <p:spPr>
          <a:xfrm flipV="1">
            <a:off x="8893080" y="3357720"/>
            <a:ext cx="0" cy="576000"/>
          </a:xfrm>
          <a:prstGeom prst="line">
            <a:avLst/>
          </a:prstGeom>
          <a:ln w="57240">
            <a:solidFill>
              <a:srgbClr val="ddb52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500" fill="hold"/>
                                        <p:tgtEl>
                                          <p:spTgt spid="2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小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5" name="Picture 4" descr="e1fe9925bc315c607bc819cc8db1cb1348540923dd54578f"/>
          <p:cNvPicPr/>
          <p:nvPr/>
        </p:nvPicPr>
        <p:blipFill>
          <a:blip r:embed="rId1"/>
          <a:stretch/>
        </p:blipFill>
        <p:spPr>
          <a:xfrm>
            <a:off x="539640" y="1628640"/>
            <a:ext cx="7505640" cy="49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肝细胞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细胞性黄疸：皮肤、黏膜浅黄至深黄不等，可伴有乏力、恶心、呕吐、食欲减退、腹胀、肝区胀痛及其他原发病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非结合胆红素、结合胆红素均增加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Verdana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6" name="Rectangle 5"/>
          <p:cNvSpPr/>
          <p:nvPr/>
        </p:nvSpPr>
        <p:spPr>
          <a:xfrm>
            <a:off x="126072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74360" y="31680"/>
            <a:ext cx="7451640" cy="14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经典繁行书"/>
              </a:rPr>
              <a:t>胆汁淤积性黄疸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病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AutoShape 3"/>
          <p:cNvSpPr/>
          <p:nvPr/>
        </p:nvSpPr>
        <p:spPr>
          <a:xfrm>
            <a:off x="250920" y="2349360"/>
            <a:ext cx="1873080" cy="1224000"/>
          </a:xfrm>
          <a:prstGeom prst="rightArrow">
            <a:avLst>
              <a:gd name="adj1" fmla="val 50000"/>
              <a:gd name="adj2" fmla="val 38257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046ca6"/>
                </a:solidFill>
                <a:latin typeface="Tahoma"/>
                <a:ea typeface="黑体"/>
              </a:rPr>
              <a:t>内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4" name="AutoShape 4"/>
          <p:cNvSpPr/>
          <p:nvPr/>
        </p:nvSpPr>
        <p:spPr>
          <a:xfrm>
            <a:off x="2124000" y="2205000"/>
            <a:ext cx="6553440" cy="14400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胆汁淤积性肝炎，原发性胆汁型肝硬化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  <a:ea typeface="黑体"/>
              </a:rPr>
              <a:t>、肝内泥沙样结石、寄生虫和癌栓等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5" name="AutoShape 5"/>
          <p:cNvSpPr/>
          <p:nvPr/>
        </p:nvSpPr>
        <p:spPr>
          <a:xfrm>
            <a:off x="324000" y="4508640"/>
            <a:ext cx="1871640" cy="1152360"/>
          </a:xfrm>
          <a:prstGeom prst="rightArrow">
            <a:avLst>
              <a:gd name="adj1" fmla="val 50000"/>
              <a:gd name="adj2" fmla="val 40604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ahoma"/>
                <a:ea typeface="黑体"/>
              </a:rPr>
              <a:t>肝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  <a:ea typeface="黑体"/>
              </a:rPr>
              <a:t>外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6" name="AutoShape 6"/>
          <p:cNvSpPr/>
          <p:nvPr/>
        </p:nvSpPr>
        <p:spPr>
          <a:xfrm>
            <a:off x="2195640" y="4365720"/>
            <a:ext cx="640872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1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胆总管结石、蛔虫、炎症、癌肿等；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ahoma"/>
                <a:ea typeface="黑体"/>
              </a:rPr>
              <a:t>2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  <a:ea typeface="黑体"/>
              </a:rPr>
              <a:t>、壶腹周围癌、胰头癌、肝癌等压迫胆管。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1403280" y="3789360"/>
            <a:ext cx="1513080" cy="576360"/>
          </a:xfrm>
          <a:prstGeom prst="wedgeRoundRectCallout">
            <a:avLst>
              <a:gd name="adj1" fmla="val -40240"/>
              <a:gd name="adj2" fmla="val 100138"/>
              <a:gd name="adj3" fmla="val 16667"/>
            </a:avLst>
          </a:prstGeom>
          <a:solidFill>
            <a:srgbClr val="99cc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外科黄疸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汁淤积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252" name="Picture 3" descr="梗阻性黄疸发生机制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"/>
          <p:cNvSpPr/>
          <p:nvPr/>
        </p:nvSpPr>
        <p:spPr>
          <a:xfrm>
            <a:off x="2627280" y="6312240"/>
            <a:ext cx="3960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梗阻性黄疸发生机制示意图</a:t>
            </a:r>
            <a:br>
              <a:rPr sz="20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5076720" y="422100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69696"/>
                </a:solidFill>
                <a:latin typeface="Arial"/>
                <a:ea typeface="隶书"/>
              </a:rPr>
              <a:t>胆道梗阻</a:t>
            </a:r>
            <a:endParaRPr b="1" lang="en-US" sz="16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5" name="AutoShape 5"/>
          <p:cNvSpPr/>
          <p:nvPr/>
        </p:nvSpPr>
        <p:spPr>
          <a:xfrm>
            <a:off x="7308720" y="333360"/>
            <a:ext cx="1835280" cy="1224000"/>
          </a:xfrm>
          <a:prstGeom prst="roundRect">
            <a:avLst>
              <a:gd name="adj" fmla="val 16667"/>
            </a:avLst>
          </a:prstGeom>
          <a:solidFill>
            <a:srgbClr val="ffff00">
              <a:alpha val="93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原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或消失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尿胆红素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6" name="AutoShape 6"/>
          <p:cNvSpPr/>
          <p:nvPr/>
        </p:nvSpPr>
        <p:spPr>
          <a:xfrm>
            <a:off x="611280" y="4581360"/>
            <a:ext cx="1655640" cy="1151280"/>
          </a:xfrm>
          <a:prstGeom prst="flowChartAlternateProcess">
            <a:avLst/>
          </a:prstGeom>
          <a:solidFill>
            <a:srgbClr val="ff0000">
              <a:alpha val="94000"/>
            </a:srgbClr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CB     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Arial"/>
              </a:rPr>
              <a:t>UCB      </a:t>
            </a:r>
            <a:r>
              <a:rPr b="1" lang="zh-CN" sz="1800" spc="-1" strike="noStrike">
                <a:solidFill>
                  <a:srgbClr val="046ca6"/>
                </a:solidFill>
                <a:latin typeface="Arial"/>
              </a:rPr>
              <a:t>正常</a:t>
            </a: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4" dur="500" fill="hold"/>
                                        <p:tgtEl>
                                          <p:spTgt spid="2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81882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思考：患者出现了什么</a:t>
            </a:r>
            <a:r>
              <a:rPr b="1" lang="zh-CN" sz="3600" spc="-1" strike="noStrike">
                <a:solidFill>
                  <a:srgbClr val="ddb523"/>
                </a:solidFill>
                <a:latin typeface="Verdana"/>
              </a:rPr>
              <a:t>症状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7" name="Picture 4" descr="黄疸"/>
          <p:cNvPicPr/>
          <p:nvPr/>
        </p:nvPicPr>
        <p:blipFill>
          <a:blip r:embed="rId1"/>
          <a:stretch/>
        </p:blipFill>
        <p:spPr>
          <a:xfrm>
            <a:off x="0" y="1557360"/>
            <a:ext cx="4788000" cy="50846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皮肤黄疸314"/>
          <p:cNvPicPr/>
          <p:nvPr/>
        </p:nvPicPr>
        <p:blipFill>
          <a:blip r:embed="rId2"/>
          <a:stretch/>
        </p:blipFill>
        <p:spPr>
          <a:xfrm>
            <a:off x="4859280" y="1557360"/>
            <a:ext cx="4211640" cy="50133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/>
          </p:nvPr>
        </p:nvSpPr>
        <p:spPr>
          <a:xfrm>
            <a:off x="0" y="1628280"/>
            <a:ext cx="8964720" cy="443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胆汁淤积性黄疸：黄疸程度较重，皮肤呈暗黄色，完全梗阻者可呈黄绿色，甚至绿褐色，并伴有皮肤瘙痒、尿色深、粪便颜色变浅或呈白陶土色。腹泻、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实验室检查：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总胆红素增高，结合胆红素增高为主，尿结合胆红素（</a:t>
            </a:r>
            <a:r>
              <a:rPr b="1" lang="en-US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+</a:t>
            </a:r>
            <a:r>
              <a:rPr b="1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），尿胆原粪胆素减少或缺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1" name="Text Box 2"/>
          <p:cNvSpPr/>
          <p:nvPr/>
        </p:nvSpPr>
        <p:spPr>
          <a:xfrm>
            <a:off x="3059280" y="344520"/>
            <a:ext cx="590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附录：三种黄疸实验室检查的区别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2" name="Line 3"/>
          <p:cNvSpPr/>
          <p:nvPr/>
        </p:nvSpPr>
        <p:spPr>
          <a:xfrm>
            <a:off x="453960" y="162864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608040" y="1773360"/>
            <a:ext cx="82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项目                  溶血性                肝细胞性               胆汁淤积性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TB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UCB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正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CB/TB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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0%                   20%~60%                     </a:t>
            </a:r>
            <a:r>
              <a:rPr b="1" lang="en-US" sz="2400" spc="-1" strike="noStrike">
                <a:solidFill>
                  <a:srgbClr val="046ca6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60%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红素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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尿胆原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  轻度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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                      </a:t>
            </a:r>
            <a:r>
              <a:rPr b="1" lang="zh-CN" sz="2400" spc="-1" strike="noStrike">
                <a:solidFill>
                  <a:srgbClr val="046ca6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或消失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685800" y="6843600"/>
            <a:ext cx="845820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30280" y="2205000"/>
            <a:ext cx="8305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6" name="Line 8"/>
          <p:cNvSpPr/>
          <p:nvPr/>
        </p:nvSpPr>
        <p:spPr>
          <a:xfrm>
            <a:off x="392040" y="4510080"/>
            <a:ext cx="8382240" cy="0"/>
          </a:xfrm>
          <a:prstGeom prst="line">
            <a:avLst/>
          </a:prstGeom>
          <a:ln cap="sq"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诊断要点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-360" y="2017800"/>
            <a:ext cx="895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确定有无黄疸：通过看皮肤、黏膜与巩膜有无黄染、程度和分布范围。注意与假性黄疸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黄疸的程度：粪、尿颜色、皮肤色泽及深浅、是否伴有瘙痒及其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对功能性健康型态的影响：皮肤、形象、睡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睡眠型态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体象紊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舒适度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353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患者，男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岁。粪便呈现灰白色，伴身黄、尿黄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天入院。入院前曾疑为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毒性肝炎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某院住院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7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分析：该病考虑哪一型黄疸？ 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答：梗阻性黄疸。</a:t>
            </a:r>
            <a:br>
              <a:rPr sz="2800"/>
            </a:br>
            <a:r>
              <a:rPr b="0" lang="zh-CN" sz="2800" spc="-1" strike="noStrike">
                <a:solidFill>
                  <a:srgbClr val="969696"/>
                </a:solidFill>
                <a:latin typeface="黑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270000" y="1628640"/>
            <a:ext cx="8748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男性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5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患者于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2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天前开始发热达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38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感全身不适、乏力、食欲减退、恶心、右上腹部不适，偶尔呕吐，曾按上感和胃病治疗无好转。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周前皮肤出现黄染，尿色较黄，无皮肤搔痒，排便正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既往体健。</a:t>
            </a:r>
            <a:br>
              <a:rPr sz="2400"/>
            </a:b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8" name="Rectangle 3"/>
          <p:cNvSpPr/>
          <p:nvPr/>
        </p:nvSpPr>
        <p:spPr>
          <a:xfrm>
            <a:off x="1116000" y="260280"/>
            <a:ext cx="705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隶书"/>
              </a:rPr>
              <a:t>病例：</a:t>
            </a:r>
            <a:endParaRPr b="1" lang="en-US" sz="32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539280" y="2033280"/>
            <a:ext cx="8209080" cy="37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查体：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T 37.5℃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P 8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R 20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次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/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分，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BP 120/75mmHg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皮肤略黄，巩膜黄染，心肺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腹平软，肝肋下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2cm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质软，轻压痛和叩击痛，脾侧位刚及，腹水征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下肢不肿。　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化验：血常规正常；尿常规：尿胆红素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， 尿胆原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+)</a:t>
            </a:r>
            <a:r>
              <a:rPr b="0" lang="zh-CN" sz="2400" spc="-1" strike="noStrike">
                <a:solidFill>
                  <a:srgbClr val="8ac8de"/>
                </a:solidFill>
                <a:latin typeface="黑体"/>
                <a:ea typeface="黑体"/>
              </a:rPr>
              <a:t>；粪便常规：颜色加深， 隐血</a:t>
            </a:r>
            <a:r>
              <a:rPr b="0" lang="en-US" sz="2400" spc="-1" strike="noStrike">
                <a:solidFill>
                  <a:srgbClr val="8ac8de"/>
                </a:solidFill>
                <a:latin typeface="黑体"/>
                <a:ea typeface="黑体"/>
              </a:rPr>
              <a:t>(-).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分析：该病考虑哪一型黄疸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69696"/>
                </a:solidFill>
                <a:latin typeface="Verdana"/>
              </a:rPr>
              <a:t>答：肝细胞性黄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一、概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8000" y="1628640"/>
            <a:ext cx="9036000" cy="484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黄疸是由于</a:t>
            </a:r>
            <a:r>
              <a:rPr b="0" i="1" lang="zh-CN" sz="2400" spc="-1" strike="noStrike" u="sng">
                <a:solidFill>
                  <a:srgbClr val="ddb523"/>
                </a:solidFill>
                <a:uFillTx/>
                <a:latin typeface="宋体"/>
              </a:rPr>
              <a:t>血清中</a:t>
            </a:r>
            <a:r>
              <a:rPr b="0" i="1" lang="zh-CN" sz="2400" spc="-1" strike="noStrike">
                <a:solidFill>
                  <a:srgbClr val="ddb523"/>
                </a:solidFill>
                <a:latin typeface="宋体"/>
              </a:rPr>
              <a:t>胆红素升高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致使</a:t>
            </a:r>
            <a:r>
              <a:rPr b="0" i="1" lang="zh-CN" sz="2400" spc="-1" strike="noStrike">
                <a:solidFill>
                  <a:srgbClr val="cc00cc"/>
                </a:solidFill>
                <a:latin typeface="宋体"/>
              </a:rPr>
              <a:t>皮肤、黏膜和巩膜发黄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症状和体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血清总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T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   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=2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+80%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非结合胆红素（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8ac8de"/>
                </a:solidFill>
                <a:latin typeface="宋体"/>
              </a:rPr>
              <a:t>UCB</a:t>
            </a:r>
            <a:r>
              <a:rPr b="0" lang="zh-CN" sz="2400" spc="-1" strike="noStrike">
                <a:solidFill>
                  <a:srgbClr val="8ac8de"/>
                </a:solidFill>
                <a:latin typeface="宋体"/>
              </a:rPr>
              <a:t>的特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22" name="Group 30"/>
          <p:cNvGrpSpPr/>
          <p:nvPr/>
        </p:nvGrpSpPr>
        <p:grpSpPr>
          <a:xfrm>
            <a:off x="-541440" y="4292640"/>
            <a:ext cx="10188720" cy="2443680"/>
            <a:chOff x="-541440" y="4292640"/>
            <a:chExt cx="10188720" cy="2443680"/>
          </a:xfrm>
        </p:grpSpPr>
        <p:grpSp>
          <p:nvGrpSpPr>
            <p:cNvPr id="123" name="Group 7"/>
            <p:cNvGrpSpPr/>
            <p:nvPr/>
          </p:nvGrpSpPr>
          <p:grpSpPr>
            <a:xfrm>
              <a:off x="-541440" y="4446360"/>
              <a:ext cx="9072360" cy="2289960"/>
              <a:chOff x="-541440" y="4446360"/>
              <a:chExt cx="9072360" cy="2289960"/>
            </a:xfrm>
          </p:grpSpPr>
          <p:grpSp>
            <p:nvGrpSpPr>
              <p:cNvPr id="124" name="Group 8"/>
              <p:cNvGrpSpPr/>
              <p:nvPr/>
            </p:nvGrpSpPr>
            <p:grpSpPr>
              <a:xfrm>
                <a:off x="6248880" y="5433480"/>
                <a:ext cx="1312920" cy="842400"/>
                <a:chOff x="6248880" y="5433480"/>
                <a:chExt cx="1312920" cy="842400"/>
              </a:xfrm>
            </p:grpSpPr>
            <p:sp>
              <p:nvSpPr>
                <p:cNvPr id="125" name="Rectangle 9"/>
                <p:cNvSpPr/>
                <p:nvPr/>
              </p:nvSpPr>
              <p:spPr>
                <a:xfrm>
                  <a:off x="6248880" y="5755320"/>
                  <a:ext cx="1312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800" spc="-1" strike="noStrike">
                      <a:solidFill>
                        <a:srgbClr val="cc3300"/>
                      </a:solidFill>
                      <a:latin typeface="Times New Roman"/>
                      <a:ea typeface="黑体"/>
                    </a:rPr>
                    <a:t>黄疸</a:t>
                  </a:r>
                  <a:endParaRPr b="1" lang="en-US" sz="2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"/>
                <p:cNvSpPr/>
                <p:nvPr/>
              </p:nvSpPr>
              <p:spPr>
                <a:xfrm>
                  <a:off x="6937920" y="5433480"/>
                  <a:ext cx="0" cy="401760"/>
                </a:xfrm>
                <a:prstGeom prst="line">
                  <a:avLst/>
                </a:prstGeom>
                <a:ln w="3492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1800" spc="-1" strike="noStrike">
                    <a:solidFill>
                      <a:srgbClr val="046ca6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" name="Group 11"/>
              <p:cNvGrpSpPr/>
              <p:nvPr/>
            </p:nvGrpSpPr>
            <p:grpSpPr>
              <a:xfrm>
                <a:off x="-541440" y="4446360"/>
                <a:ext cx="9072360" cy="2289960"/>
                <a:chOff x="-541440" y="4446360"/>
                <a:chExt cx="9072360" cy="2289960"/>
              </a:xfrm>
            </p:grpSpPr>
            <p:grpSp>
              <p:nvGrpSpPr>
                <p:cNvPr id="128" name="Group 12"/>
                <p:cNvGrpSpPr/>
                <p:nvPr/>
              </p:nvGrpSpPr>
              <p:grpSpPr>
                <a:xfrm>
                  <a:off x="577440" y="5473440"/>
                  <a:ext cx="1839960" cy="1262880"/>
                  <a:chOff x="577440" y="5473440"/>
                  <a:chExt cx="1839960" cy="1262880"/>
                </a:xfrm>
              </p:grpSpPr>
              <p:sp>
                <p:nvSpPr>
                  <p:cNvPr id="129" name="Rectangle 13"/>
                  <p:cNvSpPr/>
                  <p:nvPr/>
                </p:nvSpPr>
                <p:spPr>
                  <a:xfrm>
                    <a:off x="577440" y="5789160"/>
                    <a:ext cx="1839960" cy="947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600" spc="-1" strike="noStrike">
                        <a:solidFill>
                          <a:srgbClr val="046ca6"/>
                        </a:solidFill>
                        <a:latin typeface="黑体"/>
                        <a:ea typeface="黑体"/>
                      </a:rPr>
                      <a:t>   </a:t>
                    </a:r>
                    <a:r>
                      <a:rPr b="1" lang="zh-CN" sz="26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  </a:t>
                    </a: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黑体"/>
                        <a:ea typeface="黑体"/>
                      </a:rPr>
                      <a:t>正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0" name="Line 14"/>
                  <p:cNvSpPr/>
                  <p:nvPr/>
                </p:nvSpPr>
                <p:spPr>
                  <a:xfrm flipH="1">
                    <a:off x="1929960" y="5473440"/>
                    <a:ext cx="21600" cy="40284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1" name="Group 15"/>
                <p:cNvGrpSpPr/>
                <p:nvPr/>
              </p:nvGrpSpPr>
              <p:grpSpPr>
                <a:xfrm>
                  <a:off x="3307680" y="5473440"/>
                  <a:ext cx="1951560" cy="817200"/>
                  <a:chOff x="3307680" y="5473440"/>
                  <a:chExt cx="1951560" cy="817200"/>
                </a:xfrm>
              </p:grpSpPr>
              <p:sp>
                <p:nvSpPr>
                  <p:cNvPr id="132" name="Rectangle 16"/>
                  <p:cNvSpPr/>
                  <p:nvPr/>
                </p:nvSpPr>
                <p:spPr>
                  <a:xfrm>
                    <a:off x="3307680" y="5770080"/>
                    <a:ext cx="195156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zh-CN" sz="2800" spc="-1" strike="noStrike">
                        <a:solidFill>
                          <a:srgbClr val="cc3300"/>
                        </a:solidFill>
                        <a:latin typeface="Times New Roman"/>
                        <a:ea typeface="黑体"/>
                      </a:rPr>
                      <a:t>隐性黄疸</a:t>
                    </a:r>
                    <a:endParaRPr b="1" lang="en-US" sz="2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33" name="Line 17"/>
                  <p:cNvSpPr/>
                  <p:nvPr/>
                </p:nvSpPr>
                <p:spPr>
                  <a:xfrm>
                    <a:off x="4190400" y="5473440"/>
                    <a:ext cx="0" cy="401760"/>
                  </a:xfrm>
                  <a:prstGeom prst="line">
                    <a:avLst/>
                  </a:prstGeom>
                  <a:ln w="3492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34" name="Group 18"/>
                <p:cNvGrpSpPr/>
                <p:nvPr/>
              </p:nvGrpSpPr>
              <p:grpSpPr>
                <a:xfrm>
                  <a:off x="-541440" y="4446360"/>
                  <a:ext cx="9072360" cy="1158480"/>
                  <a:chOff x="-541440" y="4446360"/>
                  <a:chExt cx="9072360" cy="1158480"/>
                </a:xfrm>
              </p:grpSpPr>
              <p:grpSp>
                <p:nvGrpSpPr>
                  <p:cNvPr id="135" name="Group 19"/>
                  <p:cNvGrpSpPr/>
                  <p:nvPr/>
                </p:nvGrpSpPr>
                <p:grpSpPr>
                  <a:xfrm>
                    <a:off x="965520" y="4446360"/>
                    <a:ext cx="7565400" cy="1158480"/>
                    <a:chOff x="965520" y="4446360"/>
                    <a:chExt cx="7565400" cy="1158480"/>
                  </a:xfrm>
                </p:grpSpPr>
                <p:grpSp>
                  <p:nvGrpSpPr>
                    <p:cNvPr id="136" name="Group 20"/>
                    <p:cNvGrpSpPr/>
                    <p:nvPr/>
                  </p:nvGrpSpPr>
                  <p:grpSpPr>
                    <a:xfrm>
                      <a:off x="1064520" y="4961880"/>
                      <a:ext cx="7466400" cy="642960"/>
                      <a:chOff x="1064520" y="4961880"/>
                      <a:chExt cx="7466400" cy="642960"/>
                    </a:xfrm>
                  </p:grpSpPr>
                  <p:sp>
                    <p:nvSpPr>
                      <p:cNvPr id="137" name="AutoShape 21"/>
                      <p:cNvSpPr/>
                      <p:nvPr/>
                    </p:nvSpPr>
                    <p:spPr>
                      <a:xfrm>
                        <a:off x="1064520" y="4961880"/>
                        <a:ext cx="7466400" cy="642960"/>
                      </a:xfrm>
                      <a:custGeom>
                        <a:avLst/>
                        <a:gdLst>
                          <a:gd name="textAreaLeft" fmla="*/ 0 w 7466400"/>
                          <a:gd name="textAreaRight" fmla="*/ 7466760 w 7466400"/>
                          <a:gd name="textAreaTop" fmla="*/ 0 h 642960"/>
                          <a:gd name="textAreaBottom" fmla="*/ 642960 h 642960"/>
                        </a:gdLst>
                        <a:ahLst/>
                        <a:rect l="textAreaLeft" t="textAreaTop" r="textAreaRight" b="textAreaBottom"/>
                        <a:pathLst>
                          <a:path w="21600" h="21600">
                            <a:moveTo>
                              <a:pt x="0" y="0"/>
                            </a:moveTo>
                            <a:lnTo>
                              <a:pt x="20144" y="0"/>
                            </a:lnTo>
                            <a:lnTo>
                              <a:pt x="21600" y="10800"/>
                            </a:lnTo>
                            <a:lnTo>
                              <a:pt x="20144" y="21600"/>
                            </a:lnTo>
                            <a:lnTo>
                              <a:pt x="0" y="21600"/>
                            </a:lnTo>
                            <a:close/>
                          </a:path>
                        </a:pathLst>
                      </a:custGeom>
                      <a:blipFill rotWithShape="0">
                        <a:blip r:embed="rId1"/>
                        <a:srcRect/>
                        <a:tile tx="0" ty="0" sx="100000" sy="100000" algn="ctr"/>
                      </a:blipFill>
                      <a:ln w="9360">
                        <a:solidFill>
                          <a:srgbClr val="046ca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zh-CN" sz="2400" spc="-1" strike="noStrike">
                            <a:solidFill>
                              <a:srgbClr val="000099"/>
                            </a:solidFill>
                            <a:latin typeface="黑体"/>
                            <a:ea typeface="黑体"/>
                          </a:rPr>
                          <a:t>血    清   胆    红    素    浓    度</a:t>
                        </a: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 algn="ctr"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4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8" name="Line 22"/>
                      <p:cNvSpPr/>
                      <p:nvPr/>
                    </p:nvSpPr>
                    <p:spPr>
                      <a:xfrm>
                        <a:off x="3211920" y="4963320"/>
                        <a:ext cx="0" cy="641520"/>
                      </a:xfrm>
                      <a:prstGeom prst="line">
                        <a:avLst/>
                      </a:prstGeom>
                      <a:ln w="5724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39" name="Line 23"/>
                      <p:cNvSpPr/>
                      <p:nvPr/>
                    </p:nvSpPr>
                    <p:spPr>
                      <a:xfrm>
                        <a:off x="6062040" y="4961880"/>
                        <a:ext cx="0" cy="641520"/>
                      </a:xfrm>
                      <a:prstGeom prst="line">
                        <a:avLst/>
                      </a:prstGeom>
                      <a:ln w="88920">
                        <a:solidFill>
                          <a:srgbClr val="ff66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1" lang="en-US" sz="18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40" name="Rectangle 24"/>
                    <p:cNvSpPr/>
                    <p:nvPr/>
                  </p:nvSpPr>
                  <p:spPr>
                    <a:xfrm>
                      <a:off x="5731920" y="4446360"/>
                      <a:ext cx="1041840" cy="550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0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34. 2</a:t>
                      </a:r>
                      <a:endParaRPr b="1" lang="en-US" sz="3000" spc="-1" strike="noStrike">
                        <a:solidFill>
                          <a:srgbClr val="046ca6"/>
                        </a:solidFill>
                        <a:latin typeface="Tahoma"/>
                      </a:endParaRPr>
                    </a:p>
                  </p:txBody>
                </p:sp>
                <p:grpSp>
                  <p:nvGrpSpPr>
                    <p:cNvPr id="141" name="Group 25"/>
                    <p:cNvGrpSpPr/>
                    <p:nvPr/>
                  </p:nvGrpSpPr>
                  <p:grpSpPr>
                    <a:xfrm>
                      <a:off x="965520" y="4446360"/>
                      <a:ext cx="2857320" cy="971280"/>
                      <a:chOff x="965520" y="4446360"/>
                      <a:chExt cx="2857320" cy="971280"/>
                    </a:xfrm>
                  </p:grpSpPr>
                  <p:sp>
                    <p:nvSpPr>
                      <p:cNvPr id="142" name="Rectangle 26"/>
                      <p:cNvSpPr/>
                      <p:nvPr/>
                    </p:nvSpPr>
                    <p:spPr>
                      <a:xfrm>
                        <a:off x="2781000" y="4446360"/>
                        <a:ext cx="1041840" cy="55080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3000" spc="-1" strike="noStrike">
                            <a:solidFill>
                              <a:srgbClr val="ff0000"/>
                            </a:solidFill>
                            <a:latin typeface="黑体"/>
                            <a:ea typeface="黑体"/>
                          </a:rPr>
                          <a:t>17. 1</a:t>
                        </a:r>
                        <a:endParaRPr b="1" lang="en-US" sz="30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  <p:sp>
                    <p:nvSpPr>
                      <p:cNvPr id="143" name="Text Box 27"/>
                      <p:cNvSpPr/>
                      <p:nvPr/>
                    </p:nvSpPr>
                    <p:spPr>
                      <a:xfrm flipH="1">
                        <a:off x="965520" y="4531680"/>
                        <a:ext cx="1946880" cy="8859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1" lang="en-US" sz="2600" spc="-1" strike="noStrike">
                            <a:solidFill>
                              <a:srgbClr val="ffcc00"/>
                            </a:solidFill>
                            <a:latin typeface="黑体"/>
                            <a:ea typeface="黑体"/>
                          </a:rPr>
                          <a:t>1.7</a:t>
                        </a: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1" lang="en-US" sz="2600" spc="-1" strike="noStrike">
                          <a:solidFill>
                            <a:srgbClr val="046ca6"/>
                          </a:solidFill>
                          <a:latin typeface="Tahoma"/>
                        </a:endParaRPr>
                      </a:p>
                    </p:txBody>
                  </p:sp>
                </p:grpSp>
              </p:grpSp>
              <p:sp>
                <p:nvSpPr>
                  <p:cNvPr id="144" name="Rectangle 28"/>
                  <p:cNvSpPr/>
                  <p:nvPr/>
                </p:nvSpPr>
                <p:spPr>
                  <a:xfrm>
                    <a:off x="-541440" y="4975560"/>
                    <a:ext cx="1662480" cy="489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46ca6"/>
                      </a:solidFill>
                      <a:latin typeface="Tahoma"/>
                    </a:endParaRPr>
                  </a:p>
                </p:txBody>
              </p:sp>
            </p:grpSp>
          </p:grpSp>
        </p:grpSp>
        <p:sp>
          <p:nvSpPr>
            <p:cNvPr id="145" name="Text Box 29"/>
            <p:cNvSpPr/>
            <p:nvPr/>
          </p:nvSpPr>
          <p:spPr>
            <a:xfrm>
              <a:off x="6659640" y="4292640"/>
              <a:ext cx="2987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33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ddb523"/>
                  </a:solidFill>
                  <a:latin typeface="黑体"/>
                  <a:ea typeface="黑体"/>
                </a:rPr>
                <a:t>(μmol/L)</a:t>
              </a:r>
              <a:endParaRPr b="1" lang="en-US" sz="3200" spc="-1" strike="noStrike">
                <a:solidFill>
                  <a:srgbClr val="046ca6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68000" y="198900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黄疸分生理性和病理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假性黄疸</a:t>
            </a:r>
            <a:r>
              <a:rPr b="1" lang="zh-CN" sz="2800" spc="-1" strike="noStrike">
                <a:solidFill>
                  <a:srgbClr val="ddb523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ddb523"/>
                </a:solidFill>
                <a:latin typeface="Verdana"/>
              </a:rPr>
              <a:t>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食用胡萝卜、南瓜、橘子等过多，出现胡萝卜素血症，皮肤黄染，但巩膜不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8" name="Picture 3" descr="ANd9GcQL2J1pbl6aph5rXC7ZiDAXaCNqIyO8EuoELojpmqcObVk4uqYtIg"/>
          <p:cNvPicPr/>
          <p:nvPr/>
        </p:nvPicPr>
        <p:blipFill>
          <a:blip r:embed="rId1"/>
          <a:stretch/>
        </p:blipFill>
        <p:spPr>
          <a:xfrm>
            <a:off x="5219640" y="476280"/>
            <a:ext cx="35816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pic>
        <p:nvPicPr>
          <p:cNvPr id="150" name="Picture 2" descr="胆红素正常代谢示意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2700360" y="6237360"/>
            <a:ext cx="44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胆红素正常代谢示意图</a:t>
            </a:r>
            <a:br>
              <a:rPr sz="2400"/>
            </a:b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2" name="Text Box 4"/>
          <p:cNvSpPr/>
          <p:nvPr/>
        </p:nvSpPr>
        <p:spPr>
          <a:xfrm>
            <a:off x="3419640" y="242100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46ca6"/>
                </a:solidFill>
                <a:latin typeface="Arial"/>
              </a:rPr>
              <a:t>由血清蛋白转运</a:t>
            </a:r>
            <a:endParaRPr b="1" lang="en-US" sz="1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3" name="Text Box 7"/>
          <p:cNvSpPr/>
          <p:nvPr/>
        </p:nvSpPr>
        <p:spPr>
          <a:xfrm>
            <a:off x="250920" y="4221000"/>
            <a:ext cx="266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生成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运输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ahom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、胆红素的代谢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638964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  <a:ea typeface="黑体"/>
              </a:rPr>
              <a:t>黄疸的分类及机制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2916360" y="1989000"/>
            <a:ext cx="5688000" cy="244980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溶血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细胞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胆汁淤积性黄疸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梗阻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3059280" y="4869000"/>
            <a:ext cx="5545080" cy="1419120"/>
          </a:xfrm>
          <a:prstGeom prst="bracePair">
            <a:avLst>
              <a:gd name="adj" fmla="val 8333"/>
            </a:avLst>
          </a:prstGeom>
          <a:noFill/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U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增高为主的黄疸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1257480" y="270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按病因学</a:t>
            </a:r>
            <a:endParaRPr b="1" lang="en-US" sz="28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65280" y="5229360"/>
            <a:ext cx="154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19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按胆红素性质</a:t>
            </a:r>
            <a:endParaRPr b="1" lang="en-US" sz="24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溶血性黄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发病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1" lang="en-US" sz="1000" spc="-1" strike="noStrike">
              <a:solidFill>
                <a:srgbClr val="046ca6"/>
              </a:solidFill>
              <a:latin typeface="Tahoma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01600" y="1699920"/>
            <a:ext cx="8569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溶血性黄疸：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由于红细胞破坏过多，形成大量的非结合胆红素超过肝的处理能力，导致血中</a:t>
            </a:r>
            <a:r>
              <a:rPr b="0" lang="zh-CN" sz="2800" spc="-1" strike="noStrike" u="sng">
                <a:solidFill>
                  <a:srgbClr val="cc00cc"/>
                </a:solidFill>
                <a:uFillTx/>
                <a:latin typeface="楷体_GB2312"/>
                <a:ea typeface="楷体_GB2312"/>
              </a:rPr>
              <a:t>非结合胆红素增高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而引起的黄疸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5" name="Picture 3" descr="cells"/>
          <p:cNvPicPr/>
          <p:nvPr/>
        </p:nvPicPr>
        <p:blipFill>
          <a:blip r:embed="rId1"/>
          <a:stretch/>
        </p:blipFill>
        <p:spPr>
          <a:xfrm>
            <a:off x="5867280" y="4149720"/>
            <a:ext cx="2987640" cy="2133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4486320" y="1092240"/>
            <a:ext cx="1454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46ca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2:12:24Z</dcterms:created>
  <dc:creator>微软用户</dc:creator>
  <dc:description/>
  <cp:keywords/>
  <dc:language>en-US</dc:language>
  <cp:lastModifiedBy>赵欣</cp:lastModifiedBy>
  <cp:lastPrinted>1899-12-30T00:00:00Z</cp:lastPrinted>
  <dcterms:modified xsi:type="dcterms:W3CDTF">2015-12-16T08:10:49Z</dcterms:modified>
  <cp:revision>38</cp:revision>
  <dc:subject/>
  <dc:title>第十一节黄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699</vt:lpwstr>
  </property>
</Properties>
</file>