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F3B63-5B24-44AB-893A-465D011707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36CCC-B564-4CCA-83F5-97E2C3505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0CED4-8E0A-4D8F-8C8D-0DF50EFAD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B0873-4C0C-472F-A439-06B05BD80D7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0554F7-E5BA-4223-9A52-4E8AD7EC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8B5A1-4892-40D5-AC3C-61274EE2A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CB1EC-9C38-462D-9B19-3EE782D0D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CF2C41-DF6F-438A-A956-121BF57C3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6F8ED-76CB-495F-ADE9-1AEBFB322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79A2A-B55E-48DB-AC92-28A1BDE4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D6DE6-411E-4EC3-A175-D0357A91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863FE-7718-4EE6-8574-9E658A72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46ca6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B87A-155F-4792-A4CC-DE907A58782C}" type="slidenum">
              <a:rPr b="0" lang="zh-CN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1258920" y="2276640"/>
            <a:ext cx="6626160" cy="130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Verdana"/>
                <a:ea typeface="宋体"/>
              </a:rPr>
              <a:t>第三节  皮肤、浅表淋巴结评估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五）蜘蛛痣与肝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蜘蛛痣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pider angioma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为皮肤小动脉末端分支性扩张所形成的血管痣，大小不等，形似蜘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慢性肝病者手掌的大、小鱼际处皮肤发红，压之褪色，称为肝掌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liver palm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其发生一般认为与肝对雌激素的灭活作用减弱，体内雌激素水平增高有关，见于急慢性肝炎、肝硬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8" name="Picture 4" descr="肝掌"/>
          <p:cNvPicPr/>
          <p:nvPr/>
        </p:nvPicPr>
        <p:blipFill>
          <a:blip r:embed="rId1"/>
          <a:stretch/>
        </p:blipFill>
        <p:spPr>
          <a:xfrm>
            <a:off x="4067280" y="4653000"/>
            <a:ext cx="2665440" cy="17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蜘蛛痣"/>
          <p:cNvPicPr/>
          <p:nvPr/>
        </p:nvPicPr>
        <p:blipFill>
          <a:blip r:embed="rId2"/>
          <a:stretch/>
        </p:blipFill>
        <p:spPr>
          <a:xfrm>
            <a:off x="1476360" y="4653000"/>
            <a:ext cx="224172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六）水肿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上根据水肿的轻重程度不等可分为轻、中、重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轻度：仅见于眼睑、踝部及胫骨前皮下组织，指压后有轻度凹陷，平复较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中度：全身软组织均可见明显水肿，指压后出现较深凹陷，平复缓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重度：全身组织严重水肿，身体低垂部位皮肤紧张发亮，甚至有液体渗出，胸、腹腔可有积液，外阴部也可有明显水肿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5275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二、浅表淋巴结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浅表淋巴结分布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浅表淋巴结的分布如下：耳前淋巴结、耳后淋巴结、枕淋巴结、颌下淋巴结、颏下淋巴结、颈前淋巴结、颈后淋巴结、锁骨上淋巴结、腋窝淋巴结、滑车上淋巴结、腹股沟淋巴结、腘窝淋巴结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2" name="Picture 4" descr="全身淋巴系统示意图"/>
          <p:cNvPicPr/>
          <p:nvPr/>
        </p:nvPicPr>
        <p:blipFill>
          <a:blip r:embed="rId1"/>
          <a:stretch/>
        </p:blipFill>
        <p:spPr>
          <a:xfrm>
            <a:off x="5796000" y="1052640"/>
            <a:ext cx="2771640" cy="5329080"/>
          </a:xfrm>
          <a:prstGeom prst="rect">
            <a:avLst/>
          </a:prstGeom>
          <a:ln w="0">
            <a:noFill/>
          </a:ln>
        </p:spPr>
      </p:pic>
      <p:sp>
        <p:nvSpPr>
          <p:cNvPr id="63" name="Oval 5"/>
          <p:cNvSpPr/>
          <p:nvPr/>
        </p:nvSpPr>
        <p:spPr>
          <a:xfrm>
            <a:off x="8459640" y="2341440"/>
            <a:ext cx="573120" cy="2541240"/>
          </a:xfrm>
          <a:prstGeom prst="ellipse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46ca6"/>
                </a:solidFill>
                <a:latin typeface="Arial"/>
                <a:ea typeface="宋体"/>
              </a:rPr>
              <a:t>全身淋巴结分布</a:t>
            </a: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04560" y="1371240"/>
            <a:ext cx="4771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评估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评估者可站（坐）在被评估者对面，四指并拢紧贴检查部位，由浅入深进行滑动触摸，自上而下，按耳前、耳后、乳突区、枕骨下区、颌下、颏下、颈前、颈后、锁骨上窝、腋窝、滑车上、腹股沟、腘窝淋巴结顺序进行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5580000" y="549360"/>
            <a:ext cx="3419640" cy="2849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5580000" y="3429000"/>
            <a:ext cx="330984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淋巴结肿大的临床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局部淋巴结肿大 可见于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非特异性淋巴结炎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淋巴结结核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恶性肿瘤淋巴结转移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．全身淋巴结肿大  淋巴结肿大的部位可以遍及全身，大小不等，无粘连，质地与病变性质有关。可见于淋巴瘤、白血病、传染性单核细胞增多症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小 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评估方法主要靠视诊，有时需配合触诊才能获得更清楚的印象。评估内容包括颜色、温度与湿度、弹性、完整性、蜘蛛痣与肝掌、水肿等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颜色 常见的皮肤颜色异常如下：苍白、发红、发绀、黄染、色素沉着、色素脱失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3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湿度与湿度 皮肤湿度与汗腺分泌功能、气温、湿度的变化有关。通常以手背触摸被评估者皮肤评估皮肤温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4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弹性 即皮肤紧张度，与年龄、营养状态、皮下脂肪及组织间隙所含液体量有关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5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皮肤完整性（包括压疮、皮疹、皮下出血等） 常见皮疹如下：斑疹、玫瑰疹、丘疹、斑丘疹、荨麻疹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蜘蛛痣与肝掌  发生一般认为与肝对雌激素的灭活作用减弱，体内雌激素水平增高有关，见于急慢性肝炎、肝硬化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7.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水肿 皮下组织水肿通过视诊和触诊较易确定。临床上根据水肿的轻重程度不等可分为轻、中、重三度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Verdana"/>
                <a:ea typeface="宋体"/>
              </a:rPr>
              <a:t>8. </a:t>
            </a:r>
            <a:r>
              <a:rPr b="1" lang="zh-CN" sz="2000" spc="-1" strike="noStrike">
                <a:solidFill>
                  <a:srgbClr val="046ca6"/>
                </a:solidFill>
                <a:latin typeface="Verdana"/>
                <a:ea typeface="宋体"/>
              </a:rPr>
              <a:t>浅表淋巴结评估主要靠触诊。熟悉其正常表现，掌握异常改变及其临床意义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目 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1547640" y="1557360"/>
            <a:ext cx="86108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定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生机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病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临床表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护理评估要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相关护理诊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893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描述皮肤、浅表淋巴结评估的主要内容、正常表现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说明皮肤、浅表淋巴结评估常见异常改变及其临床意义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正确进行皮肤、浅表淋巴结的评估，并准确描述评估所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97164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一、皮肤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一）颜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苍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红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发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黄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沉着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色素脱失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二）湿度与温度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湿度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moistu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与汗腺分泌功能、气温、湿度的变化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出汗增多见于风湿病、结核病、甲状腺功能亢进、佝偻病等。四肢皮肤发凉而大汗淋漓称为冷汗，见于休克、虚脱。夜间入睡后出汗称为盗汗，是结核病的常见征象。皮肤异常干燥无汗，见于维生素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A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缺乏症、硬皮病、尿毒症和脱水等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通常以手背触摸被评估者皮肤评估皮肤温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全身皮肤发热见于发热性疾病、甲状腺功能亢进。全身皮肤发冷见于休克、甲状腺功能减退症等。局部皮肤发热见于疖、痈、丹毒等炎症。肢端发冷可见于雷诺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250920" y="16282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三）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肤弹性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elasticity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即皮肤紧张度，与年龄、营养状态、皮下脂肪及组织间隙所含液体量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54" name="Picture 4" descr="IMG_0076"/>
          <p:cNvPicPr/>
          <p:nvPr/>
        </p:nvPicPr>
        <p:blipFill>
          <a:blip r:embed="rId1"/>
          <a:srcRect l="0" t="9845" r="5703" b="5102"/>
          <a:stretch/>
        </p:blipFill>
        <p:spPr>
          <a:xfrm>
            <a:off x="1547640" y="3284640"/>
            <a:ext cx="4392720" cy="2971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（四）完整性（包括压疮、皮疹、皮下出血等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压疮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pressure sore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又称压力性溃疡，为局部组织长期受压，发生持续缺血、缺氧、营养不良所致的皮肤损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042560" y="1413000"/>
            <a:ext cx="77058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皮疹（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skin lesion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）多为全身性疾病征象之一，常见于传染病、药物过敏和皮肤病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玫瑰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丘疹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斑丘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荨麻疹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8:30:50Z</dcterms:modified>
  <cp:revision>138</cp:revision>
  <dc:subject/>
  <dc:title>内科护理学</dc:title>
</cp:coreProperties>
</file>