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F74AF-6821-4D43-AE39-7A343A8417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B0B9F-2E19-4B85-AD36-784B37DE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8AC21-7950-4390-836F-A86E1E7A7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B9944-95C1-4E45-A46B-733F646F803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B38C8-A966-4935-9FC1-2931CFDB9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1D321-F3D2-4F2A-B768-9A9C830F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F97A3-B92C-42F2-A3A7-B083AD84E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E87BC-9737-4084-830D-74C63540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9FFB1-E7E8-4506-BCD8-5B3CDEF7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3657A-5188-4A0A-90C0-E1D7BB25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DAD07-0B40-435C-9FFB-D60950B5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6C3F2-96DD-4736-A632-DB1B9ABC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98C2C-ACAF-4740-8592-476F65240E3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15640" y="220500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SimHei"/>
                <a:ea typeface="SimHei"/>
              </a:rPr>
              <a:t>第八节  咯血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                 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8760" y="126828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定义 咯血是指喉以下呼吸道和肺组织的出血，血液随咳嗽经口腔咯出，包括大量咯血、血痰或痰中带血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病因 包括支气管疾病、肺部疾病、心血管疾病、全身性疾病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临床表现 一般少量咯血，仅表现为痰中带血。中等量以上咯血，咯血前患者可有胸闷、咽痒、咳嗽等先兆症状，咳出的血多数为鲜红色，伴有泡沫或痰，呈碱性。咯血少则少量血丝痰，多则短时内咯血不止。大量咯血时患者常伴呛咳、出冷汗、脉速、呼吸急促浅表、颜面苍白伴紧张不安和恐惧感。咯血量的评估，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 咯血的特点、伴随症状、咯血对患者的影响、有无咯血相关的疾病史或诱发因素、诊断、治疗与护理经过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识记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阐述咯血的病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正确说出咯血的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理解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比较咯血与呕血，能正确说出两者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运用：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运用本节所学知识，能针对咯血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根据护理评估，能正确作出护理诊断，并列出相关因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咯血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hemoptysi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喉以下呼吸道和肺组织的出血，血液随咳嗽经口腔咯出，包括大量咯血、血痰或痰中带血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560" y="170028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与发生机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支气管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肺部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心血管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性疾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883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评估咯血的年龄特征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临床表现：一般少量咯血，仅表现为痰中带血。中等量以上咯血，咯血前患者可有胸闷、咽痒、咳嗽等先兆症状，咳出的血多数为鲜红色，伴有泡沫或痰，呈碱性。大量咯血时患者常伴呛咳、出冷汗、脉速、呼吸急促浅表、颜面苍白伴紧张不安和恐惧感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量的评估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每日咯血量在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内为小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中等量，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以上或一次咯血在 </a:t>
            </a: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00~500ml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为大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的颜色和性状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与呕血的鉴别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．咯血并发症的评估：窒息 、肺不张 、继发感染、失血性休克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咯血与呕血的鉴别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1371600"/>
          <a:ext cx="8610480" cy="4611600"/>
        </p:xfrm>
        <a:graphic>
          <a:graphicData uri="http://schemas.openxmlformats.org/drawingml/2006/table">
            <a:tbl>
              <a:tblPr/>
              <a:tblGrid>
                <a:gridCol w="2349360"/>
                <a:gridCol w="3052800"/>
                <a:gridCol w="3208320"/>
              </a:tblGrid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评估要点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100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病因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扩张症、原发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支气管肺癌、肺结核、肺炎、风心病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消化性溃疡、急性胃黏膜受损、肝硬化、胃癌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前驱症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喉部痒感、胸闷、咳嗽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上腹部不适、恶心呕吐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方式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咯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出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中混有物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痰、泡沫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食物残渣、胃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血液颜色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棕黑、暗红、有时鲜红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396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碱反应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碱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酸性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黑便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，如咽下可有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有，可为柏油样便，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呕血停止后可持续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出血后痰液性状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常有血痰数日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46ca6"/>
                          </a:solidFill>
                          <a:latin typeface="华文新魏"/>
                          <a:ea typeface="华文新魏"/>
                        </a:rPr>
                        <a:t>无血痰</a:t>
                      </a: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的特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伴随症状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咯血对患者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有无咯血相关的疾病史或诱发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诊断、治疗与护理经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窒息的危险 与大量咯血有关；与意识障碍有关；与无力咳嗽所致血液潴留在大气道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循环血量不足的危险 与大量咯血所致循环障碍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有感染的危险 与血液潴留在支气管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焦虑 与反复咯血久治不愈或对检查结果感到不安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恐惧 与大量咯血或咯血不止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液不足 与大量咯血引起循环血量减少有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潜在并发症：休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7:46:28Z</dcterms:modified>
  <cp:revision>223</cp:revision>
  <dc:subject/>
  <dc:title>内科护理学</dc:title>
</cp:coreProperties>
</file>