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B40C2-BF22-430A-A397-133FDB66465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F97A2-A42D-4A77-8C96-42B91092B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40BAE-A260-46BD-886D-92015D6D6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45C70-C050-45FD-B08E-41057CDF51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007A8-5E46-4592-AA58-B3052173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5F4A-EAEE-456F-864A-E51D5E00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6A068-1921-4963-95F3-D46B25D95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B07F8-F2E9-46E3-8B85-09BDEA060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763F5-B7B5-4EDB-B9E9-67A2E2758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5FD8-4A48-4044-B52D-E2BF0AB13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5B563-05D5-42C3-B9C0-18B5EB43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0432A-7151-452C-9A41-0DD6EDCCC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C7E3-AD41-4B19-94ED-6220C88FDF18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0920" y="256500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1d1496"/>
                </a:solidFill>
                <a:latin typeface="Verdana"/>
                <a:ea typeface="宋体"/>
              </a:rPr>
              <a:t>第六节  周围血管评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random/>
    <p:sndAc>
      <p:stSnd>
        <p:snd r:embed="rId1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99640" y="304560"/>
            <a:ext cx="6767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第六节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周围血管评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周围血管评估包括动脉、静脉和毛细血管的评估，是心血管评估的重要组成部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本节主要讲述脉搏、血压、血管杂音和周围血管征的评估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395280" y="1324080"/>
            <a:ext cx="8064360" cy="37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1d1496"/>
                </a:solidFill>
                <a:latin typeface="Arial"/>
                <a:ea typeface="宋体"/>
              </a:rPr>
              <a:t>一、视诊</a:t>
            </a:r>
            <a:endParaRPr b="0" lang="en-US" sz="4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一）肝颈静脉回流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见于右心衰竭、心包积液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（二）毛细血管搏动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  <a:ea typeface="宋体"/>
              </a:rPr>
              <a:t>主要见于脉压增大的疾病，如主动脉瓣关闭不全、甲状腺功能亢进、重症贫血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二、触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脉搏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的触诊一般多选择桡动脉。触诊时评估者将示指、中指和环指并拢，用指腹进行触诊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脉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脉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三）强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四）脉搏波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水冲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water-hammer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交替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alternating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．奇脉（</a:t>
            </a:r>
            <a:r>
              <a:rPr b="1" lang="en-US" sz="3200" spc="-1" strike="noStrike">
                <a:solidFill>
                  <a:srgbClr val="1d1496"/>
                </a:solidFill>
                <a:latin typeface="Verdana"/>
                <a:ea typeface="宋体"/>
              </a:rPr>
              <a:t>paradoxical pulse</a:t>
            </a: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三、听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正常人血管杂音很少闻及，若闻及多有病理意义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一）静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（二）动脉杂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4"/>
          <p:cNvSpPr/>
          <p:nvPr/>
        </p:nvSpPr>
        <p:spPr>
          <a:xfrm>
            <a:off x="755640" y="1052640"/>
            <a:ext cx="792000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（三）枪击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（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pistol shot sound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枪击音、</a:t>
            </a:r>
            <a:r>
              <a:rPr b="1" lang="en-US" sz="3200" spc="-1" strike="noStrike">
                <a:solidFill>
                  <a:srgbClr val="1d1496"/>
                </a:solidFill>
                <a:latin typeface="Arial"/>
                <a:ea typeface="宋体"/>
              </a:rPr>
              <a:t>Duroziez </a:t>
            </a:r>
            <a:r>
              <a:rPr b="1" lang="zh-CN" sz="3200" spc="-1" strike="noStrike">
                <a:solidFill>
                  <a:srgbClr val="1d1496"/>
                </a:solidFill>
                <a:latin typeface="Arial"/>
                <a:ea typeface="宋体"/>
              </a:rPr>
              <a:t>双重音、毛细血管搏动征、水冲脉统称为周围血管征。主要见于脉压增大的疾病，如主动脉瓣关闭不全、甲状腺功能亢进和严重贫血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（一）血压标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547640" y="159120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成人血压水平的定义和分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71640" y="2349360"/>
          <a:ext cx="7561080" cy="3475080"/>
        </p:xfrm>
        <a:graphic>
          <a:graphicData uri="http://schemas.openxmlformats.org/drawingml/2006/table">
            <a:tbl>
              <a:tblPr/>
              <a:tblGrid>
                <a:gridCol w="2674800"/>
                <a:gridCol w="2438280"/>
                <a:gridCol w="2448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类    别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收缩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舒张压（</a:t>
                      </a:r>
                      <a:r>
                        <a:rPr b="0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mmHg</a:t>
                      </a:r>
                      <a:r>
                        <a:rPr b="0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12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正常高值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20~13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80~8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轻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~15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90~9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中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60~17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00~109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级高血压（重度）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8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1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单纯收缩期高血压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≥</a:t>
                      </a: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14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d1496"/>
                          </a:solidFill>
                          <a:latin typeface="Times New Roman"/>
                          <a:ea typeface="宋体"/>
                        </a:rPr>
                        <a:t>&lt;90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Rectangle 35"/>
          <p:cNvSpPr/>
          <p:nvPr/>
        </p:nvSpPr>
        <p:spPr>
          <a:xfrm>
            <a:off x="0" y="475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二）血压变动的临床意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高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er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血压高于正常标准称为高血压。高血压原因不明称原发性高血压。高血压可为某些疾病的临床表现之一，称继发性高血压或症状性高血压。如肾动脉狭窄、肾实质病变、嗜铬细胞瘤、原发性醛固酮增多症、皮质醇增多症、妊娠中毒症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低血压（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hypotension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）：指血压低于</a:t>
            </a:r>
            <a:r>
              <a:rPr b="1" lang="en-US" sz="2400" spc="-1" strike="noStrike">
                <a:solidFill>
                  <a:srgbClr val="1d1496"/>
                </a:solidFill>
                <a:latin typeface="Verdana"/>
                <a:ea typeface="宋体"/>
              </a:rPr>
              <a:t>90/60mmHg</a:t>
            </a:r>
            <a:r>
              <a:rPr b="1" lang="zh-CN" sz="2400" spc="-1" strike="noStrike">
                <a:solidFill>
                  <a:srgbClr val="1d1496"/>
                </a:solidFill>
                <a:latin typeface="Verdana"/>
                <a:ea typeface="宋体"/>
              </a:rPr>
              <a:t>。常见于休克、急性心肌梗死、心力衰竭、心脏压塞等，也可见于极度衰弱者及少数正常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）脉压增大或减小：脉压大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4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为脉压增大，多见于主动脉瓣关闭不全、甲状腺功能亢进、动脉导管未闭、严重贫血和主动脉硬化等。脉压小于</a:t>
            </a:r>
            <a:r>
              <a:rPr b="1" lang="en-US" sz="2800" spc="-1" strike="noStrike">
                <a:solidFill>
                  <a:srgbClr val="1d1496"/>
                </a:solidFill>
                <a:latin typeface="Verdana"/>
                <a:ea typeface="宋体"/>
              </a:rPr>
              <a:t>30mmHg </a:t>
            </a: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称脉压减小，多见于主动脉瓣狭窄、低血压、心力衰竭、心包积液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56:06Z</dcterms:modified>
  <cp:revision>145</cp:revision>
  <dc:subject/>
  <dc:title>内科护理学</dc:title>
</cp:coreProperties>
</file>