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0.jpeg" ContentType="image/jpeg"/>
  <Override PartName="/ppt/media/image5.png" ContentType="image/png"/>
  <Override PartName="/ppt/media/image35.jpeg" ContentType="image/jpeg"/>
  <Override PartName="/ppt/media/image8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1.jpeg" ContentType="image/jpeg"/>
  <Override PartName="/ppt/media/image9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7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6D805-7C47-49E9-A00B-1AF5BB4DE1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AF887-E66E-4B7A-80EC-40E4AF79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E517E-7659-4AA3-B192-6D02A51BB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18C7C-483A-42AF-8902-B22769864A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4410E-1BCC-4ABE-B9E1-3FCC3C5DD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69197-EFD7-4C23-AFC6-DE788716D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E8B9B-B459-4ABF-95F5-DEA2917B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CFA592-7E30-4499-B136-D968A4B79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A33E6-E328-49B6-B76C-1F0D23A95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CC564-C495-4D61-9F0E-4362AF41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1A0C8-2322-4B41-9643-D799D031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2BDCE-30AE-4CFB-8FA7-80921EA2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661E2-A072-4EDF-BD16-C5870249983F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D1%DB%ED%FA&#750;%D6%D7&amp;in=24434&amp;cl=2&amp;cm=1&amp;sc=0&amp;lm=-1&amp;pn=5&amp;rn=1&amp;di=520913620&amp;ln=29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.baidu.com/i?ct=503316480&amp;z=0&amp;tn=baiduimagedetail&amp;word=%C9%CF%ED%FA%CF&#180;%B9&amp;in=24360&amp;cl=2&amp;cm=1&amp;sc=0&amp;lm=-1&amp;pn=9&amp;rn=1&amp;di=3068539860&amp;ln=216" TargetMode="External"/><Relationship Id="rId4" Type="http://schemas.openxmlformats.org/officeDocument/2006/relationships/image" Target="../media/image11.jpeg"/><Relationship Id="rId5" Type="http://schemas.openxmlformats.org/officeDocument/2006/relationships/hyperlink" Target="http://image.baidu.com/i?ct=503316480&amp;z=0&amp;tn=baiduimagedetail&amp;word=%C9%CF%ED%FA%CF&#180;%B9&amp;in=17924&amp;cl=2&amp;cm=1&amp;sc=0&amp;lm=-1&amp;pn=14&amp;rn=1&amp;di=802516856&amp;ln=216" TargetMode="External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511511.com/m5/images/yixuetuku/pic/006/00619104.jpg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875;%BF%D7&amp;in=10014&amp;cl=2&amp;cm=1&amp;sc=0&amp;lm=-1&amp;pn=96&amp;rn=1&amp;di=292670380&amp;ln=2000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&#875;%BF%D7%CB%F5&#1057;&amp;in=4288&amp;cl=2&amp;cm=1&amp;sc=0&amp;lm=-1&amp;pn=6&amp;rn=1&amp;di=2495250980&amp;ln=11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511511.com/m5/images/yixuetuku/pic/022/02208301.jpg" TargetMode="External"/><Relationship Id="rId2" Type="http://schemas.openxmlformats.org/officeDocument/2006/relationships/image" Target="../media/image19.jpeg"/><Relationship Id="rId3" Type="http://schemas.openxmlformats.org/officeDocument/2006/relationships/hyperlink" Target="http://www.511511.com/m5/images/yixuetuku/pic/022/02204901.jpg" TargetMode="External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C8%E9&#891;&amp;in=28349&amp;cl=2&amp;cm=1&amp;sc=0&amp;lm=-1&amp;pn=6&amp;rn=1&amp;di=2412410100&amp;ln=407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image.baidu.com/i?ct=503316480&amp;z=0&amp;tn=baiduimagedetail&amp;word=%C8%E9&#891;&amp;in=28349&amp;cl=2&amp;cm=1&amp;sc=0&amp;lm=-1&amp;pn=7&amp;rn=1&amp;di=2421521140&amp;ln=407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0&amp;tn=baiduimagedetail&amp;word=%B5%D8&#892;%C9%E0&amp;in=2&amp;cl=2&amp;cm=1&amp;sc=0&amp;lm=-1&amp;pn=1&amp;rn=1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image.baidu.com/i?ct=503316480&amp;z=0&amp;tn=baiduimagedetail&amp;word=%B2%DD&#1902;%C9%E0&amp;in=2&amp;cl=2&amp;cm=1&amp;sc=0&amp;lm=-1&amp;pn=1&amp;rn=1" TargetMode="External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age.baidu.com/i?ct=201326592&amp;z=0&amp;flag=1&amp;pn=73&amp;cl=2&amp;lm=-1&amp;cm=1&amp;sc=0&amp;rn=16&amp;tn=baiduimagedetail&amp;word=&#33041;&#31215;&#27700;&amp;in=74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420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第四节  头部和颈部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3300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1" name="Picture 3" descr="eye1"/>
          <p:cNvPicPr/>
          <p:nvPr/>
        </p:nvPicPr>
        <p:blipFill>
          <a:blip r:embed="rId1"/>
          <a:stretch/>
        </p:blipFill>
        <p:spPr>
          <a:xfrm>
            <a:off x="826920" y="4581360"/>
            <a:ext cx="2901960" cy="175428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74400" y="1599840"/>
            <a:ext cx="845964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的功能检查（眼科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眼检查 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睑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球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　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前节检查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角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虹膜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瞳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眼底检查（眼科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03280" y="105228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外眼检查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5" name="Picture 3" descr="16"/>
          <p:cNvPicPr/>
          <p:nvPr/>
        </p:nvPicPr>
        <p:blipFill>
          <a:blip r:embed="rId1"/>
          <a:srcRect l="2060" t="-262" r="2234" b="3309"/>
          <a:stretch/>
        </p:blipFill>
        <p:spPr>
          <a:xfrm>
            <a:off x="1116000" y="1916280"/>
            <a:ext cx="6985080" cy="3889080"/>
          </a:xfrm>
          <a:prstGeom prst="rect">
            <a:avLst/>
          </a:prstGeom>
          <a:ln w="0">
            <a:noFill/>
          </a:ln>
        </p:spPr>
      </p:pic>
      <p:sp>
        <p:nvSpPr>
          <p:cNvPr id="86" name="Oval 4"/>
          <p:cNvSpPr/>
          <p:nvPr/>
        </p:nvSpPr>
        <p:spPr>
          <a:xfrm>
            <a:off x="1763640" y="2565360"/>
            <a:ext cx="792360" cy="57456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7" name="Oval 5"/>
          <p:cNvSpPr/>
          <p:nvPr/>
        </p:nvSpPr>
        <p:spPr>
          <a:xfrm>
            <a:off x="1763640" y="4724280"/>
            <a:ext cx="792360" cy="57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8" name="Oval 6"/>
          <p:cNvSpPr/>
          <p:nvPr/>
        </p:nvSpPr>
        <p:spPr>
          <a:xfrm>
            <a:off x="1042920" y="5084640"/>
            <a:ext cx="1657440" cy="57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89" name="Oval 7"/>
          <p:cNvSpPr/>
          <p:nvPr/>
        </p:nvSpPr>
        <p:spPr>
          <a:xfrm>
            <a:off x="1187280" y="3933720"/>
            <a:ext cx="1152720" cy="57492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6160" y="98064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睑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eyelid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50560" y="17002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睑内翻：瘢痕形成使睑缘向内翻转，沙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眼睑闭合障碍：甲亢、面神经麻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眼睑水肿：肾炎、慢性肝病、营养不良、贫血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上睑下垂：双侧：先天性、重症肌无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　　　　　　单侧：蛛网膜下腔出血、白喉、脑脓肿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93" name="Picture 4" descr="u=1199593598,1346013913&amp;gp=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4653000"/>
            <a:ext cx="1728720" cy="1871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u=3276511083,3815433473&amp;gp=-3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619280" y="4653000"/>
            <a:ext cx="1944720" cy="18381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u=2654175790,360757377&amp;gp=6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492360" y="4653000"/>
            <a:ext cx="2665440" cy="1854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1600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结膜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conjunctiva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78960" y="1928880"/>
            <a:ext cx="8132760" cy="76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睑结膜－－穹隆部结膜－－球结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99" name="Picture 5" descr="17"/>
          <p:cNvPicPr/>
          <p:nvPr/>
        </p:nvPicPr>
        <p:blipFill>
          <a:blip r:embed="rId1"/>
          <a:srcRect l="986" t="556" r="0" b="0"/>
          <a:stretch/>
        </p:blipFill>
        <p:spPr>
          <a:xfrm>
            <a:off x="826920" y="2708280"/>
            <a:ext cx="7490160" cy="3097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4920" y="1557000"/>
            <a:ext cx="861048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充血：结膜炎、角膜炎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颗粒、滤泡：砂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出血点：亚急性细菌性心内膜炎、出血性疾病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苍白：贫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膜发黄：黄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76360" y="105228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 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eyebal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4" name="Picture 3" descr="19"/>
          <p:cNvPicPr/>
          <p:nvPr/>
        </p:nvPicPr>
        <p:blipFill>
          <a:blip r:embed="rId1"/>
          <a:stretch/>
        </p:blipFill>
        <p:spPr>
          <a:xfrm>
            <a:off x="1619280" y="1700280"/>
            <a:ext cx="6337440" cy="419724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4"/>
          <p:cNvSpPr/>
          <p:nvPr/>
        </p:nvSpPr>
        <p:spPr>
          <a:xfrm>
            <a:off x="468360" y="2425680"/>
            <a:ext cx="64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外形与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1280" y="13410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1)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突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755640" y="3020400"/>
            <a:ext cx="79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双侧眼球突出：甲状腺功能亢进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单侧眼球突出：局部炎症或眶内占位性病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3280" y="112536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下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8229600" cy="16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侧：严重脱水、老年人框内脂肪萎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侧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Horner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综合征、眶尖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2" name="Picture 4" descr="006191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3571920"/>
            <a:ext cx="2808360" cy="2233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5"/>
          <p:cNvSpPr/>
          <p:nvPr/>
        </p:nvSpPr>
        <p:spPr>
          <a:xfrm>
            <a:off x="3710520" y="580536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外伤性眼球下陷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AutoShape 6"/>
          <p:cNvSpPr/>
          <p:nvPr/>
        </p:nvSpPr>
        <p:spPr>
          <a:xfrm rot="2606400">
            <a:off x="3031920" y="3855600"/>
            <a:ext cx="779400" cy="219240"/>
          </a:xfrm>
          <a:prstGeom prst="rightArrow">
            <a:avLst>
              <a:gd name="adj1" fmla="val 50000"/>
              <a:gd name="adj2" fmla="val 88875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328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3) 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眼球运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2000160"/>
            <a:ext cx="8610480" cy="86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顺序：左　左上　左下，右　右上　右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8" name="Picture 4" descr="20"/>
          <p:cNvPicPr/>
          <p:nvPr/>
        </p:nvPicPr>
        <p:blipFill>
          <a:blip r:embed="rId1"/>
          <a:srcRect l="1106" t="544" r="2051" b="-82"/>
          <a:stretch/>
        </p:blipFill>
        <p:spPr>
          <a:xfrm>
            <a:off x="1042920" y="2924280"/>
            <a:ext cx="7056360" cy="288108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5"/>
          <p:cNvSpPr/>
          <p:nvPr/>
        </p:nvSpPr>
        <p:spPr>
          <a:xfrm>
            <a:off x="611280" y="5877000"/>
            <a:ext cx="77724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眼球六个方向的运动、相应的配偶肌和神经支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6160" y="162828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角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000" y="2276280"/>
            <a:ext cx="784044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检查：透明度、云翳、白斑、软化、溃疡、新生血管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云翳、白斑：影响视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膜周血管增生：砂眼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膜软化：婴儿营养不良、维生素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缺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老年环：角膜周边白色混浊环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角膜周边棕褐色环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Kayser Fleischer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：肝豆状核变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1403280" y="1052640"/>
            <a:ext cx="6858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眼前节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AutoShape 16"/>
          <p:cNvSpPr/>
          <p:nvPr/>
        </p:nvSpPr>
        <p:spPr>
          <a:xfrm>
            <a:off x="1805040" y="3483000"/>
            <a:ext cx="679320" cy="593640"/>
          </a:xfrm>
          <a:prstGeom prst="hexagon">
            <a:avLst>
              <a:gd name="adj" fmla="val 28608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843280" y="1844640"/>
            <a:ext cx="396072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头部评估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1819440" y="2147760"/>
            <a:ext cx="688320" cy="594000"/>
            <a:chOff x="1819440" y="2147760"/>
            <a:chExt cx="688320" cy="594000"/>
          </a:xfrm>
        </p:grpSpPr>
        <p:sp>
          <p:nvSpPr>
            <p:cNvPr id="50" name="AutoShape 5"/>
            <p:cNvSpPr/>
            <p:nvPr/>
          </p:nvSpPr>
          <p:spPr>
            <a:xfrm>
              <a:off x="1824840" y="215784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1" name="AutoShape 6"/>
            <p:cNvSpPr/>
            <p:nvPr/>
          </p:nvSpPr>
          <p:spPr>
            <a:xfrm>
              <a:off x="1819440" y="2147760"/>
              <a:ext cx="682920" cy="583920"/>
            </a:xfrm>
            <a:prstGeom prst="hexagon">
              <a:avLst>
                <a:gd name="adj" fmla="val 29239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52" name="AutoShape 7"/>
            <p:cNvSpPr/>
            <p:nvPr/>
          </p:nvSpPr>
          <p:spPr>
            <a:xfrm>
              <a:off x="1859400" y="2182680"/>
              <a:ext cx="600120" cy="513720"/>
            </a:xfrm>
            <a:prstGeom prst="hexagon">
              <a:avLst>
                <a:gd name="adj" fmla="val 2920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53" name="Text Box 8"/>
          <p:cNvSpPr/>
          <p:nvPr/>
        </p:nvSpPr>
        <p:spPr>
          <a:xfrm>
            <a:off x="1988280" y="220500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4" name="Line 18"/>
          <p:cNvSpPr/>
          <p:nvPr/>
        </p:nvSpPr>
        <p:spPr>
          <a:xfrm>
            <a:off x="2556000" y="2709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5" name="Text Box 17"/>
          <p:cNvSpPr/>
          <p:nvPr/>
        </p:nvSpPr>
        <p:spPr>
          <a:xfrm>
            <a:off x="1969200" y="35672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>
            <a:off x="2482920" y="3933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2843280" y="3213000"/>
            <a:ext cx="39607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1360" indent="-711360" algn="ctr">
              <a:lnSpc>
                <a:spcPct val="2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颈部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55640" y="14126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巩膜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80840" y="1557360"/>
            <a:ext cx="710388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黄染多为黄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758880" y="2709720"/>
            <a:ext cx="8637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虹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792000" y="3645000"/>
            <a:ext cx="791064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纹理模糊、消失：炎症、水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虹膜形态异常、裂孔：虹膜后粘连、外伤、先天性虹膜缺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4292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瞳孔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pupil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00000" y="1908000"/>
            <a:ext cx="7499520" cy="36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直径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m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形状、大小、位置、双侧是否等圆、等大、光反射、集合反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常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圆形、双侧等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2" name="Picture 4" descr="u=3070937606,136809598&amp;gp=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4005360"/>
            <a:ext cx="3241440" cy="230328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95280" y="146160"/>
            <a:ext cx="8129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26560" y="1988640"/>
            <a:ext cx="831708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形状与大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常瞳孔：在自然光下直径为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m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圆形，双侧对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青光眼、眼内肿瘤：椭圆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虹膜粘连：不规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971640" y="1915920"/>
            <a:ext cx="74152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两侧瞳孔大小不等：脑肿瘤、颅内出血、脑疝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瞳孔对光反应迟钝或消失：昏迷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瞳孔缩小：虹膜炎、有机磷、巴比妥、吗啡、氯丙嗪等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瞳孔散大：视神经萎缩、阿托品、可卡因等中毒、深昏迷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双瞳孔大小不等：脑外伤、脑肿瘤、中枢神经梅毒、脑疝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对光反射减弱或消失：昏迷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0" name="Picture 4" descr="u=1314953706,1135174251&amp;gp=-1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84360" y="3789360"/>
            <a:ext cx="3274920" cy="216072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196640"/>
            <a:ext cx="86374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78960" y="2139480"/>
            <a:ext cx="7991640" cy="341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耳廓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auricle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外形、大小、位置、对称性、结节、红肿、牵拉痛、触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外耳道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external auditory canal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皮肤是否正常、溢液、瘢痕狭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　　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78960" y="1650600"/>
            <a:ext cx="8132760" cy="17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鼓膜是否穿孔、穿孔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若溢脓并由恶臭，为胆脂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6" name="Picture 3" descr="0220830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3860640"/>
            <a:ext cx="2303280" cy="18734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4"/>
          <p:cNvSpPr/>
          <p:nvPr/>
        </p:nvSpPr>
        <p:spPr>
          <a:xfrm>
            <a:off x="6114600" y="573300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鼓膜外伤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8" name="Picture 5" descr="0220490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187280" y="3860640"/>
            <a:ext cx="2449800" cy="187200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6"/>
          <p:cNvSpPr/>
          <p:nvPr/>
        </p:nvSpPr>
        <p:spPr>
          <a:xfrm>
            <a:off x="1794960" y="580428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正常鼓膜</a:t>
            </a: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900000" y="1125000"/>
            <a:ext cx="7772400" cy="28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乳突 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(mastoid)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内腔与中耳道相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化脓性中耳炎引流不畅　　乳突炎　　耳廓后方红肿、乳突区压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2" name="Line 3"/>
          <p:cNvSpPr/>
          <p:nvPr/>
        </p:nvSpPr>
        <p:spPr>
          <a:xfrm>
            <a:off x="4427640" y="2708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3" name="Line 4"/>
          <p:cNvSpPr/>
          <p:nvPr/>
        </p:nvSpPr>
        <p:spPr>
          <a:xfrm>
            <a:off x="6012000" y="2708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4" name="Picture 5" descr="u=3959813853,481056256&amp;gp=-4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3860640"/>
            <a:ext cx="2664000" cy="19368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u=4087243158,775738069&amp;gp=-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64000" y="3860640"/>
            <a:ext cx="2737080" cy="19447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99760" y="1428840"/>
            <a:ext cx="815508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听力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auditory acuity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粗测法：手（闭目</a:t>
            </a:r>
            <a:r>
              <a:rPr b="0" lang="en-US" sz="2400" spc="-1" strike="noStrike">
                <a:solidFill>
                  <a:srgbClr val="000000"/>
                </a:solidFill>
                <a:latin typeface="Dotum"/>
                <a:ea typeface="黑体"/>
              </a:rPr>
              <a:t>—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m</a:t>
            </a:r>
            <a:r>
              <a:rPr b="0" lang="en-US" sz="2400" spc="-1" strike="noStrike">
                <a:solidFill>
                  <a:srgbClr val="000000"/>
                </a:solidFill>
                <a:latin typeface="Dotum"/>
                <a:ea typeface="黑体"/>
              </a:rPr>
              <a:t>—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摩擦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减退：耳道有耵聍或异物、听神经损害、局部或全身血管硬化、中耳炎、耳硬化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95280" y="112536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鼻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000" y="2060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的外形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翼扇动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中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腔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腔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鼻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说出头颅检查的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解释颜面及其器官的检查项目及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解释颈部检查的检查项目及临床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运用头部检查的方法对患者进行评估并予以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A7FA2-60BD-4525-BE62-C2F345C2735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529920" y="1833120"/>
            <a:ext cx="7893000" cy="40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外形：皮肤颜色和鼻外形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梁红色斑块、高出皮面，向两侧面颊发展：系统性红斑狼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酒糟鼻：发红、血管扩张、组织肥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蛙状鼻：鼻息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鞍鼻：鼻骨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26920" y="1628280"/>
            <a:ext cx="74678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翼煽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叶性肺炎、支气管哮喘、心源性哮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中隔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偏曲、穿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侧：外伤、感染、血管损伤、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双侧：全身性疾病、高血压、肝脾疾病、维生素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K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缺乏，子宫内膜异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679320" y="1790640"/>
            <a:ext cx="7158240" cy="40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腔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急性鼻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鼻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萎缩性鼻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腔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卡他性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化脓性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324000" y="1413000"/>
            <a:ext cx="8748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鼻窦：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nasal sinus)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上颌窦：向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额  窦：向后向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筛  窦：向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蝶  窦：位置较深，不能在体表检查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9" name="Picture 4" descr="photo-3"/>
          <p:cNvPicPr/>
          <p:nvPr/>
        </p:nvPicPr>
        <p:blipFill>
          <a:blip r:embed="rId1"/>
          <a:stretch/>
        </p:blipFill>
        <p:spPr>
          <a:xfrm>
            <a:off x="1763640" y="3933720"/>
            <a:ext cx="5004000" cy="227664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rachel-mouth-3"/>
          <p:cNvPicPr/>
          <p:nvPr/>
        </p:nvPicPr>
        <p:blipFill>
          <a:blip r:embed="rId1"/>
          <a:stretch/>
        </p:blipFill>
        <p:spPr>
          <a:xfrm>
            <a:off x="2590920" y="2514600"/>
            <a:ext cx="4343400" cy="26668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11250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口</a:t>
            </a:r>
            <a:br>
              <a:rPr sz="28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304920" y="1769760"/>
            <a:ext cx="8084880" cy="39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唇颜色、疱疹、口角糜烂或歪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绀、苍白、樱桃红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周疱疹、角糜烂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角歪斜、唇裂、口唇肿胀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68000" y="1197000"/>
            <a:ext cx="7467480" cy="52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腔黏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腔黏膜可出现黑色素沉着：肾上腺皮质功能减退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第二磨牙颊黏膜处出现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Koplik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斑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麻疹的早期特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黏膜下出血：出血性疾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黏膜溃疡：口腔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鹅口疮：白色念珠菌感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11280" y="1447920"/>
            <a:ext cx="8137440" cy="50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注意有无龋齿、残根、缺齿、义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齿疾患表示格式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斑釉牙：饮用含氟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4932360" y="3211560"/>
            <a:ext cx="3600360" cy="72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Line 5"/>
          <p:cNvSpPr/>
          <p:nvPr/>
        </p:nvSpPr>
        <p:spPr>
          <a:xfrm>
            <a:off x="5076720" y="3571920"/>
            <a:ext cx="324036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Line 6"/>
          <p:cNvSpPr/>
          <p:nvPr/>
        </p:nvSpPr>
        <p:spPr>
          <a:xfrm>
            <a:off x="6588000" y="3282840"/>
            <a:ext cx="0" cy="57636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6732720" y="3282840"/>
            <a:ext cx="151128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12345678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6732720" y="3643200"/>
            <a:ext cx="151128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12345678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5076720" y="3282840"/>
            <a:ext cx="144000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8765432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5076720" y="3643200"/>
            <a:ext cx="144000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87654321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8604360" y="3355920"/>
            <a:ext cx="287280" cy="289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左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4513320" y="3416400"/>
            <a:ext cx="360360" cy="288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右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6443640" y="2995560"/>
            <a:ext cx="360360" cy="216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上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6443640" y="4003560"/>
            <a:ext cx="360360" cy="289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Times New Roman"/>
                <a:ea typeface="宋体"/>
              </a:rPr>
              <a:t>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317160" y="20916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头部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755280" y="1373040"/>
            <a:ext cx="7388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检查：牙齿颜色、有无肿胀、溢脓、溃疡、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牙周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牙龈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铅线（牙龈游离沿蓝灰色线）：铅中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218960" y="1326960"/>
            <a:ext cx="7543800" cy="44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舌面干燥、体积小：严重脱水、放疗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舌体积大：炎症、黏液水肿、呆小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地图舌、舌裂纹、草莓舌、牛肉舌、镜面舌、毛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伸舌轻微震颤：甲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伸舌偏斜：舌下神经麻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nose move"/>
          <p:cNvPicPr/>
          <p:nvPr/>
        </p:nvPicPr>
        <p:blipFill>
          <a:blip r:embed="rId1"/>
          <a:stretch/>
        </p:blipFill>
        <p:spPr>
          <a:xfrm>
            <a:off x="5651640" y="2852640"/>
            <a:ext cx="2057400" cy="23623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75564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发和头皮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颜面及其器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u=2725297383,991446369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92360" y="189000"/>
            <a:ext cx="2220840" cy="278136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u=2879229624,2639789129&amp;gp=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03640" y="260280"/>
            <a:ext cx="3097440" cy="2737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u=197481857,92656269&amp;gp=3"/>
          <p:cNvPicPr/>
          <p:nvPr/>
        </p:nvPicPr>
        <p:blipFill>
          <a:blip r:embed="rId5"/>
          <a:stretch/>
        </p:blipFill>
        <p:spPr>
          <a:xfrm>
            <a:off x="5148360" y="3933720"/>
            <a:ext cx="2879640" cy="2159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u=4056775457,1176561036&amp;gp=3"/>
          <p:cNvPicPr/>
          <p:nvPr/>
        </p:nvPicPr>
        <p:blipFill>
          <a:blip r:embed="rId6"/>
          <a:stretch/>
        </p:blipFill>
        <p:spPr>
          <a:xfrm>
            <a:off x="1835280" y="3860640"/>
            <a:ext cx="1822320" cy="230364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8"/>
          <p:cNvSpPr/>
          <p:nvPr/>
        </p:nvSpPr>
        <p:spPr>
          <a:xfrm>
            <a:off x="1692360" y="3213000"/>
            <a:ext cx="2158920" cy="5050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地图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5435640" y="3139920"/>
            <a:ext cx="2448000" cy="57636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草莓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Rectangle 11"/>
          <p:cNvSpPr/>
          <p:nvPr/>
        </p:nvSpPr>
        <p:spPr>
          <a:xfrm>
            <a:off x="5651640" y="6165720"/>
            <a:ext cx="2087280" cy="50328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镜面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Rectangle 12"/>
          <p:cNvSpPr/>
          <p:nvPr/>
        </p:nvSpPr>
        <p:spPr>
          <a:xfrm>
            <a:off x="1692360" y="6237360"/>
            <a:ext cx="2158920" cy="504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舌裂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900000" y="1197000"/>
            <a:ext cx="77724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咽部及扁桃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04" name="Picture 3" descr="24"/>
          <p:cNvPicPr/>
          <p:nvPr/>
        </p:nvPicPr>
        <p:blipFill>
          <a:blip r:embed="rId1"/>
          <a:srcRect l="0" t="2456" r="1779" b="2731"/>
          <a:stretch/>
        </p:blipFill>
        <p:spPr>
          <a:xfrm>
            <a:off x="755640" y="1773360"/>
            <a:ext cx="7561440" cy="4032000"/>
          </a:xfrm>
          <a:prstGeom prst="rect">
            <a:avLst/>
          </a:prstGeom>
          <a:ln w="0">
            <a:noFill/>
          </a:ln>
        </p:spPr>
      </p:pic>
      <p:sp>
        <p:nvSpPr>
          <p:cNvPr id="205" name="Oval 4"/>
          <p:cNvSpPr/>
          <p:nvPr/>
        </p:nvSpPr>
        <p:spPr>
          <a:xfrm>
            <a:off x="539640" y="3573360"/>
            <a:ext cx="863640" cy="935280"/>
          </a:xfrm>
          <a:prstGeom prst="ellipse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838080" y="981000"/>
            <a:ext cx="83059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dddddd"/>
                </a:solidFill>
                <a:latin typeface="Times New Roman"/>
                <a:ea typeface="宋体"/>
              </a:rPr>
              <a:t>            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扁桃体肿大分度</a:t>
            </a:r>
            <a:r>
              <a:rPr b="1" lang="zh-CN" sz="3200" spc="-1" strike="noStrike">
                <a:solidFill>
                  <a:srgbClr val="dddddd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1187280" y="1628640"/>
            <a:ext cx="648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不超过咽腭弓者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度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超过咽腭弓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度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达到或超过咽后壁中线者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度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09" name="Picture 4" descr="扁桃体肿大"/>
          <p:cNvPicPr/>
          <p:nvPr/>
        </p:nvPicPr>
        <p:blipFill>
          <a:blip r:embed="rId1"/>
          <a:stretch/>
        </p:blipFill>
        <p:spPr>
          <a:xfrm>
            <a:off x="2050920" y="3141720"/>
            <a:ext cx="4267440" cy="335268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23"/>
          <p:cNvPicPr/>
          <p:nvPr/>
        </p:nvPicPr>
        <p:blipFill>
          <a:blip r:embed="rId1"/>
          <a:srcRect l="1060" t="1254" r="1235" b="940"/>
          <a:stretch/>
        </p:blipFill>
        <p:spPr>
          <a:xfrm>
            <a:off x="0" y="765000"/>
            <a:ext cx="9144000" cy="49690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763640" y="5805360"/>
            <a:ext cx="5818320" cy="6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扁桃体位置及其大小分布示意图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838080" y="189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26920" y="981000"/>
            <a:ext cx="781056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腮腺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5280" y="2420640"/>
            <a:ext cx="810720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检查注意：导管口有无分泌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急性流行性腮腺炎：腮腺肿大（以耳垂为中心隆起），压痛、腮腺导管口红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4"/>
          <p:cNvSpPr/>
          <p:nvPr/>
        </p:nvSpPr>
        <p:spPr>
          <a:xfrm>
            <a:off x="1187280" y="2060640"/>
            <a:ext cx="5181840" cy="27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颈部的外形与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颈部血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甲状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气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379080" y="1999800"/>
            <a:ext cx="821196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双侧对称、男性喉结、转颈可见胸锁乳突肌、颈部血管不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显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常人坐位时颈部直立，运动自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颈部活动受限且伴疼痛：软组织炎症、急性颈肌扭伤、颈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椎病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斜颈：颈外伤、瘢痕收缩、先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头不能抬起：严重衰竭、重症肌无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颈部强直：脑膜刺激征，见于脑膜炎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2005200" y="13208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一）颈部外形与运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50560" y="980640"/>
            <a:ext cx="855324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（二）颈部血管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96472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幼圆"/>
                <a:ea typeface="幼圆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颈静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颈静脉怒张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见于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右心衰竭、缩窄性心包炎、心包积液、上腔静脉综合征、胸腔、腹腔压力高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3" descr="01-12_100"/>
          <p:cNvPicPr/>
          <p:nvPr/>
        </p:nvPicPr>
        <p:blipFill>
          <a:blip r:embed="rId1"/>
          <a:stretch/>
        </p:blipFill>
        <p:spPr>
          <a:xfrm>
            <a:off x="1763640" y="1052640"/>
            <a:ext cx="5977080" cy="46558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4"/>
          <p:cNvSpPr/>
          <p:nvPr/>
        </p:nvSpPr>
        <p:spPr>
          <a:xfrm>
            <a:off x="3564000" y="5877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颈静脉怒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250560" y="1915920"/>
            <a:ext cx="78246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颈动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常人颈动脉搏动不易看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安静情况下出现颈动脉搏动常见于：主动脉关闭不全、高血压、甲状腺功能亢进和严重贫血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1999800"/>
            <a:ext cx="82501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发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颜色、疏密度、脱发类型与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皮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颜色、头皮屑、头癣、疖痈、外伤、血肿、瘢痕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1403280" y="119700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发和头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6160" y="11250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三）甲状腺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解剖位置：位于甲状软骨下方，正常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克，表面光滑，柔软不易触及。在作吞咽动作时可随吞咽上下移动，以此可与颈前其他包块鉴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2" name="Picture 4" descr="thyroid2"/>
          <p:cNvPicPr/>
          <p:nvPr/>
        </p:nvPicPr>
        <p:blipFill>
          <a:blip r:embed="rId1"/>
          <a:stretch/>
        </p:blipFill>
        <p:spPr>
          <a:xfrm>
            <a:off x="1979640" y="4076640"/>
            <a:ext cx="4537080" cy="24465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395280" y="1413000"/>
            <a:ext cx="8610480" cy="43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检查方法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①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视诊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②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触诊：双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单手触诊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③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听诊：血管杂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低调连续静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嗡鸣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收缩期血管杂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Rectangle 2"/>
          <p:cNvSpPr/>
          <p:nvPr/>
        </p:nvSpPr>
        <p:spPr>
          <a:xfrm>
            <a:off x="1054080" y="52056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4" descr="u=1135366495,334030961&amp;gp=0"/>
          <p:cNvPicPr/>
          <p:nvPr/>
        </p:nvPicPr>
        <p:blipFill>
          <a:blip r:embed="rId1"/>
          <a:stretch/>
        </p:blipFill>
        <p:spPr>
          <a:xfrm>
            <a:off x="4788000" y="115920"/>
            <a:ext cx="3924360" cy="29433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u=2512288472,3254640954&amp;gp=28"/>
          <p:cNvPicPr/>
          <p:nvPr/>
        </p:nvPicPr>
        <p:blipFill>
          <a:blip r:embed="rId2"/>
          <a:stretch/>
        </p:blipFill>
        <p:spPr>
          <a:xfrm>
            <a:off x="900000" y="981000"/>
            <a:ext cx="3745080" cy="23176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u=3067451700,4008351304&amp;gp=-36"/>
          <p:cNvPicPr/>
          <p:nvPr/>
        </p:nvPicPr>
        <p:blipFill>
          <a:blip r:embed="rId3"/>
          <a:stretch/>
        </p:blipFill>
        <p:spPr>
          <a:xfrm>
            <a:off x="900000" y="4005360"/>
            <a:ext cx="4176720" cy="25351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7" descr="u=3389612004,3170703425&amp;gp=46"/>
          <p:cNvPicPr/>
          <p:nvPr/>
        </p:nvPicPr>
        <p:blipFill>
          <a:blip r:embed="rId4"/>
          <a:stretch/>
        </p:blipFill>
        <p:spPr>
          <a:xfrm>
            <a:off x="4788000" y="3141720"/>
            <a:ext cx="3960720" cy="3367080"/>
          </a:xfrm>
          <a:prstGeom prst="rect">
            <a:avLst/>
          </a:prstGeom>
          <a:ln w="0">
            <a:noFill/>
          </a:ln>
        </p:spPr>
      </p:pic>
      <p:sp>
        <p:nvSpPr>
          <p:cNvPr id="240" name="Rectangle 8"/>
          <p:cNvSpPr/>
          <p:nvPr/>
        </p:nvSpPr>
        <p:spPr>
          <a:xfrm>
            <a:off x="1258920" y="476280"/>
            <a:ext cx="2881440" cy="504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黑体"/>
              </a:rPr>
              <a:t>前面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Rectangle 9"/>
          <p:cNvSpPr/>
          <p:nvPr/>
        </p:nvSpPr>
        <p:spPr>
          <a:xfrm>
            <a:off x="1476360" y="3357720"/>
            <a:ext cx="2590920" cy="57600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黑体"/>
              </a:rPr>
              <a:t>后面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42920" y="134136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甲状腺肿大分度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748720" cy="36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不能看到肿大但能触及者，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Ⅰ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度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能看到肿大又能触及但在胸锁乳突肌内者，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Ⅱ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度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超过胸锁乳突肌外缘者，为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Ⅲ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4920" y="836280"/>
            <a:ext cx="8242200" cy="155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（四）气管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560" y="1928880"/>
            <a:ext cx="8132760" cy="419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正常人气管位于颈部正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两侧距离不等，提示气管移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气管偏向健侧：大量胸腔积液、积气或纵隔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气管偏向患侧：肺不张、胸膜粘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颈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头部评估  主要采用视诊和触诊。检查的内容包括头发与头皮、头颅、颜面及其器官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颜面及其器官评估  包括眼（视功能、外眼、眼前节和眼底四部分），耳（外耳、中耳、乳突、听力），鼻（鼻外形与颜色、有无鼻翼扇动、中隔有无偏曲、鼻出血、分泌物、鼻窦压痛），口（口唇、口腔黏膜、牙齿、牙龈、舌、咽和扁桃体、腮腺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9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颈部评估  以视诊、触诊、听诊为主。检查内容包括颈部外形与运动、血管、甲状腺、气管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甲状腺检查  一般按视诊、触诊、听诊的顺序进行。检查内容包括甲状腺的大小、质地、是否对称，表面是否光滑，有无结节、压痛和震颤，与周围组织有无粘连，听诊有无血管杂音。甲状腺肿大的分度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小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新生儿脑积水的颅形为 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巨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方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尖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变形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小颅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气管向健侧移位见于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胸腔积液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不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硬化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结核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胸膜粘连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双侧眼球突出见于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甲状腺功能亢进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局部炎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颅内病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眶内炎症病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．肾小球肾炎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6520" y="1052640"/>
            <a:ext cx="7665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头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0920" y="2060280"/>
            <a:ext cx="7777080" cy="34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头颅的检查应注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小、形态和运动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头颅的大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测量头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生儿头围约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4c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岁可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3cm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或以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矢状缝和其他颅缝约在生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月骨化</a:t>
            </a:r>
            <a:r>
              <a:rPr b="1" lang="zh-CN" sz="2400" spc="-1" strike="noStrike">
                <a:solidFill>
                  <a:srgbClr val="8ac8de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04920" y="1484280"/>
            <a:ext cx="8610480" cy="47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口唇呈樱桃红色见于（  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氧化碳中毒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B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铁血红蛋白血症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C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肺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D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心功能不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E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酒精中毒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500040" y="285840"/>
            <a:ext cx="781704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课堂练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32000" y="1268280"/>
            <a:ext cx="6858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临床上常见的头颅异常及畸形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3600" y="2060280"/>
            <a:ext cx="8150400" cy="34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小颅：见于小儿囟门过早闭合，常伴有智力障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巨颅：见于脑积水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方颅：多见于小儿佝偻病或先天性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梅毒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尖颅：见于先天性疾患尖颅并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趾）畸形，即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Apert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综合征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）长颅：见于马方综合征及肢端肥大症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72" name="Picture 4" descr="u=2306184876,3255380589&amp;gp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70680" y="2494080"/>
            <a:ext cx="3073320" cy="33112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3960" y="1928880"/>
            <a:ext cx="8129520" cy="415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部运动异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颈椎疾患：头颅活动受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头颅不随意运动：震颤麻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与颈动脉搏动一致的点头运动：</a:t>
            </a:r>
            <a:r>
              <a:rPr b="0" lang="zh-CN" sz="2800" spc="-1" strike="noStrike">
                <a:solidFill>
                  <a:srgbClr val="000000"/>
                </a:solidFill>
                <a:latin typeface="仿宋_GB2312"/>
                <a:ea typeface="黑体"/>
              </a:rPr>
              <a:t>见于重度主动脉关闭不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5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1966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颜面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7" name="Picture 3" descr="nose move"/>
          <p:cNvPicPr/>
          <p:nvPr/>
        </p:nvPicPr>
        <p:blipFill>
          <a:blip r:embed="rId1"/>
          <a:stretch/>
        </p:blipFill>
        <p:spPr>
          <a:xfrm>
            <a:off x="5940360" y="2205000"/>
            <a:ext cx="2057400" cy="33116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4"/>
          <p:cNvSpPr/>
          <p:nvPr/>
        </p:nvSpPr>
        <p:spPr>
          <a:xfrm>
            <a:off x="2124000" y="2205000"/>
            <a:ext cx="3168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头部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38:48Z</dcterms:modified>
  <cp:revision>95</cp:revision>
  <dc:subject/>
  <dc:title>内科护理学</dc:title>
</cp:coreProperties>
</file>