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5E7B5-D487-4722-8347-33D49E3D5E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F5159-6184-4618-9540-DEF57AD69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1DEF4-2788-47F5-9786-EE50E14EF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36D72-1CDC-4C68-B05B-C068B4957F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FABB8-B07A-4EC2-8FE6-6F5B51C7B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EDF6B-9363-4630-9C41-58F502DB8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B59BB-6863-4E9B-A0B4-120B02645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D9F0A-C7CF-41F0-B1C6-C042584DD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B3A68-DE4B-44FC-8875-38E3D203C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1EEB8-9F95-43F1-AA80-ED271D1A8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95283-3DD1-4133-B7B5-4102438EE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70ADE-2CEA-47A3-83CB-9640B08D9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51659-3ACD-4DF0-820C-6CF8C425629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31280" y="2394000"/>
            <a:ext cx="769644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第十三节 腹  泻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急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31280" y="2124000"/>
            <a:ext cx="83710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肠道疾病：由病毒、细菌、真菌、原虫、蠕虫等</a:t>
            </a:r>
            <a:r>
              <a:rPr b="1" lang="zh-CN" sz="2800" spc="-1" strike="noStrike" u="sng">
                <a:solidFill>
                  <a:srgbClr val="969696"/>
                </a:solidFill>
                <a:uFillTx/>
                <a:latin typeface="Verdana"/>
                <a:ea typeface="楷体_GB2312"/>
              </a:rPr>
              <a:t>感染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引起的肠炎及急性出血性坏死性肠炎、急性克隆病、溃疡性结肠炎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Verdana"/>
                <a:ea typeface="楷体_GB2312"/>
              </a:rPr>
              <a:t>医院内感染、抗生素使用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亦可引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急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11080" y="1371240"/>
            <a:ext cx="8104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全身性感染：败血症、伤寒或副伤寒、钩端螺旋体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急性中毒：服食河豚、鱼胆及化学毒物如砒、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其他：如变态反应性肠炎、过敏性紫癜、服用某些药物如利血平、新斯的明等引起的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46280" y="14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慢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消化系统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胃部疾病：萎缩性胃炎、胃大部切除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肠道感染：结核、菌痢、血吸虫病、钩虫病、绦虫病、慢性阿米巴性痢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肠道非感染性病变：克罗恩病、溃结、结肠多发性息肉病、吸收不良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肠道肿瘤：结肠癌、结肠其他恶性肿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胰腺疾病：慢性胰腺炎、胰腺癌、囊性纤维化、胰腺广泛切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肝胆疾病：肝硬化、慢性胆囊炎与胆石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慢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全身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内分泌及代谢障碍性疾病：甲亢、胃泌素瘤、类癌综合征、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VIP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瘤及糖尿病性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药物副反应：利血平、甲状腺素、洋地黄、考来烯胺等，某些抗肿瘤药物和抗生素亦可致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神经功能紊乱：神经功能性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其他：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SLE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、尿毒症、硬皮病、放射性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发生机制与临床表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11080" y="1371240"/>
            <a:ext cx="4221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楷体_GB2312"/>
                <a:ea typeface="楷体_GB2312"/>
              </a:rPr>
              <a:t>分泌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透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出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动力性腹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不良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分泌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胃液分泌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----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胃壁细胞和主细胞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肠道分泌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----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黏膜隐窝细胞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肠道吸收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----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肠绒毛腔面上皮细胞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 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&gt; 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    分泌性腹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  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; 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Line 4"/>
          <p:cNvSpPr/>
          <p:nvPr/>
        </p:nvSpPr>
        <p:spPr>
          <a:xfrm>
            <a:off x="3627360" y="4464000"/>
            <a:ext cx="76212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8" name="Line 5"/>
          <p:cNvSpPr/>
          <p:nvPr/>
        </p:nvSpPr>
        <p:spPr>
          <a:xfrm flipV="1">
            <a:off x="2592360" y="5003280"/>
            <a:ext cx="0" cy="304920"/>
          </a:xfrm>
          <a:prstGeom prst="line">
            <a:avLst/>
          </a:prstGeom>
          <a:ln cap="sq" w="57240">
            <a:solidFill>
              <a:srgbClr val="046ca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9" name="Line 6"/>
          <p:cNvSpPr/>
          <p:nvPr/>
        </p:nvSpPr>
        <p:spPr>
          <a:xfrm>
            <a:off x="4167360" y="5138640"/>
            <a:ext cx="30456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0" name="Line 7"/>
          <p:cNvSpPr/>
          <p:nvPr/>
        </p:nvSpPr>
        <p:spPr>
          <a:xfrm flipH="1">
            <a:off x="4122360" y="5319720"/>
            <a:ext cx="30492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分泌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72392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如霍乱弧菌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霍乱弧菌毒素与黏膜细胞受体结合，激活腺苷环化酶，增加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cAMP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浓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cAMP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对电解质和水分的分泌起诱导作用，引起大量肠液分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分泌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2360" y="1981080"/>
            <a:ext cx="8663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药物：蓖麻油、酚酞、芦荟、番泻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甲状腺制剂、前列腺素类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毒素：霍乱弧菌、大肠埃希菌、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激素：胃泌素瘤、血管活性肠肽瘤（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VIP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血清素、降钙素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97000" y="14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分泌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66280" y="1270080"/>
            <a:ext cx="7891560" cy="55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临床特征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大量水泻，水样便，便量大于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1000ml/d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无脓血黏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与进食无关，禁食后腹泻不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一般无腹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粪钾、粪碳酸氢根浓度高，渗透压接近血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因丢失引起严重低钾血症和酸中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发生机制与临床表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11080" y="1371240"/>
            <a:ext cx="4221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楷体_GB2312"/>
                <a:ea typeface="楷体_GB2312"/>
              </a:rPr>
              <a:t>渗透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出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动力性腹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不良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教学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腹泻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阐述腹泻的分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的语言解释腹泻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比较各类腹泻，正确说明其临床表现的区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运用本节所学知识，能针对腹泻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根据护理评估，能正确作出护理诊断，并列出相关因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渗透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6280" y="1943280"/>
            <a:ext cx="7738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肠内容物渗透压增高（＞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80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20mmol/L)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，血浆中水分通过肠壁进入肠腔，肠腔存留大量液体刺激肠运动而致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&gt;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：吸收  分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Line 5"/>
          <p:cNvSpPr/>
          <p:nvPr/>
        </p:nvSpPr>
        <p:spPr>
          <a:xfrm>
            <a:off x="5607000" y="4059360"/>
            <a:ext cx="22860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7" name="Line 6"/>
          <p:cNvSpPr/>
          <p:nvPr/>
        </p:nvSpPr>
        <p:spPr>
          <a:xfrm flipH="1">
            <a:off x="5606640" y="4284720"/>
            <a:ext cx="22860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8" name="Line 7"/>
          <p:cNvSpPr/>
          <p:nvPr/>
        </p:nvSpPr>
        <p:spPr>
          <a:xfrm>
            <a:off x="4572000" y="4059360"/>
            <a:ext cx="0" cy="30456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渗透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药物：泻药如硫酸镁、硫酸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制酸药如氧化镁、氢氧化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脱水剂如甘露醇；还有乳果糖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食物：乳糖酶缺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06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渗透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45920" y="1314360"/>
            <a:ext cx="7483320" cy="51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粪中可含有未经消化或吸收的食物或药物，泡沫，有恶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禁食或停药后腹泻停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不伴有腹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肠腔内的渗透压超过血浆渗透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粪中电解质含量不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发生机制与临床表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11080" y="1371240"/>
            <a:ext cx="4221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透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楷体_GB2312"/>
                <a:ea typeface="楷体_GB2312"/>
              </a:rPr>
              <a:t>渗出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动力性腹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不良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渗出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7343640" cy="20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黏膜炎症、溃疡、浸润性病变导致血浆、黏液、脓血等渗出。如各种肠道炎症引起的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01640" y="234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渗出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45920" y="1314360"/>
            <a:ext cx="7483320" cy="51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粪中脓血黏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伴有腹痛、发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腹痛部位：小肠（脐周）、结肠（下腹部）、直肠（里急后重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发生机制与临床表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11080" y="1371240"/>
            <a:ext cx="4221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透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出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楷体_GB2312"/>
                <a:ea typeface="楷体_GB2312"/>
              </a:rPr>
              <a:t>动力性腹泻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不良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2000" y="14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动力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26840" y="1821960"/>
            <a:ext cx="8188200" cy="43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肠蠕动亢进致肠内食糜停留时间少，未被充分吸收所致的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如甲亢、肠炎及胃肠功能紊乱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肠动力增加         动力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Line 4"/>
          <p:cNvSpPr/>
          <p:nvPr/>
        </p:nvSpPr>
        <p:spPr>
          <a:xfrm>
            <a:off x="3176640" y="4194000"/>
            <a:ext cx="76212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动力性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317600" y="1461960"/>
            <a:ext cx="709128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粪便稀烂或水样，无脓血及黏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腹泻伴有肠鸣音亢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不伴有腹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发生机制与临床表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11080" y="1371240"/>
            <a:ext cx="4221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透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出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动力性腹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楷体_GB2312"/>
                <a:ea typeface="楷体_GB2312"/>
              </a:rPr>
              <a:t>吸收不良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正常排便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次数：一般每日一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个别每日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次或每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日一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性状：正常（成形），黄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含水分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50%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80%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量：每日排出粪便的平均重量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</a:rPr>
              <a:t>≤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00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克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吸收不良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43000" y="2285640"/>
            <a:ext cx="7524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肠黏膜的吸收面积减少或吸收障碍引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小肠大部分切除、吸收不良综合征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&gt;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;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  分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Line 4"/>
          <p:cNvSpPr/>
          <p:nvPr/>
        </p:nvSpPr>
        <p:spPr>
          <a:xfrm>
            <a:off x="4616280" y="4059360"/>
            <a:ext cx="0" cy="30456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1" name="Line 5"/>
          <p:cNvSpPr/>
          <p:nvPr/>
        </p:nvSpPr>
        <p:spPr>
          <a:xfrm>
            <a:off x="5651640" y="4149720"/>
            <a:ext cx="22860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2" name="Line 6"/>
          <p:cNvSpPr/>
          <p:nvPr/>
        </p:nvSpPr>
        <p:spPr>
          <a:xfrm flipH="1">
            <a:off x="5606640" y="4284720"/>
            <a:ext cx="22860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吸收不良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82720" y="1900080"/>
            <a:ext cx="7470720" cy="42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粪便含大量脂肪及泡沫，量多而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禁食可减轻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粪的渗透压由未吸收的电解质或其他物质所组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临床表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246400" y="1733400"/>
            <a:ext cx="5402160" cy="451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起病及病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腹泻次数及粪便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腹泻与腹痛关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化验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线及结肠镜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临床表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15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起病及病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起病急，病程短伴有发热、腹泻次数频繁者多为肠道感染或食物中毒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慢性腹泻起病缓慢，病程长，多见于慢性感染、非特异性炎症、吸收不良或肠道肿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01640" y="234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临床表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57360" y="1406160"/>
            <a:ext cx="742464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腹泻次数及粪便性质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宋体"/>
              </a:rPr>
              <a:t>急性感染性腹泻大便次数可达</a:t>
            </a:r>
            <a:r>
              <a:rPr b="0" lang="zh-CN" sz="2000" spc="-1" strike="noStrike">
                <a:solidFill>
                  <a:srgbClr val="046ca6"/>
                </a:solidFill>
                <a:latin typeface="宋体"/>
              </a:rPr>
              <a:t>10</a:t>
            </a:r>
            <a:r>
              <a:rPr b="0" lang="zh-CN" sz="2000" spc="-1" strike="noStrike">
                <a:solidFill>
                  <a:srgbClr val="046ca6"/>
                </a:solidFill>
                <a:latin typeface="宋体"/>
              </a:rPr>
              <a:t>次以上，粪便量多而稀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宋体"/>
              </a:rPr>
              <a:t>细菌感染，则初为水样后为黏液血便或脓血便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宋体"/>
              </a:rPr>
              <a:t>阿米巴痢疾的粪便呈果酱样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69696"/>
                </a:solidFill>
                <a:latin typeface="宋体"/>
              </a:rPr>
              <a:t>柏油样便：上消化道出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69696"/>
                </a:solidFill>
                <a:latin typeface="宋体"/>
              </a:rPr>
              <a:t>白色陶土样便：胆道阻塞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69696"/>
                </a:solidFill>
                <a:latin typeface="宋体"/>
              </a:rPr>
              <a:t>白色米泔水样便：霍乱、副霍乱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69696"/>
                </a:solidFill>
                <a:latin typeface="宋体"/>
              </a:rPr>
              <a:t>无光样黑色便：动物血、铁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69696"/>
                </a:solidFill>
                <a:latin typeface="宋体"/>
              </a:rPr>
              <a:t>食用大量绿叶蔬菜：暗绿色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临床表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10720" y="1371240"/>
            <a:ext cx="7682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慢性腹泻：每天排便次数可多可少，可为稀薄便，亦可为黏液、脓液或血便，见于慢性细菌性或阿米巴痢疾，亦见于炎症性肠病及结、直肠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临床表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33360" y="1371240"/>
            <a:ext cx="73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腹泻与腹痛的关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急性腹泻常有腹痛。小肠疾病的腹泻疼痛常在脐周，便后常不缓解，结肠疾病的疼痛多在下腹，且便后疼痛可缓解或减轻。分泌性腹泻往往无明显腹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01640" y="14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问诊要点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45920" y="1270080"/>
            <a:ext cx="7740360" cy="51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腹泻的疾病史、用药史、不洁饮食、精神因素、同食者群集发病的历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腹泻的起病、次数、性状、颜色、量及气味，腹泻加重、缓解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功能性健康型态的影响：营养、皮肤、水电解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诊断治疗及护理经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体液不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营养失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皮肤完整性受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rrhe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Passage of abnormally liquid  or unformed stools at an increased frequency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cute diarrhe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Persistent diarrhe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hronic diarrhe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腹  泻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79560" y="1552680"/>
            <a:ext cx="768168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排便次数增多：增加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</a:rPr>
              <a:t>≥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次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性状：稀薄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含水分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</a:rPr>
              <a:t>&gt;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80%)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带有黏液脓血或未消化食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量：总量增加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</a:rPr>
              <a:t>&gt;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00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克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分类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01640" y="1981080"/>
            <a:ext cx="819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  <a:ea typeface="楷体_GB2312"/>
              </a:rPr>
              <a:t>病因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楷体_GB2312"/>
              </a:rPr>
              <a:t>病毒性、细菌性、肿瘤性、过敏性、中毒性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  <a:ea typeface="楷体_GB2312"/>
              </a:rPr>
              <a:t>病程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楷体_GB2312"/>
              </a:rPr>
              <a:t>急性、慢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  <a:ea typeface="楷体_GB2312"/>
              </a:rPr>
              <a:t>性状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楷体_GB2312"/>
              </a:rPr>
              <a:t>血性、脓性、水样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Verdana"/>
                <a:ea typeface="楷体_GB2312"/>
              </a:rPr>
              <a:t>发病机制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楷体_GB2312"/>
              </a:rPr>
              <a:t>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肠内水平衡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2285640"/>
            <a:ext cx="3581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4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小时</a:t>
            </a:r>
            <a:r>
              <a:rPr b="1" lang="zh-CN" sz="2800" spc="-1" strike="noStrike">
                <a:solidFill>
                  <a:srgbClr val="ff99ff"/>
                </a:solidFill>
                <a:latin typeface="楷体_GB2312"/>
                <a:ea typeface="楷体_GB2312"/>
              </a:rPr>
              <a:t>进入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小肠的液体和电解质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食物约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ff"/>
                </a:solidFill>
                <a:latin typeface="楷体_GB2312"/>
                <a:ea typeface="楷体_GB2312"/>
              </a:rPr>
              <a:t>唾液腺、</a:t>
            </a:r>
            <a:r>
              <a:rPr b="1" lang="zh-CN" sz="2800" spc="-1" strike="noStrike" u="sng">
                <a:solidFill>
                  <a:srgbClr val="ff99ff"/>
                </a:solidFill>
                <a:uFillTx/>
                <a:latin typeface="楷体_GB2312"/>
                <a:ea typeface="楷体_GB2312"/>
              </a:rPr>
              <a:t>胃、肠、肝、胰分泌</a:t>
            </a:r>
            <a:r>
              <a:rPr b="1" lang="zh-CN" sz="2800" spc="-1" strike="noStrike">
                <a:solidFill>
                  <a:srgbClr val="ff99ff"/>
                </a:solidFill>
                <a:latin typeface="楷体_GB2312"/>
                <a:ea typeface="楷体_GB2312"/>
              </a:rPr>
              <a:t>约</a:t>
            </a:r>
            <a:r>
              <a:rPr b="1" lang="en-US" sz="2800" spc="-1" strike="noStrike">
                <a:solidFill>
                  <a:srgbClr val="ff99ff"/>
                </a:solidFill>
                <a:latin typeface="楷体_GB2312"/>
                <a:ea typeface="楷体_GB2312"/>
              </a:rPr>
              <a:t>7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05160" y="2286000"/>
            <a:ext cx="3429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4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小时内</a:t>
            </a:r>
            <a:r>
              <a:rPr b="1" lang="zh-CN" sz="2800" spc="-1" strike="noStrike">
                <a:solidFill>
                  <a:srgbClr val="c9fca2"/>
                </a:solidFill>
                <a:latin typeface="楷体_GB2312"/>
                <a:ea typeface="楷体_GB2312"/>
              </a:rPr>
              <a:t>排出</a:t>
            </a:r>
            <a:r>
              <a:rPr b="1" lang="en-US" sz="2800" spc="-1" strike="noStrike">
                <a:solidFill>
                  <a:srgbClr val="c9fca2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粪便的水分不到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0.2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9fca2"/>
                </a:solidFill>
                <a:uFillTx/>
                <a:latin typeface="楷体_GB2312"/>
                <a:ea typeface="楷体_GB2312"/>
              </a:rPr>
              <a:t>小肠吸收大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9fca2"/>
                </a:solidFill>
                <a:latin typeface="楷体_GB2312"/>
                <a:ea typeface="楷体_GB2312"/>
              </a:rPr>
              <a:t>大肠吸收</a:t>
            </a:r>
            <a:r>
              <a:rPr b="1" lang="en-US" sz="2800" spc="-1" strike="noStrike">
                <a:solidFill>
                  <a:srgbClr val="c9fca2"/>
                </a:solidFill>
                <a:latin typeface="楷体_GB2312"/>
                <a:ea typeface="楷体_GB2312"/>
              </a:rPr>
              <a:t>1.5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Line 5"/>
          <p:cNvSpPr/>
          <p:nvPr/>
        </p:nvSpPr>
        <p:spPr>
          <a:xfrm>
            <a:off x="4724280" y="2286000"/>
            <a:ext cx="0" cy="335268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06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肠内水平衡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7f301"/>
                </a:solidFill>
                <a:latin typeface="楷体_GB2312"/>
                <a:ea typeface="楷体_GB2312"/>
              </a:rPr>
              <a:t>分泌</a:t>
            </a:r>
            <a:r>
              <a:rPr b="1" lang="en-US" sz="2000" spc="-1" strike="noStrike">
                <a:solidFill>
                  <a:srgbClr val="e7f301"/>
                </a:solidFill>
                <a:latin typeface="楷体_GB2312"/>
                <a:ea typeface="楷体_GB2312"/>
              </a:rPr>
              <a:t>&gt;</a:t>
            </a:r>
            <a:r>
              <a:rPr b="1" lang="zh-CN" sz="2000" spc="-1" strike="noStrike">
                <a:solidFill>
                  <a:srgbClr val="e7f301"/>
                </a:solidFill>
                <a:latin typeface="楷体_GB2312"/>
                <a:ea typeface="楷体_GB2312"/>
              </a:rPr>
              <a:t>吸收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吸收                                      分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2133720" y="2743200"/>
            <a:ext cx="4647960" cy="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6" name="Line 5"/>
          <p:cNvSpPr/>
          <p:nvPr/>
        </p:nvSpPr>
        <p:spPr>
          <a:xfrm flipH="1">
            <a:off x="1371240" y="2743200"/>
            <a:ext cx="762120" cy="152388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7" name="Line 6"/>
          <p:cNvSpPr/>
          <p:nvPr/>
        </p:nvSpPr>
        <p:spPr>
          <a:xfrm>
            <a:off x="2133720" y="2819520"/>
            <a:ext cx="685800" cy="144756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1371600" y="4267080"/>
            <a:ext cx="1447920" cy="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9" name="Line 8"/>
          <p:cNvSpPr/>
          <p:nvPr/>
        </p:nvSpPr>
        <p:spPr>
          <a:xfrm flipH="1">
            <a:off x="6095520" y="2743200"/>
            <a:ext cx="685800" cy="152388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0" name="Line 9"/>
          <p:cNvSpPr/>
          <p:nvPr/>
        </p:nvSpPr>
        <p:spPr>
          <a:xfrm>
            <a:off x="6781680" y="2819520"/>
            <a:ext cx="685800" cy="144756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1" name="Line 10"/>
          <p:cNvSpPr/>
          <p:nvPr/>
        </p:nvSpPr>
        <p:spPr>
          <a:xfrm>
            <a:off x="6095880" y="4267080"/>
            <a:ext cx="1371600" cy="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2" name="Line 11"/>
          <p:cNvSpPr/>
          <p:nvPr/>
        </p:nvSpPr>
        <p:spPr>
          <a:xfrm>
            <a:off x="4419720" y="2743200"/>
            <a:ext cx="0" cy="281952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4038480" y="5562720"/>
            <a:ext cx="762120" cy="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4" name="Line 13"/>
          <p:cNvSpPr/>
          <p:nvPr/>
        </p:nvSpPr>
        <p:spPr>
          <a:xfrm>
            <a:off x="3962520" y="5715000"/>
            <a:ext cx="914400" cy="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5" name="Line 14"/>
          <p:cNvSpPr/>
          <p:nvPr/>
        </p:nvSpPr>
        <p:spPr>
          <a:xfrm flipH="1">
            <a:off x="3962160" y="5562720"/>
            <a:ext cx="75960" cy="15228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6" name="Line 15"/>
          <p:cNvSpPr/>
          <p:nvPr/>
        </p:nvSpPr>
        <p:spPr>
          <a:xfrm>
            <a:off x="4800600" y="5562720"/>
            <a:ext cx="76320" cy="15228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7" name="Line 16"/>
          <p:cNvSpPr/>
          <p:nvPr/>
        </p:nvSpPr>
        <p:spPr>
          <a:xfrm>
            <a:off x="2362320" y="1828800"/>
            <a:ext cx="4190760" cy="1905120"/>
          </a:xfrm>
          <a:prstGeom prst="line">
            <a:avLst/>
          </a:prstGeom>
          <a:ln w="12600">
            <a:solidFill>
              <a:srgbClr val="046c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腹泻产生的因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3352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ff"/>
                </a:solidFill>
                <a:latin typeface="华文行楷"/>
                <a:ea typeface="华文行楷"/>
              </a:rPr>
              <a:t>吸收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ff"/>
                </a:solidFill>
                <a:latin typeface="华文行楷"/>
                <a:ea typeface="华文行楷"/>
              </a:rPr>
              <a:t>分泌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ff"/>
                </a:solidFill>
                <a:latin typeface="Verdana"/>
                <a:ea typeface="华文行楷"/>
              </a:rPr>
              <a:t>胃肠运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Line 4"/>
          <p:cNvSpPr/>
          <p:nvPr/>
        </p:nvSpPr>
        <p:spPr>
          <a:xfrm>
            <a:off x="3041640" y="2259000"/>
            <a:ext cx="0" cy="304920"/>
          </a:xfrm>
          <a:prstGeom prst="line">
            <a:avLst/>
          </a:prstGeom>
          <a:ln cap="sq" w="76320">
            <a:solidFill>
              <a:srgbClr val="046ca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2" name="Line 5"/>
          <p:cNvSpPr/>
          <p:nvPr/>
        </p:nvSpPr>
        <p:spPr>
          <a:xfrm flipV="1">
            <a:off x="3041640" y="2979360"/>
            <a:ext cx="0" cy="304920"/>
          </a:xfrm>
          <a:prstGeom prst="line">
            <a:avLst/>
          </a:prstGeom>
          <a:ln cap="sq" w="76320">
            <a:solidFill>
              <a:srgbClr val="046ca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3" name="Line 7"/>
          <p:cNvSpPr/>
          <p:nvPr/>
        </p:nvSpPr>
        <p:spPr>
          <a:xfrm flipV="1">
            <a:off x="4032360" y="3877920"/>
            <a:ext cx="0" cy="304920"/>
          </a:xfrm>
          <a:prstGeom prst="line">
            <a:avLst/>
          </a:prstGeom>
          <a:ln cap="sq" w="76320">
            <a:solidFill>
              <a:srgbClr val="046ca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15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病   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181120" y="3200400"/>
            <a:ext cx="35816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急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慢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持续时间≥</a:t>
            </a:r>
            <a:r>
              <a:rPr b="1" lang="en-US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个月或间隙期在</a:t>
            </a:r>
            <a:r>
              <a:rPr b="1" lang="en-US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周内的复发性腹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47" name="Object 4"/>
          <p:cNvGraphicFramePr/>
          <p:nvPr/>
        </p:nvGraphicFramePr>
        <p:xfrm>
          <a:off x="685800" y="1752480"/>
          <a:ext cx="3809880" cy="433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3809880" cy="433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16:54:11Z</dcterms:created>
  <dc:creator>gzz</dc:creator>
  <dc:description/>
  <cp:keywords/>
  <dc:language>en-US</dc:language>
  <cp:lastModifiedBy>赵欣</cp:lastModifiedBy>
  <cp:lastPrinted>1998-10-02T20:09:37Z</cp:lastPrinted>
  <dcterms:modified xsi:type="dcterms:W3CDTF">2015-12-16T08:03:02Z</dcterms:modified>
  <cp:revision>84</cp:revision>
  <dc:subject/>
  <dc:title>腹泻(diarrhea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