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205A-1E57-47DE-A412-58C5D6B0CC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05D2-6D3E-435B-B9BB-DED5D920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FA5EC-54B1-4892-80C5-F43868A1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438C7-6558-4B8C-A61F-7289D722752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E7DF-8274-415F-82AE-999657C6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31B1-40A2-459B-8C31-5EFA5CC75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5B4AF-2A76-4804-BF2F-6B8B645F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2352-1F37-4D3B-8476-FB0223336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44ADE-66DD-4F25-A88B-1C4FAF156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ECE0-4CAD-4112-A44B-CA14905FD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C5480-A803-413A-BE98-53D87D55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8F402-1028-43AF-8916-4F1DAB861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64F7-C579-4602-9EFC-41424EDAB33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6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684360" y="27079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宋体"/>
              </a:rPr>
              <a:t>第十四节 </a:t>
            </a: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便  秘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000" y="2491920"/>
            <a:ext cx="47624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抑郁症和焦虑障碍的患者也常常伴有胃肠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8" name="Picture 3" descr="20072813431483"/>
          <p:cNvPicPr/>
          <p:nvPr/>
        </p:nvPicPr>
        <p:blipFill>
          <a:blip r:embed="rId1"/>
          <a:stretch/>
        </p:blipFill>
        <p:spPr>
          <a:xfrm>
            <a:off x="5580000" y="1773360"/>
            <a:ext cx="3216240" cy="40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5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药物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长期服泻药、灌肠等因素也可引起肠壁神经麻痹，导致便秘的发生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2" name="Picture 4" descr="yfzx_dwxm_5"/>
          <p:cNvPicPr/>
          <p:nvPr/>
        </p:nvPicPr>
        <p:blipFill>
          <a:blip r:embed="rId1"/>
          <a:stretch/>
        </p:blipFill>
        <p:spPr>
          <a:xfrm>
            <a:off x="3924360" y="3716280"/>
            <a:ext cx="37846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器质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梗阻、肠粘连、肠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腔或盆腔内肿瘤压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直肠或肛门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次数减少，粪便量少，干结，排便困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胀、腹痛、下坠感、排便不尽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肛门疼痛、肛裂、痔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543800" cy="86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便秘的危害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8640" y="1052640"/>
            <a:ext cx="843624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皮肤粘膜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皮肤色素沉着，面色灰暗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黑体"/>
              </a:rPr>
              <a:t>消化道系统：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可导致患者出现食欲不振、腹部胀满、嗳气、口苦、肛门排气多等表现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用力排便会导致肛裂、痔等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、肠壁长期受粪便刺激，增加了其癌变的发生率。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324000" y="1052640"/>
            <a:ext cx="8229600" cy="441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心血管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诱发下肢静脉曲张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心绞痛，心肌梗死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3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、脑出血，颅内压增高，甚至脑疝等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黑体"/>
              </a:rPr>
              <a:t>神经系统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大量毒素吸收入血可导致患者出现记忆力下降，注意力不集中，思维迟缓等 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700" spc="-1" strike="noStrike">
              <a:solidFill>
                <a:srgbClr val="8ac8de"/>
              </a:solidFill>
              <a:latin typeface="Verdana"/>
            </a:endParaRPr>
          </a:p>
          <a:p>
            <a:pPr marL="2674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15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疾病史、药物史、饮食、心理、环境、活动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排便频率、性状、量、费力程度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对功能性健康型态的影响：有无肛周疼痛、知识、心理应对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8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8ac8de"/>
                </a:solidFill>
                <a:latin typeface="Verdana"/>
                <a:ea typeface="楷体_GB2312"/>
              </a:rPr>
              <a:t>诊断、治疗及护理经过</a:t>
            </a:r>
            <a:endParaRPr b="1" lang="en-US" sz="3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护理诊断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疼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组织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知识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便秘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各类便秘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便秘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用自己的语言解释便秘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04920" y="1372680"/>
            <a:ext cx="8524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便秘是指排便频率减少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周少于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粪便干结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并常有</a:t>
            </a:r>
            <a:r>
              <a:rPr b="1" i="1" lang="zh-CN" sz="31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排便困难</a:t>
            </a:r>
            <a:r>
              <a:rPr b="1" lang="zh-CN" sz="31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的感觉。</a:t>
            </a:r>
            <a:endParaRPr b="1" lang="en-US" sz="31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定  义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Picture 4" descr="20060819230220954"/>
          <p:cNvPicPr/>
          <p:nvPr/>
        </p:nvPicPr>
        <p:blipFill>
          <a:blip r:embed="rId1"/>
          <a:stretch/>
        </p:blipFill>
        <p:spPr>
          <a:xfrm>
            <a:off x="6013440" y="3600360"/>
            <a:ext cx="2658960" cy="28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4" name="Picture 3" descr="01300000201178121767511097223"/>
          <p:cNvPicPr/>
          <p:nvPr/>
        </p:nvPicPr>
        <p:blipFill>
          <a:blip r:embed="rId1"/>
          <a:stretch/>
        </p:blipFill>
        <p:spPr>
          <a:xfrm>
            <a:off x="5869080" y="1773360"/>
            <a:ext cx="3003480" cy="424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252360" y="1486080"/>
            <a:ext cx="604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条件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1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内容物足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肠道功能（肌肉张力和蠕动功能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排便肌肉功能正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因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-</a:t>
            </a:r>
            <a:r>
              <a:rPr b="0" lang="zh-CN" sz="37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功能性便秘</a:t>
            </a:r>
            <a:endParaRPr b="0" lang="en-US" sz="3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9" name="Picture 4" descr="xinsimple_47203040910096252073414"/>
          <p:cNvPicPr/>
          <p:nvPr/>
        </p:nvPicPr>
        <p:blipFill>
          <a:blip r:embed="rId1"/>
          <a:stretch/>
        </p:blipFill>
        <p:spPr>
          <a:xfrm>
            <a:off x="2627280" y="2205000"/>
            <a:ext cx="513864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59920"/>
            <a:ext cx="75438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0" lang="zh-CN" sz="3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饮食因素</a:t>
            </a:r>
            <a:br>
              <a:rPr sz="2500"/>
            </a:br>
            <a:r>
              <a:rPr b="0" lang="zh-CN" sz="2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Picture 3" descr="14915914"/>
          <p:cNvPicPr/>
          <p:nvPr/>
        </p:nvPicPr>
        <p:blipFill>
          <a:blip r:embed="rId1"/>
          <a:stretch/>
        </p:blipFill>
        <p:spPr>
          <a:xfrm>
            <a:off x="5292720" y="3068640"/>
            <a:ext cx="3481560" cy="333216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4"/>
          <p:cNvSpPr/>
          <p:nvPr/>
        </p:nvSpPr>
        <p:spPr>
          <a:xfrm>
            <a:off x="468360" y="1343160"/>
            <a:ext cx="8064360" cy="44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摄入的食物过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饮食过于精细少渣，长期缺乏食物纤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液体摄入量过少   </a:t>
            </a:r>
            <a:r>
              <a:rPr b="0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0" lang="zh-CN" sz="33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习惯因素</a:t>
            </a:r>
            <a:endParaRPr b="0" lang="en-US" sz="33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8000" y="1339920"/>
            <a:ext cx="807552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工作因素，不能在有便意时及时去排便，久而久之导致排便不畅；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部分患者因在排便时同时做一些其他的事，比如看报、看小说、听音乐之类的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意识地抑制排便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, 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造成排便反射感觉降低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（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0" lang="zh-CN" sz="26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姿势、便器</a:t>
            </a:r>
            <a:endParaRPr b="1" lang="en-US" sz="2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W020070318390253854674"/>
          <p:cNvPicPr/>
          <p:nvPr/>
        </p:nvPicPr>
        <p:blipFill>
          <a:blip r:embed="rId1"/>
          <a:stretch/>
        </p:blipFill>
        <p:spPr>
          <a:xfrm>
            <a:off x="6084720" y="4078440"/>
            <a:ext cx="2819520" cy="25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9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活动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8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0" lang="zh-CN" sz="3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活动量过少，使得肠蠕动缓慢，肠内容物通过时间延长，肠内水分被过度吸收，粪便干结，通过更加受阻，从而导致恶性循环。</a:t>
            </a:r>
            <a:r>
              <a:rPr b="1" lang="zh-CN" sz="19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19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Picture 4" descr="4498582_1"/>
          <p:cNvPicPr/>
          <p:nvPr/>
        </p:nvPicPr>
        <p:blipFill>
          <a:blip r:embed="rId1"/>
          <a:stretch/>
        </p:blipFill>
        <p:spPr>
          <a:xfrm>
            <a:off x="3419640" y="3357720"/>
            <a:ext cx="50400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4.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社会心理因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81080" y="1628280"/>
            <a:ext cx="87120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精神上受到强烈刺激、惊恐、情绪紧张或注意力高度集中某一工作等会使便意消失，形成便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5" name="Picture 4" descr="20060327135803688"/>
          <p:cNvPicPr/>
          <p:nvPr/>
        </p:nvPicPr>
        <p:blipFill>
          <a:blip r:embed="rId1"/>
          <a:stretch/>
        </p:blipFill>
        <p:spPr>
          <a:xfrm>
            <a:off x="4067280" y="3357720"/>
            <a:ext cx="3457440" cy="26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4T13:20:41Z</dcterms:created>
  <dc:creator>user</dc:creator>
  <dc:description/>
  <cp:keywords/>
  <dc:language>en-US</dc:language>
  <cp:lastModifiedBy>赵欣</cp:lastModifiedBy>
  <cp:lastPrinted>1899-12-30T00:00:00Z</cp:lastPrinted>
  <dcterms:modified xsi:type="dcterms:W3CDTF">2015-12-16T08:04:34Z</dcterms:modified>
  <cp:revision>12</cp:revision>
  <dc:subject/>
  <dc:title>便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