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gif" ContentType="image/gif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83566-3452-4D42-B24D-6A40F0BE062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6EBF3-BFA5-4177-8A27-9486059F2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6013B-7EEC-4FF6-B418-4BE8D707A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4F801-0B8D-4A86-A65E-27CB00694D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2DDF2-DF34-470E-951E-26331F48F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9AB90-994E-49BD-8914-E8597F3DF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3C1C9-C6B3-4D7B-A936-E0AF53BC5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A59C9-1DEB-40BE-8111-43AA1E948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520BF-8F6B-400A-B4E3-E457B8AB6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0EC75-3A8C-4606-993C-8C149FAA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8589D-5547-4562-938E-A4D8ADD03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CE92E-7B45-42E6-8294-90B9610BC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42907-E5E5-48A7-868F-DF815C58E0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8920" y="2997000"/>
            <a:ext cx="5413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宋体"/>
              </a:rPr>
              <a:t>第十五节 便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的相关疾病史与诱发因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的临床表现  便血出现的急缓、次数、出血量、颜色、性状及其变化，以作为失血量的粗略估计参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便血对患者的影响  主要包括有无头晕、心悸、气促、乏力等贫血的表现，有无紧张、焦虑、恐惧的负性情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诊断、治疗与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组织灌注量无效  与大量便血所致血容量减少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活动无耐力  与便血所致贫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皮肤完整性受损的危险  与排泄物对肛门周围皮肤刺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焦虑  与长期便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</a:rPr>
              <a:t>教学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确阐述便血的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确说出便血的病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比较不用病因的便血，正确说明其临床表现的区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运用本节所学知识，能针对便血的患者作出全面准确的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根据护理评估，能正确作出护理诊断，并列出相关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9" name="Picture 2" descr="dy13"/>
          <p:cNvPicPr/>
          <p:nvPr/>
        </p:nvPicPr>
        <p:blipFill>
          <a:blip r:embed="rId1"/>
          <a:srcRect l="11408" t="17455" r="42120" b="15481"/>
          <a:stretch/>
        </p:blipFill>
        <p:spPr>
          <a:xfrm>
            <a:off x="900000" y="1413000"/>
            <a:ext cx="3915000" cy="450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dy16"/>
          <p:cNvPicPr/>
          <p:nvPr/>
        </p:nvPicPr>
        <p:blipFill>
          <a:blip r:embed="rId2"/>
          <a:srcRect l="11408" t="17467" r="42120" b="16093"/>
          <a:stretch/>
        </p:blipFill>
        <p:spPr>
          <a:xfrm>
            <a:off x="4859280" y="1414440"/>
            <a:ext cx="3780000" cy="44625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85480" y="369720"/>
            <a:ext cx="552276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幼圆"/>
              </a:rPr>
              <a:t>部位与范围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468360" y="1413000"/>
            <a:ext cx="820908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Picture 2" descr="GITractbi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1258920" y="1413000"/>
            <a:ext cx="3411360" cy="4680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3"/>
          <p:cNvSpPr/>
          <p:nvPr/>
        </p:nvSpPr>
        <p:spPr>
          <a:xfrm>
            <a:off x="5708880" y="32814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上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637600" y="465300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下消化道出血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AutoShape 5"/>
          <p:cNvSpPr/>
          <p:nvPr/>
        </p:nvSpPr>
        <p:spPr>
          <a:xfrm>
            <a:off x="3635280" y="3487680"/>
            <a:ext cx="1600200" cy="228600"/>
          </a:xfrm>
          <a:prstGeom prst="leftArrow">
            <a:avLst>
              <a:gd name="adj1" fmla="val 50000"/>
              <a:gd name="adj2" fmla="val 17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AutoShape 6"/>
          <p:cNvSpPr/>
          <p:nvPr/>
        </p:nvSpPr>
        <p:spPr>
          <a:xfrm>
            <a:off x="3635280" y="4913280"/>
            <a:ext cx="1676520" cy="228600"/>
          </a:xfrm>
          <a:prstGeom prst="leftArrow">
            <a:avLst>
              <a:gd name="adj1" fmla="val 50000"/>
              <a:gd name="adj2" fmla="val 18334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9" name="Picture 7" descr="D"/>
          <p:cNvPicPr/>
          <p:nvPr/>
        </p:nvPicPr>
        <p:blipFill>
          <a:blip r:embed="rId2"/>
          <a:stretch/>
        </p:blipFill>
        <p:spPr>
          <a:xfrm>
            <a:off x="4137120" y="3933720"/>
            <a:ext cx="571320" cy="4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250920" y="1413000"/>
            <a:ext cx="856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便血：消化道出血，自肛门排出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华文新魏"/>
              </a:rPr>
              <a:t>（下消化道出血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609480" indent="-6094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      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7052040" y="2779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定  义</a:t>
            </a:r>
            <a:endParaRPr b="0" lang="en-US" sz="4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病   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上消化道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小肠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结肠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黑体"/>
              </a:rPr>
              <a:t>直肠肛管疾病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黑体"/>
              </a:rPr>
              <a:t>全身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7" name="Group 2"/>
          <p:cNvGrpSpPr/>
          <p:nvPr/>
        </p:nvGrpSpPr>
        <p:grpSpPr>
          <a:xfrm>
            <a:off x="826920" y="1295280"/>
            <a:ext cx="7591320" cy="4930560"/>
            <a:chOff x="826920" y="1295280"/>
            <a:chExt cx="7591320" cy="4930560"/>
          </a:xfrm>
        </p:grpSpPr>
        <p:sp>
          <p:nvSpPr>
            <p:cNvPr id="128" name="Text Box 3"/>
            <p:cNvSpPr/>
            <p:nvPr/>
          </p:nvSpPr>
          <p:spPr>
            <a:xfrm>
              <a:off x="5364000" y="5857560"/>
              <a:ext cx="1297080" cy="3682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46ca6"/>
                  </a:solidFill>
                  <a:latin typeface="Arial"/>
                </a:rPr>
                <a:t>肛裂</a:t>
              </a: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29" name="Group 4"/>
            <p:cNvGrpSpPr/>
            <p:nvPr/>
          </p:nvGrpSpPr>
          <p:grpSpPr>
            <a:xfrm>
              <a:off x="826920" y="1295280"/>
              <a:ext cx="7591320" cy="4576680"/>
              <a:chOff x="826920" y="1295280"/>
              <a:chExt cx="7591320" cy="4576680"/>
            </a:xfrm>
          </p:grpSpPr>
          <p:pic>
            <p:nvPicPr>
              <p:cNvPr id="130" name="Picture 5" descr="u=2959308952,3312499843&amp;gp=3"/>
              <p:cNvPicPr/>
              <p:nvPr/>
            </p:nvPicPr>
            <p:blipFill>
              <a:blip r:embed="rId1"/>
              <a:stretch/>
            </p:blipFill>
            <p:spPr>
              <a:xfrm>
                <a:off x="4787640" y="3495600"/>
                <a:ext cx="2270160" cy="2376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" name="Picture 6" descr="TXT-200611603426779"/>
              <p:cNvPicPr/>
              <p:nvPr/>
            </p:nvPicPr>
            <p:blipFill>
              <a:blip r:embed="rId2"/>
              <a:stretch/>
            </p:blipFill>
            <p:spPr>
              <a:xfrm>
                <a:off x="826920" y="3566880"/>
                <a:ext cx="3524400" cy="2276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2" name="Picture 7" descr="111489270582683500"/>
              <p:cNvPicPr/>
              <p:nvPr/>
            </p:nvPicPr>
            <p:blipFill>
              <a:blip r:embed="rId3"/>
              <a:stretch/>
            </p:blipFill>
            <p:spPr>
              <a:xfrm>
                <a:off x="6084720" y="1295280"/>
                <a:ext cx="2333520" cy="22003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便血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424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出血量与时间：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量多时呈鲜红色，停留时间长则为暗红色、黑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部位：小肠、结肠、直肠肛管肛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血色鲜红附粪便表面，便后滴血（直肠肛管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黑体"/>
                <a:ea typeface="黑体"/>
              </a:rPr>
              <a:t>病因：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洗肉水样血性便、腥臭（急性出血性坏死性肠炎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黏液血便或脓血便（急性细菌性痢疾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黑体"/>
                <a:ea typeface="黑体"/>
              </a:rPr>
              <a:t>暗红色果酱便（阿米巴痢疾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414600" y="26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ffff"/>
                </a:solidFill>
                <a:latin typeface="Verdana"/>
              </a:rPr>
              <a:t>黑便与便血鉴别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1267920"/>
            <a:ext cx="8209080" cy="415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宋体"/>
              </a:rPr>
              <a:t>              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黑便            便血</a:t>
            </a:r>
            <a:r>
              <a:rPr b="0" lang="zh-CN" sz="20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既往史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多曾有溃疡病       多有下腹部疼痛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肝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胆疾患病史      块及排便异常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或有呕血史       病史或便血史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出血先兆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上腹部闷胀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疼       中、下腹不适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痛或绞痛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恶心       下坠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欲排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出血方式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呕血伴柏油样便      便血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无呕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</a:t>
            </a:r>
            <a:r>
              <a:rPr b="0" lang="zh-CN" sz="2000" spc="-1" strike="noStrike">
                <a:solidFill>
                  <a:srgbClr val="cc6600"/>
                </a:solidFill>
                <a:latin typeface="宋体"/>
              </a:rPr>
              <a:t>便血特点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柏油样便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稠或       暗红或鲜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成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无血块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多不成形</a:t>
            </a:r>
            <a:r>
              <a:rPr b="0" lang="en-US" sz="2000" spc="-1" strike="noStrike">
                <a:solidFill>
                  <a:srgbClr val="8ac8de"/>
                </a:solidFill>
                <a:latin typeface="宋体"/>
              </a:rPr>
              <a:t>,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大量出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                                </a:t>
            </a:r>
            <a:r>
              <a:rPr b="0" lang="zh-CN" sz="2000" spc="-1" strike="noStrike">
                <a:solidFill>
                  <a:srgbClr val="8ac8de"/>
                </a:solidFill>
                <a:latin typeface="宋体"/>
              </a:rPr>
              <a:t>血时可有血块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0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3T03:28:50Z</dcterms:created>
  <dc:creator>yi</dc:creator>
  <dc:description/>
  <dc:language>en-US</dc:language>
  <cp:lastModifiedBy>赵欣</cp:lastModifiedBy>
  <dcterms:modified xsi:type="dcterms:W3CDTF">2015-12-16T08:06:06Z</dcterms:modified>
  <cp:revision>107</cp:revision>
  <dc:subject/>
  <dc:title>咯　血 (hemoptysis)</dc:title>
</cp:coreProperties>
</file>