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12BC2-CA5A-4B94-BB71-3180D5F7BD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AE39-2E9F-4E05-81A7-095BA7AB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CFB2-F8D0-4252-9F1A-5E77E58E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202C-48E0-4DF5-B670-6201141A3C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9D98-D053-49B7-87F0-AB8F7E86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7D44-45CF-4CAA-8EE9-655DA92C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98E9-DA6C-447B-87ED-3A07E02C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5A6C-2C9D-493F-8C89-A78E5288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FDCE-A6B8-4888-97D5-EE66AC00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563E-346F-4104-A8F8-4681F59F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A812-3A7E-4F08-85DC-B6EFDEA6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F7EC-3BFC-444D-88DC-3BF5DECC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CC03-9840-4C98-BF81-F48792A739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章  问诊</a:t>
            </a:r>
            <a:br>
              <a:rPr sz="48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现病史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病情况与患病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要症状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情的发展与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伴随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询问主要症状的要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或减轻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突发腹痛为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上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左右发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床上翻来翻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法缓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功能性健康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身体功能、生理、心理、社会健康等各个层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此作为收集护理病史的框架具有重要理论和实践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感知与健康管理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健康观念与如何管理自己的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感知：自觉健康状况如何？对健康的认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危险因素：遗传？生活方式？环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行为：维护健康行为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检意识和能力水平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规健康检查和预防接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行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营养与代谢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食物和液体的摄入与利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：食欲？日常饮食情况？饮食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相关疾病？经济？备餐与进食能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期体重变化？程度及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平衡：日常饮水情况？限制？疾病？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完整性：皮肤、黏膜损害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：体温？影响体温的环境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排泄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排便和排尿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：每日排便时间、次数、量、颜色、性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：每日排尿时间、次数、量、颜色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活动与运动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日常生活活动、休闲娱乐以及锻炼的方式及其与之相关的活动能力、活动耐力与日常生活自理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与运动形式：日常生活活动、锻炼、娱乐？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能力：进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水、沐浴、穿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漱、如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活动、转位、走动、上下楼、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、烹饪、理家？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轮椅？义肢？医疗或疾病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耐力：活动后疲乏、心悸、气急、头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与休息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睡眠、休息和放松的模式，包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睡眠与休息的质与量、白天精力是否充沛，以及促进睡眠的辅助手段的使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型态：睡眠时数、入睡与觉醒时间、夜间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次数？原因？白天小睡的时间和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质量：休息后精力充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异常：类型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睡眠：药物？其他方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认知与感知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机体神经系统的感知功能与脑的认知功能，前者主要包括视觉、听觉、味觉、嗅觉、触觉和痛觉，后者主要包括思维能力、语言能力、定向力与意识状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：疼痛？部位、性质、程度、持续时间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听力？视力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：思维能力：记忆？推理？判断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：失语？构音障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：定向障碍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状态：意识清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概念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自己的个性特征、社会角色和身体特征的认识与评价，并受价值观、信念、人际关系、文化、他人对个体的评价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何看待自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感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？相关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3961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方法和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情况的问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角色与关系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在生活中的角色及与他人关系的性质，包括个体对其家庭、工作和社会角色感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角色适应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结构与功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他人交往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对病人患病或住院的看法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济收入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性与生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的性别认同、性角色行为、性功能和生育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功能：性生活满意？改变？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育：女性月经史、生育史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压力与压力应对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压力的感知与处理，包括个体对压力的适宜或不适宜的反应、对压力的认知与评价及其应对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源：近期生活中重大事件？危机？困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对方式：处理生活中重大问题？成功？帮助最大者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价值与信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文化和精神世界，主要包括价值观、健康信念、人生观和宗教信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信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间验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宗教信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方法与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自我介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问诊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适、安静、私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松和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自己介绍给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明问诊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密承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从主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问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：易于回答的开放性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获取具体信息：直接提问；避免暗示和医学术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差：多项备选答案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不确切：耐心启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离题太远时：客气地引导到病史线索上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实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澄清、复述、反问、质疑、解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态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陈述表示理解、认可和同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采用质问性语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非语言沟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1488" t="1431" r="0" b="0"/>
          <a:stretch/>
        </p:blipFill>
        <p:spPr>
          <a:xfrm>
            <a:off x="4500720" y="3429000"/>
            <a:ext cx="367164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特殊情况的问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文化背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愤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情危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问诊的方法与技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述问诊的主要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明问诊的目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问诊的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不同的问诊对象恰当地运用问诊的方法和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巧进行健康史的采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问诊获得的资料为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客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实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参考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一般从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是发生在护士与患者或相关人员之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为患者感觉最主要、最明显的症状或体征及其性质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或患者此次就诊的主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包括哪些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91592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问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quir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发生在护士与患者或相关人员之间目标明确而有序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临床判断和诊断性推理提供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体格检查的重点提供线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护患间建立积极的治疗性关系提供机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699920"/>
            <a:ext cx="8010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功能性健康型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般资料 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姓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职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籍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化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费用支付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住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收集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来源及可靠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诉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患者感觉最主要或最明显的症状或体征，或本次就诊最主要的原因及持续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主诉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明扼要，高度概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明从健康问题发生到就诊的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患者自己的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以来我一直感到口很干，水喝得很多，尿也多，胃口特别好，原来每餐吃一小碗，现在要一大碗，但人却越来越瘦，上班挤公交车的力气都没有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多饮、多尿、多食伴乏力、消瘦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6:46:44Z</dcterms:modified>
  <cp:revision>133</cp:revision>
  <dc:subject/>
  <dc:title>内科护理学</dc:title>
</cp:coreProperties>
</file>