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BACA5-F661-4DAA-9AED-D09A46ED1F6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E8D75-ED6B-4E51-80D3-AA0D081E8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53A03-92B0-4395-8716-A6706FE4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86774-154C-45BF-B699-C3E90B84E8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1AA4-048D-4D3E-A03B-FED13F049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EA938-B322-4E47-9D68-501943F4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E73CD-40C1-4BF8-95A3-2748656AC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BC76B-CD7B-4814-BDB7-4AC5006B3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C6F06-93EE-473F-891E-BA9399BCD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53002-1EF8-4216-9938-07C6AD174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9C7B-FA9A-481B-B2E0-0BE02CD0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82F25-A1BE-41B6-BA66-04B2988B6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B0A8A-940D-48CD-83BB-173C5AF58321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280" y="2492280"/>
            <a:ext cx="518148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十节 心 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定义 心悸是一种对心脏搏动感到不适的自觉症状。心悸时心脏搏动可增强，心率可快、可慢，可有心律失常，也可完全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心脏搏动增强、心律失常、心脏神经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症状为患者自觉心搏或心慌。常见的伴随症状有：头晕、晕厥、呼吸困难、胸痛、交感神经功能亢进症状、恐惧。体征为体格检查部分患者可无阳性体征，部分有原发病体征，或有心率或心律的紊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心悸的临床特点、心悸的身体反应、心悸的心理反应、原因或诱发因素、诊断、治疗与护理经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371240"/>
            <a:ext cx="896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心悸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解释心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心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alpit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一种对心脏搏动感到不适的自觉症状。心悸时心脏搏动可增强，心率可快、可慢，可有心律失常，也可完全正常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32400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心悸的发生机制尚未明了。一般认为与心动过速、每搏心排出量大和心律失常有关，也与个体的敏感性、精神因素、注意力集中与否、心律紊乱存在的时间长短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99640" y="1557000"/>
            <a:ext cx="7201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搏动增强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律失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脏神经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症状和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患者自觉心搏或心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体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格检查部分患者可无阳性体征，部分有原发病体征，或有心率或心律的紊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临床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身体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悸的心理反应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原因或诱发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78920" y="1371240"/>
            <a:ext cx="8736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活动无耐力 与心悸发作所致疲乏无力有关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焦虑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恐惧 与心悸发作对心脏功能的影响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睡眠型态紊乱 与心悸发作所致不适有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54:53Z</dcterms:modified>
  <cp:revision>223</cp:revision>
  <dc:subject/>
  <dc:title>内科护理学</dc:title>
</cp:coreProperties>
</file>