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7.wmf" ContentType="image/x-wmf"/>
  <Override PartName="/ppt/media/image1.png" ContentType="image/png"/>
  <Override PartName="/ppt/media/image3.jpeg" ContentType="image/jpeg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6D74C-CFFE-4B12-BAFD-73F6A98BB6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732DC-277E-431D-AF01-AEECF202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B243C-B649-4749-A076-91849711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48EBA-85C5-41BA-931D-65B697E067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ACE15-F718-4CE3-9E6E-A1DB3235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3E558-6B8F-4609-AF6C-E2A56143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995EA-2BD7-4B47-A97F-2937EF3B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6EF78-F048-446E-A3A0-7FAB70532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5AC2A-A55B-4D4C-92C8-D71A492CE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DAFFB-9CDE-4810-81CD-E9E27E4B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EA995-A13E-46D3-BF55-0D87E46D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C189F-E81E-4730-ABF0-7D6B0380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B17D-5DAC-43F3-B7E5-4B5C801DBD6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解热镇痛抗炎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7280" cy="4854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2484360" y="5950080"/>
            <a:ext cx="428616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11280" y="1701720"/>
            <a:ext cx="763272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．镇痛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等强度的镇痛作用，无成瘾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作用部位是在外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2"/>
          <p:cNvGraphicFramePr/>
          <p:nvPr/>
        </p:nvGraphicFramePr>
        <p:xfrm>
          <a:off x="395280" y="1341360"/>
          <a:ext cx="8496360" cy="49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8496360" cy="49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582a3"/>
                </a:solidFill>
                <a:latin typeface="Verdana"/>
                <a:ea typeface="宋体"/>
              </a:rPr>
              <a:t>镇痛作用特点（与吗啡比较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676764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8f4f8"/>
                </a:solidFill>
                <a:latin typeface="Verdana"/>
                <a:ea typeface="宋体"/>
              </a:rPr>
              <a:t>解热镇痛药与吗啡镇痛作用比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609480" y="1328760"/>
            <a:ext cx="78519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24000" y="1341360"/>
            <a:ext cx="83534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抗炎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抗炎、抗风湿作用，对控制风湿性和类风湿性关节炎的症状有肯定的疗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50920" y="3070080"/>
            <a:ext cx="3057480" cy="571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395280" y="3718080"/>
            <a:ext cx="4765680" cy="2660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3"/>
          <a:stretch/>
        </p:blipFill>
        <p:spPr>
          <a:xfrm>
            <a:off x="5437080" y="3718080"/>
            <a:ext cx="2229120" cy="2668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85332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解热镇痛抗炎药临床药理学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根治原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防止疾病发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停药后可能迅速出现“反跳”甚至症状再现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10920" y="170136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4.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其他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通过抑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血栓素生成减少，抑制血小板聚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1258920" y="3357720"/>
            <a:ext cx="6769080" cy="2016000"/>
          </a:xfrm>
          <a:prstGeom prst="hexagon">
            <a:avLst>
              <a:gd name="adj" fmla="val 298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989000"/>
            <a:ext cx="39592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解热镇痛药的复方配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化学结构分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可分为以下几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水杨酸类：阿司匹林和水杨酸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苯胺类：对乙酰氨基酚、非那西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吡唑酮类：保泰松、羟布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乙酸类： 吲哚美辛、双氯芬酸、舒林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丙酸类：布洛芬、萘普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芬那酸类：甲芬那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烯醇酸类：吡罗昔康、美洛昔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其他类：塞来昔布、尼美舒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05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按对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COX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的选择性抑制作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分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219240" y="260280"/>
            <a:ext cx="8745480" cy="602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NSAIDs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I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50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μ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g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药物   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/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吡罗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015                0.906                 60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阿司匹林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6                      277                   17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吲哚美辛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28                  1.68                    60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布洛芬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4.8                      72.8                   15.16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美洛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214                  0.171                 0.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双氯酚酸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57                    1.1                     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萘普生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9.5                      5.6                    0.5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尼美舒利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&lt;10                     0.07                   &lt;0.00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直接连接符 3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直接连接符 6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D24C-318D-4357-8593-DC52D849D3BA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835280" y="3573360"/>
            <a:ext cx="5832360" cy="2016360"/>
          </a:xfrm>
          <a:prstGeom prst="hexagon">
            <a:avLst>
              <a:gd name="adj" fmla="val 2137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常用药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569440" cy="34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、镇痛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较强的解热、镇痛，常用于头痛、牙痛、肌肉痛、月经痛等慢性钝痛与感冒发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作用较强。是目前治疗风湿及类风湿性关节炎的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首选药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对于急性风湿热患者应用最大耐受剂量（一般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可使患者在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临床症状缓解，红细胞沉降率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66560" y="2637000"/>
            <a:ext cx="81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一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044720" y="1341360"/>
            <a:ext cx="66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乙酰水杨酸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cetylsalicylic aci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352440" y="214200"/>
            <a:ext cx="83250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此作用亦是通过抑制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酶实现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司匹林用于预防心肌梗死、脑血栓形成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灯片编号占位符 1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EA1E-31E9-49DD-B9F4-6D35DA78D28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14"/>
          <p:cNvSpPr/>
          <p:nvPr/>
        </p:nvSpPr>
        <p:spPr>
          <a:xfrm>
            <a:off x="2491560" y="1341360"/>
            <a:ext cx="10112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聚集、抗血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44a7ca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5092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728c"/>
                </a:solidFill>
                <a:latin typeface="宋体"/>
                <a:ea typeface="宋体"/>
              </a:rPr>
              <a:t>（二）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539640" y="2925720"/>
            <a:ext cx="820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1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口服吸收迅速。弱有机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2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吸收后被水解为乙酸和水杨酸， 分布广，可进入到关节腔、脑脊液、乳汁和胎盘等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3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肝代谢：小剂量—按一级动力学消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          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大剂量—按零级动力学消除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4.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代谢产物及水杨酸盐从肾排出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43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发的药物不良反应占所有药物不良反应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68436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en-US" sz="1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胃肠道反应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大剂量口服可引起胃溃疡及不易察觉的胃出血，与它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减少了内源性的黏膜保护因子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水杨酸反应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剂量过大导致的中毒反应 表现有头痛、头晕、耳鸣、视、听力减退，重者精神紊乱、呼吸加快，酸碱平衡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86104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凝血障碍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见造成出血倾向。有凝血障碍或出血倾向、严重肝损害的患者禁用。可用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。手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需停用，产妇、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少数患者可出现为荨麻疹和血管神经性水肿等皮肤黏膜过敏反应。罕见过敏性休克和“阿司匹林哮喘”，哮喘与白三烯合成增加有关。用肾上腺素治疗无效，可用抗组胺药和糖皮质激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矩形 3"/>
          <p:cNvSpPr/>
          <p:nvPr/>
        </p:nvSpPr>
        <p:spPr>
          <a:xfrm>
            <a:off x="2118960" y="1125360"/>
            <a:ext cx="43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解热镇痛抗炎药的共同作用机制和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阿司匹林的作用特点、临床应用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了解热镇痛抗炎药的主要分类、代表药物和各类的主要特点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解热镇痛药的复方配伍的常用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CCC7-DD8E-4C60-A3D2-EE3862A08EB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0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瑞夷综合征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Reye’s syndrome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病毒感染应用如阿司匹林有引起瑞夷综合征的危险。此症虽少见，但可致死。表现为开始有短期发热随之惊厥、频繁呕吐、颅内压增高与昏迷等。对肝、脑带来的危害最大。水痘或流行性感冒等病毒性感染的患儿可用对乙酰氨基酚代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6560" y="1270080"/>
            <a:ext cx="8012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阿司匹林过敏者、严重肝病、低凝血酶原血症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和血友病或血小板减少症患者、胃肠道出血或消化性溃疡史、哮喘、鼻息肉、慢性荨麻疹患者及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571680" y="206064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四）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6200" y="2276640"/>
            <a:ext cx="779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对乙酰氨基酚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acetaminophe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扑热息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非那西丁的体内代谢物，解热镇痛作用与阿司匹林相似，但抗炎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其不良反应少，是乙酰水杨酸的良好代用品，并常与其它药配伍组成复方，用于感冒发热及慢性疼痛。过量可致肝坏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保泰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抗风湿作用强而解热镇痛作用较弱。主要用于治疗风湿及类风湿性关节炎、强直性脊柱炎。保泰松有促进尿酸排泄的作用，可用于急性痛风。其不良反应多且严重，已少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吲哚美辛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indomethaci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，消炎痛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最强的环氧酶抑制剂之一，有显著的抗炎及解热镇痛作用。由于不良反应多，仅用于其它药物疗效不显著的病例。主要不良反应有胃肠道反应、头痛、眩晕、精神失常、血细胞减少及过敏反应，也可引起“阿匹林哮喘”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822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甲芬那酸（甲灭酸）、双氯芬酸（双氯灭酸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都具有解热镇痛抗炎作用。主要用于风湿及类风湿性关节炎。双氯芬酸抗炎作用较强而不良反应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布洛芬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ibuprofe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解热镇痛作用与乙酰水杨酸近似，主要特点是胃肠道反应轻，患者易耐受。常用于治疗风湿及类风湿性关节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37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吡罗昔康（炎痛喜康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强效、长效解热镇痛抗炎药。剂量过大或长期服用可致消化道溃疡、出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尼美舒利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imesulide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性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抗炎作用强而副作用较小，用于治疗各类关节炎以及组织炎症。长期应用，胃黏膜损伤及胃肠出血发生率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39640" y="3573360"/>
            <a:ext cx="8353440" cy="2016360"/>
          </a:xfrm>
          <a:prstGeom prst="hexagon">
            <a:avLst>
              <a:gd name="adj" fmla="val 2704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解热镇痛药的复方配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4356000" y="404640"/>
            <a:ext cx="51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解热镇痛药的复方配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解热镇痛药的复方配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镇痛药常相互配伍或与抗组胺药、镇咳药、缩血管药等配伍，以提高疗效，减少不良反应，缓解感冒的各种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1260360" y="1413000"/>
            <a:ext cx="6624720" cy="1224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  <a:ea typeface="宋体"/>
              </a:rPr>
              <a:t>配       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4284720" y="2637000"/>
            <a:ext cx="792000" cy="1081080"/>
          </a:xfrm>
          <a:prstGeom prst="downArrow">
            <a:avLst>
              <a:gd name="adj1" fmla="val 50000"/>
              <a:gd name="adj2" fmla="val 34125"/>
            </a:avLst>
          </a:prstGeom>
          <a:gradFill rotWithShape="0">
            <a:gsLst>
              <a:gs pos="0">
                <a:srgbClr val="7aeec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圆角矩形 3"/>
          <p:cNvSpPr/>
          <p:nvPr/>
        </p:nvSpPr>
        <p:spPr>
          <a:xfrm>
            <a:off x="539640" y="1125360"/>
            <a:ext cx="8218440" cy="352764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者，女性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关节疼痛肿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。受累关节包括双手指近端和掌指关节、双腕、左踝、双膝关节，伴有晨僵感，曾经过多种方法治疗，但病情始终没法得到很好的控制。病情发作严重的时候，生活自理困难。体格检查：右手手指已明显鸡爪样，左手略轻。小指正向畸形发展，活动受限。触诊双侧腕关节活动肿胀，触之波动感，伸曲明显受限。辅助检查：类风湿因子㈩；心电图正常；双侧腕关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线正侧位示：关节间隙钙化，骨骺边缘鸡咀样骨性突起。诊断：类风湿性关节炎。治疗：阿司匹林肠溶片，每次剂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1.0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。治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后症状明显缓解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前出现呕血、黑便、乏力、伴有心慌，入院。胃镜检查：浅表糜烂性胃炎、十二指肠球部溃疡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95280" y="4939920"/>
            <a:ext cx="835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治疗类风湿性关节炎的机制是什么？还有哪些替代药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物可以应用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案例中消化道出血、溃疡症状可能是由什么原因造成的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如何处理？           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在用药指导和监护中需要注意哪些问题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41300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解热镇痛抗炎药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类具有解热镇 痛、其中大多数具有抗炎、抗风湿作用的药物。又称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非甾体抗炎药（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non 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steroidal anti – inflammatory drugs, NSAIDs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99640" y="1628640"/>
            <a:ext cx="77043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基本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抑制体内环氧酶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X)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活性，减少前列腺素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G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的生物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17013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目前已知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有两型，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主要存于血管、胃、肾等组织中，促进生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合成，如保护胃黏膜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血小板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外周血管阻力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调节肾血流量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促进合成病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主要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引起发热、疼痛和炎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11280" y="2133720"/>
            <a:ext cx="7777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是广泛存在于人和哺乳动物多种组织和体液中的重要活性物质，如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F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α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及血栓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等。它们参与多种生理和病理过程的调节，如炎症、发热、疼痛、凝血、胃酸分泌，以及血管、支气管和子宫平滑肌的舒缩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9640" y="1628640"/>
            <a:ext cx="8136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解热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降低发热者的体温，使患者的体温恢复正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正常人的体温则没有影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02:44:53Z</dcterms:created>
  <dc:creator>dell</dc:creator>
  <dc:description/>
  <cp:keywords/>
  <dc:language>en-US</dc:language>
  <cp:lastModifiedBy>赵欣</cp:lastModifiedBy>
  <dcterms:modified xsi:type="dcterms:W3CDTF">2015-12-14T02:45:57Z</dcterms:modified>
  <cp:revision>7</cp:revision>
  <dc:subject/>
  <dc:title>解热镇痛抗炎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