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3445-0F4A-4DE3-83FF-666F323D255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48C3-871B-478E-9FCF-9194E60367D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3C03-0815-4483-9E16-8A14346EA13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09A6-929F-4C59-9024-CE9ECDBEAEC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48E9-A392-4E2A-817D-65E4034ACC9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37870-B900-49C3-B8BB-98A7CE7925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55CA6-D243-475A-A49A-FB2E99E6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309FC-CC2D-489B-92B3-679F04BC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4F9A8-9DBA-43BD-9789-1FA1CA85A3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86563-B2B1-4649-A60F-885D3151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770E8-60C3-4562-9F5A-C92CF10B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17A5A-BEEF-443F-AED4-7D025D93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A5DB9-900A-42E6-B81B-89FC2B9EF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08F18-A503-4C7D-BC2F-366005224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30859-8FE6-4B97-8838-8B4BC76E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9CD94-CD1E-48F2-A9CC-0F08C0EE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E3CBB-30B7-4576-A6EC-7194D9F5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37C0-0BA1-434A-9D92-C411D02F87B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四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影响药物作用的因素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55640" y="148392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不同给药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途径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对药效产生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物耐受性、精神依赖和成瘾性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物不同剂型对药物吸收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机体方面对药效产生影响的因素有哪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护理老年患者用药的注意事项有哪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200" spc="-1" strike="noStrike">
                <a:solidFill>
                  <a:srgbClr val="ffffff"/>
                </a:solidFill>
                <a:latin typeface="华文新魏"/>
              </a:rPr>
              <a:t>药物方面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55640" y="1341360"/>
            <a:ext cx="7943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剂型：不同剂型影响药物吸收量和速率，从而影响药物作用快慢和强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药途径：不同给药途径能影响药效和起效快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相互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耐受性和依赖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机体方面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生理状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、营养状态、精神状态、遗传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病理状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饮食对药物作用的影响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时间药理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物节律对药物作用和体内过程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心理因素与用药关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老年人临床用药须知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人用药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老年人用药的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口服给药时，下列那种剂型吸收最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片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溶液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丸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散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胶囊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圆角矩形 1"/>
          <p:cNvSpPr/>
          <p:nvPr/>
        </p:nvSpPr>
        <p:spPr>
          <a:xfrm>
            <a:off x="1332000" y="1341360"/>
            <a:ext cx="6985080" cy="518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连续使用镇痛药一段时间后停药，患者出现烦躁不安，流泪出汗，腹痛呕吐，此现象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戒断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耐药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反跳现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后遗效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.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变态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肝功能不良患者在使用药物时，应适当采取下列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增加给药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增加药物剂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延长给药间隔时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缩短给药间隔时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减少给药种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56:54Z</dcterms:modified>
  <cp:revision>99</cp:revision>
  <dc:subject/>
  <dc:title>内科护理学</dc:title>
</cp:coreProperties>
</file>