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7D43E-C8B2-4E7E-9814-8DBEE013CD38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5253D-6776-4FD9-A2E9-EBFCC7324E2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熟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药疗期间的护理须知（药疗监护内容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了解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护士在合理用药中的作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2BDBA-DEF5-48C4-B716-4EB217E6272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7991B-3D87-481F-AF47-61BB16A8667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4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D31EF-C7F4-47BD-935C-5AE3999755C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44435-9594-4ED7-9A91-63E00F8B6D0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952AE-335D-4C86-9B05-4AB4A6D7C1A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961BB-F74A-428F-9B0D-506FE45B3B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E19CE-ED20-4240-BAF3-A745BD3E3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7D49A-40EE-4313-80F7-93B4EA03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614C7-6926-4AAF-8E43-DED4B4A80E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24538-A6B3-4756-A92F-56305C43B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A2784-589C-47F5-A36F-BF793FCA9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41828-408B-4FC5-A26F-D05FBB78D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1D857-9FA8-435F-97ED-C5744F461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87F81-7665-4417-A5D0-A27CE0FE3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A0867-84A1-443B-92CF-824BB0736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11C92-F827-4E7D-A471-FE4F932CB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D5980-7D4C-4AC3-8B31-AB69F7627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FEF1C-25F0-4AA0-BFF4-8BA3CD78F09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4920" y="2997000"/>
            <a:ext cx="5689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第三十五章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影响免疫功能药物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圆角矩形 1"/>
          <p:cNvSpPr/>
          <p:nvPr/>
        </p:nvSpPr>
        <p:spPr>
          <a:xfrm>
            <a:off x="1835280" y="1341360"/>
            <a:ext cx="648180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治疗自身免疫性溶血性贫血的首选药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环磷酰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硫唑嘌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甲氨蝶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波尼松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白消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57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4360" y="1557000"/>
            <a:ext cx="79437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免疫抑制剂和免疫增强剂的临床常用药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免疫抑制剂的作用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常用的影响免疫功能药物的不良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50920" y="1267920"/>
            <a:ext cx="8664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圆角矩形 1"/>
          <p:cNvSpPr/>
          <p:nvPr/>
        </p:nvSpPr>
        <p:spPr>
          <a:xfrm>
            <a:off x="539640" y="1125360"/>
            <a:ext cx="8280360" cy="532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f2ff"/>
              </a:gs>
              <a:gs pos="100000">
                <a:srgbClr val="e8fcff"/>
              </a:gs>
            </a:gsLst>
            <a:lin ang="16200000"/>
          </a:gradFill>
          <a:ln w="9360">
            <a:solidFill>
              <a:srgbClr val="85c4d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，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3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主因“间断咳嗽、咳痰、发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年，加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月余”入院。入院查体：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8.5 ℃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心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12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分，双肺可闻及小水泡音，右手中指两侧有粟粒样结节，食指红肿，伴触痛，右足趾肿胀，可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个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5mm×5mm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紫癜，余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-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。实验室检查：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WBC 1.7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  <a:ea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L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红细胞沉降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10mm/h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反应蛋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73ug/ml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类风湿因子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+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。医生考虑为变态反应性疾病，医嘱给予地塞米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0mg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id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静脉滴注，地塞米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0mg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、庆大霉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6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U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喷咽，每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4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次。给药后患者体温逐渐降至正常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5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天后症状明显改善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圆角矩形 1"/>
          <p:cNvSpPr/>
          <p:nvPr/>
        </p:nvSpPr>
        <p:spPr>
          <a:xfrm>
            <a:off x="755640" y="2205000"/>
            <a:ext cx="7777080" cy="295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1b8e3"/>
              </a:gs>
              <a:gs pos="100000">
                <a:srgbClr val="f7ebf8"/>
              </a:gs>
            </a:gsLst>
            <a:lin ang="16200000"/>
          </a:gradFill>
          <a:ln w="9360">
            <a:solidFill>
              <a:srgbClr val="9762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请思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 地塞米松治疗该病的作用原理和临床应用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地塞米松的不良反应和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免疫抑制剂是一类非特异性地抑制机体免疫功能的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作用特点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作用缺乏特异性和选择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对初次免疫应答反应抑制作用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 药物作用与给药时间和抗原刺激的时间间隔及先后顺序密切相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多数免疫抑制剂尚有非特异性抗炎作用，抑制红、肿、热、痛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</a:rPr>
              <a:t>第一节 免疫抑制剂</a:t>
            </a:r>
            <a:endParaRPr b="1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755640" y="1628640"/>
            <a:ext cx="79200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糖皮质激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环孢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硫唑嘌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他克莫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</a:rPr>
              <a:t>第一节 免疫抑制剂</a:t>
            </a:r>
            <a:endParaRPr b="1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免疫增强剂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免疫增强剂是指可激活免疫活性细胞、增强机体的特异性或非特异性免疫功能或能加速诱导免疫应答反应，使低下的免疫功能恢复正常的一大类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卡介苗、干扰素、胸腺激素、左旋咪唑、香茹多糖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圆角矩形 1"/>
          <p:cNvSpPr/>
          <p:nvPr/>
        </p:nvSpPr>
        <p:spPr>
          <a:xfrm>
            <a:off x="1835280" y="134136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植物药增强免疫功能的主要有效成分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生物碱类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有机酸类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黄酮苷类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多糖类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植物雌激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圆角矩形 1"/>
          <p:cNvSpPr/>
          <p:nvPr/>
        </p:nvSpPr>
        <p:spPr>
          <a:xfrm>
            <a:off x="1835280" y="1341360"/>
            <a:ext cx="648180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常用于器官移植的免疫抑制剂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强的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环磷酰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环孢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硫唑嘌呤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甲氨蝶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7:53:28Z</dcterms:modified>
  <cp:revision>105</cp:revision>
  <dc:subject/>
  <dc:title>内科护理学</dc:title>
</cp:coreProperties>
</file>