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1959-1DD2-443A-A27B-38D35C88893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6D445-62F3-4DB3-96C4-B94838BBB3F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掌握：</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呋噻米、氢氯噻嗪、螺内酯的作用特点、机制、临床应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呋噻米、氢氯噻嗪、螺内酯的主要不良反应及药疗监护须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熟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利尿药物按利尿效能和作用部位的分类及其主要利尿机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氨苯蝶啶作用特点、利尿机制、临床应用、不良反应。</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了解：</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zh-CN" sz="1200" spc="-1" strike="noStrike">
                <a:solidFill>
                  <a:srgbClr val="000000"/>
                </a:solidFill>
                <a:latin typeface="Calibri"/>
                <a:ea typeface="宋体"/>
              </a:rPr>
              <a:t>常用脱水药（又称渗透性利尿药）甘露醇、山梨醇和高渗葡萄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的作用特点、临床应用和不良反应。</a:t>
            </a:r>
            <a:endParaRPr b="0" lang="en-US" sz="1200" spc="-1" strike="noStrike">
              <a:solidFill>
                <a:srgbClr val="000000"/>
              </a:solidFill>
              <a:latin typeface="Calibri"/>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CA53-F1F9-4426-BFC9-07288217BE6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83FFD-CCF3-4326-AB1A-82A826CB3DB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9EA83-FEA0-4852-8C5F-CDD826BF599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417EF-5175-4587-ADE3-5E00997A431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2776C-A110-407C-BE17-38094F20213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A35D4-B9D4-4A97-AF64-83C248962D8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AFC85-5517-433C-8177-E1AEF7653EB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8B307-C300-4357-B01C-C4392B2E5C0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59B7-A9BB-44D7-9807-2DDEC216A8B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B89C-D3C5-4F1A-9A34-A4CB05FFFA5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438D1B-4BDC-4212-B6A4-5C696CF5A2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CF0C23-0891-424C-8E43-1F8D98A0EC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E126F42-7D48-47F4-B774-73F9FD9959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12E1C3D-93BD-4388-BD28-7723B7EF8F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3EAAF5-ABDC-493F-805A-308F9B8307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9F6ABB-7DEA-4FF3-A0B5-C29434E077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B249EA-6A1E-47E1-AEFC-2E318D0F3C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9EF881B-E63E-4D84-84DD-A74270E285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94659F4-14C7-400D-BD74-F1842AA7FD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C962A4-B0C0-4748-B8CA-B8E89A6EE5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F07B06-EE50-4A92-B353-3515F934A8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E14175-4857-4108-9D29-4BE44ECEB7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E62C-940E-4208-91B1-1248C17B37A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一章</a:t>
            </a:r>
            <a:br>
              <a:rPr sz="4800"/>
            </a:b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氢氯噻嗪（</a:t>
            </a:r>
            <a:r>
              <a:rPr b="1" lang="en-US" sz="3200" spc="-1" strike="noStrike">
                <a:solidFill>
                  <a:srgbClr val="8ac8de"/>
                </a:solidFill>
                <a:latin typeface="Times New Roman"/>
                <a:ea typeface="华文新魏"/>
              </a:rPr>
              <a:t>hydrochlorothiazide</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1"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4"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螺内酯（</a:t>
            </a:r>
            <a:r>
              <a:rPr b="1" lang="en-US" sz="3200" spc="-1" strike="noStrike">
                <a:solidFill>
                  <a:srgbClr val="8ac8de"/>
                </a:solidFill>
                <a:latin typeface="Times New Roman"/>
                <a:ea typeface="华文新魏"/>
              </a:rPr>
              <a:t>spironolactone</a:t>
            </a:r>
            <a:r>
              <a:rPr b="1" lang="zh-CN" sz="3200" spc="-1" strike="noStrike">
                <a:solidFill>
                  <a:srgbClr val="8ac8de"/>
                </a:solidFill>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50"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副作用，停药后自行消失</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脱水药是一类能迅速提高血浆渗透压，使组织脱水的药物，因有渗透性利尿作用，又称为渗透性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共同特性</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注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甘露醇（</a:t>
            </a:r>
            <a:r>
              <a:rPr b="1" lang="en-US" sz="3200" spc="-1" strike="noStrike">
                <a:solidFill>
                  <a:srgbClr val="8ac8de"/>
                </a:solidFill>
                <a:latin typeface="Times New Roman"/>
                <a:ea typeface="华文新魏"/>
              </a:rPr>
              <a:t>mannitol</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功能衰竭</a:t>
            </a:r>
            <a:endParaRPr b="0" lang="en-US" sz="2800" spc="-1" strike="noStrike">
              <a:solidFill>
                <a:srgbClr val="046ca6"/>
              </a:solidFill>
              <a:latin typeface="Arial"/>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5"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注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滴，严禁作肌肉或皮下注射</a:t>
            </a:r>
            <a:endParaRPr b="0" lang="en-US" sz="24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13"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的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下列利尿作用最强的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布美他尼</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乙酰唑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常用于治疗原发性高血压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螺内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1"/>
          <p:cNvSpPr/>
          <p:nvPr/>
        </p:nvSpPr>
        <p:spPr>
          <a:xfrm>
            <a:off x="611280" y="1413000"/>
            <a:ext cx="813744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因慢性心力衰竭服用呋塞米治疗，近期因感染需应用抗</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生素治疗，因合用易增强耳毒性，需要避免应用的一类抗生素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林可霉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 .β</a:t>
            </a:r>
            <a:r>
              <a:rPr b="0" lang="zh-CN" sz="2800" spc="-1" strike="noStrike">
                <a:solidFill>
                  <a:srgbClr val="046ca6"/>
                </a:solidFill>
                <a:latin typeface="华文新魏"/>
                <a:ea typeface="华文新魏"/>
              </a:rPr>
              <a:t>内酰胺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四环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基糖苷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霉素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使房水生成减少，治疗青光眼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苯蝶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与醛固酮竞争拮抗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呋塞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圆角矩形 1"/>
          <p:cNvSpPr/>
          <p:nvPr/>
        </p:nvSpPr>
        <p:spPr>
          <a:xfrm>
            <a:off x="611280" y="1413000"/>
            <a:ext cx="799308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0</a:t>
            </a:r>
            <a:r>
              <a:rPr b="0" lang="zh-CN" sz="2800" spc="-1" strike="noStrike">
                <a:solidFill>
                  <a:srgbClr val="046ca6"/>
                </a:solidFill>
                <a:latin typeface="华文新魏"/>
                <a:ea typeface="华文新魏"/>
              </a:rPr>
              <a:t>岁，因慢性心力衰竭入院治疗。入院后查血电解质发现血钾明显升高，为避免进一步引起血钾升高，应避免应用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布美他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16" name=""/>
          <p:cNvSpPr txBox="1"/>
          <p:nvPr/>
        </p:nvSpPr>
        <p:spPr>
          <a:xfrm>
            <a:off x="304920" y="1267920"/>
            <a:ext cx="8610480" cy="525636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        </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8" name="圆角矩形 1"/>
          <p:cNvSpPr/>
          <p:nvPr/>
        </p:nvSpPr>
        <p:spPr>
          <a:xfrm>
            <a:off x="395280" y="1484280"/>
            <a:ext cx="8209080" cy="4969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6</a:t>
            </a:r>
            <a:r>
              <a:rPr b="0" lang="zh-CN" sz="2800" spc="-1" strike="noStrike">
                <a:solidFill>
                  <a:srgbClr val="046ca6"/>
                </a:solidFill>
                <a:latin typeface="华文新魏"/>
                <a:ea typeface="华文新魏"/>
              </a:rPr>
              <a:t>岁，主因端坐呼吸，双下肢水肿，以“慢性心力衰竭急性加重”收入院。</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入院后医嘱给予地高辛、卡托普利、呋塞米治疗，</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后上述症状逐渐缓解。</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主诉乏力明显，走路不稳，整个人没有精神，急查血电解质示：血钾</a:t>
            </a:r>
            <a:r>
              <a:rPr b="0" lang="en-US" sz="2800" spc="-1" strike="noStrike">
                <a:solidFill>
                  <a:srgbClr val="046ca6"/>
                </a:solidFill>
                <a:latin typeface="华文新魏"/>
                <a:ea typeface="华文新魏"/>
              </a:rPr>
              <a:t>3.3mmol/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出现乏力、行走不稳等症状的原因是什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此时患者最主要的问题是什么？应采取哪些护理措施应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6"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ac8de"/>
                </a:solidFill>
                <a:latin typeface="Times New Roman"/>
                <a:ea typeface="华文新魏"/>
              </a:rPr>
              <a:t>呋塞米（</a:t>
            </a:r>
            <a:r>
              <a:rPr b="0" lang="en-US" sz="3200" spc="-1" strike="noStrike">
                <a:solidFill>
                  <a:srgbClr val="8ac8de"/>
                </a:solidFill>
                <a:latin typeface="Times New Roman"/>
                <a:ea typeface="华文新魏"/>
              </a:rPr>
              <a:t>furosemide</a:t>
            </a:r>
            <a:r>
              <a:rPr b="0" lang="zh-CN" sz="3200" spc="-1" strike="noStrike">
                <a:solidFill>
                  <a:srgbClr val="8ac8de"/>
                </a:solidFill>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9"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他利尿药无效的严重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2" name=""/>
          <p:cNvSpPr txBox="1"/>
          <p:nvPr/>
        </p:nvSpPr>
        <p:spPr>
          <a:xfrm>
            <a:off x="324000" y="1052640"/>
            <a:ext cx="8610480" cy="48765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a:t>
            </a:r>
            <a:r>
              <a:rPr b="0" lang="en-US" sz="2600" spc="-1" strike="noStrike">
                <a:solidFill>
                  <a:srgbClr val="046ca6"/>
                </a:solidFill>
                <a:latin typeface="Times New Roman"/>
                <a:ea typeface="华文新魏"/>
              </a:rPr>
              <a:t>:</a:t>
            </a:r>
            <a:r>
              <a:rPr b="0" lang="zh-CN" sz="2600" spc="-1" strike="noStrike">
                <a:solidFill>
                  <a:srgbClr val="046ca6"/>
                </a:solidFill>
                <a:latin typeface="Times New Roman"/>
                <a:ea typeface="华文新魏"/>
              </a:rPr>
              <a:t>恶心、呕吐、腹胀、上腹痛、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作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5"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性脑病，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他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注可产生疼痛，能自行消失</a:t>
            </a:r>
            <a:endParaRPr b="0" lang="en-US" sz="24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3:32:5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