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8C0B-3859-4655-8469-0236359459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1630B-CF33-4617-BC3A-4B84C410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8B013-D441-468F-BFAC-FA874FE8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0E6B-955F-4663-A425-D811F893AD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AA892-00D5-40E4-8F51-B5327376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9A276-6FAE-4B39-8F03-E2ED815C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BC73A-F5BD-4AA6-9A64-17E0609E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9CE6-3BB5-4DD4-943D-EF438989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9A48C-9001-4349-ADAE-0DDD218A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3465B-D6DA-4EE8-889E-C158A307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0D4FF-9E62-4833-9165-2A51A244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79DE6-1631-41F8-8BEE-73C0B5D8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a2b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F03E-0650-42CA-96B3-B72C6F83ED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八节   心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04920" y="1214280"/>
            <a:ext cx="8339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甲状腺功能、血糖、脑钠肽、肌钙蛋白、心肌酶等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电图、胸部 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、心脏彩超、甲状腺彩超、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24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小时动态心电图等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4857840" y="3859200"/>
            <a:ext cx="31464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舒适度减弱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所致不适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活动无耐力 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时所致的疲乏无力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睡眠型态紊乱 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所致不适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所致不适及担心预后有关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悸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是一种自觉心脏搏动的不适感或心慌感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悸可以是病理性的，也可以是生理性的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悸时，心率可快可慢，或有心律失常，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率和心律正常者也可有心悸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2" descr="C:\Documents and Settings\Administrator\Application Data\360se6\Application\User Data\temp\u=2824109337,324773309&amp;fm=11&amp;gp=0.jpg"/>
          <p:cNvPicPr/>
          <p:nvPr/>
        </p:nvPicPr>
        <p:blipFill>
          <a:blip r:embed="rId1"/>
          <a:stretch/>
        </p:blipFill>
        <p:spPr>
          <a:xfrm>
            <a:off x="5430960" y="4145040"/>
            <a:ext cx="28540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悸发生机制尚未完全清楚，一般认为心脏活动过度是心悸发生的基础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2" name="组合 68"/>
          <p:cNvGrpSpPr/>
          <p:nvPr/>
        </p:nvGrpSpPr>
        <p:grpSpPr>
          <a:xfrm>
            <a:off x="857160" y="2928960"/>
            <a:ext cx="7786800" cy="2874960"/>
            <a:chOff x="857160" y="2928960"/>
            <a:chExt cx="7786800" cy="2874960"/>
          </a:xfrm>
        </p:grpSpPr>
        <p:grpSp>
          <p:nvGrpSpPr>
            <p:cNvPr id="113" name="组合 32"/>
            <p:cNvGrpSpPr/>
            <p:nvPr/>
          </p:nvGrpSpPr>
          <p:grpSpPr>
            <a:xfrm>
              <a:off x="857160" y="2928960"/>
              <a:ext cx="3428280" cy="374760"/>
              <a:chOff x="857160" y="2928960"/>
              <a:chExt cx="3428280" cy="374760"/>
            </a:xfrm>
          </p:grpSpPr>
          <p:grpSp>
            <p:nvGrpSpPr>
              <p:cNvPr id="114" name="Group 21"/>
              <p:cNvGrpSpPr/>
              <p:nvPr/>
            </p:nvGrpSpPr>
            <p:grpSpPr>
              <a:xfrm>
                <a:off x="2071440" y="2928960"/>
                <a:ext cx="2214000" cy="357120"/>
                <a:chOff x="2071440" y="2928960"/>
                <a:chExt cx="2214000" cy="357120"/>
              </a:xfrm>
            </p:grpSpPr>
            <p:sp>
              <p:nvSpPr>
                <p:cNvPr id="115" name="Rectangle 6"/>
                <p:cNvSpPr/>
                <p:nvPr/>
              </p:nvSpPr>
              <p:spPr>
                <a:xfrm>
                  <a:off x="2571480" y="2928960"/>
                  <a:ext cx="171396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舒张期缩短</a:t>
                  </a:r>
                  <a:endParaRPr b="0" lang="en-US" sz="20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cxnSp>
              <p:nvCxnSpPr>
                <p:cNvPr id="116" name="AutoShape 19"/>
                <p:cNvCxnSpPr/>
                <p:nvPr/>
              </p:nvCxnSpPr>
              <p:spPr>
                <a:xfrm>
                  <a:off x="2071440" y="3142440"/>
                  <a:ext cx="489600" cy="180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17" name="Rectangle 8"/>
              <p:cNvSpPr/>
              <p:nvPr/>
            </p:nvSpPr>
            <p:spPr>
              <a:xfrm>
                <a:off x="857160" y="2928960"/>
                <a:ext cx="118296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心动过速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118" name="Rectangle 6"/>
            <p:cNvSpPr/>
            <p:nvPr/>
          </p:nvSpPr>
          <p:spPr>
            <a:xfrm>
              <a:off x="4786200" y="2928960"/>
              <a:ext cx="2214360" cy="35712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室充盈程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19" name="AutoShape 19"/>
            <p:cNvCxnSpPr/>
            <p:nvPr/>
          </p:nvCxnSpPr>
          <p:spPr>
            <a:xfrm>
              <a:off x="4285800" y="3142800"/>
              <a:ext cx="489240" cy="180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cxnSp>
          <p:nvCxnSpPr>
            <p:cNvPr id="120" name="形状 39"/>
            <p:cNvCxnSpPr>
              <a:stCxn id="118" idx="3"/>
            </p:cNvCxnSpPr>
            <p:nvPr/>
          </p:nvCxnSpPr>
          <p:spPr>
            <a:xfrm>
              <a:off x="7000920" y="3106440"/>
              <a:ext cx="714960" cy="751680"/>
            </a:xfrm>
            <a:prstGeom prst="bentConnector2">
              <a:avLst/>
            </a:prstGeom>
            <a:ln w="28440">
              <a:solidFill>
                <a:srgbClr val="692aa2"/>
              </a:solidFill>
              <a:miter/>
              <a:tailEnd len="med" type="arrow" w="med"/>
            </a:ln>
          </p:spPr>
        </p:cxnSp>
        <p:sp>
          <p:nvSpPr>
            <p:cNvPr id="121" name="Rectangle 8"/>
            <p:cNvSpPr/>
            <p:nvPr/>
          </p:nvSpPr>
          <p:spPr>
            <a:xfrm>
              <a:off x="6929640" y="3857400"/>
              <a:ext cx="1714320" cy="8571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室肌与心脏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瓣膜紧张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22" name="直接箭头连接符 46"/>
            <p:cNvCxnSpPr/>
            <p:nvPr/>
          </p:nvCxnSpPr>
          <p:spPr>
            <a:xfrm flipV="1">
              <a:off x="8501400" y="4285440"/>
              <a:ext cx="2160" cy="286200"/>
            </a:xfrm>
            <a:prstGeom prst="straightConnector1">
              <a:avLst/>
            </a:prstGeom>
            <a:ln w="28440">
              <a:solidFill>
                <a:srgbClr val="fe230c"/>
              </a:solidFill>
              <a:miter/>
              <a:tailEnd len="med" type="arrow" w="med"/>
            </a:ln>
          </p:spPr>
        </p:cxnSp>
        <p:cxnSp>
          <p:nvCxnSpPr>
            <p:cNvPr id="123" name="AutoShape 19"/>
            <p:cNvCxnSpPr/>
            <p:nvPr/>
          </p:nvCxnSpPr>
          <p:spPr>
            <a:xfrm flipH="1" flipV="1">
              <a:off x="6357240" y="4285800"/>
              <a:ext cx="57204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24" name="Rectangle 6"/>
            <p:cNvSpPr/>
            <p:nvPr/>
          </p:nvSpPr>
          <p:spPr>
            <a:xfrm>
              <a:off x="4143240" y="4143240"/>
              <a:ext cx="2214360" cy="35712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尖搏动增强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25" name="AutoShape 19"/>
            <p:cNvCxnSpPr/>
            <p:nvPr/>
          </p:nvCxnSpPr>
          <p:spPr>
            <a:xfrm flipH="1" flipV="1">
              <a:off x="3571200" y="4285800"/>
              <a:ext cx="57204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26" name="TextBox 52"/>
            <p:cNvSpPr/>
            <p:nvPr/>
          </p:nvSpPr>
          <p:spPr>
            <a:xfrm>
              <a:off x="2714400" y="4000320"/>
              <a:ext cx="100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心悸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27" name="TextBox 53"/>
            <p:cNvSpPr/>
            <p:nvPr/>
          </p:nvSpPr>
          <p:spPr>
            <a:xfrm>
              <a:off x="7358040" y="307152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心室收缩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128" name="组合 32"/>
            <p:cNvGrpSpPr/>
            <p:nvPr/>
          </p:nvGrpSpPr>
          <p:grpSpPr>
            <a:xfrm>
              <a:off x="857160" y="5429160"/>
              <a:ext cx="3428280" cy="374760"/>
              <a:chOff x="857160" y="5429160"/>
              <a:chExt cx="3428280" cy="374760"/>
            </a:xfrm>
          </p:grpSpPr>
          <p:grpSp>
            <p:nvGrpSpPr>
              <p:cNvPr id="129" name="Group 21"/>
              <p:cNvGrpSpPr/>
              <p:nvPr/>
            </p:nvGrpSpPr>
            <p:grpSpPr>
              <a:xfrm>
                <a:off x="2071440" y="5429160"/>
                <a:ext cx="2214000" cy="357120"/>
                <a:chOff x="2071440" y="5429160"/>
                <a:chExt cx="2214000" cy="357120"/>
              </a:xfrm>
            </p:grpSpPr>
            <p:sp>
              <p:nvSpPr>
                <p:cNvPr id="130" name="Rectangle 6"/>
                <p:cNvSpPr/>
                <p:nvPr/>
              </p:nvSpPr>
              <p:spPr>
                <a:xfrm>
                  <a:off x="2571480" y="5429160"/>
                  <a:ext cx="171396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舒张期延长</a:t>
                  </a:r>
                  <a:endParaRPr b="0" lang="en-US" sz="20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cxnSp>
              <p:nvCxnSpPr>
                <p:cNvPr id="131" name="AutoShape 19"/>
                <p:cNvCxnSpPr/>
                <p:nvPr/>
              </p:nvCxnSpPr>
              <p:spPr>
                <a:xfrm>
                  <a:off x="2071440" y="5642640"/>
                  <a:ext cx="489600" cy="180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32" name="Rectangle 8"/>
              <p:cNvSpPr/>
              <p:nvPr/>
            </p:nvSpPr>
            <p:spPr>
              <a:xfrm>
                <a:off x="857160" y="5429160"/>
                <a:ext cx="118296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心动过缓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cxnSp>
          <p:nvCxnSpPr>
            <p:cNvPr id="133" name="AutoShape 19"/>
            <p:cNvCxnSpPr/>
            <p:nvPr/>
          </p:nvCxnSpPr>
          <p:spPr>
            <a:xfrm>
              <a:off x="4285800" y="5643000"/>
              <a:ext cx="489240" cy="180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34" name="Rectangle 6"/>
            <p:cNvSpPr/>
            <p:nvPr/>
          </p:nvSpPr>
          <p:spPr>
            <a:xfrm>
              <a:off x="4786200" y="5429160"/>
              <a:ext cx="1857240" cy="35712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室充盈程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35" name="直接箭头连接符 61"/>
            <p:cNvCxnSpPr/>
            <p:nvPr/>
          </p:nvCxnSpPr>
          <p:spPr>
            <a:xfrm flipV="1">
              <a:off x="6715080" y="2999520"/>
              <a:ext cx="2160" cy="214920"/>
            </a:xfrm>
            <a:prstGeom prst="straightConnector1">
              <a:avLst/>
            </a:prstGeom>
            <a:ln w="28440">
              <a:solidFill>
                <a:srgbClr val="fe230c"/>
              </a:solidFill>
              <a:miter/>
              <a:tailEnd len="med" type="arrow" w="med"/>
            </a:ln>
          </p:spPr>
        </p:cxnSp>
        <p:cxnSp>
          <p:nvCxnSpPr>
            <p:cNvPr id="136" name="直接箭头连接符 63"/>
            <p:cNvCxnSpPr/>
            <p:nvPr/>
          </p:nvCxnSpPr>
          <p:spPr>
            <a:xfrm flipH="1">
              <a:off x="6500520" y="5500440"/>
              <a:ext cx="2160" cy="214920"/>
            </a:xfrm>
            <a:prstGeom prst="straightConnector1">
              <a:avLst/>
            </a:prstGeom>
            <a:ln w="28440">
              <a:solidFill>
                <a:srgbClr val="fe230c"/>
              </a:solidFill>
              <a:miter/>
              <a:tailEnd len="med" type="arrow" w="med"/>
            </a:ln>
          </p:spPr>
        </p:cxnSp>
        <p:cxnSp>
          <p:nvCxnSpPr>
            <p:cNvPr id="137" name="AutoShape 19"/>
            <p:cNvCxnSpPr/>
            <p:nvPr/>
          </p:nvCxnSpPr>
          <p:spPr>
            <a:xfrm flipV="1">
              <a:off x="5500800" y="4571640"/>
              <a:ext cx="1440" cy="7869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4560" y="1214280"/>
            <a:ext cx="85532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搏动增强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理情况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健康人在剧烈运动或精神过度紧张时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饮酒、喝浓茶或咖啡后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应用某些药物，如氨茶碱、肾上腺素等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妊娠。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1" name="Object 2"/>
          <p:cNvGraphicFramePr/>
          <p:nvPr/>
        </p:nvGraphicFramePr>
        <p:xfrm>
          <a:off x="5292360" y="4437000"/>
          <a:ext cx="3097080" cy="19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360" y="4437000"/>
                    <a:ext cx="3097080" cy="19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04920" y="1214280"/>
            <a:ext cx="82677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搏动增强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病理情况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各种原因引起的心室肥大，如高血压性心脏病、主动脉瓣关闭不全等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可引起心排出量增加的疾病，如发热、甲状腺功能亢进、贫血、低血糖症、嗜铬细胞瘤等。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6" name="Picture 5" descr="心脏解剖，左侧位（左室和Mashell)b"/>
          <p:cNvPicPr/>
          <p:nvPr/>
        </p:nvPicPr>
        <p:blipFill>
          <a:blip r:embed="rId1"/>
          <a:stretch/>
        </p:blipFill>
        <p:spPr>
          <a:xfrm>
            <a:off x="5145120" y="4857840"/>
            <a:ext cx="2451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律失常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动过速：各种原因引起的窦性心动过速、阵发性室上性心动过速或室性心动过速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动过缓：高度房室传导阻滞（二、三度房室传导阻滞）、窦性心动过缓或病态窦房结综合征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律不齐：期前收缩、心房扑动或颤动等均可引起心悸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力衰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神经症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 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由自主神经功能紊乱所引起，青年女性多见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悸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注意询问心悸发作的时间、频率、性质及程度，有无先兆症状及加重缓解的因素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呼吸困难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晕厥、抽搐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前区疼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消瘦、出汗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3" name="Picture 27" descr="www"/>
          <p:cNvPicPr/>
          <p:nvPr/>
        </p:nvPicPr>
        <p:blipFill>
          <a:blip r:embed="rId1"/>
          <a:stretch/>
        </p:blipFill>
        <p:spPr>
          <a:xfrm>
            <a:off x="5499000" y="3432240"/>
            <a:ext cx="282276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病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器质性心脏病、贫血、内分泌疾病等病史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氨茶碱、肾上腺素等药物的使用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烟、酒、浓茶、咖啡的嗜好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过度劳累、精神刺激等诱发因素。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对机体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重点是心悸对患者的日常活动有无影响及其程度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诊疗及护理过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发热、脉搏增快或减慢、血压的异常；有无营养不良；有无甲亢、贫血面容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头面部及颈部评估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眼球震颤、甲状腺肿大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肺部评估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呼吸困难、呼吸音异常及干湿啰音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及血管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其他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双下肢水肿、双手震颤等。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1:30Z</dcterms:modified>
  <cp:revision>17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