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2B59-B3B3-41AA-BB91-0C2990F6CB9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5281-3BF5-41CF-9451-1BA6A05EC13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A879D-1BB9-413A-83C6-FDC386AE76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F7AC3-E3C5-4B57-8546-B4B3EAF2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D715D-508A-44A3-92BC-7C88832D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F56FE-E1B8-4C0A-8CC6-EA951FC99C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45086-7D9E-4C98-9A73-EAE0E3D7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44946-5753-4A24-8248-4D2C0CAB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242A0-55FE-43FC-ABA0-2B439DE8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54DAF-B0DD-4BCF-8C7B-9405C5FE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1A804-888A-44BF-9D47-39D20835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5D11-CF65-4B1A-8C13-7D1AB49C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BD9B-6539-4878-8FAF-818FA769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D03CE-05B5-4681-9141-FACD03ED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CAB8-5B2C-448B-B77C-7E0412D7EE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三节   水肿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经前期紧张综合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于育龄妇女，于月经前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7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天出现眼睑、踝部等部位水肿，月经后消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与月经前后身体内分泌激素的生理变化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药物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原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服药过程中出现水肿，停药后消失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药物所致的钠水潴留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的主要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出现于身体低垂部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心源性水肿、营养不良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于组织最疏松部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肾源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腹水为突出表现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肝源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与体位及活动有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特发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呼吸困难、颈静脉怒张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心源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血尿、高血压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肾源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乏力、纳差、上消化道出血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肝源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消瘦、皮下脂肪减少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营养不良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畏寒、皮肤粗糙、反应迟钝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黏液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局部皮肤红、痛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局部炎症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引起的身心反应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精神状态：心情烦躁或焦虑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食欲、体重及皮肤改变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睡眠及二便有无异常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自理能力有无影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的病因或诱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受寒、劳累、食盐及输液过多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心脏病、肾病、肝病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其他慢性消耗性疾病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慢性病及家族遗传病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手术、外伤、分娩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食物及药物过敏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8584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诊断和护理经过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病后曾做过的检查，结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病后曾采取的护理措施：是否低盐饮食、记录液体出、入量，效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病后曾使用药物的名称、剂量、疗效、不良反应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生命体征、营养状况、意识及面容表情、身体活动情况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皮肤黏膜有无苍白、发绀、水肿、皮疹、蜘蛛痣及肝掌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头颈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眼睑有无水肿、巩膜有无黄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颈静脉有无怒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胸廓是否饱满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触觉语颤有无减弱或消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叩诊有无浊音或实音，心界有无扩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听诊有无干湿性啰音，心率增快、心脏杂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腹部膨隆、腹壁静脉曲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触诊有无肝脾肿大、肝颈静脉回流征阳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叩诊有无移动性浊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、尿、便常规检查，注意观察血尿、蛋白尿、管型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浆白蛋白含量，血脂三项，肝、肾功能，自身抗体等检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电图、胸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、心脏及腹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等检查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必要时行肾穿刺活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920" y="1196640"/>
            <a:ext cx="86104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体液过多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脏、肾、肝损害或功能衰竭及慢性消耗性疾病所致的水钠潴留、低蛋白血症、门脉高压等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有皮肤完整性受损的危险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水肿所致机体组织、细胞营养不良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活动无耐力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全身水肿、大量胸水、腹水所致呼吸困难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营养失调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低于机体需要量  与饮食受限、蛋白质丧失、蛋白质合成障碍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急性肺水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过多的液体在体内组织间隙积聚，使组织肿胀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分为全身性水肿与局部性水肿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正常机体内只有少量液体，当体腔内有液体积聚时称为积液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5" name="组合 5"/>
          <p:cNvGrpSpPr/>
          <p:nvPr/>
        </p:nvGrpSpPr>
        <p:grpSpPr>
          <a:xfrm>
            <a:off x="999360" y="4357800"/>
            <a:ext cx="7072920" cy="2093760"/>
            <a:chOff x="999360" y="4357800"/>
            <a:chExt cx="7072920" cy="2093760"/>
          </a:xfrm>
        </p:grpSpPr>
        <p:pic>
          <p:nvPicPr>
            <p:cNvPr id="116" name="Picture 4" descr=""/>
            <p:cNvPicPr/>
            <p:nvPr/>
          </p:nvPicPr>
          <p:blipFill>
            <a:blip r:embed="rId1"/>
            <a:stretch/>
          </p:blipFill>
          <p:spPr>
            <a:xfrm>
              <a:off x="2071440" y="4357800"/>
              <a:ext cx="2357280" cy="17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11"/>
            <p:cNvSpPr/>
            <p:nvPr/>
          </p:nvSpPr>
          <p:spPr>
            <a:xfrm>
              <a:off x="999360" y="4429080"/>
              <a:ext cx="91188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华文新魏"/>
                  <a:ea typeface="华文新魏"/>
                </a:rPr>
                <a:t>全身水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8" name="组合 14"/>
            <p:cNvGrpSpPr/>
            <p:nvPr/>
          </p:nvGrpSpPr>
          <p:grpSpPr>
            <a:xfrm>
              <a:off x="5500440" y="4357800"/>
              <a:ext cx="2571840" cy="2093760"/>
              <a:chOff x="5500440" y="4357800"/>
              <a:chExt cx="2571840" cy="2093760"/>
            </a:xfrm>
          </p:grpSpPr>
          <p:pic>
            <p:nvPicPr>
              <p:cNvPr id="119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5643000" y="4357800"/>
                <a:ext cx="2391120" cy="20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TextBox 13"/>
              <p:cNvSpPr/>
              <p:nvPr/>
            </p:nvSpPr>
            <p:spPr>
              <a:xfrm>
                <a:off x="5500440" y="6072120"/>
                <a:ext cx="2571840" cy="37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1" name="TextBox 15"/>
            <p:cNvSpPr/>
            <p:nvPr/>
          </p:nvSpPr>
          <p:spPr>
            <a:xfrm>
              <a:off x="4642560" y="4429080"/>
              <a:ext cx="91188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华文新魏"/>
                  <a:ea typeface="华文新魏"/>
                </a:rPr>
                <a:t>局部水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与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5" name="组合 19"/>
          <p:cNvGrpSpPr/>
          <p:nvPr/>
        </p:nvGrpSpPr>
        <p:grpSpPr>
          <a:xfrm>
            <a:off x="428760" y="2276640"/>
            <a:ext cx="8151120" cy="4581360"/>
            <a:chOff x="428760" y="2276640"/>
            <a:chExt cx="8151120" cy="4581360"/>
          </a:xfrm>
        </p:grpSpPr>
        <p:sp>
          <p:nvSpPr>
            <p:cNvPr id="126" name="空心弧 6"/>
            <p:cNvSpPr/>
            <p:nvPr/>
          </p:nvSpPr>
          <p:spPr>
            <a:xfrm>
              <a:off x="860400" y="2276640"/>
              <a:ext cx="5329080" cy="4581360"/>
            </a:xfrm>
            <a:custGeom>
              <a:avLst/>
              <a:gdLst/>
              <a:ahLst/>
              <a:rect l="l" t="t" r="r" b="b"/>
              <a:pathLst>
                <a:path w="5329207" h="4581525">
                  <a:moveTo>
                    <a:pt x="0" y="2290763"/>
                  </a:moveTo>
                  <a:cubicBezTo>
                    <a:pt x="0" y="1025610"/>
                    <a:pt x="1192984" y="0"/>
                    <a:pt x="2664604" y="0"/>
                  </a:cubicBezTo>
                  <a:cubicBezTo>
                    <a:pt x="4136224" y="0"/>
                    <a:pt x="5329208" y="1025610"/>
                    <a:pt x="5329208" y="2290763"/>
                  </a:cubicBezTo>
                  <a:lnTo>
                    <a:pt x="4183826" y="2290763"/>
                  </a:lnTo>
                  <a:cubicBezTo>
                    <a:pt x="4183826" y="1658187"/>
                    <a:pt x="3503647" y="1145382"/>
                    <a:pt x="2664604" y="1145382"/>
                  </a:cubicBezTo>
                  <a:cubicBezTo>
                    <a:pt x="1825561" y="1145382"/>
                    <a:pt x="1145382" y="1658187"/>
                    <a:pt x="1145382" y="2290763"/>
                  </a:cubicBezTo>
                  <a:lnTo>
                    <a:pt x="0" y="2290763"/>
                  </a:lnTo>
                  <a:close/>
                </a:path>
              </a:pathLst>
            </a:custGeom>
            <a:solidFill>
              <a:srgbClr val="8ac8de"/>
            </a:solidFill>
            <a:ln w="25560">
              <a:solidFill>
                <a:srgbClr val="6492a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27" name="组合 16"/>
            <p:cNvGrpSpPr/>
            <p:nvPr/>
          </p:nvGrpSpPr>
          <p:grpSpPr>
            <a:xfrm>
              <a:off x="428760" y="2471760"/>
              <a:ext cx="8151120" cy="2962440"/>
              <a:chOff x="428760" y="2471760"/>
              <a:chExt cx="8151120" cy="2962440"/>
            </a:xfrm>
          </p:grpSpPr>
          <p:grpSp>
            <p:nvGrpSpPr>
              <p:cNvPr id="128" name="组合 11"/>
              <p:cNvGrpSpPr/>
              <p:nvPr/>
            </p:nvGrpSpPr>
            <p:grpSpPr>
              <a:xfrm>
                <a:off x="428760" y="2643120"/>
                <a:ext cx="8151120" cy="2060640"/>
                <a:chOff x="428760" y="2643120"/>
                <a:chExt cx="8151120" cy="2060640"/>
              </a:xfrm>
            </p:grpSpPr>
            <p:pic>
              <p:nvPicPr>
                <p:cNvPr id="129" name="Picture 4" descr="ppt宝藏_www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428720" y="2752200"/>
                  <a:ext cx="752400" cy="36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TextBox 4"/>
                <p:cNvSpPr/>
                <p:nvPr/>
              </p:nvSpPr>
              <p:spPr>
                <a:xfrm>
                  <a:off x="428760" y="4143960"/>
                  <a:ext cx="184680" cy="55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1" name="TextBox 5"/>
                <p:cNvSpPr/>
                <p:nvPr/>
              </p:nvSpPr>
              <p:spPr>
                <a:xfrm>
                  <a:off x="6753240" y="2643120"/>
                  <a:ext cx="18266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1d1496"/>
                      </a:solidFill>
                      <a:latin typeface="黑体"/>
                      <a:ea typeface="黑体"/>
                    </a:rPr>
                    <a:t>组织液胶体渗透压（吸引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46ca6"/>
                      </a:solidFill>
                      <a:latin typeface="黑体"/>
                      <a:ea typeface="黑体"/>
                    </a:rPr>
                    <a:t>组织间隙压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TextBox 11"/>
              <p:cNvSpPr/>
              <p:nvPr/>
            </p:nvSpPr>
            <p:spPr>
              <a:xfrm>
                <a:off x="6451200" y="419256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</a:rPr>
                  <a:t>组织间隙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3" name="TextBox 12"/>
              <p:cNvSpPr/>
              <p:nvPr/>
            </p:nvSpPr>
            <p:spPr>
              <a:xfrm>
                <a:off x="1244160" y="40485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1d1496"/>
                    </a:solidFill>
                    <a:latin typeface="Arial"/>
                  </a:rPr>
                  <a:t>血管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134" name="Picture 4" descr="ppt宝藏_www"/>
              <p:cNvPicPr/>
              <p:nvPr/>
            </p:nvPicPr>
            <p:blipFill>
              <a:blip r:embed="rId2"/>
              <a:stretch/>
            </p:blipFill>
            <p:spPr>
              <a:xfrm flipH="1">
                <a:off x="5653080" y="2896200"/>
                <a:ext cx="752400" cy="3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矩形 14"/>
              <p:cNvSpPr/>
              <p:nvPr/>
            </p:nvSpPr>
            <p:spPr>
              <a:xfrm>
                <a:off x="2103480" y="2471760"/>
                <a:ext cx="250020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1d1496"/>
                    </a:solidFill>
                    <a:latin typeface="黑体"/>
                    <a:ea typeface="黑体"/>
                  </a:rPr>
                  <a:t>毛细血管内静水压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血浆胶体渗透压（吸引）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Rectangle 1"/>
              <p:cNvSpPr/>
              <p:nvPr/>
            </p:nvSpPr>
            <p:spPr>
              <a:xfrm>
                <a:off x="3881520" y="4913640"/>
                <a:ext cx="3036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00000"/>
                    </a:solidFill>
                    <a:latin typeface="宋体"/>
                    <a:ea typeface="Times New Roman"/>
                  </a:rPr>
                  <a:t>组织间液生成</a:t>
                </a:r>
                <a:r>
                  <a:rPr b="0" lang="en-US" sz="2800" spc="-1" strike="noStrike">
                    <a:solidFill>
                      <a:srgbClr val="c00000"/>
                    </a:solidFill>
                    <a:latin typeface="宋体"/>
                    <a:ea typeface="Times New Roman"/>
                  </a:rPr>
                  <a:t>=</a:t>
                </a:r>
                <a:r>
                  <a:rPr b="0" lang="zh-CN" sz="2800" spc="-1" strike="noStrike">
                    <a:solidFill>
                      <a:srgbClr val="c00000"/>
                    </a:solidFill>
                    <a:latin typeface="宋体"/>
                    <a:ea typeface="Times New Roman"/>
                  </a:rPr>
                  <a:t>回吸收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TextBox 18"/>
          <p:cNvSpPr/>
          <p:nvPr/>
        </p:nvSpPr>
        <p:spPr>
          <a:xfrm>
            <a:off x="2786040" y="5715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正常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发生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水钠潴留：继发性醛固酮增多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毛细血管内静水压增高：右心功能不全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血浆胶体渗透压降低：低蛋白血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毛细血管通透性增加：炎症、过敏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的病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全身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局限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源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右心衰竭、急性或慢性心包炎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3635280" y="2997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心力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3448080" y="3855960"/>
            <a:ext cx="220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心排血量减少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6372360" y="38577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有效循环血量</a:t>
            </a:r>
            <a:r>
              <a:rPr b="1" lang="zh-CN" sz="2000" spc="-1" strike="noStrike">
                <a:solidFill>
                  <a:srgbClr val="ff0000"/>
                </a:solidFill>
                <a:latin typeface="华文琥珀"/>
                <a:ea typeface="华文琥珀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1665360" y="38559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体循环淤血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6588000" y="479268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肾血流量</a:t>
            </a:r>
            <a:r>
              <a:rPr b="1" lang="zh-CN" sz="2000" spc="-1" strike="noStrike">
                <a:solidFill>
                  <a:srgbClr val="ff0000"/>
                </a:solidFill>
                <a:latin typeface="华文琥珀"/>
                <a:ea typeface="华文琥珀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11"/>
          <p:cNvSpPr/>
          <p:nvPr/>
        </p:nvSpPr>
        <p:spPr>
          <a:xfrm>
            <a:off x="6227640" y="5904000"/>
            <a:ext cx="23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肾小球滤过率下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13"/>
          <p:cNvSpPr/>
          <p:nvPr/>
        </p:nvSpPr>
        <p:spPr>
          <a:xfrm>
            <a:off x="4277520" y="5904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水钠潴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1665360" y="472140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毛细血管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体静压增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29"/>
          <p:cNvSpPr/>
          <p:nvPr/>
        </p:nvSpPr>
        <p:spPr>
          <a:xfrm>
            <a:off x="1833840" y="5838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3" name="直接箭头连接符 4"/>
          <p:cNvCxnSpPr>
            <a:stCxn id="144" idx="2"/>
            <a:endCxn id="145" idx="0"/>
          </p:cNvCxnSpPr>
          <p:nvPr/>
        </p:nvCxnSpPr>
        <p:spPr>
          <a:xfrm>
            <a:off x="4535280" y="3459240"/>
            <a:ext cx="14760" cy="39744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4" name="直接箭头连接符 14"/>
          <p:cNvCxnSpPr>
            <a:stCxn id="146" idx="2"/>
            <a:endCxn id="148" idx="0"/>
          </p:cNvCxnSpPr>
          <p:nvPr/>
        </p:nvCxnSpPr>
        <p:spPr>
          <a:xfrm>
            <a:off x="7416360" y="4257720"/>
            <a:ext cx="1080" cy="5356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5" name="直接箭头连接符 16"/>
          <p:cNvCxnSpPr>
            <a:stCxn id="148" idx="2"/>
            <a:endCxn id="149" idx="0"/>
          </p:cNvCxnSpPr>
          <p:nvPr/>
        </p:nvCxnSpPr>
        <p:spPr>
          <a:xfrm flipH="1">
            <a:off x="7400520" y="5192640"/>
            <a:ext cx="16560" cy="7120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6" name="直接箭头连接符 29"/>
          <p:cNvCxnSpPr>
            <a:stCxn id="149" idx="1"/>
            <a:endCxn id="150" idx="3"/>
          </p:cNvCxnSpPr>
          <p:nvPr/>
        </p:nvCxnSpPr>
        <p:spPr>
          <a:xfrm flipH="1">
            <a:off x="5277600" y="6103440"/>
            <a:ext cx="950040" cy="10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7" name="直接箭头连接符 7168"/>
          <p:cNvCxnSpPr>
            <a:stCxn id="150" idx="1"/>
            <a:endCxn id="152" idx="3"/>
          </p:cNvCxnSpPr>
          <p:nvPr/>
        </p:nvCxnSpPr>
        <p:spPr>
          <a:xfrm flipH="1" flipV="1">
            <a:off x="2590200" y="6100560"/>
            <a:ext cx="1477080" cy="360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8" name="直接箭头连接符 7170"/>
          <p:cNvCxnSpPr>
            <a:endCxn id="147" idx="3"/>
          </p:cNvCxnSpPr>
          <p:nvPr/>
        </p:nvCxnSpPr>
        <p:spPr>
          <a:xfrm flipH="1">
            <a:off x="2869560" y="4055760"/>
            <a:ext cx="578520" cy="10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9" name="直接箭头连接符 7186"/>
          <p:cNvCxnSpPr>
            <a:stCxn id="145" idx="3"/>
            <a:endCxn id="146" idx="1"/>
          </p:cNvCxnSpPr>
          <p:nvPr/>
        </p:nvCxnSpPr>
        <p:spPr>
          <a:xfrm>
            <a:off x="5651640" y="4056120"/>
            <a:ext cx="721440" cy="216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60" name="直接箭头连接符 7188"/>
          <p:cNvCxnSpPr>
            <a:stCxn id="147" idx="2"/>
            <a:endCxn id="151" idx="0"/>
          </p:cNvCxnSpPr>
          <p:nvPr/>
        </p:nvCxnSpPr>
        <p:spPr>
          <a:xfrm>
            <a:off x="2136240" y="4255560"/>
            <a:ext cx="1080" cy="46620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61" name="直接箭头连接符 7193"/>
          <p:cNvCxnSpPr>
            <a:stCxn id="151" idx="2"/>
            <a:endCxn id="152" idx="0"/>
          </p:cNvCxnSpPr>
          <p:nvPr/>
        </p:nvCxnSpPr>
        <p:spPr>
          <a:xfrm>
            <a:off x="2136240" y="5429160"/>
            <a:ext cx="1080" cy="41040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肾源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肾病综合征、急或慢性肾小球肾炎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665360" y="35211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肾病综合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Box 38"/>
          <p:cNvSpPr/>
          <p:nvPr/>
        </p:nvSpPr>
        <p:spPr>
          <a:xfrm>
            <a:off x="3549600" y="35211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大量蛋白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Box 39"/>
          <p:cNvSpPr/>
          <p:nvPr/>
        </p:nvSpPr>
        <p:spPr>
          <a:xfrm>
            <a:off x="5536080" y="352116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血浆胶体渗透压</a:t>
            </a:r>
            <a:r>
              <a:rPr b="0" lang="zh-CN" sz="2000" spc="-1" strike="noStrike">
                <a:solidFill>
                  <a:srgbClr val="0070c0"/>
                </a:solidFill>
                <a:latin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Box 40"/>
          <p:cNvSpPr/>
          <p:nvPr/>
        </p:nvSpPr>
        <p:spPr>
          <a:xfrm>
            <a:off x="1665360" y="46832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肾小球肾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41"/>
          <p:cNvSpPr/>
          <p:nvPr/>
        </p:nvSpPr>
        <p:spPr>
          <a:xfrm>
            <a:off x="3467520" y="468324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肾小球滤过率</a:t>
            </a:r>
            <a:r>
              <a:rPr b="0" lang="zh-CN" sz="2000" spc="-1" strike="noStrike">
                <a:solidFill>
                  <a:srgbClr val="0070c0"/>
                </a:solidFill>
                <a:latin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42"/>
          <p:cNvSpPr/>
          <p:nvPr/>
        </p:nvSpPr>
        <p:spPr>
          <a:xfrm>
            <a:off x="5718240" y="468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水钠潴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29"/>
          <p:cNvSpPr/>
          <p:nvPr/>
        </p:nvSpPr>
        <p:spPr>
          <a:xfrm>
            <a:off x="7313760" y="4005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2" name="直接箭头连接符 4"/>
          <p:cNvCxnSpPr>
            <a:stCxn id="165" idx="3"/>
            <a:endCxn id="166" idx="1"/>
          </p:cNvCxnSpPr>
          <p:nvPr/>
        </p:nvCxnSpPr>
        <p:spPr>
          <a:xfrm>
            <a:off x="2870280" y="3720600"/>
            <a:ext cx="41832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3" name="直接箭头连接符 6"/>
          <p:cNvCxnSpPr>
            <a:stCxn id="166" idx="3"/>
            <a:endCxn id="167" idx="1"/>
          </p:cNvCxnSpPr>
          <p:nvPr/>
        </p:nvCxnSpPr>
        <p:spPr>
          <a:xfrm>
            <a:off x="4754520" y="3720600"/>
            <a:ext cx="39456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4" name="肘形连接符 10"/>
          <p:cNvCxnSpPr>
            <a:stCxn id="167" idx="3"/>
            <a:endCxn id="171" idx="0"/>
          </p:cNvCxnSpPr>
          <p:nvPr/>
        </p:nvCxnSpPr>
        <p:spPr>
          <a:xfrm>
            <a:off x="7385040" y="3720960"/>
            <a:ext cx="232560" cy="285120"/>
          </a:xfrm>
          <a:prstGeom prst="bentConnector2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5" name="直接箭头连接符 17"/>
          <p:cNvCxnSpPr>
            <a:stCxn id="168" idx="3"/>
            <a:endCxn id="169" idx="1"/>
          </p:cNvCxnSpPr>
          <p:nvPr/>
        </p:nvCxnSpPr>
        <p:spPr>
          <a:xfrm>
            <a:off x="2869920" y="4882680"/>
            <a:ext cx="26208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6" name="直接箭头连接符 20"/>
          <p:cNvCxnSpPr>
            <a:stCxn id="169" idx="3"/>
            <a:endCxn id="170" idx="1"/>
          </p:cNvCxnSpPr>
          <p:nvPr/>
        </p:nvCxnSpPr>
        <p:spPr>
          <a:xfrm>
            <a:off x="5111280" y="4882680"/>
            <a:ext cx="39780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7" name="肘形连接符 24"/>
          <p:cNvCxnSpPr>
            <a:stCxn id="170" idx="3"/>
            <a:endCxn id="171" idx="2"/>
          </p:cNvCxnSpPr>
          <p:nvPr/>
        </p:nvCxnSpPr>
        <p:spPr>
          <a:xfrm flipV="1">
            <a:off x="6718320" y="4528440"/>
            <a:ext cx="899280" cy="354600"/>
          </a:xfrm>
          <a:prstGeom prst="bentConnector2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肝源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慢性肝炎、肝硬化失代偿期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门静脉压力</a:t>
            </a:r>
            <a:r>
              <a:rPr b="0" lang="zh-CN" sz="2600" spc="-1" strike="noStrike">
                <a:solidFill>
                  <a:srgbClr val="a50021"/>
                </a:solidFill>
                <a:latin typeface="华文新魏"/>
                <a:ea typeface="华文新魏"/>
              </a:rPr>
              <a:t>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低蛋白血症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淋巴回流受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血容量</a:t>
            </a:r>
            <a:r>
              <a:rPr b="0" lang="zh-CN" sz="2600" spc="-1" strike="noStrike">
                <a:solidFill>
                  <a:srgbClr val="a50021"/>
                </a:solidFill>
                <a:latin typeface="华文新魏"/>
                <a:ea typeface="华文新魏"/>
              </a:rPr>
              <a:t>↓</a:t>
            </a:r>
            <a:r>
              <a:rPr b="0" lang="zh-CN" sz="26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、肾小球滤过率</a:t>
            </a:r>
            <a:r>
              <a:rPr b="0" lang="zh-CN" sz="2600" spc="-1" strike="noStrike">
                <a:solidFill>
                  <a:srgbClr val="a50021"/>
                </a:solidFill>
                <a:latin typeface="华文新魏"/>
                <a:ea typeface="华文新魏"/>
              </a:rPr>
              <a:t>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7" descr="腹水形成机制1"/>
          <p:cNvPicPr/>
          <p:nvPr/>
        </p:nvPicPr>
        <p:blipFill>
          <a:blip r:embed="rId1"/>
          <a:stretch/>
        </p:blipFill>
        <p:spPr>
          <a:xfrm>
            <a:off x="6345360" y="3068640"/>
            <a:ext cx="22572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8584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营养不良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：长期营养缺乏、慢性消耗性疾病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4" name="组合 14"/>
          <p:cNvGrpSpPr/>
          <p:nvPr/>
        </p:nvGrpSpPr>
        <p:grpSpPr>
          <a:xfrm>
            <a:off x="1116000" y="3068640"/>
            <a:ext cx="1079640" cy="647640"/>
            <a:chOff x="1116000" y="3068640"/>
            <a:chExt cx="1079640" cy="647640"/>
          </a:xfrm>
        </p:grpSpPr>
        <p:sp>
          <p:nvSpPr>
            <p:cNvPr id="185" name="TextBox 2"/>
            <p:cNvSpPr/>
            <p:nvPr/>
          </p:nvSpPr>
          <p:spPr>
            <a:xfrm>
              <a:off x="1305360" y="30686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摄入不足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消耗过多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矩形 8"/>
            <p:cNvSpPr/>
            <p:nvPr/>
          </p:nvSpPr>
          <p:spPr>
            <a:xfrm>
              <a:off x="1116000" y="3068640"/>
              <a:ext cx="107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组合 15"/>
          <p:cNvGrpSpPr/>
          <p:nvPr/>
        </p:nvGrpSpPr>
        <p:grpSpPr>
          <a:xfrm>
            <a:off x="3419280" y="3068640"/>
            <a:ext cx="1368720" cy="647640"/>
            <a:chOff x="3419280" y="3068640"/>
            <a:chExt cx="1368720" cy="647640"/>
          </a:xfrm>
        </p:grpSpPr>
        <p:sp>
          <p:nvSpPr>
            <p:cNvPr id="188" name="TextBox 4"/>
            <p:cNvSpPr/>
            <p:nvPr/>
          </p:nvSpPr>
          <p:spPr>
            <a:xfrm>
              <a:off x="3612960" y="3203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低蛋白血症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矩形 9"/>
            <p:cNvSpPr/>
            <p:nvPr/>
          </p:nvSpPr>
          <p:spPr>
            <a:xfrm>
              <a:off x="3419280" y="3068640"/>
              <a:ext cx="1368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组合 17"/>
          <p:cNvGrpSpPr/>
          <p:nvPr/>
        </p:nvGrpSpPr>
        <p:grpSpPr>
          <a:xfrm>
            <a:off x="1058760" y="4726080"/>
            <a:ext cx="1511280" cy="647640"/>
            <a:chOff x="1058760" y="4726080"/>
            <a:chExt cx="1511280" cy="647640"/>
          </a:xfrm>
        </p:grpSpPr>
        <p:sp>
          <p:nvSpPr>
            <p:cNvPr id="191" name="TextBox 3"/>
            <p:cNvSpPr/>
            <p:nvPr/>
          </p:nvSpPr>
          <p:spPr>
            <a:xfrm>
              <a:off x="1254600" y="48600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皮下脂肪减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矩形 10"/>
            <p:cNvSpPr/>
            <p:nvPr/>
          </p:nvSpPr>
          <p:spPr>
            <a:xfrm>
              <a:off x="1058760" y="4726080"/>
              <a:ext cx="15112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3" name="组合 18"/>
          <p:cNvGrpSpPr/>
          <p:nvPr/>
        </p:nvGrpSpPr>
        <p:grpSpPr>
          <a:xfrm>
            <a:off x="3563640" y="4726080"/>
            <a:ext cx="1295640" cy="647640"/>
            <a:chOff x="3563640" y="4726080"/>
            <a:chExt cx="1295640" cy="647640"/>
          </a:xfrm>
        </p:grpSpPr>
        <p:sp>
          <p:nvSpPr>
            <p:cNvPr id="194" name="TextBox 5"/>
            <p:cNvSpPr/>
            <p:nvPr/>
          </p:nvSpPr>
          <p:spPr>
            <a:xfrm>
              <a:off x="3727800" y="48607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组织压减低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矩形 24"/>
            <p:cNvSpPr/>
            <p:nvPr/>
          </p:nvSpPr>
          <p:spPr>
            <a:xfrm>
              <a:off x="3563640" y="4726080"/>
              <a:ext cx="1295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6" name="组合 16"/>
          <p:cNvGrpSpPr/>
          <p:nvPr/>
        </p:nvGrpSpPr>
        <p:grpSpPr>
          <a:xfrm>
            <a:off x="5940000" y="3068640"/>
            <a:ext cx="2232360" cy="649440"/>
            <a:chOff x="5940000" y="3068640"/>
            <a:chExt cx="2232360" cy="649440"/>
          </a:xfrm>
        </p:grpSpPr>
        <p:sp>
          <p:nvSpPr>
            <p:cNvPr id="197" name="TextBox 6"/>
            <p:cNvSpPr/>
            <p:nvPr/>
          </p:nvSpPr>
          <p:spPr>
            <a:xfrm>
              <a:off x="6333480" y="3213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血浆胶体渗透压降低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矩形 22"/>
            <p:cNvSpPr/>
            <p:nvPr/>
          </p:nvSpPr>
          <p:spPr>
            <a:xfrm>
              <a:off x="5940000" y="3068640"/>
              <a:ext cx="22323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9" name="组合 19"/>
          <p:cNvGrpSpPr/>
          <p:nvPr/>
        </p:nvGrpSpPr>
        <p:grpSpPr>
          <a:xfrm>
            <a:off x="6443640" y="4726080"/>
            <a:ext cx="1081080" cy="647640"/>
            <a:chOff x="6443640" y="4726080"/>
            <a:chExt cx="1081080" cy="647640"/>
          </a:xfrm>
        </p:grpSpPr>
        <p:sp>
          <p:nvSpPr>
            <p:cNvPr id="200" name="TextBox 7"/>
            <p:cNvSpPr/>
            <p:nvPr/>
          </p:nvSpPr>
          <p:spPr>
            <a:xfrm>
              <a:off x="6665400" y="4778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水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矩形 20"/>
            <p:cNvSpPr/>
            <p:nvPr/>
          </p:nvSpPr>
          <p:spPr>
            <a:xfrm>
              <a:off x="6443640" y="4726080"/>
              <a:ext cx="1081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202" name="直接箭头连接符 13"/>
          <p:cNvCxnSpPr/>
          <p:nvPr/>
        </p:nvCxnSpPr>
        <p:spPr>
          <a:xfrm>
            <a:off x="2484000" y="3357360"/>
            <a:ext cx="57564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03" name="直接箭头连接符 14"/>
          <p:cNvCxnSpPr/>
          <p:nvPr/>
        </p:nvCxnSpPr>
        <p:spPr>
          <a:xfrm flipH="1">
            <a:off x="1618560" y="3933360"/>
            <a:ext cx="1080" cy="577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04" name="直接箭头连接符 15"/>
          <p:cNvCxnSpPr/>
          <p:nvPr/>
        </p:nvCxnSpPr>
        <p:spPr>
          <a:xfrm>
            <a:off x="5363640" y="5013000"/>
            <a:ext cx="57708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05" name="直接箭头连接符 16"/>
          <p:cNvCxnSpPr/>
          <p:nvPr/>
        </p:nvCxnSpPr>
        <p:spPr>
          <a:xfrm>
            <a:off x="2771280" y="5086080"/>
            <a:ext cx="57708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06" name="直接箭头连接符 17"/>
          <p:cNvCxnSpPr/>
          <p:nvPr/>
        </p:nvCxnSpPr>
        <p:spPr>
          <a:xfrm>
            <a:off x="5076360" y="3357360"/>
            <a:ext cx="57564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07" name="直接箭头连接符 18"/>
          <p:cNvCxnSpPr/>
          <p:nvPr/>
        </p:nvCxnSpPr>
        <p:spPr>
          <a:xfrm flipH="1">
            <a:off x="7019280" y="3933360"/>
            <a:ext cx="1080" cy="577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黏液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：甲状腺功能减退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组织液蛋白含量较高所致，为非凹陷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发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于育龄妇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与内分泌失调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2" descr="d:\program files\360se6\User Data\temp\t01ecae673b1da483cc.jpg"/>
          <p:cNvPicPr/>
          <p:nvPr/>
        </p:nvPicPr>
        <p:blipFill>
          <a:blip r:embed="rId1"/>
          <a:stretch/>
        </p:blipFill>
        <p:spPr>
          <a:xfrm>
            <a:off x="5857920" y="3141720"/>
            <a:ext cx="2303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07:04Z</dcterms:modified>
  <cp:revision>28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