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EB399-32BF-4CE5-A67A-F7588CFAB5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9FC0D-71F5-43CB-8D09-D92D9599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8E579-31D4-4C7B-A226-82529248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F8F83-42A8-4E30-828A-570AD019A1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2B778-DC75-44EA-AEC3-D55D01F7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27F52-D455-489D-B409-C518ADD2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01DE0-81A1-498E-90FD-EA94DA8D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F562E-134A-46EA-B0B4-FEB64F35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F092C-0F98-4965-91D5-C18BE8C54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6B242-1CFD-4977-B84D-EF5B1232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C14FA-31FE-43C3-B07E-1DFCE4BB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A6640-0235-411C-9562-10C19B0E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0CE7-2E48-4585-9D07-EAF1A1792F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第十节   呕血与便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和体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腹痛：主要见于各种原因所致的胃肠道炎症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腹部肿块：应考虑肠道恶性淋巴瘤、结肠癌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肝硬化患者所致的食管胃底静脉曲张出血者，可伴有门静脉高压的表现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全身出血倾向：便血伴皮肤黏膜出血者，可见于急性传染性疾病及血液疾病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560" y="1214280"/>
            <a:ext cx="865980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对患者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大量呕血和便血可引起失血性周围循环衰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出血量＜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10%     </a:t>
            </a: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般无明显临床表现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出血量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10%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20%      </a:t>
            </a: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头晕、无力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出血量＞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20%      </a:t>
            </a: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冷汗、四肢厥冷、心慌等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;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出血量＞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0%      </a:t>
            </a: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神志不清、面色苍白、心率加快、脉搏细弱、血压下降等休克表现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理情绪反应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贫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53" name="AutoShape 19"/>
          <p:cNvCxnSpPr/>
          <p:nvPr/>
        </p:nvCxnSpPr>
        <p:spPr>
          <a:xfrm>
            <a:off x="4000320" y="2999880"/>
            <a:ext cx="64332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54" name="AutoShape 19"/>
          <p:cNvCxnSpPr/>
          <p:nvPr/>
        </p:nvCxnSpPr>
        <p:spPr>
          <a:xfrm>
            <a:off x="4611600" y="3429000"/>
            <a:ext cx="64332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55" name="AutoShape 19"/>
          <p:cNvCxnSpPr/>
          <p:nvPr/>
        </p:nvCxnSpPr>
        <p:spPr>
          <a:xfrm>
            <a:off x="4140000" y="3930120"/>
            <a:ext cx="64332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56" name="AutoShape 19"/>
          <p:cNvCxnSpPr/>
          <p:nvPr/>
        </p:nvCxnSpPr>
        <p:spPr>
          <a:xfrm>
            <a:off x="4140000" y="4428720"/>
            <a:ext cx="64332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04920" y="1214280"/>
            <a:ext cx="86248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的既往史与个人史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与呕血和便血相关的疾病史或饮食不当、服用肾上腺糖皮质激素、吲哚美辛（消炎痛）、水杨酸类药物等诱发因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采取相应的处理措施及其效果等，包括诊断、治疗的经过、相关的辅助检查结果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生命体征、意识状态、营养状况、皮肤的颜色、温度等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及血管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率、节律、心音强度、脉搏强度与波形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腹壁静脉曲张、腹肌紧张、腹部压痛、腹部包块、肝脏大小及质地的变化、移动性浊音、肠鸣音的变化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常规、便常规、便培养、电解质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超、纤维肠镜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组织灌注量无效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出血所致血容量不足有关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活动无耐力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呕血、便血所致贫血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休克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恐惧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大量呕血、便血有关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焦虑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担心疾病预后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  <a:ea typeface="隶书"/>
              </a:rPr>
              <a:t>/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长期便血病因不明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560" y="1214280"/>
            <a:ext cx="848196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上消化道疾病（屈氏韧带以上的消化道，包括食管、胃、十二指肠、肝、胆、胰疾病）或全身性疾病所致的上消化道出血，血液经口腔呕出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Picture 2" descr="oxbx"/>
          <p:cNvPicPr/>
          <p:nvPr/>
        </p:nvPicPr>
        <p:blipFill>
          <a:blip r:embed="rId1"/>
          <a:stretch/>
        </p:blipFill>
        <p:spPr>
          <a:xfrm>
            <a:off x="5784840" y="3932280"/>
            <a:ext cx="2200320" cy="2212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1070100101"/>
          <p:cNvPicPr/>
          <p:nvPr/>
        </p:nvPicPr>
        <p:blipFill>
          <a:blip r:embed="rId2"/>
          <a:stretch/>
        </p:blipFill>
        <p:spPr>
          <a:xfrm>
            <a:off x="1573200" y="3859200"/>
            <a:ext cx="31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04560" y="1214280"/>
            <a:ext cx="81248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消化道出血，血液由肛门排出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便血颜色可呈鲜红、暗红或黑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黑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当血液进入肠道后，其中的血红蛋白与肠道内的硫化物可结合成硫化亚铁，使粪便呈黑色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隐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每日出血量在 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5ml 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下，粪便颜色无改变，经隐血试验才能确定的出血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病因与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胃肠道的各种炎症与溃疡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消化性溃疡、食管炎、细菌性痢疾、溃疡性结肠炎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Picture 2" descr="周举应3"/>
          <p:cNvPicPr/>
          <p:nvPr/>
        </p:nvPicPr>
        <p:blipFill>
          <a:blip r:embed="rId1"/>
          <a:stretch/>
        </p:blipFill>
        <p:spPr>
          <a:xfrm>
            <a:off x="1427040" y="3432240"/>
            <a:ext cx="2718000" cy="221292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7"/>
          <p:cNvGrpSpPr/>
          <p:nvPr/>
        </p:nvGrpSpPr>
        <p:grpSpPr>
          <a:xfrm>
            <a:off x="5572080" y="3429000"/>
            <a:ext cx="2913120" cy="2286000"/>
            <a:chOff x="5572080" y="3429000"/>
            <a:chExt cx="2913120" cy="2286000"/>
          </a:xfrm>
        </p:grpSpPr>
        <p:pic>
          <p:nvPicPr>
            <p:cNvPr id="118" name="Picture 8" descr="caporg36"/>
            <p:cNvPicPr/>
            <p:nvPr/>
          </p:nvPicPr>
          <p:blipFill>
            <a:blip r:embed="rId2"/>
            <a:stretch/>
          </p:blipFill>
          <p:spPr>
            <a:xfrm>
              <a:off x="5572080" y="3429000"/>
              <a:ext cx="2913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Line 9"/>
            <p:cNvSpPr/>
            <p:nvPr/>
          </p:nvSpPr>
          <p:spPr>
            <a:xfrm flipV="1">
              <a:off x="5865480" y="4413600"/>
              <a:ext cx="186120" cy="294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>
              <a:off x="5865480" y="4904280"/>
              <a:ext cx="2318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11"/>
            <p:cNvSpPr/>
            <p:nvPr/>
          </p:nvSpPr>
          <p:spPr>
            <a:xfrm flipH="1">
              <a:off x="7396560" y="4904280"/>
              <a:ext cx="371160" cy="196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12"/>
            <p:cNvSpPr/>
            <p:nvPr/>
          </p:nvSpPr>
          <p:spPr>
            <a:xfrm flipH="1" flipV="1">
              <a:off x="6840360" y="5346720"/>
              <a:ext cx="185040" cy="48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3" name="TextBox 13"/>
          <p:cNvSpPr/>
          <p:nvPr/>
        </p:nvSpPr>
        <p:spPr>
          <a:xfrm>
            <a:off x="2143080" y="564372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胃溃疡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14"/>
          <p:cNvSpPr/>
          <p:nvPr/>
        </p:nvSpPr>
        <p:spPr>
          <a:xfrm>
            <a:off x="6429240" y="5715000"/>
            <a:ext cx="150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食管炎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病因与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各种原因所致的门脉高压而导致食管胃底静脉曲张破裂出血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8" name="Picture 4" descr="图片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498920" y="3144960"/>
            <a:ext cx="3505320" cy="2517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ESOFA_150_1A1_31360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139760" y="3144960"/>
            <a:ext cx="3462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病因与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胃肠道肿瘤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胃癌、结肠癌、直肠癌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胃肠道的损伤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强酸或强碱等引起的食管和胃的化学性损伤、食管贲门黏膜撕裂综合征、胃黏膜脱垂、食管裂孔疝、痔、肛裂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444680" y="4591080"/>
            <a:ext cx="2481120" cy="14382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1474920" y="60786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食管贲门黏膜撕裂综合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4718160" y="4584600"/>
            <a:ext cx="2730240" cy="14922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0"/>
          <p:cNvSpPr/>
          <p:nvPr/>
        </p:nvSpPr>
        <p:spPr>
          <a:xfrm>
            <a:off x="5472000" y="60786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胃黏膜脱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病因与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肝胆及胰腺病变导致的出血进入肠道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肝癌、肝动脉瘤破裂、胆囊或胆道结石、胰腺癌等所致的出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全身性疾病或血液系统疾病导致血小板质与量的异常、凝血功能异常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白血病、血小板减少性紫癜、流行性出血热、败血症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确定是否为呕血与便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判断呕血时，应注意排除鼻咽部出血或咯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判断黑便时，应注意排除因食入某些食物或药物所引起的黑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血与便血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呕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当胃内积血量达到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00ml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左右时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,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即可发生呕血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呕出血液的颜色可因出血部位、出血量的多少及在胃内停留时间的长短而不同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便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粪便的颜色与出血量、出血速度及血液在肠道内停留的时间有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圆角矩形 4"/>
          <p:cNvSpPr/>
          <p:nvPr/>
        </p:nvSpPr>
        <p:spPr>
          <a:xfrm>
            <a:off x="1479600" y="3573360"/>
            <a:ext cx="554040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576"/>
              </a:gs>
              <a:gs pos="100000">
                <a:srgbClr val="005fa1"/>
              </a:gs>
            </a:gsLst>
            <a:lin ang="16200000"/>
          </a:gradFill>
          <a:ln w="9360">
            <a:solidFill>
              <a:srgbClr val="005a8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幽门以上部位的出血常有呕血并伴有便血，幽门以下部位的出血则以便血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35:13Z</dcterms:modified>
  <cp:revision>19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