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</p:sldIdLst>
  <p:sldSz cx="9144000" cy="6858000"/>
  <p:notesSz cx="6858000" cy="9652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65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-360"/>
            <a:ext cx="297180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015920" y="723960"/>
            <a:ext cx="4826160" cy="3619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584240"/>
            <a:ext cx="548640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9166320"/>
            <a:ext cx="2971800" cy="48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9166320"/>
            <a:ext cx="2971800" cy="48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25229-A04B-482C-A36B-421C3D79AC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3884760" y="9166320"/>
            <a:ext cx="297180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3F745-220B-4D21-88E5-D8B832F8EDA5}" type="slidenum">
              <a:rPr b="0" lang="en-US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015920" y="723960"/>
            <a:ext cx="4826160" cy="361944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584240"/>
            <a:ext cx="5486400" cy="43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3884760" y="9166320"/>
            <a:ext cx="297180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D94DC-71C3-47C1-AB3C-90E2D0A16BEA}" type="slidenum">
              <a:rPr b="0" lang="en-US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015920" y="723960"/>
            <a:ext cx="4826160" cy="361944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584240"/>
            <a:ext cx="5486400" cy="43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884760" y="9166320"/>
            <a:ext cx="297180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F9BFE-926F-4E08-802D-D1FC7B42FC71}" type="slidenum">
              <a:rPr b="0" lang="en-US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015920" y="723960"/>
            <a:ext cx="4826160" cy="361944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584240"/>
            <a:ext cx="5486400" cy="43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E0FB1B-5DAB-465D-A028-FA1351ABC88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D314C6-C374-464F-BFCA-1ACA35258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A16E61-265A-4E12-A6BE-82259C2C6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3DA2A6-E76D-4177-800D-531F606D4D1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7A0042-1566-4273-9E13-DCA3A7F47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93268D-E221-4A24-A13B-1487132F7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9F870A-28AF-4C83-B11F-D277FDD6F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DF2909-AC35-4D88-AF14-62A45E299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1F330F-73A5-4BCE-8906-5FC2CC692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9ED730-DBBD-40F8-852F-BA61E224C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6529A6-2797-413C-9CE4-5C354E2EB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391A21-5D49-498D-A008-2E10CEC45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9F012-59E1-4F4D-84D9-0B825B5EA2A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61196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隶书"/>
                <a:ea typeface="隶书"/>
              </a:rPr>
              <a:t>第六章  </a:t>
            </a:r>
            <a:br>
              <a:rPr sz="6000"/>
            </a:br>
            <a:r>
              <a:rPr b="1" lang="zh-CN" sz="6000" spc="-1" strike="noStrike">
                <a:solidFill>
                  <a:srgbClr val="ffffff"/>
                </a:solidFill>
                <a:latin typeface="隶书"/>
                <a:ea typeface="隶书"/>
              </a:rPr>
              <a:t>护理教学评价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-360" y="2781360"/>
            <a:ext cx="8893080" cy="30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aching evaluation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：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依据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教学目标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对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教学过程及结果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进行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价值判断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并为教学决策服务的活动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3" name="AutoShape 4"/>
          <p:cNvSpPr/>
          <p:nvPr/>
        </p:nvSpPr>
        <p:spPr>
          <a:xfrm>
            <a:off x="3492360" y="1197000"/>
            <a:ext cx="4896000" cy="1440000"/>
          </a:xfrm>
          <a:prstGeom prst="wedgeEllipseCallout">
            <a:avLst>
              <a:gd name="adj1" fmla="val -33018"/>
              <a:gd name="adj2" fmla="val 122249"/>
            </a:avLst>
          </a:prstGeom>
          <a:noFill/>
          <a:ln w="57240">
            <a:solidFill>
              <a:srgbClr val="66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何谓教学评价？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Text Box 2"/>
          <p:cNvSpPr/>
          <p:nvPr/>
        </p:nvSpPr>
        <p:spPr>
          <a:xfrm>
            <a:off x="1116000" y="1413000"/>
            <a:ext cx="7201080" cy="45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教学评价包括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教师授课质量的评价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学生学习能力及效果的评价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3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教学安排、教学方法改进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4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组织机构的运行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AutoShape 4"/>
          <p:cNvSpPr/>
          <p:nvPr/>
        </p:nvSpPr>
        <p:spPr>
          <a:xfrm>
            <a:off x="7315200" y="2590920"/>
            <a:ext cx="304920" cy="1295280"/>
          </a:xfrm>
          <a:custGeom>
            <a:avLst/>
            <a:gdLst>
              <a:gd name="textAreaLeft" fmla="*/ 0 w 304920"/>
              <a:gd name="textAreaRight" fmla="*/ 110160 w 30492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Text Box 5"/>
          <p:cNvSpPr/>
          <p:nvPr/>
        </p:nvSpPr>
        <p:spPr>
          <a:xfrm>
            <a:off x="7924680" y="2514600"/>
            <a:ext cx="12193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教学效果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AutoShape 6"/>
          <p:cNvSpPr/>
          <p:nvPr/>
        </p:nvSpPr>
        <p:spPr>
          <a:xfrm>
            <a:off x="7315200" y="4419720"/>
            <a:ext cx="304920" cy="1295280"/>
          </a:xfrm>
          <a:custGeom>
            <a:avLst/>
            <a:gdLst>
              <a:gd name="textAreaLeft" fmla="*/ 0 w 304920"/>
              <a:gd name="textAreaRight" fmla="*/ 110160 w 30492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Text Box 7"/>
          <p:cNvSpPr/>
          <p:nvPr/>
        </p:nvSpPr>
        <p:spPr>
          <a:xfrm>
            <a:off x="7924680" y="4280040"/>
            <a:ext cx="1143000" cy="13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教学过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nt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6868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教学评价及相关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eaching Evaluation and related concepts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教学评价的分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assification of Teaching Evaluatio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教学评价的功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unction of Teaching Evaluatio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" dur="5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Text Box 4"/>
          <p:cNvSpPr/>
          <p:nvPr/>
        </p:nvSpPr>
        <p:spPr>
          <a:xfrm>
            <a:off x="380880" y="335448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（一）诊断性评价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Text Box 5"/>
          <p:cNvSpPr/>
          <p:nvPr/>
        </p:nvSpPr>
        <p:spPr>
          <a:xfrm>
            <a:off x="311040" y="4218120"/>
            <a:ext cx="34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（二）形成性评价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Text Box 6"/>
          <p:cNvSpPr/>
          <p:nvPr/>
        </p:nvSpPr>
        <p:spPr>
          <a:xfrm>
            <a:off x="311040" y="5081760"/>
            <a:ext cx="365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（三）总结性评价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Text Box 7"/>
          <p:cNvSpPr/>
          <p:nvPr/>
        </p:nvSpPr>
        <p:spPr>
          <a:xfrm>
            <a:off x="5105520" y="3571920"/>
            <a:ext cx="324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（四）绝对评价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Text Box 8"/>
          <p:cNvSpPr/>
          <p:nvPr/>
        </p:nvSpPr>
        <p:spPr>
          <a:xfrm>
            <a:off x="5105520" y="4651200"/>
            <a:ext cx="316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（五）相对评价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Rectangle 9"/>
          <p:cNvSpPr/>
          <p:nvPr/>
        </p:nvSpPr>
        <p:spPr>
          <a:xfrm>
            <a:off x="324000" y="2492280"/>
            <a:ext cx="3816360" cy="3384720"/>
          </a:xfrm>
          <a:prstGeom prst="rect">
            <a:avLst/>
          </a:prstGeom>
          <a:noFill/>
          <a:ln w="7632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Text Box 10"/>
          <p:cNvSpPr/>
          <p:nvPr/>
        </p:nvSpPr>
        <p:spPr>
          <a:xfrm>
            <a:off x="539640" y="2637000"/>
            <a:ext cx="331164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黑体"/>
              </a:rPr>
              <a:t>按评价功能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Text Box 11"/>
          <p:cNvSpPr/>
          <p:nvPr/>
        </p:nvSpPr>
        <p:spPr>
          <a:xfrm>
            <a:off x="5219640" y="2637000"/>
            <a:ext cx="345780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黑体"/>
              </a:rPr>
              <a:t>按评价基准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Rectangle 12"/>
          <p:cNvSpPr/>
          <p:nvPr/>
        </p:nvSpPr>
        <p:spPr>
          <a:xfrm>
            <a:off x="4788000" y="2492280"/>
            <a:ext cx="4140000" cy="3384720"/>
          </a:xfrm>
          <a:prstGeom prst="rect">
            <a:avLst/>
          </a:prstGeom>
          <a:noFill/>
          <a:ln w="7632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3" name="Rectangle 13"/>
          <p:cNvSpPr/>
          <p:nvPr/>
        </p:nvSpPr>
        <p:spPr>
          <a:xfrm>
            <a:off x="3634920" y="907920"/>
            <a:ext cx="210096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黑体"/>
              </a:rPr>
              <a:t>教学评价的分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（一）</a:t>
            </a:r>
            <a:r>
              <a:rPr b="1" lang="en-US" sz="3200" spc="-1" strike="noStrike">
                <a:solidFill>
                  <a:srgbClr val="046ca6"/>
                </a:solidFill>
                <a:latin typeface="Arial"/>
                <a:ea typeface="黑体"/>
              </a:rPr>
              <a:t>diagnostic evaluation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：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Arial"/>
                <a:ea typeface="黑体"/>
              </a:rPr>
              <a:t>学生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活动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前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评价，发现、补救、因材施教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（二）</a:t>
            </a:r>
            <a:r>
              <a:rPr b="1" lang="en-US" sz="3200" spc="-1" strike="noStrike">
                <a:solidFill>
                  <a:srgbClr val="046ca6"/>
                </a:solidFill>
                <a:latin typeface="Arial"/>
                <a:ea typeface="黑体"/>
              </a:rPr>
              <a:t>formative evaluation:  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Arial"/>
                <a:ea typeface="黑体"/>
              </a:rPr>
              <a:t>教师、管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活动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中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评价，及时反馈调整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（三）</a:t>
            </a:r>
            <a:r>
              <a:rPr b="1" lang="en-US" sz="3200" spc="-1" strike="noStrike">
                <a:solidFill>
                  <a:srgbClr val="046ca6"/>
                </a:solidFill>
                <a:latin typeface="Arial"/>
                <a:ea typeface="黑体"/>
              </a:rPr>
              <a:t>summative evaluation:  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Arial"/>
                <a:ea typeface="黑体"/>
              </a:rPr>
              <a:t>学生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活动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止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评价，期末考试、毕业考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（四）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absolute evaluation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</a:rPr>
              <a:t>目标参照性评价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——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</a:rPr>
              <a:t>绝对评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</a:rPr>
              <a:t>         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</a:rPr>
              <a:t>是以某一预定的目标为客观参照点，寻求评价对象达到客观标准的绝对位置的评价。评价的标准在评价对象集合的外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9" name="Rectangle 7"/>
          <p:cNvSpPr/>
          <p:nvPr/>
        </p:nvSpPr>
        <p:spPr>
          <a:xfrm>
            <a:off x="468360" y="1341360"/>
            <a:ext cx="849636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（五）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relative  evaluation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</a:rPr>
              <a:t>常模参照评价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——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</a:rPr>
              <a:t>相对评价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</a:rPr>
              <a:t>        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</a:rPr>
              <a:t>以对象群体的平均水平为参照点，确定评价对象在群体中的相对位置的一种评价方式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nt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6868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教学评价及相关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eaching Evaluation and related concepts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教学评价的分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assification of Teaching Evaluatio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教学评价的功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unction of Teaching Evaluatio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" dur="500" fill="hold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" dur="500" fill="hold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Rectangle 4"/>
          <p:cNvSpPr/>
          <p:nvPr/>
        </p:nvSpPr>
        <p:spPr>
          <a:xfrm>
            <a:off x="755640" y="105264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教学评价的功能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Arial Black"/>
                <a:ea typeface="黑体"/>
              </a:rPr>
              <a:t>Function of Teaching Evaluation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5" name="Text Box 5"/>
          <p:cNvSpPr/>
          <p:nvPr/>
        </p:nvSpPr>
        <p:spPr>
          <a:xfrm>
            <a:off x="2340000" y="2060640"/>
            <a:ext cx="41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（一）导向功能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6" name="Text Box 6"/>
          <p:cNvSpPr/>
          <p:nvPr/>
        </p:nvSpPr>
        <p:spPr>
          <a:xfrm>
            <a:off x="2340000" y="2924280"/>
            <a:ext cx="40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（二）反馈功能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Text Box 7"/>
          <p:cNvSpPr/>
          <p:nvPr/>
        </p:nvSpPr>
        <p:spPr>
          <a:xfrm>
            <a:off x="2411280" y="3933720"/>
            <a:ext cx="39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（三）诊断功能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Text Box 8"/>
          <p:cNvSpPr/>
          <p:nvPr/>
        </p:nvSpPr>
        <p:spPr>
          <a:xfrm>
            <a:off x="2411280" y="4869000"/>
            <a:ext cx="37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（四）激励功能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Text Box 11"/>
          <p:cNvSpPr/>
          <p:nvPr/>
        </p:nvSpPr>
        <p:spPr>
          <a:xfrm>
            <a:off x="2411280" y="5734080"/>
            <a:ext cx="37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（五）教学功能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WordArt 3"/>
          <p:cNvSpPr txBox="1"/>
          <p:nvPr/>
        </p:nvSpPr>
        <p:spPr>
          <a:xfrm>
            <a:off x="1619280" y="2349360"/>
            <a:ext cx="62658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第二节  学生学业成绩的评价</a:t>
            </a:r>
            <a:endParaRPr b="0" lang="en-US" sz="4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02" name="Text Box 4"/>
          <p:cNvSpPr/>
          <p:nvPr/>
        </p:nvSpPr>
        <p:spPr>
          <a:xfrm>
            <a:off x="900000" y="3429000"/>
            <a:ext cx="727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easurement  &amp; Assessment of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udents’ Grade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14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15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6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8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21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22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3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4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25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AutoShape 16"/>
          <p:cNvSpPr/>
          <p:nvPr/>
        </p:nvSpPr>
        <p:spPr>
          <a:xfrm>
            <a:off x="1803240" y="451152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Line 21"/>
          <p:cNvSpPr/>
          <p:nvPr/>
        </p:nvSpPr>
        <p:spPr>
          <a:xfrm>
            <a:off x="2484360" y="5084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Text Box 23"/>
          <p:cNvSpPr/>
          <p:nvPr/>
        </p:nvSpPr>
        <p:spPr>
          <a:xfrm>
            <a:off x="2843280" y="2209680"/>
            <a:ext cx="31669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教学评价概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Text Box 24"/>
          <p:cNvSpPr/>
          <p:nvPr/>
        </p:nvSpPr>
        <p:spPr>
          <a:xfrm>
            <a:off x="2843280" y="2997360"/>
            <a:ext cx="4105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学生学业成绩的评价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Text Box 25"/>
          <p:cNvSpPr/>
          <p:nvPr/>
        </p:nvSpPr>
        <p:spPr>
          <a:xfrm>
            <a:off x="2916360" y="3846600"/>
            <a:ext cx="48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学生临床护理能力的评价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Text Box 27"/>
          <p:cNvSpPr/>
          <p:nvPr/>
        </p:nvSpPr>
        <p:spPr>
          <a:xfrm>
            <a:off x="2989440" y="4581360"/>
            <a:ext cx="48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教师授课质量的评价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nt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学业成绩的评价依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学业成绩的评价方法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试题的编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学业成绩的评分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考核质量分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99640" y="62064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学业成绩的评价依据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3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</a:rPr>
              <a:t>教学目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3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</a:rPr>
              <a:t>评价目的和内容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nt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学业成绩的评价依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学业成绩的评价方法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试题的编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学业成绩的评分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考核质量分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学业成绩的评价方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（一）认知领域学习常用的评价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</a:rPr>
              <a:t>        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</a:rPr>
              <a:t>考查、考试、答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（二）动作技能领域学习常用的评价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        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</a:rPr>
              <a:t>观察法、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轶事记载法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（三）情感领域学习常用的评价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问卷法、访谈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nt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学业成绩的评价依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学业成绩的评价方法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试题的编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学业成绩的评分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考核质量分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" dur="5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99640" y="47592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试题的编制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（一）试卷的编制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．科学性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．简洁性原则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</a:rPr>
              <a:t> 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．合理性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．独立性原则  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．创新性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</a:rPr>
              <a:t>（二）试卷的编制程序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</a:rPr>
              <a:t>．确定考试目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</a:rPr>
              <a:t>．拟定编题计划（双向细目表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</a:rPr>
              <a:t>．编选试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宋体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</a:rPr>
              <a:t>．组配试卷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宋体"/>
              </a:rPr>
              <a:t>5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</a:rPr>
              <a:t>．预测难度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宋体"/>
              </a:rPr>
              <a:t>6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</a:rPr>
              <a:t>．试答试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宋体"/>
              </a:rPr>
              <a:t>7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</a:rPr>
              <a:t>．制订评分标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拟定编题计划（双向细目表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）确定考核知识点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</a:rPr>
              <a:t>  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）确定考核目标层次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</a:rPr>
              <a:t>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）确定试题类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）确定试题难度：一般题量根据难度情况呈现正态分布，若难度分为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3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个等级，即易、中、难，它们的比例分别为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10%~20%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、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60%~80%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、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10%~20%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较适宜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5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）确定试题量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（三）试题类型与编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．试题类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）主观性试题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subjective item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）：由学生根据试题要求自由组织答案，答题的优劣程度由评分人员凭借主观进行判断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）客观性试题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objective item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）：命题时编制格式固定的答案形式，由学生从中选择自己认为正确的答案。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0" name="Text Box 4"/>
          <p:cNvSpPr/>
          <p:nvPr/>
        </p:nvSpPr>
        <p:spPr>
          <a:xfrm>
            <a:off x="324000" y="1844640"/>
            <a:ext cx="784836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（</a:t>
            </a:r>
            <a:r>
              <a:rPr b="1" lang="en-US" sz="3600" spc="-1" strike="noStrike">
                <a:solidFill>
                  <a:srgbClr val="046ca6"/>
                </a:solidFill>
                <a:latin typeface="黑体"/>
                <a:ea typeface="黑体"/>
              </a:rPr>
              <a:t>1</a:t>
            </a: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）选择题（</a:t>
            </a:r>
            <a:r>
              <a:rPr b="1" lang="en-US" sz="3600" spc="-1" strike="noStrike">
                <a:solidFill>
                  <a:srgbClr val="046ca6"/>
                </a:solidFill>
                <a:latin typeface="Arial Black"/>
                <a:ea typeface="黑体"/>
              </a:rPr>
              <a:t>choice item</a:t>
            </a:r>
            <a:r>
              <a:rPr b="1" lang="en-US" sz="3600" spc="-1" strike="noStrike">
                <a:solidFill>
                  <a:srgbClr val="046ca6"/>
                </a:solidFill>
                <a:latin typeface="黑体"/>
                <a:ea typeface="黑体"/>
              </a:rPr>
              <a:t>)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Text Box 5"/>
          <p:cNvSpPr/>
          <p:nvPr/>
        </p:nvSpPr>
        <p:spPr>
          <a:xfrm>
            <a:off x="1219320" y="2549520"/>
            <a:ext cx="7467480" cy="32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）选择题题干编制原则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buClr>
                <a:srgbClr val="00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不完全陈述句构成题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buClr>
                <a:srgbClr val="00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重复性词语应在题干中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buClr>
                <a:srgbClr val="00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题干中否定词不宜过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buClr>
                <a:srgbClr val="00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否定词醒目标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Text Box 6"/>
          <p:cNvSpPr/>
          <p:nvPr/>
        </p:nvSpPr>
        <p:spPr>
          <a:xfrm>
            <a:off x="0" y="1125360"/>
            <a:ext cx="464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</a:rPr>
              <a:t>试题的编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125000"/>
            <a:ext cx="858816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Verdana"/>
              </a:rPr>
              <a:t>识记：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1600" spc="-1" strike="noStrike">
                <a:solidFill>
                  <a:srgbClr val="000000"/>
                </a:solidFill>
                <a:latin typeface="Verdana"/>
              </a:rPr>
              <a:t>．能正确阐述教学评价的分类。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1600" spc="-1" strike="noStrike">
                <a:solidFill>
                  <a:srgbClr val="000000"/>
                </a:solidFill>
                <a:latin typeface="Verdana"/>
              </a:rPr>
              <a:t>．能正确阐述教学评价的功能。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zh-CN" sz="1600" spc="-1" strike="noStrike">
                <a:solidFill>
                  <a:srgbClr val="000000"/>
                </a:solidFill>
                <a:latin typeface="Verdana"/>
              </a:rPr>
              <a:t>．能正确阐述各类试题的编制原则。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Verdana"/>
              </a:rPr>
              <a:t>理解：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1600" spc="-1" strike="noStrike">
                <a:solidFill>
                  <a:srgbClr val="000000"/>
                </a:solidFill>
                <a:latin typeface="Verdana"/>
              </a:rPr>
              <a:t>．能用自己的语言正确解释下列概念：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Verdana"/>
              </a:rPr>
              <a:t>教育评价  教育测量  教育评估  教学评价  诊断性评价  形成性评价  总结性评价  绝对评价  相对评价  试题难度  区别度  信度  效度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1600" spc="-1" strike="noStrike">
                <a:solidFill>
                  <a:srgbClr val="000000"/>
                </a:solidFill>
                <a:latin typeface="Verdana"/>
              </a:rPr>
              <a:t>．比较各种学业成绩的评价方法，正确指出各自的优缺点及适用范围。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zh-CN" sz="1600" spc="-1" strike="noStrike">
                <a:solidFill>
                  <a:srgbClr val="000000"/>
                </a:solidFill>
                <a:latin typeface="Verdana"/>
              </a:rPr>
              <a:t>．比较各种类型试题，正确指出各自的优缺点及适用范围。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Verdana"/>
              </a:rPr>
              <a:t>应用：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1600" spc="-1" strike="noStrike">
                <a:solidFill>
                  <a:srgbClr val="000000"/>
                </a:solidFill>
                <a:latin typeface="Verdana"/>
              </a:rPr>
              <a:t>．能根据需要和评价内容选择学生学业评价的方法。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1600" spc="-1" strike="noStrike">
                <a:solidFill>
                  <a:srgbClr val="000000"/>
                </a:solidFill>
                <a:latin typeface="Verdana"/>
              </a:rPr>
              <a:t>．能根据试卷的编制原则编制一份试卷，并应用统计学方法对试题的质量进行分析。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C1587-114C-4D69-BFAB-84E07C206B74}" type="slidenum">
              <a:rPr b="0" lang="en-US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250920" y="1413000"/>
            <a:ext cx="889308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）选择题题干编制原则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buClr>
                <a:srgbClr val="00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不完全陈述句 构成题干的例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Text Box 5"/>
          <p:cNvSpPr/>
          <p:nvPr/>
        </p:nvSpPr>
        <p:spPr>
          <a:xfrm>
            <a:off x="755640" y="3213000"/>
            <a:ext cx="783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（  ）下列哪一项不是医院内感染的主要因素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6" name="Text Box 6"/>
          <p:cNvSpPr/>
          <p:nvPr/>
        </p:nvSpPr>
        <p:spPr>
          <a:xfrm>
            <a:off x="1116000" y="321300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黑体"/>
              </a:rPr>
              <a:t>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" name="AutoShape 8"/>
          <p:cNvSpPr/>
          <p:nvPr/>
        </p:nvSpPr>
        <p:spPr>
          <a:xfrm>
            <a:off x="1258920" y="4076640"/>
            <a:ext cx="6985080" cy="2025720"/>
          </a:xfrm>
          <a:prstGeom prst="cloudCallout">
            <a:avLst>
              <a:gd name="adj1" fmla="val -34634"/>
              <a:gd name="adj2" fmla="val 53837"/>
            </a:avLst>
          </a:prstGeom>
          <a:noFill/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</a:rPr>
              <a:t>是否符合编制原则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250920" y="1268280"/>
            <a:ext cx="889308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）选择题题干编制原则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buClr>
                <a:srgbClr val="00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不完全陈述句 构成题干的例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Text Box 5"/>
          <p:cNvSpPr/>
          <p:nvPr/>
        </p:nvSpPr>
        <p:spPr>
          <a:xfrm>
            <a:off x="457200" y="2590920"/>
            <a:ext cx="708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  ）下列哪一项不是医院内感染的主要因素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" name="Text Box 6"/>
          <p:cNvSpPr/>
          <p:nvPr/>
        </p:nvSpPr>
        <p:spPr>
          <a:xfrm>
            <a:off x="533520" y="457524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（   ）</a:t>
            </a:r>
            <a:r>
              <a:rPr b="1" lang="zh-CN" sz="3200" spc="-1" strike="noStrike" u="sng">
                <a:solidFill>
                  <a:srgbClr val="046ca6"/>
                </a:solidFill>
                <a:uFillTx/>
                <a:latin typeface="Arial"/>
                <a:ea typeface="黑体"/>
              </a:rPr>
              <a:t>不属于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医院内感染的主要因素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2" name="Text Box 7"/>
          <p:cNvSpPr/>
          <p:nvPr/>
        </p:nvSpPr>
        <p:spPr>
          <a:xfrm>
            <a:off x="990720" y="4572000"/>
            <a:ext cx="16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Arial"/>
              </a:rPr>
              <a:t>√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3" name="Text Box 8"/>
          <p:cNvSpPr/>
          <p:nvPr/>
        </p:nvSpPr>
        <p:spPr>
          <a:xfrm>
            <a:off x="990720" y="259092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Arial"/>
                <a:ea typeface="黑体"/>
              </a:rPr>
              <a:t>×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5" name="Text Box 4"/>
          <p:cNvSpPr/>
          <p:nvPr/>
        </p:nvSpPr>
        <p:spPr>
          <a:xfrm>
            <a:off x="395280" y="981000"/>
            <a:ext cx="8137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6" name="Text Box 5"/>
          <p:cNvSpPr/>
          <p:nvPr/>
        </p:nvSpPr>
        <p:spPr>
          <a:xfrm>
            <a:off x="468360" y="1125360"/>
            <a:ext cx="8675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7" name="Text Box 6"/>
          <p:cNvSpPr/>
          <p:nvPr/>
        </p:nvSpPr>
        <p:spPr>
          <a:xfrm>
            <a:off x="304920" y="2457360"/>
            <a:ext cx="8839080" cy="41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黑体"/>
              </a:rPr>
              <a:t>（   ）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为长期应用激素患者做口腔护理时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　　　应注意观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　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A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口腔黏膜有无溃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　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B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口腔黏膜有无真菌感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　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C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口腔黏膜有无白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D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口腔黏膜有无出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E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口腔黏膜有无新增病灶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8" name="Text Box 7"/>
          <p:cNvSpPr/>
          <p:nvPr/>
        </p:nvSpPr>
        <p:spPr>
          <a:xfrm>
            <a:off x="617400" y="2355840"/>
            <a:ext cx="7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黑体"/>
              </a:rPr>
              <a:t>×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9" name="Text Box 9"/>
          <p:cNvSpPr/>
          <p:nvPr/>
        </p:nvSpPr>
        <p:spPr>
          <a:xfrm>
            <a:off x="250920" y="981000"/>
            <a:ext cx="7467480" cy="12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黑体"/>
                <a:ea typeface="黑体"/>
              </a:rPr>
              <a:t>1</a:t>
            </a: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）选择题题干编制原则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2251"/>
              </a:spcBef>
              <a:buClr>
                <a:srgbClr val="00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重复性</a:t>
            </a: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词句应在题干中的例题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1" name="Text Box 4"/>
          <p:cNvSpPr/>
          <p:nvPr/>
        </p:nvSpPr>
        <p:spPr>
          <a:xfrm>
            <a:off x="468360" y="1628640"/>
            <a:ext cx="746748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）选择题题干编制原则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749"/>
              </a:spcBef>
              <a:buClr>
                <a:srgbClr val="00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重复性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词句应在题干中的例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2" name="Text Box 5"/>
          <p:cNvSpPr/>
          <p:nvPr/>
        </p:nvSpPr>
        <p:spPr>
          <a:xfrm>
            <a:off x="-152280" y="3141720"/>
            <a:ext cx="929628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（  ）为长期应用激素患者做口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　　　护理时，应注意观察口腔黏膜有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　 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A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黑体"/>
              </a:rPr>
              <a:t>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溃疡             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D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黑体"/>
              </a:rPr>
              <a:t>.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出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　 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B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黑体"/>
              </a:rPr>
              <a:t>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真菌感染         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E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黑体"/>
              </a:rPr>
              <a:t>.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新增病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　 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C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黑体"/>
              </a:rPr>
              <a:t>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白斑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3" name="Text Box 6"/>
          <p:cNvSpPr/>
          <p:nvPr/>
        </p:nvSpPr>
        <p:spPr>
          <a:xfrm>
            <a:off x="179280" y="314172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黑体"/>
              </a:rPr>
              <a:t>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5" name="Text Box 4"/>
          <p:cNvSpPr/>
          <p:nvPr/>
        </p:nvSpPr>
        <p:spPr>
          <a:xfrm>
            <a:off x="395280" y="981000"/>
            <a:ext cx="8137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6" name="Text Box 6"/>
          <p:cNvSpPr/>
          <p:nvPr/>
        </p:nvSpPr>
        <p:spPr>
          <a:xfrm>
            <a:off x="900000" y="1268280"/>
            <a:ext cx="7848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7" name="Text Box 7"/>
          <p:cNvSpPr/>
          <p:nvPr/>
        </p:nvSpPr>
        <p:spPr>
          <a:xfrm>
            <a:off x="395280" y="1484280"/>
            <a:ext cx="7467480" cy="125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）选择题题干编制原则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buClr>
                <a:srgbClr val="00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题干中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否定词不宜过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的例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Text Box 8"/>
          <p:cNvSpPr/>
          <p:nvPr/>
        </p:nvSpPr>
        <p:spPr>
          <a:xfrm>
            <a:off x="250920" y="3429000"/>
            <a:ext cx="83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（  ）</a:t>
            </a:r>
            <a:r>
              <a:rPr b="1" i="1" lang="zh-CN" sz="2800" spc="-1" strike="noStrike" u="sng">
                <a:solidFill>
                  <a:srgbClr val="046ca6"/>
                </a:solidFill>
                <a:uFillTx/>
                <a:latin typeface="黑体"/>
                <a:ea typeface="黑体"/>
              </a:rPr>
              <a:t>不是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洗胃的绝对</a:t>
            </a:r>
            <a:r>
              <a:rPr b="1" i="1" lang="zh-CN" sz="2800" spc="-1" strike="noStrike" u="sng">
                <a:solidFill>
                  <a:srgbClr val="046ca6"/>
                </a:solidFill>
                <a:uFillTx/>
                <a:latin typeface="黑体"/>
                <a:ea typeface="黑体"/>
              </a:rPr>
              <a:t>禁忌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者，</a:t>
            </a:r>
            <a:r>
              <a:rPr b="1" i="1" lang="zh-CN" sz="2800" spc="-1" strike="noStrike" u="sng">
                <a:solidFill>
                  <a:srgbClr val="046ca6"/>
                </a:solidFill>
                <a:uFillTx/>
                <a:latin typeface="黑体"/>
                <a:ea typeface="黑体"/>
              </a:rPr>
              <a:t>除外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下列哪一项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" name="Text Box 9"/>
          <p:cNvSpPr/>
          <p:nvPr/>
        </p:nvSpPr>
        <p:spPr>
          <a:xfrm>
            <a:off x="914400" y="5221440"/>
            <a:ext cx="762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黑体"/>
              </a:rPr>
              <a:t>（  ）属于洗胃绝对禁忌者的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0" name="Text Box 10"/>
          <p:cNvSpPr/>
          <p:nvPr/>
        </p:nvSpPr>
        <p:spPr>
          <a:xfrm>
            <a:off x="611280" y="342900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黑体"/>
              </a:rPr>
              <a:t>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1" name="Text Box 11"/>
          <p:cNvSpPr/>
          <p:nvPr/>
        </p:nvSpPr>
        <p:spPr>
          <a:xfrm>
            <a:off x="1187280" y="5157720"/>
            <a:ext cx="151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黑体"/>
              </a:rPr>
              <a:t>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）选择题备选答案编制原则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选项越多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(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＞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个），猜对率越小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选项文字简练，详简一致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干扰项与所测知识相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正确答案的频率相等，位置随机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避免使用范围广的术语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</a:rPr>
              <a:t>“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都没有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</a:rPr>
              <a:t>”“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上述全对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</a:rPr>
              <a:t>”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备选项少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5" name="Text Box 4"/>
          <p:cNvSpPr/>
          <p:nvPr/>
        </p:nvSpPr>
        <p:spPr>
          <a:xfrm>
            <a:off x="1042920" y="1957320"/>
            <a:ext cx="8305920" cy="42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（</a:t>
            </a:r>
            <a:r>
              <a:rPr b="1" lang="en-US" sz="3600" spc="-1" strike="noStrike">
                <a:solidFill>
                  <a:srgbClr val="046ca6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）填空题编制原则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251"/>
              </a:spcBef>
              <a:buClr>
                <a:srgbClr val="ff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用词简捷又不致歧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251"/>
              </a:spcBef>
              <a:buClr>
                <a:srgbClr val="ff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空格不宜过多，</a:t>
            </a:r>
            <a:r>
              <a:rPr b="1" lang="en-US" sz="3600" spc="-1" strike="noStrike">
                <a:solidFill>
                  <a:srgbClr val="046ca6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个为宜，长度相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251"/>
              </a:spcBef>
              <a:buClr>
                <a:srgbClr val="ff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空格不宜在句首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251"/>
              </a:spcBef>
              <a:buClr>
                <a:srgbClr val="ff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不抄袭课本中句子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试题的编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" name="Text Box 4"/>
          <p:cNvSpPr/>
          <p:nvPr/>
        </p:nvSpPr>
        <p:spPr>
          <a:xfrm>
            <a:off x="395280" y="917640"/>
            <a:ext cx="8137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9" name="Text Box 7"/>
          <p:cNvSpPr/>
          <p:nvPr/>
        </p:nvSpPr>
        <p:spPr>
          <a:xfrm>
            <a:off x="152280" y="1989000"/>
            <a:ext cx="8991720" cy="145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Arial"/>
                <a:ea typeface="黑体"/>
              </a:rPr>
              <a:t>     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（</a:t>
            </a:r>
            <a:r>
              <a:rPr b="1" lang="en-US" sz="3200" spc="-1" strike="noStrike">
                <a:solidFill>
                  <a:srgbClr val="046ca6"/>
                </a:solidFill>
                <a:latin typeface="Arial"/>
                <a:ea typeface="黑体"/>
              </a:rPr>
              <a:t>3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）</a:t>
            </a: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简答题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编制原则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   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试题的字数不宜过多，</a:t>
            </a:r>
            <a:r>
              <a:rPr b="1" lang="en-US" sz="3200" spc="-1" strike="noStrike">
                <a:solidFill>
                  <a:srgbClr val="046ca6"/>
                </a:solidFill>
                <a:latin typeface="Arial"/>
                <a:ea typeface="黑体"/>
              </a:rPr>
              <a:t>15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～</a:t>
            </a:r>
            <a:r>
              <a:rPr b="1" lang="en-US" sz="3200" spc="-1" strike="noStrike">
                <a:solidFill>
                  <a:srgbClr val="046ca6"/>
                </a:solidFill>
                <a:latin typeface="Arial"/>
                <a:ea typeface="黑体"/>
              </a:rPr>
              <a:t>20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字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0" name="Text Box 8"/>
          <p:cNvSpPr/>
          <p:nvPr/>
        </p:nvSpPr>
        <p:spPr>
          <a:xfrm>
            <a:off x="684360" y="1284120"/>
            <a:ext cx="464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</a:rPr>
              <a:t>试题的编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1" name="Text Box 9"/>
          <p:cNvSpPr/>
          <p:nvPr/>
        </p:nvSpPr>
        <p:spPr>
          <a:xfrm>
            <a:off x="324000" y="4292640"/>
            <a:ext cx="8820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</a:rPr>
              <a:t>例题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</a:rPr>
              <a:t>布卢姆教学目标分类的三大领域（答题字数≯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20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3" name="Text Box 4"/>
          <p:cNvSpPr/>
          <p:nvPr/>
        </p:nvSpPr>
        <p:spPr>
          <a:xfrm>
            <a:off x="395280" y="917640"/>
            <a:ext cx="8137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4" name="Text Box 7"/>
          <p:cNvSpPr/>
          <p:nvPr/>
        </p:nvSpPr>
        <p:spPr>
          <a:xfrm>
            <a:off x="1219320" y="1978200"/>
            <a:ext cx="5867280" cy="441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黑体"/>
              </a:rPr>
              <a:t>（</a:t>
            </a: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黑体"/>
              </a:rPr>
              <a:t>4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黑体"/>
              </a:rPr>
              <a:t>）论述</a:t>
            </a: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题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黑体"/>
              </a:rPr>
              <a:t>编制原则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251"/>
              </a:spcBef>
              <a:buClr>
                <a:srgbClr val="ff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黑体"/>
              </a:rPr>
              <a:t>注明答题字数和时间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251"/>
              </a:spcBef>
              <a:buClr>
                <a:srgbClr val="ff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黑体"/>
              </a:rPr>
              <a:t>不设置选择试题的条件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251"/>
              </a:spcBef>
              <a:buClr>
                <a:srgbClr val="ff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不抄袭课本中句子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251"/>
              </a:spcBef>
              <a:buClr>
                <a:srgbClr val="ff00ff"/>
              </a:buClr>
              <a:buFont typeface="Wingdings" charset="2"/>
              <a:buChar char="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5" name="Text Box 9"/>
          <p:cNvSpPr/>
          <p:nvPr/>
        </p:nvSpPr>
        <p:spPr>
          <a:xfrm>
            <a:off x="468360" y="1284120"/>
            <a:ext cx="464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</a:rPr>
              <a:t>试题的编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nt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学业成绩的评价依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学业成绩的评价方法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试题的编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学业成绩的评分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考核质量分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2" dur="500" fill="hold"/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Text Box 5"/>
          <p:cNvSpPr/>
          <p:nvPr/>
        </p:nvSpPr>
        <p:spPr>
          <a:xfrm>
            <a:off x="900000" y="3429000"/>
            <a:ext cx="727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verview of Teaching Evaluation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WordArt 6"/>
          <p:cNvSpPr txBox="1"/>
          <p:nvPr/>
        </p:nvSpPr>
        <p:spPr>
          <a:xfrm>
            <a:off x="1619280" y="2349360"/>
            <a:ext cx="579132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第一节 教学评价概述</a:t>
            </a:r>
            <a:endParaRPr b="0" lang="en-US" sz="4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（一）评分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．绝对评分法  以学生对考核所要求的全部知识内容实际掌握情况为评定依据，一般采用百分制计分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．相对评分法  是将所有学生考核成绩的平均分作为参考，以判断每位学生在该集体中所处的相对位置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（二）评分影响因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．教师的业务水平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．教师的精神状态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．教师个性特征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．其他心理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nt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学业成绩的评价依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学业成绩的评价方法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试题的编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学业成绩的评分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考核质量分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8" dur="500" fill="hold"/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/>
          </p:nvPr>
        </p:nvSpPr>
        <p:spPr>
          <a:xfrm>
            <a:off x="324000" y="112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（一）学生考试成绩分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．计算平均分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．标准差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．分数的分布状态分析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288" name="Group 4"/>
          <p:cNvGrpSpPr/>
          <p:nvPr/>
        </p:nvGrpSpPr>
        <p:grpSpPr>
          <a:xfrm>
            <a:off x="684360" y="4175280"/>
            <a:ext cx="3085920" cy="2278080"/>
            <a:chOff x="684360" y="4175280"/>
            <a:chExt cx="3085920" cy="2278080"/>
          </a:xfrm>
        </p:grpSpPr>
        <p:sp>
          <p:nvSpPr>
            <p:cNvPr id="289" name="AutoShape 5"/>
            <p:cNvSpPr/>
            <p:nvPr/>
          </p:nvSpPr>
          <p:spPr>
            <a:xfrm>
              <a:off x="684360" y="4175280"/>
              <a:ext cx="3085920" cy="227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0" name="Line 6"/>
            <p:cNvSpPr/>
            <p:nvPr/>
          </p:nvSpPr>
          <p:spPr>
            <a:xfrm>
              <a:off x="1141560" y="5859000"/>
              <a:ext cx="228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1" name="Line 7"/>
            <p:cNvSpPr/>
            <p:nvPr/>
          </p:nvSpPr>
          <p:spPr>
            <a:xfrm flipV="1">
              <a:off x="1141560" y="4274280"/>
              <a:ext cx="0" cy="158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2" name="Freeform 8"/>
            <p:cNvSpPr/>
            <p:nvPr/>
          </p:nvSpPr>
          <p:spPr>
            <a:xfrm>
              <a:off x="1255680" y="5026680"/>
              <a:ext cx="1370880" cy="832320"/>
            </a:xfrm>
            <a:custGeom>
              <a:avLst/>
              <a:gdLst>
                <a:gd name="textAreaLeft" fmla="*/ 0 w 1370880"/>
                <a:gd name="textAreaRight" fmla="*/ 1371240 w 1370880"/>
                <a:gd name="textAreaTop" fmla="*/ 0 h 832320"/>
                <a:gd name="textAreaBottom" fmla="*/ 832680 h 832320"/>
              </a:gdLst>
              <a:ahLst/>
              <a:rect l="textAreaLeft" t="textAreaTop" r="textAreaRight" b="textAreaBottom"/>
              <a:pathLst>
                <a:path w="2159" h="1311">
                  <a:moveTo>
                    <a:pt x="0" y="1311"/>
                  </a:moveTo>
                  <a:cubicBezTo>
                    <a:pt x="135" y="1198"/>
                    <a:pt x="270" y="1084"/>
                    <a:pt x="360" y="971"/>
                  </a:cubicBezTo>
                  <a:cubicBezTo>
                    <a:pt x="450" y="857"/>
                    <a:pt x="480" y="744"/>
                    <a:pt x="540" y="630"/>
                  </a:cubicBezTo>
                  <a:cubicBezTo>
                    <a:pt x="600" y="517"/>
                    <a:pt x="665" y="384"/>
                    <a:pt x="720" y="290"/>
                  </a:cubicBezTo>
                  <a:cubicBezTo>
                    <a:pt x="775" y="196"/>
                    <a:pt x="818" y="114"/>
                    <a:pt x="870" y="67"/>
                  </a:cubicBezTo>
                  <a:cubicBezTo>
                    <a:pt x="922" y="20"/>
                    <a:pt x="970" y="0"/>
                    <a:pt x="1035" y="7"/>
                  </a:cubicBezTo>
                  <a:cubicBezTo>
                    <a:pt x="1100" y="14"/>
                    <a:pt x="1193" y="37"/>
                    <a:pt x="1260" y="112"/>
                  </a:cubicBezTo>
                  <a:cubicBezTo>
                    <a:pt x="1327" y="187"/>
                    <a:pt x="1372" y="342"/>
                    <a:pt x="1439" y="460"/>
                  </a:cubicBezTo>
                  <a:cubicBezTo>
                    <a:pt x="1506" y="578"/>
                    <a:pt x="1605" y="732"/>
                    <a:pt x="1665" y="817"/>
                  </a:cubicBezTo>
                  <a:cubicBezTo>
                    <a:pt x="1725" y="902"/>
                    <a:pt x="1747" y="917"/>
                    <a:pt x="1799" y="971"/>
                  </a:cubicBezTo>
                  <a:cubicBezTo>
                    <a:pt x="1851" y="1025"/>
                    <a:pt x="1919" y="1084"/>
                    <a:pt x="1979" y="1141"/>
                  </a:cubicBezTo>
                  <a:cubicBezTo>
                    <a:pt x="2039" y="1198"/>
                    <a:pt x="2129" y="1283"/>
                    <a:pt x="2159" y="1311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3" name="Text Box 9"/>
            <p:cNvSpPr/>
            <p:nvPr/>
          </p:nvSpPr>
          <p:spPr>
            <a:xfrm>
              <a:off x="2970360" y="5859000"/>
              <a:ext cx="799920" cy="29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46ca6"/>
                  </a:solidFill>
                  <a:latin typeface="Times New Roman"/>
                </a:rPr>
                <a:t>成绩</a:t>
              </a:r>
              <a:endParaRPr b="0" lang="en-US" sz="1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4" name="Text Box 10"/>
            <p:cNvSpPr/>
            <p:nvPr/>
          </p:nvSpPr>
          <p:spPr>
            <a:xfrm>
              <a:off x="684360" y="4373640"/>
              <a:ext cx="457200" cy="59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46ca6"/>
                  </a:solidFill>
                  <a:latin typeface="Times New Roman"/>
                </a:rPr>
                <a:t>频数</a:t>
              </a:r>
              <a:endParaRPr b="0" lang="en-US" sz="1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5" name="Text Box 11"/>
            <p:cNvSpPr/>
            <p:nvPr/>
          </p:nvSpPr>
          <p:spPr>
            <a:xfrm>
              <a:off x="1141560" y="6156360"/>
              <a:ext cx="2514240" cy="29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46ca6"/>
                  </a:solidFill>
                  <a:latin typeface="Times New Roman"/>
                </a:rPr>
                <a:t>图</a:t>
              </a:r>
              <a:r>
                <a:rPr b="0" lang="en-US" sz="1200" spc="-1" strike="noStrike">
                  <a:solidFill>
                    <a:srgbClr val="046ca6"/>
                  </a:solidFill>
                  <a:latin typeface="Times New Roman"/>
                </a:rPr>
                <a:t>6-1  </a:t>
              </a:r>
              <a:r>
                <a:rPr b="0" lang="zh-CN" sz="1200" spc="-1" strike="noStrike">
                  <a:solidFill>
                    <a:srgbClr val="046ca6"/>
                  </a:solidFill>
                  <a:latin typeface="Times New Roman"/>
                </a:rPr>
                <a:t>分数的正态分布</a:t>
              </a:r>
              <a:endParaRPr b="0" lang="en-US" sz="12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96" name="Group 12"/>
          <p:cNvGrpSpPr/>
          <p:nvPr/>
        </p:nvGrpSpPr>
        <p:grpSpPr>
          <a:xfrm>
            <a:off x="3141720" y="4149720"/>
            <a:ext cx="3085920" cy="2278080"/>
            <a:chOff x="3141720" y="4149720"/>
            <a:chExt cx="3085920" cy="2278080"/>
          </a:xfrm>
        </p:grpSpPr>
        <p:sp>
          <p:nvSpPr>
            <p:cNvPr id="297" name="AutoShape 13"/>
            <p:cNvSpPr/>
            <p:nvPr/>
          </p:nvSpPr>
          <p:spPr>
            <a:xfrm>
              <a:off x="3141720" y="4149720"/>
              <a:ext cx="3085920" cy="227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8" name="Line 14"/>
            <p:cNvSpPr/>
            <p:nvPr/>
          </p:nvSpPr>
          <p:spPr>
            <a:xfrm>
              <a:off x="3598920" y="5833440"/>
              <a:ext cx="228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9" name="Line 15"/>
            <p:cNvSpPr/>
            <p:nvPr/>
          </p:nvSpPr>
          <p:spPr>
            <a:xfrm flipV="1">
              <a:off x="3598920" y="4248720"/>
              <a:ext cx="0" cy="158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0" name="Text Box 16"/>
            <p:cNvSpPr/>
            <p:nvPr/>
          </p:nvSpPr>
          <p:spPr>
            <a:xfrm>
              <a:off x="5427720" y="5833440"/>
              <a:ext cx="799920" cy="29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46ca6"/>
                  </a:solidFill>
                  <a:latin typeface="Times New Roman"/>
                </a:rPr>
                <a:t>成绩</a:t>
              </a:r>
              <a:endParaRPr b="0" lang="en-US" sz="1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1" name="Text Box 17"/>
            <p:cNvSpPr/>
            <p:nvPr/>
          </p:nvSpPr>
          <p:spPr>
            <a:xfrm>
              <a:off x="3141720" y="4248720"/>
              <a:ext cx="457200" cy="59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46ca6"/>
                  </a:solidFill>
                  <a:latin typeface="Times New Roman"/>
                </a:rPr>
                <a:t>频数</a:t>
              </a:r>
              <a:endParaRPr b="0" lang="en-US" sz="1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2" name="Text Box 18"/>
            <p:cNvSpPr/>
            <p:nvPr/>
          </p:nvSpPr>
          <p:spPr>
            <a:xfrm>
              <a:off x="3598920" y="6130800"/>
              <a:ext cx="2514240" cy="29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46ca6"/>
                  </a:solidFill>
                  <a:latin typeface="Times New Roman"/>
                </a:rPr>
                <a:t>图</a:t>
              </a:r>
              <a:r>
                <a:rPr b="0" lang="en-US" sz="1200" spc="-1" strike="noStrike">
                  <a:solidFill>
                    <a:srgbClr val="046ca6"/>
                  </a:solidFill>
                  <a:latin typeface="Times New Roman"/>
                </a:rPr>
                <a:t>6-2  </a:t>
              </a:r>
              <a:r>
                <a:rPr b="0" lang="zh-CN" sz="1200" spc="-1" strike="noStrike">
                  <a:solidFill>
                    <a:srgbClr val="046ca6"/>
                  </a:solidFill>
                  <a:latin typeface="Times New Roman"/>
                </a:rPr>
                <a:t>分数的正偏态分布</a:t>
              </a:r>
              <a:endParaRPr b="0" lang="en-US" sz="1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3" name="Freeform 19"/>
            <p:cNvSpPr/>
            <p:nvPr/>
          </p:nvSpPr>
          <p:spPr>
            <a:xfrm>
              <a:off x="3713040" y="5110920"/>
              <a:ext cx="1942920" cy="722520"/>
            </a:xfrm>
            <a:custGeom>
              <a:avLst/>
              <a:gdLst>
                <a:gd name="textAreaLeft" fmla="*/ 0 w 1942920"/>
                <a:gd name="textAreaRight" fmla="*/ 1943280 w 1942920"/>
                <a:gd name="textAreaTop" fmla="*/ 0 h 722520"/>
                <a:gd name="textAreaBottom" fmla="*/ 722880 h 722520"/>
              </a:gdLst>
              <a:ahLst/>
              <a:rect l="textAreaLeft" t="textAreaTop" r="textAreaRight" b="textAreaBottom"/>
              <a:pathLst>
                <a:path w="3060" h="1138">
                  <a:moveTo>
                    <a:pt x="0" y="1138"/>
                  </a:moveTo>
                  <a:cubicBezTo>
                    <a:pt x="50" y="1033"/>
                    <a:pt x="230" y="645"/>
                    <a:pt x="300" y="505"/>
                  </a:cubicBezTo>
                  <a:cubicBezTo>
                    <a:pt x="370" y="365"/>
                    <a:pt x="348" y="372"/>
                    <a:pt x="420" y="295"/>
                  </a:cubicBezTo>
                  <a:cubicBezTo>
                    <a:pt x="492" y="218"/>
                    <a:pt x="583" y="0"/>
                    <a:pt x="735" y="40"/>
                  </a:cubicBezTo>
                  <a:cubicBezTo>
                    <a:pt x="887" y="80"/>
                    <a:pt x="1195" y="423"/>
                    <a:pt x="1335" y="535"/>
                  </a:cubicBezTo>
                  <a:cubicBezTo>
                    <a:pt x="1475" y="647"/>
                    <a:pt x="1460" y="645"/>
                    <a:pt x="1575" y="715"/>
                  </a:cubicBezTo>
                  <a:cubicBezTo>
                    <a:pt x="1690" y="785"/>
                    <a:pt x="1910" y="903"/>
                    <a:pt x="2025" y="955"/>
                  </a:cubicBezTo>
                  <a:cubicBezTo>
                    <a:pt x="2140" y="1007"/>
                    <a:pt x="2093" y="1000"/>
                    <a:pt x="2265" y="1030"/>
                  </a:cubicBezTo>
                  <a:cubicBezTo>
                    <a:pt x="2437" y="1060"/>
                    <a:pt x="2895" y="1116"/>
                    <a:pt x="3060" y="113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04" name="Group 20"/>
          <p:cNvGrpSpPr/>
          <p:nvPr/>
        </p:nvGrpSpPr>
        <p:grpSpPr>
          <a:xfrm>
            <a:off x="5662440" y="4075200"/>
            <a:ext cx="3086280" cy="2378160"/>
            <a:chOff x="5662440" y="4075200"/>
            <a:chExt cx="3086280" cy="2378160"/>
          </a:xfrm>
        </p:grpSpPr>
        <p:sp>
          <p:nvSpPr>
            <p:cNvPr id="305" name="AutoShape 21"/>
            <p:cNvSpPr/>
            <p:nvPr/>
          </p:nvSpPr>
          <p:spPr>
            <a:xfrm>
              <a:off x="5662440" y="4075200"/>
              <a:ext cx="3086280" cy="237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6" name="Line 22"/>
            <p:cNvSpPr/>
            <p:nvPr/>
          </p:nvSpPr>
          <p:spPr>
            <a:xfrm>
              <a:off x="6119640" y="5859000"/>
              <a:ext cx="228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7" name="Line 23"/>
            <p:cNvSpPr/>
            <p:nvPr/>
          </p:nvSpPr>
          <p:spPr>
            <a:xfrm flipV="1">
              <a:off x="6119640" y="4273200"/>
              <a:ext cx="0" cy="158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8" name="Text Box 24"/>
            <p:cNvSpPr/>
            <p:nvPr/>
          </p:nvSpPr>
          <p:spPr>
            <a:xfrm>
              <a:off x="7948440" y="5859000"/>
              <a:ext cx="799920" cy="29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46ca6"/>
                  </a:solidFill>
                  <a:latin typeface="Times New Roman"/>
                </a:rPr>
                <a:t>成绩</a:t>
              </a:r>
              <a:endParaRPr b="0" lang="en-US" sz="1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9" name="Text Box 25"/>
            <p:cNvSpPr/>
            <p:nvPr/>
          </p:nvSpPr>
          <p:spPr>
            <a:xfrm>
              <a:off x="5662440" y="4273200"/>
              <a:ext cx="457200" cy="59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46ca6"/>
                  </a:solidFill>
                  <a:latin typeface="Times New Roman"/>
                </a:rPr>
                <a:t>频数</a:t>
              </a:r>
              <a:endParaRPr b="0" lang="en-US" sz="1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0" name="Text Box 26"/>
            <p:cNvSpPr/>
            <p:nvPr/>
          </p:nvSpPr>
          <p:spPr>
            <a:xfrm>
              <a:off x="6119640" y="6156000"/>
              <a:ext cx="2514600" cy="2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46ca6"/>
                  </a:solidFill>
                  <a:latin typeface="Times New Roman"/>
                </a:rPr>
                <a:t>图</a:t>
              </a:r>
              <a:r>
                <a:rPr b="0" lang="en-US" sz="1200" spc="-1" strike="noStrike">
                  <a:solidFill>
                    <a:srgbClr val="046ca6"/>
                  </a:solidFill>
                  <a:latin typeface="Times New Roman"/>
                </a:rPr>
                <a:t>6-3  </a:t>
              </a:r>
              <a:r>
                <a:rPr b="0" lang="zh-CN" sz="1200" spc="-1" strike="noStrike">
                  <a:solidFill>
                    <a:srgbClr val="046ca6"/>
                  </a:solidFill>
                  <a:latin typeface="Times New Roman"/>
                </a:rPr>
                <a:t>分数的负偏态分布</a:t>
              </a:r>
              <a:endParaRPr b="0" lang="en-US" sz="1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1" name="Freeform 27"/>
            <p:cNvSpPr/>
            <p:nvPr/>
          </p:nvSpPr>
          <p:spPr>
            <a:xfrm>
              <a:off x="6273360" y="5232960"/>
              <a:ext cx="1895400" cy="635040"/>
            </a:xfrm>
            <a:custGeom>
              <a:avLst/>
              <a:gdLst>
                <a:gd name="textAreaLeft" fmla="*/ 0 w 1895400"/>
                <a:gd name="textAreaRight" fmla="*/ 1895760 w 1895400"/>
                <a:gd name="textAreaTop" fmla="*/ 0 h 635040"/>
                <a:gd name="textAreaBottom" fmla="*/ 635400 h 635040"/>
              </a:gdLst>
              <a:ahLst/>
              <a:rect l="textAreaLeft" t="textAreaTop" r="textAreaRight" b="textAreaBottom"/>
              <a:pathLst>
                <a:path w="2985" h="1000">
                  <a:moveTo>
                    <a:pt x="0" y="985"/>
                  </a:moveTo>
                  <a:cubicBezTo>
                    <a:pt x="45" y="965"/>
                    <a:pt x="148" y="912"/>
                    <a:pt x="270" y="865"/>
                  </a:cubicBezTo>
                  <a:cubicBezTo>
                    <a:pt x="392" y="818"/>
                    <a:pt x="585" y="765"/>
                    <a:pt x="735" y="700"/>
                  </a:cubicBezTo>
                  <a:cubicBezTo>
                    <a:pt x="885" y="635"/>
                    <a:pt x="1045" y="545"/>
                    <a:pt x="1170" y="475"/>
                  </a:cubicBezTo>
                  <a:cubicBezTo>
                    <a:pt x="1295" y="405"/>
                    <a:pt x="1408" y="330"/>
                    <a:pt x="1485" y="280"/>
                  </a:cubicBezTo>
                  <a:cubicBezTo>
                    <a:pt x="1562" y="230"/>
                    <a:pt x="1578" y="217"/>
                    <a:pt x="1635" y="175"/>
                  </a:cubicBezTo>
                  <a:cubicBezTo>
                    <a:pt x="1692" y="133"/>
                    <a:pt x="1753" y="45"/>
                    <a:pt x="1830" y="25"/>
                  </a:cubicBezTo>
                  <a:cubicBezTo>
                    <a:pt x="1907" y="5"/>
                    <a:pt x="2012" y="0"/>
                    <a:pt x="2100" y="55"/>
                  </a:cubicBezTo>
                  <a:cubicBezTo>
                    <a:pt x="2188" y="110"/>
                    <a:pt x="2278" y="255"/>
                    <a:pt x="2355" y="355"/>
                  </a:cubicBezTo>
                  <a:cubicBezTo>
                    <a:pt x="2432" y="455"/>
                    <a:pt x="2500" y="565"/>
                    <a:pt x="2565" y="655"/>
                  </a:cubicBezTo>
                  <a:cubicBezTo>
                    <a:pt x="2630" y="745"/>
                    <a:pt x="2675" y="838"/>
                    <a:pt x="2745" y="895"/>
                  </a:cubicBezTo>
                  <a:cubicBezTo>
                    <a:pt x="2815" y="952"/>
                    <a:pt x="2935" y="978"/>
                    <a:pt x="2985" y="10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/>
          </p:nvPr>
        </p:nvSpPr>
        <p:spPr>
          <a:xfrm>
            <a:off x="250920" y="112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（二）试题质量分析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1.</a:t>
            </a:r>
            <a:r>
              <a:rPr b="1" lang="zh-CN" sz="2400" spc="-1" strike="noStrike">
                <a:solidFill>
                  <a:srgbClr val="ff0000"/>
                </a:solidFill>
                <a:latin typeface="Verdana"/>
              </a:rPr>
              <a:t>难度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P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值在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0~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，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P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越大，试题的难度越小。试题难度控制在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0.3~0.7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为宜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2.</a:t>
            </a:r>
            <a:r>
              <a:rPr b="1" lang="zh-CN" sz="2400" spc="-1" strike="noStrike">
                <a:solidFill>
                  <a:srgbClr val="ff0000"/>
                </a:solidFill>
                <a:latin typeface="Verdana"/>
              </a:rPr>
              <a:t>区分度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D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值在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-1~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，如果为正值，数值越大，则该题的区分度越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3.</a:t>
            </a:r>
            <a:r>
              <a:rPr b="1" lang="zh-CN" sz="2400" spc="-1" strike="noStrike">
                <a:solidFill>
                  <a:srgbClr val="ff0000"/>
                </a:solidFill>
                <a:latin typeface="Verdana"/>
              </a:rPr>
              <a:t>信度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折半信度、重测信度、复本信度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4.</a:t>
            </a:r>
            <a:r>
              <a:rPr b="1" lang="zh-CN" sz="2400" spc="-1" strike="noStrike">
                <a:solidFill>
                  <a:srgbClr val="ff0000"/>
                </a:solidFill>
                <a:latin typeface="Verdana"/>
              </a:rPr>
              <a:t>效度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内容效度、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Times New Roman"/>
              </a:rPr>
              <a:t>效标相关效度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15" name="WordArt 3" descr=""/>
          <p:cNvPicPr/>
          <p:nvPr/>
        </p:nvPicPr>
        <p:blipFill>
          <a:blip r:embed="rId1"/>
          <a:stretch/>
        </p:blipFill>
        <p:spPr>
          <a:xfrm>
            <a:off x="1494000" y="2341440"/>
            <a:ext cx="6248160" cy="1090800"/>
          </a:xfrm>
          <a:prstGeom prst="rect">
            <a:avLst/>
          </a:prstGeom>
          <a:ln w="0">
            <a:noFill/>
          </a:ln>
        </p:spPr>
      </p:pic>
      <p:sp>
        <p:nvSpPr>
          <p:cNvPr id="316" name="Text Box 4"/>
          <p:cNvSpPr/>
          <p:nvPr/>
        </p:nvSpPr>
        <p:spPr>
          <a:xfrm>
            <a:off x="900000" y="3429000"/>
            <a:ext cx="7272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valuation of Clinical Nursing Ability for Students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nt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304920" y="2409480"/>
            <a:ext cx="8610480" cy="296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临床护理能力评价的范围及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临床能力评价的种类与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影响临床护理能力评价的因素及控制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" dur="500" fill="hold"/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0" y="428400"/>
            <a:ext cx="897264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临床护理能力评价的范围及内容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临床护理能力是指能把所学的护理学基本理论、知识和技能在临床护理工作实践中灵活运用的能力，包括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</a:rPr>
              <a:t>认知领域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、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</a:rPr>
              <a:t>情感领域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和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</a:rPr>
              <a:t>精神运动领域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三个方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临床能力评价的种类与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观察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床边考核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模拟考核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综合评定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评价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学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评价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5" name="Rectangle 2"/>
          <p:cNvSpPr/>
          <p:nvPr/>
        </p:nvSpPr>
        <p:spPr>
          <a:xfrm>
            <a:off x="843120" y="71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</a:rPr>
              <a:t>影响临床护理能力评价的要素及控制方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nt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6868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教学评价及相关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eaching Evaluation and related concepts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教学评价的分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assification of Teaching Evaluatio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教学评价的功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unction of Teaching Evaluatio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27" name="WordArt 3" descr=""/>
          <p:cNvPicPr/>
          <p:nvPr/>
        </p:nvPicPr>
        <p:blipFill>
          <a:blip r:embed="rId1"/>
          <a:stretch/>
        </p:blipFill>
        <p:spPr>
          <a:xfrm>
            <a:off x="1494000" y="2341440"/>
            <a:ext cx="6248160" cy="1090800"/>
          </a:xfrm>
          <a:prstGeom prst="rect">
            <a:avLst/>
          </a:prstGeom>
          <a:ln w="0">
            <a:noFill/>
          </a:ln>
        </p:spPr>
      </p:pic>
      <p:sp>
        <p:nvSpPr>
          <p:cNvPr id="328" name="Text Box 4"/>
          <p:cNvSpPr/>
          <p:nvPr/>
        </p:nvSpPr>
        <p:spPr>
          <a:xfrm>
            <a:off x="900000" y="3429000"/>
            <a:ext cx="7272360" cy="11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valuation of Classroom Teaching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教师授课质量评价的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教师授课质量评价的类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教师授课质量评价的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0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ntent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教师授课质量评价的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3" name="内容占位符 2"/>
          <p:cNvSpPr/>
          <p:nvPr/>
        </p:nvSpPr>
        <p:spPr>
          <a:xfrm>
            <a:off x="485640" y="14032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教学目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教学态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教学内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教学方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教学效果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教师授课质量评价的类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专家组或领导评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教师自我评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同行评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学生评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学生成绩分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教师授课质量评价的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00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相对评价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绝对评价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记分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调查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教学评价及其相关概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0" y="3429000"/>
            <a:ext cx="9144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（二）评估与教育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 Black"/>
                <a:ea typeface="黑体"/>
              </a:rPr>
              <a:t>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educational assessment</a:t>
            </a: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Text Box 5"/>
          <p:cNvSpPr/>
          <p:nvPr/>
        </p:nvSpPr>
        <p:spPr>
          <a:xfrm>
            <a:off x="34920" y="1700280"/>
            <a:ext cx="91090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（一）测量与教育测量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educational measurement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Text Box 6"/>
          <p:cNvSpPr/>
          <p:nvPr/>
        </p:nvSpPr>
        <p:spPr>
          <a:xfrm>
            <a:off x="0" y="5084640"/>
            <a:ext cx="8820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（三）评价与教学评价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educational evaluation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468360" y="1628640"/>
          <a:ext cx="8229600" cy="3762360"/>
        </p:xfrm>
        <a:graphic>
          <a:graphicData uri="http://schemas.openxmlformats.org/drawingml/2006/table">
            <a:tbl>
              <a:tblPr/>
              <a:tblGrid>
                <a:gridCol w="1011240"/>
                <a:gridCol w="3101760"/>
                <a:gridCol w="4116600"/>
              </a:tblGrid>
              <a:tr h="648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测量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评价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936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对象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8ac8de"/>
                          </a:solidFill>
                          <a:latin typeface="Verdana"/>
                        </a:rPr>
                        <a:t>侧重数量测定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8ac8de"/>
                          </a:solidFill>
                          <a:latin typeface="Verdana"/>
                        </a:rPr>
                        <a:t>侧重价值判断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1079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特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8ac8de"/>
                          </a:solidFill>
                          <a:latin typeface="Verdana"/>
                        </a:rPr>
                        <a:t>客观的事实描述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8ac8de"/>
                          </a:solidFill>
                          <a:latin typeface="Verdana"/>
                        </a:rPr>
                        <a:t>主客观结合的价值判断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1098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活动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8ac8de"/>
                          </a:solidFill>
                          <a:latin typeface="Verdana"/>
                        </a:rPr>
                        <a:t>相对单一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8ac8de"/>
                          </a:solidFill>
                          <a:latin typeface="Verdana"/>
                        </a:rPr>
                        <a:t>综合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Text Box 2"/>
          <p:cNvSpPr/>
          <p:nvPr/>
        </p:nvSpPr>
        <p:spPr>
          <a:xfrm>
            <a:off x="1116000" y="3500280"/>
            <a:ext cx="720108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Times New Roman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Times New Roman"/>
              </a:rPr>
              <a:t>依据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  <a:ea typeface="Times New Roman"/>
              </a:rPr>
              <a:t>一定的法则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Times New Roman"/>
              </a:rPr>
              <a:t>用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  <a:ea typeface="Times New Roman"/>
              </a:rPr>
              <a:t>数字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Times New Roman"/>
              </a:rPr>
              <a:t>对教育领域内事物的属性加以描述和确定。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黑体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AutoShape 3"/>
          <p:cNvSpPr/>
          <p:nvPr/>
        </p:nvSpPr>
        <p:spPr>
          <a:xfrm>
            <a:off x="1116000" y="1557360"/>
            <a:ext cx="4896000" cy="1440000"/>
          </a:xfrm>
          <a:prstGeom prst="wedgeEllipseCallout">
            <a:avLst>
              <a:gd name="adj1" fmla="val 48865"/>
              <a:gd name="adj2" fmla="val 75138"/>
            </a:avLst>
          </a:prstGeom>
          <a:noFill/>
          <a:ln w="57240">
            <a:solidFill>
              <a:srgbClr val="66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何谓教育测量？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Rectangle 4"/>
          <p:cNvSpPr/>
          <p:nvPr/>
        </p:nvSpPr>
        <p:spPr>
          <a:xfrm>
            <a:off x="539640" y="189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教学评价及其相关概念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Text Box 2"/>
          <p:cNvSpPr/>
          <p:nvPr/>
        </p:nvSpPr>
        <p:spPr>
          <a:xfrm>
            <a:off x="1116000" y="3500280"/>
            <a:ext cx="720108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Times New Roman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Times New Roman"/>
              </a:rPr>
              <a:t>根据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  <a:ea typeface="Times New Roman"/>
              </a:rPr>
              <a:t>一定的标准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Times New Roman"/>
              </a:rPr>
              <a:t>进行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  <a:ea typeface="Times New Roman"/>
              </a:rPr>
              <a:t>测量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Times New Roman"/>
              </a:rPr>
              <a:t>，并对测量结果进行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  <a:ea typeface="Times New Roman"/>
              </a:rPr>
              <a:t>统计、分析、整理、归类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Times New Roman"/>
              </a:rPr>
              <a:t>的过程。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AutoShape 3"/>
          <p:cNvSpPr/>
          <p:nvPr/>
        </p:nvSpPr>
        <p:spPr>
          <a:xfrm>
            <a:off x="1116000" y="1557360"/>
            <a:ext cx="4896000" cy="1440000"/>
          </a:xfrm>
          <a:prstGeom prst="wedgeEllipseCallout">
            <a:avLst>
              <a:gd name="adj1" fmla="val 48865"/>
              <a:gd name="adj2" fmla="val 75138"/>
            </a:avLst>
          </a:prstGeom>
          <a:noFill/>
          <a:ln w="57240">
            <a:solidFill>
              <a:srgbClr val="66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何谓教育评估？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Rectangle 4"/>
          <p:cNvSpPr/>
          <p:nvPr/>
        </p:nvSpPr>
        <p:spPr>
          <a:xfrm>
            <a:off x="539640" y="189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教学评价及其相关概念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9T07:46:45Z</dcterms:created>
  <dc:creator>微软用户</dc:creator>
  <dc:description/>
  <dc:language>en-US</dc:language>
  <cp:lastModifiedBy>赵欣</cp:lastModifiedBy>
  <dcterms:modified xsi:type="dcterms:W3CDTF">2015-12-14T09:22:50Z</dcterms:modified>
  <cp:revision>152</cp:revision>
  <dc:subject/>
  <dc:title>幻灯片 1</dc:title>
</cp:coreProperties>
</file>