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CA23A9-6228-4949-B7C5-DBD34FA7FB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9557716-FBDE-47BE-86EC-BB879F60C5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20BD4D1-5C53-4720-87C5-8D3AD2874B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57F4649-2CA5-48C5-9A16-1AA6642500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49D6434-278B-4980-8DC1-733A5B57E6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8361251-D418-4C7D-807C-1A58232A84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B8F435A-7657-4A78-856C-FB8EC391EB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0AAC850-07E2-424C-8764-A5CEDD73D4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5940BE3-43C4-442F-AD63-4740705DA4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45C91CB-B0E9-4095-BB98-05694BD572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A9DA3E8-8A58-49FD-90BA-C337622E06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2C10FB9-4612-486F-9FAD-699DEC0E88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30901-34A2-4736-914E-C0B8B1EC01B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76640"/>
            <a:ext cx="5472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七章 </a:t>
            </a:r>
            <a:br>
              <a:rPr sz="4800"/>
            </a:br>
            <a:r>
              <a:rPr b="1" lang="zh-CN" sz="4800" spc="-1" strike="noStrike">
                <a:solidFill>
                  <a:srgbClr val="ffffff"/>
                </a:solidFill>
                <a:latin typeface="黑体"/>
                <a:ea typeface="黑体"/>
              </a:rPr>
              <a:t>信息化教学</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endParaRPr b="0" lang="en-US" sz="3600" spc="-1" strike="noStrike">
              <a:solidFill>
                <a:srgbClr val="ffffff"/>
              </a:solidFill>
              <a:latin typeface="Verdana"/>
            </a:endParaRPr>
          </a:p>
        </p:txBody>
      </p:sp>
      <p:sp>
        <p:nvSpPr>
          <p:cNvPr id="14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宋体"/>
                <a:ea typeface="宋体"/>
              </a:rPr>
              <a:t>主要特点</a:t>
            </a:r>
            <a:endParaRPr b="1" lang="en-US" sz="36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教学资源存储数字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教学资源呈现多媒化</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教学资源传输网络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教学资源具有开放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教学资源具有可再生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48"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学模式又称为教学结构，是在一定的教学思想或教学理论指导下建立起来的，比较典型的稳定的教学活动结构和教学活动程序。研究教学模式，有助于我们对教学过程的组织方式作简要的表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信息化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模式，是指在现代教学思想和理论指导下，师生之间运用现代教育媒体而形成的较为稳定的教学策略、结构和程序的活动范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50" name="PlaceHolder 2"/>
          <p:cNvSpPr>
            <a:spLocks noGrp="1"/>
          </p:cNvSpPr>
          <p:nvPr>
            <p:ph/>
          </p:nvPr>
        </p:nvSpPr>
        <p:spPr>
          <a:xfrm>
            <a:off x="1042560" y="1341000"/>
            <a:ext cx="6931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优点</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供丰富多彩的信息资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指导学生学习探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实施个别化教学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培养学生的创新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方法</a:t>
            </a:r>
            <a:endParaRPr b="0" lang="en-US" sz="36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教学方法是教育者和学习者为了完成一定的教学目标和教学任务，运用一定的教学方式和教学手段而形成的教与学的活动途径和步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信息化教学方法是指教师通过现代教育媒体，向学生传递教育信息过程中所采取的工作方式，包括对学生学习认知活动的组织方式和控制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教师信息化教学能力的构成</a:t>
            </a:r>
            <a:endParaRPr b="0" lang="en-US" sz="3600" spc="-1" strike="noStrike">
              <a:solidFill>
                <a:srgbClr val="ffffff"/>
              </a:solidFill>
              <a:latin typeface="Verdana"/>
            </a:endParaRPr>
          </a:p>
        </p:txBody>
      </p:sp>
      <p:sp>
        <p:nvSpPr>
          <p:cNvPr id="154" name="PlaceHolder 2"/>
          <p:cNvSpPr>
            <a:spLocks noGrp="1"/>
          </p:cNvSpPr>
          <p:nvPr>
            <p:ph/>
          </p:nvPr>
        </p:nvSpPr>
        <p:spPr>
          <a:xfrm>
            <a:off x="1116000" y="1413000"/>
            <a:ext cx="7362720" cy="48765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素养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设计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实施能力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评价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促进学生信息化学习的能力</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5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信息化教学设计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在信息化环境下对教学全过程进行设计，是在综合把握现代教育教学理念的基础上，充分利用信息技术和信息资源，科学合理安排教与学过程的各个环节和要素，为学习者提供良好的信息化学习条件，促进教学过程和教学效果的优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7" name=""/>
          <p:cNvGraphicFramePr/>
          <p:nvPr/>
        </p:nvGraphicFramePr>
        <p:xfrm>
          <a:off x="250920" y="2421000"/>
          <a:ext cx="8569080" cy="3108240"/>
        </p:xfrm>
        <a:graphic>
          <a:graphicData uri="http://schemas.openxmlformats.org/drawingml/2006/table">
            <a:tbl>
              <a:tblPr/>
              <a:tblGrid>
                <a:gridCol w="2286000"/>
                <a:gridCol w="3195720"/>
                <a:gridCol w="3087360"/>
              </a:tblGrid>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信息化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传统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理论指导</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构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目标</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知识的意义建构</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认知知识的掌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设计情境性信息</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源于教材、课本</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师生角色</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学生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教师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形成性与终结性评价相结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一的结果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
        <p:nvSpPr>
          <p:cNvPr id="158" name="Text Box 118"/>
          <p:cNvSpPr/>
          <p:nvPr/>
        </p:nvSpPr>
        <p:spPr>
          <a:xfrm>
            <a:off x="608292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信息化教学设计</a:t>
            </a:r>
            <a:endParaRPr b="0" lang="en-US" sz="3600" spc="-1" strike="noStrike">
              <a:solidFill>
                <a:srgbClr val="046ca6"/>
              </a:solidFill>
              <a:latin typeface="Arial"/>
            </a:endParaRPr>
          </a:p>
        </p:txBody>
      </p:sp>
      <p:sp>
        <p:nvSpPr>
          <p:cNvPr id="159" name="Text Box 120"/>
          <p:cNvSpPr/>
          <p:nvPr/>
        </p:nvSpPr>
        <p:spPr>
          <a:xfrm>
            <a:off x="971640" y="1413000"/>
            <a:ext cx="7200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信息化教学设计与传统教学设计的比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的基本原则</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以学生为主体，注重学生学习能力的培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利用現代信息技术，注重教学情境的设计与转换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利用各种信息资源支持学生的学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以”任务驱动”和</a:t>
            </a:r>
            <a:r>
              <a:rPr b="0" lang="zh-CN" sz="2800" spc="-1" strike="noStrike">
                <a:solidFill>
                  <a:srgbClr val="000000"/>
                </a:solidFill>
                <a:latin typeface="Verdana"/>
                <a:ea typeface="宋体"/>
              </a:rPr>
              <a:t>“</a:t>
            </a:r>
            <a:r>
              <a:rPr b="1" lang="zh-CN" sz="2800" spc="-1" strike="noStrike">
                <a:solidFill>
                  <a:srgbClr val="000000"/>
                </a:solidFill>
                <a:latin typeface="Verdana"/>
                <a:ea typeface="宋体"/>
              </a:rPr>
              <a:t>问题解决”作为学习活动的主线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注重“协作学习”活动的设计与团队合作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注重对学习过程的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3" name="PlaceHolder 2"/>
          <p:cNvSpPr>
            <a:spLocks noGrp="1"/>
          </p:cNvSpPr>
          <p:nvPr>
            <p:ph/>
          </p:nvPr>
        </p:nvSpPr>
        <p:spPr>
          <a:xfrm>
            <a:off x="468000" y="1371240"/>
            <a:ext cx="806436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步骤与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单元教学目标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学习任务和问题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资源、支持工具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教学过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品范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学习评价量規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教学设计过程评价</a:t>
            </a: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单元包</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单元教学计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教学支持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学生作品评价量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教学设计评价</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grpSp>
        <p:nvGrpSpPr>
          <p:cNvPr id="106" name="Group 4"/>
          <p:cNvGrpSpPr/>
          <p:nvPr/>
        </p:nvGrpSpPr>
        <p:grpSpPr>
          <a:xfrm>
            <a:off x="1819440" y="2219400"/>
            <a:ext cx="688320" cy="593640"/>
            <a:chOff x="1819440" y="2219400"/>
            <a:chExt cx="688320" cy="593640"/>
          </a:xfrm>
        </p:grpSpPr>
        <p:sp>
          <p:nvSpPr>
            <p:cNvPr id="10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640"/>
            <a:chOff x="1803240" y="3749760"/>
            <a:chExt cx="687240" cy="593640"/>
          </a:xfrm>
        </p:grpSpPr>
        <p:sp>
          <p:nvSpPr>
            <p:cNvPr id="11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62728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62728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62728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23"/>
          <p:cNvSpPr/>
          <p:nvPr/>
        </p:nvSpPr>
        <p:spPr>
          <a:xfrm>
            <a:off x="3132000" y="2060640"/>
            <a:ext cx="316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概述</a:t>
            </a:r>
            <a:endParaRPr b="0" lang="en-US" sz="3200" spc="-1" strike="noStrike">
              <a:solidFill>
                <a:srgbClr val="046ca6"/>
              </a:solidFill>
              <a:latin typeface="Arial"/>
            </a:endParaRPr>
          </a:p>
        </p:txBody>
      </p:sp>
      <p:sp>
        <p:nvSpPr>
          <p:cNvPr id="125" name="Text Box 24"/>
          <p:cNvSpPr/>
          <p:nvPr/>
        </p:nvSpPr>
        <p:spPr>
          <a:xfrm>
            <a:off x="3132000" y="2852640"/>
            <a:ext cx="316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设计</a:t>
            </a:r>
            <a:endParaRPr b="0" lang="en-US" sz="3200" spc="-1" strike="noStrike">
              <a:solidFill>
                <a:srgbClr val="046ca6"/>
              </a:solidFill>
              <a:latin typeface="Arial"/>
            </a:endParaRPr>
          </a:p>
        </p:txBody>
      </p:sp>
      <p:sp>
        <p:nvSpPr>
          <p:cNvPr id="126" name="Text Box 26"/>
          <p:cNvSpPr/>
          <p:nvPr/>
        </p:nvSpPr>
        <p:spPr>
          <a:xfrm>
            <a:off x="3132000" y="3645000"/>
            <a:ext cx="3311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环境</a:t>
            </a:r>
            <a:endParaRPr b="0" lang="en-US" sz="3200" spc="-1" strike="noStrike">
              <a:solidFill>
                <a:srgbClr val="046ca6"/>
              </a:solidFill>
              <a:latin typeface="Arial"/>
            </a:endParaRPr>
          </a:p>
        </p:txBody>
      </p:sp>
      <p:sp>
        <p:nvSpPr>
          <p:cNvPr id="127" name="Text Box 27"/>
          <p:cNvSpPr/>
          <p:nvPr/>
        </p:nvSpPr>
        <p:spPr>
          <a:xfrm>
            <a:off x="3726000" y="4437000"/>
            <a:ext cx="296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的应用与评价</a:t>
            </a:r>
            <a:r>
              <a:rPr b="1" lang="zh-CN" sz="3200" spc="-1" strike="noStrike">
                <a:solidFill>
                  <a:srgbClr val="046ca6"/>
                </a:solidFill>
                <a:latin typeface="宋体"/>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67" name="PlaceHolder 2"/>
          <p:cNvSpPr>
            <a:spLocks noGrp="1"/>
          </p:cNvSpPr>
          <p:nvPr>
            <p:ph/>
          </p:nvPr>
        </p:nvSpPr>
        <p:spPr>
          <a:xfrm>
            <a:off x="304920" y="1371240"/>
            <a:ext cx="8610480" cy="4289400"/>
          </a:xfrm>
          <a:prstGeom prst="rect">
            <a:avLst/>
          </a:prstGeom>
          <a:no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环境的概念</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建立在多媒体计算机和互联网基础之上，是在现代教育理论指导下，充分运用现代信息技术建立的能实现教学信息的获取途径和呈现方式多样化，有利于自主学习及协作学习的现代教学环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的特点</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课程教材多媒化、学习资源共享化、教育时空立体化、自主学习个性化、学习活动合作化、教育管</a:t>
            </a:r>
            <a:r>
              <a:rPr b="1" lang="zh-CN" sz="2800" spc="-1" strike="noStrike">
                <a:solidFill>
                  <a:srgbClr val="000000"/>
                </a:solidFill>
                <a:latin typeface="Verdana"/>
                <a:ea typeface="宋体"/>
              </a:rPr>
              <a:t>理自动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 name="PlaceHolder 2"/>
          <p:cNvSpPr>
            <a:spLocks noGrp="1"/>
          </p:cNvSpPr>
          <p:nvPr>
            <p:ph/>
          </p:nvPr>
        </p:nvSpPr>
        <p:spPr>
          <a:xfrm>
            <a:off x="250920" y="1557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作用</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提供现代学习资源设计、开发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提供现代学习资源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供现代学习过程设计、开发与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提供学习过程和学习资源的现代管理条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功能要求</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开展多媒体教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教师对教学过程的调控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学习主体作用的充分发挥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实施个别化学习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多种学习资源的利用和资源的共享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3" name="PlaceHolder 2"/>
          <p:cNvSpPr>
            <a:spLocks noGrp="1"/>
          </p:cNvSpPr>
          <p:nvPr>
            <p:ph/>
          </p:nvPr>
        </p:nvSpPr>
        <p:spPr>
          <a:xfrm>
            <a:off x="250560" y="1483920"/>
            <a:ext cx="64818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常用的多媒体教学系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多媒体网络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多媒体学习中心</a:t>
            </a:r>
            <a:endParaRPr b="1" lang="en-US" sz="2800" spc="-1" strike="noStrike">
              <a:solidFill>
                <a:srgbClr val="8ac8de"/>
              </a:solidFill>
              <a:latin typeface="Verdana"/>
            </a:endParaRPr>
          </a:p>
        </p:txBody>
      </p:sp>
      <p:grpSp>
        <p:nvGrpSpPr>
          <p:cNvPr id="174" name="Group 4"/>
          <p:cNvGrpSpPr/>
          <p:nvPr/>
        </p:nvGrpSpPr>
        <p:grpSpPr>
          <a:xfrm>
            <a:off x="4643280" y="2133720"/>
            <a:ext cx="4176720" cy="4174560"/>
            <a:chOff x="4643280" y="2133720"/>
            <a:chExt cx="4176720" cy="4174560"/>
          </a:xfrm>
        </p:grpSpPr>
        <p:pic>
          <p:nvPicPr>
            <p:cNvPr id="175" name="Picture 5" descr="教师节前献礼！60平米教室投影机推荐"/>
            <p:cNvPicPr/>
            <p:nvPr/>
          </p:nvPicPr>
          <p:blipFill>
            <a:blip r:embed="rId1"/>
            <a:stretch/>
          </p:blipFill>
          <p:spPr>
            <a:xfrm>
              <a:off x="4643280" y="2133720"/>
              <a:ext cx="4176720" cy="4119120"/>
            </a:xfrm>
            <a:prstGeom prst="rect">
              <a:avLst/>
            </a:prstGeom>
            <a:ln w="0">
              <a:noFill/>
            </a:ln>
          </p:spPr>
        </p:pic>
        <p:sp>
          <p:nvSpPr>
            <p:cNvPr id="176" name="Rectangle 6"/>
            <p:cNvSpPr/>
            <p:nvPr/>
          </p:nvSpPr>
          <p:spPr>
            <a:xfrm>
              <a:off x="4643280" y="4308480"/>
              <a:ext cx="2314080" cy="1999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教室</a:t>
            </a:r>
            <a:endParaRPr b="0" lang="en-US" sz="3600" spc="-1" strike="noStrike">
              <a:solidFill>
                <a:srgbClr val="ffffff"/>
              </a:solidFill>
              <a:latin typeface="Verdana"/>
            </a:endParaRPr>
          </a:p>
        </p:txBody>
      </p:sp>
      <p:sp>
        <p:nvSpPr>
          <p:cNvPr id="178"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多媒体教室是一种典型的传递</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接受式闭合型教学系统，多种教学媒体按照媒体优化组合和教学设计的原则组织教学活动</a:t>
            </a:r>
            <a:r>
              <a:rPr b="1" lang="en-US"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教室具有以下几种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便于教师利用多种媒体辅助教学活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能利用视音频多种媒体组合，优化教学过程，突破教学重点、难点，提高教学质量与效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多功能型多媒体教室便于观摩示范教学以扩大教学规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用于开展新型教学模式的教学试验与研究。</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能用于多媒体学术报告、专题讲座等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网络教室</a:t>
            </a:r>
            <a:endParaRPr b="0" lang="en-US" sz="36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多媒体网络教室主要由于网络连接的多媒体计算机和其他多媒体设备如投影仪、扩音设备等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网络教室具有以下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视听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交互辅导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实时监控功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多媒体学习中心教学媒体设置，可分为几个区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生学习活动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文字印刷资料区</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模型、标本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媒体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业展示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教师指导学习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多媒体学习中心的功能如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为学生营造了一个优良的自主学习环境，为学生进行个别化学习和小组学习提供多种媒体的良好学习条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开展学生个别化自主学习的教学试验与效果研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参与意识的培养和学习积极性、主动性的发挥。</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培养学生全面的信息能力。</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培养学生之间的合作精神。</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利于培养具有创新精神创新能力的新型人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微格教学是一种利用现代化教学技术手段来培训师范生和在职教师教学技能的系统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格教学系统一般有微格教室、控制室、示范室、观摩室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数字化的微格教学系统应运而生，它将多媒体教学网络、闭路电视系统、微格教学系统完全融为一体，为辅助传统教学创建了一个功能强大的数字化多媒体网络环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数字化微格教室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数字化微格教室是将计算机技术、网络技术、视音频技术、视频压缩技术、存储技术以及传输技术进行综合性的应用，构建出一个集视音频录制、实时监控、局域网点播为一体化的系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教学优势主要体现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实现了录制与回放的分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以数字方式存储视频资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现了在校园网内的点播观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无限次的播放调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9" name="PlaceHolder 2"/>
          <p:cNvSpPr>
            <a:spLocks noGrp="1"/>
          </p:cNvSpPr>
          <p:nvPr>
            <p:ph/>
          </p:nvPr>
        </p:nvSpPr>
        <p:spPr>
          <a:xfrm>
            <a:off x="304920" y="1371240"/>
            <a:ext cx="8610480" cy="50101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ea typeface="宋体"/>
              </a:rPr>
              <a:t>识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下列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育、信息化教学、信息化教学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学模式、信息化教学设计、信息化教学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资源的主要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模式的优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常用的信息化教学环境及其特点</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E6736-2AD1-40E3-ADA0-9658137AF6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校园网络系统</a:t>
            </a:r>
            <a:endParaRPr b="0" lang="en-US" sz="3600" spc="-1" strike="noStrike">
              <a:solidFill>
                <a:srgbClr val="ffffff"/>
              </a:solidFill>
              <a:latin typeface="Verdana"/>
            </a:endParaRPr>
          </a:p>
        </p:txBody>
      </p:sp>
      <p:sp>
        <p:nvSpPr>
          <p:cNvPr id="1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Verdana"/>
                <a:ea typeface="宋体"/>
              </a:rPr>
              <a:t>数字化校园”是以校园网为背景的集教学、管理、娱乐为一体的一种新型数字化的工作、学习、生活环境。其特点应突出体现在三个方面：网络化、智能化和个性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校园网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办公自动化管理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交流服务功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对护理教育的意义</a:t>
            </a:r>
            <a:endParaRPr b="0"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化教学为护理教育带来的改变</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护理传统教育模式的弊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信息化护理教学模式的优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信息化护理教学的意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促进护理教学现代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培养创新性护理专业人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护理专业优质教育资源的共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规模开放式在线课程（</a:t>
            </a:r>
            <a:r>
              <a:rPr b="1" lang="en-US" sz="3600" spc="-1" strike="noStrike">
                <a:solidFill>
                  <a:srgbClr val="ffffff"/>
                </a:solidFill>
                <a:latin typeface="Verdana"/>
                <a:ea typeface="宋体"/>
              </a:rPr>
              <a:t>MOOC</a:t>
            </a:r>
            <a:r>
              <a:rPr b="1" lang="zh-CN" sz="3600" spc="-1" strike="noStrike">
                <a:solidFill>
                  <a:srgbClr val="ffffff"/>
                </a:solidFill>
                <a:latin typeface="Verdana"/>
                <a:ea typeface="宋体"/>
              </a:rPr>
              <a:t>）</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大规模开放式在线课程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是一种通过互联网学习、没有限制的课程，是一种可免费获取的教育资源，是一种全新的获取知识的渠道和学习的模式。</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大规模”（</a:t>
            </a:r>
            <a:r>
              <a:rPr b="1" lang="en-US" sz="2000" spc="-1" strike="noStrike">
                <a:solidFill>
                  <a:srgbClr val="000000"/>
                </a:solidFill>
                <a:latin typeface="Verdana"/>
                <a:ea typeface="宋体"/>
              </a:rPr>
              <a:t>massive</a:t>
            </a:r>
            <a:r>
              <a:rPr b="1" lang="zh-CN" sz="2000" spc="-1" strike="noStrike">
                <a:solidFill>
                  <a:srgbClr val="000000"/>
                </a:solidFill>
                <a:latin typeface="Verdana"/>
                <a:ea typeface="宋体"/>
              </a:rPr>
              <a:t>），与一般传统课程只有几十名到上百名学生不同的是，一个</a:t>
            </a:r>
            <a:r>
              <a:rPr b="1" lang="en-US" sz="2000" spc="-1" strike="noStrike">
                <a:solidFill>
                  <a:srgbClr val="000000"/>
                </a:solidFill>
                <a:latin typeface="Verdana"/>
                <a:ea typeface="宋体"/>
              </a:rPr>
              <a:t>MOOC</a:t>
            </a:r>
            <a:r>
              <a:rPr b="1" lang="zh-CN" sz="2000" spc="-1" strike="noStrike">
                <a:solidFill>
                  <a:srgbClr val="000000"/>
                </a:solidFill>
                <a:latin typeface="Verdana"/>
                <a:ea typeface="宋体"/>
              </a:rPr>
              <a:t>课程的容量可以达到上万人，甚至上百万人或更多。</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开放”（</a:t>
            </a:r>
            <a:r>
              <a:rPr b="1" lang="en-US" sz="2000" spc="-1" strike="noStrike">
                <a:solidFill>
                  <a:srgbClr val="000000"/>
                </a:solidFill>
                <a:latin typeface="Verdana"/>
                <a:ea typeface="宋体"/>
              </a:rPr>
              <a:t>open</a:t>
            </a:r>
            <a:r>
              <a:rPr b="1" lang="zh-CN" sz="2000" spc="-1" strike="noStrike">
                <a:solidFill>
                  <a:srgbClr val="000000"/>
                </a:solidFill>
                <a:latin typeface="Verdana"/>
                <a:ea typeface="宋体"/>
              </a:rPr>
              <a:t>），在</a:t>
            </a:r>
            <a:r>
              <a:rPr b="1" lang="en-US" sz="2000" spc="-1" strike="noStrike">
                <a:solidFill>
                  <a:srgbClr val="000000"/>
                </a:solidFill>
                <a:latin typeface="Verdana"/>
                <a:ea typeface="宋体"/>
              </a:rPr>
              <a:t>MOOC </a:t>
            </a:r>
            <a:r>
              <a:rPr b="1" lang="zh-CN" sz="2000" spc="-1" strike="noStrike">
                <a:solidFill>
                  <a:srgbClr val="000000"/>
                </a:solidFill>
                <a:latin typeface="Verdana"/>
                <a:ea typeface="宋体"/>
              </a:rPr>
              <a:t>教育使用平台上，凡是有兴趣的、希望加入学习的人都可以进入学习，不分国籍，没有限制，有的甚至不需要注册即可进入学习。</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在线”（</a:t>
            </a:r>
            <a:r>
              <a:rPr b="1" lang="en-US" sz="2000" spc="-1" strike="noStrike">
                <a:solidFill>
                  <a:srgbClr val="000000"/>
                </a:solidFill>
                <a:latin typeface="Verdana"/>
                <a:ea typeface="宋体"/>
              </a:rPr>
              <a:t>online</a:t>
            </a:r>
            <a:r>
              <a:rPr b="1" lang="zh-CN" sz="2000" spc="-1" strike="noStrike">
                <a:solidFill>
                  <a:srgbClr val="000000"/>
                </a:solidFill>
                <a:latin typeface="Verdana"/>
                <a:ea typeface="宋体"/>
              </a:rPr>
              <a:t>），学习的过程都是在线完成，只要能连接互联网即可参与，不受空间的限制。</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课程”（</a:t>
            </a:r>
            <a:r>
              <a:rPr b="1" lang="en-US" sz="2000" spc="-1" strike="noStrike">
                <a:solidFill>
                  <a:srgbClr val="000000"/>
                </a:solidFill>
                <a:latin typeface="Verdana"/>
                <a:ea typeface="宋体"/>
              </a:rPr>
              <a:t>course</a:t>
            </a:r>
            <a:r>
              <a:rPr b="1" lang="zh-CN" sz="2000" spc="-1" strike="noStrike">
                <a:solidFill>
                  <a:srgbClr val="000000"/>
                </a:solidFill>
                <a:latin typeface="Verdana"/>
                <a:ea typeface="宋体"/>
              </a:rPr>
              <a:t>），跟传统课堂一样，有开课和结课的时间，也有相应的课程作业或考试，是有目的、有计划的教育活动。</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优点</a:t>
            </a:r>
            <a:endParaRPr b="0" lang="en-US" sz="36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开放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自主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系统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互动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缺点</a:t>
            </a:r>
            <a:endParaRPr b="0" lang="en-US" sz="36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成本高</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完成率低</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认证难</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优秀的</a:t>
            </a: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平台</a:t>
            </a:r>
            <a:endParaRPr b="0" lang="en-US" sz="3600" spc="-1" strike="noStrike">
              <a:solidFill>
                <a:srgbClr val="ffffff"/>
              </a:solidFill>
              <a:latin typeface="Verdana"/>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oursera</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coursera.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Udacity</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udacity.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edX</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edX.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FutureLearn</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futurelearn.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可汗学院（</a:t>
            </a:r>
            <a:r>
              <a:rPr b="1" lang="en-US" sz="2800" spc="-1" strike="noStrike">
                <a:solidFill>
                  <a:srgbClr val="000000"/>
                </a:solidFill>
                <a:latin typeface="Verdana"/>
                <a:ea typeface="宋体"/>
              </a:rPr>
              <a:t>Khana cademy</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khanacademy.org/</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定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课（</a:t>
            </a:r>
            <a:r>
              <a:rPr b="1" lang="en-US" sz="2800" spc="-1" strike="noStrike">
                <a:solidFill>
                  <a:srgbClr val="000000"/>
                </a:solidFill>
                <a:latin typeface="Verdana"/>
                <a:ea typeface="宋体"/>
              </a:rPr>
              <a:t>microlecture</a:t>
            </a:r>
            <a:r>
              <a:rPr b="1" lang="zh-CN" sz="2800" spc="-1" strike="noStrike">
                <a:solidFill>
                  <a:srgbClr val="000000"/>
                </a:solidFill>
                <a:latin typeface="Verdana"/>
                <a:ea typeface="宋体"/>
              </a:rPr>
              <a:t>）是按照课程目标和教学实践的要求，以视频为主要载体，在教学过程中围绕某个知识点或教学环节而开展的精彩的教学活动。以主题模块组织起来的相对完整并独立的小规模课程，适用于教学中的各个阶段和各类课程类型，如传统教学法中的讲授型课程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课程中都可使用微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时间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内容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容量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情境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便于传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易制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概念</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翻转课堂（</a:t>
            </a:r>
            <a:r>
              <a:rPr b="1" lang="en-US" sz="2800" spc="-1" strike="noStrike">
                <a:solidFill>
                  <a:srgbClr val="000000"/>
                </a:solidFill>
                <a:latin typeface="Verdana"/>
                <a:ea typeface="宋体"/>
              </a:rPr>
              <a:t>flipped classroom</a:t>
            </a:r>
            <a:r>
              <a:rPr b="1" lang="zh-CN" sz="2800" spc="-1" strike="noStrike">
                <a:solidFill>
                  <a:srgbClr val="000000"/>
                </a:solidFill>
                <a:latin typeface="Verdana"/>
                <a:ea typeface="宋体"/>
              </a:rPr>
              <a:t>），顾名思义就是相对于传统课程的讲授法的教学模式。传统课程讲授法是教师在课堂上讲解知识，给学生布置课后需要完成的作业；而翻转课堂是请学生在上课前观看微课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或是从互联网下载辅助资料或学习材料，而课堂时间则用来解答学生的疑问和困惑，帮助学生深入全面地掌握和运用所学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翻转课堂是先学后教的教学模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结合微课的讲授方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高学生积极的学习态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理解：</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联系实际简述教师信息化教学能力的构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分析归纳信息化教学设计的步骤与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简述信息化教学环境建设的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比较</a:t>
            </a:r>
            <a:r>
              <a:rPr b="1" lang="en-US" sz="2800" spc="-1" strike="noStrike">
                <a:solidFill>
                  <a:srgbClr val="000000"/>
                </a:solidFill>
                <a:latin typeface="宋体"/>
                <a:ea typeface="宋体"/>
              </a:rPr>
              <a:t>MOOCs</a:t>
            </a:r>
            <a:r>
              <a:rPr b="1" lang="zh-CN" sz="2800" spc="-1" strike="noStrike">
                <a:solidFill>
                  <a:srgbClr val="000000"/>
                </a:solidFill>
                <a:latin typeface="宋体"/>
                <a:ea typeface="宋体"/>
              </a:rPr>
              <a:t>和在线视频公开课的异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应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结合所学的护理专业，设计一份护理信息化教学教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的评价</a:t>
            </a:r>
            <a:endParaRPr b="0" lang="en-US" sz="36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传统教学评价方式的不足</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现行的教学评价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化教学的评价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小结</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信息化教学无疑推动了护理教育的发展，也使护理教育水平有所提高，同时具有资源丰富、提高学生自主性、发展个性化教学、增加互动性和创新型培养等优势。而护理教育有它的专业性和独特性，根据不同课程的性质、特点决定了课程是否适合信息化教学去完成，更多的课程需要信息化教学和传统教学相结合，不可一概而论。</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C9928-41C6-4317-BFB3-3C06164EEE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5" name="PlaceHolder 2"/>
          <p:cNvSpPr>
            <a:spLocks noGrp="1"/>
          </p:cNvSpPr>
          <p:nvPr>
            <p:ph/>
          </p:nvPr>
        </p:nvSpPr>
        <p:spPr>
          <a:xfrm>
            <a:off x="323640" y="1557000"/>
            <a:ext cx="8569080" cy="44305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育信息化</a:t>
            </a:r>
            <a:r>
              <a:rPr b="1" lang="zh-CN" sz="2400" spc="-1" strike="noStrike">
                <a:solidFill>
                  <a:srgbClr val="fe230c"/>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教育信息化是指在教育领域运用现代化信息技术，对教育内容进行分析处理、加工改造、组织传播、共享利用，以实现教育现代化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育</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信息化教育是指在现代教育思想和理论的指导下，运用现代信息技术，开发教育资源，优化教育教学过程，以培养和提高学生信息素养为目标的一种新的教育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35">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是在现代教育理论和现代教学方法的指导下，以信息技术为支撑，优化教学过程，借助现代教育媒体、教育信息资源和教育技术方法实现师生之间的沟通交流、协作学习，培养学生信息素养的一种现代教学表现方式。</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39"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媒体是指承载、加工和传递信息的介质或工具。</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含两重含义</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承载信息的载体；</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存储和传递信息的实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教学媒体</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当某一媒体被用于教学目的时，在教学过程中作为承载教育信息的工具，则被称为教学媒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现代教学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利用现代技术承载和传递教学信息的工具。</a:t>
            </a:r>
            <a:r>
              <a:rPr b="1" lang="zh-CN" sz="2400" spc="-1" strike="noStrike">
                <a:solidFill>
                  <a:srgbClr val="8ac8de"/>
                </a:solidFill>
                <a:latin typeface="Verdana"/>
                <a:ea typeface="宋体"/>
              </a:rPr>
              <a:t> </a:t>
            </a:r>
            <a:r>
              <a:rPr b="1" lang="zh-CN" sz="2800" spc="-1" strike="noStrike">
                <a:solidFill>
                  <a:srgbClr val="fe230c"/>
                </a:solidFill>
                <a:latin typeface="Verdana"/>
                <a:ea typeface="宋体"/>
              </a:rPr>
              <a:t> </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D0939-E911-4FAE-BC1B-370FA1B52B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555120" y="-171360"/>
            <a:ext cx="858852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42" name="PlaceHolder 2"/>
          <p:cNvSpPr>
            <a:spLocks noGrp="1"/>
          </p:cNvSpPr>
          <p:nvPr>
            <p:ph/>
          </p:nvPr>
        </p:nvSpPr>
        <p:spPr>
          <a:xfrm>
            <a:off x="250560" y="1557360"/>
            <a:ext cx="8893080" cy="5068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媒体</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Verdana"/>
                <a:ea typeface="宋体"/>
              </a:rPr>
              <a:t>信息时代开发的标志性教学媒体，或者以前已经存在但在信息时代还作为主流的教学媒体，均被称为信息化教学媒体。通常分为视觉媒体、听觉媒体、视听结合媒体、交互媒体以及综合媒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概念</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000000"/>
                </a:solidFill>
                <a:latin typeface="Verdana"/>
                <a:ea typeface="宋体"/>
              </a:rPr>
              <a:t>信息化教学资源，是指信息技术支持的，为教学目的专门设计或者为教学目的服务的各种教和学的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具体地说是指经过数字化处理的，可以在计算机或网络环境运行的多媒体材料或教学系统，它主要包括数字视频、数字音频、多媒体软件、</a:t>
            </a:r>
            <a:r>
              <a:rPr b="1" lang="en-US" sz="2800" spc="-1" strike="noStrike">
                <a:solidFill>
                  <a:srgbClr val="000000"/>
                </a:solidFill>
                <a:latin typeface="Verdana"/>
                <a:ea typeface="宋体"/>
              </a:rPr>
              <a:t>CD-ROM</a:t>
            </a:r>
            <a:r>
              <a:rPr b="1" lang="zh-CN" sz="2800" spc="-1" strike="noStrike">
                <a:solidFill>
                  <a:srgbClr val="000000"/>
                </a:solidFill>
                <a:latin typeface="Verdana"/>
                <a:ea typeface="宋体"/>
              </a:rPr>
              <a:t>、网站、电子邮件、在线学习管理系统、计算机模拟、在线讨论、数据文件、数据库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4T09:27:59Z</dcterms:modified>
  <cp:revision>10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