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A734F-4B35-416B-BD3B-8BA6F29247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64995-6EFC-47E1-89CC-20B24888A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157F7-0E67-4B04-9DB4-931C9D52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BA091-87F9-442B-A0FD-3E77F084F4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5C90B-724D-4772-AF28-DEA2DB4BE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14BD4-B6A6-4CE2-BB64-CA34E8CF1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2102A-3D6F-40F9-814C-15335D006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AA2A2-4E7E-429B-ABB6-067B5F196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E29FE-A781-40A0-AA1D-F6E83BA2E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86C3C-9B19-4475-BEED-B975EF226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43C1F-35C6-4CC9-B523-45C4FEBDC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4B35C-EAE8-4D8B-96F1-A3A237E1F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6DE0B-3A25-4BEA-B708-4D2AAEF33D4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360" y="2205000"/>
            <a:ext cx="3456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第三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价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539640" y="4438800"/>
            <a:ext cx="82090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Tahoma"/>
                <a:ea typeface="宋体"/>
              </a:rPr>
              <a:t>第七节  日常生活活动能力和生存质量评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7" descr=""/>
          <p:cNvPicPr/>
          <p:nvPr/>
        </p:nvPicPr>
        <p:blipFill>
          <a:blip r:embed="rId1"/>
          <a:stretch/>
        </p:blipFill>
        <p:spPr>
          <a:xfrm>
            <a:off x="1260360" y="1054080"/>
            <a:ext cx="7128000" cy="55832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"/>
          <p:cNvSpPr/>
          <p:nvPr/>
        </p:nvSpPr>
        <p:spPr>
          <a:xfrm>
            <a:off x="4356000" y="33336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Barthel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指数评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8" name="Picture 9" descr=""/>
          <p:cNvPicPr/>
          <p:nvPr/>
        </p:nvPicPr>
        <p:blipFill>
          <a:blip r:embed="rId1"/>
          <a:stretch/>
        </p:blipFill>
        <p:spPr>
          <a:xfrm>
            <a:off x="755640" y="1270080"/>
            <a:ext cx="7453440" cy="545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PULSES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定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: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该方法主要用于慢性＞疾患、老年人和住院患者的评定。评定内容包括六项：①躯体状况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Physical Condition, P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②上肢功能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Upper Limb Function,U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③下肢功能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Lower Limb Function, 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④感觉功能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Sensory Components, S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包括视、听、言语；⑤排泄功能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Excretory Functions, E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⑥患者情况，包括精神和情感状况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Status of Patient-Mental and Emotional Status, S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。总分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（功能最佳）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为功能最差。每项分四个等级：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级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—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正常，无功能障碍；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级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—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轻度功能障碍；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级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—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中度功能障碍；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级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—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重度功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功能独立性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功能独立性评价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functional independentce measure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FIM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是美国物理医学与康复学会于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98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年提出的，能够全面、客观地反映残疾者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AD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能力。有学者认为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FIM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在描述残疾水平和功能独立程度上比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Barthe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数等评定方法会更敏感、更精确，并且适用于所有残疾者。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FIM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定内容为六个方面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8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功能，即自理活动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、括约肌控制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、转移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、行走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、交流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和社会认知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项。每项功能被分为七级，最高级得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，最低级得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，总积分最高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2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，得分越高提示独立水平越好，反之越差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rcRect l="0" t="0" r="6863" b="1735"/>
          <a:stretch/>
        </p:blipFill>
        <p:spPr>
          <a:xfrm>
            <a:off x="1547640" y="1054080"/>
            <a:ext cx="5867640" cy="56167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3"/>
          <p:cNvSpPr/>
          <p:nvPr/>
        </p:nvSpPr>
        <p:spPr>
          <a:xfrm>
            <a:off x="6690600" y="333360"/>
            <a:ext cx="13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FIM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324000" y="1270080"/>
            <a:ext cx="83534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FIM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定标准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为完全独立，即所有活动都可规范地、安全地在合理的时间内完成，不用辅助设备和帮助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为有条件的独立，即能独立完成所有活动，但活动中需要辅助设施，或者需要的时间比正常长，或有安全方面的顾虑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为需要监护或示范，即在没有身体接触帮助的前提下，能完成活动，但需要他人监护、提示或规劝；或者需要他人准备或传递必要的物品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为需要小亮身体接触的帮助，提供给患者的帮助限于辅助，或患者在活动中用力程度大于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75%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为需要中等帮助，患者在活动中的用力程度为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50%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75%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需要大量帮助，患者在活动中的用力程度为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25%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50%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完全依赖，患者在活动中的用力程度小于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5%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FIM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级标准：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8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完全依赖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9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35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者为及重度依赖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36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53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重度依赖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54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71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中度依赖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72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89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轻度依赖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90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7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极轻度依赖或有条件的独立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8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25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基本独立；</a:t>
            </a:r>
            <a:r>
              <a:rPr b="1" lang="en-US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26</a:t>
            </a:r>
            <a:r>
              <a:rPr b="1" lang="zh-CN" sz="2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者为完全独立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2360" y="2617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二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生存质量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611280" y="1700280"/>
            <a:ext cx="784836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 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生存质量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quality of life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QO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是个人根据自身所处的文化和价值体系，对于自身生存状态的主观感受，这种感受充分考虑了其目标、期望、标准及所关心的各种事物，同时受到个人身体健康、心理状态、个人信仰、社会关系和所处环境的综合影响。包括生活者自身的质量和生活者对周围环境质量的认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94920" y="1988640"/>
            <a:ext cx="849780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类 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社会学与经济学领域的生存质量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医学领域的健康相关生存质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一）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684000" y="2133360"/>
            <a:ext cx="813564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生活满意度的量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世界卫生组织生存质量评定量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健康调查量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健康良好状态指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癌症患者生活功能指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-98280"/>
            <a:ext cx="8229600" cy="125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（二）生存质量评定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(1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生活满意度的量表目前对生活满意度的整体评价一般都采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Diener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等人编制的生活满意度量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(Satisfaction with Life Scale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SWLS) 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和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Neugarten 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等人编制的生活满意度量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LSR-LSIA-LSIB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①生活满意度量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SWLS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：有生活接近理想，生活条件好，生活满意，得到重要东西，肯定人生道路等五个问题组成。采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级评分，适用于不同年龄段的群体，其信度效度指标较好，应用十分广泛。②生活满意度量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LSR-LSIA-LSIB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：包括三个独立的分量表，其一是他评量表，即生活满意度评定量表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(Life Satisfac-tion Rating Soales)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简称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LSR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；另两个分量表是自评量表，分别为生活满意度指数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A(Life Sat-isfaction Index A)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和生活满意度指数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B(Life Satisfaction lndex B)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简称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LSIA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和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LSIB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44360" y="333000"/>
            <a:ext cx="53672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00360" y="1917720"/>
            <a:ext cx="42480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日常生活活动能力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生存质量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36720" y="2421000"/>
            <a:ext cx="688680" cy="593280"/>
            <a:chOff x="1836720" y="2421000"/>
            <a:chExt cx="68868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42120" y="243072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36720" y="242100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76680" y="2455920"/>
              <a:ext cx="600480" cy="513000"/>
            </a:xfrm>
            <a:prstGeom prst="hexagon">
              <a:avLst>
                <a:gd name="adj" fmla="val 29263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2061360" y="249408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36720" y="328608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79640" y="33577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1979640" y="422100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2052720" y="49417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4"/>
          <p:cNvSpPr/>
          <p:nvPr/>
        </p:nvSpPr>
        <p:spPr>
          <a:xfrm>
            <a:off x="2989440" y="137520"/>
            <a:ext cx="604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WHOQOL-BREF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量表的结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24000" y="928800"/>
          <a:ext cx="8638920" cy="5678280"/>
        </p:xfrm>
        <a:graphic>
          <a:graphicData uri="http://schemas.openxmlformats.org/drawingml/2006/table">
            <a:tbl>
              <a:tblPr/>
              <a:tblGrid>
                <a:gridCol w="3373200"/>
                <a:gridCol w="5265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Ⅰ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生理领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Ⅲ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社会关系领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疼痛与不适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4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个人领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精力与疲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5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所需社会支持的满意程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睡眠与休息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6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性生活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走动能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Ⅳ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环境领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日常生活能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7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社会安全保障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6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对药物及医疗手段的依赖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8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住房环境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7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工作能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9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经济来源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Ⅱ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Calibri"/>
                          <a:ea typeface="宋体"/>
                        </a:rPr>
                        <a:t>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心理领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0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医疗服务于社会保障：获取途径与质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8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积极感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1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获取新信息、知识、技能的机会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9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思想、学习、记忆和注意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2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休闲娱乐活动的参与机会与参与程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0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自尊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3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环境条件（污染，噪声，交通，气候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1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对身材和相貌的感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4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交通条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2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消极感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3.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精神支柱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总的健康状况与生存质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健康调查量表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MOS 36-item short form health survey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SF-3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是美国医学结局研究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medical outcomes study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MOS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组开发的国际上以健康作为重点的综合评定表。被广泛应用于普通人群的生存质量测定、临床试验效果评价以及卫生政策评估等领域。量表分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维度①体能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physical function,PF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；②精神影响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role emotional,RE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；③社会活动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social function,SF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；④心理健康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mental health,MH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⑤体能影响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role physical,RP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⑥精力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vitality,VT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；⑦身体疼痛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bodily pain,BP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⑧一般健康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general health, GH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；共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条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癌症患者生活功能指数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functional living index cancer scale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FLIC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是加拿大世界卫生组织生存质量课题合作单位的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H.Schipper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等研制的专用于癌症患者生存质量评价的疾病特异性量表。包括躯体良好和能力，心理良好，因癌造成的艰难，社会良好，恶心等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领域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条目比较全面地描述了患者的活动能力、执行角色功能的能力、社会交往能力、情绪状态、症状和主观感受等，较适宜预后较好的癌症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健康良好状态指数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quality of well-being scale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QWB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或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index of well-being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IWB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R.M.Kaplan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于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97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年提出包含主观生命质量指标的良好适应状态指数。第一部分是有关患者日常生活活动方面的内容，包括移动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MOB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、生理活动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PAC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和社会活动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SAC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三方面。第二部分包括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症状及健康问题综合描述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CPX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DC1F0-A8B8-4E1C-8E09-39CCFD1784E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612720" y="1413000"/>
            <a:ext cx="806472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陈述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的定义、分类及评定内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回忆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QOL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的定义及评定内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描述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Barthel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指数的评定标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归纳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FIM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及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SF-36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的内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Barthel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指数和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FIM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对脑卒中患者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进行评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68360" y="1628640"/>
            <a:ext cx="8136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日常生活活动能力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Activities of Daily Living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AD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 是指人们为了维持生存以及适应生存环境而每天必须反复进行的、最基本的、最具有共同性的活动。即进行衣、食、住、行、个人卫生等的基本动作和技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一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)  ADL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类 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基本或躯体的日常生活能力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Basic or physical ADL, BADL or PAD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：是指每日生活中与穿衣、进食、保持个人卫生等自理活动和坐、站、行走等身体活动有关的基本活动。无需利用工具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工具性日常生活活动能力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Instrumental ADL, IAD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：是指人们在社区中独立生活所需的关键性的较高级的技能，如家务杂事、炊事、采购、骑车或驾车、处理个人事务等，大多需借助工具进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78920" y="1413000"/>
            <a:ext cx="87138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范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日常生活能力包括  运动、自理、交流、家务活动及娱乐活动等。①运动方面有：床上运动、轮椅上运动和转移、室内或室外行走、公共或私人交通工具的使用。②自理方面有：更衣、进食、入厕、洗漱、修饰（梳头、刮脸、化妆）等。③交流方面有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: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打电话、阅读、书写、使用电脑、识别环境标志等。④家务劳动方面有：购物、备餐、洗衣、使用家具及环境控制器（电源开关、水龙头、钥匙等）。⑤娱乐活动有：打扑克、下棋、摄影、旅游、社交活动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标题 1"/>
          <p:cNvSpPr/>
          <p:nvPr/>
        </p:nvSpPr>
        <p:spPr>
          <a:xfrm>
            <a:off x="457200" y="339840"/>
            <a:ext cx="8229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一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)  ADL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78920" y="1699920"/>
            <a:ext cx="8713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定目的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了确定在日常生活活动方面是否能够独立及独立的程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②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拟定合适的治疗目标，确定适当的治疗方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③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价治疗效果，修正治疗方案或重新制订治疗方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④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比较治疗方案的优劣，促进训练成果的交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⑤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判断预后。增强患者和治疗师的信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标题 1"/>
          <p:cNvSpPr/>
          <p:nvPr/>
        </p:nvSpPr>
        <p:spPr>
          <a:xfrm>
            <a:off x="457200" y="339840"/>
            <a:ext cx="8229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一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)  ADL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2484360" y="2204640"/>
            <a:ext cx="417528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直接观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间接评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能力测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问卷调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评定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476000" y="2133720"/>
            <a:ext cx="6264360" cy="34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ac8de"/>
                </a:solidFill>
                <a:latin typeface="华文新魏"/>
                <a:ea typeface="华文新魏"/>
              </a:rPr>
              <a:t> 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Barthel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数评定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改良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Barthel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数评定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PULSES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IADL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定量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ADL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常用量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7:00:02Z</dcterms:modified>
  <cp:revision>1</cp:revision>
  <dc:subject/>
  <dc:title>  第三章  康复护理评价</dc:title>
</cp:coreProperties>
</file>