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80D1-72DC-48EB-BDD3-3C6FDFB641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6A60-026F-4C97-B585-51BF2F5D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3AE7-4301-4C12-9CD4-700A1C71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BC59-BDCF-4856-A757-DC699CF27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C6EC-9EF8-4507-8469-994372F8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F5ED-6A51-4EA0-8036-5A9A4E61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5C24-B893-48A7-9CB3-746CA46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DD21-0643-4028-A375-2D780BE9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0207-9BB3-4FC3-A846-7E396D4C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1E44-66A5-491B-ACB3-9B6B7D58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0351-B038-4A74-81D6-4A1C3090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8689-5D4A-40EC-B860-A24B0CC5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0B46-D2E6-4764-95E5-E662C626F2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八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心肺系统疾病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慢性阻塞性肺疾病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全身性症状  在疾病的临床过程中，特别在较重患者，可能会发生全身性症状，如体重下降、食欲减退、外周肌肉萎缩和功能障碍、精神抑郁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焦虑等。合并感染时可咳血痰或咯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6720" y="2420640"/>
            <a:ext cx="8407440" cy="33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有效呼吸降低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病理性呼吸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三）呼吸肌无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四）能耗增加和活动能力减退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lnSpc>
                <a:spcPts val="426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五）心理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4360" y="1197000"/>
            <a:ext cx="46940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二、主要功能障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运动障碍，有效通气能力降低，呼吸末残留气体增加，气体交换功能受阻；长期慢性炎症，呼吸道分泌物的排出不畅，加重换气障碍，使通气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血流比例失衡，常导致缺氧和二氧化碳潴留；持续缺氧，又引起血管痉挛，出现驼背、肋软骨钙化等体征，限制胸廓活动，导致肺功能进一步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一）有效呼吸降低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慢性支气管炎并发肺气肿时，肺通气功能明显降低，肺组织弹性日益减退，影响了呼吸过程中膈肌的上下移动，减少肺通气量；为了弥补呼吸量的不足，患者会加紧胸式呼吸，以增加频率来提高氧的摄入，甚至动用辅助呼吸肌（如三角肌、胸大肌、斜方肌等）即形成了病理性呼吸模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病理性呼吸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吸困难及病理式呼吸模式，导致活动量减少，有效呼吸降低，影响膈肌、肋间内肌、肋间外肌、胸大肌等呼吸极度正常运动，失代偿后出现呼吸肌无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呼吸肌无力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由于呼吸肌失代偿，许多非呼吸肌参与呼吸运动，同时气短、气促常使患者精神和颈背部乃至全身肌群紧张，使体能进一步消耗。此外，患者避免出现劳累性气短，限制自己的活动，甚至长期卧床，丧失了劳动能力和活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四）能耗增加和活动能力减退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因长期阻塞性肺病，有效通气功能下降，机体供氧不足，造成乏力、气短、萎靡、精神紧张，部分重度患者可出现喘息，影响休息和睡眠，使患者出现抑郁、焦虑、烦躁、易怒等心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五）心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3829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6720" y="2781000"/>
            <a:ext cx="840744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健康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询问患者的一般情况：姓名，性别，年龄，职业，工作环境和家族史过去病史等，是否患有慢性支气管炎、肺气肿、哮喘及病毒感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吸烟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最重要的致病因素，应询问吸烟史和吸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1341360"/>
            <a:ext cx="41767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三、康复护理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二）肺功能测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肺功能检查是判断气流受限的客观指标，其重复性好，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诊断、严重程度评价、疾病进展、预后及治疗反应等均有重要意义。吸入支气管舒张剂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FEV1/FVC%&lt;70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者，可确定为不能完全可逆的气流受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389640" y="4292640"/>
            <a:ext cx="2214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平板或功率自行车运动试验  通过平板或功率自行车试验测得最大摄氧量、最大心率、最大代谢当量值等相关量化指标来评价患者的运动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距离测定  对于不能进行上述运动试验的患者，可通过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或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的距离来判断其运动能力及运动中发生低氧血症的可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运动功能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629080" y="49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763640" y="5302080"/>
            <a:ext cx="719280" cy="665280"/>
          </a:xfrm>
          <a:prstGeom prst="hexagon">
            <a:avLst>
              <a:gd name="adj" fmla="val 27029"/>
              <a:gd name="vf" fmla="val 115470"/>
            </a:avLst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844720" y="58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虽存在不同程度的肺气肿，但活动如常人，对日常生活无影响，活动时无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一般劳动时出现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平地步行无气短，速度较快或登楼、上坡时，同龄健康人不觉气短而自已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慢走不及百步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讲话或穿衣等轻微动作时即有气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：安静时出现气短、无法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） 日常生活活动能力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高危 有患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危险因素（吸烟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职业性粉尘和化学物质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感染等）肺功能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正常范围，有慢性咳嗽，咳痰的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轻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中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嗽咳痰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重度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≤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有或无慢性咳痰咳嗽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级：极重度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/FVC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7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V</a:t>
            </a:r>
            <a:r>
              <a:rPr b="1" lang="en-US" sz="2400" spc="-1" strike="noStrike" baseline="-25000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0%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预计值，伴有慢性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48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COP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严重程度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以长期患病可能会产生焦虑、抑郁的心理障碍，对呼吸困难有恐惧心理，甚至会影响患者的心情、性格、生活方式、社交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心理社会评估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435640" y="3718080"/>
            <a:ext cx="3168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63280" y="2205000"/>
            <a:ext cx="54882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放松技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三）清除气道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四）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五）改善饮食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0360" y="1485720"/>
            <a:ext cx="4276800" cy="69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四、康复护理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由于气促常处于比较紧张的状态，同时，由于呼吸肌力减弱，呼吸时常过度使用颈肩和上胸部肌肉进行代偿，这些肌肉对改善肺通气帮助很小，却使呼吸做功明显加大，从而导致呼吸运动本身需氧量增加，使呼吸困难进一步加重。所以，在开始进行呼吸训练之前，缓解肌肉的紧张是先决条件。放松训练是缓解肌肉紧张的有效方法。常用抗阻等长收缩法、音乐疗法、生物反馈疗法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放松技术</a:t>
            </a: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  原理：口唇缩小呈口哨状，尽量将气呼出，同时口腔压力增加，传至末梢气道，避免小气道过早关闭，以改善肺泡有效通气量。缩唇呼吸要点：取舒适的体位；先放松，以鼻吸气；口唇缩成口哨状；将气从口呼出；呼气时腹部内陷、胸部前倾 ；吸气与呼气时间比例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；呼出的气体以能吹动眼前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处的蜡烛而不使火焰熄灭为宜；每天练习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~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；每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~2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分钟；每分钟缩唇呼吸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~8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次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呼吸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784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式呼吸  原理：增加膈肌和腹肌的活动，有助于降低呼吸频率，增加潮气量、肺泡通气量、减少功能残气量，并增加咳嗽、咳痰的能力，缓解呼吸困难症状，改善换气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腹式呼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rcRect l="0" t="7714" r="0" b="5578"/>
          <a:stretch/>
        </p:blipFill>
        <p:spPr>
          <a:xfrm>
            <a:off x="0" y="1687680"/>
            <a:ext cx="4819680" cy="374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rcRect l="0" t="10574" r="44432" b="0"/>
          <a:stretch/>
        </p:blipFill>
        <p:spPr>
          <a:xfrm>
            <a:off x="4935600" y="1700280"/>
            <a:ext cx="42051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900000" y="1773000"/>
            <a:ext cx="743112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控制性咳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哈咳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叩击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ercussion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震颤法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vibration 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 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体位引流（</a:t>
            </a:r>
            <a:r>
              <a:rPr b="0" lang="en-US" sz="2800" spc="-1" strike="noStrike">
                <a:solidFill>
                  <a:srgbClr val="1d1496"/>
                </a:solidFill>
                <a:latin typeface="Arial"/>
              </a:rPr>
              <a:t>postural drainage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65040" algn="ctr">
              <a:lnSpc>
                <a:spcPts val="4062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躯干活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清除气道分泌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F4EA-06AD-421B-A70D-664DB3FDF1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及冠心病康复的定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冠心病的常见类型及主要功能障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不同类型冠心病的典型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评估冠心病患者主要功能障碍并为其制订康复护理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咳嗽是呼吸系统的防御性反应，它可因气道受到刺激引起反射性咳嗽，也可在主观控制下产生自主性咳嗽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学会控制性咳嗽，避免持续性反射性咳嗽，后者可使胸腔内压力过度增高，给患者带来危险。咳嗽只能将支气管第６～７级内的分泌物向近端移动，更远端部位的分泌物要靠其他技术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控制性咳嗽 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声门打开的咳嗽，方法是咳嗽时发“哈”音。哈气技术可以将远端气道内的分泌物移向近端，且由于哈气时胸腔内压力较咳嗽时低，所以比较安全。在膈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缩唇呼吸中间间断进行哈气或咳嗽是常用的排痰技术。当过多的分泌物在气道的远端，咳嗽和哈气无效时，应采用叩击法、震颤法和体位引流等其他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哈咳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叩击产生的机械震动波，通过胸璧传递至气道，使其内部的分泌物松动而易于排出。将双手拇指与其余四指内收并对握成杯口状，在需要治疗的肺部所对应的胸壁上，进行有节奏的叩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59198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叩击法（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ercuss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02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呼气时，治疗师通过在患者胸璧上加压并震颤，使气道内浓稠的分泌物松动，并从远端向近端移动。嘱患者深吸一口气，在吸气末，治疗师开始震颤并加压，此震力一直持续到呼气结束。操作时，治疗师的双手可置于患者胸壁两侧，或置于胸壁一侧，或双手重叠置于一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震颤法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vibration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r>
              <a:rPr b="0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将支气管置于某种位置，通过重力的作用使肺部某一特定部位的分泌物易于排出。 根据支气管的走行和分泌物所在的不同肺叶，选择恰当的引流体位。为加强疗效，体位引流同时，常配合叩击法和摇震法。患者体位的选择，还应根据病情而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8720" y="333360"/>
            <a:ext cx="83678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位引流（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postural drainage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3480" y="1268280"/>
            <a:ext cx="907236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38240" y="2349360"/>
            <a:ext cx="89755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861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通过颈、肩、胸壁、脊柱、肢体等主要部位的主动活动，增加增加增加增加关节活动度，促进肌肉放松，提高胸壁及整个躯体的柔韧性。躯干活动常与呼吸运动相结合，以强化呼吸运动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躯干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403280" y="3573360"/>
            <a:ext cx="657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FEF8-08E8-4A48-B4D0-913F2DBDDB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步行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采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行走试验，即受试者在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钟内做最大努力，平地行走的最长距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训练 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上楼梯运动配合呼吸训练，先用鼻吸气，然后缩小口唇呼气，每登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级台阶呼吸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肌肉放松锻炼   患者可舒适地平卧在床上或坐在椅子上，也可取立位，使所有肌肉尽可能放松，缓慢地吸气，缩小口形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运动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76FF-3EA5-48C3-A455-ACAC83DE69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一）定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慢性阻塞性肺疾病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hronic obstructive pulmonary disease, 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简称慢阻肺。是以持久性气道阻塞为特征，气流受限不完全可抑制，病情呈进行性发展，与肺部有害气体或有害颗粒的异常炎症反应有关。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主要累及肺，但也可引起全身（或称肺外）的不良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34160" y="355320"/>
            <a:ext cx="202896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5%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体重指数下降，而体重指数下降是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死亡的独立危险因素。饮食上首先要改变患者的饮食习惯，主要是高热量、高蛋白，少量多餐。 以及指导患者如何摄取维生素和矿物质，如何正确饮水等。患者每天消耗热量是休息时能量消耗的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倍，其中蛋白质摄入应大于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7g/(kg·d)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五）改善饮食结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20210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6360" y="213372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慢性阻塞性肺疾病的预防主要是避免发病的高危因素、急性加重的诱发因素以及增强肌体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戒烟是预防慢阻肺的重要措施，也是最简单易行的措施，在疾病的任何阶段戒烟都有益于防止该病的发生和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18920" y="1341360"/>
            <a:ext cx="455148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五、康复护理指导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6300720" y="4365720"/>
            <a:ext cx="21146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控制职业和环境污染，减少有害气体或有害因子的吸入，可减轻气道和肺的炎症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积极防治婴幼儿和儿童期的呼吸系统感染，减少对呼吸系统的不良刺激，可能有助于减少以后该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083280" y="4076640"/>
            <a:ext cx="24861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5280" y="141264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在流感季节到来之前注射流感疫苗、肺炎链球菌疫苗等，积极防治呼吸道反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加强体育锻炼，提高机体免疫力，增强体质，合理营养，改善机体一般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．对于有慢性阻塞性肺疾病高危因素的人群，应定期进行肺功能监测，以尽可能早期发现慢性阻塞性肺疾病并及时予以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7569360" y="4292640"/>
            <a:ext cx="13903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6181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（二）发病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引起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的危险因素包括个体易感因素以及环境因素两个方面，两者相互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个体因素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9040" y="1268280"/>
            <a:ext cx="8407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吸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职业性粉尘和化学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空气污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4" marL="10508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）社会经济地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6443640" y="4240080"/>
            <a:ext cx="2286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早期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慢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咳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气短或呼吸困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593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Arial"/>
              </a:rPr>
              <a:t>）喘息和胸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08720" y="357120"/>
            <a:ext cx="32544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292720" y="4560840"/>
            <a:ext cx="34765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晚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自发性气胸：如有突然加重的呼吸困难，并伴有明显的发绀，患侧肺部叩诊为鼓音，听诊呼吸音减弱或消失，应考虑并发自发性气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呼吸衰竭：常在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急性加重时发生，其症状明显加重，发生低氧血症和或高碳酸血症，可具有缺氧和二氧化碳潴留的临床表现，往往呼吸功能严重受损，在某些诱因如呼吸道感染、分泌物干结潴留，通气和换气功能障碍进一步加重，可诱发呼吸衰竭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）慢性肺源性心脏病和右心衰竭：由于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COPD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</a:rPr>
              <a:t>肺病变引起肺血管床减少及缺氧致肺动脉痉挛、血管重塑，导致肺动脉高压、右心室肥厚扩大，心脏负荷加重，加上心肌缺氧和代谢障碍等因素，最终发生右心功能不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6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10:30:23Z</dcterms:modified>
  <cp:revision>1</cp:revision>
  <dc:subject/>
  <dc:title>        第八章  心肺系统疾病的康复护理</dc:title>
</cp:coreProperties>
</file>