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0992-6B29-4A74-99B0-4AE00EABF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D394-2408-480A-9131-0F4865FB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BA27-C8C0-4F82-A38A-A1E98641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CF75-993B-43C7-A387-121D8FC85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5932-7C1F-4CEC-836D-A29D6567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165F-1F98-431B-97D4-A90975CB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AA9E-45FD-4E80-8302-357E281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2C26-FB6F-40C6-8427-1950F98B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D5A5-D7ED-4398-8237-399DA1E5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87AD-8D84-4555-B8AE-D52C7C39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6C44D-F257-4822-BC1D-530587D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BF47-1371-432C-9577-F26611F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9F1A-457E-4817-B219-B959F8B265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第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六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节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心理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</a:rPr>
              <a:t>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262160" y="1054080"/>
          <a:ext cx="5902200" cy="5529240"/>
        </p:xfrm>
        <a:graphic>
          <a:graphicData uri="http://schemas.openxmlformats.org/drawingml/2006/table">
            <a:tbl>
              <a:tblPr/>
              <a:tblGrid>
                <a:gridCol w="3095640"/>
                <a:gridCol w="2806560"/>
              </a:tblGrid>
              <a:tr h="15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测试名称和内容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所测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言语测试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知识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每一正确记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包括历史、地理、天文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知识广度和远事记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领悟：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题目，根据回答的概括水平和质量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分涉及社会风俗、价值观、成语等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社会适应能力，尤其是对伦理道德的判断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算术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道算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题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正确算出加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对数的概念和操作（加、减、乘、除）能力及心算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相似性：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项目，根据回答的概括水平计分，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种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抽象和概括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广度：要求顺背和倒背数字，顺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倒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，均以成功背出的最高位数计分，如成功背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位数则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顺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背最高为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瞬时记忆或短时记忆和注意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词汇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词，要求被测试者按主试者所读词，在词表上指出相对应的词并解释相应词义，如粮食、疲劳，按回答质量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词语理解和表达词意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操作测验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符号：与符号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数字模式测验相似，要求被测试者根据数字填充相应符号，观察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能填符号的多少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倒转符合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开始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练习的样题不计时、不计分。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学习和书写速度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画填充：共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，每张所画的东西均缺一重要部位，要求找出缺失的是什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记忆和视觉空间的理解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木块图：要求患者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块红白两色的立方体积木块摆出样本图案，正确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图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提前完成可加分，最高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视觉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空间的分析和视觉综合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片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排列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：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，每套由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张图片组成。将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图片打乱顺序，要求被试者排出正确顺序，并能说明一个故事，每套在规定时间正确完成计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从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套起，提前完成有奖励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处理局部和整体关系的能力、思维灵活性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图形拼凑：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将物体碎片还原。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由不同复杂程度和难度的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个图片碎片组成。迅速将其呈现给被测试者，要求组成完整的实物图片。人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状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及侧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人头像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求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型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大象图形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要在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s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内完成，分别可得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和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，提前完成可加分，最高</a:t>
                      </a:r>
                      <a:r>
                        <a:rPr b="0" lang="en-US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44</a:t>
                      </a: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分。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手眼协调能力、想象力及抓住事物线索的能力</a:t>
                      </a:r>
                      <a:endParaRPr b="0" lang="en-US" sz="9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03"/>
          <p:cNvSpPr/>
          <p:nvPr/>
        </p:nvSpPr>
        <p:spPr>
          <a:xfrm>
            <a:off x="42130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韦氏成人智力量表（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Wechsler Adult Intelligence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WAIS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6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61048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是指人对客观事物是否符合人的需要产生的一种反应。情绪状态有积极与消极之分。临床上常出现的消极情绪是焦虑和抑郁。焦虑是指对刺激产生严重的、不适当的、长时间的焦急、恐惧和忧虑反映的情绪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392480" y="1197000"/>
            <a:ext cx="17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. 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情绪测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焦虑评定量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汉密顿焦虑评定量表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ilton anxiety scale, HAMA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：英国学者汉密尔顿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59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编制的一种医生常用的焦虑测验量表，是他评量表。目前在我国常用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HAMA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由汤毓华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98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年翻译引进的。该量表能很好地衡量治疗效果，一致性好，长度适中、简便易行，用于测量患者的焦虑程度及焦虑症。该量表共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项目，分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~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级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无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轻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中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重度焦虑，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分极重度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193080" cy="5399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00516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汉密顿焦虑评定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9" descr=""/>
          <p:cNvPicPr/>
          <p:nvPr/>
        </p:nvPicPr>
        <p:blipFill>
          <a:blip r:embed="rId1"/>
          <a:stretch/>
        </p:blipFill>
        <p:spPr>
          <a:xfrm>
            <a:off x="396720" y="1044720"/>
            <a:ext cx="8315640" cy="5734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708360" y="333360"/>
            <a:ext cx="507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抑郁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depression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D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0" descr=""/>
          <p:cNvPicPr/>
          <p:nvPr/>
        </p:nvPicPr>
        <p:blipFill>
          <a:blip r:embed="rId1"/>
          <a:stretch/>
        </p:blipFill>
        <p:spPr>
          <a:xfrm>
            <a:off x="468360" y="1054080"/>
            <a:ext cx="7632720" cy="5734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917800" y="404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焦虑自评量表（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Zung self-rating anxiety scale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SA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0" descr=""/>
          <p:cNvPicPr/>
          <p:nvPr/>
        </p:nvPicPr>
        <p:blipFill>
          <a:blip r:embed="rId1"/>
          <a:stretch/>
        </p:blipFill>
        <p:spPr>
          <a:xfrm>
            <a:off x="1187280" y="1270080"/>
            <a:ext cx="583272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1915920"/>
            <a:ext cx="740736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3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人格又称个性，指个体在适应社会的成长过程中，经环境和遗传的交互作用形成的稳定而独特的心理特征。包括性格、气质、能力等。人格测验是对人格特点的描述和揭示，即测量个体在一定情境下经常表现出来的典型行为和情感反应，通常包括气质或性格类型的特点、人际关系、情绪状态、动机、兴趣和态度等内容。目前采用的人格测验方法有多种，最常用的为投射法和问卷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常用的人格自陈量表有明尼苏达多项人格调查、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等，常用的投射法测验有罗夏墨迹测验和文字联想测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艾森克人格问卷（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国际公认的、也是临床上常用的人格测验工具，分为成人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6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以上成人）和儿童版（适用于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5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岁儿童）。在我国修订的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EPQ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中有</a:t>
            </a:r>
            <a:r>
              <a:rPr b="1" lang="en-US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88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个问题，被试者根据自己看完问题后的最初想法回答“是”或“否”，然后由评定者对其分别评分，再根据受试者的年龄、性别，诊断出其人格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艾森克人格问卷（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Q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12720" y="1341360"/>
            <a:ext cx="7732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A4C-EC8E-4041-A44A-B5EB37B72E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陈述心理评定的定义及目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．列举心理评定的常用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心理评定的临床表现及评价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心理评价方法为心理障碍的患者进行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557360"/>
            <a:ext cx="8280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一</a:t>
            </a:r>
            <a:r>
              <a:rPr b="1" lang="en-US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心理评定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psychological assessment)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是指利用心理测验、观察、描述、调查、评定等，对人的各种心理特征进行量化概括和推断，做出综合判断的过程。无论急、慢性疾病患者，还是躯体残疾患者，都有不同程度的心理问题，严重影响患者的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984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26560" y="220464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通过评估单独或协助做出心理或医学诊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②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指导制订心理障碍或医学疾病的防治措施，估计心理障碍或医学疾病预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③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判断心理咨询和心理治疗效果的指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④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为司法鉴定的提供必要的依据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⑤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预测个体未来成就，并作为人力资源部门选拔人才的方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⑥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作为医护心理学研究的一种重要手段和方法</a:t>
            </a:r>
            <a:r>
              <a:rPr b="1" lang="zh-CN" sz="2800" spc="-1" strike="noStrike">
                <a:solidFill>
                  <a:srgbClr val="8ac8de"/>
                </a:solidFill>
                <a:latin typeface="华文新魏"/>
                <a:ea typeface="华文新魏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11970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二）目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6360" y="1844280"/>
            <a:ext cx="7991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在康复评定中心理评定占有重要地位。它是对个体某一心理行为所作全面、系统和深入的客观评定与估测。与临床医生和护士根据患者症状、体征和辅助检查结果对患者所作的临床护理诊断相类似，心理评估对于心理咨询和心理治疗的效果具有决定性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6920" y="1413000"/>
            <a:ext cx="6140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常用的心理测验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人格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华文新魏"/>
              </a:rPr>
              <a:t>情绪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也称智能，是指人认识、理解客观事物并运用知识、经验等解决问题的能力。如观察力、理解力、思维能力、记忆力等。智力测验（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一种重要的心理测验技术，是通过测验的方式衡量个体智力水平高低的一种科学方法。它不仅能对人的智力水平的高低做出评估，同时在某种程度上反映与患者有关的其他精神病理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44360" y="1773360"/>
            <a:ext cx="740700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智力测验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intelligence test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韦克斯勒智力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斯坦福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比内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贝利婴儿发展量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4428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常用心理测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5:56Z</dcterms:modified>
  <cp:revision>1</cp:revision>
  <dc:subject/>
  <dc:title>  第三章  康复护理评价</dc:title>
</cp:coreProperties>
</file>