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586C6-212D-4407-83E2-7C5FB705A0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085AA-1276-4E3C-B806-65F59CB29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51275-20B0-4B0F-8654-CA21AE34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A8AF8-3372-4710-B7FE-6E9BD54079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F0327-624C-4AA9-A598-E92E4DD8B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64A3-A9D5-4911-A1EB-D27509D98A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456E-F32F-4C95-910A-83761CB79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628B-A661-4CC5-978F-9B4A95447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B8E2-1AD3-45CC-9869-55BE68420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A8ED-547F-4A9C-AF52-2C5C89098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461C8-DE99-4828-84EB-CA2F278A2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4D56-B1DB-4E07-99D4-4339BDC27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93B4-92AD-4413-9E4D-DBF1068E2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D3B5-7AEF-409D-847D-F967159B6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AAFA-E893-4723-AC15-81E9A2E43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B35D-E5CE-4F3B-AE0B-BC2954AB8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6C85-CB92-4F8E-ABAA-AB475337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C95A-F5C8-4BE1-9C86-C4F93DEA05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ECFF6E-7303-4E12-A087-0586F485A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CB2954-996E-4FF0-A60B-E85048626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FAEBBB-350B-448D-A0EC-204AC9F19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F3E7E-E9F0-43D1-BCDE-3C35ED724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FFBFCF-55CE-48A0-8128-3DE5700DD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A64967-0F15-4BF9-8627-51BE70ED4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A8D035-8666-49BD-8622-2CBF228FA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698977-7258-4C46-9297-8442C921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F0C1A9-7182-4E18-966A-3BD7BC2F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0EE1B0-95DA-4E13-8F05-CED4BC70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5B8113-22CF-497A-B150-46849FA6C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C4A321-3CA4-436B-A53F-ACC49F7DD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A9CF4D-2572-4582-AC1D-26932936B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066235-9E28-4617-A0D9-689326831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4E810-163C-4FEF-9E13-908832919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4A69FC-6155-4B89-936F-9FF87152B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01AF90-63FC-43B2-94B5-86742BAB5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5D61BD-0DAF-400F-8C2A-01A8B2A88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E39C30-7F10-456D-8544-7B7FEFA4C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CEDF38-AFF9-4DDA-A645-EB56E6FBA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CE7ABD-015B-4F80-9B19-82503D63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B0ED4E-915F-4550-B677-32D26099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09765B-5AB0-4B1B-9C2C-B6BCCCAC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E61670-C866-44DF-A8A4-2F2B9750C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7F5298-EFDE-443C-9EE3-E24BA22E9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567BF-EFFC-450B-A8DC-951F3A593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880F91-A14E-4201-AC54-60599AAAA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423E3-DE2B-4F70-9F5F-482C85667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BF447-192C-4AD4-97DD-A101B0707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A5C71-DF9D-4281-91D5-50EDD2D72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D1771-3853-4EDD-977A-B14F93F7D0B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42840" y="0"/>
            <a:ext cx="9144000" cy="2089080"/>
            <a:chOff x="4284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71280" y="0"/>
              <a:ext cx="9115560" cy="1790640"/>
              <a:chOff x="7128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7128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7128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4284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8160" y="2491920"/>
            <a:ext cx="8077320" cy="22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21A2F-1035-4376-B335-24E282F4651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4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540FB-4BEB-46C1-BE43-C2919458FA8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5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27750-D11F-432F-8D27-18532367B47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8B6BE-3B12-480F-9778-5E7A73EC43AA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-1746360" y="1773360"/>
            <a:ext cx="8496360" cy="30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  </a:t>
            </a: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性瘫痪</a:t>
            </a:r>
            <a:r>
              <a:rPr b="0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br>
              <a:rPr sz="6600"/>
            </a:b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1"/>
          <p:cNvSpPr/>
          <p:nvPr/>
        </p:nvSpPr>
        <p:spPr>
          <a:xfrm>
            <a:off x="808200" y="1197000"/>
            <a:ext cx="7057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楷体"/>
                <a:ea typeface="华文楷体"/>
              </a:rPr>
              <a:t>案例</a:t>
            </a:r>
            <a:r>
              <a:rPr b="1" lang="en-US" sz="2800" spc="-1" strike="noStrike">
                <a:solidFill>
                  <a:srgbClr val="c00000"/>
                </a:solidFill>
                <a:latin typeface="华文楷体"/>
                <a:ea typeface="华文楷体"/>
              </a:rPr>
              <a:t>6-3 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患儿，男，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岁，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32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周出生，生后出现黄疸，持续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17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天。现运动发育落后，竖颈（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），翻身（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），角弓反张；原始反射残存非对称性颈紧张反射（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），侧弯反射（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）；流涎，吞咽及咀嚼困难，发音障碍；睡眠不佳，便秘。患儿自</a:t>
            </a:r>
            <a:r>
              <a:rPr b="1" lang="en-US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岁半开始出现癫痫发作，脑电图检查示：双侧对称同步尖慢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楷体"/>
                <a:ea typeface="华文楷体"/>
              </a:rPr>
              <a:t>问题与思考</a:t>
            </a: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：该患儿存在哪些功能障碍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571680" y="571680"/>
            <a:ext cx="600048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二、主要功能障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680" y="571680"/>
            <a:ext cx="600048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826920" y="1700280"/>
            <a:ext cx="7632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900000" y="2205000"/>
            <a:ext cx="7491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4598"/>
              </a:lnSpc>
              <a:spcBef>
                <a:spcPts val="90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中枢性运动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5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5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598"/>
              </a:lnSpc>
              <a:spcBef>
                <a:spcPts val="90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伴随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5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AutoShape 6"/>
          <p:cNvSpPr/>
          <p:nvPr/>
        </p:nvSpPr>
        <p:spPr>
          <a:xfrm>
            <a:off x="4748040" y="1484280"/>
            <a:ext cx="4381560" cy="2651040"/>
          </a:xfrm>
          <a:prstGeom prst="wedgeRectCallout">
            <a:avLst>
              <a:gd name="adj1" fmla="val -55208"/>
              <a:gd name="adj2" fmla="val 171"/>
            </a:avLst>
          </a:prstGeom>
          <a:solidFill>
            <a:srgbClr val="cfea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痉挛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偏瘫、双瘫、四肢瘫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不随意运动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自主无意识运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共济失调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平衡障碍，肌张力低下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强直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扭转痉挛或强直，常伴智力低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肌张力低下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肌张力低下为显著特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9b"/>
                </a:solidFill>
                <a:latin typeface="华文新魏"/>
                <a:ea typeface="华文新魏"/>
              </a:rPr>
              <a:t>混合型：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两种或两种症状同时存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AutoShape 7"/>
          <p:cNvSpPr/>
          <p:nvPr/>
        </p:nvSpPr>
        <p:spPr>
          <a:xfrm>
            <a:off x="3924360" y="4365720"/>
            <a:ext cx="3240000" cy="1366920"/>
          </a:xfrm>
          <a:prstGeom prst="wedgeRectCallout">
            <a:avLst>
              <a:gd name="adj1" fmla="val -62087"/>
              <a:gd name="adj2" fmla="val -33245"/>
            </a:avLst>
          </a:prstGeom>
          <a:solidFill>
            <a:srgbClr val="cfea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华文新魏"/>
              </a:rPr>
              <a:t>语言、听觉、视觉、行为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华文新魏"/>
              </a:rPr>
              <a:t>癫痫、智能、情绪问题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华文新魏"/>
              </a:rPr>
              <a:t>其他感觉和认知功能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矩形 1"/>
          <p:cNvSpPr/>
          <p:nvPr/>
        </p:nvSpPr>
        <p:spPr>
          <a:xfrm>
            <a:off x="468360" y="1197000"/>
            <a:ext cx="828036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楷体"/>
                <a:ea typeface="楷体"/>
              </a:rPr>
              <a:t>知识链接</a:t>
            </a:r>
            <a:r>
              <a:rPr b="1" lang="en-US" sz="2800" spc="-1" strike="noStrike">
                <a:solidFill>
                  <a:srgbClr val="03517d"/>
                </a:solidFill>
                <a:latin typeface="楷体"/>
                <a:ea typeface="楷体"/>
              </a:rPr>
              <a:t>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         </a:t>
            </a:r>
            <a:r>
              <a:rPr b="1" lang="zh-CN" sz="3600" spc="-1" strike="noStrike">
                <a:solidFill>
                  <a:srgbClr val="c00000"/>
                </a:solidFill>
                <a:latin typeface="楷体"/>
                <a:ea typeface="楷体"/>
              </a:rPr>
              <a:t>非对称性紧张性颈反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非对称性紧张性颈反射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(asymmetrical tonic neck reflex, ATNR)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：小儿仰卧，头居中，四肢伸展位，当旋转头部时，阳性表现为颜面侧上、下肢伸肌张力增高成伸展位，后头侧屈肌张力增强，上、下肢屈曲。正常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～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4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月消失，持续阳性阻碍小儿头和四肢运动发育。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ATNR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在新生儿出生后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周左右出现，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～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个月呈优势，以后受上位中枢的控制而逐渐消失，若生后</a:t>
            </a:r>
            <a:r>
              <a:rPr b="1" lang="en-US" sz="2800" spc="-1" strike="noStrike">
                <a:solidFill>
                  <a:srgbClr val="692aa2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692aa2"/>
                </a:solidFill>
                <a:latin typeface="楷体"/>
                <a:ea typeface="楷体"/>
              </a:rPr>
              <a:t>个月仍然持续存在则为异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71320" y="571680"/>
            <a:ext cx="702468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3" name="灯片编号占位符 5"/>
          <p:cNvSpPr/>
          <p:nvPr/>
        </p:nvSpPr>
        <p:spPr>
          <a:xfrm>
            <a:off x="6588000" y="638172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59810-4133-4D67-80BD-9B6E23592EF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826920" y="1700280"/>
            <a:ext cx="7632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1116000" y="1628640"/>
            <a:ext cx="7491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痉挛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随意运动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共济失调型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强直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肌张力低下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混合型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6"/>
          <p:cNvSpPr/>
          <p:nvPr/>
        </p:nvSpPr>
        <p:spPr>
          <a:xfrm>
            <a:off x="4159080" y="1136520"/>
            <a:ext cx="4896000" cy="1351080"/>
          </a:xfrm>
          <a:prstGeom prst="wedgeRectCallout">
            <a:avLst>
              <a:gd name="adj1" fmla="val -75064"/>
              <a:gd name="adj2" fmla="val 14097"/>
            </a:avLst>
          </a:prstGeom>
          <a:solidFill>
            <a:srgbClr val="ccf4f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肌张力高、僵硬、强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仰卧位时，呈上肢屈曲、下肢伸展痉挛。患儿俯卧位时</a:t>
            </a:r>
            <a:r>
              <a:rPr b="1" lang="en-US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.</a:t>
            </a:r>
            <a:r>
              <a:rPr b="1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竖颈困难，四肢屈曲模式</a:t>
            </a:r>
            <a:r>
              <a:rPr b="0" lang="zh-CN" sz="1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AutoShape 7"/>
          <p:cNvSpPr/>
          <p:nvPr/>
        </p:nvSpPr>
        <p:spPr>
          <a:xfrm>
            <a:off x="4699080" y="2492280"/>
            <a:ext cx="3959280" cy="935280"/>
          </a:xfrm>
          <a:prstGeom prst="wedgeRectCallout">
            <a:avLst>
              <a:gd name="adj1" fmla="val -67041"/>
              <a:gd name="adj2" fmla="val -17740"/>
            </a:avLst>
          </a:prstGeom>
          <a:solidFill>
            <a:srgbClr val="d4c3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197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流涎、咀嚼吞咽困难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197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非对称性紧张性颈反射姿势多见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AutoShape 8"/>
          <p:cNvSpPr/>
          <p:nvPr/>
        </p:nvSpPr>
        <p:spPr>
          <a:xfrm>
            <a:off x="5132520" y="3494160"/>
            <a:ext cx="3092400" cy="934920"/>
          </a:xfrm>
          <a:prstGeom prst="wedgeRectCallout">
            <a:avLst>
              <a:gd name="adj1" fmla="val -98518"/>
              <a:gd name="adj2" fmla="val -70254"/>
            </a:avLst>
          </a:prstGeom>
          <a:solidFill>
            <a:srgbClr val="f8c4f1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197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无痉挛，病理反射阳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197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伴有眼球震颤、言语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AutoShape 9"/>
          <p:cNvSpPr/>
          <p:nvPr/>
        </p:nvSpPr>
        <p:spPr>
          <a:xfrm>
            <a:off x="5167440" y="4462560"/>
            <a:ext cx="3887640" cy="1655640"/>
          </a:xfrm>
          <a:prstGeom prst="wedgeRectCallout">
            <a:avLst>
              <a:gd name="adj1" fmla="val -109495"/>
              <a:gd name="adj2" fmla="val -77625"/>
            </a:avLst>
          </a:prstGeom>
          <a:solidFill>
            <a:srgbClr val="f2e09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全身肌张力增加，呈强直状，肢体僵直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运动严重障碍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常伴有角弓反张，智力低下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AutoShape 10"/>
          <p:cNvSpPr/>
          <p:nvPr/>
        </p:nvSpPr>
        <p:spPr>
          <a:xfrm>
            <a:off x="3968640" y="6164280"/>
            <a:ext cx="2979720" cy="431640"/>
          </a:xfrm>
          <a:prstGeom prst="wedgeRectCallout">
            <a:avLst>
              <a:gd name="adj1" fmla="val -69958"/>
              <a:gd name="adj2" fmla="val -367435"/>
            </a:avLst>
          </a:prstGeom>
          <a:solidFill>
            <a:srgbClr val="d2fed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抬头无力，坐或站立困难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AutoShape 11"/>
          <p:cNvSpPr/>
          <p:nvPr/>
        </p:nvSpPr>
        <p:spPr>
          <a:xfrm>
            <a:off x="395280" y="6118200"/>
            <a:ext cx="3276720" cy="527040"/>
          </a:xfrm>
          <a:prstGeom prst="wedgeRectCallout">
            <a:avLst>
              <a:gd name="adj1" fmla="val 5263"/>
              <a:gd name="adj2" fmla="val -164875"/>
            </a:avLst>
          </a:prstGeom>
          <a:solidFill>
            <a:srgbClr val="fff8c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可能以一种类型的表现为主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71320" y="571680"/>
            <a:ext cx="702468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二、主要功能障碍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3" name="灯片编号占位符 5"/>
          <p:cNvSpPr/>
          <p:nvPr/>
        </p:nvSpPr>
        <p:spPr>
          <a:xfrm>
            <a:off x="6588000" y="638172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FABC2-9814-4493-A2D9-21EDBC4D3D1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826920" y="1700280"/>
            <a:ext cx="7632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826920" y="1197000"/>
            <a:ext cx="7491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语言障碍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视觉障碍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智能障碍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听觉障碍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行为障碍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4499"/>
              </a:lnSpc>
              <a:spcBef>
                <a:spcPts val="75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华文新魏"/>
                <a:ea typeface="华文新魏"/>
              </a:rPr>
              <a:t>癫痫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AutoShape 6"/>
          <p:cNvSpPr/>
          <p:nvPr/>
        </p:nvSpPr>
        <p:spPr>
          <a:xfrm>
            <a:off x="3776760" y="1335240"/>
            <a:ext cx="4686120" cy="1055520"/>
          </a:xfrm>
          <a:prstGeom prst="wedgeRectCallout">
            <a:avLst>
              <a:gd name="adj1" fmla="val -67435"/>
              <a:gd name="adj2" fmla="val 36259"/>
            </a:avLst>
          </a:prstGeom>
          <a:solidFill>
            <a:srgbClr val="ccf4f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表现为语言发育迟缓，发音困难、构音不清，不能成句说话，不能正确表达，有的患儿完全失语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AutoShape 7"/>
          <p:cNvSpPr/>
          <p:nvPr/>
        </p:nvSpPr>
        <p:spPr>
          <a:xfrm>
            <a:off x="3789360" y="2386080"/>
            <a:ext cx="4680000" cy="900000"/>
          </a:xfrm>
          <a:prstGeom prst="wedgeRectCallout">
            <a:avLst>
              <a:gd name="adj1" fmla="val -69740"/>
              <a:gd name="adj2" fmla="val -3115"/>
            </a:avLst>
          </a:prstGeom>
          <a:solidFill>
            <a:srgbClr val="d4c3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华文新魏"/>
                <a:ea typeface="华文新魏"/>
              </a:rPr>
              <a:t>内、外斜视，视神经萎缩，动眼神经麻痹，眼球震颤，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近视、远视 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AutoShape 8"/>
          <p:cNvSpPr/>
          <p:nvPr/>
        </p:nvSpPr>
        <p:spPr>
          <a:xfrm>
            <a:off x="3780000" y="3308400"/>
            <a:ext cx="4679640" cy="647640"/>
          </a:xfrm>
          <a:prstGeom prst="wedgeRectCallout">
            <a:avLst>
              <a:gd name="adj1" fmla="val -69708"/>
              <a:gd name="adj2" fmla="val -15199"/>
            </a:avLst>
          </a:prstGeom>
          <a:solidFill>
            <a:srgbClr val="f8c4f1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197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智能低下 ，多动、情绪不稳、自闭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AutoShape 9"/>
          <p:cNvSpPr/>
          <p:nvPr/>
        </p:nvSpPr>
        <p:spPr>
          <a:xfrm>
            <a:off x="3789360" y="3973680"/>
            <a:ext cx="4680000" cy="576000"/>
          </a:xfrm>
          <a:prstGeom prst="wedgeRectCallout">
            <a:avLst>
              <a:gd name="adj1" fmla="val -68490"/>
              <a:gd name="adj2" fmla="val -10879"/>
            </a:avLst>
          </a:prstGeom>
          <a:solidFill>
            <a:srgbClr val="f2e09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Arial"/>
                <a:ea typeface="华文新魏"/>
              </a:rPr>
              <a:t>听力减退甚至丧失听力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10"/>
          <p:cNvSpPr/>
          <p:nvPr/>
        </p:nvSpPr>
        <p:spPr>
          <a:xfrm>
            <a:off x="3789360" y="4564080"/>
            <a:ext cx="4680000" cy="934920"/>
          </a:xfrm>
          <a:prstGeom prst="wedgeRectCallout">
            <a:avLst>
              <a:gd name="adj1" fmla="val -69231"/>
              <a:gd name="adj2" fmla="val -21476"/>
            </a:avLst>
          </a:prstGeom>
          <a:solidFill>
            <a:srgbClr val="d2fed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固执任性、情绪不稳定、注意力不集中有自残行为和暴力倾向 。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AutoShape 11"/>
          <p:cNvSpPr/>
          <p:nvPr/>
        </p:nvSpPr>
        <p:spPr>
          <a:xfrm>
            <a:off x="3780000" y="5499000"/>
            <a:ext cx="4679640" cy="1081080"/>
          </a:xfrm>
          <a:prstGeom prst="wedgeRectCallout">
            <a:avLst>
              <a:gd name="adj1" fmla="val -85106"/>
              <a:gd name="adj2" fmla="val -54990"/>
            </a:avLst>
          </a:prstGeom>
          <a:solidFill>
            <a:srgbClr val="fff8c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36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全身性阵挛发作、部分发作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6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继发性大发作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042920" y="2060280"/>
            <a:ext cx="7491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健康状态评估 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躯体功能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言语功能评估 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感知、认知功能评估 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491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ADL</a:t>
            </a: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心理社会及家庭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智能评估    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矩形 1"/>
          <p:cNvSpPr/>
          <p:nvPr/>
        </p:nvSpPr>
        <p:spPr>
          <a:xfrm>
            <a:off x="971640" y="1628640"/>
            <a:ext cx="777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"/>
                <a:ea typeface="楷体"/>
              </a:rPr>
              <a:t>案例</a:t>
            </a:r>
            <a:r>
              <a:rPr b="1" lang="en-US" sz="3200" spc="-1" strike="noStrike">
                <a:solidFill>
                  <a:srgbClr val="c00000"/>
                </a:solidFill>
                <a:latin typeface="楷体"/>
                <a:ea typeface="楷体"/>
              </a:rPr>
              <a:t>6-3 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  <a:ea typeface="楷体"/>
              </a:rPr>
              <a:t>该患儿口语不流利，流涎，智力落后，能简单回答问题，右侧眼球斜视，吞咽有呛咳，四肢肌张力高，行走呈剪刀步态，足跟不能着地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"/>
                <a:ea typeface="楷体"/>
              </a:rPr>
              <a:t>问题与思考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  <a:ea typeface="楷体"/>
              </a:rPr>
              <a:t>：为该患儿制订康复护理计划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1320" y="785520"/>
            <a:ext cx="832140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原则及目标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B635F-FBD5-45EC-8A55-40627A4B7A2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9280" y="2349000"/>
            <a:ext cx="820764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原则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早期干预，综合康复，正确指导，积极配合，持之以恒，预防继发残疾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71320" y="785520"/>
            <a:ext cx="832140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原则及目标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3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9291A-4B52-4602-9850-15A8565243D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39304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目标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  <a:ea typeface="华文新魏"/>
              </a:rPr>
              <a:t>短期：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①纠正异常姿势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　　②指导正确抱姿与喂养姿势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　　③无跌伤造成二次损伤 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  <a:ea typeface="华文新魏"/>
              </a:rPr>
              <a:t>长期：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①实现最佳功能和独立性；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②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最大限度恢复身体、心理、社会等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 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15360" indent="0">
              <a:lnSpc>
                <a:spcPts val="45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       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方面功能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2975F-DAF4-4D5E-8832-046FA8B1B9D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主要内容</a:t>
            </a:r>
            <a:endParaRPr b="1" lang="en-US" sz="48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58560" y="1844280"/>
            <a:ext cx="70311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概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主要功能障碍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措施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指导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71320" y="713880"/>
            <a:ext cx="7529400" cy="592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3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102CE-7F79-47C6-8DB1-F921FD90CD9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042920" y="2133720"/>
            <a:ext cx="702792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799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环境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宽敞、整洁、典雅、舒适、安全，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 algn="just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房间内设无障碍设施 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2"/>
          <p:cNvSpPr/>
          <p:nvPr/>
        </p:nvSpPr>
        <p:spPr>
          <a:xfrm>
            <a:off x="684360" y="1916280"/>
            <a:ext cx="7704000" cy="36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纠正异常姿势，改善躯体活动障碍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正确睡眠体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　　痉挛型采用侧卧，利于降低肌张力，促进动作对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　　重者取俯卧位，胸前放一低枕，使其双臂向前伸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　　当头能向前抬起或能转动时，可去掉枕头取俯卧位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720720" y="1432080"/>
            <a:ext cx="7704000" cy="40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纠正异常姿势，改善躯体活动障碍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正确的坐姿</a:t>
            </a:r>
            <a:r>
              <a:rPr b="0" lang="zh-CN" sz="18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r>
              <a:rPr b="1" lang="en-US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伸腿坐位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　　　　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r>
              <a:rPr b="1" lang="en-US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盘腿坐位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0" name="AutoShape 4"/>
          <p:cNvSpPr/>
          <p:nvPr/>
        </p:nvSpPr>
        <p:spPr>
          <a:xfrm>
            <a:off x="4194000" y="2143080"/>
            <a:ext cx="4321440" cy="2592360"/>
          </a:xfrm>
          <a:prstGeom prst="wedgeRectCallout">
            <a:avLst>
              <a:gd name="adj1" fmla="val -77810"/>
              <a:gd name="adj2" fmla="val 9092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AutoShape 5"/>
          <p:cNvSpPr/>
          <p:nvPr/>
        </p:nvSpPr>
        <p:spPr>
          <a:xfrm>
            <a:off x="4194000" y="4159080"/>
            <a:ext cx="4321440" cy="2521080"/>
          </a:xfrm>
          <a:prstGeom prst="wedgeRectCallout">
            <a:avLst>
              <a:gd name="adj1" fmla="val -78694"/>
              <a:gd name="adj2" fmla="val -4282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2" name="Picture 6" descr="图13-11-1 伸腿坐位"/>
          <p:cNvPicPr/>
          <p:nvPr/>
        </p:nvPicPr>
        <p:blipFill>
          <a:blip r:embed="rId1"/>
          <a:stretch/>
        </p:blipFill>
        <p:spPr>
          <a:xfrm>
            <a:off x="4267080" y="2214720"/>
            <a:ext cx="2105280" cy="2232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图13-11-2伸腿坐位"/>
          <p:cNvPicPr/>
          <p:nvPr/>
        </p:nvPicPr>
        <p:blipFill>
          <a:blip r:embed="rId2"/>
          <a:stretch/>
        </p:blipFill>
        <p:spPr>
          <a:xfrm>
            <a:off x="6427800" y="2286000"/>
            <a:ext cx="2019240" cy="21607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图13-12-1 盘坐位"/>
          <p:cNvPicPr/>
          <p:nvPr/>
        </p:nvPicPr>
        <p:blipFill>
          <a:blip r:embed="rId3"/>
          <a:stretch/>
        </p:blipFill>
        <p:spPr>
          <a:xfrm>
            <a:off x="4338720" y="4446720"/>
            <a:ext cx="2057400" cy="20286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9" descr="图13-12-2 盘坐位"/>
          <p:cNvPicPr/>
          <p:nvPr/>
        </p:nvPicPr>
        <p:blipFill>
          <a:blip r:embed="rId4"/>
          <a:stretch/>
        </p:blipFill>
        <p:spPr>
          <a:xfrm>
            <a:off x="6427800" y="4375080"/>
            <a:ext cx="19429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2"/>
          <p:cNvSpPr/>
          <p:nvPr/>
        </p:nvSpPr>
        <p:spPr>
          <a:xfrm>
            <a:off x="595440" y="1413000"/>
            <a:ext cx="770400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纠正异常姿势，改善躯体活动障碍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正确的抱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grpSp>
        <p:nvGrpSpPr>
          <p:cNvPr id="348" name="组合 15"/>
          <p:cNvGrpSpPr/>
          <p:nvPr/>
        </p:nvGrpSpPr>
        <p:grpSpPr>
          <a:xfrm>
            <a:off x="3564000" y="2276640"/>
            <a:ext cx="5075280" cy="4349520"/>
            <a:chOff x="3564000" y="2276640"/>
            <a:chExt cx="5075280" cy="4349520"/>
          </a:xfrm>
        </p:grpSpPr>
        <p:sp>
          <p:nvSpPr>
            <p:cNvPr id="349" name="AutoShape 4"/>
            <p:cNvSpPr/>
            <p:nvPr/>
          </p:nvSpPr>
          <p:spPr>
            <a:xfrm>
              <a:off x="3564000" y="2276640"/>
              <a:ext cx="5075280" cy="4349520"/>
            </a:xfrm>
            <a:prstGeom prst="wedgeRectCallout">
              <a:avLst>
                <a:gd name="adj1" fmla="val -23046"/>
                <a:gd name="adj2" fmla="val 5046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华文新魏"/>
                </a:rPr>
                <a:t>痉挛型角弓反张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50" name="Picture 5" descr="图13-23-1 痉挛型抱姿"/>
            <p:cNvPicPr/>
            <p:nvPr/>
          </p:nvPicPr>
          <p:blipFill>
            <a:blip r:embed="rId1"/>
            <a:stretch/>
          </p:blipFill>
          <p:spPr>
            <a:xfrm>
              <a:off x="4410360" y="2956680"/>
              <a:ext cx="3669480" cy="327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组合 6"/>
          <p:cNvGrpSpPr/>
          <p:nvPr/>
        </p:nvGrpSpPr>
        <p:grpSpPr>
          <a:xfrm>
            <a:off x="4572000" y="2297160"/>
            <a:ext cx="3456000" cy="3705120"/>
            <a:chOff x="4572000" y="2297160"/>
            <a:chExt cx="3456000" cy="3705120"/>
          </a:xfrm>
        </p:grpSpPr>
        <p:sp>
          <p:nvSpPr>
            <p:cNvPr id="352" name="AutoShape 6"/>
            <p:cNvSpPr/>
            <p:nvPr/>
          </p:nvSpPr>
          <p:spPr>
            <a:xfrm>
              <a:off x="4572000" y="2297160"/>
              <a:ext cx="3456000" cy="3705120"/>
            </a:xfrm>
            <a:prstGeom prst="wedgeRectCallout">
              <a:avLst>
                <a:gd name="adj1" fmla="val -19986"/>
                <a:gd name="adj2" fmla="val -50129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华文新魏"/>
                </a:rPr>
                <a:t>　不随意运动型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53" name="Picture 7" descr="图13-24-1 不随意运动型抱姿"/>
            <p:cNvPicPr/>
            <p:nvPr/>
          </p:nvPicPr>
          <p:blipFill>
            <a:blip r:embed="rId1"/>
            <a:stretch/>
          </p:blipFill>
          <p:spPr>
            <a:xfrm>
              <a:off x="5181480" y="2884320"/>
              <a:ext cx="2236680" cy="253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4" name="AutoShape 12"/>
          <p:cNvSpPr/>
          <p:nvPr/>
        </p:nvSpPr>
        <p:spPr>
          <a:xfrm>
            <a:off x="684360" y="2205000"/>
            <a:ext cx="3348000" cy="3889440"/>
          </a:xfrm>
          <a:prstGeom prst="wedgeRectCallout">
            <a:avLst>
              <a:gd name="adj1" fmla="val 29685"/>
              <a:gd name="adj2" fmla="val -5005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不随意运动型及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肌张力低下型患儿抱法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5" name="Picture 13" descr="图13-24-2 不随意运动型抱姿"/>
          <p:cNvPicPr/>
          <p:nvPr/>
        </p:nvPicPr>
        <p:blipFill>
          <a:blip r:embed="rId2"/>
          <a:stretch/>
        </p:blipFill>
        <p:spPr>
          <a:xfrm>
            <a:off x="1225440" y="2903400"/>
            <a:ext cx="2430720" cy="274824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5"/>
          <p:cNvSpPr/>
          <p:nvPr/>
        </p:nvSpPr>
        <p:spPr>
          <a:xfrm>
            <a:off x="61128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2"/>
          <p:cNvSpPr/>
          <p:nvPr/>
        </p:nvSpPr>
        <p:spPr>
          <a:xfrm>
            <a:off x="684360" y="1916280"/>
            <a:ext cx="770400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纠正异常姿势，改善躯体活动障碍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正确的抱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grpSp>
        <p:nvGrpSpPr>
          <p:cNvPr id="359" name="组合 1"/>
          <p:cNvGrpSpPr/>
          <p:nvPr/>
        </p:nvGrpSpPr>
        <p:grpSpPr>
          <a:xfrm>
            <a:off x="522360" y="1773360"/>
            <a:ext cx="8028000" cy="4367160"/>
            <a:chOff x="522360" y="1773360"/>
            <a:chExt cx="8028000" cy="4367160"/>
          </a:xfrm>
        </p:grpSpPr>
        <p:sp>
          <p:nvSpPr>
            <p:cNvPr id="360" name="AutoShape 8"/>
            <p:cNvSpPr/>
            <p:nvPr/>
          </p:nvSpPr>
          <p:spPr>
            <a:xfrm>
              <a:off x="522360" y="1773360"/>
              <a:ext cx="8028000" cy="4367160"/>
            </a:xfrm>
            <a:prstGeom prst="wedgeRectCallout">
              <a:avLst>
                <a:gd name="adj1" fmla="val -24092"/>
                <a:gd name="adj2" fmla="val 4626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华文新魏"/>
                </a:rPr>
                <a:t>重度角弓反张患儿侧卧位抱起法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61" name="Picture 9" descr="图13-29 重度角弓反张的特殊抱法"/>
            <p:cNvPicPr/>
            <p:nvPr/>
          </p:nvPicPr>
          <p:blipFill>
            <a:blip r:embed="rId1"/>
            <a:stretch/>
          </p:blipFill>
          <p:spPr>
            <a:xfrm>
              <a:off x="3052080" y="2781000"/>
              <a:ext cx="2514600" cy="305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grpSp>
        <p:nvGrpSpPr>
          <p:cNvPr id="363" name="组合 1"/>
          <p:cNvGrpSpPr/>
          <p:nvPr/>
        </p:nvGrpSpPr>
        <p:grpSpPr>
          <a:xfrm>
            <a:off x="2054160" y="2060640"/>
            <a:ext cx="5256360" cy="3960720"/>
            <a:chOff x="2054160" y="2060640"/>
            <a:chExt cx="5256360" cy="3960720"/>
          </a:xfrm>
        </p:grpSpPr>
        <p:sp>
          <p:nvSpPr>
            <p:cNvPr id="364" name="AutoShape 10"/>
            <p:cNvSpPr/>
            <p:nvPr/>
          </p:nvSpPr>
          <p:spPr>
            <a:xfrm>
              <a:off x="2054160" y="2060640"/>
              <a:ext cx="5256360" cy="3960720"/>
            </a:xfrm>
            <a:prstGeom prst="wedgeRectCallout">
              <a:avLst>
                <a:gd name="adj1" fmla="val -49643"/>
                <a:gd name="adj2" fmla="val -29564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华文新魏"/>
                </a:rPr>
                <a:t>屈曲占优势患儿抱法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65" name="Picture 11" descr="图13-28 屈曲占优势的特殊抱法"/>
            <p:cNvPicPr/>
            <p:nvPr/>
          </p:nvPicPr>
          <p:blipFill>
            <a:blip r:embed="rId1"/>
            <a:stretch/>
          </p:blipFill>
          <p:spPr>
            <a:xfrm>
              <a:off x="3021120" y="2826720"/>
              <a:ext cx="3182040" cy="3194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684360" y="1916280"/>
            <a:ext cx="7704000" cy="43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能力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洗浴的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　　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洗浴时应注意不加重异常姿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　　体位舒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　　患儿有安全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684360" y="1916280"/>
            <a:ext cx="7704000" cy="35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能力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衣服穿脱的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套头衫或背心时，穿先患侧再健侧，脱健侧后患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对襟衣服，先将其下面纽扣扣好，根据患儿的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留</a:t>
            </a:r>
            <a:r>
              <a:rPr b="1" lang="en-US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个上面的纽扣不扣，再按照套头衫脱穿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2"/>
          <p:cNvSpPr/>
          <p:nvPr/>
        </p:nvSpPr>
        <p:spPr>
          <a:xfrm>
            <a:off x="684360" y="2133720"/>
            <a:ext cx="770400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能力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裤子穿脱的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取坐位，先患侧套入裤筒，再穿另一侧，然后躺下，边蹬健足，边向上提拉裤子到腰部并系好。脱与穿相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教学目标</a:t>
            </a:r>
            <a:endParaRPr b="1" lang="en-US" sz="4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4000" y="3716280"/>
            <a:ext cx="8459640" cy="300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"/>
              </a:rPr>
              <a:t>识记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．陈述脑瘫概念、常见类型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2. 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描述脑瘫的临床表现和主要功能障碍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"/>
              </a:rPr>
              <a:t>理解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1. 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解释脑瘫的致病因素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2. 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归纳各型脑瘫的典型体征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楷体"/>
              </a:rPr>
              <a:t>运用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评估各型脑瘫患儿并为其制订康复护理计划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58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E4A45-AD5C-4624-9B3A-C440C1E993F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68360" y="1700280"/>
            <a:ext cx="820728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能力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进食的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　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抱坐喂食；②面对面进食；③坐位进食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④坐在固定椅子上进食；⑤侧卧位进食；⑥俯卧位进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　喂饮时应注意，勺进入口腔的位置要低于患儿的口唇，从口唇的中央部位插入，喂食者避免从患儿头的上方或侧方喂饮，防止引起患儿的头部过度伸展和向一侧回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684360" y="1916280"/>
            <a:ext cx="7704000" cy="41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能力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排泄的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培养定时排便的习惯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能座位排便的患儿应注意增加稳定性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　注意座位的高度，双脚能踏到地面为宜。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539280" y="1557000"/>
            <a:ext cx="800100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言语障碍的护理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早期给予言语刺激及动作模仿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强调早期干预并融入日常生活活动中 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加强心理护理增强社会交往能力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创造机会参与社会活动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　增强社会交往能力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539280" y="620280"/>
            <a:ext cx="80010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4400" spc="-1" strike="noStrike">
                <a:solidFill>
                  <a:srgbClr val="002060"/>
                </a:solidFill>
                <a:latin typeface="Verdana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nodeType="clickEffect" fill="hold">
                      <p:stCondLst>
                        <p:cond delay="0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56760" y="500040"/>
            <a:ext cx="542628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7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562E9-DA18-4351-95BB-2BDA0106B93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7775640" cy="388800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介绍脑瘫致病因素、临床表现、预防措施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提倡早发现、早期综合干预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积极开展产前检查，防止感染性疾病发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避免早产、低体重儿和巨大儿出生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指导正确进食姿势、正确抱姿、正确睡眠体位 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nodeType="clickEffect" fill="hold">
                      <p:stCondLst>
                        <p:cond delay="0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771640" y="259920"/>
            <a:ext cx="350064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课程小结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82" name="灯片编号占位符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4E924-E2FE-4700-AD3C-E013BD8A457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785520" y="1999800"/>
            <a:ext cx="7429320" cy="35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．脑瘫主要致病因素是脑缺氧或脑部血液灌注不足。胎儿宫内窘迫、早产儿、低出生体重儿、新生儿窒息、新生儿缺血缺氧性脑病等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．脑瘫所致的主要功能障碍有竖颈困难、流涎、咀嚼吞咽困难、平衡障碍、语言障碍、听觉障碍、视觉障碍、行为障碍、癫痫、感觉和认知障碍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29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29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矩形 1"/>
          <p:cNvSpPr/>
          <p:nvPr/>
        </p:nvSpPr>
        <p:spPr>
          <a:xfrm>
            <a:off x="900000" y="1484280"/>
            <a:ext cx="741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康复护理评估包括健康状态、躯体功能、言语功能、感知及认知功能、日常生活活动能力、心理社会状况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康复护理措施可根据脑瘫各型特点有针对性的进行异常姿势的矫正，防止关节强直挛缩发生；加强日常生活活动能力指导；早期语言刺激与干预；强化心理护理与自信心的培养，最大限度恢复心理、躯体功能，提高社会参与能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矩形 1"/>
          <p:cNvSpPr/>
          <p:nvPr/>
        </p:nvSpPr>
        <p:spPr>
          <a:xfrm>
            <a:off x="900000" y="191628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康复护理指导包括介绍脑瘫致病因素、临床表现、治疗方法，预防措施；指导患儿家长如何控制脑瘫患儿的异常姿势、如何保持患儿正确进食姿势、指导家长对患儿的正确抱姿及正确的睡眠体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4745F-BEF2-451C-8ED6-7CD1D8CF2E1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610920" y="1915920"/>
            <a:ext cx="81039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脑性瘫痪（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cerebral palsy, CP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）简称脑瘫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定义：自受孕开始至婴儿期非进行性脑损伤和发育缺陷所导致的综合征，其主要表现为运动障碍及姿势异常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2195280" y="836640"/>
            <a:ext cx="48574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述</a:t>
            </a:r>
            <a:endParaRPr b="1" lang="en-US" sz="40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ACE3-22DF-4583-96A4-50247EA758C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95280" y="1988640"/>
            <a:ext cx="856944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世界范围内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1.5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4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平均为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2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。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2013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年脑瘫流行病学调查：黑龙江、北京、山西、山东、青海、陕西、河南、安徽、重庆、湖南、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广西、广东共涉及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32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万名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0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岁儿童患病率：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青海最高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5.4‰</a:t>
            </a:r>
            <a:r>
              <a:rPr b="1" lang="en-US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　山东最低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1.09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平均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2.71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，黑龙江省为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1.89‰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642600" y="785880"/>
            <a:ext cx="60166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述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脑瘫发病率</a:t>
            </a:r>
            <a:endParaRPr b="1" lang="en-US" sz="32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9256B-5084-45A7-8457-34DED4F4A85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99680" y="571680"/>
            <a:ext cx="47149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病因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9" name="Oval 4"/>
          <p:cNvSpPr/>
          <p:nvPr/>
        </p:nvSpPr>
        <p:spPr>
          <a:xfrm>
            <a:off x="3132000" y="1700280"/>
            <a:ext cx="2952720" cy="1008000"/>
          </a:xfrm>
          <a:prstGeom prst="ellipse">
            <a:avLst/>
          </a:prstGeom>
          <a:solidFill>
            <a:srgbClr val="ffffd5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脑缺氧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Oval 5"/>
          <p:cNvSpPr/>
          <p:nvPr/>
        </p:nvSpPr>
        <p:spPr>
          <a:xfrm>
            <a:off x="2987640" y="3141720"/>
            <a:ext cx="3240000" cy="1366920"/>
          </a:xfrm>
          <a:prstGeom prst="ellipse">
            <a:avLst/>
          </a:prstGeom>
          <a:solidFill>
            <a:srgbClr val="ffabe3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脑瘫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致病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AutoShape 6"/>
          <p:cNvSpPr/>
          <p:nvPr/>
        </p:nvSpPr>
        <p:spPr>
          <a:xfrm>
            <a:off x="4500720" y="2708280"/>
            <a:ext cx="142560" cy="431640"/>
          </a:xfrm>
          <a:prstGeom prst="downArrow">
            <a:avLst>
              <a:gd name="adj1" fmla="val 50000"/>
              <a:gd name="adj2" fmla="val 756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AutoShape 7"/>
          <p:cNvSpPr/>
          <p:nvPr/>
        </p:nvSpPr>
        <p:spPr>
          <a:xfrm>
            <a:off x="4572000" y="4508640"/>
            <a:ext cx="142920" cy="360360"/>
          </a:xfrm>
          <a:prstGeom prst="upArrow">
            <a:avLst>
              <a:gd name="adj1" fmla="val 50000"/>
              <a:gd name="adj2" fmla="val 6303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Oval 8"/>
          <p:cNvSpPr/>
          <p:nvPr/>
        </p:nvSpPr>
        <p:spPr>
          <a:xfrm>
            <a:off x="2484360" y="4941720"/>
            <a:ext cx="4319640" cy="1081080"/>
          </a:xfrm>
          <a:prstGeom prst="ellipse">
            <a:avLst/>
          </a:prstGeom>
          <a:solidFill>
            <a:srgbClr val="ffffd5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脑部血液灌注不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6370C-7567-4940-9F17-3E9EF2D8C5F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9680" y="571680"/>
            <a:ext cx="47149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病因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6" name="Oval 4"/>
          <p:cNvSpPr/>
          <p:nvPr/>
        </p:nvSpPr>
        <p:spPr>
          <a:xfrm>
            <a:off x="3276720" y="1557360"/>
            <a:ext cx="2952720" cy="100800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胎儿发育迟缓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Oval 5"/>
          <p:cNvSpPr/>
          <p:nvPr/>
        </p:nvSpPr>
        <p:spPr>
          <a:xfrm>
            <a:off x="3276720" y="3141720"/>
            <a:ext cx="2663640" cy="1584360"/>
          </a:xfrm>
          <a:prstGeom prst="ellipse">
            <a:avLst/>
          </a:prstGeom>
          <a:solidFill>
            <a:srgbClr val="ffdd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脑瘫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主要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Oval 6"/>
          <p:cNvSpPr/>
          <p:nvPr/>
        </p:nvSpPr>
        <p:spPr>
          <a:xfrm>
            <a:off x="1187280" y="5084640"/>
            <a:ext cx="3456000" cy="107964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低血糖和高胆红素血症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Oval 7"/>
          <p:cNvSpPr/>
          <p:nvPr/>
        </p:nvSpPr>
        <p:spPr>
          <a:xfrm>
            <a:off x="468360" y="3789360"/>
            <a:ext cx="2303280" cy="100800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早产儿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Oval 8"/>
          <p:cNvSpPr/>
          <p:nvPr/>
        </p:nvSpPr>
        <p:spPr>
          <a:xfrm>
            <a:off x="6516720" y="3645000"/>
            <a:ext cx="2411280" cy="107928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新生儿窒息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Oval 9"/>
          <p:cNvSpPr/>
          <p:nvPr/>
        </p:nvSpPr>
        <p:spPr>
          <a:xfrm>
            <a:off x="684360" y="2276640"/>
            <a:ext cx="2592360" cy="100800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胎儿宫内窘迫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Oval 10"/>
          <p:cNvSpPr/>
          <p:nvPr/>
        </p:nvSpPr>
        <p:spPr>
          <a:xfrm>
            <a:off x="5867280" y="2205000"/>
            <a:ext cx="2952720" cy="100800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低出生体重儿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Oval 11"/>
          <p:cNvSpPr/>
          <p:nvPr/>
        </p:nvSpPr>
        <p:spPr>
          <a:xfrm>
            <a:off x="4859280" y="5157720"/>
            <a:ext cx="3529080" cy="1008000"/>
          </a:xfrm>
          <a:prstGeom prst="ellipse">
            <a:avLst/>
          </a:prstGeom>
          <a:solidFill>
            <a:srgbClr val="e5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新生儿缺血缺氧性脑病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12"/>
          <p:cNvSpPr/>
          <p:nvPr/>
        </p:nvSpPr>
        <p:spPr>
          <a:xfrm flipV="1">
            <a:off x="2771640" y="4076640"/>
            <a:ext cx="505080" cy="2160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Line 13"/>
          <p:cNvSpPr/>
          <p:nvPr/>
        </p:nvSpPr>
        <p:spPr>
          <a:xfrm>
            <a:off x="3203640" y="2997360"/>
            <a:ext cx="431640" cy="3603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Line 14"/>
          <p:cNvSpPr/>
          <p:nvPr/>
        </p:nvSpPr>
        <p:spPr>
          <a:xfrm>
            <a:off x="4643280" y="2565360"/>
            <a:ext cx="0" cy="5763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Line 15"/>
          <p:cNvSpPr/>
          <p:nvPr/>
        </p:nvSpPr>
        <p:spPr>
          <a:xfrm flipV="1">
            <a:off x="3780000" y="4724280"/>
            <a:ext cx="287280" cy="4334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Line 16"/>
          <p:cNvSpPr/>
          <p:nvPr/>
        </p:nvSpPr>
        <p:spPr>
          <a:xfrm flipH="1" flipV="1">
            <a:off x="5940000" y="4005000"/>
            <a:ext cx="576360" cy="1443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Line 17"/>
          <p:cNvSpPr/>
          <p:nvPr/>
        </p:nvSpPr>
        <p:spPr>
          <a:xfrm flipH="1" flipV="1">
            <a:off x="5219640" y="4652640"/>
            <a:ext cx="432000" cy="5763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Line 18"/>
          <p:cNvSpPr/>
          <p:nvPr/>
        </p:nvSpPr>
        <p:spPr>
          <a:xfrm flipH="1">
            <a:off x="5724000" y="2997360"/>
            <a:ext cx="360360" cy="4316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48B10-CACD-4AE3-80F5-13B1C205504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33000" y="549360"/>
            <a:ext cx="74674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临床表现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250920" y="2997360"/>
            <a:ext cx="2089080" cy="863280"/>
          </a:xfrm>
          <a:prstGeom prst="rect">
            <a:avLst/>
          </a:prstGeom>
          <a:solidFill>
            <a:srgbClr val="ffe1ff"/>
          </a:solidFill>
          <a:ln w="2844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2843280" y="2276640"/>
            <a:ext cx="2448000" cy="1081080"/>
          </a:xfrm>
          <a:prstGeom prst="rect">
            <a:avLst/>
          </a:prstGeom>
          <a:solidFill>
            <a:srgbClr val="cc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中枢运动功能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2987640" y="4076640"/>
            <a:ext cx="2016000" cy="936720"/>
          </a:xfrm>
          <a:prstGeom prst="rect">
            <a:avLst/>
          </a:prstGeom>
          <a:solidFill>
            <a:srgbClr val="cc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姿势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AutoShape 7"/>
          <p:cNvSpPr/>
          <p:nvPr/>
        </p:nvSpPr>
        <p:spPr>
          <a:xfrm>
            <a:off x="2384280" y="2637000"/>
            <a:ext cx="316080" cy="2087280"/>
          </a:xfrm>
          <a:custGeom>
            <a:avLst/>
            <a:gdLst>
              <a:gd name="textAreaLeft" fmla="*/ 201960 w 316080"/>
              <a:gd name="textAreaRight" fmla="*/ 316440 w 316080"/>
              <a:gd name="textAreaTop" fmla="*/ 54360 h 2087280"/>
              <a:gd name="textAreaBottom" fmla="*/ 20329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154"/>
                </a:lnTo>
                <a:cubicBezTo>
                  <a:pt x="10800" y="8054"/>
                  <a:pt x="5400" y="8954"/>
                  <a:pt x="0" y="8954"/>
                </a:cubicBezTo>
                <a:cubicBezTo>
                  <a:pt x="5400" y="8954"/>
                  <a:pt x="10800" y="9854"/>
                  <a:pt x="10800" y="1075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Rectangle 8"/>
          <p:cNvSpPr/>
          <p:nvPr/>
        </p:nvSpPr>
        <p:spPr>
          <a:xfrm>
            <a:off x="5867280" y="1844640"/>
            <a:ext cx="2448000" cy="4176720"/>
          </a:xfrm>
          <a:prstGeom prst="rect">
            <a:avLst/>
          </a:prstGeom>
          <a:solidFill>
            <a:srgbClr val="ffffe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可伴有不同程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智力障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言语障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视听觉障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感知觉障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癫痫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理行为异常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AutoShape 9"/>
          <p:cNvSpPr/>
          <p:nvPr/>
        </p:nvSpPr>
        <p:spPr>
          <a:xfrm>
            <a:off x="5435640" y="2565360"/>
            <a:ext cx="288720" cy="2448000"/>
          </a:xfrm>
          <a:custGeom>
            <a:avLst/>
            <a:gdLst>
              <a:gd name="textAreaLeft" fmla="*/ 0 w 288720"/>
              <a:gd name="textAreaRight" fmla="*/ 104040 w 288720"/>
              <a:gd name="textAreaTop" fmla="*/ 63720 h 2448000"/>
              <a:gd name="textAreaBottom" fmla="*/ 238428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BE5FA-5370-4767-8420-98BA5F4717E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755964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4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临床表现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1187280" y="2924280"/>
            <a:ext cx="2089440" cy="1008000"/>
          </a:xfrm>
          <a:prstGeom prst="rect">
            <a:avLst/>
          </a:prstGeom>
          <a:solidFill>
            <a:srgbClr val="ffe5ff"/>
          </a:solidFill>
          <a:ln w="2844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临床分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4427640" y="2133720"/>
            <a:ext cx="3600360" cy="3816360"/>
          </a:xfrm>
          <a:prstGeom prst="rect">
            <a:avLst/>
          </a:prstGeom>
          <a:solidFill>
            <a:srgbClr val="e1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痉挛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②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不随意运动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③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强直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④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共济失调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⑤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肌张力低下型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⑥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混合型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AutoShape 6"/>
          <p:cNvSpPr/>
          <p:nvPr/>
        </p:nvSpPr>
        <p:spPr>
          <a:xfrm>
            <a:off x="3492360" y="3357720"/>
            <a:ext cx="792360" cy="215640"/>
          </a:xfrm>
          <a:prstGeom prst="rightArrow">
            <a:avLst>
              <a:gd name="adj1" fmla="val 50000"/>
              <a:gd name="adj2" fmla="val 91861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9:16:56Z</dcterms:modified>
  <cp:revision>8</cp:revision>
  <dc:subject/>
  <dc:title>第一章 儿科疾病的护理</dc:title>
</cp:coreProperties>
</file>