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B3539E-AC04-48DB-9F93-1A69210E51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1ADD8B-AA12-45E7-9677-822F327317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38098C-CAD4-43A8-B033-94556998C7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DCFBCF4-0F68-4860-8B36-B986B2562E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B32896-1991-4ACA-9D5B-6B8D19381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0003C5-1A87-4272-B4DA-EED17680B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B5CA46-805C-4591-A75A-5D10EC9AA4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A57256C-5BC7-4CCC-AAB4-F75BBB8911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B894C3-BA87-474A-AEAB-C101FF4C8D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BEA06D-FC10-4AE8-A4FE-FC94D1127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71D5AB-AD20-4663-A9C4-D0D721ACA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5E802A-5862-4797-B755-A47E1B1C42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03F2-55BE-4E42-9382-73DE5114E95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五章 </a:t>
            </a:r>
            <a:br>
              <a:rPr sz="3600"/>
            </a:br>
            <a:r>
              <a:rPr b="1" lang="zh-CN" sz="3600" spc="-1" strike="noStrike">
                <a:solidFill>
                  <a:srgbClr val="ffffff"/>
                </a:solidFill>
                <a:latin typeface="黑体"/>
                <a:ea typeface="黑体"/>
              </a:rPr>
              <a:t>康复护理技术</a:t>
            </a:r>
            <a:endParaRPr b="0" lang="en-US" sz="3600" spc="-1" strike="noStrike">
              <a:solidFill>
                <a:srgbClr val="ffffff"/>
              </a:solidFill>
              <a:latin typeface="Verdana"/>
            </a:endParaRPr>
          </a:p>
        </p:txBody>
      </p:sp>
      <p:sp>
        <p:nvSpPr>
          <p:cNvPr id="105" name="标题 1"/>
          <p:cNvSpPr/>
          <p:nvPr/>
        </p:nvSpPr>
        <p:spPr>
          <a:xfrm>
            <a:off x="1763640" y="5302080"/>
            <a:ext cx="4465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体位转移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CC3A-4EFF-488E-9BEA-8F1EE6CD6D7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39" name=""/>
          <p:cNvGraphicFramePr/>
          <p:nvPr/>
        </p:nvGraphicFramePr>
        <p:xfrm>
          <a:off x="252360" y="1557360"/>
          <a:ext cx="8293320" cy="4788000"/>
        </p:xfrm>
        <a:graphic>
          <a:graphicData uri="http://schemas.openxmlformats.org/drawingml/2006/table">
            <a:tbl>
              <a:tblPr/>
              <a:tblGrid>
                <a:gridCol w="790560"/>
                <a:gridCol w="1859040"/>
                <a:gridCol w="1968480"/>
                <a:gridCol w="2317680"/>
                <a:gridCol w="1357560"/>
              </a:tblGrid>
              <a:tr h="274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ac8de"/>
                          </a:solidFill>
                          <a:latin typeface="Times New Roman"/>
                          <a:ea typeface="宋体"/>
                        </a:rPr>
                        <a:t>　</a:t>
                      </a:r>
                      <a:endParaRPr b="0" lang="en-US" sz="1200" spc="-1" strike="noStrike">
                        <a:solidFill>
                          <a:srgbClr val="046ca6"/>
                        </a:solidFill>
                        <a:latin typeface="Arial"/>
                      </a:endParaRPr>
                    </a:p>
                  </a:txBody>
                  <a:tcPr anchor="ctr" marL="68760" marR="68760">
                    <a:lnL>
                      <a:noFill/>
                    </a:lnL>
                    <a:lnR>
                      <a:noFill/>
                    </a:lnR>
                    <a:lnT w="5760">
                      <a:solidFill>
                        <a:srgbClr val="000000"/>
                      </a:solidFill>
                    </a:lnT>
                    <a:lnB>
                      <a:no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1d1496"/>
                          </a:solidFill>
                          <a:uFillTx/>
                          <a:latin typeface="Times New Roman"/>
                          <a:ea typeface="宋体"/>
                        </a:rPr>
                        <a:t>偏瘫患者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性损伤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r>
                        <a:rPr b="1" lang="zh-CN" sz="1800" spc="-1" strike="noStrike">
                          <a:solidFill>
                            <a:srgbClr val="1d1496"/>
                          </a:solidFill>
                          <a:latin typeface="Times New Roman"/>
                        </a:rPr>
                        <a:t>床上翻身（向右侧）</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床上翻身</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7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健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仰卧位向患侧翻身</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84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将健足从患侧腘窝处插入向下伸直，使患足置于健足之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左右摆动，利用惯性将上肢、躯干向健侧旋转，同时健腿带动患腿翻向健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仰卧，双侧髋、膝屈曲；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向上伸展，肩上举约</a:t>
                      </a:r>
                      <a:r>
                        <a:rPr b="1" lang="en-US" sz="1800" spc="-1" strike="noStrike">
                          <a:solidFill>
                            <a:srgbClr val="1d1496"/>
                          </a:solidFill>
                          <a:latin typeface="Times New Roman"/>
                        </a:rPr>
                        <a:t>90</a:t>
                      </a:r>
                      <a:r>
                        <a:rPr b="1" lang="en-US" sz="1800" spc="-1" strike="noStrike" baseline="30000">
                          <a:solidFill>
                            <a:srgbClr val="1d1496"/>
                          </a:solidFill>
                          <a:latin typeface="Times New Roman"/>
                        </a:rPr>
                        <a:t>0</a:t>
                      </a:r>
                      <a:r>
                        <a:rPr b="1" lang="zh-CN" sz="1800" spc="-1" strike="noStrike">
                          <a:solidFill>
                            <a:srgbClr val="1d1496"/>
                          </a:solidFill>
                          <a:latin typeface="Times New Roman"/>
                        </a:rPr>
                        <a:t>，健侧上肢带动患侧上肢先摆向健侧，再摆向患侧；同时健侧下肢用力撑床，完成头、颈、躯干、肩胛带、骨盆带、膝的直线运动旋转而翻向患侧</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向双侧对称性用力摆动，产生钟摆样运动；头、颈向右侧前屈，双上肢用力从左侧甩向右侧，通过惯性使躯干和下肢翻成俯卧位；左前臂支撑床面并负重将右肩从身体下方拉出，双上肢置于身体两侧完成翻身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截瘫患者床上翻身同</a:t>
                      </a:r>
                      <a:r>
                        <a:rPr b="1" lang="en-US" sz="1800" spc="-1" strike="noStrike">
                          <a:solidFill>
                            <a:srgbClr val="1d1496"/>
                          </a:solidFill>
                          <a:latin typeface="Times New Roman"/>
                        </a:rPr>
                        <a:t>C6</a:t>
                      </a:r>
                      <a:r>
                        <a:rPr b="1" lang="zh-CN" sz="1800" spc="-1" strike="noStrike">
                          <a:solidFill>
                            <a:srgbClr val="1d1496"/>
                          </a:solidFill>
                          <a:latin typeface="Times New Roman"/>
                        </a:rPr>
                        <a:t>完全性损伤患者床上翻身方法相同或直接利用肘部和手的支撑向一侧翻身</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0" name="Text Box 19"/>
          <p:cNvSpPr/>
          <p:nvPr/>
        </p:nvSpPr>
        <p:spPr>
          <a:xfrm>
            <a:off x="7027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上翻身</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3DEE-586B-4D99-8501-A7CF482036D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2" name=""/>
          <p:cNvGraphicFramePr/>
          <p:nvPr/>
        </p:nvGraphicFramePr>
        <p:xfrm>
          <a:off x="539640" y="1628640"/>
          <a:ext cx="7858080" cy="4705560"/>
        </p:xfrm>
        <a:graphic>
          <a:graphicData uri="http://schemas.openxmlformats.org/drawingml/2006/table">
            <a:tbl>
              <a:tblPr/>
              <a:tblGrid>
                <a:gridCol w="809640"/>
                <a:gridCol w="1622520"/>
                <a:gridCol w="1828800"/>
                <a:gridCol w="1835280"/>
                <a:gridCol w="1761840"/>
              </a:tblGrid>
              <a:tr h="3420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en-US" sz="1800" spc="-1" strike="noStrike">
                          <a:solidFill>
                            <a:srgbClr val="1d1496"/>
                          </a:solidFill>
                          <a:latin typeface="宋体"/>
                        </a:rPr>
                        <a:t>C6</a:t>
                      </a:r>
                      <a:r>
                        <a:rPr b="1" lang="zh-CN" sz="1800" spc="-1" strike="noStrike">
                          <a:solidFill>
                            <a:srgbClr val="1d1496"/>
                          </a:solidFill>
                          <a:latin typeface="Times New Roman"/>
                        </a:rPr>
                        <a:t>完全损伤患者卧坐转移</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  </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         </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卧坐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0976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 </a:t>
                      </a:r>
                      <a:r>
                        <a:rPr b="1" lang="zh-CN" sz="1800" spc="-1" strike="noStrike">
                          <a:solidFill>
                            <a:srgbClr val="1d1496"/>
                          </a:solidFill>
                          <a:latin typeface="Times New Roman"/>
                        </a:rPr>
                        <a:t>健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侧卧位坐起</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6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                                         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健侧卧位，患腿跨过健腿，健腿帮助患者移至床边，通过健侧肘的支撑使头、颈、躯干从卧位撑起；移动躯干至直立坐位，调整好姿势，保持坐位平衡</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患侧卧位，健手帮助患臂置于胸前以支撑身体；健腿帮助患腿移至床边置于床缘下；使头、颈、躯干向前上方侧屈，健侧上肢置于胸前床面支撑，使身体侧屈起身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仰卧，双上肢伸展上举并用力摆动，带动上肢、躯干翻向左侧卧位；利用前臂支撑于床面，并交替移动前臂，使上身和头部从床头移至床角；左手支撑床面，头及躯干向右侧撑起，顺势坐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可向左右两侧翻身，使躯干转向一侧，以双肘支撑身体，然后将重心左右交替变换，变成手支撑向前伸直身体完成坐起动作</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3" name="Text Box 19"/>
          <p:cNvSpPr/>
          <p:nvPr/>
        </p:nvSpPr>
        <p:spPr>
          <a:xfrm>
            <a:off x="63676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卧位→坐位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C170-C5FC-47F7-9B85-C2524C5002F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TextBox 4"/>
          <p:cNvSpPr/>
          <p:nvPr/>
        </p:nvSpPr>
        <p:spPr>
          <a:xfrm>
            <a:off x="539640" y="1486080"/>
            <a:ext cx="7848720" cy="3988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华文新魏"/>
              </a:rPr>
              <a:t>以</a:t>
            </a:r>
            <a:r>
              <a:rPr b="1" lang="en-US" sz="2000" spc="-1" strike="noStrike">
                <a:solidFill>
                  <a:srgbClr val="1d1496"/>
                </a:solidFill>
                <a:latin typeface="Times New Roman"/>
                <a:ea typeface="华文新魏"/>
              </a:rPr>
              <a:t>45</a:t>
            </a:r>
            <a:r>
              <a:rPr b="1" lang="zh-CN" sz="2000" spc="-1" strike="noStrike">
                <a:solidFill>
                  <a:srgbClr val="1d1496"/>
                </a:solidFill>
                <a:latin typeface="Times New Roman"/>
                <a:ea typeface="华文新魏"/>
              </a:rPr>
              <a:t>°</a:t>
            </a:r>
            <a:r>
              <a:rPr b="1" lang="zh-CN" sz="2000" spc="-1" strike="noStrike">
                <a:solidFill>
                  <a:srgbClr val="1d1496"/>
                </a:solidFill>
                <a:latin typeface="Times New Roman"/>
                <a:ea typeface="华文新魏"/>
              </a:rPr>
              <a:t>角床椅转移为例，床椅转移（从右侧转移）动作</a:t>
            </a:r>
            <a:endParaRPr b="0" lang="en-US" sz="2000" spc="-1" strike="noStrike">
              <a:solidFill>
                <a:srgbClr val="046ca6"/>
              </a:solidFill>
              <a:latin typeface="Arial"/>
            </a:endParaRPr>
          </a:p>
        </p:txBody>
      </p:sp>
      <p:graphicFrame>
        <p:nvGraphicFramePr>
          <p:cNvPr id="146" name=""/>
          <p:cNvGraphicFramePr/>
          <p:nvPr/>
        </p:nvGraphicFramePr>
        <p:xfrm>
          <a:off x="684360" y="2060640"/>
          <a:ext cx="7848360" cy="4151160"/>
        </p:xfrm>
        <a:graphic>
          <a:graphicData uri="http://schemas.openxmlformats.org/drawingml/2006/table">
            <a:tbl>
              <a:tblPr/>
              <a:tblGrid>
                <a:gridCol w="639720"/>
                <a:gridCol w="2598480"/>
                <a:gridCol w="1997280"/>
                <a:gridCol w="2612880"/>
              </a:tblGrid>
              <a:tr h="584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床椅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566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在地面上；轮椅或椅子置于患者健侧，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拉下手闸制动轮椅，卸下近床侧扶手，移开近床侧脚踏板；健手扶持于轮椅或椅子远端扶手，患手支撑于床面，撑起躯干抬起臀部，以双足为支点，旋转身体至背靠轮椅或椅子；确认安全后正对轮椅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步骤同偏瘫患者转移方法                                                                  </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平放于地面，轮椅或椅子与床呈</a:t>
                      </a:r>
                      <a:r>
                        <a:rPr b="1" lang="en-US" sz="1800" spc="-1" strike="noStrike">
                          <a:solidFill>
                            <a:srgbClr val="1d1496"/>
                          </a:solidFill>
                          <a:latin typeface="Times New Roman"/>
                        </a:rPr>
                        <a:t>45</a:t>
                      </a:r>
                      <a:r>
                        <a:rPr b="1" lang="zh-CN" sz="1800" spc="-1" strike="noStrike">
                          <a:solidFill>
                            <a:srgbClr val="1d1496"/>
                          </a:solidFill>
                          <a:latin typeface="Times New Roman"/>
                        </a:rPr>
                        <a:t>°</a:t>
                      </a:r>
                      <a:r>
                        <a:rPr b="1" lang="zh-CN" sz="1800" spc="-1" strike="noStrike">
                          <a:solidFill>
                            <a:srgbClr val="1d1496"/>
                          </a:solidFill>
                          <a:latin typeface="Times New Roman"/>
                        </a:rPr>
                        <a:t>，轮椅制动，卸下近床侧扶手，移开近侧脚踏；患者一手支撑于轮椅或椅子远端扶手，一手支撑于床面，将臀部向前移动，双手同时用力支撑起臀部，以健足为轴心，转动身体，臀部正对轮椅缓慢坐下</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47" name="Text Box 17"/>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床→椅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666D-4D2B-4E8C-9AD0-907B0B1FDC7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graphicFrame>
        <p:nvGraphicFramePr>
          <p:cNvPr id="149" name=""/>
          <p:cNvGraphicFramePr/>
          <p:nvPr/>
        </p:nvGraphicFramePr>
        <p:xfrm>
          <a:off x="684360" y="1557360"/>
          <a:ext cx="7921440" cy="4321080"/>
        </p:xfrm>
        <a:graphic>
          <a:graphicData uri="http://schemas.openxmlformats.org/drawingml/2006/table">
            <a:tbl>
              <a:tblPr/>
              <a:tblGrid>
                <a:gridCol w="738000"/>
                <a:gridCol w="2355840"/>
                <a:gridCol w="2444760"/>
                <a:gridCol w="2382840"/>
              </a:tblGrid>
              <a:tr h="600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功能障碍</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偏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496"/>
                          </a:solidFill>
                          <a:latin typeface="宋体"/>
                        </a:rPr>
                        <a:t>C6</a:t>
                      </a:r>
                      <a:r>
                        <a:rPr b="1" lang="zh-CN" sz="1800" spc="-1" strike="noStrike">
                          <a:solidFill>
                            <a:srgbClr val="1d1496"/>
                          </a:solidFill>
                          <a:latin typeface="Times New Roman"/>
                        </a:rPr>
                        <a:t>完全损伤患者                  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截瘫患者坐站转移</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372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动作</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转移                                                                                          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rPr>
                        <a:t>患者坐于床边，双足与肩同宽，足跟落后于双膝，患足稍后垂直放于地上；双手</a:t>
                      </a:r>
                      <a:r>
                        <a:rPr b="1" lang="en-US" sz="1800" spc="-1" strike="noStrike">
                          <a:solidFill>
                            <a:srgbClr val="1d1496"/>
                          </a:solidFill>
                          <a:latin typeface="Times New Roman"/>
                        </a:rPr>
                        <a:t>Bobath</a:t>
                      </a:r>
                      <a:r>
                        <a:rPr b="1" lang="zh-CN" sz="1800" spc="-1" strike="noStrike">
                          <a:solidFill>
                            <a:srgbClr val="1d1496"/>
                          </a:solidFill>
                          <a:latin typeface="Times New Roman"/>
                        </a:rPr>
                        <a:t>握手，双上肢向前下方伸直，身体重心前移，躯干前倾，双下肢负重，臀部抬离床面；双腿用力由屈髋、屈膝缓缓站起。立位时双腿同等负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坐于床边，双足分开，与肩同宽，双足垂直放于地上；双手扶住助行器，躯干向前倾斜；双膝前曲超过足尖，臀部抬离床面；双手支撑，双腿伸髋、伸膝用力，躯干挺直，慢慢站起</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Times New Roman"/>
                          <a:ea typeface="宋体"/>
                        </a:rPr>
                        <a:t>患者佩戴长腿支具坐于床边，双足分开，与肩同宽，将脚跟移动到膝关节重力线的后方；双手撑住助行器的扶手，躯干向前倾斜；双手用力支撑，臀部抬离床面；双手突然发力，把躯干支撑起来站直，利用惯性把长腿支具锁定</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50" name="Text Box 15"/>
          <p:cNvSpPr/>
          <p:nvPr/>
        </p:nvSpPr>
        <p:spPr>
          <a:xfrm>
            <a:off x="5910480" y="260280"/>
            <a:ext cx="56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坐→站转移训练</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例分析</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患者，女，</a:t>
            </a:r>
            <a:r>
              <a:rPr b="1" lang="en-US" sz="2800" spc="-1" strike="noStrike">
                <a:solidFill>
                  <a:srgbClr val="1d1496"/>
                </a:solidFill>
                <a:latin typeface="宋体"/>
                <a:ea typeface="宋体"/>
              </a:rPr>
              <a:t>39</a:t>
            </a:r>
            <a:r>
              <a:rPr b="1" lang="zh-CN" sz="2800" spc="-1" strike="noStrike">
                <a:solidFill>
                  <a:srgbClr val="1d1496"/>
                </a:solidFill>
                <a:latin typeface="宋体"/>
                <a:ea typeface="宋体"/>
              </a:rPr>
              <a:t>岁，因“车祸致双下肢感觉运动功能障碍</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个月”入院，轮椅送入病房，双上肢肌力</a:t>
            </a:r>
            <a:r>
              <a:rPr b="1" lang="en-US" sz="2800" spc="-1" strike="noStrike">
                <a:solidFill>
                  <a:srgbClr val="1d1496"/>
                </a:solidFill>
                <a:latin typeface="宋体"/>
                <a:ea typeface="宋体"/>
              </a:rPr>
              <a:t>5</a:t>
            </a:r>
            <a:r>
              <a:rPr b="1" lang="zh-CN" sz="2800" spc="-1" strike="noStrike">
                <a:solidFill>
                  <a:srgbClr val="1d1496"/>
                </a:solidFill>
                <a:latin typeface="宋体"/>
                <a:ea typeface="宋体"/>
              </a:rPr>
              <a:t>级，双下肢肌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肌张力</a:t>
            </a:r>
            <a:r>
              <a:rPr b="1" lang="en-US" sz="2800" spc="-1" strike="noStrike">
                <a:solidFill>
                  <a:srgbClr val="1d1496"/>
                </a:solidFill>
                <a:latin typeface="宋体"/>
                <a:ea typeface="宋体"/>
              </a:rPr>
              <a:t>0</a:t>
            </a:r>
            <a:r>
              <a:rPr b="1" lang="zh-CN" sz="2800" spc="-1" strike="noStrike">
                <a:solidFill>
                  <a:srgbClr val="1d1496"/>
                </a:solidFill>
                <a:latin typeface="宋体"/>
                <a:ea typeface="宋体"/>
              </a:rPr>
              <a:t>级，</a:t>
            </a:r>
            <a:r>
              <a:rPr b="1" lang="en-US" sz="2800" spc="-1" strike="noStrike">
                <a:solidFill>
                  <a:srgbClr val="1d1496"/>
                </a:solidFill>
                <a:latin typeface="宋体"/>
                <a:ea typeface="宋体"/>
              </a:rPr>
              <a:t>T12</a:t>
            </a:r>
            <a:r>
              <a:rPr b="1" lang="zh-CN" sz="2800" spc="-1" strike="noStrike">
                <a:solidFill>
                  <a:srgbClr val="1d1496"/>
                </a:solidFill>
                <a:latin typeface="宋体"/>
                <a:ea typeface="宋体"/>
              </a:rPr>
              <a:t>以下感觉完全消失。</a:t>
            </a:r>
            <a:endParaRPr b="1" lang="en-US" sz="2800" spc="-1" strike="noStrike">
              <a:solidFill>
                <a:srgbClr val="8ac8de"/>
              </a:solidFill>
              <a:latin typeface="Verdana"/>
            </a:endParaRPr>
          </a:p>
          <a:p>
            <a:pPr>
              <a:lnSpc>
                <a:spcPts val="4062"/>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请指导患者进行轮椅→床及坐位→站位间转移。</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indent="0">
              <a:lnSpc>
                <a:spcPts val="4062"/>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6920" y="1942920"/>
            <a:ext cx="4248360" cy="467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位转移方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EF30-16BE-47D9-B823-BE2C4D7870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99080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陈述体位转移的定义</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体位转移的目的、注意事项。</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不同疾病体位转移的方法。</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能针对不同疾病进行正确的体位转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674D-A827-4A27-B74C-7504C0036D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一、体位转移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A9DBE-EEC2-4865-8316-AEAE274C5BB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5" name="PlaceHolder 1"/>
          <p:cNvSpPr>
            <a:spLocks noGrp="1"/>
          </p:cNvSpPr>
          <p:nvPr>
            <p:ph/>
          </p:nvPr>
        </p:nvSpPr>
        <p:spPr>
          <a:xfrm>
            <a:off x="571680" y="1856880"/>
            <a:ext cx="7480080" cy="30006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体位转移（</a:t>
            </a:r>
            <a:r>
              <a:rPr b="1" lang="en-US" sz="3200" spc="-1" strike="noStrike">
                <a:solidFill>
                  <a:srgbClr val="1d1496"/>
                </a:solidFill>
                <a:latin typeface="华文新魏"/>
                <a:ea typeface="华文新魏"/>
              </a:rPr>
              <a:t>transfer</a:t>
            </a:r>
            <a:r>
              <a:rPr b="1" lang="zh-CN"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指人体从一种姿势转换到另一种姿势以及从一个位置转移到另一个位置的过程。</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Text Box 4"/>
          <p:cNvSpPr/>
          <p:nvPr/>
        </p:nvSpPr>
        <p:spPr>
          <a:xfrm>
            <a:off x="7556400" y="4046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641D-7F11-4E01-B6FD-346DFD8BA8C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610920" y="2060280"/>
            <a:ext cx="7072200" cy="288108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患者生活自理能力</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减少护理依赖</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早日回归家庭、重返社会</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rPr>
              <a:t>提高其生存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9" name="Text Box 4"/>
          <p:cNvSpPr/>
          <p:nvPr/>
        </p:nvSpPr>
        <p:spPr>
          <a:xfrm>
            <a:off x="727668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33D1-F93C-4623-BAB0-AD566A75A6F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1" name="PlaceHolder 1"/>
          <p:cNvSpPr>
            <a:spLocks noGrp="1"/>
          </p:cNvSpPr>
          <p:nvPr>
            <p:ph/>
          </p:nvPr>
        </p:nvSpPr>
        <p:spPr>
          <a:xfrm>
            <a:off x="250920" y="1773360"/>
            <a:ext cx="8208720" cy="424800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根据患者自身的功能水平要求较高，选择最安全的转移方法为首选，确保患者安全。</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对自身功能水平有清楚的认识，不能急于求成。</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患者应熟悉转移活动的周围环境。</a:t>
            </a:r>
            <a:endParaRPr b="1" lang="en-US" sz="28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rPr>
              <a:t>体位转移活动训练的空间和设备应在结构、构造、位置上要利于患者完成转移活动。</a:t>
            </a:r>
            <a:r>
              <a:rPr b="1" lang="zh-CN" sz="3200" spc="-1" strike="noStrike">
                <a:solidFill>
                  <a:srgbClr val="8ac8de"/>
                </a:solidFill>
                <a:latin typeface="华文新魏"/>
              </a:rPr>
              <a:t> </a:t>
            </a:r>
            <a:endParaRPr b="1" lang="en-US" sz="3200" spc="-1" strike="noStrike">
              <a:solidFill>
                <a:srgbClr val="8ac8de"/>
              </a:solidFill>
              <a:latin typeface="Verdana"/>
            </a:endParaRPr>
          </a:p>
        </p:txBody>
      </p:sp>
      <p:sp>
        <p:nvSpPr>
          <p:cNvPr id="132" name="Text Box 4"/>
          <p:cNvSpPr/>
          <p:nvPr/>
        </p:nvSpPr>
        <p:spPr>
          <a:xfrm>
            <a:off x="7459560" y="40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注意事项</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E440-872F-4F44-9759-2194EB60DE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Rectangle 4"/>
          <p:cNvSpPr/>
          <p:nvPr/>
        </p:nvSpPr>
        <p:spPr>
          <a:xfrm>
            <a:off x="2268360" y="2349360"/>
            <a:ext cx="4535640" cy="1511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宋体"/>
                <a:ea typeface="宋体"/>
              </a:rPr>
              <a:t>二、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309F-0C90-4446-9591-D8DA2507B9E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Rectangle 3"/>
          <p:cNvSpPr/>
          <p:nvPr/>
        </p:nvSpPr>
        <p:spPr>
          <a:xfrm>
            <a:off x="684360" y="1557360"/>
            <a:ext cx="5184720" cy="323208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上翻身</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卧位→坐位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床→椅转移训练</a:t>
            </a:r>
            <a:endParaRPr b="0" lang="en-US" sz="3600" spc="-1" strike="noStrike">
              <a:solidFill>
                <a:srgbClr val="046ca6"/>
              </a:solidFill>
              <a:latin typeface="Arial"/>
            </a:endParaRPr>
          </a:p>
          <a:p>
            <a:pPr marL="447840" indent="-447840">
              <a:lnSpc>
                <a:spcPct val="100000"/>
              </a:lnSpc>
              <a:spcBef>
                <a:spcPts val="901"/>
              </a:spcBef>
              <a:buClr>
                <a:srgbClr val="8ac8d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坐→站转移训练</a:t>
            </a:r>
            <a:endParaRPr b="0" lang="en-US" sz="3600" spc="-1" strike="noStrike">
              <a:solidFill>
                <a:srgbClr val="046ca6"/>
              </a:solidFill>
              <a:latin typeface="Arial"/>
            </a:endParaRPr>
          </a:p>
        </p:txBody>
      </p:sp>
      <p:sp>
        <p:nvSpPr>
          <p:cNvPr id="137" name="Text Box 4"/>
          <p:cNvSpPr/>
          <p:nvPr/>
        </p:nvSpPr>
        <p:spPr>
          <a:xfrm>
            <a:off x="6562800" y="2602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体位转移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29:00Z</dcterms:modified>
  <cp:revision>1</cp:revision>
  <dc:subject/>
  <dc:title>  第五章  康复护理技术</dc:title>
</cp:coreProperties>
</file>