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9212C-7667-4120-AF32-35A6E8C738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44FA5-CE67-4D72-A44B-CC97A88B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0E66B-03F8-48C6-9447-3FD3AB1A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448C1-3D90-4A8E-84F6-0F37586845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A0B99-EC54-4FED-A7A3-84CF7BE3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187B7-DB77-48DC-B646-DFBED6C6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A41FD-002D-4209-BCFE-39C56F6E3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C016D-CA94-43A6-B2E3-82A471C8B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8FAF6-E8BE-4DC3-A351-62621D7DC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FEC99-FE5F-4EF3-A2ED-5DE4F214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1F9C3-3AEC-4605-A9F0-4E41A28A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47BDA-107D-42AE-9669-FD980226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2362-F53D-413C-A603-0283873EE28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220500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四章 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康复治疗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971640" y="5445000"/>
            <a:ext cx="5041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第七节  传统康复疗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补虚泻实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实证要用补法，虚证要用泻法，中气不足、脉络空虚、脉象沉伏无力、阳气暴脱要用灸法，瘀阻疾病要用刺血法，无虚实可言的疾病可取病变经脉的穴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99640" y="1125000"/>
            <a:ext cx="600084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局部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局部取穴就是围绕受病的局部取穴。这是根据穴位都能治疗所在部位的局部病症而确定的取穴方法。多用于病变部位比较明确及一些器质性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临近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邻近取穴是在距离病变部位比较接近的范围内取穴。多用于治疗胸腹腰背疼痛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755640" y="1054080"/>
            <a:ext cx="6500880" cy="65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穴位的选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远端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远端取穴是在距离病变部位较远的部位选穴。这种选穴方法体现了“经脉所过，主治所及”的治疗规律。多选择四肢肘膝以下的经穴治疗头面、五官、躯干、内脏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辨证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临床上有许多全身性病症，如失眠、发热等，无法确定病变的位置，需要对疾病进行辩证分析，以确定属于某个脏腑或者某条经脉，再按经取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684000" y="1125000"/>
            <a:ext cx="6500520" cy="65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穴位的选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24000" y="3141360"/>
            <a:ext cx="8572320" cy="22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随症取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对于个别突出症状，可选择治疗该症状效果显著的穴位。这些穴位是经过长期实践总结出来的有效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539640" y="1557360"/>
            <a:ext cx="65008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穴位的选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推拿疗法是医者用手或者身体其他部位，采用各种特定的动作，按照一定的要求作用于患者体表的穴位或者部位，使其内部的生理或病理状况得到改善，达到预防保健目的的治疗方法。常见按摩手法分类包括：摩擦类、挤压类、摆动类、振动类、叩击类、运动关节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、推拿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念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理气活血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通过手法作用于穴位可使局部血液循环加快，气机恢复正常，经络通畅，机体得到气血的濡养功能恢复正常则疼痛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整骨复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当人体关节由于外力或者自身用力不当引起关节错位或脱位，产生关节肿胀、疼痛、功能障碍或丧失，通过一些特定的手法如：揉法、拔伸法、推法、扳法、按法等可使其得到整复，疼痛消失，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900000" y="112536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、推拿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作用原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伤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颈椎病、肩周炎、腰椎间盘突出症、腰肌劳损、落枕及各种扭伤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内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胃痛、头痛、失眠、高血压、面神经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外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乳腺炎、妇科的痛经、闭经、产后耻骨联合分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儿科疾病</a:t>
            </a: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咳嗽、腹泻、呕吐、疳积、夜啼、惊风、肌性斜颈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900000" y="112536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、推拿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适应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中国传统体育疗法是以祖国传统医学理论为依据，通过姿势的调整、呼吸的锻炼、意念的应用来调节和增强人体各部分功能，诱导和启发人体内在潜能，起到防病、治病、益智、延年的作用。常见传统体育疗法包括导引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如五禽戏、八段锦、易筋经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，武术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如太极拳、太极剑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和气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念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八段锦是古人创编的八节不同动作组成的一套医疗、康复体操，即双手托天理三焦，左右开弓似射雕，调理脾胃须单举，五劳七伤往后瞧，摇头摆尾去心火，两手攀足固肾腰，攒拳怒目增力气，背后七颠百病消。具有柔筋健骨、养气壮力、行气活血、协调五脏六腑之功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八段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双手托天理三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2247840" y="1557360"/>
            <a:ext cx="46483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针灸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推拿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传统体育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左右弯弓似射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32670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调理脾胃单举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3060720" y="1413000"/>
            <a:ext cx="278928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劳七伤向后瞧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2919240" y="1341360"/>
            <a:ext cx="330552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摇头摆尾去心火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2900520" y="1909800"/>
            <a:ext cx="334296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2181240" y="1328760"/>
            <a:ext cx="47815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2328840" y="1600200"/>
            <a:ext cx="4486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背后七颠百病消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3166920" y="1171440"/>
            <a:ext cx="281016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五禽戏是通过模仿虎，鹿，熊，猿，鸟（鹤）五种动物的动作，以保健强身的一种气功功法。又称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五禽操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“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五禽气功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“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百步汗戏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”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等。锻炼时要注意全身放松，意守丹田，呼吸均匀，做到形、神与五禽相像。传统五禽戏，共有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54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动作；由中国体育委员会新编的简化五禽戏，每戏分两个动作，每种动作左右对称，并配合气息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642960" y="71424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五禽戏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828720" y="1341360"/>
            <a:ext cx="727236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易筋经是一种内外兼练的医疗保健养生功法，包括十二势，分别为韦驮献杵、横担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降魔杵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、掌托天门、摘星换斗势、倒拽九牛尾势、出爪亮翅势、九鬼拔马刀势、三盘落地势、青龙探爪势、卧虎扑食势、打躬势、掉尾势。易筋经强调以一定姿势，借呼吸诱导，逐步加强筋脉和脏腑的功能。适合中、青、老年人群习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684360" y="1125360"/>
            <a:ext cx="728640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筋经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BE4D-9C96-4C8C-85A9-0C96E638DDC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84360" y="1343160"/>
            <a:ext cx="806436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陈述针灸疗法的概念、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识别推拿疗法的概念、作用原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针灸疗法穴位的选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描述传统体育疗法的治疗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773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传统康复方法进行康复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02180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4000" y="2854440"/>
            <a:ext cx="857232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太极拳，是以中国传统儒、道哲学中的太极、阴阳辩证理念为核心思想，集颐养性情、强身健体、技击对抗等多种功能为一体，针对意、气、形、神的锻炼形式，非常符合人体生理和心理的要求，对人类个体身心健康以及人类群体的和谐共处，有着极为重要的促进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612720" y="1701720"/>
            <a:ext cx="7286760" cy="72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、传统体育疗法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太极拳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043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7E92-BF23-40B8-B7E8-3AE6FC7DAF58}" type="slidenum">
              <a:rPr b="0" lang="zh-CN" sz="1200" spc="-1" strike="noStrike">
                <a:solidFill>
                  <a:srgbClr val="046ca6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12360" y="2494080"/>
            <a:ext cx="748044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针灸疗法是通过针刺或灸，作用于人体经络、脏腑系统，以疏通经络气血，调节脏腑阴阳，达到康复目的的治疗方法。针灸的部位是经络和穴位，人体经络分为十二正经、奇经八脉，穴位分为十四经穴、阿是穴、奇穴，人体共有</a:t>
            </a:r>
            <a:r>
              <a:rPr b="1" lang="en-US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361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个穴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187280" y="1485720"/>
            <a:ext cx="4857840" cy="650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概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96360" y="2781000"/>
            <a:ext cx="8572680" cy="32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疏通经络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疏通经络是针灸治疗最主要最直接的作用。经脉闭阻不通，人体气血运行不畅，在某些部位导致气滞血瘀，会发生肢体或脏腑组织的肿胀疼痛，由于气滞血瘀，某些部位就失去了气血的濡养，会发生肢体的麻木、萎软、拘挛或脏腑组织功能失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971640" y="1485720"/>
            <a:ext cx="4857840" cy="650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96720" y="2421000"/>
            <a:ext cx="842976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扶正祛邪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扶正祛邪是针灸治疗的根本法则和手段。疾病的发生、发展和转归的过程就是正气和邪气相互斗争的过程。扶正，就是扶助正气；祛邪，就是祛除病邪。在治疗的过程中，通过选择穴位和应用不同的补泻手法来实现扶正和祛邪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755640" y="1413000"/>
            <a:ext cx="4857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24000" y="2565360"/>
            <a:ext cx="8572320" cy="30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调和阴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调和阴阳是针灸治疗的最终目的。疾病的发生，从根本上说是机体的阴阳失去了相对平衡引起的。治疗疾病，先分清阴阳发生的变化，再通过选择不同的针灸方法使机体的阴阳趋于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044360" y="1773360"/>
            <a:ext cx="485748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4000" y="2565360"/>
            <a:ext cx="8572320" cy="28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治神守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神守气贯穿针灸治疗的全过程，针刺前，医者和患者都需安神定志，针刺过程中，医者和患者要感受针下得气的感觉。治神守气对于经气的运行、加速气至、促进气行以及气至病所都起到重要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828360" y="1413000"/>
            <a:ext cx="6000840" cy="652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56760" y="1857240"/>
            <a:ext cx="8572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．清热温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新魏"/>
                <a:ea typeface="华文新魏"/>
              </a:rPr>
              <a:t>清热温寒是针灸治疗的根本大法之一。热性的疾病可采用浅刺快出或点刺出血，手法轻快，用泻法，少留针或不留针，清泻邪热。寒性疾病可采用深刺而久留针，温经散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899640" y="1054080"/>
            <a:ext cx="6000840" cy="65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一、针灸疗法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046ca6"/>
                </a:solidFill>
                <a:latin typeface="华文新魏"/>
                <a:ea typeface="华文新魏"/>
              </a:rPr>
              <a:t>治疗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8:15:36Z</dcterms:modified>
  <cp:revision>1</cp:revision>
  <dc:subject/>
  <dc:title>   第四章  康复治疗技术</dc:title>
</cp:coreProperties>
</file>