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0366-6850-49D2-B0B4-933E709CD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9FBA-33C7-4EDD-8324-3333CE2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D175-23AA-45BF-94EF-162C567C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351D-EBFF-4DC8-B64A-501BD13AA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AF4E-2032-4E79-AE89-077DEAD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97BD-82FC-41B4-8F65-2CC9921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3A9F-77A2-4544-8EF6-A6B6B5BC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98598-DF5C-4872-8782-C4869A04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5EFC-2BC9-428C-9FA9-E961BDC1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F7D1-45FC-45CD-A16E-BF6AA8BD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594A-74A0-4FDC-BB09-A9FF992F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2F29-BB64-4EF0-9D02-6038C889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413F-BB24-4506-8021-C74A88946C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808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九节  </a:t>
            </a:r>
            <a:br>
              <a:rPr sz="4000"/>
            </a:b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其他疾病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2484360" y="5013360"/>
            <a:ext cx="518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Verdana"/>
                <a:ea typeface="宋体"/>
              </a:rPr>
              <a:t>第二节   骨质疏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椎体骨折多见于绝经后骨质疏松，可引起身长缩短、驼背，多在疼痛后出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胸、腰椎压缩性骨折，脊椎后弯，胸廓畸形，可使肺活量和最大换气量显著减少，患者往往可出现胸闷、气短、呼吸困难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关节活动范围受限，腰背肌活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站立与行走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日常生活活动或职业活动能力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五）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饮食结构；运动及体力活动；有无腰痛及疼痛的性质；有无骨折，既往有无长期服用某些药物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24000" y="1341000"/>
            <a:ext cx="5780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危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年龄、性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遗传、家族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内分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一）康复护理原则及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康复护理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康复护理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康复护理原则及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原则  减轻或消除患者的焦虑，减轻疼痛，做好疾病的预防工作，积极对症处理，降低骨折的发生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降低骨折的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康复护理目标   防治骨折；减少并发症，降低病死率；提高康复水平；改善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级预防</a:t>
            </a: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从青少年开始，注意合理的饮食，适当的体育锻炼，养成健康的生活方式，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WHO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指出钙剂是骨质疏松症的膳食补充剂，补钙是预防骨质疏松症的基本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绝经后的妇女，应及早地采取对策，积极防治与骨质疏松症有关的疾病，如糖尿病、甲状腺功能亢进症、慢性肾炎、甲状旁腺功能亢进症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三级预防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对已患有骨质疏松症的患者，应预防不恰当的用力和跌倒，对骨折者要及时进行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疼痛是原发性骨质疏松症最常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鼓励患者参加户外的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活动可以改善人体骨骼的强度，有助于承受较大的外力作用，可以预防骨折，减轻疼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安全预防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预防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跌倒是引起骨折的最常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安全预防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620640"/>
            <a:ext cx="807732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安全预防康复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防止跌倒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防止跌倒的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多作增强下肢肌力的练习，指导患者进行脊椎灵活性练习和增强平衡协调性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强平稳协调性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预防跌倒风险评估，做好预防跌倒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安全预防教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日常生活中正确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当的使用护理自助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家庭环境的适当改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正确的防止跌倒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运动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骨质疏松症患者进行运动疗法，是最有效和最基本的方法。应注意合理的运动量，运动强度以低、中等强度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根据个体情况，制订出合适强度和时间的训练方案，选择合适的运动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有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77320" cy="2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好生活习惯及合理饮食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改变生活方式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饮食需均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）选择合适的娱乐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. ADL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日常生活能力训练项目包括：大便控制、小便控制、修饰、如厕、进餐、转移（床←→椅）、活动（步行，在家庭及其周围社区）、穿衣、上下楼梯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691920"/>
            <a:ext cx="8077320" cy="17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理疗对骨质疏松症引起的疼痛、麻木和骨折，有一定疗效。常用方法有蜡疗、红外线、磁疗、直流电离子导入、超短波、微波、超声波、低中频电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理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易出现焦虑，紧张，郁闷等心理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正确引导，给患者讲解疾病相关的知识，指导其预防与治疗的方法。减轻患者思想负担，增强信心，积极配合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康复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8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继发骨折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若患者有脊柱压缩性骨折，静卧期间可进行床上维持和强化肌力训练，主要进行腰背肌、臀肌、腹肌的等长运动训练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3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逐渐进行坐位、站立位的上述肌肉肌力和耐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764640"/>
            <a:ext cx="8077320" cy="1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饮食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三）保持正确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四）安全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一、选择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最终结局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行走困难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腰背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患者要求饮食含钙丰富，下列哪种符合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橙、橘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豆制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腊味食品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罐头食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骨质疏松的适宜步行时间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5~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          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20~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10~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40~6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287B-0138-45E5-8C8F-316CF01913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55736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骨质疏松发病的病因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骨质疏松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解释骨质疏松的主要功能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4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评估骨质疏松后疼痛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女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。因“反复腰腿疼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年，再发加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”入院。诊断：腰椎间盘突出症、骨质疏松症。患者反复腰腿疼痛，不能行走。到医院经骨密度测定及实验室检查，最后诊断为继发性骨质疏松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请问：该患者目前应采取的康复护理措施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骨质疏松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osteoporosi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OP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种以骨量减少和骨强度降低为特征，导致骨质脆性增加和易于骨折的全身性骨代谢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性激素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甲状旁腺素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P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3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降钙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4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妊娠和哺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影响骨形成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遗传因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身材、肥瘦、肌肉发达程度和胃肠功能均与遗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营养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椎体压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折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这是退行性骨质疏松症最常见和最严重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呼吸功能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骨痛和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原发性骨质疏松症最常见的症状，以腰背痛多见。一般骨量丢失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2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上时即可出现骨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42:34Z</dcterms:modified>
  <cp:revision>1</cp:revision>
  <dc:subject/>
  <dc:title>      第九节   其他疾病的康复护理</dc:title>
</cp:coreProperties>
</file>