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DAE0-1EE6-4B0C-A04D-66717A9A8B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8461-DC97-4FF6-97C2-1E2B1E6D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12D7-7A8F-47CB-A0AF-582C4DE3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B605-A944-4957-93D8-42E183A9F2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C366-6C39-4CA0-A3BB-AA0DCEB6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F8AF-D5C1-462B-923E-3D783571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CFE1-9CD0-4554-862D-6F273424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22D0C-205C-4EAD-BA50-04B1883D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B0B9-9EE0-4FC6-8BE9-5350CA57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43C9-4512-4954-9E2D-C671B69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89F3-E2CD-4107-BA49-1E4DBD50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E6BEB-FBB8-4177-9BDF-CEF99B8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E5EF-DA14-41DF-8CB3-BBEE4645CF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360" y="2205000"/>
            <a:ext cx="43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康复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5013360"/>
            <a:ext cx="3816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一节 体位摆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FBBD-361C-43F0-B01E-B6CA559731F0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71320" y="2285640"/>
            <a:ext cx="781668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防或减轻痉挛和畸形的出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使躯干和肢体保持在功能状态的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时变换体位有助于预防并发症的发生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4240" y="40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7D31-030D-43B8-97BD-40455041405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尽早进行体位摆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定时变换体位，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动作轻柔，保证患者安全；选择合适体位，避免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手、脚底不放置东西，预防足下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及时调整体位，保证患者舒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736960" y="477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体位摆放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124000" y="2998440"/>
            <a:ext cx="6121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二、常见疾病体位摆放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5637-89B7-442D-9180-AB1C1010CC1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健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4533840" cy="2725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2304-1156-4A31-A975-14BF7FC7A8D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患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4591080" cy="2641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B56F-5A0F-4C18-BE1C-7B8F9BF3DE4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4572000" cy="3017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7152120" y="404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C38E-A8D2-4DA1-85A8-DC6D9482A314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仰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658040" cy="2967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B8C-7ED4-4E2A-AC75-383612FFBEBF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侧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Picture 4" descr="1"/>
          <p:cNvPicPr/>
          <p:nvPr/>
        </p:nvPicPr>
        <p:blipFill>
          <a:blip r:embed="rId1"/>
          <a:stretch/>
        </p:blipFill>
        <p:spPr>
          <a:xfrm>
            <a:off x="1547640" y="2708280"/>
            <a:ext cx="5905800" cy="3044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7243560" y="404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脊髓损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6666-A737-42E1-B783-556A46E141AD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7816680" cy="46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上肢功能位： 肩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外展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无内、外旋）；肘关节屈曲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；前臂中间位你（无旋前、旋后）；腕关节背伸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0°~45°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并稍内收（即稍尺侧屈）；各掌指关节和指间关节稍屈曲，由示指至小指屈曲度有规律地递增；拇指在对掌中间位（即在掌平面前方，其掌指关节半屈曲，指间关节轻微屈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4B52-40FB-41BA-87E5-AF16C0CBE1A2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817040" cy="3889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功能位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下肢髋伸直，无内、外旋，膝稍屈曲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0°~3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踝处于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90°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间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ts val="4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543000" y="33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关节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6920" y="1942920"/>
            <a:ext cx="42483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体位摆放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见疾病体位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52360" y="1268280"/>
          <a:ext cx="8783640" cy="5480280"/>
        </p:xfrm>
        <a:graphic>
          <a:graphicData uri="http://schemas.openxmlformats.org/drawingml/2006/table">
            <a:tbl>
              <a:tblPr/>
              <a:tblGrid>
                <a:gridCol w="1282680"/>
                <a:gridCol w="3757680"/>
                <a:gridCol w="3743280"/>
              </a:tblGrid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烧伤部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可能出现的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抗挛缩体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头面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眼睑外翻，小口畸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戴面具，使用开口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颈前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去枕，颈部轻度伸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上提、后撤、内收、内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肩关节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~10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并外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前臂旋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肘关节处于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过伸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，掌弓变平（鹰爪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腕关节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及对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手掌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，拇指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并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M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、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P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DIP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均为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，拇指外展，腕背伸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20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侧凸，脊柱后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脊柱伸展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、内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髋关节中立伸展位：如大腿内侧烧伤，则髋外展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15°~30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屈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膝关节伸直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足趾屈并内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踝关节背屈</a:t>
                      </a:r>
                      <a:r>
                        <a:rPr b="1" lang="en-US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90°</a:t>
                      </a:r>
                      <a:r>
                        <a:rPr b="1" lang="zh-CN" sz="1800" spc="-1" strike="noStrike">
                          <a:solidFill>
                            <a:srgbClr val="1d1496"/>
                          </a:solidFill>
                          <a:latin typeface="华文新魏"/>
                          <a:ea typeface="华文新魏"/>
                        </a:rPr>
                        <a:t>位，防止跟腱挛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Text Box 53"/>
          <p:cNvSpPr/>
          <p:nvPr/>
        </p:nvSpPr>
        <p:spPr>
          <a:xfrm>
            <a:off x="5324400" y="404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烧伤患者抗挛缩体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DF9B-0F2E-4277-AD69-42218DD5BEB6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71320" y="1844280"/>
            <a:ext cx="8103960" cy="4032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  体位、良肢位、功能位、烧伤患者抗挛缩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注意事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常见疾病体位摆放方法  脑损伤患者的体位摆放（健侧卧位、患侧卧位、仰卧位）；脊髓损伤患者的体位摆放（仰卧位、侧卧位）；骨关节疾病患者的体位摆放（上肢功能位、下肢功能位）；烧伤患者体位摆放（身体各部位抗挛缩体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4515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程总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360" y="1341000"/>
            <a:ext cx="750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岁，脑梗塞后左侧偏瘫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天，查体：神志清楚，生命体征稳定；左侧肌张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肌力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级，不能自主翻身及体位移动，根据患者症状体征，早期进行康复护理介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062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请为患者进行良肢位摆放，并向患者及家属讲解其目的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29A1-65DD-4AEA-824E-6944E2577E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628640"/>
            <a:ext cx="8064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陈述体位、良肢位、功能位、抗挛缩体位的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列举体位摆放的目的、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描述不同疾病体位摆放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ct val="150000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能针对不同疾病给予正确的体位摆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3640" y="2997000"/>
            <a:ext cx="525636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华文新魏"/>
              </a:rPr>
              <a:t>一、体位摆放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97B1-C492-4048-8645-F9BFF37CDE2E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480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体位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body position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华文新魏"/>
              </a:rPr>
              <a:t>）是指人体所处的某种姿势或某种位置。在临床上是指根据患者病情，针对护理、治疗或者康复需要所采取的治疗性姿势或身体所摆放的位置。康复护理中常用的体位摆放技术有良肢位、功能位、烧伤患者抗痉挛体位的摆放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位定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D67F-58FC-435C-A6BF-97F406C3EE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618920" y="1917360"/>
            <a:ext cx="5946840" cy="314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良肢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功能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华文新魏"/>
              </a:rPr>
              <a:t>烧伤患者抗挛缩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87240" y="33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常见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1273-6D35-46D1-B4E0-80CE696F1319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2349360"/>
            <a:ext cx="835812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良肢位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</a:rPr>
              <a:t>为预防和减轻痉挛姿势的出现，保护肩关节，早期诱发分离运动而设计的一种治疗体位。在脑损伤患者的康复护理中，良肢位摆放具有防止畸形，减轻症状，使躯干和肢体保持在功能状态的作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547640" y="1486080"/>
            <a:ext cx="22622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良肢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3FE9-53A2-454D-B398-57DF0CE7B0F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2000" y="2133360"/>
            <a:ext cx="83581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位  指当肌肉、关节功能不能或尚未恢复时，必须使肢体处于发挥最佳功能活动的体位。这种体位就称为功能位，临床上常采用绷带、石膏、矫形支具、系列夹板等固定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1542960" cy="65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553520" y="40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功能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32C3-3C05-412B-9008-A615A21C48B3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6720" y="2420640"/>
            <a:ext cx="8358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烧伤患者的抗挛缩体位  指烧伤患者应保持的正确体位，即应与烧伤部位软组织收缩方面相反的体位。这种体位有助于预防挛缩，因此在卧床期间应始终保持正确的体位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223380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521960" y="40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烧伤患者的抗挛缩体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26:32Z</dcterms:modified>
  <cp:revision>1</cp:revision>
  <dc:subject/>
  <dc:title>   第五章  康复护理技术</dc:title>
</cp:coreProperties>
</file>