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5CC0-BF06-4AA6-A5F4-9782746F0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CF13-96F9-4B65-A3EC-DF489D53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D455-8B77-45BB-AC0A-B2BDDE3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DCE9-EF1D-4D84-83A0-C5FB8C1E1C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35D8-C2F3-4E34-8DD1-34968CA7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F70-A817-4655-8339-AB55524D8D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3FA-CCBD-4A85-9971-21CD7BC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328-4EC8-46CA-883F-7124A5F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DDD-0282-45B9-85DF-A6249D0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2FA-4C62-4373-8AA4-8B14C36C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B92C-1544-4B09-9331-FBBFBB38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A3E-7E35-4F33-A969-1E3AD9E2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327-4885-4A9D-A74D-C712F6ED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244-A5ED-44F1-A69A-ED3930AD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00D-651F-4DCF-B084-8FA6DAF6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C3B-C502-4D24-B8DF-BB39782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696-DB11-47ED-80D8-F44087A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4267-289D-42E5-9FDF-D62CAAC9B8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C9092-A796-4276-A9A0-118B7CC3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BA512-F417-4A82-B51B-00DBF34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F7A45-FA78-4E6A-BAC8-98D1D51B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0DFF-10B0-40D8-A24B-F7AD3986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7D9E3-C846-48F2-98C2-0990FF45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96484-2F47-4D97-95AC-7924AAE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8BBAA-B537-428A-8F1C-0D97F9E6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4A09E-340F-456E-B1A1-EFB2169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5974D-853F-44CB-8978-C91CAB1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E3CE8-C029-4A04-AFE3-550EBE6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5D260-36CD-45BC-834E-70BC4595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3D83BC-7092-428B-B32E-2A405BD5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C651B-FE83-40AF-8389-2B60E72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1EA5A-5F36-4556-A977-43710241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FD01-CA0E-4892-A2D0-65188477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4E9B0-48A3-46C8-92ED-324EDBC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5AB0B-2F29-4FB0-A35E-D490A260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9E3DD-389B-41D2-B860-B557A127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DA7EA-7881-4C69-B17B-607F804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8C580D-B4FF-49BB-9910-10AC6795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546A0D-9C58-4ABC-BE00-21F99144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FBF05-5032-4525-BFE6-D3EE95A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C1CC05-C9CF-4FA0-9B41-32A7008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03D5F2-9F27-4E4E-8BD4-CACC19B3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65DF5-569F-458F-9289-2E17C3C9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F02B-9150-4298-8806-203A53C2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AA8C27-5746-4462-B0BE-BCDA85AB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75D9B-C384-48BC-BD95-03DD0330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7A2068-EF57-46C1-A314-8B958DAC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534090-3836-4CFD-BBBF-80BE056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B9237C-7A29-42B1-BE2B-0FA42D87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4968E7-9E65-450D-8CEA-0B4AAF4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47E2BE-7363-4627-9F85-B6521F38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9241C1-AABF-48A8-B30D-6C3975C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3AA6EC-6751-4E8C-AF22-DAAA821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068C2-03A9-49C0-B879-A92E5CF6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9B87-1DD2-478E-850E-EAC50F59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B1B4F-8C5A-40FE-9816-77003A40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00A02D-5560-4302-A3F1-20729FF1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2A287-8FAC-4B52-9F9F-3F15B111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D548CD-A93C-46F4-805C-45146B33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09EF1A-A71C-4293-B922-FE7858D1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8F88D-6C2B-478D-AA0B-12EC1139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88A51-9882-4F35-B5F1-772E0B1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C273DB-2E97-4FB0-972E-4080AE5D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E6F3AE-9CA5-4418-A2E0-70E2CA92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7D0E20-F68F-403B-BAFB-C954AA68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1C02-D9B0-4027-BC48-40C50DED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FB8068-3224-49DE-8D1F-851A2944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0D6792-7BAF-490B-B364-35865A50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5544E-3381-402C-AF6E-A64D33FB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295DB7-E180-408A-8691-67BF0AE9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2C04C-9745-4F39-AEE7-55F4C10F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6F590C-F182-4BDB-B966-CCCF44DD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225F0B-1151-4F6F-8CCC-891670CF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816A83-5243-4553-ADCA-E6D0515E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1C65B6-9B4C-4CF5-9EC2-DB8882B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FA7F64-0C6D-4D2B-A234-CAB28068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D42C-9091-499A-B2F9-A8640224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B7782-AA70-4A44-B1DF-06F95C78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482F3-C221-4DE9-88F7-05636A16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F54E6-AE9D-4851-B03B-24216DE8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1A136-4043-433A-A709-452151C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351B6D-5E6B-4836-A4EA-E12EA9B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15AB73-307E-4C9A-8200-6E50989F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F5A180-0B82-4B36-B883-27462E3B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B719-1999-4286-B0EC-5C803534AA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4107-7066-4180-A72A-829B24F3F0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57A-8BE0-410F-B8D9-2836A4A45AE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522-F62A-436C-80F6-286E27FC1E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8C90-0DA2-44D6-9C37-DD529C17A0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1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61C0-9EBE-4967-8D09-D93A381F8E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E27-2B38-482E-B4E1-C479CDFD73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70A-2C77-464D-A63C-17BFEFBD0CB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2B72-9076-4260-B8F7-6A2E5B30DF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同部位、程度的脊髓损伤产生不同类型的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觉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具体表现为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不完全性损伤：感觉障碍呈不完全性丧失，其范围和部位差异明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完全性损伤：损伤平面以上可有痛觉过敏；损伤平面以下感觉完全丧失，包括肛门周围的粘膜感觉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F950-26FB-47B1-970E-C5A341726E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921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感觉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障碍还可以出现在以下这些症状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250920" y="4797360"/>
            <a:ext cx="8497800" cy="1143000"/>
            <a:chOff x="250920" y="4797360"/>
            <a:chExt cx="8497800" cy="1143000"/>
          </a:xfrm>
        </p:grpSpPr>
        <p:sp>
          <p:nvSpPr>
            <p:cNvPr id="421" name="AutoShape 3"/>
            <p:cNvSpPr/>
            <p:nvPr/>
          </p:nvSpPr>
          <p:spPr>
            <a:xfrm>
              <a:off x="250920" y="4797360"/>
              <a:ext cx="198108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疼       痛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AutoShape 3"/>
            <p:cNvSpPr/>
            <p:nvPr/>
          </p:nvSpPr>
          <p:spPr>
            <a:xfrm>
              <a:off x="2484360" y="4797360"/>
              <a:ext cx="187164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异常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AutoShape 3"/>
            <p:cNvSpPr/>
            <p:nvPr/>
          </p:nvSpPr>
          <p:spPr>
            <a:xfrm>
              <a:off x="457200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丧失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3"/>
            <p:cNvSpPr/>
            <p:nvPr/>
          </p:nvSpPr>
          <p:spPr>
            <a:xfrm>
              <a:off x="6732720" y="4797360"/>
              <a:ext cx="2016000" cy="114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华文新魏"/>
                  <a:ea typeface="华文新魏"/>
                </a:rPr>
                <a:t>感觉分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5" name="AutoShape 11"/>
          <p:cNvSpPr/>
          <p:nvPr/>
        </p:nvSpPr>
        <p:spPr>
          <a:xfrm>
            <a:off x="468360" y="2565360"/>
            <a:ext cx="7848720" cy="1008000"/>
          </a:xfrm>
          <a:prstGeom prst="flowChartTerminator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Freeform 14"/>
          <p:cNvSpPr/>
          <p:nvPr/>
        </p:nvSpPr>
        <p:spPr>
          <a:xfrm flipH="1" rot="6229800">
            <a:off x="1223640" y="3607920"/>
            <a:ext cx="1006200" cy="1079640"/>
          </a:xfrm>
          <a:custGeom>
            <a:avLst/>
            <a:gdLst>
              <a:gd name="textAreaLeft" fmla="*/ -360 w 1006200"/>
              <a:gd name="textAreaRight" fmla="*/ 1006200 w 1006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AutoShape 16"/>
          <p:cNvSpPr/>
          <p:nvPr/>
        </p:nvSpPr>
        <p:spPr>
          <a:xfrm>
            <a:off x="320364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5292720" y="3933720"/>
            <a:ext cx="576360" cy="719280"/>
          </a:xfrm>
          <a:prstGeom prst="downArrow">
            <a:avLst>
              <a:gd name="adj1" fmla="val 30028"/>
              <a:gd name="adj2" fmla="val 72440"/>
            </a:avLst>
          </a:prstGeom>
          <a:gradFill rotWithShape="0">
            <a:gsLst>
              <a:gs pos="0">
                <a:srgbClr val="e6c95f">
                  <a:alpha val="40000"/>
                </a:srgbClr>
              </a:gs>
              <a:gs pos="100000">
                <a:srgbClr val="ddb5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Freeform 15"/>
          <p:cNvSpPr/>
          <p:nvPr/>
        </p:nvSpPr>
        <p:spPr>
          <a:xfrm flipH="1" flipV="1" rot="3382800">
            <a:off x="7002360" y="3732840"/>
            <a:ext cx="1336680" cy="871200"/>
          </a:xfrm>
          <a:custGeom>
            <a:avLst/>
            <a:gdLst>
              <a:gd name="textAreaLeft" fmla="*/ -360 w 1336680"/>
              <a:gd name="textAreaRight" fmla="*/ 1336680 w 1336680"/>
              <a:gd name="textAreaTop" fmla="*/ 360 h 871200"/>
              <a:gd name="textAreaBottom" fmla="*/ 871920 h 87120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DE7-2AB8-420A-910F-185B1CD092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排尿、排便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功能障碍  主要表现为膀胱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功能障碍  主要表现为肛门括约肌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95280" y="1341360"/>
            <a:ext cx="8172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知识链接</a:t>
            </a:r>
            <a:r>
              <a:rPr b="0" i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便携式膀胱</a:t>
            </a:r>
            <a:r>
              <a:rPr b="1" lang="en-US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1d1496"/>
                </a:solidFill>
                <a:latin typeface="华文楷体"/>
                <a:ea typeface="华文楷体"/>
              </a:rPr>
              <a:t>超在脊髓损伤患者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脊髓损伤的患者往往伴有尿潴留，所以对患者进行残余尿量的测定是非常重要的环节，以往主要采取导尿术、腹部叩击法、放射性扫描、辅助检查室超声波检查法等方法检查，对患者具有一定的损伤性和不方便性，便携式膀胱</a:t>
            </a:r>
            <a:r>
              <a:rPr b="1" lang="en-US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B</a:t>
            </a:r>
            <a:r>
              <a:rPr b="1" lang="zh-CN" sz="2800" spc="-1" strike="noStrike">
                <a:solidFill>
                  <a:srgbClr val="00b0f0"/>
                </a:solidFill>
                <a:latin typeface="华文楷体"/>
                <a:ea typeface="华文楷体"/>
              </a:rPr>
              <a:t>超可以克服这些检查的缺点，具有无痛性、安全、简便、舒适，目前在临床上应用广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BA2D-F855-4EFF-B04B-081DED4EAD6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74872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自主性反射障碍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自主性反射障碍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utonomic dysreflex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一种急性的交感兴奋综合征，常发生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T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以上的脊髓损伤患者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1908000" y="4346640"/>
            <a:ext cx="7020000" cy="1584360"/>
          </a:xfrm>
          <a:prstGeom prst="cloudCallout">
            <a:avLst>
              <a:gd name="adj1" fmla="val -32925"/>
              <a:gd name="adj2" fmla="val -79050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771640" y="443700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其特征为严重的高血压、搏动性头痛、视物不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华文新魏"/>
                <a:ea typeface="华文新魏"/>
              </a:rPr>
              <a:t>心动过缓、损伤平面以上出汗、潮红和鼻塞等症状。</a:t>
            </a:r>
            <a:r>
              <a:rPr b="1" lang="zh-CN" sz="1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F9B1-37A5-40AC-919F-8673B7405C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脊髓休克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shock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指脊髓受到外力损伤后，脊髓与大脑高级中枢的联系中断，损伤平面以下所有神经反射消失，肢体呈完全性迟缓性瘫痪，出现尿潴留、便失禁等症状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5DD1-7570-46A9-B9B7-79606E8A0AB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六）其他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交感神经损伤，患者可出现排汗功能、血管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和体温调节障碍。除此之外，患者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还可出现心动过缓、直立性低血压、皮肤脱屑、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水肿、指甲松脆和角化过度等症状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44F-FD3E-4710-BFE4-537E74133EB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323640" y="1857240"/>
            <a:ext cx="85690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的神经功能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损伤平面的评定：损伤平面是指保留身体双侧正常运动和感觉功能的最低脊髓节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755640" y="4221000"/>
            <a:ext cx="7632720" cy="10688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运动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motor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感觉平面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(sensory level)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552C-32E2-4B3E-8630-6D5B5EA2E55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损伤严重程度评定  常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损伤分级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评定可表现为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完全性损伤时，即无感觉也无运动功能，可有部分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能保留区（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one of partial preservation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ZPP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，但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不完全性损伤时保留部分感觉和（或）运动功能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保留区超过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节段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部分功能保留区只适用于完全性脊髓损伤患者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5270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CEBB-9F57-4388-8E5A-56FD97E66C6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休克的评定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阳性表现：损伤平面以下所有神经反射消失，肢体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呈完全性迟缓性瘫痪、尿潴留、便失禁。阳性体征：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射消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结束表现：损伤水平以下出现任何感觉、运动或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肉张力升高和痉挛。阳性体征：球（海绵体）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肛门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射再出现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79DE-3505-4FB9-B531-A124F9CEB0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的评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评分：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ISCO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运动评分法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痉挛评定：目前多采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hworth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量表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觉功能的评定  采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SIA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的感觉指数评分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ensory index score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IS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选择身体两侧共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8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皮区关键点，在每个关键点上检查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种感觉，即针刺觉和轻触觉，按三个等级分别评定打分：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0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缺失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异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正常、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NT=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无法检查。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日常生活活动能力评估  截瘫患者可用改良的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Barthe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MB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量表进行评定；四肢瘫患者用四肢瘫功能指数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uadriplegic index of function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QIF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进行评定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、社会状况评估  脊髓损伤患者因发病急、病情重，会产生严重的心理负担及社会压力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平面和功能预后关系的评定  对完全性脊髓损伤的患者，根据损伤平面预测其功能恢复情况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517680" y="2276280"/>
            <a:ext cx="7534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脊髓损伤患者的临床表现，常用的康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复护理诊断如下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活动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尿障碍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排便失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清理呼吸道无效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87640" y="3499920"/>
            <a:ext cx="392436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焦虑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受伤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有感染的危险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8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皮肤完整性受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468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4716360" y="3429000"/>
            <a:ext cx="3816360" cy="2376360"/>
          </a:xfrm>
          <a:prstGeom prst="flowChartAlternateProcess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B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11280" y="1992240"/>
            <a:ext cx="813744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该患者经保守治疗病情稳定，颅骨牵引已经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周。康复护理评估：腕背伸级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肱三头肌肌力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级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天排便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次，且粪便干结，尿失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该患者应采取哪些康复护理措施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4000" y="1752480"/>
            <a:ext cx="8820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对患者现存的康复护理问题进行排序后，制定近期目标和远期目标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近期目标：①稳定患者情绪，减轻焦虑程度，帮助患者面对疾病，配合治疗和护理。②康复护理措施的实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远期目标：利用多种手段，使患者受限或丧失的功能和能力得到最大限度的恢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正确体位的摆放：正确的体位可以促进患者肢体功能恢复，有助于预防关节挛缩和压疮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仰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侧卧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被动活动：为防止关节挛缩和畸形，从脊髓损伤急性休克期开始，直至患者能够主动进行全关节活动范围运动均应进行被动活动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主动活动：针对患者肢体残存功能进行训练，扩大代偿功能，为日后的其他训练打好基础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体位变换：脊髓损伤患者应根据病情变换体位，一般每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小时变换一次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呼吸及排痰训练：指导患者进行呼吸训练和辅助咳嗽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43280" y="9079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8072280" cy="29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概念、分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脊髓损伤患者存在的主要功能障碍及护理评估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脊髓损伤的病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对完全性脊髓损伤患者设计康复护理方案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8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9EA3-41CD-4454-B168-3C84750FAB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8532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、排便的处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排便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914400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增强肌力训练：脊髓损伤患者为了应用轮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椅、拐杖或自助器，在卧床或坐位时，要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肌力的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2472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按照患者的肌力水平选择适宜的运动训练方式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①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和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主要训练方法为被动活动、肌肉电刺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激及生物反馈治疗；②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较大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范围的辅助、主动及器械性运动，根据患者肌力情况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，调节辅助量；③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级肌力时，可进行抗阻力运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动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运动功能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床上移动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5889240" y="4149720"/>
            <a:ext cx="1597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翻身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肘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手支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床上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" name="Group 15"/>
          <p:cNvGrpSpPr/>
          <p:nvPr/>
        </p:nvGrpSpPr>
        <p:grpSpPr>
          <a:xfrm>
            <a:off x="5292720" y="3789360"/>
            <a:ext cx="3022200" cy="3604680"/>
            <a:chOff x="5292720" y="3789360"/>
            <a:chExt cx="3022200" cy="3604680"/>
          </a:xfrm>
        </p:grpSpPr>
        <p:sp>
          <p:nvSpPr>
            <p:cNvPr id="489" name="AutoShape 16"/>
            <p:cNvSpPr/>
            <p:nvPr/>
          </p:nvSpPr>
          <p:spPr>
            <a:xfrm>
              <a:off x="5292720" y="3939840"/>
              <a:ext cx="3022200" cy="26488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" name="AutoShape 17"/>
            <p:cNvSpPr/>
            <p:nvPr/>
          </p:nvSpPr>
          <p:spPr>
            <a:xfrm>
              <a:off x="5577120" y="3819960"/>
              <a:ext cx="2453760" cy="24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" name="AutoShape 18"/>
            <p:cNvSpPr/>
            <p:nvPr/>
          </p:nvSpPr>
          <p:spPr>
            <a:xfrm flipH="1">
              <a:off x="7794360" y="3879720"/>
              <a:ext cx="943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" name="AutoShape 19"/>
            <p:cNvSpPr/>
            <p:nvPr/>
          </p:nvSpPr>
          <p:spPr>
            <a:xfrm flipH="1">
              <a:off x="5709960" y="3879720"/>
              <a:ext cx="96120" cy="121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3" name="Text Box 20"/>
            <p:cNvSpPr/>
            <p:nvPr/>
          </p:nvSpPr>
          <p:spPr>
            <a:xfrm>
              <a:off x="6695280" y="3789360"/>
              <a:ext cx="175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" name="Text Box 21"/>
            <p:cNvSpPr/>
            <p:nvPr/>
          </p:nvSpPr>
          <p:spPr>
            <a:xfrm>
              <a:off x="5393160" y="4159800"/>
              <a:ext cx="28090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5" name="Freeform 12"/>
          <p:cNvSpPr/>
          <p:nvPr/>
        </p:nvSpPr>
        <p:spPr>
          <a:xfrm>
            <a:off x="3780000" y="3213000"/>
            <a:ext cx="259056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424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坐位训练：脊髓损伤患者多采用长坐位和端坐位进行平衡维持训练，包括静态平衡训练和动态平衡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转移训练：根据患者脊髓损伤平面、残存肌力及关节活动度等情况选择不同的转移方法，包括辅助转移和独立转移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①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将训练内容与日常生活活动相结合，如进食训练在三餐时进行。②训练前做好各种准备，如辅助患者排空二便，妥善固定各种导管，以防训练中脱落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能力训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③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训练过程中鼓励患者尽量自己完成所有步骤，必要时才给予协助。④让家庭成员共同参与训练过程，指导其用最恰当的方式帮助患者生活自理。⑤训练前、后观察患者身体状况和精神状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站立训练：在坐位训练完成较好后可以开始站立训练，首先进行体位适应性训练，以防止直立性低血压，站立训练过程中应注意协助患者保持脊柱的稳定性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步行训练：脊髓损伤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个月，已完成上述训练者配带矫形器进行训练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468360" y="73836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矫形器、辅助器具和环境改造的护理：具体包括：①指导患者及家属如何正确佩戴和使用矫形器、辅助器具和轮椅。②告之注意事项。③与医生、康复治疗师、矫形器技师、患者、家属一同对患者所处的环境进行无障碍设计和改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484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恢复期康复护理措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心理护理：建立良好护患关系、疏导负性情绪、帮助患者正视疾病与残疾、指导患者家属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68360" y="7048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7CD-E19D-461C-A45A-2BAF533C5E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78920" y="1844640"/>
            <a:ext cx="8209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pinal cord injury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SCI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是由外伤、疾病和先天发育不良等因素引起的脊髓结构和功能的损害，造成损伤水平以下运动、感觉、自主神经功能的异常以及相应的并发症，导致不同程度的残疾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并发症的护理  多数脊髓损伤患者死于并发症，只有及时有效的防治，才能提高患者的生存质量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常见的并发症包括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6102720" y="5084640"/>
            <a:ext cx="601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压疮、泌尿系感染、疼痛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下肢深静脉血栓、异位骨化等</a:t>
            </a:r>
            <a:r>
              <a:rPr b="0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AutoShape 6"/>
          <p:cNvSpPr/>
          <p:nvPr/>
        </p:nvSpPr>
        <p:spPr>
          <a:xfrm>
            <a:off x="3419640" y="4941720"/>
            <a:ext cx="5364000" cy="1656000"/>
          </a:xfrm>
          <a:prstGeom prst="cloudCallout">
            <a:avLst>
              <a:gd name="adj1" fmla="val -8625"/>
              <a:gd name="adj2" fmla="val -112777"/>
            </a:avLst>
          </a:prstGeom>
          <a:noFill/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24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自我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合理膳食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心理调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持之以恒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五）回归社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468360" y="692280"/>
            <a:ext cx="47196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5253480" y="2349360"/>
            <a:ext cx="292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学会自我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养成良好的卫生习惯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药物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加强二便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5.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" name="Group 15"/>
          <p:cNvGrpSpPr/>
          <p:nvPr/>
        </p:nvGrpSpPr>
        <p:grpSpPr>
          <a:xfrm>
            <a:off x="4500720" y="1989000"/>
            <a:ext cx="4392000" cy="3618720"/>
            <a:chOff x="4500720" y="1989000"/>
            <a:chExt cx="4392000" cy="3618720"/>
          </a:xfrm>
        </p:grpSpPr>
        <p:sp>
          <p:nvSpPr>
            <p:cNvPr id="519" name="AutoShape 16"/>
            <p:cNvSpPr/>
            <p:nvPr/>
          </p:nvSpPr>
          <p:spPr>
            <a:xfrm>
              <a:off x="4500720" y="2145960"/>
              <a:ext cx="4392000" cy="27586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0" name="AutoShape 17"/>
            <p:cNvSpPr/>
            <p:nvPr/>
          </p:nvSpPr>
          <p:spPr>
            <a:xfrm>
              <a:off x="4914000" y="2021040"/>
              <a:ext cx="3565800" cy="250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AutoShape 18"/>
            <p:cNvSpPr/>
            <p:nvPr/>
          </p:nvSpPr>
          <p:spPr>
            <a:xfrm flipH="1">
              <a:off x="8136360" y="2083320"/>
              <a:ext cx="13680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AutoShape 19"/>
            <p:cNvSpPr/>
            <p:nvPr/>
          </p:nvSpPr>
          <p:spPr>
            <a:xfrm flipH="1">
              <a:off x="5108040" y="2083320"/>
              <a:ext cx="139680" cy="126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3" name="Text Box 20"/>
            <p:cNvSpPr/>
            <p:nvPr/>
          </p:nvSpPr>
          <p:spPr>
            <a:xfrm>
              <a:off x="6575400" y="1989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4646520" y="2373480"/>
              <a:ext cx="408204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25" name="Freeform 12"/>
          <p:cNvSpPr/>
          <p:nvPr/>
        </p:nvSpPr>
        <p:spPr>
          <a:xfrm>
            <a:off x="3348000" y="1268280"/>
            <a:ext cx="259092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2c2c2">
                  <a:alpha val="32156"/>
                </a:srgbClr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26920" y="24206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病因包括：①外伤性脊髓损伤致病因素：高空坠落、交通事故和体育运动等导致脊髓受压甚至完全断裂、刀伤、枪伤等脊髓外伤。②非外伤性脊髓损伤致病因素：炎症、肿瘤、血管病变、退行性病变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脊髓损伤的主要功能包括障碍运动功能障碍、感觉功能障碍、排尿、排便功能障碍、自主性反射障碍、脊髓休克、其他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2"/>
          <p:cNvSpPr/>
          <p:nvPr/>
        </p:nvSpPr>
        <p:spPr>
          <a:xfrm>
            <a:off x="755640" y="1996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脊髓损伤急性期康复护理措施包括：正确体位的摆放、被动活动、主动活动、体位变换、呼吸及排痰训练、排尿、排便的处理。恢复期康复护理措施包括：运动功能训练、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ADL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能力训练、矫形器、辅助器具和环境改造的护理、心理护理。另外，还需进行并发症的预防和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指导患者进行自我管理、调整饮食、合理膳食、调节心理、坚持康复训练、回归社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F56-DF96-44B1-A683-E152E32CC12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79280" y="198900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致病因素分为外伤性脊髓损伤和非外伤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根据损伤程度可分为完全性脊髓损伤和不完全性脊髓损伤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三）病因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高空坠落、交通事故和体育运动等导致脊髓受压甚至完全断裂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.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刀伤、枪伤等脊髓外伤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非外伤性脊髓损伤致病因素：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4572000" y="4869000"/>
            <a:ext cx="41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炎症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肿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血管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）退行性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Freeform 12"/>
          <p:cNvSpPr/>
          <p:nvPr/>
        </p:nvSpPr>
        <p:spPr>
          <a:xfrm rot="1061400">
            <a:off x="5940000" y="4005000"/>
            <a:ext cx="1800360" cy="8697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5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15"/>
          <p:cNvGrpSpPr/>
          <p:nvPr/>
        </p:nvGrpSpPr>
        <p:grpSpPr>
          <a:xfrm>
            <a:off x="4643280" y="4724280"/>
            <a:ext cx="3814560" cy="3733920"/>
            <a:chOff x="4643280" y="4724280"/>
            <a:chExt cx="3814560" cy="3733920"/>
          </a:xfrm>
        </p:grpSpPr>
        <p:sp>
          <p:nvSpPr>
            <p:cNvPr id="400" name="AutoShape 16"/>
            <p:cNvSpPr/>
            <p:nvPr/>
          </p:nvSpPr>
          <p:spPr>
            <a:xfrm>
              <a:off x="4643280" y="4815720"/>
              <a:ext cx="3814560" cy="160776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17"/>
            <p:cNvSpPr/>
            <p:nvPr/>
          </p:nvSpPr>
          <p:spPr>
            <a:xfrm>
              <a:off x="5002200" y="4743720"/>
              <a:ext cx="3097080" cy="146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18"/>
            <p:cNvSpPr/>
            <p:nvPr/>
          </p:nvSpPr>
          <p:spPr>
            <a:xfrm flipH="1">
              <a:off x="7800840" y="4779000"/>
              <a:ext cx="11880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AutoShape 19"/>
            <p:cNvSpPr/>
            <p:nvPr/>
          </p:nvSpPr>
          <p:spPr>
            <a:xfrm flipH="1">
              <a:off x="5169960" y="4779000"/>
              <a:ext cx="121320" cy="734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20"/>
            <p:cNvSpPr/>
            <p:nvPr/>
          </p:nvSpPr>
          <p:spPr>
            <a:xfrm>
              <a:off x="6432120" y="4724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1"/>
            <p:cNvSpPr/>
            <p:nvPr/>
          </p:nvSpPr>
          <p:spPr>
            <a:xfrm>
              <a:off x="4801680" y="5223960"/>
              <a:ext cx="35452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FDCE-58B8-466B-8CE8-13AE8D0035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68000" y="2249640"/>
            <a:ext cx="84294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四）流行病学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各国研究资料表明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80%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患者年龄在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0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以下的青年人，男女比例为（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.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:1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且发病率呈逐年上升的趋势。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案例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6-4A</a:t>
            </a:r>
            <a:br>
              <a:rPr sz="4400"/>
            </a:b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赵某，男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8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，建筑工人，因工作不慎从高处坠落，入院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小时，临床诊断：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颈椎骨折脱位，脊髓损伤。患者入院后意识清晰，语言流利，生命体征平稳，无其他脏器损伤。查体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:C6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平面以下感觉缺失、四肢瘫、肌张力低、腱反射消失、排尿、排便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问题与思考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该患者存在哪些功能障碍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</a:rPr>
              <a:t>）对该患者应进行哪些康复护理评估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2609-0B00-497D-B04E-8FA79DB9C5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（一）运动功能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脊髓损伤根据损伤部位不同，可表现为不同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运动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肌张力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反射功能的改变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27:03Z</dcterms:modified>
  <cp:revision>11</cp:revision>
  <dc:subject/>
  <dc:title>第一章 儿科疾病的护理</dc:title>
</cp:coreProperties>
</file>