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C2B0-4B49-4909-A925-8046B09394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6D67-4174-48CE-B4AC-1FDC4325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0AAC-64A6-45ED-A357-8A80F74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9760-A3E4-43EC-A072-EF501C250C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E91A-D9A1-4915-A65C-C962E11C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8A45-4F63-461D-B0E8-CEC56FA8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DD39-DA76-4A65-83B5-58259DFF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9A17-28EB-426C-B037-14755A1D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F8AF-9C79-4082-A483-4A007AA2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15FD-B424-4551-9D88-D2555E8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F6BF-6C92-465E-A71D-D27C5431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9F147-05C4-4D3A-8830-C8CFAC15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BB51-9E54-4F76-8846-641F6ABC70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05000"/>
            <a:ext cx="3456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三章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康复护理评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044720" y="4438800"/>
            <a:ext cx="7343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e230c"/>
                </a:solidFill>
                <a:latin typeface="Tahoma"/>
                <a:ea typeface="宋体"/>
              </a:rPr>
              <a:t>第五节  吞咽功能评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360" y="1844280"/>
            <a:ext cx="4038480" cy="4527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：</a:t>
            </a: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涎，唇闭合无力，鼓腮不能，构音障碍，舌无力影响咀嚼，吞咽后口内有食物残留，分次吞咽，仰头吞咽、低头吞咽，口阶段吞咽延迟，咽反射异常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16000" y="1701720"/>
            <a:ext cx="4038840" cy="4524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吞咽障碍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唾液在口咽部聚集，不能咽下，需定期吐出，主咳嗽反射减弱、声音减弱或不能自主咳嗽，分次吞咽，吞咽延迟，结构上提幅度降低，无效吞咽作，咽下困难，鼻反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916280"/>
            <a:ext cx="76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评定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了解患者是否存在吞咽障碍，发生吞咽障碍的可能病因，找出吞咽过程中存在的解剖和生理异常，为制订康复治疗方案提供客观依据。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，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99640" y="2276280"/>
            <a:ext cx="727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1.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临床检查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服药史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营养状态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900000" y="198864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2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功能评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唇的运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颌的位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软腭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喉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的运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0000" y="2133720"/>
            <a:ext cx="740736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3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功能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反复唾液吞咽试验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冷按摩引发吞咽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饮水测试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4.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摄食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评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406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饮水测试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得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内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一次饮完，但超过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秒，或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饮完，无呛咳、停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能一次饮完，但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次以上饮完，有呛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 呛咳多次发生，全部饮完有困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判断标准：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正常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为可疑；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分以上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评定内容及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971640" y="148428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、器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线荧光透视检查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VFSS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 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表面肌电图检查 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SEMG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钡造影检查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超声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53672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29080" y="1774800"/>
            <a:ext cx="4248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ts val="606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36720" y="2421000"/>
            <a:ext cx="688680" cy="593280"/>
            <a:chOff x="1836720" y="2421000"/>
            <a:chExt cx="68868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42120" y="243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36720" y="242100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76680" y="2455920"/>
              <a:ext cx="600480" cy="513000"/>
            </a:xfrm>
            <a:prstGeom prst="hexagon">
              <a:avLst>
                <a:gd name="adj" fmla="val 2926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2061360" y="249408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36720" y="328608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3357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79640" y="4221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2720" y="49417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E6B0-E7CF-4230-8D96-A64C87B372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12720" y="1413000"/>
            <a:ext cx="806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识记：描述吞咽障碍的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理解：比较不同颅神经损伤对吞咽功能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69800" indent="-469800">
              <a:lnSpc>
                <a:spcPts val="3574"/>
              </a:lnSpc>
              <a:spcBef>
                <a:spcPts val="601"/>
              </a:spcBef>
              <a:buClr>
                <a:srgbClr val="99669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运用：应用饮水试验对脑卒中后吞咽障碍患者进行康复评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124000" y="2562120"/>
            <a:ext cx="4897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（一）吞咽障碍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---</a:t>
            </a:r>
            <a:r>
              <a:rPr b="0" i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定义</a:t>
            </a:r>
            <a:r>
              <a:rPr b="0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92000" y="2357280"/>
            <a:ext cx="75614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障碍（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dysphagia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）是食物从口腔运送到胃的过程中出现障碍的一种表现。是一种常见的临床症状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99640" y="2060640"/>
            <a:ext cx="737244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整个吞咽过程分为五个阶段 ：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先行期（认知期）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准备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部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1298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二）吞咽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9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092720" cy="4616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700360" y="599508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吞咽过程阶段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71560" y="1844280"/>
            <a:ext cx="740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三叉神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面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咽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迷走神经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舌下神经</a:t>
            </a:r>
            <a:r>
              <a:rPr b="1" lang="zh-CN" sz="4000" spc="-1" strike="noStrike">
                <a:solidFill>
                  <a:srgbClr val="8ac8de"/>
                </a:solidFill>
                <a:latin typeface="华文新魏"/>
                <a:ea typeface="华文新魏"/>
              </a:rPr>
              <a:t>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98280"/>
            <a:ext cx="82296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三）吞咽有关的神经支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71560" y="1557360"/>
            <a:ext cx="751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按有无解剖结构异常 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功能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器质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根据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结构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神经源性吞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精神性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55640" y="2349360"/>
            <a:ext cx="74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根据发生吞咽障碍的阶段</a:t>
            </a:r>
            <a:r>
              <a:rPr b="1" lang="en-US" sz="3200" spc="-1" strike="noStrike">
                <a:solidFill>
                  <a:srgbClr val="1d1496"/>
                </a:solidFill>
                <a:latin typeface="华文新魏"/>
                <a:ea typeface="华文楷体"/>
              </a:rPr>
              <a:t>: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口腔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咽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1d1496"/>
                </a:solidFill>
                <a:latin typeface="华文新魏"/>
                <a:ea typeface="华文新魏"/>
              </a:rPr>
              <a:t>食管期吞咽障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（四）吞咽障碍的分类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赵欣</cp:lastModifiedBy>
  <dcterms:modified xsi:type="dcterms:W3CDTF">2015-12-15T06:51:07Z</dcterms:modified>
  <cp:revision>1</cp:revision>
  <dc:subject/>
  <dc:title>  第三章  康复护理评价</dc:title>
</cp:coreProperties>
</file>