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129D8-7819-4125-88C8-1A900BAAC6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49DC3-44CA-492A-9119-A0FC9346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178E0-9B02-4833-99BE-CF4A3735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C6C35-0385-4C33-B7A4-79E8D9A875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0B855-BB25-4ECD-AD77-45A10E2E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456E5-274C-4AE6-B3CA-71DBDE64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95954-CD26-4ECB-B400-623BD783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482FA-5208-4ECA-A2C0-1234B6BFD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92568-F037-4633-9146-DFC3C4DF1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BC491-948E-4B7A-AC09-6313A2D3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6052B-170C-4CB8-9277-5458EAE4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5EFD9-CA1E-4FAB-80C2-36051F49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0D21-D039-49E2-9C06-371043D1A7F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六章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常见神经系统疾病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康复护理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42680" y="549000"/>
            <a:ext cx="600084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灯片编号占位符 5"/>
          <p:cNvSpPr/>
          <p:nvPr/>
        </p:nvSpPr>
        <p:spPr>
          <a:xfrm>
            <a:off x="6588000" y="638172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C52D-DBE9-4623-A79C-6532460776C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826920" y="1700280"/>
            <a:ext cx="76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运动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感觉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言语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摄食和吞咽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认知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日常生活活动能力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心理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10"/>
          <p:cNvSpPr/>
          <p:nvPr/>
        </p:nvSpPr>
        <p:spPr>
          <a:xfrm>
            <a:off x="4427640" y="549360"/>
            <a:ext cx="3960720" cy="1584360"/>
          </a:xfrm>
          <a:prstGeom prst="wedgeRectCallout">
            <a:avLst>
              <a:gd name="adj1" fmla="val -65472"/>
              <a:gd name="adj2" fmla="val 40180"/>
            </a:avLst>
          </a:prstGeom>
          <a:solidFill>
            <a:srgbClr val="defdc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偏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根据肌张力状态分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驰缓期、痉挛期、恢复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11"/>
          <p:cNvSpPr/>
          <p:nvPr/>
        </p:nvSpPr>
        <p:spPr>
          <a:xfrm>
            <a:off x="4427640" y="1628640"/>
            <a:ext cx="3960720" cy="936720"/>
          </a:xfrm>
          <a:prstGeom prst="wedgeRectCallout">
            <a:avLst>
              <a:gd name="adj1" fmla="val -77537"/>
              <a:gd name="adj2" fmla="val 58305"/>
            </a:avLst>
          </a:prstGeom>
          <a:solidFill>
            <a:srgbClr val="f7ffa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痛觉、温度觉、运动觉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位置觉、实体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12"/>
          <p:cNvSpPr/>
          <p:nvPr/>
        </p:nvSpPr>
        <p:spPr>
          <a:xfrm>
            <a:off x="4427640" y="2276640"/>
            <a:ext cx="4465440" cy="1296720"/>
          </a:xfrm>
          <a:prstGeom prst="wedgeRectCallout">
            <a:avLst>
              <a:gd name="adj1" fmla="val -59347"/>
              <a:gd name="adj2" fmla="val 32986"/>
            </a:avLst>
          </a:prstGeom>
          <a:solidFill>
            <a:srgbClr val="baeef4"/>
          </a:solidFill>
          <a:ln w="9360">
            <a:solidFill>
              <a:srgbClr val="ba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失语症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听说读写能力障碍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构音障碍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发音不准、吐字不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　　　　　　语调及速率节奏异常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13"/>
          <p:cNvSpPr/>
          <p:nvPr/>
        </p:nvSpPr>
        <p:spPr>
          <a:xfrm>
            <a:off x="4932360" y="3213000"/>
            <a:ext cx="3887640" cy="1081080"/>
          </a:xfrm>
          <a:prstGeom prst="wedgeRectCallout">
            <a:avLst>
              <a:gd name="adj1" fmla="val -66250"/>
              <a:gd name="adj2" fmla="val 22541"/>
            </a:avLst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口腔周围肌群协调能力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摄食和吞咽运动控制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14"/>
          <p:cNvSpPr/>
          <p:nvPr/>
        </p:nvSpPr>
        <p:spPr>
          <a:xfrm>
            <a:off x="4932360" y="3933720"/>
            <a:ext cx="3887640" cy="1008000"/>
          </a:xfrm>
          <a:prstGeom prst="wedgeRectCallout">
            <a:avLst>
              <a:gd name="adj1" fmla="val -89444"/>
              <a:gd name="adj2" fmla="val 21652"/>
            </a:avLst>
          </a:prstGeom>
          <a:solidFill>
            <a:srgbClr val="dcfce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意识、注意力、记忆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智力障碍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失认证、失用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15"/>
          <p:cNvSpPr/>
          <p:nvPr/>
        </p:nvSpPr>
        <p:spPr>
          <a:xfrm>
            <a:off x="5148360" y="4581360"/>
            <a:ext cx="3671640" cy="1440000"/>
          </a:xfrm>
          <a:prstGeom prst="wedgeRectCallout">
            <a:avLst>
              <a:gd name="adj1" fmla="val -62407"/>
              <a:gd name="adj2" fmla="val 6671"/>
            </a:avLst>
          </a:prstGeom>
          <a:solidFill>
            <a:srgbClr val="f8d98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更衣、进食、卫生、行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上下楼梯等基本动作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技巧能力下降或丧失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AutoShape 16"/>
          <p:cNvSpPr/>
          <p:nvPr/>
        </p:nvSpPr>
        <p:spPr>
          <a:xfrm>
            <a:off x="5148360" y="5877000"/>
            <a:ext cx="3671640" cy="718920"/>
          </a:xfrm>
          <a:prstGeom prst="wedgeRectCallout">
            <a:avLst>
              <a:gd name="adj1" fmla="val -103953"/>
              <a:gd name="adj2" fmla="val -47569"/>
            </a:avLst>
          </a:prstGeom>
          <a:solidFill>
            <a:srgbClr val="efe4f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抑郁、焦躁、恐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2"/>
          <p:cNvSpPr/>
          <p:nvPr/>
        </p:nvSpPr>
        <p:spPr>
          <a:xfrm>
            <a:off x="755640" y="11635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楷体"/>
                <a:ea typeface="楷体"/>
              </a:rPr>
              <a:t>6-1 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患者杨某，男性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9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岁，主因左侧肢体活动不利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入院。既往有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高血压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冠心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年。患者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前晨起发现左侧肢体无力，急到本区医院就诊，行头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检查，未见异常。经药物治疗病情仍进一步加重，复查头颅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：右侧基底节区脑梗塞。于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天前左侧肢体完全瘫痪。查体：血压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160/90mmHg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，心肺查体大致正常。神智清楚，言语流利，智力正常，饮水偶有轻度呛咳，左鼻唇沟浅，肌张力低，腱反射稍弱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abinski sign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）。不能保持坐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云形 3"/>
          <p:cNvSpPr/>
          <p:nvPr/>
        </p:nvSpPr>
        <p:spPr>
          <a:xfrm>
            <a:off x="1403280" y="1968480"/>
            <a:ext cx="6840720" cy="30132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92aa2"/>
                </a:solidFill>
                <a:latin typeface="楷体"/>
                <a:ea typeface="楷体"/>
              </a:rPr>
              <a:t>问题与思考：患者存在哪些障碍（包括功能和能力障碍）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矩形 1"/>
          <p:cNvSpPr/>
          <p:nvPr/>
        </p:nvSpPr>
        <p:spPr>
          <a:xfrm>
            <a:off x="755640" y="1628640"/>
            <a:ext cx="734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华文新魏"/>
                <a:ea typeface="华文新魏"/>
              </a:rPr>
              <a:t>案例 </a:t>
            </a:r>
            <a:r>
              <a:rPr b="1" lang="en-US" sz="2800" spc="-1" strike="noStrike">
                <a:solidFill>
                  <a:srgbClr val="ff3399"/>
                </a:solidFill>
                <a:latin typeface="华文新魏"/>
                <a:ea typeface="华文新魏"/>
              </a:rPr>
              <a:t>6-1B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应用降纤酶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U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奥扎格雷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丁咯地尔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 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胞二磷酸钠等综合治疗，同时应用硝苯地平缓释片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m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口服，血压控制在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0/90mmHg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经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治疗，病情稳定，现患者仍有轻度饮水呛咳，左侧肢体不能活动，肌张力高，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abinski sign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，日常生活需要帮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问题与思考：该患者能否进行康复训练？应怎样进行功能评估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826920" y="1557360"/>
            <a:ext cx="7491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45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运动功能</a:t>
            </a:r>
            <a:r>
              <a:rPr b="1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5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        运动功能评估主要是对运动模式、肌张力、肌肉协调能力进行评估，运动模式改变评估多采用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Brunnstrom 6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阶段评估法，肌力状况评估多采用徒手肌力和器械肌力评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-79200"/>
          <a:ext cx="9144000" cy="6949800"/>
        </p:xfrm>
        <a:graphic>
          <a:graphicData uri="http://schemas.openxmlformats.org/drawingml/2006/table">
            <a:tbl>
              <a:tblPr/>
              <a:tblGrid>
                <a:gridCol w="692280"/>
                <a:gridCol w="2690640"/>
                <a:gridCol w="3113280"/>
                <a:gridCol w="2647800"/>
              </a:tblGrid>
              <a:tr h="366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阶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上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下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无任何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有极细微的屈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出现协同运动模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仅有极少的随意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有勾状抓握，但不能伸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随意发起协同运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坐和站立位上，有髋、膝、踝的协同性屈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能侧捏及松开拇指，手指有半随意的小范围伸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出现脱离协同运动的活动：肩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，肘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的条件下，前臂可旋前、旋后；肘伸直的情况下，肩可前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；手臂可触及腰骶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座位上，可屈膝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以上，足可向后滑动。在足跟不离地的情况下踝能背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可作球状和圆柱状抓握，手指同时伸展，但不能单独伸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出现相对独立于协同运动的活动；肩伸直时肩可外展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；肘伸直，肩前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30°-90°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时，前臂可旋前、旋后；肘伸直，前臂中立位，上肢可举过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健腿站，病腿可先屈膝，后伸髋；伸膝下，踝可背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463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楷体"/>
                          <a:ea typeface="楷体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所有抓握均能完成，但速度和准确性比健侧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66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运动协调近于正常，手指指鼻无明显辨距不良，但速度比健侧慢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≤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秒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楷体"/>
                          <a:ea typeface="楷体"/>
                        </a:rPr>
                        <a:t>在站立位可使髋外展到抬起该侧骨盆所能达到的范围；坐位下伸直膝可内外旋下肢，合并足内外翻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7491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5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华文新魏"/>
                <a:ea typeface="华文新魏"/>
              </a:rPr>
              <a:t>感觉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的痛觉、温度觉、触觉、运动觉、位置觉、实体觉和图形觉是否减退或丧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华文新魏"/>
                <a:ea typeface="华文新魏"/>
              </a:rPr>
              <a:t>言语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脑卒中后主要为构音障碍与失语症。言语功能评估主要是通过交流、观察、使用通用的量表以及仪器检查等方法进行判断其性质、类型及程度，确定是否需要进行言语治疗以及采取何种治疗及护理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7997760" cy="663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00000" y="2060280"/>
            <a:ext cx="7491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摄食和吞咽功能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是否存在吞咽困难，有无伴随症状，如梗阻感、咽喉痛、鼻腔反流、胃食管反流、误咽等症状，并对其程度进行量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2"/>
          <p:cNvSpPr/>
          <p:nvPr/>
        </p:nvSpPr>
        <p:spPr>
          <a:xfrm>
            <a:off x="826920" y="1484280"/>
            <a:ext cx="756144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认知与心理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常用的评估方法有简易精神状态量表、神经行为认知状态测试、蒙特利尔认知评估量表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33cc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心理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评估患者的心理状态，人际关系与环境适应能力，了解心理困扰问题，有无抑郁、焦虑、恐惧等心理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1"/>
          <p:cNvSpPr/>
          <p:nvPr/>
        </p:nvSpPr>
        <p:spPr>
          <a:xfrm>
            <a:off x="900000" y="1989000"/>
            <a:ext cx="741708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日常生活活动功能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由于脑卒中患者存在运动功能、言语功能、感觉功能、认知功能等多种功能障碍，常导致日常生活活动基本动作和技巧能力的下降或丧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一节  脑卒中 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2"/>
          <p:cNvSpPr/>
          <p:nvPr/>
        </p:nvSpPr>
        <p:spPr>
          <a:xfrm>
            <a:off x="1258920" y="2205000"/>
            <a:ext cx="734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案例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6-1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该患者经评价左侧上肢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runnstrom 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级，左侧下肢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runnstrom 3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级，肌张力高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Barthel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指数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46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，饮水试验</a:t>
            </a:r>
            <a:r>
              <a:rPr b="1" lang="en-US" sz="2800" spc="-1" strike="noStrike">
                <a:solidFill>
                  <a:srgbClr val="046ca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"/>
                <a:ea typeface="楷体"/>
              </a:rPr>
              <a:t>问题与思考：该患者康复护理介入的时机是什么？应采取哪些康复护理措施进行预防和训练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604800" y="1092240"/>
            <a:ext cx="832176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785520"/>
            <a:ext cx="8321400" cy="663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原则及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053A-0E59-4F93-BEB1-E9E972881EE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3930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早期康复、循序渐进、持之以衡、预防复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5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短期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未出现因活动受限引起的并发症或并发症能及时发现和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5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99669b"/>
                </a:solidFill>
                <a:latin typeface="华文新魏"/>
                <a:ea typeface="华文新魏"/>
              </a:rPr>
              <a:t>长期：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大限度地恢复功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2C71-4D5F-4D0D-BAEC-F6934543E6B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28440" y="2071800"/>
            <a:ext cx="796428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软瘫期康复护理（发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内 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※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临床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意识清楚或轻度意识障碍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生命体征平稳，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肌力、肌张力、腱反射均低。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684360" y="1916280"/>
            <a:ext cx="770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buClr>
                <a:srgbClr val="99669b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软瘫期康复护理（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病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a50021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周内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良肢位摆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肢体被动运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●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肢体主动运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80010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203640" y="836640"/>
            <a:ext cx="5689440" cy="1798560"/>
          </a:xfrm>
          <a:prstGeom prst="wedgeRectCallout">
            <a:avLst>
              <a:gd name="adj1" fmla="val -48046"/>
              <a:gd name="adj2" fmla="val 86273"/>
            </a:avLst>
          </a:prstGeom>
          <a:solidFill>
            <a:srgbClr val="fdf9c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防止或对抗痉挛模式的出现，保护肩关节防止半脱位，防止骨盆后倾、髋关节外展外旋及早期诱发分离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995640" y="1125360"/>
            <a:ext cx="4897440" cy="3816360"/>
          </a:xfrm>
          <a:prstGeom prst="wedgeRectCallout">
            <a:avLst>
              <a:gd name="adj1" fmla="val -55606"/>
              <a:gd name="adj2" fmla="val 28995"/>
            </a:avLst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从健侧到患侧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运动顺序应从</a:t>
            </a: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大到小关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循序渐进动作要轻柔缓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肩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外旋、外展和屈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肘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伸展，腕和手指伸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髋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关节外展和伸展，膝关节伸展，</a:t>
            </a:r>
            <a:r>
              <a:rPr b="1" lang="zh-CN" sz="2400" spc="-1" strike="noStrike">
                <a:solidFill>
                  <a:srgbClr val="99669b"/>
                </a:solidFill>
                <a:latin typeface="Arial"/>
                <a:ea typeface="华文新魏"/>
              </a:rPr>
              <a:t>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背屈和外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3995640" y="2924280"/>
            <a:ext cx="4897440" cy="3241440"/>
          </a:xfrm>
          <a:prstGeom prst="wedgeRectCallout">
            <a:avLst>
              <a:gd name="adj1" fmla="val -56027"/>
              <a:gd name="adj2" fmla="val 11018"/>
            </a:avLst>
          </a:prstGeom>
          <a:solidFill>
            <a:srgbClr val="c7fdd4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被动向健侧翻身运动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被动向患侧翻身训练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主动向健侧翻身运动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主动向患侧翻身运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动态桥式运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双侧桥式运动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）单桥式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3"/>
          <p:cNvSpPr/>
          <p:nvPr/>
        </p:nvSpPr>
        <p:spPr>
          <a:xfrm>
            <a:off x="900000" y="1844640"/>
            <a:ext cx="755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案例</a:t>
            </a:r>
            <a:r>
              <a:rPr b="1" lang="en-US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6-1 D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该患者临床诊断为“右侧基底节区脑梗死”。发病以来无头痛、恶心、呕吐、意识障碍及二便障碍。采用相应康复训练与治疗后症状进一步好转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92aa2"/>
                </a:solidFill>
                <a:latin typeface="华文新魏"/>
                <a:ea typeface="华文新魏"/>
              </a:rPr>
              <a:t>问题与思考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①患者被动训练的项目有哪些？②康复训练时的注意事项有哪些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华文新魏"/>
                <a:ea typeface="华文新魏"/>
              </a:rPr>
              <a:t>偏瘫患者典型的痉挛模式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肢为肩下沉后缩、肘关节屈曲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前臂旋前、腕关节掌屈、手指屈曲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下肢为外旋，髋膝关节伸直、足下垂内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539280" y="620280"/>
            <a:ext cx="8001000" cy="68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200A-010B-43D9-B9FC-25BB9E6617A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6920" y="1915920"/>
            <a:ext cx="771552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痉挛期康复护理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发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内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抗痉挛训练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卧位抗痉挛、被动活动肩关节和肩胛带、下肢的控制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坐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7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坐位耐力训练、床边坐起训练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2484360" y="836640"/>
            <a:ext cx="5472360" cy="1728720"/>
          </a:xfrm>
          <a:prstGeom prst="wedgeRectCallout">
            <a:avLst>
              <a:gd name="adj1" fmla="val -43152"/>
              <a:gd name="adj2" fmla="val 105462"/>
            </a:avLst>
          </a:prstGeom>
          <a:solidFill>
            <a:srgbClr val="fbffd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采用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，上肢上举，使患侧肩胛骨向前，患肘伸直。针对下肢可采用仰卧位，双腿屈曲，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抱住双膝，将头抬起，轻轻前后摆动使下肢更加屈曲。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AutoShape 6"/>
          <p:cNvSpPr/>
          <p:nvPr/>
        </p:nvSpPr>
        <p:spPr>
          <a:xfrm>
            <a:off x="3492360" y="1628640"/>
            <a:ext cx="4464360" cy="1152720"/>
          </a:xfrm>
          <a:prstGeom prst="wedgeRectCallout">
            <a:avLst>
              <a:gd name="adj1" fmla="val -34425"/>
              <a:gd name="adj2" fmla="val 115013"/>
            </a:avLst>
          </a:prstGeom>
          <a:solidFill>
            <a:srgbClr val="9cfed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仰卧，以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Bobath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式握手，用健手带动患手上举上肢，肘关节尽量伸直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3995640" y="2349360"/>
            <a:ext cx="3961080" cy="1295640"/>
          </a:xfrm>
          <a:prstGeom prst="wedgeRectCallout">
            <a:avLst>
              <a:gd name="adj1" fmla="val -68115"/>
              <a:gd name="adj2" fmla="val 93504"/>
            </a:avLst>
          </a:prstGeom>
          <a:solidFill>
            <a:srgbClr val="97d9f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屈髋、屈膝训练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屈踝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下肢内收、外展控制训练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AutoShape 8"/>
          <p:cNvSpPr/>
          <p:nvPr/>
        </p:nvSpPr>
        <p:spPr>
          <a:xfrm>
            <a:off x="3995640" y="3284640"/>
            <a:ext cx="3961080" cy="1800000"/>
          </a:xfrm>
          <a:prstGeom prst="wedgeRectCallout">
            <a:avLst>
              <a:gd name="adj1" fmla="val -76972"/>
              <a:gd name="adj2" fmla="val 80245"/>
            </a:avLst>
          </a:prstGeom>
          <a:solidFill>
            <a:srgbClr val="f7d48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开始坐起时可能发生体位性低血压首先进行坐位耐力训练。坐起角度可先取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°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坚持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30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分钟后，逐步过渡到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60°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直至最后</a:t>
            </a:r>
            <a:r>
              <a:rPr b="1" lang="en-US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90°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10"/>
          <p:cNvSpPr/>
          <p:nvPr/>
        </p:nvSpPr>
        <p:spPr>
          <a:xfrm>
            <a:off x="4932360" y="3789360"/>
            <a:ext cx="3960720" cy="2232000"/>
          </a:xfrm>
          <a:prstGeom prst="wedgeRectCallout">
            <a:avLst>
              <a:gd name="adj1" fmla="val -59620"/>
              <a:gd name="adj2" fmla="val 37412"/>
            </a:avLst>
          </a:prstGeom>
          <a:solidFill>
            <a:srgbClr val="f9bdf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患者先侧移至床边，仰卧位，从患侧坐起时，将患腿置于床边外膝关节屈曲，头向上抬，躯干向患侧旋转，健手横过身体，在患侧用手推床支撑身体至坐位，同时摆动健腿下床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1320" y="713880"/>
            <a:ext cx="7529400" cy="59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3278-0AD5-48DA-8FF6-D1138475393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77151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恢复期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衡训练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坐位平衡、立位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步行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步行前准备、扶持步行、复杂步态训练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上下楼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肢控制能力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臂、肘、腕、手的训练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2484360" y="1484280"/>
            <a:ext cx="2232000" cy="1081080"/>
          </a:xfrm>
          <a:prstGeom prst="wedgeRectCallout">
            <a:avLst>
              <a:gd name="adj1" fmla="val -47370"/>
              <a:gd name="adj2" fmla="val 101393"/>
            </a:avLst>
          </a:prstGeom>
          <a:solidFill>
            <a:srgbClr val="fcff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左右平衡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前后平衡训练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4716360" y="1484280"/>
            <a:ext cx="2303640" cy="1081080"/>
          </a:xfrm>
          <a:prstGeom prst="wedgeRectCallout">
            <a:avLst>
              <a:gd name="adj1" fmla="val -69365"/>
              <a:gd name="adj2" fmla="val 108148"/>
            </a:avLst>
          </a:prstGeom>
          <a:solidFill>
            <a:srgbClr val="edfdb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起立训练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②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站位平衡训练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7"/>
          <p:cNvSpPr/>
          <p:nvPr/>
        </p:nvSpPr>
        <p:spPr>
          <a:xfrm>
            <a:off x="2916360" y="2565360"/>
            <a:ext cx="4392360" cy="1368360"/>
          </a:xfrm>
          <a:prstGeom prst="wedgeRectCallout">
            <a:avLst>
              <a:gd name="adj1" fmla="val -46856"/>
              <a:gd name="adj2" fmla="val 72851"/>
            </a:avLst>
          </a:prstGeom>
          <a:solidFill>
            <a:srgbClr val="e5fcb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先扶持站立位练习，再进行患肢前后摆动、踏步、屈膝、伸髋、患肢负重双腿交替前后迈步及患肢平衡活动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8"/>
          <p:cNvSpPr/>
          <p:nvPr/>
        </p:nvSpPr>
        <p:spPr>
          <a:xfrm>
            <a:off x="3995640" y="2060640"/>
            <a:ext cx="4608720" cy="1873080"/>
          </a:xfrm>
          <a:prstGeom prst="wedgeRectCallout">
            <a:avLst>
              <a:gd name="adj1" fmla="val -46175"/>
              <a:gd name="adj2" fmla="val 67458"/>
            </a:avLst>
          </a:prstGeom>
          <a:solidFill>
            <a:srgbClr val="dcfce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护理人员站在偏瘫侧，一手握住患手，掌心向前；另一手从患侧腋下穿出置于胸前，手背靠在胸前处，与患者一起缓慢向前步行，然后扶杖步行到徒手步行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5724360" y="2492280"/>
            <a:ext cx="2880000" cy="1513080"/>
          </a:xfrm>
          <a:prstGeom prst="wedgeRectCallout">
            <a:avLst>
              <a:gd name="adj1" fmla="val -38587"/>
              <a:gd name="adj2" fmla="val 62171"/>
            </a:avLst>
          </a:prstGeom>
          <a:solidFill>
            <a:srgbClr val="baeef4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高抬腿步、走直线、绕圈走、跨越障碍训练步行稳定性和协调性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0"/>
          <p:cNvSpPr/>
          <p:nvPr/>
        </p:nvSpPr>
        <p:spPr>
          <a:xfrm>
            <a:off x="2916360" y="3933720"/>
            <a:ext cx="3166920" cy="649440"/>
          </a:xfrm>
          <a:prstGeom prst="wedgeRectCallout">
            <a:avLst>
              <a:gd name="adj1" fmla="val -44037"/>
              <a:gd name="adj2" fmla="val 89365"/>
            </a:avLst>
          </a:prstGeom>
          <a:solidFill>
            <a:srgbClr val="defdc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健腿先上、患腿先下原则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1"/>
          <p:cNvSpPr/>
          <p:nvPr/>
        </p:nvSpPr>
        <p:spPr>
          <a:xfrm>
            <a:off x="5435640" y="3789360"/>
            <a:ext cx="3168720" cy="1800360"/>
          </a:xfrm>
          <a:prstGeom prst="wedgeRectCallout">
            <a:avLst>
              <a:gd name="adj1" fmla="val -60171"/>
              <a:gd name="adj2" fmla="val 61990"/>
            </a:avLst>
          </a:prstGeom>
          <a:solidFill>
            <a:srgbClr val="f8d98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①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前臂的旋前、旋后训练②肘的控制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③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腕指伸展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④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手的抓握训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5280" y="692280"/>
            <a:ext cx="7529400" cy="59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0F41-924A-4760-BB2D-F3FA6A56462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7155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言语障碍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提高患者残存的言语功能，补充多种其他交流途径，改善实际交流能力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02468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1AA7-02F2-49B9-859A-733BB15673B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58560" y="2142720"/>
            <a:ext cx="676908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摄食和吞咽障碍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防因吞咽障碍导致的误吸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营养不良等并发症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功能障碍的康复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心理和情感障碍的康复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87640" y="8366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华文新魏"/>
              </a:rPr>
              <a:t>教学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893080" cy="41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楷体"/>
                <a:ea typeface="楷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列举脑卒中发病的病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描述脑卒中的临床表现和主要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8728c"/>
                </a:solidFill>
                <a:latin typeface="楷体"/>
                <a:ea typeface="楷体"/>
              </a:rPr>
              <a:t>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解释脑卒中发病的危险因素及预防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	</a:t>
            </a: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．比较脑卒中运动障碍不同时期康复护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334e"/>
                </a:solidFill>
                <a:latin typeface="楷体"/>
                <a:ea typeface="楷体"/>
              </a:rPr>
              <a:t>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楷体"/>
                <a:ea typeface="楷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楷体"/>
                <a:ea typeface="楷体"/>
              </a:rPr>
              <a:t>评估脑卒中患者并为其制订康复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52C9-25E4-4DE4-B077-3E1CFD9247F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04560" y="549000"/>
            <a:ext cx="702324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四、康复护理措施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04D2-AF9B-4BEC-9B4C-6386414398A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676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日常生活活动能力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1908000" y="2637000"/>
            <a:ext cx="2449800" cy="3457440"/>
          </a:xfrm>
          <a:prstGeom prst="rightArrowCallout">
            <a:avLst>
              <a:gd name="adj1" fmla="val 35286"/>
              <a:gd name="adj2" fmla="val 35283"/>
              <a:gd name="adj3" fmla="val 16667"/>
              <a:gd name="adj4" fmla="val 66667"/>
            </a:avLst>
          </a:prstGeom>
          <a:solidFill>
            <a:srgbClr val="f7ffa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进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床椅转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穿脱衣裤鞋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洗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4716360" y="4221000"/>
            <a:ext cx="3600720" cy="520560"/>
          </a:xfrm>
          <a:prstGeom prst="rect">
            <a:avLst/>
          </a:prstGeom>
          <a:solidFill>
            <a:srgbClr val="baeef4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早期干预，持之以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矩形 1"/>
          <p:cNvSpPr/>
          <p:nvPr/>
        </p:nvSpPr>
        <p:spPr>
          <a:xfrm>
            <a:off x="1042920" y="1557360"/>
            <a:ext cx="7632720" cy="8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Calibri"/>
                <a:ea typeface="楷体"/>
              </a:rPr>
              <a:t>知识链接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楷体"/>
              </a:rPr>
              <a:t>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alibri"/>
                <a:ea typeface="楷体"/>
              </a:rPr>
              <a:t>脑卒中康复新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近年来对脑的研究中脑功能重建的方法不断涌现。脑功能重建的方法是根据脑的可塑性理论，利用神经生理学、神经发育学、分子生物学、细胞生物学、神经心理学、神经电磁学等新技术，促进脑功能重建。目前临床上应用的技术有运动想象疗法、强制性运动疗法、双侧训练、减重平板步行训练、主动音乐疗法、主动性肌电生物反馈、功能性电刺激和重复经颅磁刺激等。另外，由于信息技术的应用。全自动康复机器人、虚拟现实技术，精神认知训练也用于脑损伤患者的康复治疗中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050560" y="549000"/>
            <a:ext cx="542628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618D-73DF-4A83-AE24-7BAC1D1AF6F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4464000" cy="32148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正确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耐心解释各类药物的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良反应及使用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院后积极锻炼并定期随诊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用药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060640"/>
            <a:ext cx="34146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640" y="47628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灯片编号占位符 5"/>
          <p:cNvSpPr/>
          <p:nvPr/>
        </p:nvSpPr>
        <p:spPr>
          <a:xfrm>
            <a:off x="6588000" y="626580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6D80-6A8F-4593-9A0C-AE00F6E64E1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000" y="2636640"/>
            <a:ext cx="4608360" cy="321444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宣传板、宣传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健康教育手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养成良好的生活习惯，合理饮食、控制体重、戒烟禁酒睡眠充足，劳逸结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计划性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364000" y="2205000"/>
            <a:ext cx="331164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0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17880" y="549000"/>
            <a:ext cx="5425920" cy="73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2045-F277-49D0-AECA-F2A9ECC73A3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0920" y="2852280"/>
            <a:ext cx="4321080" cy="273708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体位摆放及肢体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教会患者及家属自行操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大限度发挥潜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971640" y="1916280"/>
            <a:ext cx="342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示范性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205000"/>
            <a:ext cx="34146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07640" y="476280"/>
            <a:ext cx="542628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060A-893C-4CAE-8E0D-85FB7F87B94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0920" y="2852280"/>
            <a:ext cx="4143240" cy="273708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可在晨、晚间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巡视病房；护理操作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524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视时间等向患者及亲属讲解脑卒中相关知识</a:t>
            </a: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971640" y="1916280"/>
            <a:ext cx="3427200" cy="571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随机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92720" y="2205000"/>
            <a:ext cx="34146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59040" y="476280"/>
            <a:ext cx="5425920" cy="735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F402-1082-4618-B420-7C232A4C441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2852640"/>
            <a:ext cx="4105080" cy="321480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调整不良习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培养良好的兴趣爱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棋、写字、晨晚间锻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坚持不懈至关重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1000080" y="1857240"/>
            <a:ext cx="3427560" cy="57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华文新魏"/>
              </a:rPr>
              <a:t>出院指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" name="Picture 2" descr="http://pic26.nipic.com/20121216/2457331_153723044344_2.jpg"/>
          <p:cNvPicPr/>
          <p:nvPr/>
        </p:nvPicPr>
        <p:blipFill>
          <a:blip r:embed="rId1"/>
          <a:stretch/>
        </p:blipFill>
        <p:spPr>
          <a:xfrm>
            <a:off x="5219640" y="2205000"/>
            <a:ext cx="34876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050920" y="907560"/>
            <a:ext cx="350064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85BE-F199-425D-8084-0612C5FED0D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785520" y="2000160"/>
            <a:ext cx="742932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病因   高血压、心脏病、糖尿病、高血脂、酗酒、短暂性脑缺血发作及遗传等是脑卒中发病的最重要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主要功能障碍   偏瘫是脑卒中主要的运动功能障碍，是致残的重要因素，由于脑卒中患者存在运动功能、认知功能、感觉功能、言语功能等多种功能障碍，所以导致其衣、食、住、行、卫生、洗浴等日常生活活动能力低下或丧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2"/>
          <p:cNvSpPr/>
          <p:nvPr/>
        </p:nvSpPr>
        <p:spPr>
          <a:xfrm>
            <a:off x="804960" y="1762200"/>
            <a:ext cx="691200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评估   可从运动功能、感觉功能、言语功能、肌力等方面进行单项评定，也可根据临床症状、日常生活能力进行综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措施   根据病程发展不同时期进行主被动训练指导，言语训练指导、摄食和吞咽训练指导、认知训练指导、日常生活活动能力训练指导及心理情感疏导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标题 1"/>
          <p:cNvSpPr/>
          <p:nvPr/>
        </p:nvSpPr>
        <p:spPr>
          <a:xfrm>
            <a:off x="2050920" y="907920"/>
            <a:ext cx="35006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矩形 2"/>
          <p:cNvSpPr/>
          <p:nvPr/>
        </p:nvSpPr>
        <p:spPr>
          <a:xfrm>
            <a:off x="971640" y="2133720"/>
            <a:ext cx="720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康复护理指导   用药指导、计划性指导、随机指导、示范性指导及出院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标题 1"/>
          <p:cNvSpPr/>
          <p:nvPr/>
        </p:nvSpPr>
        <p:spPr>
          <a:xfrm>
            <a:off x="2050920" y="907920"/>
            <a:ext cx="35006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课程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6FC0-779D-4A84-8472-00E4EE6D364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560" y="11253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主要内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703116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主要功能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措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康复护理指导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F34A-A1D0-4565-8E62-6CDC754EBE1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9b"/>
                </a:solidFill>
                <a:latin typeface="华文新魏"/>
                <a:ea typeface="华文新魏"/>
              </a:rPr>
              <a:t>前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3203640" y="1413000"/>
            <a:ext cx="2879640" cy="11523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332000" y="3141720"/>
            <a:ext cx="194292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发病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780000" y="3141720"/>
            <a:ext cx="187308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致残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6516720" y="3141720"/>
            <a:ext cx="18716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高复发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1332000" y="4149720"/>
            <a:ext cx="2519280" cy="71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康复训练与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0"/>
          <p:cNvSpPr/>
          <p:nvPr/>
        </p:nvSpPr>
        <p:spPr>
          <a:xfrm flipV="1">
            <a:off x="4140360" y="4292640"/>
            <a:ext cx="1439640" cy="216000"/>
          </a:xfrm>
          <a:prstGeom prst="rightArrow">
            <a:avLst>
              <a:gd name="adj1" fmla="val 50000"/>
              <a:gd name="adj2" fmla="val 166625"/>
            </a:avLst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3780000" y="5084640"/>
            <a:ext cx="2016000" cy="649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致残率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华文新魏"/>
              </a:rPr>
              <a:t>↓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5867280" y="3500280"/>
            <a:ext cx="649440" cy="2305080"/>
          </a:xfrm>
          <a:custGeom>
            <a:avLst/>
            <a:gdLst>
              <a:gd name="textAreaLeft" fmla="*/ 86760 w 649440"/>
              <a:gd name="textAreaRight" fmla="*/ 562680 w 649440"/>
              <a:gd name="textAreaTop" fmla="*/ 403200 h 2305080"/>
              <a:gd name="textAreaBottom" fmla="*/ 167112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ca06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13"/>
          <p:cNvSpPr/>
          <p:nvPr/>
        </p:nvSpPr>
        <p:spPr>
          <a:xfrm>
            <a:off x="4643280" y="2565360"/>
            <a:ext cx="73080" cy="576360"/>
          </a:xfrm>
          <a:prstGeom prst="downArrow">
            <a:avLst>
              <a:gd name="adj1" fmla="val 50000"/>
              <a:gd name="adj2" fmla="val 197167"/>
            </a:avLst>
          </a:prstGeom>
          <a:solidFill>
            <a:srgbClr val="db0758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7"/>
          <p:cNvSpPr/>
          <p:nvPr/>
        </p:nvSpPr>
        <p:spPr>
          <a:xfrm>
            <a:off x="5867280" y="2349360"/>
            <a:ext cx="792360" cy="5749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8"/>
          <p:cNvSpPr/>
          <p:nvPr/>
        </p:nvSpPr>
        <p:spPr>
          <a:xfrm flipH="1">
            <a:off x="2916360" y="2349360"/>
            <a:ext cx="503280" cy="64800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0822-DAE4-435F-8179-46D4F9BA445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10920" y="1915920"/>
            <a:ext cx="81039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脑卒中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erebral apoplexy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又称脑血管意外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erebral vascular accide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VA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定义：是指各种原因引起的急性脑血管循环障碍导致的持续性（大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）、局限性或弥漫性脑功能缺损的一组疾病的总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●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缺血性（血栓形成性脑梗死，脑栓塞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●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血性（脑实质内出血，蛛网膜下腔出血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195280" y="764640"/>
            <a:ext cx="485748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、概 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3C77-14D1-4282-A5DB-83BDD767A7A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26880" y="54936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3132000" y="1557360"/>
            <a:ext cx="2952720" cy="100800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管壁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203640" y="3141720"/>
            <a:ext cx="2881080" cy="1584360"/>
          </a:xfrm>
          <a:prstGeom prst="ellipse">
            <a:avLst/>
          </a:prstGeom>
          <a:solidFill>
            <a:srgbClr val="ff66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3132000" y="5229360"/>
            <a:ext cx="3095640" cy="10792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液成分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0" y="3357720"/>
            <a:ext cx="2592360" cy="129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心脏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Oval 15"/>
          <p:cNvSpPr/>
          <p:nvPr/>
        </p:nvSpPr>
        <p:spPr>
          <a:xfrm>
            <a:off x="6443640" y="3429000"/>
            <a:ext cx="2700360" cy="1079640"/>
          </a:xfrm>
          <a:prstGeom prst="ellipse">
            <a:avLst/>
          </a:prstGeom>
          <a:solidFill>
            <a:srgbClr val="ff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血流动力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4500720" y="2637000"/>
            <a:ext cx="142560" cy="431640"/>
          </a:xfrm>
          <a:prstGeom prst="downArrow">
            <a:avLst>
              <a:gd name="adj1" fmla="val 50000"/>
              <a:gd name="adj2" fmla="val 756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17"/>
          <p:cNvSpPr/>
          <p:nvPr/>
        </p:nvSpPr>
        <p:spPr>
          <a:xfrm>
            <a:off x="6012000" y="3860640"/>
            <a:ext cx="433080" cy="216000"/>
          </a:xfrm>
          <a:prstGeom prst="leftArrow">
            <a:avLst>
              <a:gd name="adj1" fmla="val 50000"/>
              <a:gd name="adj2" fmla="val 5012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18"/>
          <p:cNvSpPr/>
          <p:nvPr/>
        </p:nvSpPr>
        <p:spPr>
          <a:xfrm>
            <a:off x="2771640" y="386064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19"/>
          <p:cNvSpPr/>
          <p:nvPr/>
        </p:nvSpPr>
        <p:spPr>
          <a:xfrm>
            <a:off x="4500720" y="4797360"/>
            <a:ext cx="142560" cy="360360"/>
          </a:xfrm>
          <a:prstGeom prst="upArrow">
            <a:avLst>
              <a:gd name="adj1" fmla="val 50000"/>
              <a:gd name="adj2" fmla="val 631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B1FF-502C-4871-9B5A-AA5D3530A1F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68000" y="549360"/>
            <a:ext cx="471492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2060"/>
                </a:solidFill>
                <a:latin typeface="华文新魏"/>
                <a:ea typeface="华文新魏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Oval 5"/>
          <p:cNvSpPr/>
          <p:nvPr/>
        </p:nvSpPr>
        <p:spPr>
          <a:xfrm>
            <a:off x="3348000" y="1916280"/>
            <a:ext cx="2303640" cy="2089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脑卒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华文新魏"/>
              </a:rPr>
              <a:t>危险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7"/>
          <p:cNvSpPr/>
          <p:nvPr/>
        </p:nvSpPr>
        <p:spPr>
          <a:xfrm>
            <a:off x="179280" y="2349360"/>
            <a:ext cx="2521080" cy="1150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可干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6300720" y="2421000"/>
            <a:ext cx="2627280" cy="107928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3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华文新魏"/>
              </a:rPr>
              <a:t>不可干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10"/>
          <p:cNvSpPr/>
          <p:nvPr/>
        </p:nvSpPr>
        <p:spPr>
          <a:xfrm>
            <a:off x="5651640" y="2852640"/>
            <a:ext cx="649080" cy="217440"/>
          </a:xfrm>
          <a:prstGeom prst="leftArrow">
            <a:avLst>
              <a:gd name="adj1" fmla="val 50000"/>
              <a:gd name="adj2" fmla="val 7462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1"/>
          <p:cNvSpPr/>
          <p:nvPr/>
        </p:nvSpPr>
        <p:spPr>
          <a:xfrm>
            <a:off x="2700360" y="2781360"/>
            <a:ext cx="647640" cy="217440"/>
          </a:xfrm>
          <a:prstGeom prst="rightArrow">
            <a:avLst>
              <a:gd name="adj1" fmla="val 50000"/>
              <a:gd name="adj2" fmla="val 74462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5940360" y="4221000"/>
            <a:ext cx="2808360" cy="172908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年龄、性别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种族和家族遗传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395280" y="4149720"/>
            <a:ext cx="2952720" cy="194328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高血压、心脏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糖尿病、高脂血症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血黏度增高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华文新魏"/>
              </a:rPr>
              <a:t>吸烟、酗酒、饮食因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17"/>
          <p:cNvSpPr/>
          <p:nvPr/>
        </p:nvSpPr>
        <p:spPr>
          <a:xfrm>
            <a:off x="1403280" y="3573360"/>
            <a:ext cx="144360" cy="503280"/>
          </a:xfrm>
          <a:prstGeom prst="upArrow">
            <a:avLst>
              <a:gd name="adj1" fmla="val 50000"/>
              <a:gd name="adj2" fmla="val 8715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AutoShape 18"/>
          <p:cNvSpPr/>
          <p:nvPr/>
        </p:nvSpPr>
        <p:spPr>
          <a:xfrm>
            <a:off x="7524720" y="3573360"/>
            <a:ext cx="144360" cy="503280"/>
          </a:xfrm>
          <a:prstGeom prst="upArrow">
            <a:avLst>
              <a:gd name="adj1" fmla="val 50000"/>
              <a:gd name="adj2" fmla="val 8715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0573-1FEA-468E-9D87-566FEA9B588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07640" y="549360"/>
            <a:ext cx="5357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、概  述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250920" y="2852640"/>
            <a:ext cx="2089080" cy="1584360"/>
          </a:xfrm>
          <a:prstGeom prst="rect">
            <a:avLst/>
          </a:prstGeom>
          <a:solidFill>
            <a:srgbClr val="ffccff"/>
          </a:solidFill>
          <a:ln w="2844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华文新魏"/>
              </a:rPr>
              <a:t>（起病较急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2843280" y="1844640"/>
            <a:ext cx="6265800" cy="23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  <a:ea typeface="华文新魏"/>
              </a:rPr>
              <a:t>缺血性脑卒中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常在安静或睡眠中发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表现为偏瘫、偏身感觉障碍、失语、共济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当发生基底动脑血栓或大面积脑梗死时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可有意识障碍，甚至危及生命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2843280" y="4437000"/>
            <a:ext cx="5257800" cy="165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华文新魏"/>
                <a:ea typeface="华文新魏"/>
              </a:rPr>
              <a:t>出血性脑卒中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多在情绪激动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兴奋、用力或活动过程中突然发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  <a:ea typeface="华文新魏"/>
              </a:rPr>
              <a:t>发病后大多患者血压明显升高</a:t>
            </a:r>
            <a:r>
              <a:rPr b="1" lang="zh-CN" sz="2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2384280" y="2637000"/>
            <a:ext cx="387360" cy="2879640"/>
          </a:xfrm>
          <a:custGeom>
            <a:avLst/>
            <a:gdLst>
              <a:gd name="textAreaLeft" fmla="*/ 247680 w 387360"/>
              <a:gd name="textAreaRight" fmla="*/ 387720 w 387360"/>
              <a:gd name="textAreaTop" fmla="*/ 74880 h 2879640"/>
              <a:gd name="textAreaBottom" fmla="*/ 280476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154"/>
                </a:lnTo>
                <a:cubicBezTo>
                  <a:pt x="10800" y="8054"/>
                  <a:pt x="5400" y="8954"/>
                  <a:pt x="0" y="8954"/>
                </a:cubicBezTo>
                <a:cubicBezTo>
                  <a:pt x="5400" y="8954"/>
                  <a:pt x="10800" y="9854"/>
                  <a:pt x="10800" y="1075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9:03:54Z</dcterms:modified>
  <cp:revision>8</cp:revision>
  <dc:subject/>
  <dc:title>第一章 儿科疾病的护理</dc:title>
</cp:coreProperties>
</file>