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1A1B-1D4A-4C89-B980-8C76B8C189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2DBDF-4613-4502-A7BF-41100150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1B43-CAED-446A-A122-5C933B2F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633F-3F63-4040-89DB-1B87CF68C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4D83-A311-40E3-AB44-53AE7B1C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2011-BE35-4598-B505-8858956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F1D5-65BA-425C-A4A0-2124B6C1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CD9-F6DF-48CD-8C74-27F49A35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E00E-BA8C-4132-91A3-AB81B04E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20BB-3332-4D63-A96E-F70080E0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FADB-81C1-4097-B633-A856A1EE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373D-58E8-4D91-9E59-DAEFF914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AD45-78D8-427B-9D64-7201CC55F5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77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 冠状动脉粥样硬化性心脏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2EC1-677E-4367-8455-E79F096F242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9b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99669b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血性心肌病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ischemic cardiomyopathy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心肌的血供长期不足，心肌组织发生营养障碍和萎缩，或大面积心肌梗死后，纤维组织增生所致。其临床特点为大多有心绞痛或心肌梗死病史，心脏逐渐扩大，发生心律失常和心力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DE3A-3948-45DC-B25C-7684AC74262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猝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udden deat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在动脉粥样硬化的基础上，发生冠状动脉痉挛或栓塞，导致心肌急剧缺血，引起短暂的严重性心律失常所致，及时的心脏复苏抢救措施可挽救患者生命。但一些急性心肌梗死并发心脏破裂的患者，心肌梗死的症状极不明显，常因心脏破裂而迅速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9D78-A23F-42F3-8F12-2D263A9A634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血管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本身可导致心血管功能减退，在冠心病发病后，患者往往因减少或缺少体力活动而导致心血管系统适应性降低，引起循环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0D7C-9CD2-4C5F-A0C1-A484D9906E0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呼吸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长期的心血管功能障碍均会伴随不同程度的肺循环功能障碍，使肺血管和肺泡气体交换的效率降低，吸氧能力下降，进一步诱发或加重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BB2-630C-4C97-B95D-64F266EB6D1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运动耐力减退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全身耐力减退与年龄增长有关，而冠心病加重了年龄相关的全身运动耐力减退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冠心病可导致机体吸氧能力减退、肌肉萎缩和氧代谢能力下降，从而限制了全身运动耐力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E1C2-1FDE-4B30-B453-A5336FC039B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功能障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主要是脂质代谢和糖代谢。脂质代谢障碍主要表现为胆固醇和三酰甘油增高，高密度脂蛋白胆固醇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缺乏运动还可导致胰岛素抵抗，除了引起糖代谢障碍以外，还可促使形成高胰岛素血症和血脂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4250-359C-4CBB-884E-1A2D0EEAD9E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影响患者日常生活和治疗的重要因素，往往是不良的生活习惯和心理、情绪等方面的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549F-DAFE-4A3D-B575-85A4F335E1A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身体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的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家族史与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药物的疗效和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绞痛、心肌梗死情况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5201-CA97-4612-A06B-30603817D6E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Electrocardiography exercise test,ECG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通过一定量的运动增加心脏负荷，使心脏储备力进入最大或失代偿状态，诱发生理或病理反应，观察心电图变化，从而评估冠心病患者心功能情况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858-2D35-44BF-8271-BA58283D131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电运动负荷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终止标准分类，心电运动负荷试验分为症状限制性运动试验、低水平运动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按运动方式分类，心电运动负荷试验包括活动平板试验、踏车运动试验、手摇车运动试验、等长收缩运动试验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步行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FDA-937D-4127-9B35-73354EDD0BE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运动试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超声心动图可以直接反映心肌活动，揭示心肌收缩和舒张功能，同时反映心脏内血液变化情况，有利于提供运动心电图不能显示的重要信息。检查方式一般选用卧位踏车、活动平板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41A6-CCF9-4D41-8D45-ADEE482F734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metabolic equivalent,ME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是以安静、坐位时的能量消耗为基础，表达各种活动时相对能量代谢水平。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1METs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相当于耗氧量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3.5ml/(kg.min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代谢当量主要运用于判断体力活动能力及预后、判断心功能及相应的活动水平、制订运动处方、指导日常生活活动与职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57456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DD8D-7435-4771-A7E5-A0BA9756E8B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康复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功能评定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纽约心脏病学会功能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步行试验判断心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Bor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观劳累程度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AB41-A330-44B0-A74F-6ACAF090876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根据冠心病康复治疗的特征，国际上将康复治疗分为三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    Ⅰ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内康复期）：指急性心肌梗死或急性冠脉综合征住院期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院外早期康复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：该期康复为冠心病康复的核心阶段，包括陈旧性心肌梗死、稳定型心绞痛及隐性冠心病等患者的康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（院外长期康复）：指病情长期较稳定，或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Ⅱ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期过程结束的冠心病患者，为巩固与维持已形成的健康生活方式和运动习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714F-E60B-4DEF-A87B-255B7A22EC9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期康复计划参考标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小时内没有新发或再发胸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心肌损伤标志物水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Times New Roman"/>
              </a:rPr>
              <a:t>CK-MB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和肌钙蛋白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没有进一步升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无明显心力衰竭失代偿征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(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静息时呼吸困难伴湿啰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过去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</a:rPr>
              <a:t>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内没有新发严重心律失常或心电图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74560" y="304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C8D1-7F7B-47C9-A7EC-27AE9A7B93B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量宜控制在静息心率增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左右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同时患者感觉不大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 Bor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&lt; 12 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如果运动或日常活动后心率增加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0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感觉费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宜减少运动量或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146B-F035-407D-A3C1-ECCEE5578C5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2360" y="1752480"/>
            <a:ext cx="8315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）活动：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稳定后，可进行床上的肢体活动。先活动远端肢体的小关节强调活动时呼吸自然、平稳，没有任何憋气和用力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然后逐步做抗阻活动，例如捏气球、皮球或拉皮筋等。避免举重、攀高、挖掘等剧烈活动；避免各种竞技性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A32-BE4B-4D34-91EF-14D497CB99B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呼吸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主要指腹式呼吸，在吸气时腹部隆起，让膈肌尽量下降；呼气时腹部收缩，将肺部的气体尽量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呼气与吸气之间要均匀连贯，可以比较缓慢，但不可憋气，呼气与吸气之比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: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0B05-5443-4529-BC75-74A534395FE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坐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从第一日就开始。开始坐时可以有依托，如床头抬高，将枕头或被子放在背后在适应有依托坐位之后，患者应逐步过渡到无依托独立坐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4437-FCCA-4FBD-A47C-285F569413D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步行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无依托独立坐位训练后，开始床边站立训练。在站立无问题后，开始床边步行，以便在疲劳或不适时能够及时上床休息，逐步过渡到病室内步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5B01-D27B-4E05-90D1-DDD05A94F96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4EA-EC45-42F6-BD10-34802AB019B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上下楼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完成病室内步行训练后，可适当进行上、下楼活动。下楼的运动负荷不大，而上楼的运动负荷主要取决于上楼的速度，保持非常缓慢的上楼速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851-1D91-49D6-A25E-9FE2100C81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排便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卧位排便由于臀部位置抬高，回心血量增加，使心脏负荷增加，同时由于排便时须克服体位所造成的重力，需要额外的用力。因此，提倡在床边放置简易坐便器，让患者坐位排便。但禁忌蹲位排便或在排便时过分用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564000" y="306360"/>
            <a:ext cx="5011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D55D-66F6-4C3E-B884-A8B638CA824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63640" y="306000"/>
            <a:ext cx="501156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娱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病情许可的范围内，可以进行有轻微体力活动的娱乐，但要避免气喘和疲劳，如室内外散步、园艺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DF99-F306-43E8-8878-E4DEF4CF68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康复方案调整与监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或活动时心率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&lt;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次日训练可进行下一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中心率增加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左右，则需继续进行同一级别的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增加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，或出现任何不良反应，则应返回到前一阶段的运动级别，甚至暂时停止运动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ED7B-378E-4DE8-805B-4D022D0A98B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健康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告知患者冠心病相关知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不必要的紧张、焦虑情绪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控制冠心病危险因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特别强调低盐低脂的饮食、健康的生活方式、个性修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7A5-E2A5-4979-B016-7B74AD9A3B2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院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在心电监护下步行，若持续步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无症状且心电图无异常，可遵医嘱安排患者出院。患者出现并发症或运动试验异常需进一步检查，并适当延长住院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客观评估患者出院前运动能力，给予出院后的日常生活及运动康复的指导，但出院后发生任何不适均应暂停活动，并按时复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885-9698-4524-BF46-C1D496CB6C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此期除进行日常活动指导、心理支持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增加了每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心电血压监护下的中等强度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括有氧运动、阻抗运动、柔韧性训练等。此期在家庭活动中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79A3-FE9B-496D-8B98-76ED367B420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准备活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多采用低水平有氧运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。目的是放松和伸展肌肉、提高关节活动度和心血管的适应性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防运动性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B378-BAD7-4B4C-A5B6-8457E68C5C3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训练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包含有氧运动、阻抗运动、柔韧性训练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~ 9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D691-903A-499C-A98C-7972B8DC81A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l)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有氧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见的有氧训练方式包括行走、慢跑、上下楼梯等。 建议训练时间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开始。运动频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 5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为最大运动强度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 80%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水平设定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；体能好的患者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设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DA4F-363C-4840-977D-5A367BBE5EC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2360" y="333000"/>
            <a:ext cx="80010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冠心病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黑体"/>
              </a:rPr>
              <a:t>coronary atherosclerotic heart disease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黑体"/>
              </a:rPr>
              <a:t>是指冠状动脉粥样硬化使血管腔狭窄或阻塞，或（和）因冠状动脉功能性改变（痉挛）导致心肌缺血缺氧或坏死引起的心脏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0DF8-2D69-4787-95BE-6AE5DBFA28C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有氧活动确定运动强度的方法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率储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目标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=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最大心率一静止心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x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动强度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%+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静止心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②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靶心率法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静息心率的基础上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~ 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差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体能好的增加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自我感知劳累程度分级法：通常建议患者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2~16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范围内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FE4-97FC-416A-903D-2F08D320238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阻抗运动形式多为循环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即一系列中等负荷、持续、缓慢、大肌群的阻抗力量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常用的方法有利用自身体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(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如俯卧撑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)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哑铃或杠铃、运动器械以及弹力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037D-0058-4D7B-B251-CF9266C9056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阻抗运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初始推荐强度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l-RM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~4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下肢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~6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or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1~13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。切记运动过程中用力时呼气，放松时吸气，不要憋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1D9-A4AD-4E96-A2CC-898151DA323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训练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)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柔韧性训练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一个部位拉伸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1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逐渐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若耐受可增加到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强度为有牵拉感觉同时不感觉疼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个动作重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总时间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左右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481-5E04-4358-9179-3FD5C1CE32E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放松运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放松方式是慢节奏有氧运动的延续或是柔韧性训练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根据患者的病情轻重可持续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 1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病情越重放松运动的持续时间宜越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775B-8D02-4C09-9B82-68D2E54F644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在锻炼中掌握自我监测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项目包括心率、心律、血压、呼吸、主观用力程度以及有无用力失耐受的症状和体征，以保证在安全范围内达到和保持运动处方所规定的运动水平，适时终止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6E84-5822-448C-8827-319DC65AE82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指导患者性功能康复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在一般情况下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建议患者出院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后可以重新开始性生活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CAB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6~8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上二层楼试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观察患者能否完成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~6MET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9428-8AB8-49DC-A4C9-1233C81F6A7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1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II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日常生活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①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选择适当的运动，避免竞技性运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冒或发热，在症状和体征消失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再恢复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③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避免在阳光下和高气温时剧烈运动，寒冷和炎热天气时相对降低运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④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患者定期在康复医师的指导下检查和修正运动处方，避免过度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⑤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训练必须持之有恒，如间隔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~7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日以上，再开始运动前需进行相应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65F2-EDB6-472C-8286-DBC41E0ABAC1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期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低危患者的运动康复无需医学监护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仍为中危甚至高危患者的运动康复中仍需要医学监护。低危患者及部分中危患者可以进一步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Ⅲ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期康复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高危患者及部分中危患者应转上级医院继续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此期患者仍需控制危险因素，改善体力活动能力和心血管功能，提高患者参与并坚持康复的主动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840-69D1-4F22-A54A-173F36831A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健康宣教  向患者及家属介绍冠心病药物治疗和康复训练的重要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饮食指导   指导患者进食低脂、富含纤维素、易消化饮食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心理评估  评估患者有无焦虑、孤单、抑郁、情绪易激动等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用药指导   帮助患者掌握服用硝酸甘油的注意事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为冠心病患者提供有关性生活方面指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DB25-CC6B-4C15-95CD-B5A51E2A051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8440" y="1752480"/>
            <a:ext cx="8324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二）流行病学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冠心病是动脉粥样硬化导致器官病变的最常见类型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，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也是严重危害人类健康的常见病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本病出现症状或致残、致死后果多发生在</a:t>
            </a:r>
            <a:r>
              <a:rPr b="1" lang="en-US" sz="2600" spc="-1" strike="noStrike">
                <a:solidFill>
                  <a:srgbClr val="1d1496"/>
                </a:solidFill>
                <a:latin typeface="黑体"/>
                <a:ea typeface="黑体"/>
              </a:rPr>
              <a:t>40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岁以后，男性发病早于女性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1d1496"/>
                </a:solidFill>
                <a:latin typeface="黑体"/>
                <a:ea typeface="黑体"/>
              </a:rPr>
              <a:t>在我国，冠心病发病率和病死率近年来呈增长趋势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3D83-5D7F-4A25-A6B8-C25C4286F12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62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岁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天前因“无明显诱因出现持续性压榨性胸痛”入院，疼痛部位主要位于胸骨体中段并放射至心前区，休息和含服硝酸甘油均不能缓解，伴有气促，濒死感、恐惧感。原发性高血压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平素血压波动在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0~180/70~11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，规律服用降血压药物。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II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型糖尿病病史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年，仅用饮食疗法。入院时查体发现：口唇发绀，颈静脉怒张，左侧肺底中水泡音，心界向左下扩大。心电图示：异位心律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V1~V3 ST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段抬高，偶发室性期前收缩。实验室检查白细胞计数增高、红细胞沉降率增快，肌钙蛋白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Ⅰ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、肌红蛋白增高。目前患者病情平稳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86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R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9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次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分，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BP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36/80mmHg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试分析：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该患者目前处于冠心病康复治疗的哪期，应如何指导患者进行康复运动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1d1496"/>
                </a:solidFill>
                <a:latin typeface="Verdana"/>
                <a:ea typeface="宋体"/>
              </a:rPr>
              <a:t>应从哪些方面对患者进行健康宣教，以促进患者的康复及预防二次发作？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4CE-2BD6-443C-8F8C-8D8EE6BF33D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三）临床表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  ①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稳定型心绞痛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stable angina pectoris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阵发性的前胸压榨性疼痛或憋闷感觉，主要位于胸骨体中段或上段之后，可放射至心前区和左上肢尺侧，持续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3~5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分钟后逐渐消失，休息或舌下含服硝酸甘油制剂后消失，劳累、情绪激动、饱食、受寒等为其常见的诱因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845-94E4-455A-B322-E276DE0AF7AC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不稳定性心绞痛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unstable angina,U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这类心绞痛有发展至心肌梗死的高度危险性。其胸痛的部位、性质与稳定型心绞痛相似，原为稳定型心绞痛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个月内疼痛发作的频率增加、时限延长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、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程度加重、硝酸类药物缓解作用减弱，休息时或较轻微活动即可诱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9523-E1DB-4E59-9B7E-2F2C31B07D4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6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心肌梗死（</a:t>
            </a:r>
            <a:r>
              <a:rPr b="1" lang="en-US" sz="2600" spc="-1" strike="noStrike">
                <a:solidFill>
                  <a:srgbClr val="1d1496"/>
                </a:solidFill>
                <a:latin typeface="Times New Roman"/>
                <a:ea typeface="宋体"/>
              </a:rPr>
              <a:t>myocardial  infarction,MI</a:t>
            </a:r>
            <a:r>
              <a:rPr b="1" lang="zh-CN" sz="2600" spc="-1" strike="noStrike">
                <a:solidFill>
                  <a:srgbClr val="1d1496"/>
                </a:solidFill>
                <a:latin typeface="Verdana"/>
                <a:ea typeface="宋体"/>
              </a:rPr>
              <a:t>）：其疼痛部位和性质与心绞痛相同，但诱因多不明显，且常发生于安静时，程度更重，持续时间更长，可达数小时或更长，休息和含服硝酸甘油多不能缓解，疼痛剧烈时常伴有不同程度的恶心呕吐、上腹胀痛。全身症状表现为发热、心动过速、白细胞增高和红细胞沉降率增快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232E-67D0-434D-B80D-23223AA5638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无症状性心肌缺血（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silent myocardial ischemia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：该病无临床症状，但在体格检查时发现心电图有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S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段压低、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T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波倒置，或放射性核素心肌显像示心肌缺血。它可突然转化为心绞痛或心肌梗死，亦可逐渐演变为缺血性心肌病，发生心律失常或心力衰竭，个别患者亦可猝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612720" y="33336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—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24:11Z</dcterms:modified>
  <cp:revision>1</cp:revision>
  <dc:subject/>
  <dc:title>        第八章  心肺系统疾病的康复护理</dc:title>
</cp:coreProperties>
</file>