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B5F45C-2F9A-4B71-83E6-7575114F75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C63AEC-6E78-4973-87BF-21DDCF60CC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8A85D87-3C92-4F42-8D77-A7D4DF66AE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916C788-7F17-4402-AA1A-36738D748B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30D8F9-9018-4313-B884-617318BBB7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869441-B5ED-467E-B65A-10F473248E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6E7F19-12B5-49E1-8BCC-044C250766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18D9EF1-C8D6-494B-B6E3-8EB4328AB6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89707F0-A8C3-4C53-8F0A-81DA4E19AB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08AB15-330C-4B75-843C-85FE7E0910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EF0A43-4470-400B-A1A0-DA7CDDE76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008354-3063-42F5-B3FF-16E65C1594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2C607-68C5-425D-9407-12BB98FF354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triangle" w="med"/>
            <a:tailEnd len="med" type="triangle"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triangle" w="med"/>
            <a:tailEnd len="med" type="triangle"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