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38D3F3-0AC0-4974-8F62-425BE25BFB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0A5278-7644-40E5-93D7-73E4D6A3A4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F46E2FB-70C3-4C74-BBD8-44A418225C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4060CCB-0352-40AA-808D-C76F4C7DEF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8D1FF7-3B0C-46CD-B3B0-5CD8675865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4FBA0C-70B2-44C3-8FD8-1EBEF7AC36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97125F-7CCA-4DDD-9F3D-2ADC6AB82E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029B29A-4E3B-4B70-A927-4950FA91F1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F1806FD-B192-422D-8406-93F7A66B8F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42F27F-6FDC-4EA9-A157-22C991D151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21BF75-1DE1-4382-81C1-A3B55510AC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37204E-4C6B-448D-BE66-5963050A88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5A52-AB53-442F-A508-3633F2059FB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triangle" w="med"/>
            <a:tailEnd len="med" type="triangle"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triangle" w="med"/>
            <a:tailEnd len="med" type="triangle"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