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7162C-DBAC-4B21-9C70-D2E3F8F844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6DEA-FD41-41B0-820E-33AF6F01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518E3-F43A-4090-8D9C-F425480B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C5B57-0648-47C8-A32B-BEAB082E20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F01E-3C15-4D5D-94B2-EF4799F2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77DB7-536E-4759-8C87-400DB87A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E5A32-D0E7-4B08-AA91-ED0709C2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77AD3-E519-4F07-ADC0-F22484B9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F0B12-4B77-4B54-B568-8E551BB5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1B8E8-4687-4147-9F01-50216486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25956-F22A-4668-A88D-2E590F36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35481-BAE4-43E8-98C1-B88F2D1F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4B6B-3597-46A3-8667-EF002E60DD2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高危妊娠管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08C9-B6E0-41E6-A2D0-D20A2DF8DC6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实验室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畸形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成熟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缺氧及程度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99C0-C819-4989-B152-2F7178CF6F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41356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处理原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因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遗传性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防治原则是预防为主，早发现、早诊断，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妊娠并发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应认真做好围生期保健，及时发现高危人群，预防并发症和不良结局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合并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626F-D1EC-435B-8CEE-C19CA82C42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3908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一般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针对各种高危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具体特点进行相应的治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给孕妇高热量、高蛋白质、足够维生素及适量微量元素，有助于促进胎儿的生长发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提高胎儿对缺氧的耐受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对胎盘功能减退的孕妇，定期面罩给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CFDD-5FC9-4E16-9A45-04E9FFCC50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产科处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预防早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终止妊娠问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时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1562-5681-4302-A7C4-351DF6219A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观察孕妇体态，测量孕妇身高、体重、血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全身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科生理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状况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BA43-3E28-4D5F-B832-3113ED5DAB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实验室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特点是可以连续观察并记下胎心率的动态变化而不受宫缩影响。再配以子宫收缩仪、胎动记录仪便可反映三者间的关系。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8C6A-7EA2-4260-8DAC-2AA415EDA3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基线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在无宫缩或宫缩之间记录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与子宫收缩有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变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318E-A15D-4772-B2DF-6744130A02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964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仍保持原基线不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加，增加范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加速的原因可能是胎儿躯干局部或脐静脉暂时受压。散发的、短暂的胎心率加速是无害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2957-7013-485F-98AC-C58840B4B0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早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它的发生与子宫收缩几乎同时开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收缩后即恢复正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幅度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早期减速一般认为是胎头受压，脑血流量一时性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无伤害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00360" y="4149720"/>
            <a:ext cx="4852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13A8-AEA4-4452-A25A-661FF417C3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变异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宫缩开始后胎心率不一定减慢。减速与宫缩的关系并不是恒定的。但在出现后，下降迅速，幅度大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持续时间长，而恢复也迅速。一般认为变异减速系因子宫收缩时脐带受压兴奋迷走神经所致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6850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4392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及监护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妇女的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窘迫及新生儿窒息的护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   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6B20-2452-4AF3-9736-D5A15B5298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晚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子宫收缩开始后一段时间（多在高峰后）出现胎心率减慢，但下降缓慢，持续时间长，恢复亦缓慢，晚期减速是胎儿缺氧的表现，它的出现应对胎儿的安危予以高度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50920" y="3789360"/>
            <a:ext cx="5854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3870-5434-4FB8-B0D0-8212D78674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和尿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HCG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雌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胎盘催乳素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血清妊娠特异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657D-6970-47CC-AB3E-F90D27D49C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羊水中卵磷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鞘磷脂比值，用于评估胎儿肺成熟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甲胎蛋白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AFP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头皮血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在宫颈扩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时取胎儿头皮血，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则提示胎儿严重酸中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E906-C7DA-439A-A753-40AA0F2434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健康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做好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配合检查和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343D-B0A8-4A42-996D-B2B56D7A3A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胎儿在宫内有缺氧征象，危及胎儿健康和生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4E72-156B-47CA-B456-3999307381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儿窘迫的病因涉及多方面，可归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类。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母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胎儿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脐带、胎盘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7BF5-9CC2-423F-B7F8-5756099AAA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体重、宫高、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不长或增长很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系统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儿双顶径、头腹围之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股骨长度、羊水量等表明有胎儿生长迟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综合生物物理图像评分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即通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测胎儿呼吸、胎动、羊水量，结合胎心监护试验，可表现为评分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0670-142D-4834-A31E-FEC324509A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测雌三醇、胎盘生乳素、雌激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酐比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慢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多发生在妊娠末期，往往延续至临产并加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急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主要发生于分娩期，多因脐带因素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心出现异常改变是胎儿窘迫最早出现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1674-426C-4E6D-BC23-1F8811FE22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监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观察胎动时胎心率无加速反应，或无胎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异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动是胎儿生命体征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出现改变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粪污染羊水的程度可分为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E920-C60C-4C58-B41C-8AF152A6D3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治疗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一）慢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针对病因，根据孕周、胎儿成熟度和窘迫的严重程度决定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急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颈尚未完全扩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列举高危妊娠的范畴、辅助检查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胎儿窘迫与新生儿窒息的临床表现和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识别高危妊娠妇女的胎心电子监护图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比较高危妊娠的评分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胎儿窘迫，实施新生儿窒息抢救过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73DA-E7D8-494A-BB90-AE541BA0386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B884-DF13-42BE-94C2-E7E7003F10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心监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儿头皮血血气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66A3-17AF-419D-819B-755C5B2AD1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胎儿情况改善，胎心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能运用有效的应对机制来控制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产妇能够接受胎儿死亡的现实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748E-4DC1-4FB6-94D8-8386CCD81C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左侧卧位，间断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手术者做好术前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做好新生儿抢救的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DA78-B2D6-4ADA-AD7A-BF01D68CB5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，仅有心搏无自主呼吸或未能建立规律呼吸，以低氧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高碳酸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酸中毒为主要病理生理改变的疾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CF2E-A9E8-40F3-A188-39F5328ECA9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前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时的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4E2E-F96B-4A1F-B6E4-8361C91682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轻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新生儿面部与全身皮肤青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呼吸浅表或不规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规则，强而有力，心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有反应，肌肉张力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轻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EE34-4E78-4794-814B-82B5CE3AF3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重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苍白，口唇暗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无呼吸或仅有喘息样微弱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不规则，心率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且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无反应，肌肉张力松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重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2A7C-5067-4111-A69A-FE6BE7C545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治疗原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为主，一旦发生及时抢救，动作准确、迅速、轻柔，以免二次损伤。估计胎儿娩出后有窒息的可能要做好复苏准备如人员、器械、药品、氧气等。如果发生窒息应及时按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清理呼吸道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建立呼吸，增加通气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维持正常循环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药物治疗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评价）步骤进行复苏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F479-D3C3-4B69-91DC-9F96AC031C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状况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点评估窒息的程度，胎儿出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分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8AB7-492A-4A5F-AB15-C1431E9915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护理问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交换受损  与呼吸道内存有羊水、黏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  与抢救操作、脑缺氧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母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障碍性悲伤  与现实的或预感到失去孩子及新生儿可能留有后遗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恐惧  与新生儿的生命受到威胁有关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98E8-5836-4084-BF58-5417AA2E43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高危妊娠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妊娠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致病因素或某种并发症及合并症可能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危害孕妇、胎儿及新生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导致难产者。具有高危因素的孕妇，称为高危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00D2-98E6-47A1-B28E-57C5F7161F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抢救成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并发症降低至最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母亲情绪稳定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A843-E674-4ECC-B6B7-31A60677BC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措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ABCDE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复苏方案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尽量吸净呼吸道黏液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建立呼吸，增加通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维持正常循环，保证足够心排出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药物治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⑤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评价。前三项最为重要，其中吸净呼吸道黏液是根本，通气是关键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A01E-27A1-4FBB-BA3E-B156E2A32E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新生儿窒息复苏流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最初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通气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各种抢救药物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加强新生儿复苏后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3BD3-BE43-4B8C-8E85-EE75A6E25C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防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围产保健，及时处理高危妊娠。加强胎儿监护，避免和及时纠正宫内缺氧。对宫内缺氧胎儿，可通过羊膜镜了解胎粪污染羊水的程度，或在胎头露出宫口时取胎儿头皮血进行血气分析，密切监测临产孕妇，避免难产。培训接产人员熟练掌握复苏技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D814-A519-4990-8CD7-3F2C418D8F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407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的监护  高危妊娠的范畴，高危妊娠的监护可归纳为：人工监护、仪器监护、实验室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妇女的护理  高危孕妇的处理原则：病因治疗、一般治疗、产科处理，对高危妊娠妇女护理评估，熟悉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胎儿窘迫的护理  胎儿窘迫的病因，胎儿窘迫分为急性与慢性窘迫。掌握胎儿窘迫的护理评估，熟悉胎儿窘迫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新生儿窒息复苏的护理  新生儿窒息分为轻度窒息和重度窒息。做好新生儿抢救准备，配合新生儿窒息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C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苏，加强后的护理。掌握新生儿窒息复苏的流程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6ca6"/>
                </a:solidFill>
                <a:latin typeface="黑体"/>
                <a:ea typeface="黑体"/>
              </a:rPr>
              <a:t>谢谢！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1A00-96DA-4AE4-9CCA-88A961B9FE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范畴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导致高危妊娠的因素包括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人及社会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年龄；孕前体重过轻或超重；未婚或独居；有吸烟、酗酒、吸毒史；家族中有明显遗传性疾病；未做产前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疾病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异常孕产史者；妊娠期各种并发症、合并症；胎盘功能不全；妊娠期接触大量放射线、化学性毒物、服用过对胎儿有影响的药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EE0D-ADFA-4B2B-B8EB-7689573E3E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确定孕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根据末次月经、早孕反应的时间、胎动出现的时间核算预产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测量子宫底高度及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产前检查时，均应测量孕妇的子宫底高度和腹围，估计胎龄及胎儿大小，以了解胎儿宫内发育情况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计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每天早、中、晚计数三次，每次一小时，三次之和乘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胎动次数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6359-C043-4A32-877E-659BDC94C0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听胎心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用听诊器或多普勒监测仪，了解胎儿是否存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高危妊娠评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高危妊娠评分法是进行动态监护的具体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反映胎儿宫内发育及孕妇健康情况的动态曲线图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88ED-5305-4E01-853C-319D77EBDC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785600"/>
            <a:ext cx="8443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从声像图反映胎儿数目、胎位、胎心及胎盘的位置和结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及早发现胎儿宫内缺氧及有无先天性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连续记录胎心率的变化，同时观察胎动、宫缩对胎心率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760A-FEB0-491B-B760-642744D9BB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785600"/>
            <a:ext cx="8370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通过羊膜镜直接窥视羊膜腔内羊水性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生物物理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综合胎心电子监护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所示某些生理活动 ，以判断胎儿有无急、慢性缺氧的一种产前监护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40:41Z</dcterms:modified>
  <cp:revision>2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