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79BA0-7F42-4B5F-B386-B504B17714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8CFBA-9E1E-4FB0-80D9-91252EA8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879AD-43B3-4392-BDD4-89DB6DD9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462DF-2714-4B6D-8EFB-F2C7BBBE69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CC665-5796-4596-BBA9-4D42D78A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3C837-F9C2-4073-A2F9-9C15228D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771B1-EC7E-4047-8417-4EC8916E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6CA98-92E0-432F-A2EA-CABACB12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EC3CB-7BD4-4540-A8F1-92F5DB511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28BCF-CC4C-407A-A4D0-68C84B56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E4C9D-B336-40D4-8765-DD7DA03B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4665D-F45E-49C0-B23A-66D2BB6E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CA74-0FA5-42DD-8EE4-D21C15D57F7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十五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妊娠滋养细胞疾病   患者的护理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56760" y="157176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葡萄胎确诊后应及时清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刮出物送组织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如黄素化囊肿急性扭转可手术切除。高危者给予预防性化疗。年龄较大且无生育要求者可行子宫切除术，保留双侧卵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42560" y="1500120"/>
            <a:ext cx="9001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诊断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 与化疗所致的恶心、呕吐和食欲下降等消化道反应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潜在并发症：出血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口腔黏膜改变的危险   与化疗所致溃疡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自我形象紊乱   与化疗所致的脱发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85480" y="1371600"/>
            <a:ext cx="862956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严密观察病情变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症状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做好清宫术前后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性化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随访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随访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随访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</a:t>
            </a: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第二节     妊娠滋养细胞肿瘤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450B-8C5E-4D53-9E41-7E5671445A3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1000080"/>
            <a:ext cx="8196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肿瘤是滋养细胞恶性病变，包括侵蚀性葡萄胎、绒癌和胎盘部位滋养细胞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侵蚀性葡萄胎是指葡 萄胎组织侵入子宫肌层引起组织破坏或转移至子宫以 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绒毛膜癌是一种高度恶 性的肿瘤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%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生于葡萄胎之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5" name="Picture 6" descr="1"/>
          <p:cNvPicPr/>
          <p:nvPr/>
        </p:nvPicPr>
        <p:blipFill>
          <a:blip r:embed="rId1"/>
          <a:stretch/>
        </p:blipFill>
        <p:spPr>
          <a:xfrm>
            <a:off x="6643800" y="4929120"/>
            <a:ext cx="1357200" cy="15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DEE3-009B-4BA5-BEE0-CCA6CD6B32E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原发灶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不规则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子宫复旧不全或不均匀增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卵巢黄素化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  如腹痛、假孕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BA0D-F829-40FA-9084-23ECD4C89A0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转移灶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肺转移    咳嗽或反复咯血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转移    紫蓝色结节，破溃后可大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肝转移    可有上腹部或肝区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脑转移    为死亡的主要原因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92F1-04A7-4F2C-83AA-134C86F1D57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血和尿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β-HCG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胸部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超声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T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RI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组织学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F87E-100E-47B3-8BBE-16BF1AB71D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年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月经及妊娠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既往史及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如服用药物情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葡萄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妊娠滋养细胞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化疗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763640" y="314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35280" y="4005360"/>
            <a:ext cx="686880" cy="593640"/>
            <a:chOff x="1835280" y="400536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40680" y="40154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35280" y="400536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75240" y="404028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9640" y="40766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716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5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01A3-BAA6-4808-BA30-FB22B006D9B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则是以化疗为主，手术、放疗为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根据临床分期、预后评分来制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FBCE-5BB9-4A5C-80EA-EE74D1D0570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诊断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反复阴道出血、化疗导致抵抗力降低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感性悲哀   与病程长、预后不良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活动无耐力  与腹痛、转移灶症状及化疗副作用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   与化疗引起胃肠道不适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332E-DCD2-416B-9403-0D41BF20015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观察病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症状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肺转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卧床休息，吸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配合治疗，大量咯血者防窒息和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观察病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5676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转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卧床休息，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禁做阴道检查和窥阴器检查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破溃大出血时，配合抢救（抗休克和感染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D82A-BE0D-4594-8707-3BD93749A1F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脑转移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病情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遵医嘱治疗   如补液、止血、吸氧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预防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偏瘫、昏迷者按常规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及时做好检查配合    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腰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3940-5E7A-4A41-B244-E82CAF80339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随访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</a:t>
            </a: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第三节     化疗患者的护理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5BF7-CA52-4799-B8B9-823D4F5CDF0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化学药物治疗的方法称为化学疗法，简称化疗。化疗和手术治疗、放射治疗是目前治疗恶性肿瘤的三大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疾病是所有肿瘤中对化疗最敏感的一种，总治愈率超过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B089-9E2E-4B97-8EBF-D8CDFB7660F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疗药物作用机制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影响去氧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合成代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与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作用干扰其复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抑制信使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合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止纺锤丝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止蛋白质的合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BE1B-1DB6-477D-B3D8-EBD735E7291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概  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85840" y="1071360"/>
            <a:ext cx="8339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疾病是一组来源于胎盘绒毛滋养细胞的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滋养细胞增生的程度、侵蚀能力、有无绒毛结构及生物学特性，可分为葡萄胎、侵蚀性葡萄胎、绒毛膜癌和胎盘部位妊娠滋养细胞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4997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化疗药物种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烷化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代谢药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肿瘤抗生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肿瘤植物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疗药物的应用原则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肿瘤的病理诊断和分期化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肿瘤细胞的分裂周期化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患者的身体情况选择化疗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使用增敏药物和预防副作用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方案的选择需考虑患者的经济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给药方法及化疗方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给药方法    静脉滴注、肌内注射、口服给药、腹腔内给药及动脉插管局部灌注、靶向治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方案    低危患者可选单一药物化疗；高危者选择联合化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46FB-79BA-4597-9927-20DCD319F02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71680" y="1356840"/>
            <a:ext cx="80532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化疗常见的不良反应及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近期毒性反应   分为局部反应和全身性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远期毒性反应   如生殖功能障碍及致癌致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E68F-274E-4560-A73C-840EB24A373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7120" y="1857240"/>
            <a:ext cx="83390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前血常规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肝、肾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检查    如尿常规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B6B9-C0AA-4FF8-A27A-48449BCCEB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9680" y="1857240"/>
            <a:ext cx="81961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体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饮食与生活习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既往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家族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EA92-D402-42AA-BC7D-3803EEF8BB9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1857240"/>
            <a:ext cx="90010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与化疗所致的恶心、呕吐和食欲下降等消化道反应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自我形象紊乱   与化疗所致的脱发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潜在并发症：出血   与化疗引起骨髓抑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33B7-7AC9-4F80-830B-58367C4D8FE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286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多休息，注意饮食；保持会阴清洁，防止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 接受化疗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准确测量体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正确使用药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合理使用静脉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A4EB-6DE5-433F-85C5-7AC8F2D4B7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常见毒副反应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骨髓抑制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胃肠道不良反应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口腔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   </a:t>
            </a:r>
            <a:r>
              <a:rPr b="1" lang="zh-CN" sz="3600" spc="-1" strike="noStrike">
                <a:solidFill>
                  <a:srgbClr val="0d0d0d"/>
                </a:solidFill>
                <a:latin typeface="Verdana"/>
                <a:ea typeface="宋体"/>
              </a:rPr>
              <a:t>第一节     葡萄胎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6584-5871-424B-A78F-D65EE619EB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1500120"/>
            <a:ext cx="8929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指导患者给药剂量等，注意药物的储存及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鼓励少量多餐，注意饮食和休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日常生活方面注意清洁，尽量避免去公共场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如白细胞计数低于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0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则需进行保护性隔离，并告知其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3D55-840E-41E5-BFD9-F4F87F4E4DA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5480" y="857160"/>
            <a:ext cx="864396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葡萄胎是妊娠滋养细胞的良性病变，主要为胎盘绒毛滋养细胞增生、间质水肿，形成大小不一的水泡，相互间借蒂连成串，形如葡萄而得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葡萄胎可分为完全性葡萄胎和部分性葡萄胎。其发生的原因尚未完全清楚，可能与异常受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1857240" y="4857840"/>
            <a:ext cx="1857600" cy="16272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3"/>
          <p:cNvGrpSpPr/>
          <p:nvPr/>
        </p:nvGrpSpPr>
        <p:grpSpPr>
          <a:xfrm>
            <a:off x="5572080" y="4786200"/>
            <a:ext cx="2000160" cy="1698840"/>
            <a:chOff x="5572080" y="4786200"/>
            <a:chExt cx="2000160" cy="1698840"/>
          </a:xfrm>
        </p:grpSpPr>
        <p:sp>
          <p:nvSpPr>
            <p:cNvPr id="134" name="Text Box 4"/>
            <p:cNvSpPr/>
            <p:nvPr/>
          </p:nvSpPr>
          <p:spPr>
            <a:xfrm>
              <a:off x="5771880" y="6276240"/>
              <a:ext cx="16502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Calibri"/>
                  <a:ea typeface="宋体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Calibri"/>
                  <a:ea typeface="宋体"/>
                </a:rPr>
                <a:t>15-2  </a:t>
              </a:r>
              <a:r>
                <a:rPr b="0" lang="zh-CN" sz="12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完全性葡萄胎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135" name="Picture 5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5572080" y="4786200"/>
              <a:ext cx="2000160" cy="1450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9D45-F6C5-485C-833C-14EDA6ED5C5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9680" y="1428480"/>
            <a:ext cx="8124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完全性葡萄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停经后阴道流血     为最常见的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子宫异常增大、变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妊娠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妊娠高血压子痫前期征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：卵巢黄素化囊肿、腹痛、甲亢征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84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部分性葡萄胎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症状    不如完全性葡萄胎典型，易误诊，仅在刮宫后经组织病理检查方能确诊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2AF6-FECE-4482-AED9-D1DB444861D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9680" y="1642680"/>
            <a:ext cx="81961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绒毛膜促性腺激素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CG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超声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流式细胞仪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多普勒胎心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 如血常规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年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月经及妊娠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饮食习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家族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如有无采取口服避孕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11:27Z</dcterms:modified>
  <cp:revision>10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