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C7801-F6D4-4969-BE63-1D723D760C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4F5A8-4CC2-42F5-85EB-BA2D81817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D76EF-EBD7-4931-BAF9-F225BD02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ACA73-1BEE-4E63-B719-C2CEEEB2CD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9442E-AFB4-4EDB-A598-225BA19F8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13D62-9FD5-48CC-AAE1-40C3300DA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0EE7A-8C57-40C6-AAD6-3EE17A106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534DA-8AE2-4D0A-91EE-974B9F551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0D477-2CE5-441B-B86D-042DAC288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BA53D-68E2-4B6F-835C-1A86EC569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AA391-C713-4931-BDBA-FF4B05F5C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D2D11-106A-47C3-AB6D-104CCEAD3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A7FC3-0155-4A11-B3B4-AF5B6E5A66B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二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妇科病史及检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天津中医药大学护理学院  高擎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双合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785880" y="2254320"/>
            <a:ext cx="7602480" cy="40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合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2050920" y="1879560"/>
            <a:ext cx="4521240" cy="45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直肠－腹部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5" name="Picture 8" descr=""/>
          <p:cNvPicPr/>
          <p:nvPr/>
        </p:nvPicPr>
        <p:blipFill>
          <a:blip r:embed="rId1"/>
          <a:stretch/>
        </p:blipFill>
        <p:spPr>
          <a:xfrm>
            <a:off x="2195640" y="2214720"/>
            <a:ext cx="4714920" cy="40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心理社会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自我健康感知及医院环境的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自我概念形态及应激耐受形态的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价值信念形态的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程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de6fd"/>
                </a:solidFill>
                <a:latin typeface="Verdana"/>
              </a:rPr>
              <a:t>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主要护理诊断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合作性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护理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护理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陈述常用妇科检查的目的，方法及注意事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区分妇科疾病的常见体征及鉴别诊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解释妇科患者的采集病史，体格检查及心理－社会状态评估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用护理程序为妇科疾病患者提供护理服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一）病史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病史采集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系统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交谈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体格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查阅记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史采集内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2050920"/>
          <a:ext cx="9109080" cy="4403880"/>
        </p:xfrm>
        <a:graphic>
          <a:graphicData uri="http://schemas.openxmlformats.org/drawingml/2006/table">
            <a:tbl>
              <a:tblPr/>
              <a:tblGrid>
                <a:gridCol w="1643040"/>
                <a:gridCol w="7466040"/>
              </a:tblGrid>
              <a:tr h="3463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项目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内容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5158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一般项目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姓名、年龄、婚姻、籍贯、职业、民族、教育程度、宗教信仰、家庭住址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45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主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患者入院的主要问题、主要症状、出现的时间和病人的应对方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001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现病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围绕主诉了解发病的时间、发病的原因及可能的诱因、病情发展经过、就医经过、采取的护理措施及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45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月经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询问初潮年龄、月经周期、经期持续时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95904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婚育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结婚年龄、婚次、男方健康情况、是否近亲结婚、同居情况、双方性功能、性病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生育情况包括足月产、早产、流产次数以及现存子女数：足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-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早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-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流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-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存；孕</a:t>
                      </a:r>
                      <a:r>
                        <a:rPr b="1" lang="zh-CN" sz="16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×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产</a:t>
                      </a:r>
                      <a:r>
                        <a:rPr b="1" lang="zh-CN" sz="16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×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45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既往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既往健康状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5986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个人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患者的生活和居住情况、出生地和曾居住地区、个人特殊嗜好、自理程度、生活方式、睡眠、饮食、营养、卫生习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45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家族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患者的家庭成员包括父母、兄弟、姊妹及子女的健康状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二）体格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全身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腹部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3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盆腔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二）体格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腹部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视诊：形状、有无水肿、瘢痕、妊娠纹、腹壁疝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触诊：腹壁厚度，肝脾肾及腹部压痛，有无包块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叩诊：鼓音、浊音分布范围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听诊：肠鸣音，胎心听诊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体格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盆腔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外阴部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阴道窥器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双合诊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三合诊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直肠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—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腹部诊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矩形 5"/>
          <p:cNvSpPr/>
          <p:nvPr/>
        </p:nvSpPr>
        <p:spPr>
          <a:xfrm>
            <a:off x="5076720" y="5373720"/>
            <a:ext cx="142920" cy="21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外阴部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00360" y="2205000"/>
            <a:ext cx="416880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阴道窥器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684360" y="2349360"/>
            <a:ext cx="8078760" cy="36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8:47:41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