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93BB-B3F6-40A3-862C-6456837CD3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E34A-3154-42E0-8D6E-190634D1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3D66F-BFEA-49FD-B14A-25CD4478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21F5-C551-4260-A110-4EBD8AF244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EF09-DB02-4097-8A17-711B2964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9706-15F9-4605-97FF-E22D1935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91DD-F770-4D9A-86B1-68C6330A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C1F9-2862-444C-815D-D88C8DA5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FA81-50AF-4CBD-9F4A-0BCB03AB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2D8FE-62AE-46B6-A7BC-BF61F148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69F4-2E03-4D33-A90A-A4DFE690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E2AD-8490-42F1-884F-808D2C2C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734C-47BB-4D06-B5B1-9AA5C0E3C4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2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六、膀胱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根据需要留置尿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七、特殊用物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软垫、支托、阴道模型、丁字带、绷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根治术：平卧位，双腿外展屈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或盆底修补术：平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处女膜闭锁及有子宫的先天性无阴道患者：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切口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内纱条：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取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保持大小便通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的护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尿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尿管前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大便的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，服石蜡油软化大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积极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评估，及时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同的止痛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更换体位、冰敷、止痛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后效果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，避免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期门诊复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异常情况及时就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外阴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见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岁以上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鳞状细胞癌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至今尚不明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图示 1" descr=""/>
          <p:cNvPicPr/>
          <p:nvPr/>
        </p:nvPicPr>
        <p:blipFill>
          <a:blip r:embed="rId1"/>
          <a:stretch/>
        </p:blipFill>
        <p:spPr>
          <a:xfrm>
            <a:off x="847800" y="2639880"/>
            <a:ext cx="784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9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一般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局部，双侧腹股沟淋巴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甲苯胺蓝染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醋酸液脱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蓝染部分活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明原因的外阴瘙痒史、外阴赘生物史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躁、悲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尊低下、身体意象紊乱、恐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：主要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射治疗：不能手术的病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药物治疗：晚期或复发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慢性疼痛  与晚期肿瘤侵犯神经、血管和淋巴系统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体意象紊乱  与外阴切除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感染的危险  与患者年龄大、抵抗力低、手术创面大及邻近肛门、尿道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讲解疾病及手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、帮助和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导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家属的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前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植皮者植皮部位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评估及镇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及活动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引流通畅，伤口观察及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保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，外阴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理进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放疗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照射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出现皮肤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轻度保护皮肤继续照射，中、重度停止照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观察，局部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癌根治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复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疗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各复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以后每半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以后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包括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生殖器部位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部分尿道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局部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途经阴道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 尿  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：指人体泌尿道与生殖道之间形成的异常通道，患者无法自主排尿，表现为尿液不断外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阴道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宫颈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尿管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伤：坏死型、创伤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晚期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放置子宫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漏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皮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路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闭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及阴道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瘘孔位置、性质、大小、数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亚甲蓝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靛胭脂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镜检等其他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难产史及盆腔手术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瘤、结合、接受放射治疗、子宫托治疗等相关病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减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助感、自卑、失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为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由结核、肿瘤所致尿瘘者，积极处理原发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完整性受损  与长期尿液刺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孤立  与长期漏尿，不愿与人交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图示 1" descr=""/>
          <p:cNvPicPr/>
          <p:nvPr/>
        </p:nvPicPr>
        <p:blipFill>
          <a:blip r:embed="rId1"/>
          <a:stretch/>
        </p:blipFill>
        <p:spPr>
          <a:xfrm>
            <a:off x="884160" y="2962440"/>
            <a:ext cx="7742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留置尿管的护理：使瘘孔高于尿液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饮水：每日饮水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00ml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坐浴、红外线照射：术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感染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雌激素：术前半个月，老年妇女或闭经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选择：瘘孔处于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护理：留置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拔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腹压增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遵医嘱服用抗生素或雌激素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禁性生活及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修补术后怀孕加强孕期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失败者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子宫脱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子宫脱垂：指子宫从正常位置沿阴道下降，宫颈外口达坐骨棘水平面以下，甚至子宫全部脱出于阴道口外。常伴有阴道前后壁膨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损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主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后过早参加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慢性咳嗽，排便困难等致腹压增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老年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平卧用力向下屏气子宫下降程度分级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外口距离处女膜缘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但未  到达处女膜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达到处女膜缘但未超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已脱出阴道口，但宫体仍在阴道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和部分宫体已脱出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颈和子宫体全部脱出至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无明显表现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主要表现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坠感及腰背酸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物自阴道脱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提供场所及时间，交流沟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遮挡，减少暴露机会和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做好家属工作，配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经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无慢性咳嗽、盆腹腔肿瘤、便秘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恼、焦虑、情绪低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症状者无需治疗，有症状者可采取保守治疗或手术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、年老、生育需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持疗法：治疗增加腹压的疾病，增加营养，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托治疗：重度子宫脱垂伴盆底肌肉明显萎缩，宫颈、阴道壁有炎症、溃疡者不宜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无效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nchest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全子宫切除术及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纵膈形成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焦虑  与长期的子宫脱出影响性生活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  与子宫下垂牵拉韧带、宫颈，阴道壁溃疡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  与脱垂的子宫压迫膀胱颈部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改善一般情况：加强营养，休息，盆底肌肉锻炼，原发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教会患者子宫托的使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大小合适的子宫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晨放入，睡前取出，避免久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绝经后妇女同时使用雌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开始阴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积极治疗局部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外阴、阴道术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床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管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疾病、手术及术后护理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练习床上排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体位维持和肢体锻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，定时复查，半年内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倡晚婚晚育，避免产程延长，提高助产技术，避免产后过早劳动，治疗增加腹压的慢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76360" y="2707920"/>
            <a:ext cx="410364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ac8de"/>
                </a:solidFill>
                <a:latin typeface="宋体"/>
                <a:ea typeface="宋体"/>
              </a:rPr>
              <a:t>谢  谢 ！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皮肤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一日备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范围上至耻骨联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下包括外阴部、肛门周围、臀部及大腿内侧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肠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无渣饮食、肠道抗生素、肥皂水洗肠或甘露醇加水口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夜及术日晨：清洁灌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阴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锰酸钾溶液坐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阴道冲洗，每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日晨：阴道局部消毒，必要时美蓝标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0:52Z</dcterms:modified>
  <cp:revision>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