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8DBD-448F-4B06-9D5C-74DE7F72D8A9}" type="datetime">
              <a:rPr b="0" lang="zh-CN" sz="1200" spc="-1" strike="noStrike">
                <a:solidFill>
                  <a:srgbClr val="000000"/>
                </a:solidFill>
                <a:latin typeface="Arial"/>
                <a:ea typeface="宋体"/>
              </a:rPr>
              <a:t>26/7/28</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320E-3812-4255-A1BC-B5723DDD5CD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D46B-99FB-499A-8156-9F572613495F}"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FA05-4BA9-4F09-BDC5-4A6EEBB0A5D7}"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5E1F-CA03-49A0-B8CD-6AA99FC43646}"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29DD-F4A2-4281-96E9-EE3A4FA90687}"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876D5-36EB-4E7A-870B-91CDCC82EF5D}"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D76F-A12B-4E8C-B374-3E400F4C979A}"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5184-1DD3-40F2-8234-2DF8AB5C12B3}"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A549-246A-474F-B439-A073FBD2ECF5}"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FAA8-5EE3-4583-9F6D-6DBF2D5D00DF}"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36E95-FE87-40AE-AFC4-E3B0F9820994}"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D6D4ED-EFCB-4F7C-821D-6B3EA26AC4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5347BF-AC7B-4E17-9C69-5B62C7F7BF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3D43476-ED13-4DB2-81EE-DE3301AC84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9CFD8C3-8128-4E80-A41C-7C49BDF00F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EEF745-2A2F-4AB0-89E7-84580E39D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B346E7-5533-4CBD-BE89-CBBCCB5AA7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CD1E53-A7ED-4F44-A330-C7F0431567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94ADCA-C987-4BE9-B392-FBF553EEA1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A2B2EB-07B1-435A-8F72-DEB9691195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F23C02-72E4-47A4-BDD9-89E087F85A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5B3733-71E4-48FC-A694-7E88EDFED5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3DB09B-F368-4E29-9D2E-970418DE6C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133138-0469-4BB0-96C8-1807614B63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1937B1-935D-4675-81A3-F5C774C4DF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96924C-01F0-4881-98BC-40A91940DB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2AE004-584A-476F-84C0-EEA10A8BB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D72346-2968-4A3C-BD7C-CE1D42665D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C904FF-1313-4CD5-9B1A-EB4CAD6D3D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603ACF-4DAF-4B89-999E-C3682808C7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BA4D90-09AC-440C-A6B3-5587A66EB8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B133CE3-E24E-4CEB-80D0-76D7CF2990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AFEDBF-E999-4EB7-8B02-BBB055B05A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1FB17F-5814-4A20-AEED-78457B8554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580E35-CE18-4B1F-95C9-01EB461A54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5BFE-B517-4BCC-9390-16B29C2CDE8E}"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AA5F1-3450-43B0-A203-BB8CAAEFC60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