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91E4-F49C-4494-ABCB-6F45CC76AADE}" type="datetime">
              <a:rPr b="0" lang="zh-CN" sz="1200" spc="-1" strike="noStrike">
                <a:solidFill>
                  <a:srgbClr val="000000"/>
                </a:solidFill>
                <a:latin typeface="Arial"/>
                <a:ea typeface="宋体"/>
              </a:rPr>
              <a:t>26/7/30</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99CD9-EA27-4CDA-B70C-2551CDBE0F5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DB19-09DF-41B0-B8E9-B5E6F854973F}"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7E94-A5F7-443C-8FB5-613AE65AF8F4}"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D0AB-FD19-42C9-AE06-B37CC9545C6F}"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A8C6-BF07-48E7-9A2B-368ED0A67E3C}"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B3BC5-1A31-4DA4-909B-818BE6EF2A8C}"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EC029-45D3-4462-A9D5-711F5DCEFFD4}"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5F89-868E-4F88-981F-9FD3D112E9F9}"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8C799-0D2E-4A06-BD77-B89A01D3346E}"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8DD34-E016-443B-88A4-CD26DCD1433F}"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EB8FB-8F0B-437E-910E-7968286E39E5}"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DFD8B5-E0C2-415F-BD21-EFCB5D46D2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6B9AD7-1419-4D96-B2EA-CF8B9192C3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F8B5161-1F32-48E1-B52B-F2BA517A7D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5F09D99-8F01-47CC-B639-37379C7079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45EA31-EF57-4D5C-8807-087F59E348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32E715-25CA-488B-992C-9E471F92C8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63909B-2668-4C2F-AC83-84B6E7677D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A83962-213A-4E7B-8C72-C583D92018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6FC1B4-B8C9-4BEF-A951-5EF65C2A3D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486B9B-C540-463D-95D4-C490B77B7F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5FFEBB-D3B5-4EA1-B106-12D54359F7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80F7AA-4F3D-44E0-977C-E30893224C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416A1F-C620-4A72-859C-5067620064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61F466-C594-49BF-8D99-69BF532E72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5F2A4F-7A1C-4977-84D2-E5DCD8BE2E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998316-6486-49DB-8CA5-B7C5AA1CC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0000BC-46EC-410E-8F37-0FB1261E33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D76555-A4A5-41C8-9C51-EF522265E3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170EDD-08CB-4FD5-A91B-1AF0B4663B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4542F13-2952-489A-936A-F6EE78D734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441E479-1BAF-41F4-9AF6-492B84CA07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28F8AE-A38B-4C79-A352-D00A7BCD89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867075-F980-455F-B7E5-EF0BB43F00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6770A3-59C0-4D51-AADE-72ED4FA57D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BD8F-84FA-46E7-A5C1-EB45B3CE8B1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265D-4443-46E8-9359-940E0DFF257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