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move the slide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4679F-DBEE-48AE-A1BD-59B809B6A47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DC229-8B3B-46CD-8CC2-82BF43FE0BC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E7B3B-3478-48BC-951A-8118507AE09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C87F-8398-4AC7-80A6-A745FADD3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FBD6-A429-42C4-9887-DAE1EB690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7E6657-0146-4444-AD21-9489071B7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A3E1C2-F75F-4591-BE3A-E455CE40D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ED8975-B0D3-4D62-88C5-10353779D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7040A2-886E-4E48-9F9B-E86447FB1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0B8C1E-0522-482B-A187-AF26E9A7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E8A53A-BBDD-4243-ACDF-9E3EAA91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2928EB-A236-49E9-8A77-2132F6F07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63D9F9-5311-48F5-A551-E7E841749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EB9912-C85B-4459-9F61-65EF8D4BD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98962A-4861-4D66-B72D-80B316EF3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2DD4-F065-4728-8A59-336E29593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E5C8F4-5271-4BD5-8312-A93CFCE89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964B79-9A2E-4392-AF00-9F0FE8F2D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F92103-C1DF-4FA4-B785-D9B8E9BB9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DD027F-65F7-48DE-BDD8-BB39F44A1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5B0BCD-CF64-4567-99DB-16E911B1C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815C99-B839-4AE5-861A-6C78A204C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5204D1-7F24-4273-9F7A-4D12FD58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C6F6E5-DE2F-470F-AEC4-22ADDF08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EF8AC5-C03C-4B1F-A521-0ECFE1A39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FC9CD8-125C-4730-B988-916D90E67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68CE-57F5-4D53-A4D7-D50D5EC18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3C638C-E98C-4C78-9169-B46164B46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DA331B-120C-4F3B-AC58-64D5CFEF4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F58315-7F33-4D57-93AD-07EF7E1C6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834342-EB0E-4FD4-AFA7-DD577A8FD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75E19C-A3F8-4010-B84C-A48470E7C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BDADC0-877E-4929-B5C4-C151CFF3B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47539B-EB36-4BF4-8A8B-AA92BB1A6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30A8FB-2FB2-4926-8AFD-FD02A0147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204EBE-4C06-47DA-A2FB-B17827E5D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30F99C-273A-491D-96C4-9E7F87BD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67414-C65A-43A5-8D42-EA1EF0ADE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490AEB-103E-48B2-B57B-AC965C73E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D077C6-E891-49DA-B69D-DE38168FD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EC2EBC-1718-4423-888B-BBFF234E3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F2136-CDCD-476E-AC8B-348DBF944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DB360-CF87-4ABA-B741-674E67D80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71117-773C-46C1-99F4-CA4CD622F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00222-E658-450A-8F29-77DE430FA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20DE5-A078-4DB8-8506-E5CEAC647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4C719-F053-4C9F-B8BF-17505E29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27D5-7406-4B09-9654-09EA3DE8A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BA315-318E-428E-A58A-4CCD386B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54614-B859-4A8E-8682-6C673F21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87CAF-6E75-4A11-A8D6-618A755F1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37FF6-3E25-4F8D-8A4B-1114FB617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C5E25-D255-4744-91EB-60BB4D1D6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BFE2E-04A6-49D3-AC77-690DE9CE9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93AD0-8E08-4696-8C60-B8998BA56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204AC-9A07-4FCE-9697-3A4DC0EED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6B314-AF18-4F4D-8B57-EF35AFF39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C88E8-A66B-49F0-B451-2E0AEEBFD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4526-8241-4FC9-840F-8A089BAA0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D70B9-703B-44A9-9074-61D92690D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CEDF7-A70F-4647-92CE-3BC8ABF2C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153A1-613F-44FB-809B-D323F49FE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4C6C3-99FB-4843-B27F-9BCF5EE91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C292A-00FF-45AD-9A6D-2E0E83C3A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D74E3-8228-4102-9604-5FAC69CB5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2AD89-D6AE-4E4D-A0F2-5CE3F7563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4371F-24B4-4D16-B65D-C93DB5C5F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DFAFA-8484-4BC3-9027-B93D9D5FF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017CC-4EDF-42A4-8F08-E9EF62888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FC01-98EB-4C55-9CAE-A00D1C9A8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B18EC-02B4-46F3-B4AA-5219B20E9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B4698-E3F0-4D4C-A055-417C659A4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9EBD3-9130-4978-A86A-2A50AA02D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EECC2-B53D-4024-B568-D4EED2E0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1560A-D7A1-4880-BA64-2F7CE6E6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250DA-31B7-41DE-9D62-04E8DCBB9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00FB0-5C13-408E-A2C5-EDC53986C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A7115-A98A-45C7-80E8-628A269AD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0BDF2-32DB-4B36-A483-88A9CB1E8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220C6-FE10-4E1B-9649-85D716543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8DE2-6A7E-4F12-9A22-54C93C8D0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00544-1498-435F-BFDC-96A55FE4E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52B54-C891-4E74-999B-55CCE89C5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AE1BFF-85D1-4B24-BBBE-4EBAC23A5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FFAC06-DCDF-40C1-8BB6-BB12E1D38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C1D69-1F68-4790-9C4E-056C43A89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7F04B7-1713-4A66-8A5F-85F60D00C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543BA-00A3-49B7-A7FC-21212CABD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0F79C-0F41-46FA-8E87-F76F5ECB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6F5569-0EEE-47B0-9E04-41306801A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88EB8D-38C4-46D3-846B-CFEF5880F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AB45-AEB6-4E45-87EC-EA3C8B25C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B9C021-86BB-447F-BABA-A6E10588B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A70BE3-5F19-4501-9F68-A8831BD4B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F8FE31-22C3-4C85-B88E-CF68D2115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2C8848-15F0-44B8-B805-229F78A26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800F55-6AA8-468D-AE57-6BA11B5A9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C5F0B-810B-485F-B872-ED40FEB47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31F4BF-7B84-4E86-BFA8-15637B52F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9DB0A2-463E-433B-A67D-27799D4C2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22030B-FDAC-48FD-9248-C8F1439C5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8A9AAF-FED3-429B-A190-551C0B51A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68F3-F4C3-4AB6-A40C-FE74B97C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3E0E46-C71F-4A35-AA88-E942A693F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74CF08-339D-43E8-B8AB-2513BFDE8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32A15B-11B4-4A1C-A9BA-E06CE1F25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C1E6A6-DCC5-4559-8BC0-920CF110B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17AFDE-012F-4A52-84E9-CBAACCDC2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3DFD8A-E922-4D13-B0B2-09551B468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6C50C0-B4DD-4827-AD48-C2A123921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2269FF-4BCF-4DD3-BC8D-8177D1363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BBF568-EEAA-417B-813F-444A6F374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C51916-F2A0-4065-8548-804EA2350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DAE2-2668-44FA-BDB2-1E849A652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385C68-CD87-44AB-81D7-86F4BF2B3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91BB8F-6C48-47E6-A516-281A1F05E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2EC9F7-96DC-4063-B94F-A4B4BFB5E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4FEE6E-8C06-4041-9CB9-4E0803BA3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819E65-E51A-4D2D-901F-CD6C8D70E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31FF73-0363-44AF-8448-2F5F59D39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8A9B99-8AB8-4880-8876-3C8E2E887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96736D-4FFE-45C2-8E04-7C635B27D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F0EF52-D4F8-4D3D-83B1-0783C83AC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91F1A5-EC44-48C9-ACC3-42F4E9439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DC41-EC04-40A8-981C-A238FBBDB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01AF5C-7FA0-4EA4-B0E0-9F72A6F0F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595C5A-0FCA-4C6E-B714-536D3D149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76D8FA-BA5D-47B0-ACD3-D74BE883C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0A44A7-2EFE-4789-815F-A6FBC7975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FBF582-5D83-4169-A00F-782A13DFE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842519-3A29-4B37-AA8B-A0712C1B6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612D5C-F575-45FD-B1AC-C848A7CD5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A1CAEC-EEAA-4B52-AB9E-AB4332E9B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D2C699-8674-44FC-AFB0-E3B93871C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702CCE-B7D1-4794-A5E4-918C7032F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F666E-C373-44CC-952F-310AA02B6AA5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5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8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9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30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5B0A0-BC0D-4F85-833A-D9834D8EF465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9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3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3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66261-E3A2-424C-B95F-480DF15467F3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685800" y="3197160"/>
            <a:ext cx="77724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AB109-DFC4-4362-9752-5C1EBA1D224F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7308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5330880" y="6400440"/>
            <a:ext cx="373392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6AC09-505D-4203-9BC8-B8467FF00057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2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矩形 8"/>
          <p:cNvSpPr/>
          <p:nvPr/>
        </p:nvSpPr>
        <p:spPr>
          <a:xfrm>
            <a:off x="685800" y="3143160"/>
            <a:ext cx="77724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D5700-8808-4C9F-94E2-3F174FFC29E8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7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BFC0D-EB1F-4D3B-A7CA-BADEE074D14E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98AA8-BE50-420C-BE81-95B54B13FBAC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4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5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BF00E-5D41-40F6-B54E-624573DD471E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0A355-8692-40A1-9110-41BFF2A0BE16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1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2" name="矩形 8"/>
          <p:cNvSpPr/>
          <p:nvPr/>
        </p:nvSpPr>
        <p:spPr>
          <a:xfrm>
            <a:off x="2786040" y="1054080"/>
            <a:ext cx="59040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FE68E-8A48-4B99-B368-F5B571011982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4000" y="2852640"/>
            <a:ext cx="7848360" cy="139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6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宋体"/>
                <a:ea typeface="宋体"/>
              </a:rPr>
              <a:t>第十章 纤毛虫</a:t>
            </a:r>
            <a:br>
              <a:rPr sz="4800"/>
            </a:br>
            <a:r>
              <a:rPr b="1" lang="en-US" sz="4800" spc="-1" strike="noStrike">
                <a:solidFill>
                  <a:srgbClr val="0000cc"/>
                </a:solidFill>
                <a:latin typeface="宋体"/>
                <a:ea typeface="宋体"/>
              </a:rPr>
              <a:t>Ciliate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0000cc"/>
                </a:solidFill>
                <a:latin typeface="宋体"/>
                <a:ea typeface="宋体"/>
              </a:rPr>
              <a:t>结肠小袋纤毛虫</a:t>
            </a:r>
            <a:br>
              <a:rPr sz="4800"/>
            </a:br>
            <a:r>
              <a:rPr b="1" i="1" lang="en-US" sz="4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Balantidium coli</a:t>
            </a:r>
            <a:endParaRPr b="0" lang="en-US" sz="48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1403280" y="5300640"/>
            <a:ext cx="640080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贾默稚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图片 5" descr=""/>
          <p:cNvPicPr/>
          <p:nvPr/>
        </p:nvPicPr>
        <p:blipFill>
          <a:blip r:embed="rId2"/>
          <a:stretch/>
        </p:blipFill>
        <p:spPr>
          <a:xfrm>
            <a:off x="1835280" y="3976560"/>
            <a:ext cx="3201840" cy="2881440"/>
          </a:xfrm>
          <a:prstGeom prst="rect">
            <a:avLst/>
          </a:prstGeom>
          <a:ln w="0">
            <a:noFill/>
          </a:ln>
        </p:spPr>
      </p:pic>
      <p:pic>
        <p:nvPicPr>
          <p:cNvPr id="491" name="图片 4" descr=""/>
          <p:cNvPicPr/>
          <p:nvPr/>
        </p:nvPicPr>
        <p:blipFill>
          <a:blip r:embed="rId3"/>
          <a:stretch/>
        </p:blipFill>
        <p:spPr>
          <a:xfrm>
            <a:off x="5867280" y="2781360"/>
            <a:ext cx="3043440" cy="302400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形态</a:t>
            </a:r>
            <a:endParaRPr b="0" lang="en-US" sz="32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68360" y="12682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滋养体：椭圆形，无色透明或淡灰绿色，全身披有纤毛。有胞口、胞肛结构。虫体中、后部各有一伸缩泡。染色标本可见大、小核各一个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4" name="矩形 2"/>
          <p:cNvSpPr/>
          <p:nvPr/>
        </p:nvSpPr>
        <p:spPr>
          <a:xfrm>
            <a:off x="324000" y="3068640"/>
            <a:ext cx="7993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包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球形或近球形，淡黄或淡绿色，囊壁厚，染色后可见明显的大核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2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内容占位符 2" descr=""/>
          <p:cNvPicPr/>
          <p:nvPr/>
        </p:nvPicPr>
        <p:blipFill>
          <a:blip r:embed="rId2"/>
          <a:stretch/>
        </p:blipFill>
        <p:spPr>
          <a:xfrm>
            <a:off x="1990800" y="1262160"/>
            <a:ext cx="5533920" cy="502452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生活史</a:t>
            </a:r>
            <a:r>
              <a:rPr b="1" lang="zh-CN" sz="3200" spc="-1" strike="noStrike">
                <a:solidFill>
                  <a:srgbClr val="2f2f2f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2f2f2f"/>
              </a:solidFill>
              <a:latin typeface="Franklin Gothic Medium"/>
            </a:endParaRPr>
          </a:p>
        </p:txBody>
      </p:sp>
      <p:grpSp>
        <p:nvGrpSpPr>
          <p:cNvPr id="497" name="组合 5"/>
          <p:cNvGrpSpPr/>
          <p:nvPr/>
        </p:nvGrpSpPr>
        <p:grpSpPr>
          <a:xfrm>
            <a:off x="2241720" y="1346040"/>
            <a:ext cx="5287680" cy="4365720"/>
            <a:chOff x="2241720" y="1346040"/>
            <a:chExt cx="5287680" cy="4365720"/>
          </a:xfrm>
        </p:grpSpPr>
        <p:sp>
          <p:nvSpPr>
            <p:cNvPr id="498" name="TextBox 3"/>
            <p:cNvSpPr/>
            <p:nvPr/>
          </p:nvSpPr>
          <p:spPr>
            <a:xfrm>
              <a:off x="3852000" y="3285000"/>
              <a:ext cx="1080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宋体"/>
                </a:rPr>
                <a:t>人体内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499" name="TextBox 6"/>
            <p:cNvSpPr/>
            <p:nvPr/>
          </p:nvSpPr>
          <p:spPr>
            <a:xfrm>
              <a:off x="2241720" y="3295800"/>
              <a:ext cx="1080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cc"/>
                  </a:solidFill>
                  <a:latin typeface="宋体"/>
                </a:rPr>
                <a:t>外环境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0" name="TextBox 7"/>
            <p:cNvSpPr/>
            <p:nvPr/>
          </p:nvSpPr>
          <p:spPr>
            <a:xfrm>
              <a:off x="3973680" y="1699920"/>
              <a:ext cx="1080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脱囊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1" name="TextBox 8"/>
            <p:cNvSpPr/>
            <p:nvPr/>
          </p:nvSpPr>
          <p:spPr>
            <a:xfrm>
              <a:off x="6372000" y="2915280"/>
              <a:ext cx="1080000" cy="36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2" name="TextBox 9"/>
            <p:cNvSpPr/>
            <p:nvPr/>
          </p:nvSpPr>
          <p:spPr>
            <a:xfrm>
              <a:off x="6197760" y="4016160"/>
              <a:ext cx="133164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宋体"/>
                </a:rPr>
                <a:t>结肠内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宋体"/>
                </a:rPr>
                <a:t>定居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3" name="TextBox 10"/>
            <p:cNvSpPr/>
            <p:nvPr/>
          </p:nvSpPr>
          <p:spPr>
            <a:xfrm>
              <a:off x="2700000" y="1346040"/>
              <a:ext cx="14482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宋体"/>
                </a:rPr>
                <a:t>感染期包囊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4" name="矩形 4"/>
            <p:cNvSpPr/>
            <p:nvPr/>
          </p:nvSpPr>
          <p:spPr>
            <a:xfrm>
              <a:off x="3973680" y="5229360"/>
              <a:ext cx="66960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5" name="矩形 12"/>
            <p:cNvSpPr/>
            <p:nvPr/>
          </p:nvSpPr>
          <p:spPr>
            <a:xfrm>
              <a:off x="2268360" y="5351400"/>
              <a:ext cx="66960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 txBox="1"/>
          <p:nvPr/>
        </p:nvSpPr>
        <p:spPr>
          <a:xfrm>
            <a:off x="1187280" y="691920"/>
            <a:ext cx="77774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生活史过程：包囊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滋养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包囊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寄生部位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结肠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生殖方式：以二分裂为主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传染源：猪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感染阶段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感染期包囊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感染方式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经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致病与诊断</a:t>
            </a:r>
            <a:r>
              <a:rPr b="1" lang="zh-CN" sz="3200" spc="-1" strike="noStrike">
                <a:solidFill>
                  <a:srgbClr val="2f2f2f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致病：滋养体分泌透明质酸酶并借助机械运动侵入结肠黏膜及黏膜下层，引起溃疡（似溶组织内阿米巴痢疾）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可能是一种机会致病原虫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表现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症状型、急性型和慢性型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症状型：即初期潜伏型。在粪便中可找到虫体，但无相关症状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矩形 2"/>
          <p:cNvSpPr/>
          <p:nvPr/>
        </p:nvSpPr>
        <p:spPr>
          <a:xfrm>
            <a:off x="468360" y="3429000"/>
            <a:ext cx="8280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诊断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直接涂片查滋养体，乙状结肠镜取黏膜组织活检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0" name="矩形 3"/>
          <p:cNvSpPr/>
          <p:nvPr/>
        </p:nvSpPr>
        <p:spPr>
          <a:xfrm>
            <a:off x="382680" y="714240"/>
            <a:ext cx="8286480" cy="17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性型：即痢疾型。发病突然，腹痛、腹泻、黏液血便；可有并发症，也可累及肠外组织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慢性型：周期性腹泻，或腹泻、便秘交替，常排出黏液但无脓血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流行与防治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流行</a:t>
            </a:r>
            <a:r>
              <a:rPr b="1" lang="zh-CN" sz="3200" spc="-1" strike="noStrike">
                <a:solidFill>
                  <a:srgbClr val="2f2f2f"/>
                </a:solidFill>
                <a:latin typeface="宋体"/>
                <a:ea typeface="宋体"/>
              </a:rPr>
              <a:t>  </a:t>
            </a:r>
            <a:endParaRPr b="0" lang="en-US" sz="32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755640" y="11966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 algn="just">
              <a:lnSpc>
                <a:spcPts val="4198"/>
              </a:lnSpc>
              <a:spcBef>
                <a:spcPts val="1199"/>
              </a:spcBef>
              <a:buClr>
                <a:srgbClr val="2f2f2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世界性分布。在我国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个省、自治区有散在病例报道。宿主广，已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多种动物可感染此虫，猪为重要的传染源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608040" indent="-608040" algn="just">
              <a:lnSpc>
                <a:spcPts val="4198"/>
              </a:lnSpc>
              <a:spcBef>
                <a:spcPts val="1199"/>
              </a:spcBef>
              <a:buClr>
                <a:srgbClr val="2f2f2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粪便污染及蝇的机械携带包嚢是重要的传播方式，主要是包嚢污染的食物和饮水经口感染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608040" indent="-608040"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防治原则同溶组织内阿米巴，注意个人和饮食卫生，加强猪粪便的管理，保护水源，用甲硝唑治疗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608040" indent="-608040"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6T13:12:27Z</dcterms:created>
  <dc:creator>shi</dc:creator>
  <dc:description/>
  <dc:language>en-US</dc:language>
  <cp:lastModifiedBy>hzg</cp:lastModifiedBy>
  <dcterms:modified xsi:type="dcterms:W3CDTF">2015-10-05T12:54:03Z</dcterms:modified>
  <cp:revision>27</cp:revision>
  <dc:subject/>
  <dc:title>结肠小袋纤毛虫 Balantidium coli</dc:title>
</cp:coreProperties>
</file>