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1D7F-6C6C-41BB-8A40-B28C98B64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160A-B1FA-4CBA-A341-3628B44F0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3D14-ACF4-4E2C-A167-2A9435AB9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8082-9F01-4507-8ED7-651544FB9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B5A47-6ED1-4119-92AB-60E19DDA8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8CD91-3EC7-4E41-8FAB-FC0CF606A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872F1-5EA4-4508-9008-3E62031AB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E777B-09B3-45B0-A436-ECDFC369B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B3681-18CA-4E5D-BD19-BDF0ACE5B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C433F-6853-43E3-9D9E-1E4E6FCF6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D9097-05EE-4ECA-B18F-6BAA5E12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81A9-2BC8-4CBA-911E-102D5F491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DA779-6306-46DF-B413-5AD7F5413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FB34F-6F05-46A0-9884-BB04DEB1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D5E99-6EC7-4010-9816-21761BB9F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B03D2-372A-4D62-B3F5-45D8322C1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A3B89-21D7-4DF8-B2D3-4F8A30002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DAAD-5F8C-4125-B2D0-EE9B4C88C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B028-64FA-4801-8F8F-81FF66379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E0B3-BCAC-4001-8B8B-D21875FED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ED6B-B263-4BE0-99BD-AD10AC3D3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C467-2B4D-4FE9-ACA6-6AD10FB1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BC41-55FA-4947-B8BD-FBB7BC36D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07FB-8B6D-4D20-810A-178AA7DBC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5F085-5D7F-4C85-B2DB-F871F3BA7ECF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39374-AA36-491A-B00D-10534BA327DF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1692360"/>
            <a:ext cx="8134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第四章 寄生虫感染的免疫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71640" y="3068640"/>
            <a:ext cx="7345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munity in Parasitic Inf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781440" y="5300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高兴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慢性感染和进行性感染都反映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可有效地逃避宿主的免疫效应作用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免疫逃避机制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组织学隔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抗原变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抗原伪装（拟态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表面脱落和更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免疫抑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四、免疫逃避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785988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       </a:t>
            </a: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研究抗寄生虫的特异性适应性免疫，对理解寄生虫的致病机制、免疫诊断、流行和防治等都具有十分重要的意义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一、寄生虫抗原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由于寄生虫的结构和生活史复杂使寄生虫抗原具有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复杂性：表面抗原、代谢抗原和虫体抗原，以表面抗原和代谢抗原的免疫源性强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多源性：具有属、种、株和期的特异性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二、抗寄生虫的适应性免疫类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75708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消除性免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热带利什曼原虫引起的东方疖可产生消除性免疫，这种免疫现象在寄生虫感染中罕见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非消除性免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带虫免疫：某些寄生虫感染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疟原虫、刚地弓形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可诱导一种特异性免疫应答，使宿主体内的寄生虫数量降低，增殖减慢、维持低水平虫荷，导致临床痊愈，并产生抗特异性攻击的能力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伴随免疫：有些蠕虫感染（日本血吸虫）可诱导宿主产生抗同种寄生虫幼虫再感染的能力，而已寄生的成虫不受保护性免疫的影响，继续存活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89080" y="4110120"/>
            <a:ext cx="2303280" cy="22543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3348000" y="4070520"/>
            <a:ext cx="1541520" cy="2311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5796000" y="4076640"/>
            <a:ext cx="3168720" cy="2257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0" y="640080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带虫免疫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疟原虫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670120" y="640080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带虫免疫（刚地弓形虫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724360" y="6400800"/>
            <a:ext cx="32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伴随免疫（日本血吸虫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三、免疫效应机制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抗体依赖效应机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受体封闭和封闭细胞的黏合作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2484360" y="3141720"/>
            <a:ext cx="360216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抗体依赖性细胞介导的细胞毒作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ADCC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由经典的补体途径介导依赖抗体杀伤寄生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771640" y="1341360"/>
            <a:ext cx="3602160" cy="22035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2770200" y="4394160"/>
            <a:ext cx="360216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细胞介导免疫：抗寄生虫的适应性免疫中细胞免疫起重要作用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淋巴因子活化效应细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700360" y="2997360"/>
            <a:ext cx="360216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细胞毒淋巴细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自然杀伤细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625840" y="1341360"/>
            <a:ext cx="3601800" cy="22035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2627280" y="4292640"/>
            <a:ext cx="360216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0T09:35:20Z</dcterms:created>
  <dc:creator>gy</dc:creator>
  <dc:description/>
  <dc:language>en-US</dc:language>
  <cp:lastModifiedBy>hzg</cp:lastModifiedBy>
  <dcterms:modified xsi:type="dcterms:W3CDTF">2015-10-05T09:27:14Z</dcterms:modified>
  <cp:revision>122</cp:revision>
  <dc:subject/>
  <dc:title>医学寄生虫学总论</dc:title>
</cp:coreProperties>
</file>