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EEC9-CAD7-4B60-BF3F-F7BC05CDE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4665-1BB8-4758-A532-E897651DE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1651-C58A-4095-B0CB-76E38D634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4B96-5BD8-4D4C-AF47-E3F110D3F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0FC59-F608-494E-909A-3B13F0084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694E2-1C5C-4CE8-99A1-302343B98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120AA-83CC-419D-89ED-3BAA854F8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347EC-B725-4C8C-88C0-876FF66AE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FD425-936C-4DE1-9627-7234501CF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354BB-217A-4E06-98D7-1FFD64289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21420-ADCF-49B8-A2D9-C30C0CBC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CD6A-0A44-4B89-9F9B-8490CD3E4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8E0CC-D770-4A84-B4CA-3889A52E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83303-7962-490C-93C6-7EB70514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54EDC-86DE-46FC-A990-59155CA62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B044E-30ED-49B2-81F5-D1F015FD7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32F8B-1FAD-4F3C-A1D2-7B0E42CA9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4087-03A8-4938-8094-E17F98E25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1935-093F-4066-8A99-C58D8E700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A306-E126-473F-A176-D19923E33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5719-BC08-4B4B-BC0E-10D477487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A8F7-578B-49A9-8DD3-D6D67A8B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7C7B-BE39-4DD7-AA8A-27CB5147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2456-5B1A-4FE5-874C-6F79C54B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13C48-FF34-4F53-A7CC-31BB5E42E54C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C8281-0755-4BE6-8DA9-2D7E2731DFA3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169236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二章  寄生虫分类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71640" y="3068640"/>
            <a:ext cx="7345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sitic Classific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78144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人体寄生虫被分类在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个真核生物界，即原生动物界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Protozo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、色混界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Chromist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和动物界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Animali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。原生动物界和色混界动物是单细胞动物，而动物界动物（也称后生动物）是多细胞动物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ecff"/>
                </a:solidFill>
                <a:latin typeface="Arial"/>
              </a:rPr>
              <a:t>医学寄生虫分类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57200" y="1252440"/>
            <a:ext cx="8229600" cy="5327640"/>
            <a:chOff x="457200" y="1252440"/>
            <a:chExt cx="8229600" cy="5327640"/>
          </a:xfrm>
        </p:grpSpPr>
        <p:sp>
          <p:nvSpPr>
            <p:cNvPr id="216" name=""/>
            <p:cNvSpPr/>
            <p:nvPr/>
          </p:nvSpPr>
          <p:spPr>
            <a:xfrm>
              <a:off x="5002200" y="6000840"/>
              <a:ext cx="36846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人芽囊原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lastocystis homini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38480" y="6000840"/>
              <a:ext cx="27637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双环门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igyr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7200" y="6000840"/>
              <a:ext cx="1781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色混界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hromist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02200" y="4781520"/>
              <a:ext cx="368460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疟原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lasmodium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弓形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oxoplasma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隐孢子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ryptosporidiu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小袋纤毛虫 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alantidiu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238480" y="4781520"/>
              <a:ext cx="276372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孢子虫门（孢子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porozoa(sporozoan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纤毛虫门（纤毛虫）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iliophora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（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iliates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）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7200" y="4781520"/>
              <a:ext cx="178128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002200" y="4201920"/>
              <a:ext cx="3684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耐格里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aegler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238480" y="4201920"/>
              <a:ext cx="2763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透色动物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ercolozo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57200" y="4201920"/>
              <a:ext cx="1781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002200" y="3622680"/>
              <a:ext cx="36846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毛滴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omon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38480" y="3622680"/>
              <a:ext cx="27637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副基体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rabasal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57200" y="3622680"/>
              <a:ext cx="1781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002200" y="1689120"/>
              <a:ext cx="3684600" cy="20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棘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canthamoeb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巴氏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alamuth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内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tamoeb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利什曼原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eishman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贾第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iard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238480" y="1611360"/>
              <a:ext cx="276372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阿米巴门（阿米巴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moebozoa(amebae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7200" y="1611360"/>
              <a:ext cx="1781280" cy="20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原生动物界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otozo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002200" y="1252440"/>
              <a:ext cx="36846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寄生虫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rasit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238480" y="1252440"/>
              <a:ext cx="276372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门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hylu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7200" y="1252440"/>
              <a:ext cx="17812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界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Kingdo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7200" y="125244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57200" y="6580080"/>
              <a:ext cx="8229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57200" y="1252440"/>
              <a:ext cx="0" cy="5176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686800" y="1252440"/>
              <a:ext cx="0" cy="5176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7200" y="161136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195640" y="2414520"/>
              <a:ext cx="28080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眼虫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Euglenozo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后滴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Metamonad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828720" y="907920"/>
            <a:ext cx="7775640" cy="5345280"/>
            <a:chOff x="828720" y="907920"/>
            <a:chExt cx="7775640" cy="5345280"/>
          </a:xfrm>
        </p:grpSpPr>
        <p:sp>
          <p:nvSpPr>
            <p:cNvPr id="241" name=""/>
            <p:cNvSpPr/>
            <p:nvPr/>
          </p:nvSpPr>
          <p:spPr>
            <a:xfrm>
              <a:off x="4983120" y="4057560"/>
              <a:ext cx="336708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吸虫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ematodes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：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支睾吸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lonorch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姜片吸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asciolops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并殖吸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ragonimu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裂体吸虫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chistosom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毛毕吸虫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obilharzi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东毕吸虫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rientobilharzi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455920" y="4057560"/>
              <a:ext cx="252720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扁形动物门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（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吸虫、绦虫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）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latyhelminth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（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ematodes, cestodes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）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28720" y="4057560"/>
              <a:ext cx="162720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983120" y="907920"/>
              <a:ext cx="3621240" cy="31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蛔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scar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鞭形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ur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住肠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terobiu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钩口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cylostom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板口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cator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毛形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inell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吴策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uchereri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布鲁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rugi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管圆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giostrongylu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455920" y="907920"/>
              <a:ext cx="2527200" cy="31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线形动物门（线虫）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mathelminth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nematodes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8720" y="907920"/>
              <a:ext cx="1627200" cy="31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动物界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imali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28720" y="907920"/>
              <a:ext cx="7521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28720" y="6253200"/>
              <a:ext cx="7521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28720" y="907920"/>
              <a:ext cx="0" cy="534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350200" y="907920"/>
              <a:ext cx="0" cy="534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"/>
          <p:cNvGrpSpPr/>
          <p:nvPr/>
        </p:nvGrpSpPr>
        <p:grpSpPr>
          <a:xfrm>
            <a:off x="457200" y="412920"/>
            <a:ext cx="8231040" cy="6400800"/>
            <a:chOff x="457200" y="412920"/>
            <a:chExt cx="8231040" cy="6400800"/>
          </a:xfrm>
        </p:grpSpPr>
        <p:sp>
          <p:nvSpPr>
            <p:cNvPr id="252" name=""/>
            <p:cNvSpPr/>
            <p:nvPr/>
          </p:nvSpPr>
          <p:spPr>
            <a:xfrm>
              <a:off x="5002200" y="2195640"/>
              <a:ext cx="3684600" cy="42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昆虫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sect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按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ophel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库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ulex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伊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e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蝇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usc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白蛉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hlebotomu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客蚤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enopsyll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虱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ediculu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小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lattell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螯肢动物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helicerat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硬蜱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xo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钝缘蜱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rnithodoro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纤恙螨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eptotrombidium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疥螨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arcopt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蠕形螨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modex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尘螨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rmatophagoi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甲壳类动物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rustacean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溪蟹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otamon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蝲蛄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ambaroi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剑水蚤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yclop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38480" y="2208240"/>
              <a:ext cx="2763720" cy="39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节肢动物门（昆虫、螯肢动物、甲壳类动物）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rthropod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（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sect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helicerat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rustacean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" y="2878200"/>
              <a:ext cx="1781280" cy="39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003640" y="1692360"/>
              <a:ext cx="368460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巨吻棘头虫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acracanthorhynchu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38480" y="1679760"/>
              <a:ext cx="276372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棘颚门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canthognath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57200" y="1679760"/>
              <a:ext cx="178128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002200" y="412920"/>
              <a:ext cx="368460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绦虫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esto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带绦虫</a:t>
              </a:r>
              <a:r>
                <a:rPr b="0" i="1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aeni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棘球绦虫</a:t>
              </a:r>
              <a:r>
                <a:rPr b="0" i="1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chinococcu</a:t>
              </a:r>
              <a:r>
                <a:rPr b="0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膜壳绦虫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Hymenolepi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迭宫绦虫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pirometr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238480" y="412920"/>
              <a:ext cx="276372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57200" y="412920"/>
              <a:ext cx="178128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57200" y="412920"/>
              <a:ext cx="8229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57200" y="658836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57200" y="412920"/>
              <a:ext cx="0" cy="6400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686800" y="412920"/>
              <a:ext cx="0" cy="6400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09:35:20Z</dcterms:created>
  <dc:creator>gy</dc:creator>
  <dc:description/>
  <dc:language>en-US</dc:language>
  <cp:lastModifiedBy>hzg</cp:lastModifiedBy>
  <dcterms:modified xsi:type="dcterms:W3CDTF">2015-08-31T03:37:33Z</dcterms:modified>
  <cp:revision>121</cp:revision>
  <dc:subject/>
  <dc:title>医学寄生虫学总论</dc:title>
</cp:coreProperties>
</file>