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1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jpeg" ContentType="image/jpeg"/>
  <Override PartName="/ppt/media/image31.png" ContentType="image/png"/>
  <Override PartName="/ppt/media/image32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3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44.jpeg" ContentType="image/jpeg"/>
  <Override PartName="/ppt/media/image36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9.jpeg" ContentType="image/jpeg"/>
  <Override PartName="/ppt/media/image11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A0CD-FC52-4DA9-A0C4-C6616A5E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AACC-51C5-4C23-B14B-55EE2E64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AC6F-31DA-4EDB-ABFF-96E70EB5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0FC1-D1AB-4E73-9E51-791137638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B509-4D09-4133-BE31-2C5BBC36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AD01-86D4-46D4-BDF3-3CA457A0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2B1D-5049-43AC-8179-E1CBCFDF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7B84-D216-447D-A47B-674B6620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E6E1-31E6-4DDB-94BD-E370BEB9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0E8E-4DB4-4062-88D6-61CBA70E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28CD-8213-4ABF-942B-A252D769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76DF-90B8-4140-9EA8-1577C201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C8F5-F9D8-48C7-A41A-A59153B3BB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713880"/>
            <a:ext cx="784404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第十六章  昆 虫 纲 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宋体"/>
              </a:rPr>
              <a:t>Insecta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概 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Administrator\Desktop\b72714b6440df6e80ef7cf3e61337cd5.jpg"/>
          <p:cNvPicPr/>
          <p:nvPr/>
        </p:nvPicPr>
        <p:blipFill>
          <a:blip r:embed="rId1"/>
          <a:stretch/>
        </p:blipFill>
        <p:spPr>
          <a:xfrm>
            <a:off x="2987640" y="1125360"/>
            <a:ext cx="2857680" cy="2990880"/>
          </a:xfrm>
          <a:prstGeom prst="rect">
            <a:avLst/>
          </a:prstGeom>
          <a:ln w="0">
            <a:noFill/>
          </a:ln>
        </p:spPr>
      </p:pic>
      <p:sp>
        <p:nvSpPr>
          <p:cNvPr id="59" name="内容占位符 1"/>
          <p:cNvSpPr/>
          <p:nvPr/>
        </p:nvSpPr>
        <p:spPr>
          <a:xfrm>
            <a:off x="2489040" y="4581360"/>
            <a:ext cx="6654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 的 生 活 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体和成虫的形态和生活习性相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但体积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尚未发育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经数次蜕皮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逐渐发育成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类幼体称若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虱、蜚蠊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不全变态通常有三个发育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卵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若虫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图片 5" descr="QQ图片20140512095415.jpg"/>
          <p:cNvPicPr/>
          <p:nvPr/>
        </p:nvPicPr>
        <p:blipFill>
          <a:blip r:embed="rId1"/>
          <a:stretch/>
        </p:blipFill>
        <p:spPr>
          <a:xfrm>
            <a:off x="857160" y="3286080"/>
            <a:ext cx="3603600" cy="3071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1d49ac4619dc1e53896c25e0cf5ccf84"/>
          <p:cNvPicPr/>
          <p:nvPr/>
        </p:nvPicPr>
        <p:blipFill>
          <a:blip r:embed="rId2"/>
          <a:srcRect l="0" t="3650" r="0" b="12827"/>
          <a:stretch/>
        </p:blipFill>
        <p:spPr>
          <a:xfrm>
            <a:off x="5786280" y="3286080"/>
            <a:ext cx="2830680" cy="29289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571760" y="621504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蜚蠊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929200" y="621504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臭虫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0" dur="1" fill="hold"/>
                                  <p:tgtEl>
                                    <p:spTgt spid="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"/>
          <p:cNvSpPr/>
          <p:nvPr/>
        </p:nvSpPr>
        <p:spPr>
          <a:xfrm>
            <a:off x="214200" y="474840"/>
            <a:ext cx="86439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昆虫胚后发育中，幼虫或若虫需蜕皮数次，两次蜕皮之间的虫态称为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孵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体破卵而出的过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龄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幼体蜕皮次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化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虫发育为蛹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羽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成虫从蛹壳钻出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一节  蚊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000" spc="-1" strike="noStrike">
                <a:solidFill>
                  <a:srgbClr val="1f497d"/>
                </a:solidFill>
                <a:latin typeface="宋体"/>
              </a:rPr>
              <a:t>M</a:t>
            </a:r>
            <a:r>
              <a:rPr b="1" lang="en-US" sz="4000" spc="-1" strike="noStrike">
                <a:solidFill>
                  <a:srgbClr val="1f497d"/>
                </a:solidFill>
                <a:latin typeface="宋体"/>
                <a:ea typeface="Aharoni"/>
              </a:rPr>
              <a:t>osquit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85480" y="609120"/>
            <a:ext cx="478620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属于双翅目蚊科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是一类最重要的医学昆虫。 我国已发现蚊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属近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7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亚）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中按蚊、库蚊、伊蚊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属蚊种约占半数以上，也是传播人类疾病的主要蚊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Administrator\Desktop\549273e17470f10091c4d1dfedeb2c26 (1).jpg"/>
          <p:cNvPicPr/>
          <p:nvPr/>
        </p:nvPicPr>
        <p:blipFill>
          <a:blip r:embed="rId1"/>
          <a:srcRect l="0" t="3394" r="0" b="0"/>
          <a:stretch/>
        </p:blipFill>
        <p:spPr>
          <a:xfrm>
            <a:off x="5429160" y="1247760"/>
            <a:ext cx="335772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85840" y="713880"/>
            <a:ext cx="8858160" cy="553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小型昆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.6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棕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黑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、触角和触须各一对。触角各鞭节具轮毛，雌蚊的轮文短而稀，雄蚊轮毛长而密。两性按蚊的触须均与喙等长，库蚊与伊蚊的雌蚊触须甚短，库蚊雄蚊触须长于喙，伊蚊雄蚊触须与喙等长。雌蚊口器为刺吸式口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分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前、中、后胸三节。中胸发达，有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后胸有平衡棒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各胸节有足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明显可见 。末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变为外生殖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456840"/>
            <a:ext cx="4386240" cy="58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喙（口器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内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舌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左大括号 4"/>
          <p:cNvSpPr/>
          <p:nvPr/>
        </p:nvSpPr>
        <p:spPr>
          <a:xfrm>
            <a:off x="1187280" y="1125360"/>
            <a:ext cx="142920" cy="3429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3429000"/>
              <a:gd name="textAreaBottom" fmla="*/ 342540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"/>
                  <a:pt x="10800" y="75"/>
                </a:cubicBezTo>
                <a:lnTo>
                  <a:pt x="10800" y="10725"/>
                </a:lnTo>
                <a:cubicBezTo>
                  <a:pt x="10800" y="10763"/>
                  <a:pt x="5400" y="10800"/>
                  <a:pt x="0" y="10800"/>
                </a:cubicBezTo>
                <a:cubicBezTo>
                  <a:pt x="5400" y="10800"/>
                  <a:pt x="10800" y="10838"/>
                  <a:pt x="10800" y="10875"/>
                </a:cubicBezTo>
                <a:lnTo>
                  <a:pt x="10800" y="21525"/>
                </a:lnTo>
                <a:cubicBezTo>
                  <a:pt x="10800" y="2156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9640" y="213372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图片 6" descr="蚊Ppt0000001-1.JPG"/>
          <p:cNvPicPr/>
          <p:nvPr/>
        </p:nvPicPr>
        <p:blipFill>
          <a:blip r:embed="rId1"/>
          <a:srcRect l="44063" t="0" r="0" b="19948"/>
          <a:stretch/>
        </p:blipFill>
        <p:spPr>
          <a:xfrm>
            <a:off x="4357800" y="928800"/>
            <a:ext cx="429552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7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33520" y="4572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内部构造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消化系统：口腔、咽 、食道、胃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中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、             后肠及肛门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排泄系统：在中肠后端可见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条马氏管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呼吸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循环系统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生殖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左大括号 2"/>
          <p:cNvSpPr/>
          <p:nvPr/>
        </p:nvSpPr>
        <p:spPr>
          <a:xfrm>
            <a:off x="250920" y="1628640"/>
            <a:ext cx="357120" cy="39610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3961080"/>
              <a:gd name="textAreaBottom" fmla="*/ 3952080 h 39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1"/>
                  <a:pt x="10800" y="162"/>
                </a:cubicBezTo>
                <a:lnTo>
                  <a:pt x="10800" y="10638"/>
                </a:lnTo>
                <a:cubicBezTo>
                  <a:pt x="10800" y="10719"/>
                  <a:pt x="5400" y="10800"/>
                  <a:pt x="0" y="10800"/>
                </a:cubicBezTo>
                <a:cubicBezTo>
                  <a:pt x="5400" y="10800"/>
                  <a:pt x="10800" y="10881"/>
                  <a:pt x="10800" y="10962"/>
                </a:cubicBezTo>
                <a:lnTo>
                  <a:pt x="10800" y="21438"/>
                </a:lnTo>
                <a:cubicBezTo>
                  <a:pt x="10800" y="2151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7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幼虫（第四龄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触角 、复眼 、单眼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，咀嚼式口器。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略呈方形，不分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可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。按蚊各节背面有掌状毛。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背面有气门或呼吸管，是幼虫期分类的重要依据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左大括号 5"/>
          <p:cNvSpPr/>
          <p:nvPr/>
        </p:nvSpPr>
        <p:spPr>
          <a:xfrm>
            <a:off x="642960" y="3357720"/>
            <a:ext cx="571320" cy="214308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143080"/>
              <a:gd name="textAreaBottom" fmla="*/ 21283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14200" y="3929040"/>
            <a:ext cx="5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（雄）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90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1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2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3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三次蜕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7"/>
          <p:cNvSpPr/>
          <p:nvPr/>
        </p:nvSpPr>
        <p:spPr>
          <a:xfrm>
            <a:off x="1739880" y="4357800"/>
            <a:ext cx="546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~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3"/>
          <p:cNvSpPr/>
          <p:nvPr/>
        </p:nvSpPr>
        <p:spPr>
          <a:xfrm>
            <a:off x="642960" y="1357200"/>
            <a:ext cx="77868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是动物界种类最多、数量最大的一个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人类经济和健康有密切关系，是医学节肢动物中最重要的一个组成部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的主要特征是：成虫分头、胸、腹三部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头部有触角一对，胸部有足三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-128880" y="533520"/>
            <a:ext cx="9272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孳生习性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静水型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中华按蚊、三带喙库蚊、嗜人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缓流型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微小按蚊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污染水体：淡色库蚊、致倦库蚊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丛林型：大劣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小型积水：白纹伊蚊、埃及伊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0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42640" y="457200"/>
            <a:ext cx="8901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吸血习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雄蚊：只吸植物汁液和花蜜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雌蚊：吸食人和动物血液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人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劣按蚊、嗜人按蚊、致倦库蚊、淡色库蚊、白纹伊蚊、埃及伊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家畜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华按蚊、三带喙库蚊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7" dur="1" fill="hold"/>
                                  <p:tgtEl>
                                    <p:spTgt spid="1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栖息习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家栖型：室内栖息（淡色库蚊 嗜人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半家栖型：吸血后随即或稍在室内停留后，飞至室外栖息（中华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野栖型：从吸血到产卵都在野外（大劣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交配与产卵：交配常在未吸血之前进行，多种蚊的交配是在群舞时进行。雌蚊交配后需吸人或动物血后卵巢才能发育，并产卵，蚊一生能多次产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与飞翔能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在清晨、黄昏、夜间活动，伊蚊多在白天活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飞翔能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般几十米到几百米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季节消长和越冬：蚊虫种群的季节消长与温度、湿度和雨量等密切相关。越冬可在不同虫期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卵、幼虫或成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进行，因种而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4" dur="1" fill="hold"/>
                                  <p:tgtEl>
                                    <p:spTgt spid="10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0" y="3808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四、我国主要传病蚊种及其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华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sinens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国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；马来丝虫病的主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媒介，班氏丝虫病的次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359320" y="2143080"/>
            <a:ext cx="37846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3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6840" y="4572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小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minimus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布：海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嗜吸人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江流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嗜牛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286080" y="2786040"/>
            <a:ext cx="50418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2" dur="1" fill="hold"/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淡色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ulex  pipiens  pallen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与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致倦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. p. quinquefasciatu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分布：淡色库蚊分布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4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北地区，致倦库蚊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2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南地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班氏丝虫病的主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C:\Users\Administrator\Desktop\u=3570943059,1049178618&amp;fm=23&amp;gp=0.jpg"/>
          <p:cNvPicPr/>
          <p:nvPr/>
        </p:nvPicPr>
        <p:blipFill>
          <a:blip r:embed="rId1"/>
          <a:stretch/>
        </p:blipFill>
        <p:spPr>
          <a:xfrm>
            <a:off x="642960" y="2571840"/>
            <a:ext cx="3286080" cy="3805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Administrator\Desktop\u=1714910314,1607752462&amp;fm=23&amp;gp=0.jpg"/>
          <p:cNvPicPr/>
          <p:nvPr/>
        </p:nvPicPr>
        <p:blipFill>
          <a:blip r:embed="rId2"/>
          <a:stretch/>
        </p:blipFill>
        <p:spPr>
          <a:xfrm>
            <a:off x="4788000" y="2708280"/>
            <a:ext cx="3500280" cy="36432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785880" y="627372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淡 色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5214960" y="627372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 倦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7" dur="1" fill="hold"/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380880"/>
            <a:ext cx="81532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白纹伊蚊（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Aedes.albopictus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辽宁省以南各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登革热的主要媒介；可传流行性乙型脑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C:\Users\Administrator\Desktop\f603918fa0ec08fa0304f84e59ee3d6d54fbdad7.jpg"/>
          <p:cNvPicPr/>
          <p:nvPr/>
        </p:nvPicPr>
        <p:blipFill>
          <a:blip r:embed="rId1"/>
          <a:stretch/>
        </p:blipFill>
        <p:spPr>
          <a:xfrm>
            <a:off x="755640" y="2708280"/>
            <a:ext cx="4643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2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防制方法包括环境治理、物理防制及生物防制等综合性防制措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治理：改变孳生环境，消除或减少孳生场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蚊幼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1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杀虫：双硫磷、倍硫磷、辛硫磷、       毒死蜱。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杀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蛙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菌：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ti-14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苏云金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s-10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球形芽孢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成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马拉硫磷、甲嘧硫磷、拟除虫菊酯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蚊：装设纱窗纱门，挂蚊帐；用拟除虫菊酯处理蚊帐具有安全、有效、简便和经济的优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6" dur="1" fill="hold"/>
                                  <p:tgtEl>
                                    <p:spTgt spid="115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第二节 白  蛉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Sand Fl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9680" y="2928960"/>
            <a:ext cx="825804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sandfly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属双翅目、毛蛉科、白蛉亚科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hlebotomina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，是一类体小多毛的吸血昆虫，全世界已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种，我国已报告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C:\Users\Administrator\Desktop\d83480f53184cad38907f6f5ce54c29f.jpg"/>
          <p:cNvPicPr/>
          <p:nvPr/>
        </p:nvPicPr>
        <p:blipFill>
          <a:blip r:embed="rId1"/>
          <a:stretch/>
        </p:blipFill>
        <p:spPr>
          <a:xfrm>
            <a:off x="2643120" y="714240"/>
            <a:ext cx="42148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33520" y="533160"/>
            <a:ext cx="80769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、形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触角一对（嗅觉  触觉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复眼一对 （由蜂房状小眼面组成）或有若干单眼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前方或腹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类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咀嚼式   、 刺吸式 、  舐吸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黄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球形。口器为刺吸式。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呈驼背状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雄外生殖器与雌受精囊的形态为分类的重要依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图片 3" descr="u=469589104,3573282418&amp;fm=23&amp;gp=0.jpg"/>
          <p:cNvPicPr/>
          <p:nvPr/>
        </p:nvPicPr>
        <p:blipFill>
          <a:blip r:embed="rId1"/>
          <a:stretch/>
        </p:blipFill>
        <p:spPr>
          <a:xfrm>
            <a:off x="4071960" y="1071720"/>
            <a:ext cx="4167000" cy="2500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（雄）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雌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、三、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4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5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6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7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2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~3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为全变态昆虫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C:\Users\Administrator\Desktop\6af39e2fdcd603d57ddd08c225480235.jpg"/>
          <p:cNvPicPr/>
          <p:nvPr/>
        </p:nvPicPr>
        <p:blipFill>
          <a:blip r:embed="rId1"/>
          <a:stretch/>
        </p:blipFill>
        <p:spPr>
          <a:xfrm>
            <a:off x="611280" y="333360"/>
            <a:ext cx="82152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  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　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孳生地：　幼虫生活在地面下约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2c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隐蔽、温湿度适宜、土质疏松且富含有机物处，如人房、畜舍、厕所、窑洞、墙缝等处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食性：　雄蛉以植物汁液为食。雌蛉自羽化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小时后吸血。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60160"/>
            <a:ext cx="91440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栖息与活动　飞翔能力弱，作跳跃式飞行，活动范围一般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0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内。成虫通常栖息于屋角、墙缝、畜舍、地窖、窑洞、桥洞等处。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季节消长与越冬　白蛉岀现的季节较短，白蛉的季节分布与当地的温度变化有关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452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四、与疾病的关系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利什曼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黑热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杜氏利什曼原虫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主要为中华白蛉、长管白蛉、吳氏白蛉。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5312160" y="3645000"/>
            <a:ext cx="115524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脏利什曼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内脏利什曼病患者"/>
          <p:cNvPicPr/>
          <p:nvPr/>
        </p:nvPicPr>
        <p:blipFill>
          <a:blip r:embed="rId1"/>
          <a:stretch/>
        </p:blipFill>
        <p:spPr>
          <a:xfrm>
            <a:off x="3629160" y="3645000"/>
            <a:ext cx="1741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85784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东方疖：又称皮肤利什曼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热带利什曼原虫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为巴氏白蛉、司氏白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黏膜利什曼病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巴西利什曼原虫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白蛉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白蛉热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病原体为病毒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和白蛉属白蛉。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图片 2" descr="afafdb6e9458ac0a06cd6fdc1c98f223.jpg"/>
          <p:cNvPicPr/>
          <p:nvPr/>
        </p:nvPicPr>
        <p:blipFill>
          <a:blip r:embed="rId1"/>
          <a:stretch/>
        </p:blipFill>
        <p:spPr>
          <a:xfrm>
            <a:off x="4786200" y="785880"/>
            <a:ext cx="4124520" cy="41432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5072040" y="51436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皮肤利什曼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白蛉的防制以控制成蛉为主，辅以改造环境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环境治理：消除幼虫孳生地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杀灭成蛉：用溴氰菊酯、顺式氯氰菊酯、马拉硫磷等药剂灭蛉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个人防护：使用蚊帐，安装纱门、纱窗；涂擦驱避剂或用艾蒿烟熏。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第三节 蝇</a:t>
            </a:r>
            <a:br>
              <a:rPr sz="4000"/>
            </a:br>
            <a:br>
              <a:rPr sz="4000"/>
            </a:br>
            <a:r>
              <a:rPr b="1" i="1" lang="en-US" sz="4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Flies 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071360" y="149976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蝇属双翅目、环裂亚目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我国已记录有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500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多种。与疾病有关的多属蝇科、丽蝇科、麻蝇科及狂蝇科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7" dur="1" fill="hold"/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0" y="285480"/>
            <a:ext cx="42861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蝇口器（舐吸式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Administrator\Desktop\d52bf1c3e6244f5bdea575cc5fab2cb9.jpg"/>
          <p:cNvPicPr/>
          <p:nvPr/>
        </p:nvPicPr>
        <p:blipFill>
          <a:blip r:embed="rId1"/>
          <a:stretch/>
        </p:blipFill>
        <p:spPr>
          <a:xfrm>
            <a:off x="5143680" y="1500120"/>
            <a:ext cx="3230280" cy="42148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8" descr="图片1.jpg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611280" y="907920"/>
            <a:ext cx="3287520" cy="46087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" descr="蚊Ppt0000001-1.JPG"/>
          <p:cNvPicPr/>
          <p:nvPr/>
        </p:nvPicPr>
        <p:blipFill>
          <a:blip r:embed="rId3"/>
          <a:srcRect l="43311" t="0" r="0" b="20997"/>
          <a:stretch/>
        </p:blipFill>
        <p:spPr>
          <a:xfrm>
            <a:off x="0" y="571680"/>
            <a:ext cx="453564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88930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黑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黄褐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一对、单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，触角一对。口器为舐吸式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C:\Users\Administrator\Desktop\u=3920737500,296426282&amp;fm=23&amp;gp=0.jpg"/>
          <p:cNvPicPr/>
          <p:nvPr/>
        </p:nvPicPr>
        <p:blipFill>
          <a:blip r:embed="rId1"/>
          <a:stretch/>
        </p:blipFill>
        <p:spPr>
          <a:xfrm>
            <a:off x="2195640" y="3573360"/>
            <a:ext cx="3784320" cy="31543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5724360" y="5805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468360" y="54936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部： 中胸发达，其背板和侧板上旳鬃毛、斑纹等特征是分类的根据。前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后翅退化为平衡棒。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末端有爪和爪垫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f3a245f5da12fc4f52ac9149773037c2"/>
          <p:cNvPicPr/>
          <p:nvPr/>
        </p:nvPicPr>
        <p:blipFill>
          <a:blip r:embed="rId1"/>
          <a:stretch/>
        </p:blipFill>
        <p:spPr>
          <a:xfrm>
            <a:off x="5796000" y="476280"/>
            <a:ext cx="2933640" cy="36734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7"/>
          <p:cNvSpPr/>
          <p:nvPr/>
        </p:nvSpPr>
        <p:spPr>
          <a:xfrm>
            <a:off x="6443640" y="4221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" descr="丽蝇翅"/>
          <p:cNvPicPr/>
          <p:nvPr/>
        </p:nvPicPr>
        <p:blipFill>
          <a:blip r:embed="rId2"/>
          <a:stretch/>
        </p:blipFill>
        <p:spPr>
          <a:xfrm>
            <a:off x="468360" y="3854520"/>
            <a:ext cx="52560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900000" y="981000"/>
            <a:ext cx="777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腹部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演化为外生殖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 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6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7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8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9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乘号 32"/>
          <p:cNvSpPr/>
          <p:nvPr/>
        </p:nvSpPr>
        <p:spPr>
          <a:xfrm>
            <a:off x="3929040" y="2143080"/>
            <a:ext cx="1000080" cy="42876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760"/>
              <a:gd name="textAreaBottom" fmla="*/ 372240 h 42876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37"/>
          <p:cNvSpPr/>
          <p:nvPr/>
        </p:nvSpPr>
        <p:spPr>
          <a:xfrm>
            <a:off x="1695600" y="2492280"/>
            <a:ext cx="54612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3429000" y="164304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23640" y="6922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孳生地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粪便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垃圾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腐败植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腐败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440" y="6091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食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不食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口器退化，不能取食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狂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以人与动物血液为食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厩螫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非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为杂食性，此类蝇取食频繁，且边吃、边吐、边排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1" dur="1" fill="hold"/>
                                  <p:tgtEl>
                                    <p:spTgt spid="1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50560" y="0"/>
            <a:ext cx="845964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栖息与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夜间常停落于天花板 、 悬挂物上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多在白昼具亮光处活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善飞翔，可随交通工具扩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季节消长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春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巨尾阿丽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大头金蝇  、丝光绿蝇 、尾黑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舍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4920" y="404280"/>
            <a:ext cx="845964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越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多以蛹越冬，如金蝇、丽蝇、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少数以幼虫越冬，在孳生物底层，如绿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成虫越冬的蝇类不多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蛰伏于墙缝、屋角、 地下室等，如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家蝇幼虫、蛹、成虫均可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5" dur="1" fill="hold"/>
                                  <p:tgtEl>
                                    <p:spTgt spid="1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68000" y="692280"/>
            <a:ext cx="766764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f497d"/>
                </a:solidFill>
                <a:latin typeface="Calibri"/>
              </a:rPr>
              <a:t>四、我国主要蝇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舍蝇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Musca domestic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幼虫主要孳生于畜粪和垃圾中。成虫常出入住室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室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95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为该蝇种。与各种疾病关系密切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舍蝇"/>
          <p:cNvPicPr/>
          <p:nvPr/>
        </p:nvPicPr>
        <p:blipFill>
          <a:blip r:embed="rId1"/>
          <a:srcRect l="4038" t="4736" r="2423" b="39916"/>
          <a:stretch/>
        </p:blipFill>
        <p:spPr>
          <a:xfrm>
            <a:off x="2360520" y="2924280"/>
            <a:ext cx="429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9" dur="1" fill="hold"/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10920" y="475920"/>
            <a:ext cx="766764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大头金蝇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rysomyia megacephal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人粪便中，成虫活动于腐烂的瓜果、蔬菜及粪便周围。是夏秋季肠道传染病的主要传播蝇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1027" descr="大头金蝇"/>
          <p:cNvPicPr/>
          <p:nvPr/>
        </p:nvPicPr>
        <p:blipFill>
          <a:blip r:embed="rId1"/>
          <a:srcRect l="6795" t="8452" r="2999" b="39214"/>
          <a:stretch/>
        </p:blipFill>
        <p:spPr>
          <a:xfrm>
            <a:off x="2484360" y="2781360"/>
            <a:ext cx="3816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840" y="380880"/>
            <a:ext cx="88581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前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中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胸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各胸节的腹面都有一对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分基、转、股、胫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又分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跗节末端具有爪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多数昆虫中胸和后胸各有翅一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双翅目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对前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翅退化为平衡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具翅脉和翅室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某些种类无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" dur="1" fill="hold"/>
                                  <p:tgtEl>
                                    <p:spTgt spid="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55280" y="333360"/>
            <a:ext cx="694836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巨尾阿丽蝇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ldrichina graha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主要孳生于人粪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可在腐败的动物质和垃圾中，成蝇主要在室外活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7" descr="030202B8"/>
          <p:cNvPicPr/>
          <p:nvPr/>
        </p:nvPicPr>
        <p:blipFill>
          <a:blip r:embed="rId1"/>
          <a:srcRect l="17084" t="7237" r="22135" b="35508"/>
          <a:stretch/>
        </p:blipFill>
        <p:spPr>
          <a:xfrm>
            <a:off x="2124000" y="2492280"/>
            <a:ext cx="4032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333000"/>
            <a:ext cx="7632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丝光绿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ucilia seric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动物尸体或腐败的动物质中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蝇活动于腥臭腐烂的动物质及垃圾等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030202C8"/>
          <p:cNvPicPr/>
          <p:nvPr/>
        </p:nvPicPr>
        <p:blipFill>
          <a:blip r:embed="rId1"/>
          <a:srcRect l="22844" t="6732" r="14259" b="38835"/>
          <a:stretch/>
        </p:blipFill>
        <p:spPr>
          <a:xfrm>
            <a:off x="2268360" y="3068640"/>
            <a:ext cx="410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08" dur="1" fill="hold"/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68000" y="404640"/>
            <a:ext cx="84438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棕尾别麻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oettcherisca peregri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麻蝇成虫产幼虫，幼虫孳生在人畜粪便和垃圾中，有的孳生在酱缸、腌菜缸中。成虫活动于室外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028" descr="030202E8"/>
          <p:cNvPicPr/>
          <p:nvPr/>
        </p:nvPicPr>
        <p:blipFill>
          <a:blip r:embed="rId1"/>
          <a:srcRect l="17528" t="6594" r="19357" b="35765"/>
          <a:stretch/>
        </p:blipFill>
        <p:spPr>
          <a:xfrm>
            <a:off x="2916360" y="3068640"/>
            <a:ext cx="4105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0560" y="189000"/>
            <a:ext cx="81025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厩螫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omoxys calcitr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主要孳生于人畜粪便、肉类或腐败的植物质中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在室外活动。刺吸人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203640" y="2171880"/>
            <a:ext cx="38098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2" dur="1" fill="hold"/>
                                  <p:tgtEl>
                                    <p:spTgt spid="2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45720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五、与疾病的关系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传播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)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机械性传播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为蝇类主要传病方式。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消化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霍乱、伤寒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脊髓灰质炎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阿米巴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贾第虫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蛔虫病等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呼吸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肺结核、肺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雅司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利什曼病、细菌性皮炎、炭疽、破伤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眼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沙眼、结膜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76" dur="1" fill="hold"/>
                                  <p:tgtEl>
                                    <p:spTgt spid="20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传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锥虫病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由吸血舌蝇传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流行于非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冈田绕眼果蝇是眼结膜吸吮线虫的中间宿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5" dur="1" fill="hold"/>
                                  <p:tgtEl>
                                    <p:spTgt spid="2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5280" y="549000"/>
            <a:ext cx="8077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幼虫寄生于人体和动物的组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器官而引起的疾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按其寄生的特性分为：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专性蝇蛆病：幼虫各龄期均营寄生生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兼性蝇蛆病：幼虫通常是腐食性或尸食性蝇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偶然性蝇蛆病：因误食或误饮被某些蝇卵或幼虫污染的食物或饮水所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9" dur="1" fill="hold"/>
                                  <p:tgtEl>
                                    <p:spTgt spid="20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333000"/>
            <a:ext cx="424476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在临床上，蝇蛆病常以幼虫寄生部位命名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胃肠蝇蛆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耳、鼻、咽和口腔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眼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泌尿生殖道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皮肤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C:\Users\Administrator\Desktop\u=889444373,3707649311&amp;fm=21&amp;gp=0.jpg"/>
          <p:cNvPicPr/>
          <p:nvPr/>
        </p:nvPicPr>
        <p:blipFill>
          <a:blip r:embed="rId1"/>
          <a:stretch/>
        </p:blipFill>
        <p:spPr>
          <a:xfrm>
            <a:off x="4859280" y="3213000"/>
            <a:ext cx="3956040" cy="2928960"/>
          </a:xfrm>
          <a:prstGeom prst="rect">
            <a:avLst/>
          </a:prstGeom>
          <a:ln w="0">
            <a:noFill/>
          </a:ln>
        </p:spPr>
      </p:pic>
      <p:sp>
        <p:nvSpPr>
          <p:cNvPr id="207" name="TextBox 4"/>
          <p:cNvSpPr/>
          <p:nvPr/>
        </p:nvSpPr>
        <p:spPr>
          <a:xfrm>
            <a:off x="5003640" y="6278400"/>
            <a:ext cx="49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莲蓬乳（皮肤蝇蛆病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3" descr="C:\Users\Administrator\Desktop\u=3516852016,3545569074&amp;fm=23&amp;gp=0.jpg"/>
          <p:cNvPicPr/>
          <p:nvPr/>
        </p:nvPicPr>
        <p:blipFill>
          <a:blip r:embed="rId2"/>
          <a:stretch/>
        </p:blipFill>
        <p:spPr>
          <a:xfrm>
            <a:off x="5364000" y="189000"/>
            <a:ext cx="3333960" cy="22478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7"/>
          <p:cNvSpPr/>
          <p:nvPr/>
        </p:nvSpPr>
        <p:spPr>
          <a:xfrm>
            <a:off x="5796000" y="2349360"/>
            <a:ext cx="53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口 腔 蝇 蛆 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68360" y="40464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六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环境防制：通过清除孳生物、隔离孳生物和改变孳生物的性状使之不适合蝇孳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物理防制：用淹杀、闷杀、堆肥等方法杀灭幼虫及蛹，用直接拍打、电子灭蝇灯捕杀、捕蝇笼诱捕等方法灭成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化学防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⑴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灭幼虫：马拉硫磷、倍硫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⑵灭成蝇：美曲膦酯、倍硫磷、辛硫磷、马拉硫磷、氯氰菊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生物防制  ：寄生峰作用于蝇蛹，苏云金杆菌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-9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外毒素对舍蝇和丝光绿蝇的幼虫有效。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8" dur="1" fill="hold"/>
                                  <p:tgtEl>
                                    <p:spTgt spid="2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四节 </a:t>
            </a:r>
            <a:r>
              <a:rPr b="1" lang="zh-CN" sz="4800" spc="-1" strike="noStrike">
                <a:solidFill>
                  <a:srgbClr val="1f497d"/>
                </a:solidFill>
                <a:latin typeface="Calibri"/>
              </a:rPr>
              <a:t>蚤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Fl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丽蝇翅"/>
          <p:cNvPicPr/>
          <p:nvPr/>
        </p:nvPicPr>
        <p:blipFill>
          <a:blip r:embed="rId1"/>
          <a:stretch/>
        </p:blipFill>
        <p:spPr>
          <a:xfrm>
            <a:off x="214200" y="1714680"/>
            <a:ext cx="4143600" cy="250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3a245f5da12fc4f52ac9149773037c2"/>
          <p:cNvPicPr/>
          <p:nvPr/>
        </p:nvPicPr>
        <p:blipFill>
          <a:blip r:embed="rId2"/>
          <a:stretch/>
        </p:blipFill>
        <p:spPr>
          <a:xfrm>
            <a:off x="4714920" y="1428840"/>
            <a:ext cx="3643200" cy="4000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643280" y="5572080"/>
            <a:ext cx="4000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足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跗节末端有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属于昆虫纲、蚤目。是哺乳动物和鸟类的体外寄生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国已记录的蚤种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5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种。其中仅少数种类与传播人畜共患病有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7" dur="1" fill="hold"/>
                                  <p:tgtEl>
                                    <p:spTgt spid="2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两侧扁平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无翅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表有毛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刺、鬃和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长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左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棕黄至深褐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结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头部：略呈三角形，单眼一对，触角一对。刺吸式口器。有的种类有颊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前、中、后胸，有些种类前胸背板后缘具有前胸栉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对足，长而发达，善于跳跃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，前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背板两侧各有气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个。第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上有臀板。雌蚤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腹板的位置上可见受精囊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F:\寄生虫课件图\03020301.BMP"/>
          <p:cNvPicPr/>
          <p:nvPr/>
        </p:nvPicPr>
        <p:blipFill>
          <a:blip r:embed="rId1"/>
          <a:srcRect l="49045" t="13531" r="4541" b="13306"/>
          <a:stretch/>
        </p:blipFill>
        <p:spPr>
          <a:xfrm>
            <a:off x="5977080" y="692280"/>
            <a:ext cx="3166920" cy="29034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6732720" y="306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人 雌蚤受精 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椭圆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初产时白色逐渐发育为暗黄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3" descr="F:\寄生虫课件图\03020304.BMP"/>
          <p:cNvPicPr/>
          <p:nvPr/>
        </p:nvPicPr>
        <p:blipFill>
          <a:blip r:embed="rId1"/>
          <a:srcRect l="39765" t="6129" r="3145" b="30883"/>
          <a:stretch/>
        </p:blipFill>
        <p:spPr>
          <a:xfrm>
            <a:off x="2340000" y="3429000"/>
            <a:ext cx="403236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62755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细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淡黄色或乳白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咀嚼式口器，触角一对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无足。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末节端部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肛柱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3" descr="F:\寄生虫课件图\03020303.BMP"/>
          <p:cNvPicPr/>
          <p:nvPr/>
        </p:nvPicPr>
        <p:blipFill>
          <a:blip r:embed="rId1"/>
          <a:srcRect l="37893" t="5007" r="5527" b="31852"/>
          <a:stretch/>
        </p:blipFill>
        <p:spPr>
          <a:xfrm>
            <a:off x="4859280" y="765000"/>
            <a:ext cx="3457800" cy="259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571680" y="52862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32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3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4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6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~ 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37"/>
          <p:cNvSpPr/>
          <p:nvPr/>
        </p:nvSpPr>
        <p:spPr>
          <a:xfrm>
            <a:off x="1668600" y="250020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3780000" y="1628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37"/>
          <p:cNvSpPr/>
          <p:nvPr/>
        </p:nvSpPr>
        <p:spPr>
          <a:xfrm>
            <a:off x="1495800" y="4214880"/>
            <a:ext cx="7902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三次蜕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34"/>
          <p:cNvSpPr/>
          <p:nvPr/>
        </p:nvSpPr>
        <p:spPr>
          <a:xfrm>
            <a:off x="6151680" y="257184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4000" y="189000"/>
            <a:ext cx="8820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孳生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活动场所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动物的洞穴、鸟巢、禽舍，屋内角落 、缝隙 、床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食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雄蚤都吸血。吸血活动频繁，一天吸血数次，每次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钟。耐饥能力很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4071600" cy="30639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2726280" y="4005360"/>
            <a:ext cx="115524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蚤类吸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6" dur="1" fill="hold"/>
                                  <p:tgtEl>
                                    <p:spTgt spid="2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762120" y="762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宿主及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可在宿主体表和动物窝巢内外自由活动，宿主范围很广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包括兽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鸟类及人类。  鼠类为其主要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对宿主的选择性可分为多宿主型、寡宿主型、单宿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成虫对宿主体温反应敏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5" dur="1" fill="hold"/>
                                  <p:tgtEl>
                                    <p:spTgt spid="2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250920" y="333360"/>
            <a:ext cx="86104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、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骚扰、吸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寄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穿皮潜蚤寄生于人体皮下引起潜蚤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疾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鼠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是由鼠疫耶尔森菌传播的烈性传染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贮存宿主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旱獭、黄鼠、长爪沙鼠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我国主要有致痒蚤、印鼠客蚤、方形黄鼠蚤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方式：鼠疫耶尔森菌附着于前胃内壁的棘状突起上形成菌栓、堵塞前胃，蚤所吸血液不能进入胃内，血液回流将病原反吐进入宿主体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9" dur="1" fill="hold"/>
                                  <p:tgtEl>
                                    <p:spTgt spid="2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071720" y="785880"/>
            <a:ext cx="2560320" cy="3425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4643280" y="1285920"/>
            <a:ext cx="3714840" cy="300024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3000240" y="542916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鼠 疫 患 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4200" y="609120"/>
            <a:ext cx="48578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型斑疹伤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莫氏立克次氏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贮存宿主：褐家鼠、黄胸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印鼠客蚤、缓慢细蚤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感染方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粪便污染伤口感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5857920" y="1071720"/>
            <a:ext cx="2679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8" dur="1" fill="hold"/>
                                  <p:tgtEl>
                                    <p:spTgt spid="2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腹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组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最后数节变成外生殖器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外生殖器是种类鉴定的重要依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受 精 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7" dur="1" fill="hold"/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绦虫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是犬复孔绦虫、缩小膜壳绦虫、微小膜壳绦虫的中间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人体误食含有似囊尾蚴的蚤而感染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Calibri"/>
              </a:rPr>
              <a:t>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五、我国重要的传病蚤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痒蚤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人蚤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ulex irrit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世界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吸血习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嗜吸犬、猫和人血。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3" descr="致痒蚤"/>
          <p:cNvPicPr/>
          <p:nvPr/>
        </p:nvPicPr>
        <p:blipFill>
          <a:blip r:embed="rId1"/>
          <a:stretch/>
        </p:blipFill>
        <p:spPr>
          <a:xfrm>
            <a:off x="1143000" y="3500280"/>
            <a:ext cx="5410080" cy="278136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"/>
          <p:cNvSpPr/>
          <p:nvPr/>
        </p:nvSpPr>
        <p:spPr>
          <a:xfrm>
            <a:off x="6580440" y="407196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57" dur="1" fill="hold"/>
                                  <p:tgtEl>
                                    <p:spTgt spid="2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印鼠客蚤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enopsylla cheop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沿海诸省多见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主要为家栖鼠类，也吸人血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、鼠型斑疹伤寒和缩小膜壳绦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6" dur="1" fill="hold"/>
                                  <p:tgtEl>
                                    <p:spTgt spid="2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28600" y="4568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方形黄鼠蚤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tellophilus tesquorum sungaris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松江亚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东北、华北、西北。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黄鼠、沙鼠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跳鼠、布氏田鼠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 、猪丹毒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4" descr="F:\石\北医教材\教材图集\教材图2\方形黄鼠蚤.jpg"/>
          <p:cNvPicPr/>
          <p:nvPr/>
        </p:nvPicPr>
        <p:blipFill>
          <a:blip r:embed="rId1"/>
          <a:stretch/>
        </p:blipFill>
        <p:spPr>
          <a:xfrm>
            <a:off x="611280" y="3789360"/>
            <a:ext cx="5575320" cy="2808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"/>
          <p:cNvSpPr/>
          <p:nvPr/>
        </p:nvSpPr>
        <p:spPr>
          <a:xfrm>
            <a:off x="6048720" y="407664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5" dur="1" fill="hold"/>
                                  <p:tgtEl>
                                    <p:spTgt spid="2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50560" y="33300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六、防 制 原 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清除孳生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堵塞鼠洞，房舍、禽畜、棚圏的地面要清洁干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蚤、防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用 敌敌畏、溴氰菊酯等灭蚤。 家养动物可定期药浴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拟菊酯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外露皮肤凃抹二乙甲苯酰胺或邻苯二甲酸二甲酯，可防蚤叮咬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鼠是灭蚤的重要措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86" dur="1" fill="hold"/>
                                  <p:tgtEl>
                                    <p:spTgt spid="2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57160" y="78588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第五节   虱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L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42884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72720" cy="35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属于吸虱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noplur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，它的发育各期都不离开宿主。寄生于人体的虱有两种，即人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和耻阴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thirus pub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。人虱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亚种：头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</a:t>
            </a:r>
            <a:r>
              <a:rPr b="0" i="1" lang="en-US" sz="2800" spc="-1" strike="noStrike">
                <a:solidFill>
                  <a:srgbClr val="000000"/>
                </a:solidFill>
                <a:latin typeface="宋体"/>
              </a:rPr>
              <a:t>capitis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和体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corporis)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图片 2" descr="u=3312652888,3245302658&amp;fm=23&amp;gp=0.jpg"/>
          <p:cNvPicPr/>
          <p:nvPr/>
        </p:nvPicPr>
        <p:blipFill>
          <a:blip r:embed="rId1"/>
          <a:stretch/>
        </p:blipFill>
        <p:spPr>
          <a:xfrm>
            <a:off x="285840" y="3286080"/>
            <a:ext cx="4219560" cy="257184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3" descr="u=4063009795,195258531&amp;fm=23&amp;gp=0.jpg"/>
          <p:cNvPicPr/>
          <p:nvPr/>
        </p:nvPicPr>
        <p:blipFill>
          <a:blip r:embed="rId2"/>
          <a:stretch/>
        </p:blipFill>
        <p:spPr>
          <a:xfrm>
            <a:off x="4786200" y="3286080"/>
            <a:ext cx="4000680" cy="25718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428760" y="614376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体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5072040" y="621504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头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成虫背腹扁平，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虫可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虫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呈菱形，触角和复眼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口器为刺吸式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融合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均粗壮，长度大致相等，爪与胫突合垅形成攫握器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分节明显，外观可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雌虱腹部末端呈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形，雄虱腹后端钝圆，有一交合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图片 2" descr="u=2548676083,214516702&amp;fm=23&amp;gp=0.jpg"/>
          <p:cNvPicPr/>
          <p:nvPr/>
        </p:nvPicPr>
        <p:blipFill>
          <a:blip r:embed="rId1"/>
          <a:stretch/>
        </p:blipFill>
        <p:spPr>
          <a:xfrm>
            <a:off x="6084720" y="476280"/>
            <a:ext cx="2857680" cy="3044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耻阴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形宽短似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虱体长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性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与人虱相似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宽短，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足细小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、后足及爪均粗大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宽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左大括号 5"/>
          <p:cNvSpPr/>
          <p:nvPr/>
        </p:nvSpPr>
        <p:spPr>
          <a:xfrm>
            <a:off x="611280" y="3933720"/>
            <a:ext cx="571320" cy="15717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760"/>
              <a:gd name="textAreaBottom" fmla="*/ 155700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图片 2" descr="u=266626919,3303569894&amp;fm=23&amp;gp=0.jpg"/>
          <p:cNvPicPr/>
          <p:nvPr/>
        </p:nvPicPr>
        <p:blipFill>
          <a:blip r:embed="rId1"/>
          <a:stretch/>
        </p:blipFill>
        <p:spPr>
          <a:xfrm>
            <a:off x="4786200" y="3000240"/>
            <a:ext cx="3643560" cy="292896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5"/>
          <p:cNvSpPr/>
          <p:nvPr/>
        </p:nvSpPr>
        <p:spPr>
          <a:xfrm>
            <a:off x="179280" y="4292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7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8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89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交配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6"/>
          <p:cNvSpPr/>
          <p:nvPr/>
        </p:nvSpPr>
        <p:spPr>
          <a:xfrm>
            <a:off x="4214880" y="52149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1902600" y="3357720"/>
            <a:ext cx="45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矩形 12"/>
          <p:cNvSpPr/>
          <p:nvPr/>
        </p:nvSpPr>
        <p:spPr>
          <a:xfrm>
            <a:off x="4720680" y="1500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的发育为不全变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120" y="533520"/>
            <a:ext cx="81536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、发育与变态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）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个体发育经胚胎发育和胚后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阶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胎发育在卵内完成。从孵出幼虫到成虫性成熟  此过程为胚后发育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幼虫变为成虫要经过外部形态、内部结构、生理功能、生活习性及行为和本能的一系列变化，这些变化过程的总和，称为变态。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" dur="1" fill="hold"/>
                                  <p:tgtEl>
                                    <p:spTgt spid="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三、生 态 习 性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部位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人头虱寄生于头部、耳后发根处；体虱多寄生于贴身衣物的缝隙、衣领和腰带处。耻阴虱主要寄生于阴毛、腋毛和肛毛上。卵产于并粘于衣物纤维和毛发上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血习性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虫和雌、雄成虫都嗜吸人血，边吸血边排粪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应性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对温度和湿度都极其敏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虱：人与人的直接和间接接触引起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耻阴虱：通过性交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000"/>
            </a:b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5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流行性斑疹伤寒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：普氏立克次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：病原体随虱粪排岀或虱体被压碎后污染皮肤、伤口而感染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图片 3" descr="u=3605823938,4010447386&amp;fm=23&amp;gp=0.jpg"/>
          <p:cNvPicPr/>
          <p:nvPr/>
        </p:nvPicPr>
        <p:blipFill>
          <a:blip r:embed="rId1"/>
          <a:stretch/>
        </p:blipFill>
        <p:spPr>
          <a:xfrm>
            <a:off x="5500800" y="3284640"/>
            <a:ext cx="2663640" cy="307332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4" descr="u=2311946530,2997879117&amp;fm=23&amp;gp=0.jpg"/>
          <p:cNvPicPr/>
          <p:nvPr/>
        </p:nvPicPr>
        <p:blipFill>
          <a:blip r:embed="rId2"/>
          <a:stretch/>
        </p:blipFill>
        <p:spPr>
          <a:xfrm>
            <a:off x="1071720" y="3282840"/>
            <a:ext cx="32130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5344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战壕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五日热巴尔通体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与流行性斑疹伤寒相似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媒回归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回归热疏螺旋体。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：虱体被压碎后病原体污染皮肤、伤口而感染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66764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制原则</a:t>
            </a:r>
            <a:br>
              <a:rPr sz="2900"/>
            </a:br>
            <a:r>
              <a:rPr b="1" lang="en-US" sz="3600" spc="-1" strike="noStrike">
                <a:solidFill>
                  <a:srgbClr val="800080"/>
                </a:solidFill>
                <a:latin typeface="Calibri"/>
              </a:rPr>
              <a:t>  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防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虱的防制应以预防为主。注意个人卫生。预防耻阴虱在于洁身自好。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灭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法：高温或冷冻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杀虫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药物：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0.0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％二氯苯醚菊酯、倍硫磷粉剂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楷体"/>
                <a:ea typeface="楷体"/>
              </a:rPr>
              <a:t>第六节 蜚 蠊</a:t>
            </a:r>
            <a:br>
              <a:rPr sz="6000"/>
            </a:br>
            <a:r>
              <a:rPr b="1" lang="en-US" sz="6000" spc="-1" strike="noStrike">
                <a:solidFill>
                  <a:srgbClr val="0070c0"/>
                </a:solidFill>
                <a:latin typeface="楷体"/>
                <a:ea typeface="楷体"/>
              </a:rPr>
              <a:t>Cockroaches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0070c0"/>
                </a:solidFill>
                <a:latin typeface="Calibri"/>
              </a:rPr>
              <a:t>于 晶 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蜚蠊俗称蟑螂，属蜚蠊目，全世界约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，我国记录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68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。我国常见的有德国小蠊和美洲大蠊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椭圆形，背腹扁平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小者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呈黄褐色或深褐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小，大部分隐藏于前胸腹面；有一对触角，细长呈鞭形，分节很多；一对复眼发达；口器为咀嚼式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前胸发达，中、后胸较小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翅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细长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扁阔，分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雄虫最末端腹板有一腹刺；雌虫末腹板呈分叶状，有夹持卵荚的功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Calibri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79280" y="4076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5"/>
          <p:cNvSpPr/>
          <p:nvPr/>
        </p:nvSpPr>
        <p:spPr>
          <a:xfrm>
            <a:off x="939960" y="1500120"/>
            <a:ext cx="85068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蜚 蠊 成 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4" descr="C:\Users\Administrator\Desktop\0ff8297789adcba9501a2c4fdde89ec4.jpg"/>
          <p:cNvPicPr/>
          <p:nvPr/>
        </p:nvPicPr>
        <p:blipFill>
          <a:blip r:embed="rId1"/>
          <a:stretch/>
        </p:blipFill>
        <p:spPr>
          <a:xfrm>
            <a:off x="3571920" y="1857240"/>
            <a:ext cx="428616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2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3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14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交配后十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16"/>
          <p:cNvSpPr/>
          <p:nvPr/>
        </p:nvSpPr>
        <p:spPr>
          <a:xfrm>
            <a:off x="3643200" y="55720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~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月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1902600" y="3000240"/>
            <a:ext cx="45468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~7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个龄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                        </a:t>
            </a:r>
            <a:r>
              <a:rPr b="1" lang="zh-CN" sz="4000" spc="-1" strike="noStrike">
                <a:solidFill>
                  <a:srgbClr val="4f81bd"/>
                </a:solidFill>
                <a:latin typeface="Calibri"/>
              </a:rPr>
              <a:t>三、生  态</a:t>
            </a:r>
            <a:br>
              <a:rPr sz="4000"/>
            </a:b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br>
              <a:rPr sz="28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孳生场所：喜栖息于室内温暖、且与食物、水分靠近的场所。昼伏夜行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食性：杂食性昆虫，尤嗜食糖类和肉食类，并需经常饮水。耐饥性较強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季节消长和越冬：通常始见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达高峰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以后逐渐减少，直至消失。当温度低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.5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蜚蠊的成虫、若虫和卵荚可在黑暗、无风的场所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14040" y="60948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后发育的各期之间在外部形态、生活习性等方面差别显著。  全变态 的昆虫有四个发育期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如蝇等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5" dur="1" fill="hold"/>
                                  <p:tgtEl>
                                    <p:spTgt spid="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400"/>
            </a:br>
            <a:r>
              <a:rPr b="0" lang="zh-CN" sz="29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900"/>
            </a:b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传播疾病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传病的方式为体表和肠道机械性携带病原体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细菌类：传播痢疾志贺菌、沙门菌、铜绿假单胞菌、变形杆菌、黄曲霉菌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病毒类：腺病毒、脊髓灰质炎病毒和乙肝病毒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寄生虫类：可携带蠕虫卵和溶组织内阿米巴包囊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为中间宿主  是美丽筒线虫、东方筒线虫和缩小膜壳绦虫的中间宿主。　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 制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2"/>
          <p:cNvSpPr/>
          <p:nvPr/>
        </p:nvSpPr>
        <p:spPr>
          <a:xfrm>
            <a:off x="357120" y="1857240"/>
            <a:ext cx="8643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根本措施：保持室内清洁卫生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及时清除垃圾是防制蜚蠊的根本措施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化学药物杀灭成虫：二氯苯醚菊酯、溴氰菊酯、顺式氯氰菊酯、美曲磷脂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9:09:00Z</dcterms:created>
  <dc:creator>fare</dc:creator>
  <dc:description/>
  <cp:keywords/>
  <dc:language>en-US</dc:language>
  <cp:lastModifiedBy>微软用户</cp:lastModifiedBy>
  <dcterms:modified xsi:type="dcterms:W3CDTF">2015-10-08T07:26:47Z</dcterms:modified>
  <cp:revision>18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