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8.wmf" ContentType="image/x-wmf"/>
  <Override PartName="/ppt/media/image1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4C867-D0FB-4D41-9A40-67062F72C8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603D4-7DC9-485D-B4BE-BD9278148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3BC2C-D6B7-469C-9ABB-EC4FDD0E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114DF-4FA7-4B2B-B2B4-D062FB9922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31592-9301-4F02-8A51-2CAC8A14A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679B4-A62B-4F24-9EF0-811213E3B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050D2-518A-41DE-A1A2-150864F7B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765CC-00AE-436D-B9F4-89B1F3534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8B279-1C5B-4A5D-80A9-D28AE1CAA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8EB2D-69A5-4611-AEA5-E78E0C121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3959B-11CD-4D05-A0B4-AD108D38D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A36F8-7374-45FC-BBD0-72A55FDF1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76232-4B52-41AE-9812-55A4BD16968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ournursing.com/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1773000"/>
            <a:ext cx="568800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第六章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社区卫生保健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及康复护理伦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br>
              <a:rPr sz="36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特别重大突发公共卫生事件主要包括（续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⑤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发生烈性病菌株、毒株、致病因子等丢失事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⑥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周边以及与我国通航的国家和地区发生特大传染病疫情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并出现输入性病例，严重危及我国公共卫生安全的事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⑦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国务院卫生行政部门认定的其他特别重大突发公共卫生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五）突发公共卫生事件护理人员应具备的能力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大局意识和法制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应急处理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沟通组织协调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有效的防护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心理护理的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突发公共卫生事件应急护理伦理规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责任心与职业操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科学研究精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爱心与人文关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合作及团队精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卫生资源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是在一定社会经济条件下，国家、社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和个人对卫生部门综合投资的总称。一个国家或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区占有卫生资源的数量和质量，是衡量该国或该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区经济实力、文化水平和卫生状况的客观指标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卫生资源分配不平衡的原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我国目前仍是一个卫生资源总体不足，卫生事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展相对落后于经济发展的国家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50920" y="3429000"/>
            <a:ext cx="8569080" cy="24321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720520" y="5963400"/>
            <a:ext cx="30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表</a:t>
            </a:r>
            <a:r>
              <a:rPr b="1" lang="en-US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1</a:t>
            </a: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我国与七个发达国家的医疗资源相关指标</a:t>
            </a:r>
            <a:r>
              <a:rPr b="0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2523240" y="4941000"/>
            <a:ext cx="336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表</a:t>
            </a:r>
            <a:r>
              <a:rPr b="1" lang="en-US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2 </a:t>
            </a: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我国与七个发达国家卫生费用相关指标统计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44360" y="1773360"/>
            <a:ext cx="8675640" cy="2762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卫生资源分配不平衡的原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城乡卫生资源失衡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卫生资源浪费严重，利用率低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卫生资源分配的伦理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公益性原则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公平性原则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效益原则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医院该不该扩张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十堰太和医院的扩张崛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十堰太和医院（郧阳医学院附属医院）位于湖北省十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市，鄂豫渝陕四省市毗邻的秦巴山区，十堰共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5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万人口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城区人口只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万，却同时拥有四所三甲医院，众多中小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医疗机构。十堰是典型的二元经济结构，城区以东风汽车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造厂为主，是富裕小康社会，人均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GD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曾达到全国第六位，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县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市均是国家级贫困县。县级卫生资源薄弱，患者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市里大医院集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黑体"/>
                <a:ea typeface="黑体"/>
              </a:rPr>
              <a:t>思考问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结合公共卫生资源分配的伦理规范，该地区的卫生资源分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该做哪些改善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第二节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社区保健和家庭病床护理伦理</a:t>
            </a:r>
            <a:r>
              <a:rPr b="1" lang="zh-CN" sz="3200" spc="-1" strike="noStrike">
                <a:solidFill>
                  <a:srgbClr val="8ac8de"/>
                </a:solidFill>
                <a:latin typeface="华文彩云"/>
                <a:ea typeface="华文彩云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4508640"/>
            <a:ext cx="2273040" cy="20080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2843280" y="4581360"/>
            <a:ext cx="3384360" cy="18687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6372360" y="4622760"/>
            <a:ext cx="260640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124000" y="1412640"/>
            <a:ext cx="518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突发公共卫生事件应急护理伦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社区保健和家庭病床护理伦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康复护理伦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692360" y="1628640"/>
            <a:ext cx="688680" cy="594000"/>
            <a:chOff x="1692360" y="1628640"/>
            <a:chExt cx="688680" cy="594000"/>
          </a:xfrm>
        </p:grpSpPr>
        <p:sp>
          <p:nvSpPr>
            <p:cNvPr id="109" name="AutoShape 5"/>
            <p:cNvSpPr/>
            <p:nvPr/>
          </p:nvSpPr>
          <p:spPr>
            <a:xfrm>
              <a:off x="1697760" y="163872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692360" y="162864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732320" y="1663560"/>
              <a:ext cx="600480" cy="513720"/>
            </a:xfrm>
            <a:prstGeom prst="hexagon">
              <a:avLst>
                <a:gd name="adj" fmla="val 29222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08000" y="1700280"/>
            <a:ext cx="265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692360" y="234792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08000" y="2421000"/>
            <a:ext cx="281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692360" y="3068640"/>
            <a:ext cx="686880" cy="593640"/>
            <a:chOff x="1692360" y="3068640"/>
            <a:chExt cx="68688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697760" y="30787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692360" y="30686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732320" y="310356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Line 18"/>
          <p:cNvSpPr/>
          <p:nvPr/>
        </p:nvSpPr>
        <p:spPr>
          <a:xfrm>
            <a:off x="2411280" y="2205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2411280" y="2997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20"/>
          <p:cNvSpPr/>
          <p:nvPr/>
        </p:nvSpPr>
        <p:spPr>
          <a:xfrm>
            <a:off x="2411280" y="378936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1"/>
          <p:cNvSpPr/>
          <p:nvPr/>
        </p:nvSpPr>
        <p:spPr>
          <a:xfrm>
            <a:off x="2411280" y="450864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AutoShape 16"/>
          <p:cNvSpPr/>
          <p:nvPr/>
        </p:nvSpPr>
        <p:spPr>
          <a:xfrm>
            <a:off x="1692360" y="3860640"/>
            <a:ext cx="718920" cy="594000"/>
          </a:xfrm>
          <a:prstGeom prst="hexagon">
            <a:avLst>
              <a:gd name="adj" fmla="val 28549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1786320" y="3932280"/>
            <a:ext cx="374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 Box 15"/>
          <p:cNvSpPr/>
          <p:nvPr/>
        </p:nvSpPr>
        <p:spPr>
          <a:xfrm flipH="1" flipV="1">
            <a:off x="1943280" y="3801960"/>
            <a:ext cx="169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1835280" y="31399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社区保健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社区保健从人体健康的新概念出发，研究人体健康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疾病与环境，生活方式等因素的关系，对个人和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体采取预防与保健相结合的综合性措施，控制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的因素，提高环境质量和生活质量，以达到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护健康，促进健康，预防疾病和延长寿命的目的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社区保健的内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疾病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保健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慢性病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临终服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康复服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社区保健的特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群众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长期性和连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综合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可及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社区保健的伦理规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热情服务、平等待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精益求精、科学严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认真负责、甘于奉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严守规章，遵守纪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家庭病床护理概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家庭病床（</a:t>
            </a: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family bed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医疗机构为适合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家庭进行计划治疗和管理患者而就地建立的病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它既是医院的有机组成部分，也是社区卫生服务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要内容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家庭病床护理工作的特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护理内容全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护患关系密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道德要求更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家庭病床护理人员的主要职责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认真执行医嘱，准时到患者家中进行各种治疗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护理，严格执行操作规程，防止差错事故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细心观察患者的病情变化，发现问题及时联系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告主管医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患者病情发生突变时，协助患者转院治疗，遇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紧急情况时，护士应立即对症处理并做好记录，并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向主管医生报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家庭病床护理人员的主要职责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加强与患者和家属的沟通和交流，做好心理护理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做好防病知识和护理知识的宣教，指导家属配合做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常生活护理和简单的专科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发现传染病患者必须及时登记，做好疫情报告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指导家属并参与消毒隔离工作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家庭病床的护理伦理规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维护患者利益，及时准确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加强学习，精益求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密切协作，目标一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注意保密，言行谨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信守承诺，按时服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第三节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康复护理伦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7" name="DefaultOcx" descr=""/>
          <p:cNvPicPr/>
          <p:nvPr/>
        </p:nvPicPr>
        <p:blipFill>
          <a:blip r:embed="rId1"/>
          <a:stretch/>
        </p:blipFill>
        <p:spPr>
          <a:xfrm>
            <a:off x="2212920" y="-536400"/>
            <a:ext cx="914400" cy="228600"/>
          </a:xfrm>
          <a:prstGeom prst="rect">
            <a:avLst/>
          </a:prstGeom>
          <a:ln w="9360">
            <a:solidFill>
              <a:srgbClr val="046ca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9344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识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黑体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列举护理人员在突发公共卫生事件时应具备的能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复述突发公共卫生事件应急护理伦理规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背诵卫生资源分配应遵循的伦理原则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解释我国卫生资源分配不平衡的原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析社区保健及其护理伦理规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析家庭病床护理及其伦理规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总结康复护理的含义、内容及其特点及其伦理要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针对突发公共卫生事件时护士应具备的伦理道德素质进行探讨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运用伦理学的基本原则，阐述卫生资源分配的具体要求和处置原则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康复护理的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康复护理（</a:t>
            </a: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Rehabilitation nursing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以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的整体医疗计划为依据，围绕全面康复的目标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采取各种专门的功能训练及专业护理等措施，帮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、伤、残者提高自理能力，以达到最大程度的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并使其重返社会的护理过程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康复护理的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康复护理的对象主要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残疾者  是指生理、心理、人体结构上以及某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织不同程度的功能丧失或者不正常，造成部分或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全部失去正常人的功能或失去社会生活能力的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包括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）残损：指身体结构和（或）功能（生理、心理）有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定程度缺损，身体和（或）精神与智力活动受到不同程度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限制，对独立生活或工作和学习有一定程度的影响，但个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生活仍然自理，是生物器官系统水平上的残疾，又称结构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能缺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）残疾：指由于身体组织结构和（或）功能缺损较严重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造成身体和（或）精神或智力方面的明显障碍，以致不能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正常的方式和范围独立进行日常生活活动，是个体水平上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残疾，又称个体能力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）残障：指由于残损或残疾，限制或阻碍完成正常情况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应能完成的社会工作，是社会水平的残疾，又称社会能力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康复护理的对象主要有（续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各种损伤和急慢性疾病带来的功能障碍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老年病带来的功能障碍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康复护理的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预防残疾的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康复功能训练与康复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残情动态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康复护理的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坚持全面康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提倡早期介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强调自我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落实持续干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康复护理的伦理要求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理解尊重、平等相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热情关怀、耐心帮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合作密切、加强协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突发公共卫生事件是一项重大的社会问题，直接影响公众健康、经济发展和社会安定，要求护理人员必须具备大局意识和法制观念，较强的应急处理能力、沟通组织协调能力、有效的防护能力和心理护理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突发公共卫生事件不仅威胁人类的健康，还引发更多的伦理、道德、法律和社会稳定问题，要求护理人员必须遵循一定的伦理原则，包括：责任心和职业操守；科研精神；爱心与人文关怀；合作及团队精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卫生资源的分配涉及诸多伦理学的问题，在卫生资源具体的分配上要设定优先次序，兼顾公平与效益，在坚持最基本的公正原则前提下，体现多元的公正标准和原则，其主要伦理原则包括：公益性原则、公平性原则、效益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保健护理和家庭病床护理，共同构成了社区护理的重要内容，是护理社会化的重要标志。护理工作者在从事社区保健和家庭病床护理工作时，必须遵循相应的伦理规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康复护理的对象主要有残疾者、各种损伤和急慢性疾病带来的功能障碍者、老年病带来的功能障碍者；康复护理的主要内容为：预防残疾的发生、康复功能训练与康复指导、残情动态观察和心理护理；要求遵循的伦理规范：理解尊重、平等相待，热情关怀、耐心帮助，合作密切、加强协作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第一节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突发公共卫生事件应急护理伦理</a:t>
            </a:r>
            <a:r>
              <a:rPr b="1" lang="zh-CN" sz="3200" spc="-1" strike="noStrike">
                <a:solidFill>
                  <a:srgbClr val="8ac8de"/>
                </a:solidFill>
                <a:latin typeface="华文彩云"/>
                <a:ea typeface="华文彩云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56360" y="422100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348000" y="4400640"/>
            <a:ext cx="2736720" cy="20365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4920" y="4232160"/>
            <a:ext cx="3259080" cy="22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突发公共卫生事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指突然发生或者可能发生的、对公众健康造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者可能造成重大损失的传染性疫情和不明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群体性疫病，涉及人数众多的重大食物中毒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职业中毒事件，以及其他危害公共健康的突发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共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       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——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中华人民共和国突发事件应对法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》 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2007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年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11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突发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社会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群体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风险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5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紧迫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6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协作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7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国际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8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责任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突发公共卫生事件分类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据事件的成因和性质，突发公共卫生事件分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大传染病疫情、群体性不明原因疾病、重大食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毒和职业中毒、新发传染性疾病、群体性预防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种反应和群体性药物反应，重大环境污染事故，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事故和放射事故，生物、化学、核辐射恐怖事件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然灾害（如水灾、旱灾、地震、火灾、泥石流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导致的人员伤亡和疾病流行，以及其他影响公众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康的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突发公共卫生事件的分级判定标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据突发公共卫生事件性质、危害程度、涉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范围，突发公共卫生事件划分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特别重大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大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较大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般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特别重大突发公共卫生事件主要包括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①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肺鼠疫、肺炭疽在大、中城市发生并有扩散趋势，或肺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疫、肺炭疽疫情波及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个以上的省份，并有进一步扩散趋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②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发生传染性非典型肺炎、人感染高致病性禽流感病例，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有扩散趋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③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涉及多个省份的群体性不明原因疾病，并有扩散趋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④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发生新传染病或我国尚未发现的传染病发生或传入，并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扩散趋势，或发现我国已消灭的传染病重新流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hzg</cp:lastModifiedBy>
  <cp:lastPrinted>1899-12-30T00:00:00Z</cp:lastPrinted>
  <dcterms:modified xsi:type="dcterms:W3CDTF">2015-09-10T03:14:16Z</dcterms:modified>
  <cp:revision>23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