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77345F-B8E7-4274-B79C-7F5108860C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51EC2CA-0B28-4D7F-B0E0-CD6F57DA24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1E090AA-9357-4140-BA14-AC079AC91C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0702D6D-40B5-4B07-901D-02FFE3EA5F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E092E68-DC4A-4B26-A80F-14C933BE63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70A30E4-066E-48EC-B934-A01B19A6ED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76CA49F-CAE7-4F96-9DFA-50E0F2EF7A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0B12ACD-B79A-459D-B1EF-2B973FE32A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CE9826B-681C-4F4E-9127-7E38A43DF7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373CC95-81D5-45F2-ACCF-B77A0B92ED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86747AE-3B7B-44AA-A557-BFE4A1CB24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1EFC44B-1F81-4974-A531-E91DF2B88C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8ADE7-77EF-483F-B207-57DFE5BFC5A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640872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二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科研伦理</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60" y="1699920"/>
            <a:ext cx="816300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实验的研究对象</a:t>
            </a:r>
            <a:endParaRPr b="0" lang="en-US" sz="3200" spc="-1" strike="noStrike">
              <a:solidFill>
                <a:srgbClr val="ffffff"/>
              </a:solidFill>
              <a:latin typeface="Verdana"/>
            </a:endParaRPr>
          </a:p>
        </p:txBody>
      </p:sp>
      <p:sp>
        <p:nvSpPr>
          <p:cNvPr id="156" name="PlaceHolder 2"/>
          <p:cNvSpPr>
            <a:spLocks noGrp="1"/>
          </p:cNvSpPr>
          <p:nvPr>
            <p:ph/>
          </p:nvPr>
        </p:nvSpPr>
        <p:spPr>
          <a:xfrm>
            <a:off x="-360" y="2349360"/>
            <a:ext cx="8209080" cy="5615280"/>
          </a:xfrm>
          <a:prstGeom prst="rect">
            <a:avLst/>
          </a:prstGeom>
          <a:noFill/>
          <a:ln w="0">
            <a:noFill/>
          </a:ln>
        </p:spPr>
        <p:txBody>
          <a:bodyPr anchor="t">
            <a:normAutofit/>
          </a:bodyPr>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黑体"/>
              </a:rPr>
              <a:t>人体实验的受试者既可以是患者，也可以是健康人，根据研究性质的不同，将参与实验的研究对象称之为受试者、参与者或被调查者。</a:t>
            </a:r>
            <a:endParaRPr b="1" lang="en-US" sz="2800" spc="-1" strike="noStrike">
              <a:solidFill>
                <a:srgbClr val="8ac8de"/>
              </a:solidFill>
              <a:latin typeface="Verdana"/>
            </a:endParaRPr>
          </a:p>
        </p:txBody>
      </p:sp>
      <p:sp>
        <p:nvSpPr>
          <p:cNvPr id="157"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ffffff"/>
              </a:solidFill>
              <a:latin typeface="Verdana"/>
            </a:endParaRPr>
          </a:p>
        </p:txBody>
      </p:sp>
      <p:sp>
        <p:nvSpPr>
          <p:cNvPr id="15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人体实验的类型</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自体实验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志愿实验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欺骗实验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强迫实验</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1" name="TextBox 2"/>
          <p:cNvSpPr/>
          <p:nvPr/>
        </p:nvSpPr>
        <p:spPr>
          <a:xfrm>
            <a:off x="503280" y="2133720"/>
            <a:ext cx="8640720" cy="2076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人体实验是医学的起点和发展手段 </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人体实验是医学研究成果从动物实验到临床应用的唯一中介</a:t>
            </a:r>
            <a:endParaRPr b="0" lang="en-US" sz="32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62"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
        <p:nvSpPr>
          <p:cNvPr id="163" name="Rectangle 2"/>
          <p:cNvSpPr/>
          <p:nvPr/>
        </p:nvSpPr>
        <p:spPr>
          <a:xfrm>
            <a:off x="324000" y="1341360"/>
            <a:ext cx="8162640" cy="7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四）人体实验的意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5"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
        <p:nvSpPr>
          <p:cNvPr id="166" name="Rectangle 2"/>
          <p:cNvSpPr/>
          <p:nvPr/>
        </p:nvSpPr>
        <p:spPr>
          <a:xfrm>
            <a:off x="250920" y="1197000"/>
            <a:ext cx="8163000" cy="7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人体实验的伦理分析</a:t>
            </a:r>
            <a:br>
              <a:rPr sz="3200"/>
            </a:br>
            <a:endParaRPr b="0" lang="en-US" sz="3200" spc="-1" strike="noStrike">
              <a:solidFill>
                <a:srgbClr val="046ca6"/>
              </a:solidFill>
              <a:latin typeface="Arial"/>
            </a:endParaRPr>
          </a:p>
        </p:txBody>
      </p:sp>
      <p:sp>
        <p:nvSpPr>
          <p:cNvPr id="167" name="TextBox 4"/>
          <p:cNvSpPr/>
          <p:nvPr/>
        </p:nvSpPr>
        <p:spPr>
          <a:xfrm>
            <a:off x="0" y="1989000"/>
            <a:ext cx="8497800" cy="3079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一）利与害的矛盾</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二）科学利益与受试者利益的矛盾</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三）自愿与强迫的矛盾</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四）主动与被动的矛盾</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50920" y="1125360"/>
            <a:ext cx="8424720" cy="70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人体实验的伦理原则</a:t>
            </a:r>
            <a:endParaRPr b="0" lang="en-US" sz="3200" spc="-1" strike="noStrike">
              <a:solidFill>
                <a:srgbClr val="ffffff"/>
              </a:solidFill>
              <a:latin typeface="Verdana"/>
            </a:endParaRPr>
          </a:p>
        </p:txBody>
      </p:sp>
      <p:sp>
        <p:nvSpPr>
          <p:cNvPr id="169" name="PlaceHolder 2"/>
          <p:cNvSpPr>
            <a:spLocks noGrp="1"/>
          </p:cNvSpPr>
          <p:nvPr>
            <p:ph/>
          </p:nvPr>
        </p:nvSpPr>
        <p:spPr>
          <a:xfrm>
            <a:off x="323640" y="1773000"/>
            <a:ext cx="8110440" cy="41907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知情同意原则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医学目的原则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用人体实验获得的知识很重要，而且是不能用其他方法或技术来得到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研究者必须具有进行人体实验的资格；</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已经完成动物或尸体实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人体实验有得无失，或得大于失或至少得失相当</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2" name=""/>
          <p:cNvSpPr txBox="1"/>
          <p:nvPr/>
        </p:nvSpPr>
        <p:spPr>
          <a:xfrm>
            <a:off x="250920" y="1267920"/>
            <a:ext cx="8664480" cy="461988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人体实验的伦理原则</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有益无害的原则 </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科学性原则 </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伦理审查的原则</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
        <p:nvSpPr>
          <p:cNvPr id="175"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60" y="304560"/>
            <a:ext cx="891540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三节  科研越轨行为的危害与社会控制</a:t>
            </a:r>
            <a:endParaRPr b="0" lang="en-US" sz="3600" spc="-1" strike="noStrike">
              <a:solidFill>
                <a:srgbClr val="ffffff"/>
              </a:solidFill>
              <a:latin typeface="Verdana"/>
            </a:endParaRPr>
          </a:p>
        </p:txBody>
      </p:sp>
      <p:sp>
        <p:nvSpPr>
          <p:cNvPr id="177" name="PlaceHolder 2"/>
          <p:cNvSpPr>
            <a:spLocks noGrp="1"/>
          </p:cNvSpPr>
          <p:nvPr>
            <p:ph/>
          </p:nvPr>
        </p:nvSpPr>
        <p:spPr>
          <a:xfrm>
            <a:off x="-360" y="1341000"/>
            <a:ext cx="8893080" cy="487692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3200" spc="-1" strike="noStrike">
                <a:solidFill>
                  <a:srgbClr val="000000"/>
                </a:solidFill>
                <a:latin typeface="黑体"/>
                <a:ea typeface="黑体"/>
              </a:rPr>
              <a:t>一、科研越轨的概念</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在科学研究以及科学与社会的互动过程中，科研人员或科研管理组织违反科学活动中被共同承认的行为准则或者价值观念的不端行为。包括在研究过程的所有阶段：如科研选题；与设计数据的采集、记录、分析、解释、共享和贮存；成果的公开和评价等，都应该坚持客观、公正、诚实的原则，防范科研越轨行为。</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60" y="304560"/>
            <a:ext cx="891540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三节  科研越轨行为的危害与社会控制</a:t>
            </a:r>
            <a:endParaRPr b="0" lang="en-US" sz="36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科研活动环节中的越轨行为</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科研成果获得与应用过程中的越轨行为</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在科研成果获得过程中的越轨行为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科研成果的“善用”和“恶用”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科研成果发表阶段的越轨行为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科研实施过程中的越轨行为 </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科研选题与立项过程中的越轨行为</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78920" y="304920"/>
            <a:ext cx="8736120" cy="676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三节  科研越轨行为的危害与社会控制</a:t>
            </a:r>
            <a:endParaRPr b="0" lang="en-US" sz="3600" spc="-1" strike="noStrike">
              <a:solidFill>
                <a:srgbClr val="ffffff"/>
              </a:solidFill>
              <a:latin typeface="Verdana"/>
            </a:endParaRPr>
          </a:p>
        </p:txBody>
      </p:sp>
      <p:sp>
        <p:nvSpPr>
          <p:cNvPr id="18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三、科研越轨行为的危害</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弱化人们遵从科学精神的自律性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越轨对其他科研造成损害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越轨可能会给他人带来危害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四、科研越轨行为的社会控制</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培养科研人员的探索精神，提高其道德修养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完善科学的管制监督制度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加强科研立法建设，加大惩处力度</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583272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护理科研伦理的意义和规范</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人体实验伦理</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科研越轨行为的危害与社会控制</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632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4"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复述护理科研、人体实验、科研越轨的概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列举人体实验的类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知道科研活动的越轨行为</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分析护理和人体实验的伦理规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总结护理科研对医学发展的意义</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Verdana"/>
                <a:ea typeface="黑体"/>
              </a:rPr>
              <a:t>运用护理科研伦理对护理科研行为进行评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6" name="PlaceHolder 2"/>
          <p:cNvSpPr>
            <a:spLocks noGrp="1"/>
          </p:cNvSpPr>
          <p:nvPr>
            <p:ph/>
          </p:nvPr>
        </p:nvSpPr>
        <p:spPr>
          <a:xfrm>
            <a:off x="0" y="981000"/>
            <a:ext cx="8964720" cy="4191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案例</a:t>
            </a:r>
            <a:r>
              <a:rPr b="1" lang="en-US" sz="2800" spc="-1" strike="noStrike">
                <a:solidFill>
                  <a:srgbClr val="000000"/>
                </a:solidFill>
                <a:latin typeface="黑体"/>
                <a:ea typeface="黑体"/>
              </a:rPr>
              <a:t>12-1</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400" spc="-1" strike="noStrike">
                <a:solidFill>
                  <a:srgbClr val="000000"/>
                </a:solidFill>
                <a:latin typeface="黑体"/>
                <a:ea typeface="黑体"/>
              </a:rPr>
              <a:t>2003</a:t>
            </a:r>
            <a:r>
              <a:rPr b="1" lang="zh-CN" sz="2400" spc="-1" strike="noStrike">
                <a:solidFill>
                  <a:srgbClr val="000000"/>
                </a:solidFill>
                <a:latin typeface="黑体"/>
                <a:ea typeface="黑体"/>
              </a:rPr>
              <a:t>年</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月，某医院选取</a:t>
            </a:r>
            <a:r>
              <a:rPr b="1" lang="en-US" sz="2400" spc="-1" strike="noStrike">
                <a:solidFill>
                  <a:srgbClr val="000000"/>
                </a:solidFill>
                <a:latin typeface="黑体"/>
                <a:ea typeface="黑体"/>
              </a:rPr>
              <a:t>34</a:t>
            </a:r>
            <a:r>
              <a:rPr b="1" lang="zh-CN" sz="2400" spc="-1" strike="noStrike">
                <a:solidFill>
                  <a:srgbClr val="000000"/>
                </a:solidFill>
                <a:latin typeface="黑体"/>
                <a:ea typeface="黑体"/>
              </a:rPr>
              <a:t>名艾滋病患者参加某蛋白制剂的药物试验。该试验的相关合作单位有美国某国际商业集团、美国某病毒基因公司及中国的某艾滋病预防控制中心。参加该试验的每位受试者都在医院接受了</a:t>
            </a:r>
            <a:r>
              <a:rPr b="1" lang="en-US" sz="2400" spc="-1" strike="noStrike">
                <a:solidFill>
                  <a:srgbClr val="000000"/>
                </a:solidFill>
                <a:latin typeface="黑体"/>
                <a:ea typeface="黑体"/>
              </a:rPr>
              <a:t>16</a:t>
            </a:r>
            <a:r>
              <a:rPr b="1" lang="zh-CN" sz="2400" spc="-1" strike="noStrike">
                <a:solidFill>
                  <a:srgbClr val="000000"/>
                </a:solidFill>
                <a:latin typeface="黑体"/>
                <a:ea typeface="黑体"/>
              </a:rPr>
              <a:t>针的注射，试验结束回家后，在</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个月的观察期内，</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人死亡。据媒体跟踪采访后发现，此项目没有药监局的批文，而负责审查该项目的某医院伦理委员会，也没有承担起相应的职责。</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该案例属于人体实验的哪一种类型？</a:t>
            </a: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请说明该实验违反了科研伦理道德的哪些原则？</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3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一节 </a:t>
            </a:r>
            <a:r>
              <a:rPr b="1" lang="zh-CN" sz="3600" spc="-1" strike="noStrike">
                <a:solidFill>
                  <a:srgbClr val="ffff00"/>
                </a:solidFill>
                <a:latin typeface="Arial"/>
                <a:ea typeface="黑体"/>
              </a:rPr>
              <a:t>护理科研伦理的意义和规范</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一节 护理科研伦理的意义和规范</a:t>
            </a:r>
            <a:endParaRPr b="0" lang="en-US" sz="3600" spc="-1" strike="noStrike">
              <a:solidFill>
                <a:srgbClr val="ffffff"/>
              </a:solidFill>
              <a:latin typeface="Verdana"/>
            </a:endParaRPr>
          </a:p>
        </p:txBody>
      </p:sp>
      <p:sp>
        <p:nvSpPr>
          <p:cNvPr id="139"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科研是</a:t>
            </a:r>
            <a:r>
              <a:rPr b="1" lang="zh-CN" sz="2800" spc="-1" strike="noStrike">
                <a:solidFill>
                  <a:srgbClr val="000000"/>
                </a:solidFill>
                <a:latin typeface="Verdana"/>
                <a:ea typeface="黑体"/>
              </a:rPr>
              <a:t>运用科学方法，对护理学领域的未知事物进行反复的探索、系统的观察、有目的地收集资料、科学严谨分析的一种认知活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60" y="2060640"/>
            <a:ext cx="8642520" cy="5184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护理科研的特点</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研究内容广泛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研究对象复杂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研究方法多样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研究成果两重性</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1"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第一节 护理科研伦理的意义和规范</a:t>
            </a:r>
            <a:endParaRPr b="0" lang="en-US" sz="3600" spc="-1" strike="noStrike">
              <a:solidFill>
                <a:srgbClr val="046ca6"/>
              </a:solidFill>
              <a:latin typeface="Arial"/>
            </a:endParaRPr>
          </a:p>
        </p:txBody>
      </p:sp>
      <p:sp>
        <p:nvSpPr>
          <p:cNvPr id="142" name="TextBox 4"/>
          <p:cNvSpPr/>
          <p:nvPr/>
        </p:nvSpPr>
        <p:spPr>
          <a:xfrm>
            <a:off x="0" y="1268280"/>
            <a:ext cx="8207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护理科研的特点及护理科研伦理的意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4" name=""/>
          <p:cNvSpPr txBox="1"/>
          <p:nvPr/>
        </p:nvSpPr>
        <p:spPr>
          <a:xfrm>
            <a:off x="323640" y="1773360"/>
            <a:ext cx="7777080" cy="4876560"/>
          </a:xfrm>
          <a:prstGeom prst="rect">
            <a:avLst/>
          </a:prstGeom>
          <a:noFill/>
          <a:ln w="0">
            <a:noFill/>
          </a:ln>
        </p:spPr>
        <p:txBody>
          <a:bodyPr anchor="t">
            <a:normAutofit/>
          </a:bodyPr>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端正动机，淡泊名利 </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尊重科学，实事求是 </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科研课题设计要严谨、合理</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实验过程中要认真、客观地观察</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在科研项目申报、成果鉴定、论文撰写过程中要实事求是、公平公正、不迷信权威</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同行，团结协作 </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善待成果，善用成果</a:t>
            </a:r>
            <a:endParaRPr b="1" lang="en-US" sz="28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一节 护理科研伦理的意义和规范</a:t>
            </a:r>
            <a:endParaRPr b="0" lang="en-US" sz="3600" spc="-1" strike="noStrike">
              <a:solidFill>
                <a:srgbClr val="046ca6"/>
              </a:solidFill>
              <a:latin typeface="Arial"/>
            </a:endParaRPr>
          </a:p>
        </p:txBody>
      </p:sp>
      <p:sp>
        <p:nvSpPr>
          <p:cNvPr id="147"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护理科研的伦理规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179280" y="2187360"/>
            <a:ext cx="8964720" cy="46702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促使护理科研人员正确认识自身的价值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规范护理科研行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培养创新意识和奉献精神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净化护理人员的心灵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引领和促进护理学科的发展</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9"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一节 护理科研伦理的意义和规范</a:t>
            </a:r>
            <a:endParaRPr b="0" lang="en-US" sz="3600" spc="-1" strike="noStrike">
              <a:solidFill>
                <a:srgbClr val="046ca6"/>
              </a:solidFill>
              <a:latin typeface="Arial"/>
            </a:endParaRPr>
          </a:p>
        </p:txBody>
      </p:sp>
      <p:sp>
        <p:nvSpPr>
          <p:cNvPr id="150" name="TextBox 4"/>
          <p:cNvSpPr/>
          <p:nvPr/>
        </p:nvSpPr>
        <p:spPr>
          <a:xfrm>
            <a:off x="0" y="155736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护理科研伦理的意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Text Box 3"/>
          <p:cNvSpPr/>
          <p:nvPr/>
        </p:nvSpPr>
        <p:spPr>
          <a:xfrm>
            <a:off x="0" y="1197000"/>
            <a:ext cx="6913440" cy="58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人体实验的意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2" name="Rectangle 8"/>
          <p:cNvSpPr/>
          <p:nvPr/>
        </p:nvSpPr>
        <p:spPr>
          <a:xfrm>
            <a:off x="1258920" y="3933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二节 人体实验伦理</a:t>
            </a:r>
            <a:endParaRPr b="0" lang="en-US" sz="3600" spc="-1" strike="noStrike">
              <a:solidFill>
                <a:srgbClr val="046ca6"/>
              </a:solidFill>
              <a:latin typeface="Arial"/>
            </a:endParaRPr>
          </a:p>
        </p:txBody>
      </p:sp>
      <p:sp>
        <p:nvSpPr>
          <p:cNvPr id="154" name="Text Box 3"/>
          <p:cNvSpPr/>
          <p:nvPr/>
        </p:nvSpPr>
        <p:spPr>
          <a:xfrm>
            <a:off x="0" y="1916280"/>
            <a:ext cx="8497800" cy="2174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一）人体实验的概念</a:t>
            </a:r>
            <a:endParaRPr b="0" lang="en-US" sz="2800" spc="-1" strike="noStrike">
              <a:solidFill>
                <a:srgbClr val="046ca6"/>
              </a:solidFill>
              <a:latin typeface="Arial"/>
            </a:endParaRPr>
          </a:p>
          <a:p>
            <a:pPr marL="457200" indent="-457200">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是以人体作受试对象，用人为的实验手段，有目的、有控制地对受试者进行研究和考察的行为过程。人体实验是新的药物、器械、诊疗方法等常规应用于临床之前必不可少的中间环节，是在基础理论研究和动物实验的基础上进行的，是现代医学领域研究的重要内容。</a:t>
            </a:r>
            <a:endParaRPr b="0" lang="en-US" sz="2800" spc="-1" strike="noStrike">
              <a:solidFill>
                <a:srgbClr val="046ca6"/>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05:45Z</dcterms:modified>
  <cp:revision>20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