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4BAB3-D839-49C1-B8F9-01005D396D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92F9C-1A33-48B4-9F84-255AC6CC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0E03D-9A6B-4F95-B603-E8FE2A41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1E6A5-776C-40D8-AA61-F92B0D9D04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660AF-FF23-4592-AD4E-8506DA8B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74284-A9F7-4022-9DB6-23AFD8FB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6F30E-B66C-4C8A-8660-7A09595A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104F5-14BF-48E8-9D44-1DB0C7C32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EC3FB-2374-4829-9626-78ABD3BA5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7201D-14C0-44F2-8572-14FBC55C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0FBA8-6835-4A8F-B641-2453F1AF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10AA2-815B-4FCD-A4B1-AA3941BF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DE5B-F6C8-4898-B04E-5CE75C22D3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629928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障碍的基本知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6ACF-1873-400E-9F8A-5AB0DE9C178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54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的精神活动通过人的外显行为，如言谈、书写、表情、动作等表现出来，称之为精神症状。研究精神症状及其产生机制的学科称为精神障碍症状学，又称精神病理学，它是精神医学的重要基础，掌握精神症状在临床工作中具有非常重要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B6D0-F716-482C-8FE8-B9BEC9375A8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0834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的出现不受患者意志的控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一旦出现，难以通过转移令其消失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的内容与周围客观环境不相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会给患者带来不同程度的社会功能损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B912-62B9-4223-B77F-69E72E7DA1C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80834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纵向比较，即与当事人过去一贯的表现相比较，其精神状态是否发生了明显的改变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横向比较，即与大多数正常人的精神状态相比较，差别是否明显，持续时间是否超出了一般限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结合当事人的心理状态和处境进行具体分析和判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9086-6390-4A05-AA60-0015C7FCF37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觉障碍主要包括感觉障碍、知觉障碍和感知综合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觉是客观刺激作用于感觉器官所产生的对事物个别属性的反映，如形状、颜色、大小、重量和气味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CEC5-5E3D-454E-A1A7-2AA24212413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感知觉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觉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感觉过敏 是对外界一般强度的刺激感受性增高，如感到阳光特别刺眼，声音特别刺耳，轻微地触摸皮肤感到疼痛难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感觉减退 是对外界一般刺激的感受性减低，感觉阈值增高，患者对强烈的刺激感觉轻微或完全不能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内感性不适 躯体内部产生的各种不舒适和（或）难以忍受的异样感觉，如牵拉、挤压、游走、蚁爬感等。性质难以描述，没有明确的定位，可继发疑病观念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34D9-59C4-455B-95DB-78456F33984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43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觉是大脑对客观事物的各种不同属性进行综合，并结合以往的经验，形成对事物的整体印象。正常情况下感知觉与外界客观事物相一致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觉是人脑对客观事物的整体属性的反应。它与感觉一样是认识的初级阶段，是对客观事物外部表现及表面联系的反映。知觉障碍是最常见的，而且是许多精神障碍患者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AE41-155A-4C58-A5EA-BEB4270C67F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284120"/>
            <a:ext cx="7767360" cy="49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觉 是对客观事物歪曲的知觉，即错误地把实际存在的一种事物感知为另一事物。正常人在光线不定、疲乏、紧张恐惧等情况下产生诸如“杯弓蛇影”、“风声鹤唳”、“草木皆兵”等错觉，但一般通过验证能很快被纠正和消除。病态情况下产生的错觉多见于精神分裂症、谵妄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14E2-8460-4A33-842D-2CC5D260B5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幻觉 是指在没有客观事物作用于感觉器官的情况下，患者却感知它的存在而产生的一种虚幻的知觉。按不同的感觉器官可将幻觉分为幻听、幻视、幻嗅、幻味、幻触和内感受器幻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CC11-94D4-40FB-9237-691AF8DCBF5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综合障碍 又称非幻觉性知觉障碍，是指患者对某一客观事物的整体感知是正确的，但对其某些个别属性的感知发生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w0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4952880" y="609480"/>
            <a:ext cx="1524240" cy="1371600"/>
          </a:xfrm>
          <a:prstGeom prst="rect">
            <a:avLst/>
          </a:prstGeom>
          <a:gradFill rotWithShape="0">
            <a:gsLst>
              <a:gs pos="0">
                <a:srgbClr val="fbcba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Picture 4" descr="hw086"/>
          <p:cNvPicPr/>
          <p:nvPr/>
        </p:nvPicPr>
        <p:blipFill>
          <a:blip r:embed="rId2"/>
          <a:stretch/>
        </p:blipFill>
        <p:spPr>
          <a:xfrm>
            <a:off x="5334120" y="914400"/>
            <a:ext cx="730080" cy="7621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6629400" y="5029200"/>
            <a:ext cx="2209680" cy="5335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幻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6629400" y="2971800"/>
            <a:ext cx="2209680" cy="5335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错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6629400" y="990720"/>
            <a:ext cx="2209680" cy="609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感知综合障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0" y="285480"/>
            <a:ext cx="7020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1260360" y="1773360"/>
            <a:ext cx="99360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一节：精神障碍的病因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：精神障碍的分类与诊断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三节：精神障碍的症状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BDB8-47DB-4119-9DDD-7A1472599CE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33440" y="1341000"/>
            <a:ext cx="77961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奔逸 又称观念飘忽，指联想速度加快、数量增多、内容丰富生动。患者表现健谈，说话滔滔不绝、口若悬河、出口成章，自觉脑子反应快，特别灵活，好像机器加了“润滑油”，思维敏捷，概念一个接一个地不断涌现出来，说话的主题极易随环境而改变（随境转移），也可有音韵联想（音联），或字意联想（意联）。多见于躁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CD36-5922-48AE-B7E2-C6D54A11DD0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迟缓 即联想抑制，联想速度减慢、数量减少和联想困难。患者表现言语缓慢、语量减少，语声甚低，反应迟缓，但思维内容并不荒谬，能够正确反映现实。患者自觉“脑子不灵了“脑子迟钝了”。多见于抑郁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818E-1E09-4E02-9A5D-0F13580C4C7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43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贫乏 指联想数量减少，概念与词汇贫乏，脑子空洞无物。患者表现为沉默少语，答话时内容大致切题，但单调空洞或词穷句短，常泰然回答“不知道”、“什么也没想”。见于精神分裂症、脑器质性精神障碍及精神发育迟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13DC-4864-4E1A-A7C8-A75ACFB6685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54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散漫 又称思维松弛，是指患者在意识清晰的情况下，思维的目的性、连贯性和逻辑性障碍。思维活动缺乏主题思想，内容和结构都散漫无序，不能把联想集中于他所要解释的问题上。尽管患者的每句话都完整通顺，意思可以理解，但上下文前后语句缺乏联系。有时谈话中夹杂的一些突发的与现实无关的内隐性观念，使人难以理解其究竟是想表达什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588B-3072-4AD7-894F-6A35A918E0A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破裂 指概念之间联想的断裂，建立联想的各种概念内容之间缺乏内在联系。表现为患者的言语或书写内容的句子之间含意互不相关，变成语句堆积，令人不能理解。严重时，言语支离破碎，成了语词杂拌。多见于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王萍同志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你接到我的信的时候，就是我将得到最高奖赏的时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民对你的信任，请你不要灰心，我永远支持你，我并未去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肃日报。他是一个杀人的刽子手，她正向你求婚，想盗窃国家机密，请你放心，是用钢笔写的，我没见过这样忘恩负义的人。元斌院长，我明白你的思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恕海双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角五分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杨元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翟东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执笔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野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雀克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XX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D53E-D965-4EEB-91F1-4F0BDB0F251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理性赘述 思维活动停滞不前，迂回曲折，出现节外生枝的联想，通常说明讲话人的抽象概括和理解能力低下，表现为说话啰嗦，抓不住重点，包含了许多不必要的细节和无关的分枝。对别人让其围绕话题简述的要求置之不理，固执地按照自己预想的思路赘述下去。思维进行虽慢，但说话的主题还隐约可见，最终能够达到预定的目标。见于癫痫、脑器质性及老年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7A15-4CFE-4062-B1A6-BF4CE79527B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99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象征性思维 以无关的具体概念或行动代表某一抽象概念，不经患者解释，旁人无法理解。如某患者经常反穿衣服，以表示自己为“表里合一、心地坦白”，常见于精神分裂症。正常人可以有象征性思维，如以鸽子象征和平。正常人的象征以传统和习惯为基础，彼此能够理解，而且不会把象征当作现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B665-0222-4DFE-9801-FAD9F9697A1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词新作 指概念的融合、浓缩以及无关概念的拼凑。患者自创一些新的符号、图形、文字或语言并赋予特殊的概念，不经患者本人解释，别人难以弄清其含义。如“豸市”代表狼心狗肺，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%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表离婚。多见于精神分裂症青春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30E5-F0CD-49B2-9801-9FFF6658269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逻辑倒错性思维 主要特点为推理缺乏逻辑性，既无前提，也无根据，或因果倒置，推理离奇古怪，不可理解。如一患者说：“因为电脑感染了病毒，所以我要死了。”可见于精神分裂症和偏执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AEF8-35EC-4081-BBCB-F4EB6B21550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4240" y="1267920"/>
            <a:ext cx="83217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描述下列名词：错觉、幻觉、妄想、遗忘症、痴呆、自知力、定向力、情感高涨、意志障碍及木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描述下列综合征：幻觉妄想综合征、情感综合征、紧张综合征、遗忘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释常见的感知觉障碍、思维障碍、注意及记忆障碍、智能障碍、自知力、定向力、情感障碍及意志行为障碍的临床表现及其诊断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根据所学症状学知识能够初步判断病例中患者存在的精神症状、并做出相应的精神障碍的诊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63B3-D907-47EC-A3F3-40E87603B30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异己体验  这组症状的共同特征是思维的归属性不属于自己，也不受自己控制，是诊断精神分裂症的重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CD2E-CC0E-4B83-A5B2-DC70ADC4E28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772308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异己体验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中断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制性思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被揭露感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B864-B7E8-4C49-875B-8FB83F235EB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言语 思维黏滞在某一概念上停滞不前。患者单调地重复某一概念，或对不同的问题做出相同的回答。如医生问“你今天来做什么？”患者答“看病”。以后再问其他问题时患者依然答“看病”。有的患者不断地重复一句话的最后几个字或词，如“这是一个什么问题，问题、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见于癫痫或其他脑器质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F2FD-268A-4602-B504-B921AC80454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刻板言语  患者机械刻板地重复某一无意义的词或句子，如“月儿要睡了，月儿要睡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与刻板动作同时存在，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34B8-29D0-4078-8556-DCE2C85D31E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99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模仿言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模仿周围人讲话的内容，别人说什么患者就说什么，只是一味地机械性重复，好像是别人言语内容的翻版。如问患者“贵姓？”患者也模仿“贵姓？”。问“做什么工作？”，患者同样模仿“做什么工作？”常与模仿动作同时存在，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255A-24C4-48DF-80BA-CE14332716D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缄默症  患者缄默不语，不回答任何问题，有时可以手示意。见于分离型障碍及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634C-093B-4CFD-81EA-BFE0F599576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7673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妄想 是一种病理性的歪曲信念，具有以下特征：①思维内容与事实不符，没有客观现实基础；②患者对自己的想法深信不疑，不能被事实所纠正，与其所接受的教育和所处的社会文化背景不相称；③妄想内容均涉及患者本人，总是与个人利害有关；④妄想具有个人独特性，不为任何集体所共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3568-4855-49AA-A78D-EC2C8E57647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18800" y="119664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妄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害妄想            ⑥罪恶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关系妄想            ⑦疑病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理影响妄想      ⑧钟情妄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夸大妄想            ⑨嫉妒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血统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6A8D-A5B9-4A28-8D3C-67A7FFE17D2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294920"/>
            <a:ext cx="7767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超价观念 是指在一定的性格基础和强烈的情感色彩基础上，对某些事实做出超乎寻常的评价，并予以坚持而影响行为。它与妄想的区别在于没有逻辑推理错误，可以被事实纠正，具有社会可接受性，其信念可与其他人所共有。多见于人格障碍或应激相关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DAE1-8A5D-41C9-B091-0A4FFA63AAB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迫观念  或称强迫性思维，指在患者头脑中反复出现某一毫无现实意义的概念或想法，明知没有必要，又无法摆脱，伴有主观的被强迫感觉和痛苦感。包括强迫性回忆、强迫性穷思竭虑、强迫性对立思维、强迫性怀疑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0023-0BF0-49A9-AE21-647FA2F25A5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是指在各种因素影响下，大脑功能失调导致认知、情感、意志和行为等不同程度障碍为临床表现的疾病。精神疾病的发生与个人的遗传因素、易感性、病前个性特征、机体的功能状态、精神创伤及社会文化背景等因素都有着广泛的联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12DD-C8DE-4B1C-927A-BE284863A7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5640" y="1196640"/>
            <a:ext cx="772308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注意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减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转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涣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狭窄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E466-F436-4F67-8D12-36E775606CE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2920" y="1196640"/>
            <a:ext cx="779616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记忆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减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遗忘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构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虚构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似曾相识症或熟悉感和旧事如新症或生疏感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C000-D0D1-4B40-A76C-5D6D14EEDB0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六）智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智能障碍可表现为全面性或部分性的智能减低。主要有精神发育迟缓和痴呆两种类型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7CFA-CB4F-49FC-BC04-8FFC2A1B2A6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822780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七）定向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向力是指一个人对时间、地点及人物以及自身状态的认识能力。定向力障碍多见于意识障碍、痴呆患者，也可见于精神分裂症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148B-E287-47E8-9814-A90EACB129A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八）自知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  又称领悟力或内省力，是指患者对自身精神状态的认识和判断能力。其表现方式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完整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不完整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丧失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A73E-60F0-4A14-9725-70898688F4B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高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活动明显增强，表现为与环境不相符的自我感觉良好，过分地兴高采烈，喜笑颜开，眉飞色舞。常见于躁狂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4D52-1F80-4DDA-8789-3760A873DAE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欣快  患者经常面带微笑，似乎十分满意和幸福愉快，但说不清高兴的原因，表情单调刻板，难以引起周围人的共鸣，给人以痴笑的感觉。多见于脑器质性精神障碍、醉酒状态、精神发育迟滞，或衰退期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277F-DB57-4B9E-9663-26E02263A5D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67800" y="1285560"/>
            <a:ext cx="72932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低落 它和情感高涨恰恰相反，患者情绪低沉，整日忧心忡忡、愁眉不展、唉声叹气，重则忧郁沮丧、悲观绝望，感到自己一无是处，以致生趣索然，甚至出现自杀观念和自杀企图。情感低落经常伴有思维缓慢，言语及动作减少，意志要求的减退，反应迟钝，但整体精神活动与周围环境相协调。情感低落是抑郁障碍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F6CB-6C90-4E12-8DBA-8B1270B2781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焦虑 在缺乏相应的客观因素情况下，患者表现为顾虑重重、紧张恐惧、搓手顿足，似有大祸临头，惶惶不可终日，伴有心悸、出汗、手抖、尿频等自主神经功能紊乱症状。常体验到濒死感、失控感，伴有呼吸困难、心跳加快等自主神经功能紊乱症状，一般发作持续数分钟至十几分钟。多见于抑郁状态、严重应激反应、焦虑障碍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24C8-A7B7-4A67-BAEC-961C983047A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恐惧 表现为超乎客观现实的紧张、害怕、提心吊胆，伴有明显的自主神经功能紊乱症状，如心悸、气急、出汗、四肢发抖，甚至大小便失禁等，常导致逃避行为。对特定事物的恐惧是恐怖性焦虑障碍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325B-84D3-4613-9FB9-FB2D799F05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 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 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 体质因素与个性心理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 性别和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 神经发育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 器质性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4F7B-C024-4195-BC2F-716F6ED4895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波动性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脆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迟钝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淡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易激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暴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理性激情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F59E-5E24-433D-B75A-6F932CCDEFA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808344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协调性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倒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制性哭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FE67-6C67-49AE-9FBC-CC69F12F57B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801216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志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减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缺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向倒错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EEA5-4D71-400D-A472-4D3CF927F13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调性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协调性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运动性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违拗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0244-3CAC-4CA7-A5DE-EA42D533558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刻板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模仿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被动性服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作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离奇行为、古怪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制性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迫性动作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C697-1AB0-4965-B7C0-89A519F1DE1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93908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一）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周围环境的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嗜睡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梦游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识混浊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神游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昏睡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谵妄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昏迷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错乱状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识蒙胧状态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梦样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32EC-DE41-476C-8706-9303C182ED8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7961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一）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人格解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交替人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重人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人格转换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A849-9739-49B2-B258-5225EF6333E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43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疾病的症状常常不是孤立存在的，而是相互联系、以一组症状组合成某些综合征或症候群同时出现的。这些状态对诊断多无特异性，同一状态可见于不同病因所致的疾病。在诊断尚未明确时，以某种状态来描述患者症状的主要特点，有助于诊断的深入探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3FAC-D4D2-4DD3-9EAD-EC9DC8BBF16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15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兴奋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为精神病理学术语，“兴奋”一词表示精神活动整体水平的过高或者过剩，主要表现为思维联想过程加快、情感活跃、意志行为增多。协调性精神运动性兴奋表现为思维奔逸、自我评价过高、情感高涨、意志增强，多见于躁狂状态；不协调性精神运动性兴奋表现为思维散漫甚至破裂、情感躁动不安、言语和行为杂乱无章，多见于精神分裂症青春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6983-9B9C-4B41-B1CD-3C1D2BE35D7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抑郁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郁状态表现为情感低落、兴趣缺乏、思维迟缓、自卑自责、悲观厌世、言语减少、动作缓慢。多见于抑郁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0FC6-B129-4621-9453-B141CCE1D9F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08344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心理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指生活事件所致的应激反应，主要包括一般生活事件和强烈的应激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因素主要包括环境和文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420D-37FD-4D5F-B87E-08609E30C0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妄想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妄想状态以妄想为主要表现，内容可以是被害、夸大、疑病、钟情等，可伴有幻听及相应的情感与行为变化。多见于妄想性障碍和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3764-56CD-4EA4-A505-0E1535FBBE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奥赛罗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又称病理性嫉妒综合征。以坚信配偶不贞的嫉妒妄想为核心症状，多具有偏执型人格障碍的基础。患者以许多似是而非的证据证明其配偶另有新欢，为此反复侦察、盘问、跟踪、拷打，症状可持续数年，可能发生攻击行为，甚至杀死配偶，就犹如莎士比亚描述的奥赛罗一样。多见于妄想性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E1F3-73EE-4E3F-B311-FADAE4071F4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精神自动症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在意识清晰状态下出现假性幻觉、被控制感、被揭露感、强制性思维及系统化的被害妄想、影响妄想等，患者的突出体验是异己感，可有思维插入、思维被广播等被动体验。见于精神分裂症偏执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5959-61CE-4DB1-9982-6FE30699683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15472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六）紧张症候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表现为木僵、违拗、被动服从、蜡样屈曲、作态以及刻板言语、刻板动作等，有时又表现为突发的兴奋、冲动行为。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41F5-0783-4EBB-9D4E-A36316DDCFE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51508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七）衰退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以思维贫乏、情感淡漠、意志缺乏为核心症状，表现为言语简单、面无表情、生活懒散、无欲无求。认知功能可以有各式各样的缺陷，但不是痴呆，在临床相中也不占突出地位。见于精神分裂症单纯型或其他型的衰退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F85B-B566-4482-8D23-71F13B8164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54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八）强迫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以强迫思维、强迫意向或强迫动作为主要表现，重复无意义的思想、要求和行动，内心痛苦，希望摆脱却欲罢不能。见于强迫性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0687-7A92-485C-BEA6-914EBDA8222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柯萨可夫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又称遗忘综合征，表现为近事遗忘、错构、虚构和定向障碍，多见于慢性酒精中毒性精神障碍、颅脑外伤后精神障碍及其他脑器质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E17F-8BD0-4A89-835A-080FD6062BF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工程师，个性孤僻，工作认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声称自己非常能干，飞机、原子弹等都是他制造的，偶有觉的自己脑子里插入了别人的思想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前，患者对某同事提过意见后，彼此关系疏远，渐怀疑将会遭到对方报复。以后开始怀疑周围的人在监视他，并认为某同事在背后策划、曾向领导写信控诉被害情况。一年前调动工作至另一城市，不久，即听到有声音说其妻子已来到该城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A178-7A30-4082-BC29-8805DCF46AF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154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但患者一直未见其妻子来看他，因而怀疑其妻子另有新欢，就不请假回到家中，不见妻子又赶到妻子工作单位，见到其妻子在工作才安心。从此，终日尾随其妻，寸步不离。某日，突然紧张地对妻子说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今晚有人要抢你，你看满室被电照得通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并持一木棍称要与他们拼个死活。之后渐认为许多人伙同一起阴谋陷害他，曾向省市法院写信控告，后被核实控告情况不存在，但其非常顽固，依然我行我素进行控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2119-5041-4DA5-9B1A-A45267F2DF0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8083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后，对周围一切很注意，认为别人的言行皆与他有关，感到有“心身探测仪”常在考查他的思维活动，因为脑子一想什么即刻听到有人在重复他所想到的内容，耳内整日不安静，常听到害他和夺妻等有关的事，否认有病，只承认患过神经衰弱。近期出现不能自控的反复检查门窗是否关好，且情绪不好，历时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左右时间，整日感到闷闷不乐，对任何事物没有兴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E137-F642-43A7-8A05-4B21B903E72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54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常用的精神障碍分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今在中国精神病学界所使用的精神障碍分类系统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：即世界卫生组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WHO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际疾病分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的第五章、美国精神病学会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诊断和统计手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中国精神障碍分类及诊断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D2A3-5118-400D-9411-491B59AA546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867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该患者存在哪些精神症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在案例中标明依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42A2-0121-4521-9391-6FD8005BF74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0834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常用的精神障碍分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，较多的精神病专科医院已经采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CD-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为临床诊断标准，部分医院仍然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CMD-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SM-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用于研究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182D-F8F5-41BA-968A-A631F257D2B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精神障碍的诊断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的诊断主要依靠病史和精神检查所获得的资料，首先确定患者的症状，将相关的症状聚类，得出症候群或综合征，也就是症状学诊断。第二步，结合发病的有关因素及病程特点，遵循诊断分类系统规定的标准，进行疾病诊断，再与具有类似临床表现的疾病相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0:41:59Z</dcterms:modified>
  <cp:revision>5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