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60E2DF-316D-40CA-8FDE-AFCCFE348BE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6D53EE-8D83-41CE-B96C-78773B75E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B56C10-9044-48AD-A5A9-836BA66A0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279AED-821D-4288-A21B-3708DE948B0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C5A7CA-ACA8-49EC-94C1-DE2D92C3A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8FCCB1-0705-41C8-8BE3-804C27010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EDA4D5-349A-4775-B653-69261F490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A15156-CB69-4389-B7EF-C7F067A5B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842F70-27A4-4FBB-80CB-647D11AAF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80F034-EC1D-42EE-8B1C-F39FA9584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E1565A-B5AB-4243-8B9D-E061C9ED7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E592C2-5248-48A3-99EA-3EDDAB2AA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19C4F-CB11-4519-A256-50ABC91F9A8B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2160"/>
              <a:ext cx="9115560" cy="1815480"/>
              <a:chOff x="28440" y="5042160"/>
              <a:chExt cx="9115560" cy="18154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2160"/>
                <a:ext cx="9115560" cy="1815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21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-360" y="2060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五章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小儿营养与喂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85880" y="5428800"/>
            <a:ext cx="6710400" cy="58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  <a:ea typeface="宋体"/>
              </a:rPr>
              <a:t>西藏大学护理系     普珍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med"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40BD9-88DF-4CBF-8C04-CF4176CC947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黑体"/>
              <a:ea typeface="黑体"/>
            </a:endParaRPr>
          </a:p>
        </p:txBody>
      </p:sp>
      <p:grpSp>
        <p:nvGrpSpPr>
          <p:cNvPr id="184" name="矩形 2"/>
          <p:cNvGrpSpPr/>
          <p:nvPr/>
        </p:nvGrpSpPr>
        <p:grpSpPr>
          <a:xfrm>
            <a:off x="450720" y="2803680"/>
            <a:ext cx="2249640" cy="1029960"/>
            <a:chOff x="450720" y="2803680"/>
            <a:chExt cx="2249640" cy="1029960"/>
          </a:xfrm>
        </p:grpSpPr>
        <p:pic>
          <p:nvPicPr>
            <p:cNvPr id="185" name="矩形 2" descr=""/>
            <p:cNvPicPr/>
            <p:nvPr/>
          </p:nvPicPr>
          <p:blipFill>
            <a:blip r:embed="rId1"/>
            <a:stretch/>
          </p:blipFill>
          <p:spPr>
            <a:xfrm>
              <a:off x="450720" y="2803680"/>
              <a:ext cx="2249640" cy="102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811080" y="2820960"/>
              <a:ext cx="187344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婴儿喂养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87" name="矩形 6"/>
          <p:cNvGrpSpPr/>
          <p:nvPr/>
        </p:nvGrpSpPr>
        <p:grpSpPr>
          <a:xfrm>
            <a:off x="3041640" y="2620800"/>
            <a:ext cx="3243240" cy="1354320"/>
            <a:chOff x="3041640" y="2620800"/>
            <a:chExt cx="3243240" cy="1354320"/>
          </a:xfrm>
        </p:grpSpPr>
        <p:pic>
          <p:nvPicPr>
            <p:cNvPr id="188" name="矩形 6" descr=""/>
            <p:cNvPicPr/>
            <p:nvPr/>
          </p:nvPicPr>
          <p:blipFill>
            <a:blip r:embed="rId2"/>
            <a:stretch/>
          </p:blipFill>
          <p:spPr>
            <a:xfrm>
              <a:off x="3041640" y="2620800"/>
              <a:ext cx="3243240" cy="135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"/>
            <p:cNvSpPr/>
            <p:nvPr/>
          </p:nvSpPr>
          <p:spPr>
            <a:xfrm>
              <a:off x="3400560" y="2638440"/>
              <a:ext cx="2871720" cy="93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部分母乳喂养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（混合喂养）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90" name="矩形 7"/>
          <p:cNvGrpSpPr/>
          <p:nvPr/>
        </p:nvGrpSpPr>
        <p:grpSpPr>
          <a:xfrm>
            <a:off x="3035160" y="4005360"/>
            <a:ext cx="3256200" cy="1023840"/>
            <a:chOff x="3035160" y="4005360"/>
            <a:chExt cx="3256200" cy="1023840"/>
          </a:xfrm>
        </p:grpSpPr>
        <p:pic>
          <p:nvPicPr>
            <p:cNvPr id="191" name="矩形 7" descr=""/>
            <p:cNvPicPr/>
            <p:nvPr/>
          </p:nvPicPr>
          <p:blipFill>
            <a:blip r:embed="rId3"/>
            <a:stretch/>
          </p:blipFill>
          <p:spPr>
            <a:xfrm>
              <a:off x="3035160" y="4005360"/>
              <a:ext cx="3256200" cy="102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"/>
            <p:cNvSpPr/>
            <p:nvPr/>
          </p:nvSpPr>
          <p:spPr>
            <a:xfrm>
              <a:off x="3395520" y="4019400"/>
              <a:ext cx="2880000" cy="64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人工喂养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93" name="矩形 8"/>
          <p:cNvGrpSpPr/>
          <p:nvPr/>
        </p:nvGrpSpPr>
        <p:grpSpPr>
          <a:xfrm>
            <a:off x="3041640" y="1511280"/>
            <a:ext cx="3255840" cy="1030320"/>
            <a:chOff x="3041640" y="1511280"/>
            <a:chExt cx="3255840" cy="1030320"/>
          </a:xfrm>
        </p:grpSpPr>
        <p:pic>
          <p:nvPicPr>
            <p:cNvPr id="194" name="矩形 8" descr=""/>
            <p:cNvPicPr/>
            <p:nvPr/>
          </p:nvPicPr>
          <p:blipFill>
            <a:blip r:embed="rId4"/>
            <a:stretch/>
          </p:blipFill>
          <p:spPr>
            <a:xfrm>
              <a:off x="3041640" y="1511280"/>
              <a:ext cx="3255840" cy="103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"/>
            <p:cNvSpPr/>
            <p:nvPr/>
          </p:nvSpPr>
          <p:spPr>
            <a:xfrm>
              <a:off x="3400560" y="1528920"/>
              <a:ext cx="287964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母乳喂养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96" name="左大括号 4"/>
          <p:cNvSpPr/>
          <p:nvPr/>
        </p:nvSpPr>
        <p:spPr>
          <a:xfrm>
            <a:off x="2843280" y="1852560"/>
            <a:ext cx="288720" cy="2584440"/>
          </a:xfrm>
          <a:custGeom>
            <a:avLst/>
            <a:gdLst>
              <a:gd name="textAreaLeft" fmla="*/ 184680 w 288720"/>
              <a:gd name="textAreaRight" fmla="*/ 289080 w 288720"/>
              <a:gd name="textAreaTop" fmla="*/ 7200 h 2584440"/>
              <a:gd name="textAreaBottom" fmla="*/ 2577240 h 2584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01"/>
                  <a:pt x="10800" y="201"/>
                </a:cubicBezTo>
                <a:lnTo>
                  <a:pt x="10800" y="10599"/>
                </a:lnTo>
                <a:cubicBezTo>
                  <a:pt x="10800" y="10700"/>
                  <a:pt x="5400" y="10800"/>
                  <a:pt x="0" y="10800"/>
                </a:cubicBezTo>
                <a:cubicBezTo>
                  <a:pt x="5400" y="10800"/>
                  <a:pt x="10800" y="10901"/>
                  <a:pt x="10800" y="11001"/>
                </a:cubicBezTo>
                <a:lnTo>
                  <a:pt x="10800" y="21399"/>
                </a:lnTo>
                <a:cubicBezTo>
                  <a:pt x="10800" y="215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85c4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0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灯片编号占位符 3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84F89-6326-4965-97C8-F6C2CC2E511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228320" y="213840"/>
            <a:ext cx="791532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母乳喂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文本框 1"/>
          <p:cNvSpPr/>
          <p:nvPr/>
        </p:nvSpPr>
        <p:spPr>
          <a:xfrm>
            <a:off x="998640" y="3014640"/>
            <a:ext cx="572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3517d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每年的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8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月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日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-7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日为世界母乳喂养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" name="文本框 8"/>
          <p:cNvSpPr/>
          <p:nvPr/>
        </p:nvSpPr>
        <p:spPr>
          <a:xfrm>
            <a:off x="998640" y="2089080"/>
            <a:ext cx="738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3517d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1989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年发布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《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保护促进和支持母乳喂养的联合声明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文本框 9"/>
          <p:cNvSpPr/>
          <p:nvPr/>
        </p:nvSpPr>
        <p:spPr>
          <a:xfrm>
            <a:off x="998640" y="3933720"/>
            <a:ext cx="566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3517d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5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月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20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日被定为母乳喂养宣传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文本框 2"/>
          <p:cNvSpPr/>
          <p:nvPr/>
        </p:nvSpPr>
        <p:spPr>
          <a:xfrm>
            <a:off x="1547640" y="2421000"/>
            <a:ext cx="40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初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文本框 3"/>
          <p:cNvSpPr/>
          <p:nvPr/>
        </p:nvSpPr>
        <p:spPr>
          <a:xfrm>
            <a:off x="2340000" y="3130560"/>
            <a:ext cx="40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分娩后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4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5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日以内的乳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文本框 11"/>
          <p:cNvSpPr/>
          <p:nvPr/>
        </p:nvSpPr>
        <p:spPr>
          <a:xfrm>
            <a:off x="2340000" y="3778200"/>
            <a:ext cx="6119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色黄黏稠量少、脂肪少、免疫球蛋白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富含牛磺酸、免疫因子如初乳小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富含维生素、微量元素锌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15</a:t>
            </a:r>
            <a:r>
              <a:rPr b="0" lang="en-US" sz="2400" spc="-1" strike="noStrike">
                <a:solidFill>
                  <a:srgbClr val="03517d"/>
                </a:solidFill>
                <a:latin typeface="Arial Unicode MS"/>
                <a:ea typeface="Arial Unicode MS"/>
              </a:rPr>
              <a:t>~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45ml/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次，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250</a:t>
            </a:r>
            <a:r>
              <a:rPr b="0" lang="en-US" sz="2400" spc="-1" strike="noStrike">
                <a:solidFill>
                  <a:srgbClr val="03517d"/>
                </a:solidFill>
                <a:latin typeface="Arial Unicode MS"/>
                <a:ea typeface="Arial Unicode MS"/>
              </a:rPr>
              <a:t>~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500ml/d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横卷形 13"/>
          <p:cNvSpPr/>
          <p:nvPr/>
        </p:nvSpPr>
        <p:spPr>
          <a:xfrm>
            <a:off x="1943280" y="944640"/>
            <a:ext cx="4824360" cy="1511280"/>
          </a:xfrm>
          <a:prstGeom prst="horizontalScroll">
            <a:avLst>
              <a:gd name="adj" fmla="val 12500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母乳随着时间的变化成分会发生怎样的变化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？？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文本框 2"/>
          <p:cNvSpPr/>
          <p:nvPr/>
        </p:nvSpPr>
        <p:spPr>
          <a:xfrm>
            <a:off x="1432080" y="1828800"/>
            <a:ext cx="127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过渡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文本框 3"/>
          <p:cNvSpPr/>
          <p:nvPr/>
        </p:nvSpPr>
        <p:spPr>
          <a:xfrm>
            <a:off x="3419640" y="1533600"/>
            <a:ext cx="403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分娩后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6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10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日的乳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脂肪高、蛋白及矿物质减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文本框 4"/>
          <p:cNvSpPr/>
          <p:nvPr/>
        </p:nvSpPr>
        <p:spPr>
          <a:xfrm>
            <a:off x="1432080" y="3381480"/>
            <a:ext cx="127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成熟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文本框 5"/>
          <p:cNvSpPr/>
          <p:nvPr/>
        </p:nvSpPr>
        <p:spPr>
          <a:xfrm>
            <a:off x="3419640" y="3022560"/>
            <a:ext cx="403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分娩后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11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日～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9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个月的乳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量</a:t>
            </a:r>
            <a:r>
              <a:rPr b="0" lang="en-US" sz="2400" spc="-1" strike="noStrike">
                <a:solidFill>
                  <a:srgbClr val="03517d"/>
                </a:solidFill>
                <a:latin typeface="Arial Unicode MS"/>
                <a:ea typeface="Arial Unicode MS"/>
              </a:rPr>
              <a:t>700~1000ml/d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文本框 6"/>
          <p:cNvSpPr/>
          <p:nvPr/>
        </p:nvSpPr>
        <p:spPr>
          <a:xfrm>
            <a:off x="1650960" y="4883040"/>
            <a:ext cx="127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晚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" name="文本框 7"/>
          <p:cNvSpPr/>
          <p:nvPr/>
        </p:nvSpPr>
        <p:spPr>
          <a:xfrm>
            <a:off x="3419640" y="4581360"/>
            <a:ext cx="40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分娩后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10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个月以后的乳汁量及营养成分减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右箭头 8"/>
          <p:cNvSpPr/>
          <p:nvPr/>
        </p:nvSpPr>
        <p:spPr>
          <a:xfrm>
            <a:off x="2703600" y="1963800"/>
            <a:ext cx="716040" cy="253800"/>
          </a:xfrm>
          <a:prstGeom prst="rightArrow">
            <a:avLst>
              <a:gd name="adj1" fmla="val 50000"/>
              <a:gd name="adj2" fmla="val 50038"/>
            </a:avLst>
          </a:prstGeom>
          <a:solidFill>
            <a:srgbClr val="7acdfc"/>
          </a:solidFill>
          <a:ln w="25560">
            <a:solidFill>
              <a:srgbClr val="38b5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右箭头 9"/>
          <p:cNvSpPr/>
          <p:nvPr/>
        </p:nvSpPr>
        <p:spPr>
          <a:xfrm>
            <a:off x="2703600" y="3495600"/>
            <a:ext cx="716040" cy="254160"/>
          </a:xfrm>
          <a:prstGeom prst="rightArrow">
            <a:avLst>
              <a:gd name="adj1" fmla="val 50000"/>
              <a:gd name="adj2" fmla="val 49968"/>
            </a:avLst>
          </a:prstGeom>
          <a:solidFill>
            <a:srgbClr val="7acdfc"/>
          </a:solidFill>
          <a:ln w="25560">
            <a:solidFill>
              <a:srgbClr val="38b5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右箭头 10"/>
          <p:cNvSpPr/>
          <p:nvPr/>
        </p:nvSpPr>
        <p:spPr>
          <a:xfrm>
            <a:off x="2703600" y="5049720"/>
            <a:ext cx="716040" cy="255600"/>
          </a:xfrm>
          <a:prstGeom prst="rightArrow">
            <a:avLst>
              <a:gd name="adj1" fmla="val 50000"/>
              <a:gd name="adj2" fmla="val 49997"/>
            </a:avLst>
          </a:prstGeom>
          <a:solidFill>
            <a:srgbClr val="7acdfc"/>
          </a:solidFill>
          <a:ln w="25560">
            <a:solidFill>
              <a:srgbClr val="38b5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6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18" name="图片 4" descr=""/>
          <p:cNvPicPr/>
          <p:nvPr/>
        </p:nvPicPr>
        <p:blipFill>
          <a:blip r:embed="rId1"/>
          <a:stretch/>
        </p:blipFill>
        <p:spPr>
          <a:xfrm>
            <a:off x="1042920" y="1413000"/>
            <a:ext cx="7274160" cy="5064120"/>
          </a:xfrm>
          <a:prstGeom prst="rect">
            <a:avLst/>
          </a:prstGeom>
          <a:ln w="0">
            <a:noFill/>
          </a:ln>
        </p:spPr>
      </p:pic>
    </p:spTree>
  </p:cSld>
  <p:transition spd="med">
    <p:pull dir="l"/>
  </p:transition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5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灯片编号占位符 3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804F2-80AD-405E-9076-98557ED6854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228320" y="213840"/>
            <a:ext cx="791532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母乳喂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文本框 1"/>
          <p:cNvSpPr/>
          <p:nvPr/>
        </p:nvSpPr>
        <p:spPr>
          <a:xfrm>
            <a:off x="2556000" y="2332080"/>
            <a:ext cx="451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营养丰富，易消化吸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文本框 8"/>
          <p:cNvSpPr/>
          <p:nvPr/>
        </p:nvSpPr>
        <p:spPr>
          <a:xfrm>
            <a:off x="1835280" y="1549440"/>
            <a:ext cx="20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优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文本框 9"/>
          <p:cNvSpPr/>
          <p:nvPr/>
        </p:nvSpPr>
        <p:spPr>
          <a:xfrm>
            <a:off x="2556000" y="2954160"/>
            <a:ext cx="408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增进婴儿抗病能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文本框 10"/>
          <p:cNvSpPr/>
          <p:nvPr/>
        </p:nvSpPr>
        <p:spPr>
          <a:xfrm>
            <a:off x="2556000" y="3575160"/>
            <a:ext cx="462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有利于婴儿脑的发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文本框 11"/>
          <p:cNvSpPr/>
          <p:nvPr/>
        </p:nvSpPr>
        <p:spPr>
          <a:xfrm>
            <a:off x="2556000" y="4197240"/>
            <a:ext cx="492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清洁、经济、方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6" name="文本框 12"/>
          <p:cNvSpPr/>
          <p:nvPr/>
        </p:nvSpPr>
        <p:spPr>
          <a:xfrm>
            <a:off x="2556000" y="4818240"/>
            <a:ext cx="257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培养感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文本框 13"/>
          <p:cNvSpPr/>
          <p:nvPr/>
        </p:nvSpPr>
        <p:spPr>
          <a:xfrm>
            <a:off x="2556000" y="5440320"/>
            <a:ext cx="403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有利于母亲的健康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1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2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2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灯片编号占位符 3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06B03-1548-4B16-99E5-78AAE217301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228320" y="213840"/>
            <a:ext cx="791532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母乳喂养时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" name="文本框 1"/>
          <p:cNvSpPr/>
          <p:nvPr/>
        </p:nvSpPr>
        <p:spPr>
          <a:xfrm>
            <a:off x="1692360" y="2652840"/>
            <a:ext cx="422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喂奶：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按需哺乳，母婴同室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文本框 8"/>
          <p:cNvSpPr/>
          <p:nvPr/>
        </p:nvSpPr>
        <p:spPr>
          <a:xfrm>
            <a:off x="1692360" y="1919160"/>
            <a:ext cx="44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开奶：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正常为生后半小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文本框 9"/>
          <p:cNvSpPr/>
          <p:nvPr/>
        </p:nvSpPr>
        <p:spPr>
          <a:xfrm>
            <a:off x="1692360" y="3384720"/>
            <a:ext cx="27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断奶：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10</a:t>
            </a:r>
            <a:r>
              <a:rPr b="0" lang="en-US" sz="2400" spc="-1" strike="noStrike">
                <a:solidFill>
                  <a:srgbClr val="03517d"/>
                </a:solidFill>
                <a:latin typeface="Adobe Gothic Std B"/>
                <a:ea typeface="Adobe Gothic Std B"/>
              </a:rPr>
              <a:t>~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12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Rectangle 2"/>
          <p:cNvSpPr/>
          <p:nvPr/>
        </p:nvSpPr>
        <p:spPr>
          <a:xfrm>
            <a:off x="1228680" y="214200"/>
            <a:ext cx="79153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母乳喂养的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矩形 3"/>
          <p:cNvSpPr/>
          <p:nvPr/>
        </p:nvSpPr>
        <p:spPr>
          <a:xfrm>
            <a:off x="1763640" y="1455840"/>
            <a:ext cx="4392720" cy="6476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产前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6" name="矩形 4"/>
          <p:cNvSpPr/>
          <p:nvPr/>
        </p:nvSpPr>
        <p:spPr>
          <a:xfrm>
            <a:off x="1763640" y="2387520"/>
            <a:ext cx="4392720" cy="6476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乳头保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" name="矩形 5"/>
          <p:cNvSpPr/>
          <p:nvPr/>
        </p:nvSpPr>
        <p:spPr>
          <a:xfrm>
            <a:off x="1763640" y="3319560"/>
            <a:ext cx="4392720" cy="6476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ddb523"/>
                </a:solidFill>
                <a:uFillTx/>
                <a:latin typeface="黑体"/>
                <a:ea typeface="黑体"/>
                <a:hlinkClick r:id="rId1" action="ppaction://hlinksldjump"/>
              </a:rPr>
              <a:t>母乳喂养的注意事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矩形 6"/>
          <p:cNvSpPr/>
          <p:nvPr/>
        </p:nvSpPr>
        <p:spPr>
          <a:xfrm>
            <a:off x="1763640" y="4251240"/>
            <a:ext cx="4392720" cy="6476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断乳时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矩形 7"/>
          <p:cNvSpPr/>
          <p:nvPr/>
        </p:nvSpPr>
        <p:spPr>
          <a:xfrm>
            <a:off x="1763640" y="5183280"/>
            <a:ext cx="4392720" cy="6476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母乳喂养的禁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3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0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42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46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48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50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52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54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母乳喂养的注意事项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2" name="文本框 19"/>
          <p:cNvSpPr/>
          <p:nvPr/>
        </p:nvSpPr>
        <p:spPr>
          <a:xfrm>
            <a:off x="1714680" y="1773360"/>
            <a:ext cx="72007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孕母树立信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保持良好心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保持乳头清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按需哺乳、母婴同室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不轻易添加乳制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乳母哺乳期间慎用药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断奶前先加辅食，避免在夏季或生病时断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1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44" name="图片 5" descr=""/>
          <p:cNvPicPr/>
          <p:nvPr/>
        </p:nvPicPr>
        <p:blipFill>
          <a:blip r:embed="rId1"/>
          <a:stretch/>
        </p:blipFill>
        <p:spPr>
          <a:xfrm>
            <a:off x="9360" y="1608120"/>
            <a:ext cx="5086440" cy="3313080"/>
          </a:xfrm>
          <a:prstGeom prst="rect">
            <a:avLst/>
          </a:prstGeom>
          <a:ln w="0">
            <a:noFill/>
          </a:ln>
        </p:spPr>
      </p:pic>
      <p:pic>
        <p:nvPicPr>
          <p:cNvPr id="245" name="图片 6" descr=""/>
          <p:cNvPicPr/>
          <p:nvPr/>
        </p:nvPicPr>
        <p:blipFill>
          <a:blip r:embed="rId2"/>
          <a:stretch/>
        </p:blipFill>
        <p:spPr>
          <a:xfrm>
            <a:off x="5202360" y="2139840"/>
            <a:ext cx="3941640" cy="2251080"/>
          </a:xfrm>
          <a:prstGeom prst="rect">
            <a:avLst/>
          </a:prstGeom>
          <a:ln w="0">
            <a:noFill/>
          </a:ln>
        </p:spPr>
      </p:pic>
      <p:sp>
        <p:nvSpPr>
          <p:cNvPr id="246" name="Rectangle 2"/>
          <p:cNvSpPr/>
          <p:nvPr/>
        </p:nvSpPr>
        <p:spPr>
          <a:xfrm>
            <a:off x="1228680" y="214200"/>
            <a:ext cx="79153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正确的哺乳姿势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7" name="文本框 8"/>
          <p:cNvSpPr/>
          <p:nvPr/>
        </p:nvSpPr>
        <p:spPr>
          <a:xfrm>
            <a:off x="860400" y="5207040"/>
            <a:ext cx="33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不同的喂养姿势均应注意将整个乳头和大部分乳晕置入婴儿口中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8" name="文本框 9"/>
          <p:cNvSpPr/>
          <p:nvPr/>
        </p:nvSpPr>
        <p:spPr>
          <a:xfrm>
            <a:off x="5126040" y="5345280"/>
            <a:ext cx="397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喂完后均需轻拍婴儿背部使空气排出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249" name="直接箭头连接符 11"/>
          <p:cNvCxnSpPr/>
          <p:nvPr/>
        </p:nvCxnSpPr>
        <p:spPr>
          <a:xfrm flipV="1">
            <a:off x="4336920" y="5515920"/>
            <a:ext cx="759600" cy="1332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</p:cxnSp>
    </p:spTree>
  </p:cSld>
  <p:transition spd="med">
    <p:pull dir="l"/>
  </p:transition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68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3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8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07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8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9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1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4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15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6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8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Rectangle 3"/>
          <p:cNvSpPr/>
          <p:nvPr/>
        </p:nvSpPr>
        <p:spPr>
          <a:xfrm>
            <a:off x="2843280" y="2038320"/>
            <a:ext cx="4392720" cy="275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711360" indent="-711360" algn="ctr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小儿营养的需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711360" indent="-711360" algn="ctr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婴儿喂养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711360" indent="-711360" algn="ctr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小儿、少年的膳食安排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1" name="Rectangle 2"/>
          <p:cNvSpPr/>
          <p:nvPr/>
        </p:nvSpPr>
        <p:spPr>
          <a:xfrm>
            <a:off x="1228680" y="214200"/>
            <a:ext cx="79153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母乳喂养的禁忌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52" name="组合 8"/>
          <p:cNvGrpSpPr/>
          <p:nvPr/>
        </p:nvGrpSpPr>
        <p:grpSpPr>
          <a:xfrm>
            <a:off x="1122480" y="2308320"/>
            <a:ext cx="6984720" cy="664920"/>
            <a:chOff x="1122480" y="2308320"/>
            <a:chExt cx="6984720" cy="664920"/>
          </a:xfrm>
        </p:grpSpPr>
        <p:grpSp>
          <p:nvGrpSpPr>
            <p:cNvPr id="253" name="Group 13"/>
            <p:cNvGrpSpPr/>
            <p:nvPr/>
          </p:nvGrpSpPr>
          <p:grpSpPr>
            <a:xfrm>
              <a:off x="1122480" y="2308320"/>
              <a:ext cx="761400" cy="664920"/>
              <a:chOff x="1122480" y="2308320"/>
              <a:chExt cx="761400" cy="664920"/>
            </a:xfrm>
          </p:grpSpPr>
          <p:sp>
            <p:nvSpPr>
              <p:cNvPr id="254" name="AutoShape 14"/>
              <p:cNvSpPr/>
              <p:nvPr/>
            </p:nvSpPr>
            <p:spPr>
              <a:xfrm>
                <a:off x="1128600" y="2319480"/>
                <a:ext cx="755280" cy="653760"/>
              </a:xfrm>
              <a:prstGeom prst="hexagon">
                <a:avLst>
                  <a:gd name="adj" fmla="val 2888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55" name="AutoShape 15"/>
              <p:cNvSpPr/>
              <p:nvPr/>
            </p:nvSpPr>
            <p:spPr>
              <a:xfrm>
                <a:off x="1122480" y="230832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56" name="AutoShape 16"/>
              <p:cNvSpPr/>
              <p:nvPr/>
            </p:nvSpPr>
            <p:spPr>
              <a:xfrm>
                <a:off x="1166760" y="2347920"/>
                <a:ext cx="663480" cy="57456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2</a:t>
                </a: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57" name="矩形 7"/>
            <p:cNvSpPr/>
            <p:nvPr/>
          </p:nvSpPr>
          <p:spPr>
            <a:xfrm>
              <a:off x="2052720" y="2367000"/>
              <a:ext cx="6054480" cy="536400"/>
            </a:xfrm>
            <a:prstGeom prst="rect">
              <a:avLst/>
            </a:prstGeom>
            <a:solidFill>
              <a:srgbClr val="c7c7c7"/>
            </a:solidFill>
            <a:ln w="25560">
              <a:solidFill>
                <a:srgbClr val="c7c7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2446a"/>
                  </a:solidFill>
                  <a:latin typeface="黑体"/>
                  <a:ea typeface="黑体"/>
                </a:rPr>
                <a:t>母亲患有急慢性传染病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58" name="组合 9"/>
          <p:cNvGrpSpPr/>
          <p:nvPr/>
        </p:nvGrpSpPr>
        <p:grpSpPr>
          <a:xfrm>
            <a:off x="1116000" y="1452600"/>
            <a:ext cx="6985080" cy="665280"/>
            <a:chOff x="1116000" y="1452600"/>
            <a:chExt cx="6985080" cy="665280"/>
          </a:xfrm>
        </p:grpSpPr>
        <p:grpSp>
          <p:nvGrpSpPr>
            <p:cNvPr id="259" name="Group 13"/>
            <p:cNvGrpSpPr/>
            <p:nvPr/>
          </p:nvGrpSpPr>
          <p:grpSpPr>
            <a:xfrm>
              <a:off x="1116000" y="1452600"/>
              <a:ext cx="761400" cy="665280"/>
              <a:chOff x="1116000" y="1452600"/>
              <a:chExt cx="761400" cy="665280"/>
            </a:xfrm>
          </p:grpSpPr>
          <p:sp>
            <p:nvSpPr>
              <p:cNvPr id="260" name="AutoShape 14"/>
              <p:cNvSpPr/>
              <p:nvPr/>
            </p:nvSpPr>
            <p:spPr>
              <a:xfrm>
                <a:off x="1122120" y="14637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61" name="AutoShape 15"/>
              <p:cNvSpPr/>
              <p:nvPr/>
            </p:nvSpPr>
            <p:spPr>
              <a:xfrm>
                <a:off x="1116000" y="14526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62" name="AutoShape 16"/>
              <p:cNvSpPr/>
              <p:nvPr/>
            </p:nvSpPr>
            <p:spPr>
              <a:xfrm>
                <a:off x="1160280" y="14922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1</a:t>
                </a: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63" name="矩形 11"/>
            <p:cNvSpPr/>
            <p:nvPr/>
          </p:nvSpPr>
          <p:spPr>
            <a:xfrm>
              <a:off x="2046240" y="1511280"/>
              <a:ext cx="6054840" cy="536760"/>
            </a:xfrm>
            <a:prstGeom prst="rect">
              <a:avLst/>
            </a:prstGeom>
            <a:solidFill>
              <a:srgbClr val="c7c7c7"/>
            </a:solidFill>
            <a:ln w="25560">
              <a:solidFill>
                <a:srgbClr val="c7c7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2446a"/>
                  </a:solidFill>
                  <a:latin typeface="黑体"/>
                  <a:ea typeface="黑体"/>
                </a:rPr>
                <a:t>乳母患慢性消耗性疾病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64" name="组合 15"/>
          <p:cNvGrpSpPr/>
          <p:nvPr/>
        </p:nvGrpSpPr>
        <p:grpSpPr>
          <a:xfrm>
            <a:off x="1116000" y="3164040"/>
            <a:ext cx="6985080" cy="664920"/>
            <a:chOff x="1116000" y="3164040"/>
            <a:chExt cx="6985080" cy="664920"/>
          </a:xfrm>
        </p:grpSpPr>
        <p:grpSp>
          <p:nvGrpSpPr>
            <p:cNvPr id="265" name="Group 13"/>
            <p:cNvGrpSpPr/>
            <p:nvPr/>
          </p:nvGrpSpPr>
          <p:grpSpPr>
            <a:xfrm>
              <a:off x="1116000" y="3164040"/>
              <a:ext cx="761400" cy="664920"/>
              <a:chOff x="1116000" y="3164040"/>
              <a:chExt cx="761400" cy="664920"/>
            </a:xfrm>
          </p:grpSpPr>
          <p:sp>
            <p:nvSpPr>
              <p:cNvPr id="266" name="AutoShape 14"/>
              <p:cNvSpPr/>
              <p:nvPr/>
            </p:nvSpPr>
            <p:spPr>
              <a:xfrm>
                <a:off x="1122120" y="3175200"/>
                <a:ext cx="755280" cy="653760"/>
              </a:xfrm>
              <a:prstGeom prst="hexagon">
                <a:avLst>
                  <a:gd name="adj" fmla="val 2888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67" name="AutoShape 15"/>
              <p:cNvSpPr/>
              <p:nvPr/>
            </p:nvSpPr>
            <p:spPr>
              <a:xfrm>
                <a:off x="1116000" y="316404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68" name="AutoShape 16"/>
              <p:cNvSpPr/>
              <p:nvPr/>
            </p:nvSpPr>
            <p:spPr>
              <a:xfrm>
                <a:off x="1160280" y="3203640"/>
                <a:ext cx="663480" cy="57456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3</a:t>
                </a: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69" name="矩形 17"/>
            <p:cNvSpPr/>
            <p:nvPr/>
          </p:nvSpPr>
          <p:spPr>
            <a:xfrm>
              <a:off x="2046240" y="3222720"/>
              <a:ext cx="6054840" cy="536400"/>
            </a:xfrm>
            <a:prstGeom prst="rect">
              <a:avLst/>
            </a:prstGeom>
            <a:solidFill>
              <a:srgbClr val="c7c7c7"/>
            </a:solidFill>
            <a:ln w="25560">
              <a:solidFill>
                <a:srgbClr val="c7c7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2446a"/>
                  </a:solidFill>
                  <a:latin typeface="黑体"/>
                  <a:ea typeface="黑体"/>
                </a:rPr>
                <a:t>母亲再次妊娠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70" name="组合 21"/>
          <p:cNvGrpSpPr/>
          <p:nvPr/>
        </p:nvGrpSpPr>
        <p:grpSpPr>
          <a:xfrm>
            <a:off x="1160640" y="4014720"/>
            <a:ext cx="6940440" cy="665280"/>
            <a:chOff x="1160640" y="4014720"/>
            <a:chExt cx="6940440" cy="665280"/>
          </a:xfrm>
        </p:grpSpPr>
        <p:grpSp>
          <p:nvGrpSpPr>
            <p:cNvPr id="271" name="Group 13"/>
            <p:cNvGrpSpPr/>
            <p:nvPr/>
          </p:nvGrpSpPr>
          <p:grpSpPr>
            <a:xfrm>
              <a:off x="1160640" y="4014720"/>
              <a:ext cx="761400" cy="665280"/>
              <a:chOff x="1160640" y="4014720"/>
              <a:chExt cx="761400" cy="665280"/>
            </a:xfrm>
          </p:grpSpPr>
          <p:sp>
            <p:nvSpPr>
              <p:cNvPr id="272" name="AutoShape 14"/>
              <p:cNvSpPr/>
              <p:nvPr/>
            </p:nvSpPr>
            <p:spPr>
              <a:xfrm>
                <a:off x="1166760" y="4025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73" name="AutoShape 15"/>
              <p:cNvSpPr/>
              <p:nvPr/>
            </p:nvSpPr>
            <p:spPr>
              <a:xfrm>
                <a:off x="1160640" y="4014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74" name="AutoShape 16"/>
              <p:cNvSpPr/>
              <p:nvPr/>
            </p:nvSpPr>
            <p:spPr>
              <a:xfrm>
                <a:off x="1204920" y="4054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4</a:t>
                </a: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75" name="矩形 23"/>
            <p:cNvSpPr/>
            <p:nvPr/>
          </p:nvSpPr>
          <p:spPr>
            <a:xfrm>
              <a:off x="2090880" y="4073400"/>
              <a:ext cx="6010200" cy="536760"/>
            </a:xfrm>
            <a:prstGeom prst="rect">
              <a:avLst/>
            </a:prstGeom>
            <a:solidFill>
              <a:srgbClr val="c7c7c7"/>
            </a:solidFill>
            <a:ln w="25560">
              <a:solidFill>
                <a:srgbClr val="c7c7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2446a"/>
                  </a:solidFill>
                  <a:latin typeface="黑体"/>
                  <a:ea typeface="黑体"/>
                </a:rPr>
                <a:t>母亲患乳腺炎、乳头皲裂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76" name="组合 27"/>
          <p:cNvGrpSpPr/>
          <p:nvPr/>
        </p:nvGrpSpPr>
        <p:grpSpPr>
          <a:xfrm>
            <a:off x="1116000" y="4870440"/>
            <a:ext cx="6985080" cy="665280"/>
            <a:chOff x="1116000" y="4870440"/>
            <a:chExt cx="6985080" cy="665280"/>
          </a:xfrm>
        </p:grpSpPr>
        <p:grpSp>
          <p:nvGrpSpPr>
            <p:cNvPr id="277" name="Group 13"/>
            <p:cNvGrpSpPr/>
            <p:nvPr/>
          </p:nvGrpSpPr>
          <p:grpSpPr>
            <a:xfrm>
              <a:off x="1116000" y="4870440"/>
              <a:ext cx="761400" cy="665280"/>
              <a:chOff x="1116000" y="4870440"/>
              <a:chExt cx="761400" cy="665280"/>
            </a:xfrm>
          </p:grpSpPr>
          <p:sp>
            <p:nvSpPr>
              <p:cNvPr id="278" name="AutoShape 14"/>
              <p:cNvSpPr/>
              <p:nvPr/>
            </p:nvSpPr>
            <p:spPr>
              <a:xfrm>
                <a:off x="1122120" y="488160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79" name="AutoShape 15"/>
              <p:cNvSpPr/>
              <p:nvPr/>
            </p:nvSpPr>
            <p:spPr>
              <a:xfrm>
                <a:off x="1116000" y="48704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80" name="AutoShape 16"/>
              <p:cNvSpPr/>
              <p:nvPr/>
            </p:nvSpPr>
            <p:spPr>
              <a:xfrm>
                <a:off x="1160280" y="491004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5</a:t>
                </a: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81" name="矩形 29"/>
            <p:cNvSpPr/>
            <p:nvPr/>
          </p:nvSpPr>
          <p:spPr>
            <a:xfrm>
              <a:off x="2046240" y="4929120"/>
              <a:ext cx="6054840" cy="536760"/>
            </a:xfrm>
            <a:prstGeom prst="rect">
              <a:avLst/>
            </a:prstGeom>
            <a:solidFill>
              <a:srgbClr val="c7c7c7"/>
            </a:solidFill>
            <a:ln w="25560">
              <a:solidFill>
                <a:srgbClr val="c7c7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2446a"/>
                  </a:solidFill>
                  <a:latin typeface="黑体"/>
                  <a:ea typeface="黑体"/>
                </a:rPr>
                <a:t>新生儿患有遗传代谢病，如半乳糖血症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p:transition spd="med">
    <p:pull dir="l"/>
  </p:transition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7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1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5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0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9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3" name="Rectangle 2"/>
          <p:cNvSpPr/>
          <p:nvPr/>
        </p:nvSpPr>
        <p:spPr>
          <a:xfrm>
            <a:off x="1228680" y="214200"/>
            <a:ext cx="79153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部分母乳喂养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—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混合喂养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4" name="文本框 3"/>
          <p:cNvSpPr/>
          <p:nvPr/>
        </p:nvSpPr>
        <p:spPr>
          <a:xfrm>
            <a:off x="1228680" y="1774800"/>
            <a:ext cx="684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定义：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指母乳与配方奶或兽乳同时喂养婴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5" name="文本框 4"/>
          <p:cNvSpPr/>
          <p:nvPr/>
        </p:nvSpPr>
        <p:spPr>
          <a:xfrm>
            <a:off x="1228680" y="2637000"/>
            <a:ext cx="5761080" cy="18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方法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补授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代授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7" name="Rectangle 2"/>
          <p:cNvSpPr/>
          <p:nvPr/>
        </p:nvSpPr>
        <p:spPr>
          <a:xfrm>
            <a:off x="1228680" y="214200"/>
            <a:ext cx="79153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人工喂养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8" name="文本框 3"/>
          <p:cNvSpPr/>
          <p:nvPr/>
        </p:nvSpPr>
        <p:spPr>
          <a:xfrm>
            <a:off x="774720" y="1484280"/>
            <a:ext cx="7110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定义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17d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由于各种原因不能进行母乳喂养时，以配方奶或其他代乳品完全替代母乳喂养的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9" name="文本框 4"/>
          <p:cNvSpPr/>
          <p:nvPr/>
        </p:nvSpPr>
        <p:spPr>
          <a:xfrm>
            <a:off x="774720" y="4041720"/>
            <a:ext cx="3152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牛乳的优点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351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成分相对接近母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351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来源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351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价格便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0" name="文本框 5"/>
          <p:cNvSpPr/>
          <p:nvPr/>
        </p:nvSpPr>
        <p:spPr>
          <a:xfrm>
            <a:off x="784080" y="311472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3517d"/>
                </a:solidFill>
                <a:latin typeface="黑体"/>
                <a:ea typeface="黑体"/>
              </a:rPr>
              <a:t>牛奶：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最常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1" name="文本框 6"/>
          <p:cNvSpPr/>
          <p:nvPr/>
        </p:nvSpPr>
        <p:spPr>
          <a:xfrm>
            <a:off x="4481640" y="4041720"/>
            <a:ext cx="3100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牛乳的缺点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351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不易消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351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锌铜含量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351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钙磷比例不合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2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02E94-7058-4966-A0D7-0423F4F8E7D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3" name="Rectangle 2"/>
          <p:cNvSpPr/>
          <p:nvPr/>
        </p:nvSpPr>
        <p:spPr>
          <a:xfrm>
            <a:off x="1228680" y="214200"/>
            <a:ext cx="79153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牛乳加工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4" name="文本框 3"/>
          <p:cNvSpPr/>
          <p:nvPr/>
        </p:nvSpPr>
        <p:spPr>
          <a:xfrm>
            <a:off x="2050920" y="1498680"/>
            <a:ext cx="617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目的：降低牛奶矿物质、蛋白质浓度，减轻婴儿消化道、肾负荷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5" name="文本框 9"/>
          <p:cNvSpPr/>
          <p:nvPr/>
        </p:nvSpPr>
        <p:spPr>
          <a:xfrm>
            <a:off x="779400" y="1571760"/>
            <a:ext cx="15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稀释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6" name="文本框 10"/>
          <p:cNvSpPr/>
          <p:nvPr/>
        </p:nvSpPr>
        <p:spPr>
          <a:xfrm>
            <a:off x="779400" y="3819600"/>
            <a:ext cx="15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加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7" name="文本框 11"/>
          <p:cNvSpPr/>
          <p:nvPr/>
        </p:nvSpPr>
        <p:spPr>
          <a:xfrm>
            <a:off x="2046240" y="5003640"/>
            <a:ext cx="624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目的：灭菌；使奶中的蛋白质变性，使之在胃中不易凝成大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8" name="文本框 12"/>
          <p:cNvSpPr/>
          <p:nvPr/>
        </p:nvSpPr>
        <p:spPr>
          <a:xfrm>
            <a:off x="779400" y="5024520"/>
            <a:ext cx="15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加热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9" name="文本框 13"/>
          <p:cNvSpPr/>
          <p:nvPr/>
        </p:nvSpPr>
        <p:spPr>
          <a:xfrm>
            <a:off x="2049480" y="3844800"/>
            <a:ext cx="648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目的：改变三大产能物质的比例，利于吸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0" name="文本框 14"/>
          <p:cNvSpPr/>
          <p:nvPr/>
        </p:nvSpPr>
        <p:spPr>
          <a:xfrm>
            <a:off x="2050920" y="2430360"/>
            <a:ext cx="6239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方法：生后不满两周者采用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∶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奶（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份奶加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份水）；以后逐渐过渡到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3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∶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奶或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4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∶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奶；满月后即可用全奶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1" name="文本框 15"/>
          <p:cNvSpPr/>
          <p:nvPr/>
        </p:nvSpPr>
        <p:spPr>
          <a:xfrm>
            <a:off x="2049480" y="4343400"/>
            <a:ext cx="624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方法：每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100ml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可加糖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5</a:t>
            </a:r>
            <a:r>
              <a:rPr b="0" lang="en-US" sz="2400" spc="-1" strike="noStrike">
                <a:solidFill>
                  <a:srgbClr val="03517d"/>
                </a:solidFill>
                <a:latin typeface="Arial Unicode MS"/>
                <a:ea typeface="Arial Unicode MS"/>
              </a:rPr>
              <a:t>~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8g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，以蔗糖最常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2" name="下箭头 18"/>
          <p:cNvSpPr/>
          <p:nvPr/>
        </p:nvSpPr>
        <p:spPr>
          <a:xfrm>
            <a:off x="1138320" y="2265480"/>
            <a:ext cx="185760" cy="1301760"/>
          </a:xfrm>
          <a:prstGeom prst="downArrow">
            <a:avLst>
              <a:gd name="adj1" fmla="val 50000"/>
              <a:gd name="adj2" fmla="val 49995"/>
            </a:avLst>
          </a:prstGeom>
          <a:solidFill>
            <a:srgbClr val="7acdfc"/>
          </a:solidFill>
          <a:ln w="25560">
            <a:solidFill>
              <a:srgbClr val="38b5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3" name="下箭头 19"/>
          <p:cNvSpPr/>
          <p:nvPr/>
        </p:nvSpPr>
        <p:spPr>
          <a:xfrm>
            <a:off x="1138320" y="4378320"/>
            <a:ext cx="185760" cy="735120"/>
          </a:xfrm>
          <a:prstGeom prst="downArrow">
            <a:avLst>
              <a:gd name="adj1" fmla="val 50000"/>
              <a:gd name="adj2" fmla="val 49998"/>
            </a:avLst>
          </a:prstGeom>
          <a:solidFill>
            <a:srgbClr val="7acdfc"/>
          </a:solidFill>
          <a:ln w="25560">
            <a:solidFill>
              <a:srgbClr val="38b5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6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5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69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3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75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8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1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5" name="文本框 4"/>
          <p:cNvSpPr/>
          <p:nvPr/>
        </p:nvSpPr>
        <p:spPr>
          <a:xfrm>
            <a:off x="1643040" y="3214800"/>
            <a:ext cx="328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全脂奶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6" name="文本框 5"/>
          <p:cNvSpPr/>
          <p:nvPr/>
        </p:nvSpPr>
        <p:spPr>
          <a:xfrm>
            <a:off x="1857240" y="3786120"/>
            <a:ext cx="465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按重量：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∶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8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（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10g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奶粉加水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80g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7" name="文本框 9"/>
          <p:cNvSpPr/>
          <p:nvPr/>
        </p:nvSpPr>
        <p:spPr>
          <a:xfrm>
            <a:off x="1857240" y="4295880"/>
            <a:ext cx="503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按体积：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∶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4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（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匙奶粉加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4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匙水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8" name="矩形 6"/>
          <p:cNvSpPr/>
          <p:nvPr/>
        </p:nvSpPr>
        <p:spPr>
          <a:xfrm>
            <a:off x="1000080" y="1357200"/>
            <a:ext cx="5286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婴儿配方奶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17d"/>
                </a:solidFill>
                <a:latin typeface="黑体"/>
                <a:ea typeface="黑体"/>
              </a:rPr>
              <a:t>  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参照母乳组成成分和模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  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人工喂养的首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17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2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0" name="Rectangle 2"/>
          <p:cNvSpPr/>
          <p:nvPr/>
        </p:nvSpPr>
        <p:spPr>
          <a:xfrm>
            <a:off x="1228680" y="214200"/>
            <a:ext cx="79153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人工喂养的注意事项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1" name="文本框 3"/>
          <p:cNvSpPr/>
          <p:nvPr/>
        </p:nvSpPr>
        <p:spPr>
          <a:xfrm>
            <a:off x="2195640" y="1989000"/>
            <a:ext cx="5761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奶嘴适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奶温应与体温相似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避免空气吸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注意奶具卫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及时调整奶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3" name="Rectangle 2"/>
          <p:cNvSpPr/>
          <p:nvPr/>
        </p:nvSpPr>
        <p:spPr>
          <a:xfrm>
            <a:off x="1228680" y="214200"/>
            <a:ext cx="79153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婴儿食物转换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4" name="文本框 3"/>
          <p:cNvSpPr/>
          <p:nvPr/>
        </p:nvSpPr>
        <p:spPr>
          <a:xfrm>
            <a:off x="2411280" y="1542960"/>
            <a:ext cx="5832720" cy="27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目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补充乳类营养素的不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为断奶做准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培养良好的习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5" name="文本框 4"/>
          <p:cNvSpPr/>
          <p:nvPr/>
        </p:nvSpPr>
        <p:spPr>
          <a:xfrm>
            <a:off x="2411280" y="4341960"/>
            <a:ext cx="6446880" cy="128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换乳期食物的添加</a:t>
            </a:r>
            <a:r>
              <a:rPr b="1" lang="zh-CN" sz="2800" spc="-1" strike="noStrike">
                <a:solidFill>
                  <a:srgbClr val="29241f"/>
                </a:solidFill>
                <a:latin typeface="楷体_GB2312"/>
                <a:ea typeface="楷体_GB2312"/>
              </a:rPr>
              <a:t>（</a:t>
            </a:r>
            <a:r>
              <a:rPr b="1" lang="zh-CN" sz="2800" spc="-1" strike="noStrike">
                <a:solidFill>
                  <a:srgbClr val="9e0606"/>
                </a:solidFill>
                <a:latin typeface="楷体_GB2312"/>
                <a:ea typeface="楷体_GB2312"/>
              </a:rPr>
              <a:t>补充食物</a:t>
            </a:r>
            <a:r>
              <a:rPr b="1" lang="zh-CN" sz="2800" spc="-1" strike="noStrike">
                <a:solidFill>
                  <a:srgbClr val="29241f"/>
                </a:solidFill>
                <a:latin typeface="楷体_GB2312"/>
                <a:ea typeface="楷体_GB2312"/>
              </a:rPr>
              <a:t>）</a:t>
            </a: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时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351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 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4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6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个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2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7" name="文本框 2"/>
          <p:cNvSpPr/>
          <p:nvPr/>
        </p:nvSpPr>
        <p:spPr>
          <a:xfrm>
            <a:off x="554040" y="1631880"/>
            <a:ext cx="8589960" cy="128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原则：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从少到多、由稀到稠、从细到粗、每次添加一种食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8" name="文本框 3"/>
          <p:cNvSpPr/>
          <p:nvPr/>
        </p:nvSpPr>
        <p:spPr>
          <a:xfrm>
            <a:off x="554040" y="2820960"/>
            <a:ext cx="8361360" cy="253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注意事项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应在婴儿健康、消化功能正常时添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应当注意婴儿有无过敏反应，如腹胀、腹泻、皮疹、流涕或流泪、异常不安或哭闹等，若出现过敏反应后应停止最近添加的食物，严密观察并寻找原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9" name="Rectangle 2"/>
          <p:cNvSpPr/>
          <p:nvPr/>
        </p:nvSpPr>
        <p:spPr>
          <a:xfrm>
            <a:off x="1228680" y="214200"/>
            <a:ext cx="79153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食物转换的原则 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1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321" name=""/>
          <p:cNvGraphicFramePr/>
          <p:nvPr/>
        </p:nvGraphicFramePr>
        <p:xfrm>
          <a:off x="311040" y="1773360"/>
          <a:ext cx="8569440" cy="3174840"/>
        </p:xfrm>
        <a:graphic>
          <a:graphicData uri="http://schemas.openxmlformats.org/drawingml/2006/table">
            <a:tbl>
              <a:tblPr/>
              <a:tblGrid>
                <a:gridCol w="1511280"/>
                <a:gridCol w="1165320"/>
                <a:gridCol w="3011400"/>
                <a:gridCol w="288144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2446a"/>
                          </a:solidFill>
                          <a:latin typeface="Verdana"/>
                          <a:ea typeface="宋体"/>
                        </a:rPr>
                        <a:t>月龄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2446a"/>
                          </a:solidFill>
                          <a:latin typeface="Verdana"/>
                          <a:ea typeface="宋体"/>
                        </a:rPr>
                        <a:t>食物性状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2446a"/>
                          </a:solidFill>
                          <a:latin typeface="Verdana"/>
                          <a:ea typeface="宋体"/>
                        </a:rPr>
                        <a:t>种类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2446a"/>
                          </a:solidFill>
                          <a:latin typeface="Verdana"/>
                          <a:ea typeface="宋体"/>
                        </a:rPr>
                        <a:t>作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4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～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6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个月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泥状食物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菜泥、水果泥、含铁配方米粉、蛋黄、配方乳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补充热量、增加动植物蛋白、补铁、补充维生素和矿物质、膳食纤维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7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～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9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个月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末状食物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粥、饼干、馒头片、鱼泥、肝泥、蛋、肉末、豆腐、水果、菜末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增加热量、训练咀嚼，补充动物蛋白、铁、锌及维生素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0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～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2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个月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碎食物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软饭、面条、面包、碎菜、碎肉、豆制品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补充热能、各种维生素和矿物质、蛋白质、纤维素，训练咀嚼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22" name="Rectangle 2"/>
          <p:cNvSpPr/>
          <p:nvPr/>
        </p:nvSpPr>
        <p:spPr>
          <a:xfrm>
            <a:off x="1228680" y="214200"/>
            <a:ext cx="79153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换乳期食物的添加顺序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571" dur="indefinite" restart="never" nodeType="tmRoot">
          <p:childTnLst>
            <p:seq>
              <p:cTn id="572" dur="indefinite" nodeType="mainSeq">
                <p:childTnLst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4" name="Rectangle 2"/>
          <p:cNvSpPr/>
          <p:nvPr/>
        </p:nvSpPr>
        <p:spPr>
          <a:xfrm>
            <a:off x="1228680" y="214200"/>
            <a:ext cx="79153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小儿、少年的膳食安排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5" name="文本框 3"/>
          <p:cNvSpPr/>
          <p:nvPr/>
        </p:nvSpPr>
        <p:spPr>
          <a:xfrm>
            <a:off x="1979640" y="1989000"/>
            <a:ext cx="446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幼儿时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学龄前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学龄儿和青春期少年时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580" dur="indefinite" restart="never" nodeType="tmRoot">
          <p:childTnLst>
            <p:seq>
              <p:cTn id="581" dur="indefinite" nodeType="mainSeq">
                <p:childTnLst>
                  <p:par>
                    <p:cTn id="582" nodeType="clickEffect" fill="hold">
                      <p:stCondLst>
                        <p:cond delay="indefinite"/>
                      </p:stCondLst>
                      <p:childTnLst>
                        <p:par>
                          <p:cTn id="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6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识记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1.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说出小儿营能量和营养素的需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2.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描述母乳喂养的优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理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1.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解释小儿物质代谢特点及营养需要量的关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2.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比较几种不同婴儿喂养方法的优缺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运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1.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指导小儿家长正确添加婴幼儿的换乳期食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2.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指导乳母进行正确的母乳喂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DA800-5801-4225-B423-8B7E0A14447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27" name="矩形 2" descr=""/>
          <p:cNvPicPr/>
          <p:nvPr/>
        </p:nvPicPr>
        <p:blipFill>
          <a:blip r:embed="rId1"/>
          <a:stretch/>
        </p:blipFill>
        <p:spPr>
          <a:xfrm>
            <a:off x="1438200" y="2749680"/>
            <a:ext cx="6267600" cy="2060280"/>
          </a:xfrm>
          <a:prstGeom prst="rect">
            <a:avLst/>
          </a:prstGeom>
          <a:ln w="0">
            <a:noFill/>
          </a:ln>
        </p:spPr>
      </p:pic>
    </p:spTree>
  </p:cSld>
  <p:transition spd="med">
    <p:pull dir="l"/>
  </p:transition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nodeType="clickEffect" fill="hold">
                      <p:stCondLst>
                        <p:cond delay="0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withEffect" fill="hold" presetClass="emph" presetID="6" repeatCount="1000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94" dur="2000" fill="hold"/>
                                        <p:tgtEl>
                                          <p:spTgt spid="32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</a:t>
            </a: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第一节</a:t>
            </a:r>
            <a:r>
              <a:rPr b="1" lang="en-US" sz="2800" spc="-1" strike="noStrike">
                <a:solidFill>
                  <a:srgbClr val="03517d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小儿营养需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062E6-A5DB-4B32-A9F9-A2B8D3DEBFF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小儿能量需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圆角矩形 4"/>
          <p:cNvSpPr/>
          <p:nvPr/>
        </p:nvSpPr>
        <p:spPr>
          <a:xfrm>
            <a:off x="861840" y="1565280"/>
            <a:ext cx="2579760" cy="5842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1.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基础代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圆角矩形 5"/>
          <p:cNvSpPr/>
          <p:nvPr/>
        </p:nvSpPr>
        <p:spPr>
          <a:xfrm>
            <a:off x="858960" y="3274920"/>
            <a:ext cx="2582640" cy="5842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3.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活动消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圆角矩形 6"/>
          <p:cNvSpPr/>
          <p:nvPr/>
        </p:nvSpPr>
        <p:spPr>
          <a:xfrm>
            <a:off x="858960" y="2424240"/>
            <a:ext cx="2582640" cy="5857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2.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食物热力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圆角矩形 7"/>
          <p:cNvSpPr/>
          <p:nvPr/>
        </p:nvSpPr>
        <p:spPr>
          <a:xfrm>
            <a:off x="858960" y="4124160"/>
            <a:ext cx="2582640" cy="5860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4.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生长发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圆角矩形 8"/>
          <p:cNvSpPr/>
          <p:nvPr/>
        </p:nvSpPr>
        <p:spPr>
          <a:xfrm>
            <a:off x="858960" y="4978440"/>
            <a:ext cx="2582640" cy="5842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5.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排泄消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文本框 14"/>
          <p:cNvSpPr/>
          <p:nvPr/>
        </p:nvSpPr>
        <p:spPr>
          <a:xfrm>
            <a:off x="3540240" y="2465280"/>
            <a:ext cx="553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指食物代谢过程中所消耗的能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文本框 15"/>
          <p:cNvSpPr/>
          <p:nvPr/>
        </p:nvSpPr>
        <p:spPr>
          <a:xfrm>
            <a:off x="3540240" y="417816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小儿期所特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右箭头 2"/>
          <p:cNvSpPr/>
          <p:nvPr/>
        </p:nvSpPr>
        <p:spPr>
          <a:xfrm flipV="1">
            <a:off x="3451320" y="4368240"/>
            <a:ext cx="576000" cy="96840"/>
          </a:xfrm>
          <a:prstGeom prst="rightArrow">
            <a:avLst>
              <a:gd name="adj1" fmla="val 50000"/>
              <a:gd name="adj2" fmla="val 49979"/>
            </a:avLst>
          </a:prstGeom>
          <a:solidFill>
            <a:srgbClr val="fe230c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00" bIns="1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右箭头 3"/>
          <p:cNvSpPr/>
          <p:nvPr/>
        </p:nvSpPr>
        <p:spPr>
          <a:xfrm>
            <a:off x="3476520" y="2695680"/>
            <a:ext cx="506520" cy="46080"/>
          </a:xfrm>
          <a:prstGeom prst="rightArrow">
            <a:avLst>
              <a:gd name="adj1" fmla="val 50000"/>
              <a:gd name="adj2" fmla="val 49974"/>
            </a:avLst>
          </a:prstGeom>
          <a:solidFill>
            <a:srgbClr val="8ac8de"/>
          </a:solidFill>
          <a:ln w="57240">
            <a:solidFill>
              <a:srgbClr val="2872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小儿物质代谢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文本框 4"/>
          <p:cNvSpPr/>
          <p:nvPr/>
        </p:nvSpPr>
        <p:spPr>
          <a:xfrm>
            <a:off x="2050920" y="2781360"/>
            <a:ext cx="64818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38b5f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婴幼儿基础代谢相对较成人高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10%</a:t>
            </a:r>
            <a:r>
              <a:rPr b="0" lang="en-US" sz="2400" spc="-1" strike="noStrike">
                <a:solidFill>
                  <a:srgbClr val="03517d"/>
                </a:solidFill>
                <a:latin typeface="PMingLiU"/>
                <a:ea typeface="PMingLiU"/>
              </a:rPr>
              <a:t>~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15%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38b5f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生长发育所需能量为小儿所特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38b5f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随小儿年龄增长，活动量大，所需能量增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38b5f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年龄越小，蛋白质供给量相对越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38b5f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年龄越小，相对总能量需要越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云形标注 9"/>
          <p:cNvSpPr/>
          <p:nvPr/>
        </p:nvSpPr>
        <p:spPr>
          <a:xfrm>
            <a:off x="1257480" y="1157400"/>
            <a:ext cx="4106520" cy="140796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小儿物质代谢有哪些特点呢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小儿营养素的需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文本框 2"/>
          <p:cNvSpPr/>
          <p:nvPr/>
        </p:nvSpPr>
        <p:spPr>
          <a:xfrm>
            <a:off x="838080" y="146052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宏量营养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文本框 6"/>
          <p:cNvSpPr/>
          <p:nvPr/>
        </p:nvSpPr>
        <p:spPr>
          <a:xfrm>
            <a:off x="1008000" y="2576520"/>
            <a:ext cx="36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碳水化合物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50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％～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60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％）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文本框 7"/>
          <p:cNvSpPr/>
          <p:nvPr/>
        </p:nvSpPr>
        <p:spPr>
          <a:xfrm>
            <a:off x="1008000" y="3471840"/>
            <a:ext cx="31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脂类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35%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50%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文本框 8"/>
          <p:cNvSpPr/>
          <p:nvPr/>
        </p:nvSpPr>
        <p:spPr>
          <a:xfrm>
            <a:off x="1008000" y="441180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蛋白质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8%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15%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文本框 24"/>
          <p:cNvSpPr/>
          <p:nvPr/>
        </p:nvSpPr>
        <p:spPr>
          <a:xfrm>
            <a:off x="4738680" y="258588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供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文本框 25"/>
          <p:cNvSpPr/>
          <p:nvPr/>
        </p:nvSpPr>
        <p:spPr>
          <a:xfrm>
            <a:off x="6012000" y="345924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供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文本框 26"/>
          <p:cNvSpPr/>
          <p:nvPr/>
        </p:nvSpPr>
        <p:spPr>
          <a:xfrm>
            <a:off x="4118040" y="4397400"/>
            <a:ext cx="34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生命的物质基础、供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文本框 38"/>
          <p:cNvSpPr/>
          <p:nvPr/>
        </p:nvSpPr>
        <p:spPr>
          <a:xfrm>
            <a:off x="3419640" y="3429000"/>
            <a:ext cx="136836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随着年龄增加而减少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155" name="直接箭头连接符 7177"/>
          <p:cNvCxnSpPr/>
          <p:nvPr/>
        </p:nvCxnSpPr>
        <p:spPr>
          <a:xfrm>
            <a:off x="3492000" y="3789000"/>
            <a:ext cx="1151640" cy="1080"/>
          </a:xfrm>
          <a:prstGeom prst="straightConnector1">
            <a:avLst/>
          </a:prstGeom>
          <a:ln w="57240">
            <a:solidFill>
              <a:srgbClr val="85c4db"/>
            </a:solidFill>
            <a:miter/>
            <a:tailEnd len="med" type="triangle" w="med"/>
          </a:ln>
        </p:spPr>
      </p:cxnSp>
      <p:sp>
        <p:nvSpPr>
          <p:cNvPr id="156" name="文本框 46"/>
          <p:cNvSpPr/>
          <p:nvPr/>
        </p:nvSpPr>
        <p:spPr>
          <a:xfrm>
            <a:off x="4716360" y="35179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25%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30%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文本框 4"/>
          <p:cNvSpPr/>
          <p:nvPr/>
        </p:nvSpPr>
        <p:spPr>
          <a:xfrm>
            <a:off x="708120" y="4202280"/>
            <a:ext cx="38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其他膳食成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文本框 5"/>
          <p:cNvSpPr/>
          <p:nvPr/>
        </p:nvSpPr>
        <p:spPr>
          <a:xfrm>
            <a:off x="662040" y="5016600"/>
            <a:ext cx="417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 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膳食纤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（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20</a:t>
            </a:r>
            <a:r>
              <a:rPr b="0" lang="en-US" sz="2400" spc="-1" strike="noStrike">
                <a:solidFill>
                  <a:srgbClr val="03517d"/>
                </a:solidFill>
                <a:latin typeface="PMingLiU-ExtB"/>
                <a:ea typeface="PMingLiU-ExtB"/>
              </a:rPr>
              <a:t>~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35g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文本框 6"/>
          <p:cNvSpPr/>
          <p:nvPr/>
        </p:nvSpPr>
        <p:spPr>
          <a:xfrm>
            <a:off x="4540320" y="5059440"/>
            <a:ext cx="89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61" name="组合 21"/>
          <p:cNvGrpSpPr/>
          <p:nvPr/>
        </p:nvGrpSpPr>
        <p:grpSpPr>
          <a:xfrm>
            <a:off x="2649600" y="4937040"/>
            <a:ext cx="1874880" cy="802440"/>
            <a:chOff x="2649600" y="4937040"/>
            <a:chExt cx="1874880" cy="802440"/>
          </a:xfrm>
        </p:grpSpPr>
        <p:sp>
          <p:nvSpPr>
            <p:cNvPr id="162" name="文本框 8"/>
            <p:cNvSpPr/>
            <p:nvPr/>
          </p:nvSpPr>
          <p:spPr>
            <a:xfrm>
              <a:off x="2649600" y="5371200"/>
              <a:ext cx="187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不溶性纤维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3" name="文本框 9"/>
            <p:cNvSpPr/>
            <p:nvPr/>
          </p:nvSpPr>
          <p:spPr>
            <a:xfrm>
              <a:off x="2654280" y="4937040"/>
              <a:ext cx="187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可溶性纤维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64" name="文本框 10"/>
          <p:cNvSpPr/>
          <p:nvPr/>
        </p:nvSpPr>
        <p:spPr>
          <a:xfrm>
            <a:off x="5673600" y="4637160"/>
            <a:ext cx="324180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岁以内：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150ml/kg*d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以后每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岁约减少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25ml/kg*d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成人：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40~50ml/kg*d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文本框 11"/>
          <p:cNvSpPr/>
          <p:nvPr/>
        </p:nvSpPr>
        <p:spPr>
          <a:xfrm>
            <a:off x="708120" y="151596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微量营养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文本框 12"/>
          <p:cNvSpPr/>
          <p:nvPr/>
        </p:nvSpPr>
        <p:spPr>
          <a:xfrm>
            <a:off x="1101600" y="2220840"/>
            <a:ext cx="159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维生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文本框 13"/>
          <p:cNvSpPr/>
          <p:nvPr/>
        </p:nvSpPr>
        <p:spPr>
          <a:xfrm>
            <a:off x="1101600" y="3174840"/>
            <a:ext cx="119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矿物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68" name="组合 19"/>
          <p:cNvGrpSpPr/>
          <p:nvPr/>
        </p:nvGrpSpPr>
        <p:grpSpPr>
          <a:xfrm>
            <a:off x="2505240" y="2065320"/>
            <a:ext cx="4203360" cy="937080"/>
            <a:chOff x="2505240" y="2065320"/>
            <a:chExt cx="4203360" cy="937080"/>
          </a:xfrm>
        </p:grpSpPr>
        <p:sp>
          <p:nvSpPr>
            <p:cNvPr id="169" name="文本框 15"/>
            <p:cNvSpPr/>
            <p:nvPr/>
          </p:nvSpPr>
          <p:spPr>
            <a:xfrm>
              <a:off x="2505240" y="2065320"/>
              <a:ext cx="4203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脂溶性：</a:t>
              </a:r>
              <a:r>
                <a:rPr b="0" lang="en-US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VitA</a:t>
              </a:r>
              <a:r>
                <a:rPr b="0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、</a:t>
              </a:r>
              <a:r>
                <a:rPr b="0" lang="en-US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VitD</a:t>
              </a:r>
              <a:r>
                <a:rPr b="0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、</a:t>
              </a:r>
              <a:r>
                <a:rPr b="0" lang="en-US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VitE</a:t>
              </a:r>
              <a:r>
                <a:rPr b="0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、</a:t>
              </a:r>
              <a:r>
                <a:rPr b="0" lang="en-US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VitK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0" name="文本框 16"/>
            <p:cNvSpPr/>
            <p:nvPr/>
          </p:nvSpPr>
          <p:spPr>
            <a:xfrm>
              <a:off x="2509560" y="2603520"/>
              <a:ext cx="373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水溶性：</a:t>
              </a:r>
              <a:r>
                <a:rPr b="0" lang="en-US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VitB</a:t>
              </a:r>
              <a:r>
                <a:rPr b="0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、</a:t>
              </a:r>
              <a:r>
                <a:rPr b="0" lang="en-US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VitC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71" name="组合 27"/>
          <p:cNvGrpSpPr/>
          <p:nvPr/>
        </p:nvGrpSpPr>
        <p:grpSpPr>
          <a:xfrm>
            <a:off x="2421000" y="3141720"/>
            <a:ext cx="5624280" cy="808560"/>
            <a:chOff x="2421000" y="3141720"/>
            <a:chExt cx="5624280" cy="808560"/>
          </a:xfrm>
        </p:grpSpPr>
        <p:sp>
          <p:nvSpPr>
            <p:cNvPr id="172" name="文本框 17"/>
            <p:cNvSpPr/>
            <p:nvPr/>
          </p:nvSpPr>
          <p:spPr>
            <a:xfrm>
              <a:off x="2424960" y="3141720"/>
              <a:ext cx="5620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常量元素（</a:t>
              </a:r>
              <a:r>
                <a:rPr b="0" lang="en-US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&gt;0.01%</a:t>
              </a:r>
              <a:r>
                <a:rPr b="0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）：</a:t>
              </a:r>
              <a:r>
                <a:rPr b="0" lang="en-US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Ca</a:t>
              </a:r>
              <a:r>
                <a:rPr b="0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、</a:t>
              </a:r>
              <a:r>
                <a:rPr b="0" lang="en-US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P</a:t>
              </a:r>
              <a:r>
                <a:rPr b="0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、</a:t>
              </a:r>
              <a:r>
                <a:rPr b="0" lang="en-US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Mg</a:t>
              </a:r>
              <a:r>
                <a:rPr b="0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、</a:t>
              </a:r>
              <a:r>
                <a:rPr b="0" lang="en-US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Na</a:t>
              </a:r>
              <a:r>
                <a:rPr b="0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、</a:t>
              </a:r>
              <a:r>
                <a:rPr b="0" lang="en-US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K</a:t>
              </a:r>
              <a:r>
                <a:rPr b="0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等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3" name="文本框 18"/>
            <p:cNvSpPr/>
            <p:nvPr/>
          </p:nvSpPr>
          <p:spPr>
            <a:xfrm>
              <a:off x="2421000" y="3551400"/>
              <a:ext cx="4199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微量元素（</a:t>
              </a:r>
              <a:r>
                <a:rPr b="0" lang="en-US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&lt;0.01%</a:t>
              </a:r>
              <a:r>
                <a:rPr b="0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）：</a:t>
              </a:r>
              <a:r>
                <a:rPr b="0" lang="en-US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I</a:t>
              </a:r>
              <a:r>
                <a:rPr b="0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、</a:t>
              </a:r>
              <a:r>
                <a:rPr b="0" lang="en-US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Zn</a:t>
              </a:r>
              <a:r>
                <a:rPr b="0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等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74" name="左大括号 20"/>
          <p:cNvSpPr/>
          <p:nvPr/>
        </p:nvSpPr>
        <p:spPr>
          <a:xfrm>
            <a:off x="2482920" y="4992840"/>
            <a:ext cx="129960" cy="583920"/>
          </a:xfrm>
          <a:custGeom>
            <a:avLst/>
            <a:gdLst>
              <a:gd name="textAreaLeft" fmla="*/ 83160 w 129960"/>
              <a:gd name="textAreaRight" fmla="*/ 130320 w 129960"/>
              <a:gd name="textAreaTop" fmla="*/ 3240 h 583920"/>
              <a:gd name="textAreaBottom" fmla="*/ 580680 h 583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01"/>
                  <a:pt x="10800" y="401"/>
                </a:cubicBezTo>
                <a:lnTo>
                  <a:pt x="10800" y="10399"/>
                </a:lnTo>
                <a:cubicBezTo>
                  <a:pt x="10800" y="10600"/>
                  <a:pt x="5400" y="10800"/>
                  <a:pt x="0" y="10800"/>
                </a:cubicBezTo>
                <a:cubicBezTo>
                  <a:pt x="5400" y="10800"/>
                  <a:pt x="10800" y="11001"/>
                  <a:pt x="10800" y="11201"/>
                </a:cubicBezTo>
                <a:lnTo>
                  <a:pt x="10800" y="21199"/>
                </a:lnTo>
                <a:cubicBezTo>
                  <a:pt x="10800" y="214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85c4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175" name="直接箭头连接符 23"/>
          <p:cNvCxnSpPr/>
          <p:nvPr/>
        </p:nvCxnSpPr>
        <p:spPr>
          <a:xfrm>
            <a:off x="5003640" y="5316120"/>
            <a:ext cx="596160" cy="1080"/>
          </a:xfrm>
          <a:prstGeom prst="straightConnector1">
            <a:avLst/>
          </a:prstGeom>
          <a:ln w="38160">
            <a:solidFill>
              <a:srgbClr val="85c4db"/>
            </a:solidFill>
            <a:miter/>
            <a:tailEnd len="med" type="triangle" w="med"/>
          </a:ln>
        </p:spPr>
      </p:cxnSp>
      <p:sp>
        <p:nvSpPr>
          <p:cNvPr id="176" name="左大括号 24"/>
          <p:cNvSpPr/>
          <p:nvPr/>
        </p:nvSpPr>
        <p:spPr>
          <a:xfrm>
            <a:off x="2290680" y="2208240"/>
            <a:ext cx="130320" cy="582480"/>
          </a:xfrm>
          <a:custGeom>
            <a:avLst/>
            <a:gdLst>
              <a:gd name="textAreaLeft" fmla="*/ 83160 w 130320"/>
              <a:gd name="textAreaRight" fmla="*/ 130680 w 130320"/>
              <a:gd name="textAreaTop" fmla="*/ 3240 h 582480"/>
              <a:gd name="textAreaBottom" fmla="*/ 579240 h 58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01"/>
                  <a:pt x="10800" y="402"/>
                </a:cubicBezTo>
                <a:lnTo>
                  <a:pt x="10800" y="10398"/>
                </a:lnTo>
                <a:cubicBezTo>
                  <a:pt x="10800" y="10599"/>
                  <a:pt x="5400" y="10800"/>
                  <a:pt x="0" y="10800"/>
                </a:cubicBezTo>
                <a:cubicBezTo>
                  <a:pt x="5400" y="10800"/>
                  <a:pt x="10800" y="11001"/>
                  <a:pt x="10800" y="11202"/>
                </a:cubicBezTo>
                <a:lnTo>
                  <a:pt x="10800" y="21198"/>
                </a:lnTo>
                <a:cubicBezTo>
                  <a:pt x="10800" y="2139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85c4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左大括号 25"/>
          <p:cNvSpPr/>
          <p:nvPr/>
        </p:nvSpPr>
        <p:spPr>
          <a:xfrm>
            <a:off x="2290680" y="3205080"/>
            <a:ext cx="130320" cy="584280"/>
          </a:xfrm>
          <a:custGeom>
            <a:avLst/>
            <a:gdLst>
              <a:gd name="textAreaLeft" fmla="*/ 83160 w 130320"/>
              <a:gd name="textAreaRight" fmla="*/ 130680 w 130320"/>
              <a:gd name="textAreaTop" fmla="*/ 3240 h 584280"/>
              <a:gd name="textAreaBottom" fmla="*/ 581040 h 58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01"/>
                  <a:pt x="10800" y="401"/>
                </a:cubicBezTo>
                <a:lnTo>
                  <a:pt x="10800" y="10399"/>
                </a:lnTo>
                <a:cubicBezTo>
                  <a:pt x="10800" y="10600"/>
                  <a:pt x="5400" y="10800"/>
                  <a:pt x="0" y="10800"/>
                </a:cubicBezTo>
                <a:cubicBezTo>
                  <a:pt x="5400" y="10800"/>
                  <a:pt x="10800" y="11001"/>
                  <a:pt x="10800" y="11201"/>
                </a:cubicBezTo>
                <a:lnTo>
                  <a:pt x="10800" y="21199"/>
                </a:lnTo>
                <a:cubicBezTo>
                  <a:pt x="10800" y="214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85c4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标题 6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小儿营养素的需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</a:t>
            </a: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第二节</a:t>
            </a:r>
            <a:r>
              <a:rPr b="1" lang="en-US" sz="2800" spc="-1" strike="noStrike">
                <a:solidFill>
                  <a:srgbClr val="03517d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婴儿喂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刘云涛</cp:lastModifiedBy>
  <cp:lastPrinted>1899-12-30T00:00:00Z</cp:lastPrinted>
  <dcterms:modified xsi:type="dcterms:W3CDTF">2015-09-01T09:13:30Z</dcterms:modified>
  <cp:revision>94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