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CBB4-847A-4D38-8F86-E27DDF0538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1585-B8A0-43A6-B194-AA26360F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C1D2-115E-42F7-BCEC-C4945C8D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1BD0-96A9-42ED-8FD6-7275B3942E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EF47-55AF-4EAC-8BBE-F4BC14B6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F73D-18D6-44DB-A20A-5F8FB5B7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AF41-6F2E-4705-90C2-07D9132F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687F-0961-4099-ABC8-822D6E11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1198F-5F38-4494-8C68-F82EDF4A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5A5F-8B5F-49D7-B98A-4BE52635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0B17-9C22-4B5B-A7C4-B84762A2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11A8-2967-482F-AB31-2354CD6E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FEC3-EE89-48CF-9906-C1D810B6D6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济大学大学医学院护理系     贾汝琴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小球肾炎：简称肾炎，是一组病因不一，临床表现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起病，多有前驱感染，表现为血尿、水肿、蛋白尿和高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压，又称急性肾炎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儿童时期绝大多数为急性链球菌感染后肾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本病为儿科最常见的肾小球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组</a:t>
            </a:r>
            <a:r>
              <a:rPr b="1" lang="zh-CN" sz="26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溶血性链球菌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细菌：草绿色链球菌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病毒：柯萨奇病毒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1-1"/>
          <p:cNvPicPr/>
          <p:nvPr/>
        </p:nvPicPr>
        <p:blipFill>
          <a:blip r:embed="rId1"/>
          <a:stretch/>
        </p:blipFill>
        <p:spPr>
          <a:xfrm>
            <a:off x="4800600" y="990720"/>
            <a:ext cx="3664080" cy="5135400"/>
          </a:xfrm>
          <a:prstGeom prst="rect">
            <a:avLst/>
          </a:prstGeom>
          <a:ln w="0">
            <a:noFill/>
          </a:ln>
        </p:spPr>
      </p:pic>
      <p:sp>
        <p:nvSpPr>
          <p:cNvPr id="168" name="右箭头 6"/>
          <p:cNvSpPr/>
          <p:nvPr/>
        </p:nvSpPr>
        <p:spPr>
          <a:xfrm>
            <a:off x="3714840" y="235728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052080" y="100008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血性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000680" y="1428840"/>
            <a:ext cx="0" cy="304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159720" y="17146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复合物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1714320" y="2071800"/>
            <a:ext cx="99036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857840" y="2143080"/>
            <a:ext cx="114300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6280" y="2571840"/>
            <a:ext cx="20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毛细血管内增殖、渗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率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409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膜完整性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929200" y="3071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824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尿、蛋白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785960" y="342900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15240" y="3857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、钠排出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785960" y="428616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071720" y="478620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容量扩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压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856800" y="5572080"/>
            <a:ext cx="428760" cy="4287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919800" y="6000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尿、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2571840" y="5572080"/>
            <a:ext cx="285840" cy="285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738880" y="5715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循环负荷加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7215120" y="3571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圆角矩形 4"/>
          <p:cNvSpPr/>
          <p:nvPr/>
        </p:nvSpPr>
        <p:spPr>
          <a:xfrm>
            <a:off x="285840" y="1428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以“发现血尿、蛋白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伴肾功能异常”入院。患儿入院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无明显诱因下出现眼睑、下肢水肿，伴肉眼血尿，尿色呈浓茶色，半月前有感冒病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28760" y="2857680"/>
            <a:ext cx="8215200" cy="17143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咽红，扁桃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度肿大，化验检查结果：抗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11μmol/m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尿蛋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.08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3 0.36g/L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肌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5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尿常规：尿蛋白＋＋＋，红细胞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935/μ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571680" y="5143680"/>
            <a:ext cx="7072200" cy="642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问题：该患儿的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840" y="1428840"/>
            <a:ext cx="8610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驱感染：呼吸道感染、皮肤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表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：非凹陷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尿：肉眼血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后转为镜下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：程度不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减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右箭头 4"/>
          <p:cNvSpPr/>
          <p:nvPr/>
        </p:nvSpPr>
        <p:spPr>
          <a:xfrm>
            <a:off x="2857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圆角矩形 5"/>
          <p:cNvSpPr/>
          <p:nvPr/>
        </p:nvSpPr>
        <p:spPr>
          <a:xfrm>
            <a:off x="3714840" y="1500120"/>
            <a:ext cx="4929120" cy="2214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发生在起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，出现呼吸困难、端坐呼吸、颈静脉怒张、咳粉红色泡沫痰、两肺满布湿罗音、心脏扩大、奔马律、肝大而硬、水肿加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右箭头 6"/>
          <p:cNvSpPr/>
          <p:nvPr/>
        </p:nvSpPr>
        <p:spPr>
          <a:xfrm>
            <a:off x="2571840" y="400068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7"/>
          <p:cNvSpPr/>
          <p:nvPr/>
        </p:nvSpPr>
        <p:spPr>
          <a:xfrm>
            <a:off x="3429000" y="2928960"/>
            <a:ext cx="5500800" cy="1785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脑血管痉挛。血压可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0~160mmHg/100~11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，年长儿诉剧烈头痛、呕吐、复视、或一过性失明、惊厥、昏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右箭头 8"/>
          <p:cNvSpPr/>
          <p:nvPr/>
        </p:nvSpPr>
        <p:spPr>
          <a:xfrm>
            <a:off x="3071880" y="5286240"/>
            <a:ext cx="571320" cy="7164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9"/>
          <p:cNvSpPr/>
          <p:nvPr/>
        </p:nvSpPr>
        <p:spPr>
          <a:xfrm>
            <a:off x="3857760" y="4786200"/>
            <a:ext cx="4214520" cy="117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、尿闭、暂时性氮质血症、高钾、高磷、低钠、低钙、水潴留、代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典型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急性肾炎：仅有镜下血尿或仅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无其他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外症状性急性肾炎：水肿、高血压明显、但尿改变轻微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肾病综合征为表现的急性肾炎：以急性肾炎起病，但水肿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突出，伴轻度高胆固醇血症和低蛋白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9EC9-A8B5-4D09-9E91-6C6B25B70E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~++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红细胞、管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常规检查：轻度贫血、血沉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补体测定：总补体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及肾功能：明显少尿时短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U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肌酐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807F-6524-4106-AC97-A6FEFE0C89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特异治疗方法主要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处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除残留感染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止急性期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护肾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A061-4153-40B5-8010-3E3B6C0E63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501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右箭头 4"/>
          <p:cNvSpPr/>
          <p:nvPr/>
        </p:nvSpPr>
        <p:spPr>
          <a:xfrm>
            <a:off x="1643040" y="185724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2643120" y="1000080"/>
            <a:ext cx="5357880" cy="2500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，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沉正常可上学，但避免重体力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右箭头 6"/>
          <p:cNvSpPr/>
          <p:nvPr/>
        </p:nvSpPr>
        <p:spPr>
          <a:xfrm>
            <a:off x="1714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7"/>
          <p:cNvSpPr/>
          <p:nvPr/>
        </p:nvSpPr>
        <p:spPr>
          <a:xfrm>
            <a:off x="2571840" y="1714680"/>
            <a:ext cx="4643280" cy="1928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盐饮食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1g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需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分一般不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限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右箭头 8"/>
          <p:cNvSpPr/>
          <p:nvPr/>
        </p:nvSpPr>
        <p:spPr>
          <a:xfrm>
            <a:off x="2071800" y="335772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9"/>
          <p:cNvSpPr/>
          <p:nvPr/>
        </p:nvSpPr>
        <p:spPr>
          <a:xfrm>
            <a:off x="2786040" y="292896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感染灶时青霉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-1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右箭头 10"/>
          <p:cNvSpPr/>
          <p:nvPr/>
        </p:nvSpPr>
        <p:spPr>
          <a:xfrm>
            <a:off x="2357280" y="407196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圆角矩形 11"/>
          <p:cNvSpPr/>
          <p:nvPr/>
        </p:nvSpPr>
        <p:spPr>
          <a:xfrm>
            <a:off x="3000240" y="3214800"/>
            <a:ext cx="5929560" cy="1714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经控制水、盐入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仍水肿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经休息、控制水盐、利尿而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仍高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右箭头 12"/>
          <p:cNvSpPr/>
          <p:nvPr/>
        </p:nvSpPr>
        <p:spPr>
          <a:xfrm>
            <a:off x="4000680" y="485784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圆角矩形 13"/>
          <p:cNvSpPr/>
          <p:nvPr/>
        </p:nvSpPr>
        <p:spPr>
          <a:xfrm>
            <a:off x="4857840" y="4000680"/>
            <a:ext cx="3929040" cy="2143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纠正水钠潴留，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肺水肿加用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难治病例血液净化或透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3692-8790-43CA-88E3-3DE532DC54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000" y="1499760"/>
            <a:ext cx="7816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肾衰竭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右箭头 8"/>
          <p:cNvSpPr/>
          <p:nvPr/>
        </p:nvSpPr>
        <p:spPr>
          <a:xfrm>
            <a:off x="3786120" y="1928880"/>
            <a:ext cx="71460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4572000" y="1143000"/>
            <a:ext cx="3857760" cy="1714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止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水、供氧（脑水肿者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右箭头 10"/>
          <p:cNvSpPr/>
          <p:nvPr/>
        </p:nvSpPr>
        <p:spPr>
          <a:xfrm>
            <a:off x="4786200" y="4071960"/>
            <a:ext cx="50004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5357880" y="3071880"/>
            <a:ext cx="3143160" cy="278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水电解质平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水过多、高钾、低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透析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2897-AAD4-4023-8E87-EB1887F949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642960" y="1500120"/>
            <a:ext cx="7500960" cy="4071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患儿以急性肾小球肾炎收住入院，入院后仍有血压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眼睑水肿，咽红，扁桃体大，蛋白尿、血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观察该患儿的病情变化及应采取的护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2C57-2E54-46FE-9B4C-50AF1917CA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9332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体液过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肾小球率过滤下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水肿、血压升高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、严重循环充血、急性肾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知识缺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及家长缺乏本病的护理知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0411-6508-47DA-B3C2-B227A40E90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4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8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1624320" y="150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252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253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6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9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260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261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26"/>
            <p:cNvSpPr/>
            <p:nvPr/>
          </p:nvSpPr>
          <p:spPr>
            <a:xfrm>
              <a:off x="2296800" y="32860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利尿、降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7" name="Group 28"/>
          <p:cNvGrpSpPr/>
          <p:nvPr/>
        </p:nvGrpSpPr>
        <p:grpSpPr>
          <a:xfrm>
            <a:off x="357120" y="4143240"/>
            <a:ext cx="3105000" cy="780840"/>
            <a:chOff x="357120" y="4143240"/>
            <a:chExt cx="3105000" cy="780840"/>
          </a:xfrm>
        </p:grpSpPr>
        <p:grpSp>
          <p:nvGrpSpPr>
            <p:cNvPr id="268" name="Group 29"/>
            <p:cNvGrpSpPr/>
            <p:nvPr/>
          </p:nvGrpSpPr>
          <p:grpSpPr>
            <a:xfrm>
              <a:off x="357120" y="4143240"/>
              <a:ext cx="821160" cy="780840"/>
              <a:chOff x="357120" y="4143240"/>
              <a:chExt cx="821160" cy="780840"/>
            </a:xfrm>
          </p:grpSpPr>
          <p:sp>
            <p:nvSpPr>
              <p:cNvPr id="269" name="AutoShape 30"/>
              <p:cNvSpPr/>
              <p:nvPr/>
            </p:nvSpPr>
            <p:spPr>
              <a:xfrm>
                <a:off x="363960" y="415656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31"/>
              <p:cNvSpPr/>
              <p:nvPr/>
            </p:nvSpPr>
            <p:spPr>
              <a:xfrm>
                <a:off x="357120" y="414324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32"/>
              <p:cNvSpPr/>
              <p:nvPr/>
            </p:nvSpPr>
            <p:spPr>
              <a:xfrm>
                <a:off x="404640" y="418932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2" name="Line 33"/>
            <p:cNvSpPr/>
            <p:nvPr/>
          </p:nvSpPr>
          <p:spPr>
            <a:xfrm>
              <a:off x="978120" y="481968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34"/>
            <p:cNvSpPr/>
            <p:nvPr/>
          </p:nvSpPr>
          <p:spPr>
            <a:xfrm>
              <a:off x="1485000" y="420264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35"/>
            <p:cNvSpPr/>
            <p:nvPr/>
          </p:nvSpPr>
          <p:spPr>
            <a:xfrm>
              <a:off x="570960" y="42868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28760" y="5286240"/>
            <a:ext cx="2879640" cy="665280"/>
            <a:chOff x="428760" y="5286240"/>
            <a:chExt cx="2879640" cy="665280"/>
          </a:xfrm>
        </p:grpSpPr>
        <p:grpSp>
          <p:nvGrpSpPr>
            <p:cNvPr id="276" name="Group 37"/>
            <p:cNvGrpSpPr/>
            <p:nvPr/>
          </p:nvGrpSpPr>
          <p:grpSpPr>
            <a:xfrm>
              <a:off x="428760" y="5286240"/>
              <a:ext cx="761400" cy="665280"/>
              <a:chOff x="428760" y="5286240"/>
              <a:chExt cx="761400" cy="665280"/>
            </a:xfrm>
          </p:grpSpPr>
          <p:sp>
            <p:nvSpPr>
              <p:cNvPr id="277" name="AutoShape 38"/>
              <p:cNvSpPr/>
              <p:nvPr/>
            </p:nvSpPr>
            <p:spPr>
              <a:xfrm>
                <a:off x="434880" y="52974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9"/>
              <p:cNvSpPr/>
              <p:nvPr/>
            </p:nvSpPr>
            <p:spPr>
              <a:xfrm>
                <a:off x="428760" y="5286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40"/>
              <p:cNvSpPr/>
              <p:nvPr/>
            </p:nvSpPr>
            <p:spPr>
              <a:xfrm>
                <a:off x="473040" y="53258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0" name="Line 41"/>
            <p:cNvSpPr/>
            <p:nvPr/>
          </p:nvSpPr>
          <p:spPr>
            <a:xfrm>
              <a:off x="1004760" y="58626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1474920" y="535788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613080" y="533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3" name="矩形 55"/>
          <p:cNvSpPr/>
          <p:nvPr/>
        </p:nvSpPr>
        <p:spPr>
          <a:xfrm>
            <a:off x="1285920" y="4286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6"/>
          <p:cNvSpPr/>
          <p:nvPr/>
        </p:nvSpPr>
        <p:spPr>
          <a:xfrm>
            <a:off x="1428840" y="5286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右箭头 45"/>
          <p:cNvSpPr/>
          <p:nvPr/>
        </p:nvSpPr>
        <p:spPr>
          <a:xfrm>
            <a:off x="271476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圆角矩形 46"/>
          <p:cNvSpPr/>
          <p:nvPr/>
        </p:nvSpPr>
        <p:spPr>
          <a:xfrm>
            <a:off x="3571920" y="857160"/>
            <a:ext cx="5357880" cy="3714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内红细胞减少，血沉正常可上学，但避免体育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圆角矩形 49"/>
          <p:cNvSpPr/>
          <p:nvPr/>
        </p:nvSpPr>
        <p:spPr>
          <a:xfrm>
            <a:off x="3571920" y="714240"/>
            <a:ext cx="5572080" cy="4786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水肿期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低盐饮食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&lt;1g/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严重水肿高血压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期限制蛋白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0.5g/kg.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糖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增加、水肿消退、血压正常，恢复正常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右箭头 50"/>
          <p:cNvSpPr/>
          <p:nvPr/>
        </p:nvSpPr>
        <p:spPr>
          <a:xfrm>
            <a:off x="3429000" y="350028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3786120" y="3000240"/>
            <a:ext cx="5000760" cy="1714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利尿剂观察体重、尿量、水肿变化、有无脱水、电解质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硝普钠现配现用、避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右箭头 52"/>
          <p:cNvSpPr/>
          <p:nvPr/>
        </p:nvSpPr>
        <p:spPr>
          <a:xfrm>
            <a:off x="3786120" y="4572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矩形 53"/>
          <p:cNvSpPr/>
          <p:nvPr/>
        </p:nvSpPr>
        <p:spPr>
          <a:xfrm>
            <a:off x="4500720" y="2786040"/>
            <a:ext cx="4357440" cy="35719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尿量、尿色、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周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血压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呼吸、心率、脉搏，警惕循环充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右箭头 54"/>
          <p:cNvSpPr/>
          <p:nvPr/>
        </p:nvSpPr>
        <p:spPr>
          <a:xfrm>
            <a:off x="300024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矩形 56"/>
          <p:cNvSpPr/>
          <p:nvPr/>
        </p:nvSpPr>
        <p:spPr>
          <a:xfrm>
            <a:off x="3714840" y="3643200"/>
            <a:ext cx="4500360" cy="2786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强调限制活动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本病绝大多数预后良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院后遵医嘱及时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锻炼身体、增强体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85560"/>
            <a:ext cx="9144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患病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有无呼吸道感染或皮肤感染史，目前有无发热、乏力、头痛及食欲下降等全身症状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水肿者了解水肿开始的时间、持续时间、发生部位、发展顺序及程度等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了解患儿每天的排尿次数、尿量、尿色及有无泡沫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以前是否治疗，治疗情况及目前是否用药、用药情况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288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体温、呼吸、脉搏、血压及体重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及是否为凹陷型，有无颈静脉怒张及肝大，肺部有无啰音，心率是否增快，有无奔马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析实验室检查结果，注意有无血尿、蛋白尿；有无血补体下降及抗链球菌溶血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高，血尿素氮、肌酐有无升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患儿及家长的心态及对本病的认识程度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患儿来自疾病、治疗，饮食限制的压力、因父母的情绪等来自家庭的压力以及因疾病中断了学习的压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家长及患儿有无因缺乏对本病的认识，担心转为慢性肾炎甚至尿毒症而产生焦虑、恐惧等心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入院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无明显诱因下出现眼睑、下肢水肿，伴肉眼血尿，半月前有感冒病史；查体：咽红，扁桃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肿大，化验检查结果：抗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11μmol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08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30.36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15μ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尿常规：尿蛋白＋＋＋，尿沉渣红细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935/μ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  与水肿、高血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高血压脑病、严重循环充血、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F521-2601-42BC-B5B0-9FD00A228F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列出各年龄段小儿正常尿量、少尿及无尿的判断标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描述急性肾小球肾炎、原发性肾病综合征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说出急性肾小球肾炎、原发性肾病综合征的治疗原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说出小儿泌尿系统的解剖生理特点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解释急性肾小球肾炎、原发性肾病综合征的病因及发病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评估并制订急性肾小球肾炎患儿的护理计划，指导患儿或家长急性期如何休息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   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评估并制订原发性肾病综合征患儿的护理计划，指导家长和（或）患儿出院后的用药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D0BE-FFBC-41F1-8CD9-92A389577A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息、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：低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医嘱利尿、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尿量、尿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每日测体重，每周留尿标本送尿常规检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血压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密切观察呼吸、心率、脉搏等变化：警惕严重循环充血的发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病综合征：简称肾病，是一组多种原因引起的肾小球基底膜通透性增加，导致血浆内大量蛋白质从尿中丢失的临床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病率仅次于急性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为学龄前儿童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发病高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女比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~3.7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584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病因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左大括号 4"/>
          <p:cNvSpPr/>
          <p:nvPr/>
        </p:nvSpPr>
        <p:spPr>
          <a:xfrm>
            <a:off x="2428920" y="2786040"/>
            <a:ext cx="642960" cy="19288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1928880"/>
              <a:gd name="textAreaBottom" fmla="*/ 19123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矩形 8"/>
          <p:cNvSpPr/>
          <p:nvPr/>
        </p:nvSpPr>
        <p:spPr>
          <a:xfrm>
            <a:off x="3143160" y="2571840"/>
            <a:ext cx="17859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3143160" y="25729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继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3143160" y="4500720"/>
            <a:ext cx="178596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天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及发病机制目前尚不清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小球毛细血管结构或电荷的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微小病变型局部免疫病理过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损伤滤过膜正常屏障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微小病变型滤过膜静电屏障损伤可能与细胞免疫失调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T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细胞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56760" y="1285560"/>
            <a:ext cx="8610840" cy="5033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428760" y="1785960"/>
            <a:ext cx="2857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小球基底膜通透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下箭头 7"/>
          <p:cNvSpPr/>
          <p:nvPr/>
        </p:nvSpPr>
        <p:spPr>
          <a:xfrm>
            <a:off x="1785960" y="2428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857160" y="2714760"/>
            <a:ext cx="1714680" cy="42840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下箭头 9"/>
          <p:cNvSpPr/>
          <p:nvPr/>
        </p:nvSpPr>
        <p:spPr>
          <a:xfrm>
            <a:off x="1785960" y="3214800"/>
            <a:ext cx="71280" cy="2142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857160" y="3643200"/>
            <a:ext cx="1643040" cy="42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低蛋白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下箭头 12"/>
          <p:cNvSpPr/>
          <p:nvPr/>
        </p:nvSpPr>
        <p:spPr>
          <a:xfrm>
            <a:off x="1643040" y="421488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500040" y="4500720"/>
            <a:ext cx="235764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肝合成脂蛋白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下箭头 14"/>
          <p:cNvSpPr/>
          <p:nvPr/>
        </p:nvSpPr>
        <p:spPr>
          <a:xfrm>
            <a:off x="1643040" y="5000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857160" y="5286240"/>
            <a:ext cx="1785960" cy="428760"/>
          </a:xfrm>
          <a:prstGeom prst="rect">
            <a:avLst/>
          </a:prstGeom>
          <a:solidFill>
            <a:srgbClr val="ebe0eb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高脂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右箭头 16"/>
          <p:cNvSpPr/>
          <p:nvPr/>
        </p:nvSpPr>
        <p:spPr>
          <a:xfrm flipV="1">
            <a:off x="2571840" y="371412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左大括号 17"/>
          <p:cNvSpPr/>
          <p:nvPr/>
        </p:nvSpPr>
        <p:spPr>
          <a:xfrm>
            <a:off x="3786120" y="2428920"/>
            <a:ext cx="285840" cy="2714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714760"/>
              <a:gd name="textAreaBottom" fmla="*/ 270756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4143240" y="2143080"/>
            <a:ext cx="1857600" cy="42876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胶体渗透压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4286160" y="3214800"/>
            <a:ext cx="1571760" cy="35712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血容量减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下箭头 20"/>
          <p:cNvSpPr/>
          <p:nvPr/>
        </p:nvSpPr>
        <p:spPr>
          <a:xfrm>
            <a:off x="5072040" y="278604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右箭头 21"/>
          <p:cNvSpPr/>
          <p:nvPr/>
        </p:nvSpPr>
        <p:spPr>
          <a:xfrm>
            <a:off x="5857920" y="335772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矩形 22"/>
          <p:cNvSpPr/>
          <p:nvPr/>
        </p:nvSpPr>
        <p:spPr>
          <a:xfrm>
            <a:off x="6215040" y="2714760"/>
            <a:ext cx="17859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抗利尿激素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醛固酮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49" name="直接箭头连接符 32"/>
          <p:cNvCxnSpPr/>
          <p:nvPr/>
        </p:nvCxnSpPr>
        <p:spPr>
          <a:xfrm>
            <a:off x="5429160" y="3643200"/>
            <a:ext cx="929520" cy="929520"/>
          </a:xfrm>
          <a:prstGeom prst="straightConnector1">
            <a:avLst/>
          </a:prstGeom>
          <a:ln w="6336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0" name="矩形 35"/>
          <p:cNvSpPr/>
          <p:nvPr/>
        </p:nvSpPr>
        <p:spPr>
          <a:xfrm>
            <a:off x="6429240" y="4143240"/>
            <a:ext cx="228600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交感神经兴奋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矩形 37"/>
          <p:cNvSpPr/>
          <p:nvPr/>
        </p:nvSpPr>
        <p:spPr>
          <a:xfrm>
            <a:off x="4143240" y="4714920"/>
            <a:ext cx="1857600" cy="100008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些肾内因子改变了管周体液平衡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右箭头 38"/>
          <p:cNvSpPr/>
          <p:nvPr/>
        </p:nvSpPr>
        <p:spPr>
          <a:xfrm>
            <a:off x="6143760" y="5143680"/>
            <a:ext cx="3571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矩形 39"/>
          <p:cNvSpPr/>
          <p:nvPr/>
        </p:nvSpPr>
        <p:spPr>
          <a:xfrm>
            <a:off x="6572160" y="4929120"/>
            <a:ext cx="150012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近曲小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吸收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矩形 41"/>
          <p:cNvSpPr/>
          <p:nvPr/>
        </p:nvSpPr>
        <p:spPr>
          <a:xfrm>
            <a:off x="6572160" y="207180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液体留在间质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55" name="直接箭头连接符 43"/>
          <p:cNvCxnSpPr/>
          <p:nvPr/>
        </p:nvCxnSpPr>
        <p:spPr>
          <a:xfrm flipV="1">
            <a:off x="6071760" y="2285640"/>
            <a:ext cx="429480" cy="7200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6" name="矩形 47"/>
          <p:cNvSpPr/>
          <p:nvPr/>
        </p:nvSpPr>
        <p:spPr>
          <a:xfrm>
            <a:off x="7858080" y="5715000"/>
            <a:ext cx="1071720" cy="571680"/>
          </a:xfrm>
          <a:prstGeom prst="rect">
            <a:avLst/>
          </a:prstGeom>
          <a:solidFill>
            <a:srgbClr val="70c9fc"/>
          </a:solidFill>
          <a:ln w="25560">
            <a:solidFill>
              <a:srgbClr val="70c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下箭头 49"/>
          <p:cNvSpPr/>
          <p:nvPr/>
        </p:nvSpPr>
        <p:spPr>
          <a:xfrm flipH="1">
            <a:off x="8786880" y="1928880"/>
            <a:ext cx="71280" cy="3643200"/>
          </a:xfrm>
          <a:prstGeom prst="downArrow">
            <a:avLst>
              <a:gd name="adj1" fmla="val 50000"/>
              <a:gd name="adj2" fmla="val 50165"/>
            </a:avLst>
          </a:prstGeom>
          <a:solidFill>
            <a:srgbClr val="002060"/>
          </a:solidFill>
          <a:ln w="2556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圆角矩形 3"/>
          <p:cNvSpPr/>
          <p:nvPr/>
        </p:nvSpPr>
        <p:spPr>
          <a:xfrm>
            <a:off x="428760" y="857160"/>
            <a:ext cx="7858080" cy="3071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因“反复水肿，蛋白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余，咳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”入院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无明显诱因出现双眼睑、腹部及双下肢水肿，伴泡沫尿，尿量减少。检查尿蛋白＋＋～＋＋＋，血白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.2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总胆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.40mmol/L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示腹水中等量，中上后腹膜积液，双肾增大。上感后查尿蛋白＋＋ ～＋＋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428760" y="407196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9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身高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9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6.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眼睑水肿，双下肢水肿，颈软，咽稍红，双侧扁桃体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度大，腹软，无压痛，肝脾肋下未及，肾区无叩击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剪去单角的矩形 6"/>
          <p:cNvSpPr/>
          <p:nvPr/>
        </p:nvSpPr>
        <p:spPr>
          <a:xfrm>
            <a:off x="500040" y="592920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，呈凹陷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孩可有阴囊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者腹腔积液、胸腔积液，伴尿量减少，颜色变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" name="Picture 2" descr="ns4"/>
          <p:cNvPicPr/>
          <p:nvPr/>
        </p:nvPicPr>
        <p:blipFill>
          <a:blip r:embed="rId1"/>
          <a:srcRect l="28740" t="44665" r="25226" b="21279"/>
          <a:stretch/>
        </p:blipFill>
        <p:spPr>
          <a:xfrm>
            <a:off x="428760" y="1857240"/>
            <a:ext cx="376524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ns5"/>
          <p:cNvPicPr/>
          <p:nvPr/>
        </p:nvPicPr>
        <p:blipFill>
          <a:blip r:embed="rId2"/>
          <a:srcRect l="22864" t="33769" r="18076" b="20780"/>
          <a:stretch/>
        </p:blipFill>
        <p:spPr>
          <a:xfrm>
            <a:off x="4786200" y="1857240"/>
            <a:ext cx="3602160" cy="389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4029120" y="121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凹陷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3" name="Picture 5" descr="IMGP1921"/>
          <p:cNvPicPr/>
          <p:nvPr/>
        </p:nvPicPr>
        <p:blipFill>
          <a:blip r:embed="rId1"/>
          <a:srcRect l="8818" t="0" r="38275" b="30065"/>
          <a:stretch/>
        </p:blipFill>
        <p:spPr>
          <a:xfrm>
            <a:off x="2714760" y="2139840"/>
            <a:ext cx="4206600" cy="4170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323600" y="14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囊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CA01-2BFD-4ECE-9B13-DD46AFA5B1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剖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膀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尿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3857760" y="2071800"/>
            <a:ext cx="4214520" cy="1428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龄越小，肾相对越重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以内健康儿童腹部触诊时容易扪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右箭头 5"/>
          <p:cNvSpPr/>
          <p:nvPr/>
        </p:nvSpPr>
        <p:spPr>
          <a:xfrm>
            <a:off x="2500200" y="271476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右箭头 6"/>
          <p:cNvSpPr/>
          <p:nvPr/>
        </p:nvSpPr>
        <p:spPr>
          <a:xfrm>
            <a:off x="2786040" y="3286080"/>
            <a:ext cx="100008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4000680" y="2357280"/>
            <a:ext cx="4286160" cy="200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而弯曲，管壁肌肉和弹力纤维发育不良，容易受压及扭曲而导致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右箭头 8"/>
          <p:cNvSpPr/>
          <p:nvPr/>
        </p:nvSpPr>
        <p:spPr>
          <a:xfrm>
            <a:off x="2786040" y="4000680"/>
            <a:ext cx="100008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圆角矩形 9"/>
          <p:cNvSpPr/>
          <p:nvPr/>
        </p:nvSpPr>
        <p:spPr>
          <a:xfrm>
            <a:off x="4000680" y="3286080"/>
            <a:ext cx="4500360" cy="1643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膀胱位置较年长儿高，尿液充盈时，可于腹部扪及，随年龄增长逐渐下降至盆腔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右箭头 10"/>
          <p:cNvSpPr/>
          <p:nvPr/>
        </p:nvSpPr>
        <p:spPr>
          <a:xfrm>
            <a:off x="2714760" y="4643280"/>
            <a:ext cx="107136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1"/>
          <p:cNvSpPr/>
          <p:nvPr/>
        </p:nvSpPr>
        <p:spPr>
          <a:xfrm>
            <a:off x="4071960" y="3714840"/>
            <a:ext cx="4572000" cy="1643040"/>
          </a:xfrm>
          <a:prstGeom prst="roundRect">
            <a:avLst>
              <a:gd name="adj" fmla="val 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婴尿道较短，外口暴露且接近肛门，易发生上行性感染。男婴常有包茎或包皮过长，污垢积聚时易引起上行性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感染：最常见的并发症，主要死亡原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呼吸道、皮肤、泌尿道、原发性腹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解质紊乱和低血容量：低钠、低钾、低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凝状态和血栓形成：肾静脉血栓最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股动脉血栓是急症之一，肺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延迟：主要见于频繁复发和长期接受大剂量激素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尿液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+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定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蛋白定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mg/(kg·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总蛋白、白蛋白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球比例倒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固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.7mmol/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炎性肾病血补体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休息：一般不需卧床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：水肿时限盐，供给优质蛋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治感染：预防接种在病情完全缓解且停用激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一般不需利尿，激素耐药或水肿较重伴尿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诱导缓解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足量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60mg/d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分三次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后巩固两周，不少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巩固维持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隔日晨顿服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再逐渐减量，直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中疗程，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9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长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频繁复发、激素耐药、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环磷酰胺、环孢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苯丁酸氮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素钠、尿激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调节剂、血管紧张素转换酶抑制剂、中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圆角矩形 3"/>
          <p:cNvSpPr/>
          <p:nvPr/>
        </p:nvSpPr>
        <p:spPr>
          <a:xfrm>
            <a:off x="928800" y="1785960"/>
            <a:ext cx="69562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该患儿以原发性肾病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收住入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入院后有水肿，咽红、蛋白尿、低蛋白血症、高脂血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如何观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病情变化及应采取的护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低蛋白血症导致水钠潴留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营养失调：低于机体需要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大量蛋白质自尿中丢失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免疫力低下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电解质紊乱、血栓形成、药物副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焦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与病情反复及病程长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3465-0ECA-4439-BB8C-1C9B408566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99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400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10"/>
            <p:cNvSpPr/>
            <p:nvPr/>
          </p:nvSpPr>
          <p:spPr>
            <a:xfrm>
              <a:off x="1582200" y="15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适当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6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407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408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整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415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416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Text Box 26"/>
            <p:cNvSpPr/>
            <p:nvPr/>
          </p:nvSpPr>
          <p:spPr>
            <a:xfrm>
              <a:off x="1771200" y="3286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2" name="Group 28"/>
          <p:cNvGrpSpPr/>
          <p:nvPr/>
        </p:nvGrpSpPr>
        <p:grpSpPr>
          <a:xfrm>
            <a:off x="357120" y="4286160"/>
            <a:ext cx="3105000" cy="780840"/>
            <a:chOff x="357120" y="4286160"/>
            <a:chExt cx="3105000" cy="780840"/>
          </a:xfrm>
        </p:grpSpPr>
        <p:grpSp>
          <p:nvGrpSpPr>
            <p:cNvPr id="423" name="Group 29"/>
            <p:cNvGrpSpPr/>
            <p:nvPr/>
          </p:nvGrpSpPr>
          <p:grpSpPr>
            <a:xfrm>
              <a:off x="357120" y="4286160"/>
              <a:ext cx="821160" cy="780840"/>
              <a:chOff x="357120" y="4286160"/>
              <a:chExt cx="821160" cy="78084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363960" y="429948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" name="AutoShape 31"/>
              <p:cNvSpPr/>
              <p:nvPr/>
            </p:nvSpPr>
            <p:spPr>
              <a:xfrm>
                <a:off x="357120" y="428616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32"/>
              <p:cNvSpPr/>
              <p:nvPr/>
            </p:nvSpPr>
            <p:spPr>
              <a:xfrm>
                <a:off x="404640" y="433224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" name="Line 33"/>
            <p:cNvSpPr/>
            <p:nvPr/>
          </p:nvSpPr>
          <p:spPr>
            <a:xfrm>
              <a:off x="978120" y="496260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1485000" y="434556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570960" y="4429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0" name="Group 36"/>
          <p:cNvGrpSpPr/>
          <p:nvPr/>
        </p:nvGrpSpPr>
        <p:grpSpPr>
          <a:xfrm>
            <a:off x="428760" y="5500800"/>
            <a:ext cx="2879640" cy="664920"/>
            <a:chOff x="428760" y="5500800"/>
            <a:chExt cx="2879640" cy="664920"/>
          </a:xfrm>
        </p:grpSpPr>
        <p:grpSp>
          <p:nvGrpSpPr>
            <p:cNvPr id="431" name="Group 37"/>
            <p:cNvGrpSpPr/>
            <p:nvPr/>
          </p:nvGrpSpPr>
          <p:grpSpPr>
            <a:xfrm>
              <a:off x="428760" y="5500800"/>
              <a:ext cx="761400" cy="664920"/>
              <a:chOff x="428760" y="5500800"/>
              <a:chExt cx="761400" cy="664920"/>
            </a:xfrm>
          </p:grpSpPr>
          <p:sp>
            <p:nvSpPr>
              <p:cNvPr id="432" name="AutoShape 38"/>
              <p:cNvSpPr/>
              <p:nvPr/>
            </p:nvSpPr>
            <p:spPr>
              <a:xfrm>
                <a:off x="434880" y="5511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AutoShape 39"/>
              <p:cNvSpPr/>
              <p:nvPr/>
            </p:nvSpPr>
            <p:spPr>
              <a:xfrm>
                <a:off x="428760" y="5500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AutoShape 40"/>
              <p:cNvSpPr/>
              <p:nvPr/>
            </p:nvSpPr>
            <p:spPr>
              <a:xfrm>
                <a:off x="473040" y="5540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>
              <a:off x="1004760" y="6076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1474920" y="557208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613080" y="55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8" name="矩形 55"/>
          <p:cNvSpPr/>
          <p:nvPr/>
        </p:nvSpPr>
        <p:spPr>
          <a:xfrm>
            <a:off x="1214280" y="400068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6"/>
          <p:cNvSpPr/>
          <p:nvPr/>
        </p:nvSpPr>
        <p:spPr>
          <a:xfrm>
            <a:off x="1214280" y="51436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支持及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右箭头 45"/>
          <p:cNvSpPr/>
          <p:nvPr/>
        </p:nvSpPr>
        <p:spPr>
          <a:xfrm>
            <a:off x="285768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2" name="右箭头 50"/>
          <p:cNvSpPr/>
          <p:nvPr/>
        </p:nvSpPr>
        <p:spPr>
          <a:xfrm>
            <a:off x="3143160" y="3500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矩形 55"/>
          <p:cNvSpPr/>
          <p:nvPr/>
        </p:nvSpPr>
        <p:spPr>
          <a:xfrm>
            <a:off x="3786120" y="1071720"/>
            <a:ext cx="4857840" cy="2286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时须卧床休息，但应经常更换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病活动期应休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4" name="矩形 60"/>
          <p:cNvSpPr/>
          <p:nvPr/>
        </p:nvSpPr>
        <p:spPr>
          <a:xfrm>
            <a:off x="3714840" y="1000080"/>
            <a:ext cx="5143320" cy="4857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，避免到人多的公共场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保护性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会阴部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避免肌内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体温、血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右箭头 52"/>
          <p:cNvSpPr/>
          <p:nvPr/>
        </p:nvSpPr>
        <p:spPr>
          <a:xfrm>
            <a:off x="3643200" y="4357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矩形 61"/>
          <p:cNvSpPr/>
          <p:nvPr/>
        </p:nvSpPr>
        <p:spPr>
          <a:xfrm>
            <a:off x="4357800" y="1928880"/>
            <a:ext cx="4572000" cy="4500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激素：注意尿量、尿蛋白变化，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无高血压、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剂：观察尿量、体重变化，查电解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有无白细胞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脱发、出血性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肝素监测凝血时间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矩形 62"/>
          <p:cNvSpPr/>
          <p:nvPr/>
        </p:nvSpPr>
        <p:spPr>
          <a:xfrm>
            <a:off x="3929040" y="3357720"/>
            <a:ext cx="4929120" cy="3214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交谈，鼓励表达内心感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激素治疗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会用试纸监测尿蛋白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右箭头 54"/>
          <p:cNvSpPr/>
          <p:nvPr/>
        </p:nvSpPr>
        <p:spPr>
          <a:xfrm>
            <a:off x="321480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59"/>
          <p:cNvSpPr/>
          <p:nvPr/>
        </p:nvSpPr>
        <p:spPr>
          <a:xfrm>
            <a:off x="3643200" y="1000080"/>
            <a:ext cx="5286600" cy="5357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需特别限制饮食，易消化、优质蛋白、少量脂肪、足量碳水化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期间限制蛋白质摄入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1.8g/kg.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尿蛋白转阴后长期激素治疗期间应多补充蛋白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植物性脂肪为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水肿、严重高血压应短期限制水、钠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期激素治疗，应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钙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起病的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无感染及劳累等诱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肿发生的时间、部位及程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尿量及尿色的变化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目前的一般状态，尤其血压、腹围、体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，是否为凹陷性水肿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析尿常规检查，尿蛋白情况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定量，血浆总蛋白及白蛋白，白、球比例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A/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是否倒置，胆固醇、血清补体、血尿素氮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肾虽具备大部分成人肾的功能，但其发育由未成熟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渐趋向成熟，一般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接近成人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4F54-D333-4ECC-B8CF-30A0EB554D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7640" y="1213920"/>
            <a:ext cx="8878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本病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疾病和治疗对活动及饮食限制对患儿产生的压力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长儿长期住院中断了日常与同伴的交往，耽误学习，产生孤独、紧张、焦虑等心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患儿对应用糖皮质激素引起形象改变的心理反应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病病程长，易复发，家长担心患儿将来的健康而产生抑郁、焦虑等心理，对复发患儿了解其对长期治疗的态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85840" y="121428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原发性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反复水肿，蛋白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余，咳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患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前无明显诱因出现双眼睑、腹部及双下肢水肿，伴泡沫尿，尿量减少。查体：眼睑水肿，双下肢水肿，咽稍红。化验检查结果：血红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9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三酰甘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2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胆固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6.97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低密度脂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.7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96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尿蛋白＋＋＋＋。腹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超示腹水中等量，中上后腹膜积液，双肾增大，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56840"/>
            <a:ext cx="8624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  与大量蛋白尿自尿中丢失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感染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电解质紊乱、血栓形成、药物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92E0-C60A-4AFA-91CD-C65938CEBD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整饮食：易消化饮食，优质蛋白，少量脂肪，足量碳水化合物及高维生素饮食，蛋白质限制。补充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适量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避免到人多的公共场所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保护性隔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加强皮肤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会阴部清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监测体温、血象等，及时发现感染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56760" y="142884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药物疗效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激素治疗期间注意每日尿量、尿蛋白变化及血浆蛋白恢复等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观察激素的副作用，如库欣综合征、高血压、骨质疏松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遵医嘱及时补充维生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及钙质，以免发生手足搐搦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应注意观察尿量、体重变化，定期查血钾、血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 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：是指病原体直接侵入尿路，在尿液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病原体侵犯部位不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有无临床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左大括号 4"/>
          <p:cNvSpPr/>
          <p:nvPr/>
        </p:nvSpPr>
        <p:spPr>
          <a:xfrm>
            <a:off x="3929040" y="1643040"/>
            <a:ext cx="428760" cy="2428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28920"/>
              <a:gd name="textAreaBottom" fmla="*/ 24177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矩形 5"/>
          <p:cNvSpPr/>
          <p:nvPr/>
        </p:nvSpPr>
        <p:spPr>
          <a:xfrm>
            <a:off x="4429080" y="1428840"/>
            <a:ext cx="15717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盂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4357800" y="2643120"/>
            <a:ext cx="157140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矩形 7"/>
          <p:cNvSpPr/>
          <p:nvPr/>
        </p:nvSpPr>
        <p:spPr>
          <a:xfrm>
            <a:off x="4429080" y="3857760"/>
            <a:ext cx="15001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道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右箭头 8"/>
          <p:cNvSpPr/>
          <p:nvPr/>
        </p:nvSpPr>
        <p:spPr>
          <a:xfrm>
            <a:off x="6143760" y="164304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圆角矩形 10"/>
          <p:cNvSpPr/>
          <p:nvPr/>
        </p:nvSpPr>
        <p:spPr>
          <a:xfrm>
            <a:off x="657216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右大括号 11"/>
          <p:cNvSpPr/>
          <p:nvPr/>
        </p:nvSpPr>
        <p:spPr>
          <a:xfrm>
            <a:off x="6072120" y="2857680"/>
            <a:ext cx="214560" cy="128556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285560"/>
              <a:gd name="textAreaBottom" fmla="*/ 128016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圆角矩形 12"/>
          <p:cNvSpPr/>
          <p:nvPr/>
        </p:nvSpPr>
        <p:spPr>
          <a:xfrm>
            <a:off x="6429240" y="314316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左大括号 13"/>
          <p:cNvSpPr/>
          <p:nvPr/>
        </p:nvSpPr>
        <p:spPr>
          <a:xfrm>
            <a:off x="3286080" y="5072040"/>
            <a:ext cx="357120" cy="928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圆角矩形 14"/>
          <p:cNvSpPr/>
          <p:nvPr/>
        </p:nvSpPr>
        <p:spPr>
          <a:xfrm>
            <a:off x="3714840" y="4857840"/>
            <a:ext cx="28573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症状性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圆角矩形 15"/>
          <p:cNvSpPr/>
          <p:nvPr/>
        </p:nvSpPr>
        <p:spPr>
          <a:xfrm>
            <a:off x="3786120" y="564372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论成人或儿童女性泌尿道感染发病率普遍高于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新生儿、婴儿早期，发病率男孩高于女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是儿童泌尿道感染的一个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任何致病菌均可引起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Verdana"/>
                <a:ea typeface="宋体"/>
              </a:rPr>
              <a:t>大肠埃希菌是最常见的致病菌，占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宋体"/>
              </a:rPr>
              <a:t>60%~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肾：主要通过胎盘来完成机体的排泄和调节内环境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率过滤：新生儿、婴儿肾小球率过滤低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达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及排泄功能：新生儿肾糖阈较成年人低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钠能力较差；婴幼儿碳酸氢钠的肾域值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浓缩和尿稀释功能稀释功能：新生儿及幼婴浓缩尿液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足，尿稀释功能接近成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行性感染  最主要的感染途径，主要是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源性感染   主要是金黄色葡萄球菌，多见于新生儿和婴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感染和直接蔓延  结肠内、盆腔细菌通过淋巴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儿输尿管长而弯曲；女婴尿道短，接近肛门；男婴包茎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皮过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有更多泌尿系梗阻的解剖和功能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泌尿道检查、留置导尿管、不及时更换尿布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生儿  多由血行感染引起，症状极不典型，全身症状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  症状不典型，全身症状较明显，局部刺激症状可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长儿   发热、寒战、腹痛等全身症状突出，伴腰痛、肾区叩击痛、尿路刺激症状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慢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迁延反复，可伴有贫血、消瘦、生长迟缓、高血压或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健康儿童中存在有意义菌尿，无任何尿路感染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见于各年龄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女孩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伴尿路畸形及既往尿路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为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840" y="128592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离心沉渣检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BC≥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HP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可怀疑尿路感染；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细菌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涂片找细菌每油镜视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有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、造影、核素肾动态显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左大括号 4"/>
          <p:cNvSpPr/>
          <p:nvPr/>
        </p:nvSpPr>
        <p:spPr>
          <a:xfrm>
            <a:off x="3571920" y="2643120"/>
            <a:ext cx="428760" cy="19288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圆角矩形 5"/>
          <p:cNvSpPr/>
          <p:nvPr/>
        </p:nvSpPr>
        <p:spPr>
          <a:xfrm>
            <a:off x="4071960" y="24289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菌落计数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圆角矩形 6"/>
          <p:cNvSpPr/>
          <p:nvPr/>
        </p:nvSpPr>
        <p:spPr>
          <a:xfrm>
            <a:off x="4071960" y="33577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~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可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圆角矩形 7"/>
          <p:cNvSpPr/>
          <p:nvPr/>
        </p:nvSpPr>
        <p:spPr>
          <a:xfrm>
            <a:off x="407196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污染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、女孩注意外阴部清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足够热量、蛋白质、维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热镇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尿路刺激症状：抗胆碱药物或口服碳酸氢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菌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尿培养及药敏试验结果结合临床疗效选用抗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：广谱或两种抗生素联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孢曲松、头孢噻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：阿莫西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克拉维酸钾、复方磺胺甲噁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再发泌尿道感染的治疗，尿细菌培养后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抗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尿路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与细菌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排尿异常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膀胱、尿道炎症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614B-E02F-462B-B9D5-2023CC36B9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7" name="Group 4"/>
          <p:cNvGrpSpPr/>
          <p:nvPr/>
        </p:nvGrpSpPr>
        <p:grpSpPr>
          <a:xfrm>
            <a:off x="357120" y="1214280"/>
            <a:ext cx="2071440" cy="665280"/>
            <a:chOff x="357120" y="1214280"/>
            <a:chExt cx="2071440" cy="665280"/>
          </a:xfrm>
        </p:grpSpPr>
        <p:grpSp>
          <p:nvGrpSpPr>
            <p:cNvPr id="528" name="Group 5"/>
            <p:cNvGrpSpPr/>
            <p:nvPr/>
          </p:nvGrpSpPr>
          <p:grpSpPr>
            <a:xfrm>
              <a:off x="357120" y="1214280"/>
              <a:ext cx="761400" cy="665280"/>
              <a:chOff x="357120" y="1214280"/>
              <a:chExt cx="761400" cy="66528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363240" y="1225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0" name="AutoShape 7"/>
              <p:cNvSpPr/>
              <p:nvPr/>
            </p:nvSpPr>
            <p:spPr>
              <a:xfrm>
                <a:off x="357120" y="1214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8"/>
              <p:cNvSpPr/>
              <p:nvPr/>
            </p:nvSpPr>
            <p:spPr>
              <a:xfrm>
                <a:off x="401400" y="1253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2" name="Line 9"/>
            <p:cNvSpPr/>
            <p:nvPr/>
          </p:nvSpPr>
          <p:spPr>
            <a:xfrm flipV="1">
              <a:off x="933120" y="1744560"/>
              <a:ext cx="1495440" cy="4608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136368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541440" y="126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57120" y="1928880"/>
            <a:ext cx="2000160" cy="664920"/>
            <a:chOff x="357120" y="1928880"/>
            <a:chExt cx="2000160" cy="664920"/>
          </a:xfrm>
        </p:grpSpPr>
        <p:grpSp>
          <p:nvGrpSpPr>
            <p:cNvPr id="536" name="Group 13"/>
            <p:cNvGrpSpPr/>
            <p:nvPr/>
          </p:nvGrpSpPr>
          <p:grpSpPr>
            <a:xfrm>
              <a:off x="357120" y="1928880"/>
              <a:ext cx="761400" cy="664920"/>
              <a:chOff x="357120" y="1928880"/>
              <a:chExt cx="761400" cy="664920"/>
            </a:xfrm>
          </p:grpSpPr>
          <p:sp>
            <p:nvSpPr>
              <p:cNvPr id="537" name="AutoShape 14"/>
              <p:cNvSpPr/>
              <p:nvPr/>
            </p:nvSpPr>
            <p:spPr>
              <a:xfrm>
                <a:off x="363240" y="1940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8" name="AutoShape 15"/>
              <p:cNvSpPr/>
              <p:nvPr/>
            </p:nvSpPr>
            <p:spPr>
              <a:xfrm>
                <a:off x="357120" y="1928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16"/>
              <p:cNvSpPr/>
              <p:nvPr/>
            </p:nvSpPr>
            <p:spPr>
              <a:xfrm>
                <a:off x="401400" y="1968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0" name="Line 17"/>
            <p:cNvSpPr/>
            <p:nvPr/>
          </p:nvSpPr>
          <p:spPr>
            <a:xfrm flipV="1">
              <a:off x="933120" y="2458440"/>
              <a:ext cx="1424160" cy="457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143496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541440" y="197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3" name="Group 20"/>
          <p:cNvGrpSpPr/>
          <p:nvPr/>
        </p:nvGrpSpPr>
        <p:grpSpPr>
          <a:xfrm>
            <a:off x="357120" y="2643120"/>
            <a:ext cx="2879640" cy="665280"/>
            <a:chOff x="357120" y="2643120"/>
            <a:chExt cx="2879640" cy="665280"/>
          </a:xfrm>
        </p:grpSpPr>
        <p:grpSp>
          <p:nvGrpSpPr>
            <p:cNvPr id="544" name="Group 21"/>
            <p:cNvGrpSpPr/>
            <p:nvPr/>
          </p:nvGrpSpPr>
          <p:grpSpPr>
            <a:xfrm>
              <a:off x="357120" y="2643120"/>
              <a:ext cx="761400" cy="665280"/>
              <a:chOff x="357120" y="2643120"/>
              <a:chExt cx="761400" cy="665280"/>
            </a:xfrm>
          </p:grpSpPr>
          <p:sp>
            <p:nvSpPr>
              <p:cNvPr id="545" name="AutoShape 22"/>
              <p:cNvSpPr/>
              <p:nvPr/>
            </p:nvSpPr>
            <p:spPr>
              <a:xfrm>
                <a:off x="363240" y="26542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6" name="AutoShape 23"/>
              <p:cNvSpPr/>
              <p:nvPr/>
            </p:nvSpPr>
            <p:spPr>
              <a:xfrm>
                <a:off x="357120" y="2643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7" name="AutoShape 24"/>
              <p:cNvSpPr/>
              <p:nvPr/>
            </p:nvSpPr>
            <p:spPr>
              <a:xfrm>
                <a:off x="401400" y="26827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8" name="Line 25"/>
            <p:cNvSpPr/>
            <p:nvPr/>
          </p:nvSpPr>
          <p:spPr>
            <a:xfrm>
              <a:off x="933120" y="32194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Text Box 26"/>
            <p:cNvSpPr/>
            <p:nvPr/>
          </p:nvSpPr>
          <p:spPr>
            <a:xfrm>
              <a:off x="1510560" y="2643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测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Text Box 27"/>
            <p:cNvSpPr/>
            <p:nvPr/>
          </p:nvSpPr>
          <p:spPr>
            <a:xfrm>
              <a:off x="541440" y="269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1" name="Group 28"/>
          <p:cNvGrpSpPr/>
          <p:nvPr/>
        </p:nvGrpSpPr>
        <p:grpSpPr>
          <a:xfrm>
            <a:off x="357120" y="3357720"/>
            <a:ext cx="2714400" cy="780480"/>
            <a:chOff x="357120" y="3357720"/>
            <a:chExt cx="2714400" cy="780480"/>
          </a:xfrm>
        </p:grpSpPr>
        <p:grpSp>
          <p:nvGrpSpPr>
            <p:cNvPr id="552" name="Group 29"/>
            <p:cNvGrpSpPr/>
            <p:nvPr/>
          </p:nvGrpSpPr>
          <p:grpSpPr>
            <a:xfrm>
              <a:off x="357120" y="3357720"/>
              <a:ext cx="821160" cy="780480"/>
              <a:chOff x="357120" y="3357720"/>
              <a:chExt cx="821160" cy="780480"/>
            </a:xfrm>
          </p:grpSpPr>
          <p:sp>
            <p:nvSpPr>
              <p:cNvPr id="553" name="AutoShape 30"/>
              <p:cNvSpPr/>
              <p:nvPr/>
            </p:nvSpPr>
            <p:spPr>
              <a:xfrm>
                <a:off x="363960" y="3371040"/>
                <a:ext cx="814320" cy="767160"/>
              </a:xfrm>
              <a:prstGeom prst="hexagon">
                <a:avLst>
                  <a:gd name="adj" fmla="val 2653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4" name="AutoShape 31"/>
              <p:cNvSpPr/>
              <p:nvPr/>
            </p:nvSpPr>
            <p:spPr>
              <a:xfrm>
                <a:off x="357120" y="3357720"/>
                <a:ext cx="642600" cy="71424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5" name="AutoShape 32"/>
              <p:cNvSpPr/>
              <p:nvPr/>
            </p:nvSpPr>
            <p:spPr>
              <a:xfrm>
                <a:off x="404640" y="3403800"/>
                <a:ext cx="666360" cy="596160"/>
              </a:xfrm>
              <a:prstGeom prst="hexagon">
                <a:avLst>
                  <a:gd name="adj" fmla="val 2651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6" name="Line 33"/>
            <p:cNvSpPr/>
            <p:nvPr/>
          </p:nvSpPr>
          <p:spPr>
            <a:xfrm flipV="1">
              <a:off x="978120" y="3987000"/>
              <a:ext cx="2093400" cy="46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7" name="Text Box 34"/>
            <p:cNvSpPr/>
            <p:nvPr/>
          </p:nvSpPr>
          <p:spPr>
            <a:xfrm>
              <a:off x="1485000" y="3417120"/>
              <a:ext cx="1983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8" name="Text Box 35"/>
            <p:cNvSpPr/>
            <p:nvPr/>
          </p:nvSpPr>
          <p:spPr>
            <a:xfrm>
              <a:off x="570960" y="35013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428760" y="4214880"/>
            <a:ext cx="2857320" cy="664920"/>
            <a:chOff x="428760" y="4214880"/>
            <a:chExt cx="2857320" cy="664920"/>
          </a:xfrm>
        </p:grpSpPr>
        <p:grpSp>
          <p:nvGrpSpPr>
            <p:cNvPr id="560" name="Group 37"/>
            <p:cNvGrpSpPr/>
            <p:nvPr/>
          </p:nvGrpSpPr>
          <p:grpSpPr>
            <a:xfrm>
              <a:off x="428760" y="4214880"/>
              <a:ext cx="761400" cy="664920"/>
              <a:chOff x="428760" y="4214880"/>
              <a:chExt cx="761400" cy="664920"/>
            </a:xfrm>
          </p:grpSpPr>
          <p:sp>
            <p:nvSpPr>
              <p:cNvPr id="561" name="AutoShape 38"/>
              <p:cNvSpPr/>
              <p:nvPr/>
            </p:nvSpPr>
            <p:spPr>
              <a:xfrm>
                <a:off x="434880" y="4226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2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40"/>
              <p:cNvSpPr/>
              <p:nvPr/>
            </p:nvSpPr>
            <p:spPr>
              <a:xfrm>
                <a:off x="473040" y="4254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4" name="Line 41"/>
            <p:cNvSpPr/>
            <p:nvPr/>
          </p:nvSpPr>
          <p:spPr>
            <a:xfrm>
              <a:off x="1004760" y="4790880"/>
              <a:ext cx="2281320" cy="662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1474920" y="428616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67" name="矩形 55"/>
          <p:cNvSpPr/>
          <p:nvPr/>
        </p:nvSpPr>
        <p:spPr>
          <a:xfrm>
            <a:off x="1143000" y="3429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6"/>
          <p:cNvSpPr/>
          <p:nvPr/>
        </p:nvSpPr>
        <p:spPr>
          <a:xfrm>
            <a:off x="1214280" y="4214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合理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右箭头 45"/>
          <p:cNvSpPr/>
          <p:nvPr/>
        </p:nvSpPr>
        <p:spPr>
          <a:xfrm>
            <a:off x="2286000" y="15001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右箭头 48"/>
          <p:cNvSpPr/>
          <p:nvPr/>
        </p:nvSpPr>
        <p:spPr>
          <a:xfrm>
            <a:off x="2357280" y="2214720"/>
            <a:ext cx="500400" cy="14256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右箭头 50"/>
          <p:cNvSpPr/>
          <p:nvPr/>
        </p:nvSpPr>
        <p:spPr>
          <a:xfrm>
            <a:off x="2928960" y="285768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右箭头 52"/>
          <p:cNvSpPr/>
          <p:nvPr/>
        </p:nvSpPr>
        <p:spPr>
          <a:xfrm>
            <a:off x="3429000" y="36432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右箭头 54"/>
          <p:cNvSpPr/>
          <p:nvPr/>
        </p:nvSpPr>
        <p:spPr>
          <a:xfrm>
            <a:off x="2928960" y="4500720"/>
            <a:ext cx="64296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575" name="Group 37"/>
            <p:cNvGrpSpPr/>
            <p:nvPr/>
          </p:nvGrpSpPr>
          <p:grpSpPr>
            <a:xfrm>
              <a:off x="428760" y="5000760"/>
              <a:ext cx="761400" cy="664920"/>
              <a:chOff x="428760" y="5000760"/>
              <a:chExt cx="761400" cy="664920"/>
            </a:xfrm>
          </p:grpSpPr>
          <p:sp>
            <p:nvSpPr>
              <p:cNvPr id="576" name="AutoShape 38"/>
              <p:cNvSpPr/>
              <p:nvPr/>
            </p:nvSpPr>
            <p:spPr>
              <a:xfrm>
                <a:off x="434880" y="50119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9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8" name="AutoShape 40"/>
              <p:cNvSpPr/>
              <p:nvPr/>
            </p:nvSpPr>
            <p:spPr>
              <a:xfrm>
                <a:off x="473040" y="504036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9" name="Line 41"/>
            <p:cNvSpPr/>
            <p:nvPr/>
          </p:nvSpPr>
          <p:spPr>
            <a:xfrm>
              <a:off x="1004760" y="557676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42"/>
            <p:cNvSpPr/>
            <p:nvPr/>
          </p:nvSpPr>
          <p:spPr>
            <a:xfrm>
              <a:off x="1474920" y="507204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Text Box 43"/>
            <p:cNvSpPr/>
            <p:nvPr/>
          </p:nvSpPr>
          <p:spPr>
            <a:xfrm>
              <a:off x="61380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2" name="TextBox 69"/>
          <p:cNvSpPr/>
          <p:nvPr/>
        </p:nvSpPr>
        <p:spPr>
          <a:xfrm>
            <a:off x="1659240" y="48578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复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尿培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3" name="Group 36"/>
          <p:cNvGrpSpPr/>
          <p:nvPr/>
        </p:nvGrpSpPr>
        <p:grpSpPr>
          <a:xfrm>
            <a:off x="428760" y="5786280"/>
            <a:ext cx="2879640" cy="665280"/>
            <a:chOff x="428760" y="5786280"/>
            <a:chExt cx="2879640" cy="665280"/>
          </a:xfrm>
        </p:grpSpPr>
        <p:grpSp>
          <p:nvGrpSpPr>
            <p:cNvPr id="584" name="Group 37"/>
            <p:cNvGrpSpPr/>
            <p:nvPr/>
          </p:nvGrpSpPr>
          <p:grpSpPr>
            <a:xfrm>
              <a:off x="428760" y="5786280"/>
              <a:ext cx="761400" cy="665280"/>
              <a:chOff x="428760" y="5786280"/>
              <a:chExt cx="761400" cy="665280"/>
            </a:xfrm>
          </p:grpSpPr>
          <p:sp>
            <p:nvSpPr>
              <p:cNvPr id="585" name="AutoShape 38"/>
              <p:cNvSpPr/>
              <p:nvPr/>
            </p:nvSpPr>
            <p:spPr>
              <a:xfrm>
                <a:off x="434880" y="5797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utoShape 39"/>
              <p:cNvSpPr/>
              <p:nvPr/>
            </p:nvSpPr>
            <p:spPr>
              <a:xfrm>
                <a:off x="428760" y="5786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40"/>
              <p:cNvSpPr/>
              <p:nvPr/>
            </p:nvSpPr>
            <p:spPr>
              <a:xfrm>
                <a:off x="473040" y="5825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8" name="Line 41"/>
            <p:cNvSpPr/>
            <p:nvPr/>
          </p:nvSpPr>
          <p:spPr>
            <a:xfrm>
              <a:off x="1004760" y="6362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Text Box 42"/>
            <p:cNvSpPr/>
            <p:nvPr/>
          </p:nvSpPr>
          <p:spPr>
            <a:xfrm>
              <a:off x="1474920" y="585792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43"/>
            <p:cNvSpPr/>
            <p:nvPr/>
          </p:nvSpPr>
          <p:spPr>
            <a:xfrm>
              <a:off x="613800" y="583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1" name="TextBox 78"/>
          <p:cNvSpPr/>
          <p:nvPr/>
        </p:nvSpPr>
        <p:spPr>
          <a:xfrm>
            <a:off x="1650600" y="57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右箭头 80"/>
          <p:cNvSpPr/>
          <p:nvPr/>
        </p:nvSpPr>
        <p:spPr>
          <a:xfrm>
            <a:off x="3143160" y="60008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3357720" y="1214280"/>
            <a:ext cx="364320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3000240" y="1928880"/>
            <a:ext cx="585792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易消化、足够热量、丰富蛋白质、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3643200" y="2643120"/>
            <a:ext cx="307188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物理降温、药物降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矩形 73"/>
          <p:cNvSpPr/>
          <p:nvPr/>
        </p:nvSpPr>
        <p:spPr>
          <a:xfrm>
            <a:off x="4214880" y="3429000"/>
            <a:ext cx="4000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持会阴部清洁、勤换尿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矩形 74"/>
          <p:cNvSpPr/>
          <p:nvPr/>
        </p:nvSpPr>
        <p:spPr>
          <a:xfrm>
            <a:off x="3786120" y="4000680"/>
            <a:ext cx="36435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饭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服用磺胺药时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矩形 75"/>
          <p:cNvSpPr/>
          <p:nvPr/>
        </p:nvSpPr>
        <p:spPr>
          <a:xfrm>
            <a:off x="3929040" y="3643200"/>
            <a:ext cx="428616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护理要点及预防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穿开裆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阴部如何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发现包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时用药、定期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840" y="2928960"/>
            <a:ext cx="86104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1496"/>
                </a:solidFill>
                <a:latin typeface="Verdana"/>
                <a:ea typeface="宋体"/>
              </a:rPr>
              <a:t>谢谢！</a:t>
            </a:r>
            <a:endParaRPr b="1" lang="en-US" sz="8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右箭头 4"/>
          <p:cNvSpPr/>
          <p:nvPr/>
        </p:nvSpPr>
        <p:spPr>
          <a:xfrm>
            <a:off x="2286000" y="4143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圆角矩形 5"/>
          <p:cNvSpPr/>
          <p:nvPr/>
        </p:nvSpPr>
        <p:spPr>
          <a:xfrm>
            <a:off x="3214800" y="3000240"/>
            <a:ext cx="50004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已能控制排尿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之间主要通过控制尿道外括约肌和会阴肌控制排尿，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仍保持这种排尿机制，则出现不稳定膀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日尿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143080"/>
          <a:ext cx="7993080" cy="3782880"/>
        </p:xfrm>
        <a:graphic>
          <a:graphicData uri="http://schemas.openxmlformats.org/drawingml/2006/table">
            <a:tbl>
              <a:tblPr/>
              <a:tblGrid>
                <a:gridCol w="1738080"/>
                <a:gridCol w="2346480"/>
                <a:gridCol w="2276640"/>
                <a:gridCol w="163188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正常尿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少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无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0ml/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kg·h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5ml/h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婴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~5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幼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0~6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前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00~8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00~1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1285560"/>
            <a:ext cx="862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尿液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色：淡黄色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酸碱度：最初几天呈强酸性，以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 5.0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渗透压和尿比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仅含微量蛋白，定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/24h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ddis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计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RBC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WBC 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10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管型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00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6T05:40:32Z</dcterms:modified>
  <cp:revision>18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