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52F319-F947-4E71-A1DE-59544BC73A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A08AA473-C4EB-4F55-A2A8-9BE8B6AC1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B5FCFCCB-E5C3-46E8-89E7-0176AF41E4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CD22A735-DCE3-4988-AD16-7286D5DB94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02EF28E7-4FBF-49B3-80FC-983E50432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0B37048-A552-4226-A4D3-1F299EFA8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B2E59CE7-7740-46B3-A7BC-E783F3CD5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1B86FF64-2223-4099-8D8B-0F1F9D386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14E8A79A-37F9-424C-BEC8-DD352EEBC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B4528F3A-5CAE-4AC3-9C72-C6CA4C1BB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A44062B-0B65-45E6-8FE2-802D7FF81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40F03C5-79F0-4798-B313-C805D1496F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9EFF-F8DC-43E8-BCA4-5A47377DCC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555A-6314-4B56-9968-0A6A3576F4AC}" type="datetime">
              <a:rPr b="0" lang="zh-CN" sz="1000" spc="-1" strike="noStrike">
                <a:solidFill>
                  <a:srgbClr val="ffffff"/>
                </a:solidFill>
                <a:latin typeface="Verdana"/>
                <a:ea typeface="宋体"/>
              </a:rPr>
              <a:t>26/7/31</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8FF3-8B90-4E07-9D52-FA3ECEE878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2E51-9711-4F98-BAE2-3FF49127AE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