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5EFC96-FEC1-4011-8036-F50128F7B0F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777E5C-48B4-4C96-829C-8B577A6F3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9E876A-BA55-439A-9299-8104B9FD5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658814-529D-41A6-998D-329A3D4EFC6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E9B04D-EEA3-4944-9F37-6486DA1DF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16BC50-E7B6-4090-855D-D3B8C2117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5CA08E-896A-42FD-BADD-797B156C6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3F3B34-0ECF-442D-B2DC-44AE15FD4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3C290A-058E-45BA-A1B1-200B440FF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80E32C-A6D6-4A78-B565-6EBBA0C72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6C8920-E301-4617-839C-55E09DEB3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0C608B-1032-4AD9-B20D-C9648DD85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A2091D-897B-4F8D-AF82-EB8181F90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0E6672-B99A-4F2A-ACF3-A29AF959D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4B7846-DD40-4923-88E1-D28CF4531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0A9A05-EDEB-4AC4-897B-DC94B42EA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95C0FF-D1EB-4F76-8539-229DC03FB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6BAAF4-4DA7-46D1-9EBE-0BDB2F017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39D2A5-380F-45A0-8FE5-2B87F95B5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B37DD3-9669-4FFD-88A4-D81D3378A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D6BC65-C0F3-43A8-91C0-27E26E415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A49243-0938-413F-94A6-1EF62B4BA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61097F-9DF8-4AE5-B101-7D9CDFA7B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3300DE-19CA-4047-ACF2-93BCFD9D0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F920D-77CD-4772-9F1B-621A1A3DB870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1080"/>
              <a:ext cx="9115560" cy="1816560"/>
              <a:chOff x="28440" y="5041080"/>
              <a:chExt cx="9115560" cy="181656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1080"/>
                <a:ext cx="9115560" cy="18165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108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6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7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0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3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4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5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7A406-0E44-4306-92C4-BE07C640534D}" type="slidenum">
              <a:rPr b="0" lang="en-US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二章  生长发育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潍坊医学院护理学院     战同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3"/>
          <p:cNvSpPr/>
          <p:nvPr/>
        </p:nvSpPr>
        <p:spPr>
          <a:xfrm>
            <a:off x="611280" y="1052640"/>
            <a:ext cx="7812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Verdana"/>
                <a:ea typeface="宋体"/>
              </a:rPr>
              <a:t>身高是指从头顶到足底的全身长度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Verdana"/>
                <a:ea typeface="宋体"/>
              </a:rPr>
              <a:t>身高是反映</a:t>
            </a:r>
            <a:r>
              <a:rPr b="1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骨骼发育</a:t>
            </a:r>
            <a:r>
              <a:rPr b="1" lang="zh-CN" sz="3200" spc="-1" strike="noStrike">
                <a:solidFill>
                  <a:srgbClr val="000066"/>
                </a:solidFill>
                <a:latin typeface="Verdana"/>
                <a:ea typeface="宋体"/>
              </a:rPr>
              <a:t>的重要指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1476360" y="2852640"/>
          <a:ext cx="5513400" cy="3057480"/>
        </p:xfrm>
        <a:graphic>
          <a:graphicData uri="http://schemas.openxmlformats.org/drawingml/2006/table">
            <a:tbl>
              <a:tblPr/>
              <a:tblGrid>
                <a:gridCol w="1838520"/>
                <a:gridCol w="1836720"/>
                <a:gridCol w="1838160"/>
              </a:tblGrid>
              <a:tr h="4590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年龄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8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身高（</a:t>
                      </a: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cm</a:t>
                      </a: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）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8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年增长值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8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8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出生时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50cm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1</a:t>
                      </a: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岁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75cm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25cm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44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2</a:t>
                      </a: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岁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85cm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10cm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</a:tr>
              <a:tr h="8233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青春前期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年龄（岁）</a:t>
                      </a: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×7﹢77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5</a:t>
                      </a: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7cm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5" name="Rectangle 30"/>
          <p:cNvSpPr/>
          <p:nvPr/>
        </p:nvSpPr>
        <p:spPr>
          <a:xfrm>
            <a:off x="3049920" y="2234160"/>
            <a:ext cx="227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各年龄儿童身高变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6" name="Rectangle 31"/>
          <p:cNvSpPr/>
          <p:nvPr/>
        </p:nvSpPr>
        <p:spPr>
          <a:xfrm>
            <a:off x="7666560" y="40464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身高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3"/>
          <p:cNvSpPr/>
          <p:nvPr/>
        </p:nvSpPr>
        <p:spPr>
          <a:xfrm>
            <a:off x="826920" y="1773360"/>
            <a:ext cx="6883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Verdana"/>
                <a:ea typeface="宋体"/>
              </a:rPr>
              <a:t>由头顶至坐骨结节的长度称坐高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Verdana"/>
                <a:ea typeface="宋体"/>
              </a:rPr>
              <a:t>坐高代表头颅与脊柱的发育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Text Box 4"/>
          <p:cNvSpPr/>
          <p:nvPr/>
        </p:nvSpPr>
        <p:spPr>
          <a:xfrm>
            <a:off x="1042920" y="2997360"/>
            <a:ext cx="3240000" cy="9471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Verdana"/>
                <a:ea typeface="隶书"/>
              </a:rPr>
              <a:t>婴幼儿仰卧位测量顶臀长即为坐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9" name="Text Box 5"/>
          <p:cNvSpPr/>
          <p:nvPr/>
        </p:nvSpPr>
        <p:spPr>
          <a:xfrm>
            <a:off x="4427640" y="3068640"/>
            <a:ext cx="3673440" cy="9471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隶书"/>
                <a:ea typeface="隶书"/>
              </a:rPr>
              <a:t>3</a:t>
            </a:r>
            <a:r>
              <a:rPr b="1" lang="zh-CN" sz="2800" spc="-1" strike="noStrike">
                <a:solidFill>
                  <a:srgbClr val="000066"/>
                </a:solidFill>
                <a:latin typeface="隶书"/>
                <a:ea typeface="隶书"/>
              </a:rPr>
              <a:t>岁以上的小儿坐在坐高计凳上</a:t>
            </a:r>
            <a:r>
              <a:rPr b="1" lang="en-US" sz="2800" spc="-1" strike="noStrike">
                <a:solidFill>
                  <a:srgbClr val="000066"/>
                </a:solidFill>
                <a:latin typeface="隶书"/>
                <a:ea typeface="隶书"/>
              </a:rPr>
              <a:t>,</a:t>
            </a:r>
            <a:r>
              <a:rPr b="1" lang="zh-CN" sz="2800" spc="-1" strike="noStrike">
                <a:solidFill>
                  <a:srgbClr val="000066"/>
                </a:solidFill>
                <a:latin typeface="隶书"/>
                <a:ea typeface="隶书"/>
              </a:rPr>
              <a:t>骶部紧靠量板，挺身坐直测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0" name="Rectangle 6"/>
          <p:cNvSpPr/>
          <p:nvPr/>
        </p:nvSpPr>
        <p:spPr>
          <a:xfrm>
            <a:off x="7496280" y="404640"/>
            <a:ext cx="1252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坐高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2"/>
          <p:cNvSpPr/>
          <p:nvPr/>
        </p:nvSpPr>
        <p:spPr>
          <a:xfrm>
            <a:off x="539640" y="1700280"/>
            <a:ext cx="1656000" cy="1368360"/>
          </a:xfrm>
          <a:prstGeom prst="rect">
            <a:avLst/>
          </a:prstGeom>
          <a:gradFill rotWithShape="0">
            <a:gsLst>
              <a:gs pos="0">
                <a:srgbClr val="8ac8de">
                  <a:alpha val="10196"/>
                </a:srgbClr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2" name="Text Box 3"/>
          <p:cNvSpPr/>
          <p:nvPr/>
        </p:nvSpPr>
        <p:spPr>
          <a:xfrm>
            <a:off x="971640" y="1125360"/>
            <a:ext cx="5975280" cy="520560"/>
          </a:xfrm>
          <a:prstGeom prst="rect">
            <a:avLst/>
          </a:prstGeom>
          <a:noFill/>
          <a:ln w="76320">
            <a:solidFill>
              <a:srgbClr val="ffcc99"/>
            </a:solidFill>
            <a:miter/>
          </a:ln>
          <a:effectLst>
            <a:outerShdw dist="17819" dir="2700000" blurRad="0" rotWithShape="0">
              <a:srgbClr val="99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0033"/>
                </a:solidFill>
                <a:latin typeface="华文新魏"/>
                <a:ea typeface="华文新魏"/>
              </a:rPr>
              <a:t>    </a:t>
            </a:r>
            <a:r>
              <a:rPr b="0" lang="zh-CN" sz="2800" spc="-1" strike="noStrike">
                <a:solidFill>
                  <a:srgbClr val="fe230c"/>
                </a:solidFill>
                <a:latin typeface="华文新魏"/>
                <a:ea typeface="宋体"/>
              </a:rPr>
              <a:t>头围指</a:t>
            </a:r>
            <a:r>
              <a:rPr b="1" lang="zh-CN" sz="2800" spc="-1" strike="noStrike">
                <a:solidFill>
                  <a:srgbClr val="000066"/>
                </a:solidFill>
                <a:latin typeface="隶书"/>
                <a:ea typeface="宋体"/>
              </a:rPr>
              <a:t>自眉弓上缘经枕后结节绕头一周的长度为头围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3" name="Text Box 5"/>
          <p:cNvSpPr/>
          <p:nvPr/>
        </p:nvSpPr>
        <p:spPr>
          <a:xfrm>
            <a:off x="971640" y="2349360"/>
            <a:ext cx="5975280" cy="520560"/>
          </a:xfrm>
          <a:prstGeom prst="rect">
            <a:avLst/>
          </a:prstGeom>
          <a:noFill/>
          <a:ln w="76320">
            <a:solidFill>
              <a:srgbClr val="ffcc99"/>
            </a:solidFill>
            <a:miter/>
          </a:ln>
          <a:effectLst>
            <a:outerShdw dist="17819" dir="2700000" blurRad="0" rotWithShape="0">
              <a:srgbClr val="99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隶书"/>
                <a:ea typeface="隶书"/>
              </a:rPr>
              <a:t>    </a:t>
            </a:r>
            <a:r>
              <a:rPr b="0" lang="zh-CN" sz="2800" spc="-1" strike="noStrike">
                <a:solidFill>
                  <a:srgbClr val="fe230c"/>
                </a:solidFill>
                <a:latin typeface="华文新魏"/>
                <a:ea typeface="宋体"/>
              </a:rPr>
              <a:t>胸围是</a:t>
            </a:r>
            <a:r>
              <a:rPr b="1" lang="zh-CN" sz="2800" spc="-1" strike="noStrike">
                <a:solidFill>
                  <a:srgbClr val="000066"/>
                </a:solidFill>
                <a:latin typeface="隶书"/>
                <a:ea typeface="宋体"/>
              </a:rPr>
              <a:t>沿乳头下缘水平绕胸一周的长度，反映胸廓、肺的生长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755640" y="4005360"/>
          <a:ext cx="7201080" cy="1981080"/>
        </p:xfrm>
        <a:graphic>
          <a:graphicData uri="http://schemas.openxmlformats.org/drawingml/2006/table">
            <a:tbl>
              <a:tblPr/>
              <a:tblGrid>
                <a:gridCol w="1774800"/>
                <a:gridCol w="1708200"/>
                <a:gridCol w="1701720"/>
                <a:gridCol w="201636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年龄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8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头围（</a:t>
                      </a:r>
                      <a:r>
                        <a:rPr b="0" lang="en-US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cm</a:t>
                      </a:r>
                      <a:r>
                        <a:rPr b="0" lang="zh-CN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8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胸围（</a:t>
                      </a:r>
                      <a:r>
                        <a:rPr b="0" lang="en-US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cm</a:t>
                      </a:r>
                      <a:r>
                        <a:rPr b="0" lang="zh-CN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8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胸围与头围比较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8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出生时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33</a:t>
                      </a:r>
                      <a:r>
                        <a:rPr b="0" lang="zh-CN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0" lang="en-US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34cm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32cm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胸围小于头围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1</a:t>
                      </a:r>
                      <a:r>
                        <a:rPr b="0" lang="zh-CN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岁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46cm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46cm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胸围等于头围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2</a:t>
                      </a:r>
                      <a:r>
                        <a:rPr b="0" lang="zh-CN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岁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48cm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49cm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胸围大于头围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15</a:t>
                      </a:r>
                      <a:r>
                        <a:rPr b="0" lang="zh-CN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岁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54</a:t>
                      </a:r>
                      <a:r>
                        <a:rPr b="0" lang="zh-CN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0" lang="en-US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58cm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-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胸围大于头围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5" name="Rectangle 38"/>
          <p:cNvSpPr/>
          <p:nvPr/>
        </p:nvSpPr>
        <p:spPr>
          <a:xfrm>
            <a:off x="3921840" y="3427560"/>
            <a:ext cx="32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各年龄儿童头围、胸围变化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Rectangle 39"/>
          <p:cNvSpPr/>
          <p:nvPr/>
        </p:nvSpPr>
        <p:spPr>
          <a:xfrm>
            <a:off x="6300720" y="404640"/>
            <a:ext cx="25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头围、胸围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178920" y="134100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头颅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后囟：最迟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6~8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周闭合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颅骨缝：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~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个月闭合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前囟：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~1.5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岁闭合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脊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title"/>
          </p:nvPr>
        </p:nvSpPr>
        <p:spPr>
          <a:xfrm>
            <a:off x="5832000" y="333000"/>
            <a:ext cx="3311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骨骼发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9" name="Rectangle 7"/>
          <p:cNvSpPr/>
          <p:nvPr/>
        </p:nvSpPr>
        <p:spPr>
          <a:xfrm flipH="1" flipV="1" rot="10800000">
            <a:off x="5292720" y="4128480"/>
            <a:ext cx="223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前囟的测量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10" name="Picture 8" descr=""/>
          <p:cNvPicPr/>
          <p:nvPr/>
        </p:nvPicPr>
        <p:blipFill>
          <a:blip r:embed="rId1"/>
          <a:stretch/>
        </p:blipFill>
        <p:spPr>
          <a:xfrm>
            <a:off x="4859280" y="1052640"/>
            <a:ext cx="2776680" cy="3168360"/>
          </a:xfrm>
          <a:prstGeom prst="rect">
            <a:avLst/>
          </a:prstGeom>
          <a:ln w="0">
            <a:noFill/>
          </a:ln>
        </p:spPr>
      </p:pic>
      <p:sp>
        <p:nvSpPr>
          <p:cNvPr id="211" name="Rectangle 9"/>
          <p:cNvSpPr/>
          <p:nvPr/>
        </p:nvSpPr>
        <p:spPr>
          <a:xfrm>
            <a:off x="468360" y="4941720"/>
            <a:ext cx="6551640" cy="13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个月左右能抬头时出现颈椎前凸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个月左右会坐时出现胸椎后凸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岁以后能行走时出现腰椎前凸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684000" y="1599840"/>
            <a:ext cx="83516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骨龄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即骨发育的年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一般婴儿早期可摄膝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线片，年长儿摄左手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线片，了解其腕骨、掌骨、指骨的发育。腕部骨化中心共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个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l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出全。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9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腕部骨化中心的数目为岁数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l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title"/>
          </p:nvPr>
        </p:nvSpPr>
        <p:spPr>
          <a:xfrm>
            <a:off x="5832000" y="333000"/>
            <a:ext cx="3311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骨骼发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99640" y="549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牙齿发育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755640" y="2276640"/>
          <a:ext cx="8077320" cy="3400200"/>
        </p:xfrm>
        <a:graphic>
          <a:graphicData uri="http://schemas.openxmlformats.org/drawingml/2006/table">
            <a:tbl>
              <a:tblPr/>
              <a:tblGrid>
                <a:gridCol w="2676600"/>
                <a:gridCol w="2577960"/>
                <a:gridCol w="2822760"/>
              </a:tblGrid>
              <a:tr h="1303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8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乳牙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8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恒牙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8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84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萌出时间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4</a:t>
                      </a:r>
                      <a:r>
                        <a:rPr b="0" lang="zh-CN" sz="2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0" lang="en-US" sz="2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10</a:t>
                      </a:r>
                      <a:r>
                        <a:rPr b="0" lang="zh-CN" sz="2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个月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6</a:t>
                      </a:r>
                      <a:r>
                        <a:rPr b="0" lang="zh-CN" sz="2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岁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0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数目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20</a:t>
                      </a:r>
                      <a:r>
                        <a:rPr b="0" lang="zh-CN" sz="2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颗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28</a:t>
                      </a:r>
                      <a:r>
                        <a:rPr b="0" lang="zh-CN" sz="2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0" lang="en-US" sz="2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32</a:t>
                      </a:r>
                      <a:r>
                        <a:rPr b="0" lang="zh-CN" sz="2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颗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</a:tr>
              <a:tr h="6984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出齐时间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2</a:t>
                      </a:r>
                      <a:r>
                        <a:rPr b="0" lang="zh-CN" sz="2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0" lang="en-US" sz="2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2.5</a:t>
                      </a:r>
                      <a:r>
                        <a:rPr b="0" lang="zh-CN" sz="2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岁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20</a:t>
                      </a:r>
                      <a:r>
                        <a:rPr b="0" lang="zh-CN" sz="2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0" lang="en-US" sz="2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30</a:t>
                      </a:r>
                      <a:r>
                        <a:rPr b="0" lang="zh-CN" sz="2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岁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6" name="Rectangle 26"/>
          <p:cNvSpPr/>
          <p:nvPr/>
        </p:nvSpPr>
        <p:spPr>
          <a:xfrm>
            <a:off x="3468960" y="158652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牙齿的发育变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生殖系统发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宋体"/>
                <a:ea typeface="宋体"/>
              </a:rPr>
              <a:t>青春前期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女孩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9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11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岁，男孩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11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13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岁开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体格生长明显加速，第二性征出现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宋体"/>
                <a:ea typeface="宋体"/>
              </a:rPr>
              <a:t>青春中期</a:t>
            </a:r>
            <a:r>
              <a:rPr b="1" lang="en-US" sz="2800" spc="-1" strike="noStrike">
                <a:solidFill>
                  <a:srgbClr val="a50021"/>
                </a:solidFill>
                <a:latin typeface="宋体"/>
                <a:ea typeface="宋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女孩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13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16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岁，男孩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14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17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体格生长速度达高峰，第二性征全部出现，性器官发育成熟，女孩首次出现月经、男孩出现遗精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宋体"/>
                <a:ea typeface="宋体"/>
              </a:rPr>
              <a:t>青春后期</a:t>
            </a:r>
            <a:r>
              <a:rPr b="1" lang="en-US" sz="2800" spc="-1" strike="noStrike">
                <a:solidFill>
                  <a:srgbClr val="a50021"/>
                </a:solidFill>
                <a:latin typeface="宋体"/>
                <a:ea typeface="宋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女孩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l7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21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岁，男孩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l9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24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岁，历经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年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生殖系统完全发育成熟，生长发育停止</a:t>
            </a:r>
            <a:r>
              <a:rPr b="1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第三节 体格发育的评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评价的基本要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测量的数据要可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定期纵向观察并横向作比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选择参照人群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体格发育的评价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体格生长评价常用的方法</a:t>
            </a:r>
            <a:r>
              <a:rPr b="0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标准差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中位数、百分位数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指数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标准差的离差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生长曲线评价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体格发育的评价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843280" y="1915920"/>
            <a:ext cx="3960720" cy="394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生长发育的规律和影响因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体格发育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体格发育的评价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神经心理发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小儿生长发展相关理论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54" name="Group 4"/>
          <p:cNvGrpSpPr/>
          <p:nvPr/>
        </p:nvGrpSpPr>
        <p:grpSpPr>
          <a:xfrm>
            <a:off x="1835280" y="2205000"/>
            <a:ext cx="688320" cy="593640"/>
            <a:chOff x="1835280" y="2205000"/>
            <a:chExt cx="688320" cy="593640"/>
          </a:xfrm>
        </p:grpSpPr>
        <p:sp>
          <p:nvSpPr>
            <p:cNvPr id="155" name="AutoShape 5"/>
            <p:cNvSpPr/>
            <p:nvPr/>
          </p:nvSpPr>
          <p:spPr>
            <a:xfrm>
              <a:off x="1840680" y="22150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6" name="AutoShape 6"/>
            <p:cNvSpPr/>
            <p:nvPr/>
          </p:nvSpPr>
          <p:spPr>
            <a:xfrm>
              <a:off x="1835280" y="22050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7" name="AutoShape 7"/>
            <p:cNvSpPr/>
            <p:nvPr/>
          </p:nvSpPr>
          <p:spPr>
            <a:xfrm>
              <a:off x="1875240" y="22399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58" name="Text Box 8"/>
          <p:cNvSpPr/>
          <p:nvPr/>
        </p:nvSpPr>
        <p:spPr>
          <a:xfrm>
            <a:off x="1991160" y="227664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61" name="Group 11"/>
          <p:cNvGrpSpPr/>
          <p:nvPr/>
        </p:nvGrpSpPr>
        <p:grpSpPr>
          <a:xfrm>
            <a:off x="1803240" y="3749760"/>
            <a:ext cx="687240" cy="593640"/>
            <a:chOff x="1803240" y="3749760"/>
            <a:chExt cx="687240" cy="593640"/>
          </a:xfrm>
        </p:grpSpPr>
        <p:sp>
          <p:nvSpPr>
            <p:cNvPr id="162" name="AutoShape 12"/>
            <p:cNvSpPr/>
            <p:nvPr/>
          </p:nvSpPr>
          <p:spPr>
            <a:xfrm>
              <a:off x="1808640" y="37598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3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4" name="AutoShape 14"/>
            <p:cNvSpPr/>
            <p:nvPr/>
          </p:nvSpPr>
          <p:spPr>
            <a:xfrm>
              <a:off x="1843200" y="37846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65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AutoShape 16"/>
          <p:cNvSpPr/>
          <p:nvPr/>
        </p:nvSpPr>
        <p:spPr>
          <a:xfrm>
            <a:off x="1803240" y="4511520"/>
            <a:ext cx="679680" cy="594000"/>
          </a:xfrm>
          <a:prstGeom prst="hexagon">
            <a:avLst>
              <a:gd name="adj" fmla="val 28606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Text Box 17"/>
          <p:cNvSpPr/>
          <p:nvPr/>
        </p:nvSpPr>
        <p:spPr>
          <a:xfrm>
            <a:off x="1973880" y="456876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Line 21"/>
          <p:cNvSpPr/>
          <p:nvPr/>
        </p:nvSpPr>
        <p:spPr>
          <a:xfrm>
            <a:off x="2484360" y="50846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AutoShape 16"/>
          <p:cNvSpPr/>
          <p:nvPr/>
        </p:nvSpPr>
        <p:spPr>
          <a:xfrm>
            <a:off x="1835280" y="5300640"/>
            <a:ext cx="679320" cy="593640"/>
          </a:xfrm>
          <a:prstGeom prst="hexagon">
            <a:avLst>
              <a:gd name="adj" fmla="val 28608"/>
              <a:gd name="vf" fmla="val 115470"/>
            </a:avLst>
          </a:prstGeom>
          <a:blipFill rotWithShape="0">
            <a:blip r:embed="rId8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5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Line 21"/>
          <p:cNvSpPr/>
          <p:nvPr/>
        </p:nvSpPr>
        <p:spPr>
          <a:xfrm>
            <a:off x="2484360" y="595008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体格生长评价常用的方法</a:t>
            </a:r>
            <a:r>
              <a:rPr b="0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Verdana"/>
                <a:ea typeface="宋体"/>
              </a:rPr>
              <a:t>标准差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适用于正态分布状况。以均值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±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标准差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(SD)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表示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Verdana"/>
                <a:ea typeface="宋体"/>
              </a:rPr>
              <a:t>中位数、百分位数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适用于正态和非正态分布状况。以第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50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百分位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(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50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为中位数，其余百分位数为离散距，常用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l0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25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50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75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90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97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Verdana"/>
                <a:ea typeface="宋体"/>
              </a:rPr>
              <a:t>指数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用两项指标间相互关系作比较，如体重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(kg)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／身高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(m</a:t>
            </a:r>
            <a:r>
              <a:rPr b="1" lang="en-US" sz="2400" spc="-1" strike="noStrike" baseline="30000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其含义为单位面积的体重值，主要反映体格发育水平及营养状况。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体格发育的评价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182160" y="1125360"/>
            <a:ext cx="8736120" cy="566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体格生长评价常用的方法</a:t>
            </a:r>
            <a:r>
              <a:rPr b="0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Verdana"/>
                <a:ea typeface="宋体"/>
              </a:rPr>
              <a:t>标准差的离差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用偏离该年龄组标准差的程度来反映生长情况。其中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为测得值，为平均值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SD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为标准差。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Z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积分可为正值，也可为负值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Verdana"/>
                <a:ea typeface="宋体"/>
              </a:rPr>
              <a:t>生长曲线评价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将不同时间或系统的测量值画成曲线，形成儿童生长曲线图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由于体格生长受遗传、疾病、饮食等因素的影响，有些儿童的生长曲线在平均值以下不一定异常，只要生长曲线与参考曲线趋势一致、匀速增长即为正常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体格发育的评价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体格生长评价的内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Verdana"/>
                <a:ea typeface="宋体"/>
              </a:rPr>
              <a:t>发育水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将某一年龄时点所获得的某一项体格生长测量值（横断面调查）与参考人群值比较，得到该儿童在同质人群中（同年龄、同性别）所处的位置，即为此儿童该项体格生长指标在此年龄的发育水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Verdana"/>
                <a:ea typeface="宋体"/>
              </a:rPr>
              <a:t>生长速度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是对某一项体格生长指标定期连续测量（纵向观察）所获得的该项指标在某一年龄阶段的增长值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Verdana"/>
                <a:ea typeface="宋体"/>
              </a:rPr>
              <a:t>匀称程度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是对儿童体格发育各项指标间关系的评价，包括体型匀称和身材匀称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体格发育的评价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第四节 神经心理发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75528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神经系统的发育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323640" y="1700280"/>
            <a:ext cx="8591400" cy="454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皮层下中枢兴奋性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肌张力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大脑功能发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时接近成人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时达成人水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神经纤维髓鞘化不完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感知觉的发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Verdana"/>
                <a:ea typeface="宋体"/>
              </a:rPr>
              <a:t>视觉发育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关键期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月至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新生儿视觉不敏锐，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0c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范围内视觉最清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第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月起开始有头眼协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月头眼协调较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月起开始认母亲，见到奶瓶表示喜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月深度视觉发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时深度视觉充分发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感知觉的发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Verdana"/>
                <a:ea typeface="宋体"/>
              </a:rPr>
              <a:t>听感知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的发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新生儿：听觉已相当良好，能寻找声源，辨音量、音调音色、语音和非语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~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个月：头可转向声源，听悦耳声微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个月：能确定声源，对语气敏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：能清楚分辨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e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er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感知觉的发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Verdana"/>
                <a:ea typeface="宋体"/>
              </a:rPr>
              <a:t>嗅觉和味觉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的发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新生儿：新生儿的味觉和嗅觉已经发育成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个月：对强烈气味有不愉快表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个月：能区别好闻和难闻的气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个月：对食物味道的微小改变很敏感。故应适时添加各类辅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感知觉的发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Verdana"/>
                <a:ea typeface="宋体"/>
              </a:rPr>
              <a:t>皮肤感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新生儿痛觉较迟钝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个月逐渐改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新生儿温度觉已比较灵敏，尤其对冷的反应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触觉是引起小儿某些反射的基础，新生儿的触觉高度敏感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时小儿能通过皮肤觉与手眼协调一致的活动来区分物体的大小、软硬和冷热等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时能分辨体积相同重量不同的物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运动功能的发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731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Verdana"/>
                <a:ea typeface="宋体"/>
              </a:rPr>
              <a:t>平衡与大运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二抬四翻六会坐，七滚八爬周岁走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跑双足跳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独足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如小儿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个月不能抬头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个月不能翻身、独坐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个月不能独自站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5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个月不能独自走，可能大运动发育迟缓，应急早诊断、治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识记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说出小儿生长发育的规律和影响因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说出体格生长常用指标及其正常值和计算公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说出骨骼（前后囟门）正常值、异常值及其临床意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描述牙齿的发育、脊柱发育、运动发育及语言的发育规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理解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解释生长和发育的概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知道小儿生长发育的相关理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运用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评价不同年龄阶段的小儿个体的生长发展状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发现生长发育中的特殊问题并进行干预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861EF-BDC8-4E55-B592-CCBD091F065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运动功能的发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83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Verdana"/>
                <a:ea typeface="宋体"/>
              </a:rPr>
              <a:t>精细运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一握三抓六会敲，九用两指周会匙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画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折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搭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如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个月不能伸手抓物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个月不能物体换手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个月不能拇示指钳取物体，可能精细运动发育迟缓，应急早诊断、治疗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语言的发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23640" y="1484280"/>
            <a:ext cx="8591400" cy="476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语言发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经历发音、理解和表达三个阶段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小儿语言发育过程可总结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一哭，二笑，三咿呀，四个月笑哈哈，五月单音发，七八月叫爸妈，九月再见十二把物念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岁句子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岁数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岁唱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岁写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神经心理发育评价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Verdana"/>
                <a:ea typeface="宋体"/>
              </a:rPr>
              <a:t>智力测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筛查测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丹佛发育筛查法、绘人实验、图片词汇测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诊断测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Gesell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发育量表、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Bayley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婴儿发育量表适应性行为测试       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独立生活能力、运动能力、作业、交往、参加集体活动、自我管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心理行为异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83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儿童擦腿综合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又称情感交叉腿综合征，是儿童通过擦腿引起兴奋的一种行为障碍，半岁左右的婴儿即可出现，但多见于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岁以后，尤以婴幼儿多见，女孩发病多于男孩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注意力缺陷多动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又称儿童多动综合征，简称多动症，是一种常见的儿童发展性行为障碍。病因尚不明确，可能与遗传、生活环境、发育延迟、中枢神经递质缺陷等有关。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心理行为异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屏气发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又称呼吸暂停症，是婴幼儿时期常见的的一种异常性格行为问题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至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岁以后发作次数逐渐减少。屏气发作的原因多与患儿情绪因素有关，部分患儿伴有缺铁性贫血，常在小儿发怒、剧哭、恐惧时诱发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吮拇指癖、咬指甲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个月的婴儿在饥饿时和睡前常自吮手指，满足正常生理需求，随年龄增大这种需求消失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心理行为异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515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遗尿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是指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岁后仍发生不随意排尿。遗尿症包括原发性遗尿和继发性遗尿。继发性遗尿大多继发于膀胱炎、糖尿病、尿崩症等疾病，治愈原发病后遗尿症状消失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学习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学习障碍属特殊发育障碍，是指在获得和运用听、说、读、写、计算、推理等特殊技能上有明显困难，并表现出相应的多种障碍综合征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第五节 儿童生长发展相关理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225000"/>
            <a:ext cx="8244000" cy="84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爱瑞克森的《心理社会发展理论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856800" y="1571760"/>
            <a:ext cx="7489800" cy="389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Erikso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902</a:t>
            </a:r>
            <a:r>
              <a:rPr b="1" lang="en-US" sz="2800" spc="-1" strike="noStrike">
                <a:solidFill>
                  <a:srgbClr val="8ac8de"/>
                </a:solidFill>
                <a:latin typeface="GulimChe"/>
                <a:ea typeface="GulimChe"/>
              </a:rPr>
              <a:t>——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1994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年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出生在德国法兰克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丹麦血统的美国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Freud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的女儿的学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心理社会发展阶段及危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6" name="Rectangle 4"/>
          <p:cNvSpPr/>
          <p:nvPr/>
        </p:nvSpPr>
        <p:spPr>
          <a:xfrm>
            <a:off x="857160" y="1714680"/>
            <a:ext cx="8058240" cy="44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婴儿期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0~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）：信任对不信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信任感来自照顾者连续的关爱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幼儿期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~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）：自主对羞怯或怀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探索外部世界，喜欢说“不”，任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应鼓励并给予一定的自由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学龄前期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~6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）：主动对内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非常活跃，自己制定规则，改变环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接纳孩子的选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心理社会发展阶段及危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9" name="Rectangle 4"/>
          <p:cNvSpPr/>
          <p:nvPr/>
        </p:nvSpPr>
        <p:spPr>
          <a:xfrm>
            <a:off x="4572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学龄期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6~1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）：勤奋对自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44792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SzPct val="60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关键阶段，需要真正的成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44792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SzPct val="60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应评价孩子努力的过程，而非结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53352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青春期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2~18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）：自我认同对角色紊乱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44792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SzPct val="60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关注自我，探究自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44792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SzPct val="60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关注别人对自己的看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533520" indent="-343080"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第一节　生长发育的规律和影响因素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认知发展理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Piaget Jea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896-1980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出生于瑞士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生物学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发展心理学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4800"/>
            <a:ext cx="8229600" cy="129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认知发展理论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723960" y="16002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儿童的智力发展是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小儿与经常变化着的、要求其不断做出新反应的外部环境相互作用的结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36520" y="-360"/>
            <a:ext cx="779328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认知发展过程四阶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28560" y="1676520"/>
            <a:ext cx="78868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感觉运动期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0~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通过与周围事物的感觉运动性接触认识世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前运思期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~7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单维，不可逆，自我中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具体运思期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7~1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多方面考虑问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形式运思期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以上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抽象假设，推测判断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6"/>
          <p:cNvSpPr/>
          <p:nvPr/>
        </p:nvSpPr>
        <p:spPr>
          <a:xfrm>
            <a:off x="5796000" y="333360"/>
            <a:ext cx="316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生长发育规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矩形 3"/>
          <p:cNvSpPr/>
          <p:nvPr/>
        </p:nvSpPr>
        <p:spPr>
          <a:xfrm>
            <a:off x="684360" y="1700280"/>
            <a:ext cx="6605280" cy="30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生长发育连续性和阶段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各系统器官发育的不平衡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生长发育的顺序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8002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由上到下、由近到远 、由粗到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8002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由低级到高级、由简单到复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生长发育的个体差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971280" y="1196640"/>
            <a:ext cx="39639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遗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环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     </a:t>
            </a:r>
            <a:r>
              <a:rPr b="0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营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     </a:t>
            </a:r>
            <a:r>
              <a:rPr b="0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孕母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     </a:t>
            </a:r>
            <a:r>
              <a:rPr b="0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     </a:t>
            </a:r>
            <a:r>
              <a:rPr b="0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性别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     </a:t>
            </a:r>
            <a:r>
              <a:rPr b="0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生活环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     </a:t>
            </a:r>
            <a:r>
              <a:rPr b="0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睡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1496"/>
                </a:solidFill>
                <a:latin typeface="宋体"/>
                <a:ea typeface="宋体"/>
              </a:rPr>
              <a:t>      </a:t>
            </a:r>
            <a:r>
              <a:rPr b="0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教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1496"/>
                </a:solidFill>
                <a:latin typeface="宋体"/>
                <a:ea typeface="宋体"/>
              </a:rPr>
              <a:t>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3" name="Rectangle 4"/>
          <p:cNvSpPr/>
          <p:nvPr/>
        </p:nvSpPr>
        <p:spPr>
          <a:xfrm>
            <a:off x="6028200" y="33336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影响生长发育的因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第二节 体格发育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7" name=""/>
          <p:cNvGraphicFramePr/>
          <p:nvPr/>
        </p:nvGraphicFramePr>
        <p:xfrm>
          <a:off x="971640" y="2708280"/>
          <a:ext cx="7421400" cy="3705120"/>
        </p:xfrm>
        <a:graphic>
          <a:graphicData uri="http://schemas.openxmlformats.org/drawingml/2006/table">
            <a:tbl>
              <a:tblPr/>
              <a:tblGrid>
                <a:gridCol w="2473200"/>
                <a:gridCol w="2567160"/>
                <a:gridCol w="2381040"/>
              </a:tblGrid>
              <a:tr h="9748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年龄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8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体重（</a:t>
                      </a: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kg</a:t>
                      </a: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）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8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与出生时比较（倍数）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8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3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1</a:t>
                      </a: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6</a:t>
                      </a: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个月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出生体重＋月龄</a:t>
                      </a: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×0.7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生后</a:t>
                      </a: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3</a:t>
                      </a: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个月（</a:t>
                      </a: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2</a:t>
                      </a: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）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6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7</a:t>
                      </a: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12</a:t>
                      </a: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个月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6</a:t>
                      </a: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＋月龄</a:t>
                      </a: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×0.25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生后</a:t>
                      </a: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1</a:t>
                      </a: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岁（</a:t>
                      </a: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3</a:t>
                      </a: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）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</a:tr>
              <a:tr h="981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2</a:t>
                      </a: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岁～青春前期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年龄</a:t>
                      </a: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×2</a:t>
                      </a: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＋</a:t>
                      </a: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7</a:t>
                      </a: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（或</a:t>
                      </a: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8</a:t>
                      </a: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）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生后</a:t>
                      </a: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2</a:t>
                      </a: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岁（</a:t>
                      </a: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4</a:t>
                      </a: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）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8" name="Rectangle 25"/>
          <p:cNvSpPr/>
          <p:nvPr/>
        </p:nvSpPr>
        <p:spPr>
          <a:xfrm>
            <a:off x="1042920" y="1620720"/>
            <a:ext cx="720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9" name="Rectangle 26"/>
          <p:cNvSpPr/>
          <p:nvPr/>
        </p:nvSpPr>
        <p:spPr>
          <a:xfrm>
            <a:off x="1403280" y="1881720"/>
            <a:ext cx="556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各年龄儿童体重估计公式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Rectangle 27"/>
          <p:cNvSpPr/>
          <p:nvPr/>
        </p:nvSpPr>
        <p:spPr>
          <a:xfrm>
            <a:off x="7496280" y="404640"/>
            <a:ext cx="132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体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Text Box 2"/>
          <p:cNvSpPr/>
          <p:nvPr/>
        </p:nvSpPr>
        <p:spPr>
          <a:xfrm>
            <a:off x="1042920" y="1989000"/>
            <a:ext cx="7345440" cy="2053800"/>
          </a:xfrm>
          <a:prstGeom prst="rect">
            <a:avLst/>
          </a:prstGeom>
          <a:noFill/>
          <a:ln w="76320">
            <a:solidFill>
              <a:srgbClr val="ffcc99"/>
            </a:solidFill>
            <a:miter/>
          </a:ln>
          <a:effectLst>
            <a:outerShdw dist="17819" dir="2700000" blurRad="0" rotWithShape="0">
              <a:srgbClr val="99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33"/>
                </a:solidFill>
                <a:latin typeface="Times New Roman"/>
                <a:ea typeface="隶书"/>
              </a:rPr>
              <a:t>生理性体重下降：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隶书"/>
              </a:rPr>
              <a:t>3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隶书"/>
              </a:rPr>
              <a:t>％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隶书"/>
              </a:rPr>
              <a:t>~9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隶书"/>
              </a:rPr>
              <a:t>％。若体重下降超过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隶书"/>
              </a:rPr>
              <a:t>10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隶书"/>
              </a:rPr>
              <a:t>％或致第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隶书"/>
              </a:rPr>
              <a:t>10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隶书"/>
              </a:rPr>
              <a:t>日体重未恢复到出生水平，则为病理状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2" name="Rectangle 4"/>
          <p:cNvSpPr/>
          <p:nvPr/>
        </p:nvSpPr>
        <p:spPr>
          <a:xfrm>
            <a:off x="7496280" y="404640"/>
            <a:ext cx="139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体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刘云涛</cp:lastModifiedBy>
  <cp:lastPrinted>1899-12-30T00:00:00Z</cp:lastPrinted>
  <dcterms:modified xsi:type="dcterms:W3CDTF">2015-09-01T07:00:00Z</dcterms:modified>
  <cp:revision>126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