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50105-6D8A-4330-9807-1AEFD3A517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0BF2D-89C4-45F9-87FB-C4E40E1E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DFC0C-127E-4CF2-9177-87AD8062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90395-1A29-4343-9AEE-08ACCB3C95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B1920-7EB2-4C26-A71F-576D9A4F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1CA79-DE43-4DE6-BBE8-C5C83C8C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07812-8145-4E0A-9AE3-821D085E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4AD50-F062-47A7-8724-CF5C430B4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36D4B-117D-4DEF-887A-1A60A555E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3F91E-5C5A-4452-9CE6-997C286B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44252-A63C-426D-AB97-F7AEA748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6EEAE-FD31-476F-BF8C-FD220530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A76B-8777-4B76-BAD4-5EDA5BB97AC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 绪  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56800" y="4284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小儿及其家庭为中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身心整体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减少创伤和疼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遵守法律和伦理道德规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胎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从受精卵形成至小儿出生为止，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最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为胚胎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组织及器官的迅速生长和功能渐趋成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Picture 5" descr="75783990"/>
          <p:cNvPicPr/>
          <p:nvPr/>
        </p:nvPicPr>
        <p:blipFill>
          <a:blip r:embed="rId1"/>
          <a:srcRect l="0" t="0" r="0" b="12560"/>
          <a:stretch/>
        </p:blipFill>
        <p:spPr>
          <a:xfrm>
            <a:off x="5500800" y="3786120"/>
            <a:ext cx="28573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新生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出生后脐带结扎到生后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围产期或围生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胎龄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r>
              <a:rPr b="0" lang="en-US" sz="2200" spc="-1" strike="noStrike">
                <a:solidFill>
                  <a:srgbClr val="046ca6"/>
                </a:solidFill>
                <a:latin typeface="Arial Unicode MS"/>
                <a:ea typeface="Arial Unicode MS"/>
              </a:rPr>
              <a:t>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足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活环境巨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命遭受最大危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发病率高，死亡率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婴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出生后到满一周岁之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发育最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营养需要量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致消化紊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患感染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幼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之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速度稍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能发育较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饮食结构改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活动范围扩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判断能力不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疾病较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龄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速度变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能发育增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性格可塑性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患免疫性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龄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体格稳步增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力发育趋于成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求知能力增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性疾病降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青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女孩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1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男孩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1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二性征开始发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发育第二个高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理行为不稳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57680" y="17143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理学的任务和范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理学的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士的角色和素质要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年龄分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儿科护理学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说出小儿的年龄分期及定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儿科学的基础医学特点和临床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理解儿科护理学任务和范围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比较不同年龄阶段小儿的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儿科护士的角色和素质要求，明确如何做好一名合格的儿科护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675B-1BE3-48EB-AF4D-72DFC6320B6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一门以整体护理概念出发研究从胎儿期至青春期小儿生长发育、卫生保健、疾病预防和临床疾病护理的专科护理课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切涉及小儿时期健康和卫生的问题都属于儿科护理学的范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的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供综合性、广泛性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儿童体质，保障儿童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降低儿童发病率和死亡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高生命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服务对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各年龄期的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儿科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础医学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剖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随年龄的不同而有差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同年龄小儿有不同的生理生化正常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病原体的反应不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功能不成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断塑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儿科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种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成人有所不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反复、波动、变化多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诊治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年龄阶段的小儿患病种类、临床表现都有独特之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致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后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易于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计划免疫、儿童保健、成人期疾病在儿童期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士的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活动的计划者和执行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教育的宣讲者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协调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咨询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的代言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研究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士的素质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高度责任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热爱儿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专业素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科学文化素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沟通技巧和获取新信息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liang</dc:creator>
  <dc:description/>
  <dc:language>en-US</dc:language>
  <cp:lastModifiedBy>刘云涛</cp:lastModifiedBy>
  <cp:lastPrinted>1899-12-30T00:00:00Z</cp:lastPrinted>
  <dcterms:modified xsi:type="dcterms:W3CDTF">2015-09-01T06:03:45Z</dcterms:modified>
  <cp:revision>27</cp:revision>
  <dc:subject/>
  <dc:title>绪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