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DD445-38C0-414D-B9EA-A216CB93E6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1EDFB-05C5-402D-B24D-CB06B182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EF286-34E9-43D3-B63F-5212DEC9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B7523-077C-44AB-A3CD-DCB9FC7BE0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C66DB-E9CD-4404-8CCD-1F80A185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D3DD5-59D0-4DED-9635-BDF9469AD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C1A87-D7E3-47B5-82AF-815F3923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D0D15-1A19-4D68-807F-D9BC6A1A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26FE87-1B3F-4E85-9627-CEE44F51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59BD79-21C9-47AB-85A5-585C7078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B1546-6A91-4A86-8F3D-172F17D1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07782-ED35-4690-BA05-8CEB4180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220C8-28CE-4723-B9BD-0E105BCD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4C116-4EC4-472F-B5FB-E2EC7574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72060-79D2-403F-B0E1-B77F8D4B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787195-E7F4-4972-90F7-3F009CB7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422BD-6E89-4FB8-A007-C30B6FF07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07ACB-116B-43D9-84DE-076122F51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AB9A7-6FC3-403F-BE0F-70E278AB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12415-0CE7-4A3B-AA92-D5E34E8FF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0B6EE-9EDB-4BA7-A20F-56831ABCF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FB98D-CF22-421A-9AAB-02DD6379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3B73C-3586-4FED-9FA1-33E27057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F5FE9-DA5D-4CA7-B98E-1CA82CD5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52A7-CD09-4754-9B20-687C7347722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37F7-2B56-45E2-9AC9-FE444AC05412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 生长发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潍坊医学院护理学院     战同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611280" y="1052640"/>
            <a:ext cx="78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身高是指从头顶到足底的全身长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身高是反映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骨骼发育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的重要指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476360" y="2852640"/>
          <a:ext cx="5513400" cy="3057480"/>
        </p:xfrm>
        <a:graphic>
          <a:graphicData uri="http://schemas.openxmlformats.org/drawingml/2006/table">
            <a:tbl>
              <a:tblPr/>
              <a:tblGrid>
                <a:gridCol w="1838520"/>
                <a:gridCol w="1836720"/>
                <a:gridCol w="1838160"/>
              </a:tblGrid>
              <a:tr h="459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身高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cm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增长值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生时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0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5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5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85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0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青春前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（岁）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7﹢7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Rectangle 30"/>
          <p:cNvSpPr/>
          <p:nvPr/>
        </p:nvSpPr>
        <p:spPr>
          <a:xfrm>
            <a:off x="3049920" y="2234160"/>
            <a:ext cx="227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年龄儿童身高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31"/>
          <p:cNvSpPr/>
          <p:nvPr/>
        </p:nvSpPr>
        <p:spPr>
          <a:xfrm>
            <a:off x="7666560" y="404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身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826920" y="1773360"/>
            <a:ext cx="688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由头顶至坐骨结节的长度称坐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坐高代表头颅与脊柱的发育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042920" y="2997360"/>
            <a:ext cx="3240000" cy="947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隶书"/>
              </a:rPr>
              <a:t>婴幼儿仰卧位测量顶臀长即为坐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4427640" y="3068640"/>
            <a:ext cx="3673440" cy="947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岁以上的小儿坐在坐高计凳上</a:t>
            </a:r>
            <a:r>
              <a:rPr b="1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骶部紧靠量板，挺身坐直测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7496280" y="404640"/>
            <a:ext cx="125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坐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539640" y="1700280"/>
            <a:ext cx="1656000" cy="1368360"/>
          </a:xfrm>
          <a:prstGeom prst="rect">
            <a:avLst/>
          </a:prstGeom>
          <a:gradFill rotWithShape="0">
            <a:gsLst>
              <a:gs pos="0">
                <a:srgbClr val="8ac8de">
                  <a:alpha val="10196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971640" y="1125360"/>
            <a:ext cx="5975280" cy="52056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33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宋体"/>
              </a:rPr>
              <a:t>头围指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宋体"/>
              </a:rPr>
              <a:t>自眉弓上缘经枕后结节绕头一周的长度为头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971640" y="2349360"/>
            <a:ext cx="5975280" cy="52056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    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宋体"/>
              </a:rPr>
              <a:t>胸围是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宋体"/>
              </a:rPr>
              <a:t>沿乳头下缘水平绕胸一周的长度，反映胸廓、肺的生长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55640" y="4005360"/>
          <a:ext cx="7201080" cy="1981080"/>
        </p:xfrm>
        <a:graphic>
          <a:graphicData uri="http://schemas.openxmlformats.org/drawingml/2006/table">
            <a:tbl>
              <a:tblPr/>
              <a:tblGrid>
                <a:gridCol w="1774800"/>
                <a:gridCol w="1708200"/>
                <a:gridCol w="1701720"/>
                <a:gridCol w="201636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头围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cm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cm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与头围比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生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3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4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2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小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6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6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等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8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9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大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5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4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8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大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Rectangle 38"/>
          <p:cNvSpPr/>
          <p:nvPr/>
        </p:nvSpPr>
        <p:spPr>
          <a:xfrm>
            <a:off x="3921840" y="34275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年龄儿童头围、胸围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39"/>
          <p:cNvSpPr/>
          <p:nvPr/>
        </p:nvSpPr>
        <p:spPr>
          <a:xfrm>
            <a:off x="6300720" y="40464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头围、胸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头颅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后囟：最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~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周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颅骨缝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~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前囟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脊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5832000" y="333000"/>
            <a:ext cx="3311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骨骼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Rectangle 7"/>
          <p:cNvSpPr/>
          <p:nvPr/>
        </p:nvSpPr>
        <p:spPr>
          <a:xfrm flipH="1" flipV="1" rot="10800000">
            <a:off x="5292720" y="412848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前囟的测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0" name="Picture 8" descr=""/>
          <p:cNvPicPr/>
          <p:nvPr/>
        </p:nvPicPr>
        <p:blipFill>
          <a:blip r:embed="rId1"/>
          <a:stretch/>
        </p:blipFill>
        <p:spPr>
          <a:xfrm>
            <a:off x="4859280" y="1052640"/>
            <a:ext cx="2776680" cy="316836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9"/>
          <p:cNvSpPr/>
          <p:nvPr/>
        </p:nvSpPr>
        <p:spPr>
          <a:xfrm>
            <a:off x="468360" y="4941720"/>
            <a:ext cx="65516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左右能抬头时出现颈椎前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左右会坐时出现胸椎后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以后能行走时出现腰椎前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84000" y="1599840"/>
            <a:ext cx="8351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骨龄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即骨发育的年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婴儿早期可摄膝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片，年长儿摄左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片，了解其腕骨、掌骨、指骨的发育。腕部骨化中心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出全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腕部骨化中心的数目为岁数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5832000" y="333000"/>
            <a:ext cx="3311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骨骼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牙齿发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55640" y="2276640"/>
          <a:ext cx="8077320" cy="3400200"/>
        </p:xfrm>
        <a:graphic>
          <a:graphicData uri="http://schemas.openxmlformats.org/drawingml/2006/table">
            <a:tbl>
              <a:tblPr/>
              <a:tblGrid>
                <a:gridCol w="2676600"/>
                <a:gridCol w="2577960"/>
                <a:gridCol w="2822760"/>
              </a:tblGrid>
              <a:tr h="130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乳牙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恒牙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萌出时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数目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颗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8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2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颗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齐时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5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Rectangle 26"/>
          <p:cNvSpPr/>
          <p:nvPr/>
        </p:nvSpPr>
        <p:spPr>
          <a:xfrm>
            <a:off x="3468960" y="15865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牙齿的发育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殖系统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  <a:ea typeface="宋体"/>
              </a:rPr>
              <a:t>青春前期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女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9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男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开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体格生长明显加速，第二性征出现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  <a:ea typeface="宋体"/>
              </a:rPr>
              <a:t>青春中期</a:t>
            </a:r>
            <a:r>
              <a:rPr b="1" lang="en-US" sz="2800" spc="-1" strike="noStrike">
                <a:solidFill>
                  <a:srgbClr val="a50021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女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6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男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7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体格生长速度达高峰，第二性征全部出现，性器官发育成熟，女孩首次出现月经、男孩出现遗精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  <a:ea typeface="宋体"/>
              </a:rPr>
              <a:t>青春后期</a:t>
            </a:r>
            <a:r>
              <a:rPr b="1" lang="en-US" sz="2800" spc="-1" strike="noStrike">
                <a:solidFill>
                  <a:srgbClr val="a50021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女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l7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男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l9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历经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殖系统完全发育成熟，生长发育停止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体格发育的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评价的基本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测量的数据要可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期纵向观察并横向作比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参照人群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常用的方法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标准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位数、百分位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指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标准差的离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长曲线评价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生长发育的规律和影响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体格发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体格发育的评价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神经心理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生长发展相关理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835280" y="2205000"/>
            <a:ext cx="688320" cy="593640"/>
            <a:chOff x="1835280" y="2205000"/>
            <a:chExt cx="688320" cy="593640"/>
          </a:xfrm>
        </p:grpSpPr>
        <p:sp>
          <p:nvSpPr>
            <p:cNvPr id="155" name="AutoShape 5"/>
            <p:cNvSpPr/>
            <p:nvPr/>
          </p:nvSpPr>
          <p:spPr>
            <a:xfrm>
              <a:off x="1840680" y="22150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1835280" y="22050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1875240" y="22399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8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6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16"/>
          <p:cNvSpPr/>
          <p:nvPr/>
        </p:nvSpPr>
        <p:spPr>
          <a:xfrm>
            <a:off x="1835280" y="530064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21"/>
          <p:cNvSpPr/>
          <p:nvPr/>
        </p:nvSpPr>
        <p:spPr>
          <a:xfrm>
            <a:off x="2484360" y="595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常用的方法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标准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适用于正态分布状况。以均值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±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标准差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SD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表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中位数、百分位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适用于正态和非正态分布状况。以第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百分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中位数，其余百分位数为离散距，常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l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7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7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指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两项指标间相互关系作比较，如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kg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／身高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其含义为单位面积的体重值，主要反映体格发育水平及营养状况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82160" y="1125360"/>
            <a:ext cx="8736120" cy="566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常用的方法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标准差的离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偏离该年龄组标准差的程度来反映生长情况。其中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测得值，为平均值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标准差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Z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积分可为正值，也可为负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生长曲线评价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将不同时间或系统的测量值画成曲线，形成儿童生长曲线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体格生长受遗传、疾病、饮食等因素的影响，有些儿童的生长曲线在平均值以下不一定异常，只要生长曲线与参考曲线趋势一致、匀速增长即为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发育水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将某一年龄时点所获得的某一项体格生长测量值（横断面调查）与参考人群值比较，得到该儿童在同质人群中（同年龄、同性别）所处的位置，即为此儿童该项体格生长指标在此年龄的发育水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生长速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对某一项体格生长指标定期连续测量（纵向观察）所获得的该项指标在某一年龄阶段的增长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匀称程度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对儿童体格发育各项指标间关系的评价，包括体型匀称和身材匀称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神经心理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神经系统的发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5914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层下中枢兴奋性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肌张力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脑功能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时接近成人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时达成人水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纤维髓鞘化不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视觉发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关键期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视觉不敏锐，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范围内视觉最清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起开始有头眼协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头眼协调较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起开始认母亲，见到奶瓶表示喜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深度视觉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时深度视觉充分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听感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：听觉已相当良好，能寻找声源，辨音量、音调音色、语音和非语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头可转向声源，听悦耳声微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能确定声源，对语气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：能清楚分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r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嗅觉和味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：新生儿的味觉和嗅觉已经发育成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对强烈气味有不愉快表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能区别好闻和难闻的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对食物味道的微小改变很敏感。故应适时添加各类辅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皮肤感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痛觉较迟钝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逐渐改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温度觉已比较灵敏，尤其对冷的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触觉是引起小儿某些反射的基础，新生儿的触觉高度敏感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时小儿能通过皮肤觉与手眼协调一致的活动来区分物体的大小、软硬和冷热等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时能分辨体积相同重量不同的物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平衡与大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抬四翻六会坐，七滚八爬周岁走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跑双足跳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独足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小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抬头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翻身、独坐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独自站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独自走，可能大运动发育迟缓，应急早诊断、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说出小儿生长发育的规律和影响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说出体格生长常用指标及其正常值和计算公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说出骨骼（前后囟门）正常值、异常值及其临床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描述牙齿的发育、脊柱发育、运动发育及语言的发育规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解释生长和发育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知道小儿生长发育的相关理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评价不同年龄阶段的小儿个体的生长发展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发现生长发育中的特殊问题并进行干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16D1-CEA9-4D19-92C3-80ED25CA7E5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精细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握三抓六会敲，九用两指周会匙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搭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伸手抓物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物体换手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拇示指钳取物体，可能精细运动发育迟缓，应急早诊断、治疗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5914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经历发音、理解和表达三个阶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语言发育过程可总结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哭，二笑，三咿呀，四个月笑哈哈，五月单音发，七八月叫爸妈，九月再见十二把物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句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唱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神经心理发育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智力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筛查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丹佛发育筛查法、绘人实验、图片词汇测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诊断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esel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发育量表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ayley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发育量表适应性行为测试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独立生活能力、运动能力、作业、交往、参加集体活动、自我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擦腿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称情感交叉腿综合征，是儿童通过擦腿引起兴奋的一种行为障碍，半岁左右的婴儿即可出现，但多见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以后，尤以婴幼儿多见，女孩发病多于男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力缺陷多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称儿童多动综合征，简称多动症，是一种常见的儿童发展性行为障碍。病因尚不明确，可能与遗传、生活环境、发育延迟、中枢神经递质缺陷等有关。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屏气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称呼吸暂停症，是婴幼儿时期常见的的一种异常性格行为问题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以后发作次数逐渐减少。屏气发作的原因多与患儿情绪因素有关，部分患儿伴有缺铁性贫血，常在小儿发怒、剧哭、恐惧时诱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吮拇指癖、咬指甲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的婴儿在饥饿时和睡前常自吮手指，满足正常生理需求，随年龄增大这种需求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尿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后仍发生不随意排尿。遗尿症包括原发性遗尿和继发性遗尿。继发性遗尿大多继发于膀胱炎、糖尿病、尿崩症等疾病，治愈原发病后遗尿症状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学习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学习障碍属特殊发育障碍，是指在获得和运用听、说、读、写、计算、推理等特殊技能上有明显困难，并表现出相应的多种障碍综合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五节 儿童生长发展相关理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5000"/>
            <a:ext cx="824400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爱瑞克森的《心理社会发展理论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56800" y="1571760"/>
            <a:ext cx="74898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riks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902</a:t>
            </a:r>
            <a:r>
              <a:rPr b="1" lang="en-US" sz="2800" spc="-1" strike="noStrike">
                <a:solidFill>
                  <a:srgbClr val="8ac8de"/>
                </a:solidFill>
                <a:latin typeface="GulimChe"/>
                <a:ea typeface="GulimChe"/>
              </a:rPr>
              <a:t>——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1994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生在德国法兰克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丹麦血统的美国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Freud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的女儿的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发展阶段及危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857160" y="1714680"/>
            <a:ext cx="80582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儿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~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信任对不信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信任感来自照顾者连续的关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幼儿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自主对羞怯或怀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探索外部世界，喜欢说“不”，任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应鼓励并给予一定的自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学龄前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主动对内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非常活跃，自己制定规则，改变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接纳孩子的选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发展阶段及危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学龄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勤奋对自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关键阶段，需要真正的成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应评价孩子努力的过程，而非结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春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~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自我认同对角色紊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关注自我，探究自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关注别人对自己的看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　生长发育的规律和影响因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认知发展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iaget Jea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896-198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生于瑞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物学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心理学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22960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认知发展理论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23960" y="1600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童的智力发展是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小儿与经常变化着的、要求其不断做出新反应的外部环境相互作用的结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77932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认知发展过程四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28560" y="1676520"/>
            <a:ext cx="7886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觉运动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~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与周围事物的感觉运动性接触认识世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前运思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单维，不可逆，自我中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具体运思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~1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多方面考虑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形式运思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以上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抽象假设，推测判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5796000" y="33336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生长发育规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矩形 3"/>
          <p:cNvSpPr/>
          <p:nvPr/>
        </p:nvSpPr>
        <p:spPr>
          <a:xfrm>
            <a:off x="684360" y="1700280"/>
            <a:ext cx="660528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连续性和阶段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各系统器官发育的不平衡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长发育的顺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由上到下、由近到远 、由粗到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由低级到高级、由简单到复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长发育的个体差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971280" y="1196640"/>
            <a:ext cx="3963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孕母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2820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影响生长发育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体格发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971640" y="2708280"/>
          <a:ext cx="7421400" cy="3705120"/>
        </p:xfrm>
        <a:graphic>
          <a:graphicData uri="http://schemas.openxmlformats.org/drawingml/2006/table">
            <a:tbl>
              <a:tblPr/>
              <a:tblGrid>
                <a:gridCol w="2473200"/>
                <a:gridCol w="2567160"/>
                <a:gridCol w="2381040"/>
              </a:tblGrid>
              <a:tr h="97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体重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kg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与出生时比较（倍数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生体重＋月龄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0.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后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＋月龄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0.2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后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～青春前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＋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或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后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Rectangle 25"/>
          <p:cNvSpPr/>
          <p:nvPr/>
        </p:nvSpPr>
        <p:spPr>
          <a:xfrm>
            <a:off x="1042920" y="16207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26"/>
          <p:cNvSpPr/>
          <p:nvPr/>
        </p:nvSpPr>
        <p:spPr>
          <a:xfrm>
            <a:off x="1403280" y="1881720"/>
            <a:ext cx="556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年龄儿童体重估计公式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27"/>
          <p:cNvSpPr/>
          <p:nvPr/>
        </p:nvSpPr>
        <p:spPr>
          <a:xfrm>
            <a:off x="7496280" y="404640"/>
            <a:ext cx="132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体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042920" y="1989000"/>
            <a:ext cx="7345440" cy="205380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隶书"/>
              </a:rPr>
              <a:t>生理性体重下降：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％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~9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％。若体重下降超过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10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％或致第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10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日体重未恢复到出生水平，则为病理状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7496280" y="404640"/>
            <a:ext cx="139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体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1T07:00:00Z</dcterms:modified>
  <cp:revision>1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