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BBA10-17F8-45DC-8B3B-69861F616F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C6B90-F975-4184-99B8-BB68C9AD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4B8C4-715B-478A-9563-87C52D0F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AD2E9-89EB-4532-AE25-81B26C1637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D0888-63C0-4C59-88D4-BE39FA5C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7B962-0DFA-4B11-A407-D50F7152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B31B8-A9BD-4142-BD62-246C3D67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062DC-D5E7-4310-8529-A6B971CF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DDE36-AC2E-480E-BD49-AC5C8611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7018C-6879-4950-A591-A495574B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9967C-7B84-438C-9FD1-581349CB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D5650-892C-479F-AE7D-1CC63D4F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9DA7-89B5-4C10-8B53-4F7B3610088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患者的护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系统性炎症综合征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相关辅助检查中，除常规的血液常规、急诊生化、胸片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检查外，还应主要关注重要脏器的相关功能监测：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系统 、循环系统 、肝功能 、肾功能 、中枢神经系统 及消化系统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B6EC-E8B9-4E96-A63C-1EF4BD46F70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395280" y="1341360"/>
            <a:ext cx="3384360" cy="665280"/>
            <a:chOff x="395280" y="1341360"/>
            <a:chExt cx="3384360" cy="665280"/>
          </a:xfrm>
        </p:grpSpPr>
        <p:grpSp>
          <p:nvGrpSpPr>
            <p:cNvPr id="156" name="Group 5"/>
            <p:cNvGrpSpPr/>
            <p:nvPr/>
          </p:nvGrpSpPr>
          <p:grpSpPr>
            <a:xfrm>
              <a:off x="395280" y="1341360"/>
              <a:ext cx="895320" cy="665280"/>
              <a:chOff x="395280" y="1341360"/>
              <a:chExt cx="895320" cy="665280"/>
            </a:xfrm>
          </p:grpSpPr>
          <p:sp>
            <p:nvSpPr>
              <p:cNvPr id="157" name="AutoShape 6"/>
              <p:cNvSpPr/>
              <p:nvPr/>
            </p:nvSpPr>
            <p:spPr>
              <a:xfrm>
                <a:off x="402840" y="135252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8" name="AutoShape 7"/>
              <p:cNvSpPr/>
              <p:nvPr/>
            </p:nvSpPr>
            <p:spPr>
              <a:xfrm>
                <a:off x="395280" y="13413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9" name="AutoShape 8"/>
              <p:cNvSpPr/>
              <p:nvPr/>
            </p:nvSpPr>
            <p:spPr>
              <a:xfrm>
                <a:off x="447120" y="138096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0" name="Line 9"/>
            <p:cNvSpPr/>
            <p:nvPr/>
          </p:nvSpPr>
          <p:spPr>
            <a:xfrm>
              <a:off x="1072080" y="191772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1624680" y="1413000"/>
              <a:ext cx="18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61164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395280" y="2205000"/>
            <a:ext cx="3168360" cy="665280"/>
            <a:chOff x="395280" y="2205000"/>
            <a:chExt cx="3168360" cy="665280"/>
          </a:xfrm>
        </p:grpSpPr>
        <p:grpSp>
          <p:nvGrpSpPr>
            <p:cNvPr id="164" name="Group 13"/>
            <p:cNvGrpSpPr/>
            <p:nvPr/>
          </p:nvGrpSpPr>
          <p:grpSpPr>
            <a:xfrm>
              <a:off x="395280" y="2205000"/>
              <a:ext cx="837720" cy="665280"/>
              <a:chOff x="395280" y="2205000"/>
              <a:chExt cx="837720" cy="665280"/>
            </a:xfrm>
          </p:grpSpPr>
          <p:sp>
            <p:nvSpPr>
              <p:cNvPr id="165" name="AutoShape 14"/>
              <p:cNvSpPr/>
              <p:nvPr/>
            </p:nvSpPr>
            <p:spPr>
              <a:xfrm>
                <a:off x="402120" y="221616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AutoShape 15"/>
              <p:cNvSpPr/>
              <p:nvPr/>
            </p:nvSpPr>
            <p:spPr>
              <a:xfrm>
                <a:off x="395280" y="220500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7" name="AutoShape 16"/>
              <p:cNvSpPr/>
              <p:nvPr/>
            </p:nvSpPr>
            <p:spPr>
              <a:xfrm>
                <a:off x="443880" y="224460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8" name="Line 17"/>
            <p:cNvSpPr/>
            <p:nvPr/>
          </p:nvSpPr>
          <p:spPr>
            <a:xfrm>
              <a:off x="1028880" y="278136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546200" y="2255760"/>
              <a:ext cx="17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597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17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17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5" name="Group 44"/>
          <p:cNvGrpSpPr/>
          <p:nvPr/>
        </p:nvGrpSpPr>
        <p:grpSpPr>
          <a:xfrm>
            <a:off x="395280" y="5661000"/>
            <a:ext cx="3384360" cy="665280"/>
            <a:chOff x="395280" y="5661000"/>
            <a:chExt cx="3384360" cy="665280"/>
          </a:xfrm>
        </p:grpSpPr>
        <p:grpSp>
          <p:nvGrpSpPr>
            <p:cNvPr id="196" name="Group 45"/>
            <p:cNvGrpSpPr/>
            <p:nvPr/>
          </p:nvGrpSpPr>
          <p:grpSpPr>
            <a:xfrm>
              <a:off x="395280" y="5661000"/>
              <a:ext cx="895320" cy="665280"/>
              <a:chOff x="395280" y="5661000"/>
              <a:chExt cx="895320" cy="665280"/>
            </a:xfrm>
          </p:grpSpPr>
          <p:sp>
            <p:nvSpPr>
              <p:cNvPr id="197" name="AutoShape 46"/>
              <p:cNvSpPr/>
              <p:nvPr/>
            </p:nvSpPr>
            <p:spPr>
              <a:xfrm>
                <a:off x="402840" y="56721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AutoShape 47"/>
              <p:cNvSpPr/>
              <p:nvPr/>
            </p:nvSpPr>
            <p:spPr>
              <a:xfrm>
                <a:off x="395280" y="566100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utoShape 48"/>
              <p:cNvSpPr/>
              <p:nvPr/>
            </p:nvSpPr>
            <p:spPr>
              <a:xfrm>
                <a:off x="447120" y="570060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49"/>
            <p:cNvSpPr/>
            <p:nvPr/>
          </p:nvSpPr>
          <p:spPr>
            <a:xfrm>
              <a:off x="1072080" y="623736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50"/>
            <p:cNvSpPr/>
            <p:nvPr/>
          </p:nvSpPr>
          <p:spPr>
            <a:xfrm>
              <a:off x="19141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51"/>
            <p:cNvSpPr/>
            <p:nvPr/>
          </p:nvSpPr>
          <p:spPr>
            <a:xfrm>
              <a:off x="61164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AutoShape 53"/>
          <p:cNvSpPr/>
          <p:nvPr/>
        </p:nvSpPr>
        <p:spPr>
          <a:xfrm>
            <a:off x="349236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4"/>
          <p:cNvSpPr/>
          <p:nvPr/>
        </p:nvSpPr>
        <p:spPr>
          <a:xfrm>
            <a:off x="4214880" y="135720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动脉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氧饱和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B3FF-E4BC-48CB-B6F3-7C756FBF222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395280" y="1341360"/>
            <a:ext cx="3239640" cy="665280"/>
            <a:chOff x="395280" y="1341360"/>
            <a:chExt cx="3239640" cy="665280"/>
          </a:xfrm>
        </p:grpSpPr>
        <p:grpSp>
          <p:nvGrpSpPr>
            <p:cNvPr id="210" name="Group 5"/>
            <p:cNvGrpSpPr/>
            <p:nvPr/>
          </p:nvGrpSpPr>
          <p:grpSpPr>
            <a:xfrm>
              <a:off x="395280" y="1341360"/>
              <a:ext cx="856800" cy="665280"/>
              <a:chOff x="395280" y="1341360"/>
              <a:chExt cx="856800" cy="66528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02480" y="135252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395280" y="13413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44960" y="138096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3280" y="191772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86120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0228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395280" y="2205000"/>
            <a:ext cx="3312720" cy="665280"/>
            <a:chOff x="395280" y="2205000"/>
            <a:chExt cx="3312720" cy="665280"/>
          </a:xfrm>
        </p:grpSpPr>
        <p:grpSp>
          <p:nvGrpSpPr>
            <p:cNvPr id="218" name="Group 13"/>
            <p:cNvGrpSpPr/>
            <p:nvPr/>
          </p:nvGrpSpPr>
          <p:grpSpPr>
            <a:xfrm>
              <a:off x="395280" y="2205000"/>
              <a:ext cx="875880" cy="665280"/>
              <a:chOff x="395280" y="2205000"/>
              <a:chExt cx="875880" cy="66528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02480" y="2216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395280" y="2205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446040" y="2244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57680" y="2781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1598760" y="2255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06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395280" y="3068640"/>
            <a:ext cx="3168360" cy="665280"/>
            <a:chOff x="395280" y="3068640"/>
            <a:chExt cx="316836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395280" y="3068640"/>
              <a:ext cx="837720" cy="665280"/>
              <a:chOff x="395280" y="3068640"/>
              <a:chExt cx="83772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02120" y="307980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395280" y="306864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443880" y="310824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28880" y="364500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1546200" y="3140280"/>
              <a:ext cx="138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59796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395280" y="5661000"/>
            <a:ext cx="3239640" cy="665280"/>
            <a:chOff x="395280" y="5661000"/>
            <a:chExt cx="3239640" cy="665280"/>
          </a:xfrm>
        </p:grpSpPr>
        <p:grpSp>
          <p:nvGrpSpPr>
            <p:cNvPr id="250" name="Group 45"/>
            <p:cNvGrpSpPr/>
            <p:nvPr/>
          </p:nvGrpSpPr>
          <p:grpSpPr>
            <a:xfrm>
              <a:off x="395280" y="5661000"/>
              <a:ext cx="856800" cy="665280"/>
              <a:chOff x="395280" y="5661000"/>
              <a:chExt cx="856800" cy="66528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02480" y="56721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395280" y="566100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444960" y="570060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3280" y="623736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1572120" y="5711760"/>
              <a:ext cx="18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0228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AutoShape 53"/>
          <p:cNvSpPr/>
          <p:nvPr/>
        </p:nvSpPr>
        <p:spPr>
          <a:xfrm>
            <a:off x="3132000" y="2492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圆角矩形 54"/>
          <p:cNvSpPr/>
          <p:nvPr/>
        </p:nvSpPr>
        <p:spPr>
          <a:xfrm>
            <a:off x="3924360" y="184464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图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肌酶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连续动脉血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5"/>
          <p:cNvSpPr/>
          <p:nvPr/>
        </p:nvSpPr>
        <p:spPr>
          <a:xfrm>
            <a:off x="1476360" y="4005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4AED-DDF8-44C7-A159-264CD4A0C2A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395280" y="1341360"/>
            <a:ext cx="3096720" cy="665280"/>
            <a:chOff x="395280" y="1341360"/>
            <a:chExt cx="3096720" cy="665280"/>
          </a:xfrm>
        </p:grpSpPr>
        <p:grpSp>
          <p:nvGrpSpPr>
            <p:cNvPr id="264" name="Group 5"/>
            <p:cNvGrpSpPr/>
            <p:nvPr/>
          </p:nvGrpSpPr>
          <p:grpSpPr>
            <a:xfrm>
              <a:off x="395280" y="1341360"/>
              <a:ext cx="819000" cy="665280"/>
              <a:chOff x="395280" y="1341360"/>
              <a:chExt cx="819000" cy="665280"/>
            </a:xfrm>
          </p:grpSpPr>
          <p:sp>
            <p:nvSpPr>
              <p:cNvPr id="265" name="AutoShape 6"/>
              <p:cNvSpPr/>
              <p:nvPr/>
            </p:nvSpPr>
            <p:spPr>
              <a:xfrm>
                <a:off x="402120" y="135252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6" name="AutoShape 7"/>
              <p:cNvSpPr/>
              <p:nvPr/>
            </p:nvSpPr>
            <p:spPr>
              <a:xfrm>
                <a:off x="395280" y="13413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8"/>
              <p:cNvSpPr/>
              <p:nvPr/>
            </p:nvSpPr>
            <p:spPr>
              <a:xfrm>
                <a:off x="442800" y="138096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8" name="Line 9"/>
            <p:cNvSpPr/>
            <p:nvPr/>
          </p:nvSpPr>
          <p:spPr>
            <a:xfrm>
              <a:off x="1014480" y="191772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Text Box 10"/>
            <p:cNvSpPr/>
            <p:nvPr/>
          </p:nvSpPr>
          <p:spPr>
            <a:xfrm>
              <a:off x="1520280" y="141300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1"/>
            <p:cNvSpPr/>
            <p:nvPr/>
          </p:nvSpPr>
          <p:spPr>
            <a:xfrm>
              <a:off x="5940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1" name="Group 12"/>
          <p:cNvGrpSpPr/>
          <p:nvPr/>
        </p:nvGrpSpPr>
        <p:grpSpPr>
          <a:xfrm>
            <a:off x="395280" y="2205000"/>
            <a:ext cx="3096720" cy="665280"/>
            <a:chOff x="395280" y="2205000"/>
            <a:chExt cx="3096720" cy="665280"/>
          </a:xfrm>
        </p:grpSpPr>
        <p:grpSp>
          <p:nvGrpSpPr>
            <p:cNvPr id="272" name="Group 13"/>
            <p:cNvGrpSpPr/>
            <p:nvPr/>
          </p:nvGrpSpPr>
          <p:grpSpPr>
            <a:xfrm>
              <a:off x="395280" y="2205000"/>
              <a:ext cx="819000" cy="665280"/>
              <a:chOff x="395280" y="2205000"/>
              <a:chExt cx="819000" cy="665280"/>
            </a:xfrm>
          </p:grpSpPr>
          <p:sp>
            <p:nvSpPr>
              <p:cNvPr id="273" name="AutoShape 14"/>
              <p:cNvSpPr/>
              <p:nvPr/>
            </p:nvSpPr>
            <p:spPr>
              <a:xfrm>
                <a:off x="402120" y="22161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5"/>
              <p:cNvSpPr/>
              <p:nvPr/>
            </p:nvSpPr>
            <p:spPr>
              <a:xfrm>
                <a:off x="395280" y="22050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5" name="AutoShape 16"/>
              <p:cNvSpPr/>
              <p:nvPr/>
            </p:nvSpPr>
            <p:spPr>
              <a:xfrm>
                <a:off x="442800" y="224460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6" name="Line 17"/>
            <p:cNvSpPr/>
            <p:nvPr/>
          </p:nvSpPr>
          <p:spPr>
            <a:xfrm>
              <a:off x="1014480" y="278136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1520280" y="225576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19"/>
            <p:cNvSpPr/>
            <p:nvPr/>
          </p:nvSpPr>
          <p:spPr>
            <a:xfrm>
              <a:off x="5940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395280" y="3068640"/>
            <a:ext cx="3096720" cy="665280"/>
            <a:chOff x="395280" y="3068640"/>
            <a:chExt cx="3096720" cy="665280"/>
          </a:xfrm>
        </p:grpSpPr>
        <p:grpSp>
          <p:nvGrpSpPr>
            <p:cNvPr id="280" name="Group 21"/>
            <p:cNvGrpSpPr/>
            <p:nvPr/>
          </p:nvGrpSpPr>
          <p:grpSpPr>
            <a:xfrm>
              <a:off x="395280" y="3068640"/>
              <a:ext cx="819000" cy="665280"/>
              <a:chOff x="395280" y="3068640"/>
              <a:chExt cx="819000" cy="665280"/>
            </a:xfrm>
          </p:grpSpPr>
          <p:sp>
            <p:nvSpPr>
              <p:cNvPr id="281" name="AutoShape 22"/>
              <p:cNvSpPr/>
              <p:nvPr/>
            </p:nvSpPr>
            <p:spPr>
              <a:xfrm>
                <a:off x="402120" y="30798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" name="AutoShape 23"/>
              <p:cNvSpPr/>
              <p:nvPr/>
            </p:nvSpPr>
            <p:spPr>
              <a:xfrm>
                <a:off x="395280" y="306864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3" name="AutoShape 24"/>
              <p:cNvSpPr/>
              <p:nvPr/>
            </p:nvSpPr>
            <p:spPr>
              <a:xfrm>
                <a:off x="442800" y="310824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4" name="Line 25"/>
            <p:cNvSpPr/>
            <p:nvPr/>
          </p:nvSpPr>
          <p:spPr>
            <a:xfrm>
              <a:off x="1014480" y="364500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26"/>
            <p:cNvSpPr/>
            <p:nvPr/>
          </p:nvSpPr>
          <p:spPr>
            <a:xfrm>
              <a:off x="1520280" y="3140280"/>
              <a:ext cx="135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27"/>
            <p:cNvSpPr/>
            <p:nvPr/>
          </p:nvSpPr>
          <p:spPr>
            <a:xfrm>
              <a:off x="5940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8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8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9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9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3" name="Group 44"/>
          <p:cNvGrpSpPr/>
          <p:nvPr/>
        </p:nvGrpSpPr>
        <p:grpSpPr>
          <a:xfrm>
            <a:off x="395280" y="5661000"/>
            <a:ext cx="3312720" cy="665280"/>
            <a:chOff x="395280" y="5661000"/>
            <a:chExt cx="3312720" cy="665280"/>
          </a:xfrm>
        </p:grpSpPr>
        <p:grpSp>
          <p:nvGrpSpPr>
            <p:cNvPr id="304" name="Group 45"/>
            <p:cNvGrpSpPr/>
            <p:nvPr/>
          </p:nvGrpSpPr>
          <p:grpSpPr>
            <a:xfrm>
              <a:off x="395280" y="5661000"/>
              <a:ext cx="875880" cy="665280"/>
              <a:chOff x="395280" y="5661000"/>
              <a:chExt cx="875880" cy="665280"/>
            </a:xfrm>
          </p:grpSpPr>
          <p:sp>
            <p:nvSpPr>
              <p:cNvPr id="305" name="AutoShape 46"/>
              <p:cNvSpPr/>
              <p:nvPr/>
            </p:nvSpPr>
            <p:spPr>
              <a:xfrm>
                <a:off x="402480" y="5672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47"/>
              <p:cNvSpPr/>
              <p:nvPr/>
            </p:nvSpPr>
            <p:spPr>
              <a:xfrm>
                <a:off x="395280" y="5661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7" name="AutoShape 48"/>
              <p:cNvSpPr/>
              <p:nvPr/>
            </p:nvSpPr>
            <p:spPr>
              <a:xfrm>
                <a:off x="446040" y="5700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8" name="Line 49"/>
            <p:cNvSpPr/>
            <p:nvPr/>
          </p:nvSpPr>
          <p:spPr>
            <a:xfrm>
              <a:off x="1057680" y="6237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50"/>
            <p:cNvSpPr/>
            <p:nvPr/>
          </p:nvSpPr>
          <p:spPr>
            <a:xfrm>
              <a:off x="1598760" y="5711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1"/>
            <p:cNvSpPr/>
            <p:nvPr/>
          </p:nvSpPr>
          <p:spPr>
            <a:xfrm>
              <a:off x="60696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AutoShape 53"/>
          <p:cNvSpPr/>
          <p:nvPr/>
        </p:nvSpPr>
        <p:spPr>
          <a:xfrm>
            <a:off x="3059280" y="335772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圆角矩形 54"/>
          <p:cNvSpPr/>
          <p:nvPr/>
        </p:nvSpPr>
        <p:spPr>
          <a:xfrm>
            <a:off x="3780000" y="2708280"/>
            <a:ext cx="4895640" cy="1728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天门冬氨酸转氨酶、丙氨酸转氨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A90F-1C0E-46FE-85CB-B5178C12E35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1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1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2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2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3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5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5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AutoShape 53"/>
          <p:cNvSpPr/>
          <p:nvPr/>
        </p:nvSpPr>
        <p:spPr>
          <a:xfrm>
            <a:off x="2843280" y="4292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圆角矩形 54"/>
          <p:cNvSpPr/>
          <p:nvPr/>
        </p:nvSpPr>
        <p:spPr>
          <a:xfrm>
            <a:off x="3708360" y="3500280"/>
            <a:ext cx="47530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量、尿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比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、血清肌酐清除率和尿素氮水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84C5-E0A0-4C5E-8B37-FADC61411BA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8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AutoShape 53"/>
          <p:cNvSpPr/>
          <p:nvPr/>
        </p:nvSpPr>
        <p:spPr>
          <a:xfrm>
            <a:off x="3635280" y="5084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圆角矩形 54"/>
          <p:cNvSpPr/>
          <p:nvPr/>
        </p:nvSpPr>
        <p:spPr>
          <a:xfrm>
            <a:off x="4356000" y="4653000"/>
            <a:ext cx="392616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意识状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瞳孔反射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6627-30C7-4AC0-B5EC-71EEBE84E20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3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3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4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4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5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5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5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5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3" name="AutoShape 53"/>
          <p:cNvSpPr/>
          <p:nvPr/>
        </p:nvSpPr>
        <p:spPr>
          <a:xfrm>
            <a:off x="3132000" y="59500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圆角矩形 54"/>
          <p:cNvSpPr/>
          <p:nvPr/>
        </p:nvSpPr>
        <p:spPr>
          <a:xfrm>
            <a:off x="3780000" y="5300640"/>
            <a:ext cx="496872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腹部胀气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鸣音改变等情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" name="Rectangle 56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脓毒症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预防脓毒性休克是重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V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肺动脉楔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PAW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混合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乳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组织氧代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1" name="Picture 2" descr="BD00028_"/>
          <p:cNvPicPr/>
          <p:nvPr/>
        </p:nvPicPr>
        <p:blipFill>
          <a:blip r:embed="rId1"/>
          <a:stretch/>
        </p:blipFill>
        <p:spPr>
          <a:xfrm>
            <a:off x="4859280" y="1773360"/>
            <a:ext cx="3772080" cy="39607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3"/>
          <p:cNvSpPr/>
          <p:nvPr/>
        </p:nvSpPr>
        <p:spPr>
          <a:xfrm>
            <a:off x="611280" y="2492280"/>
            <a:ext cx="410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定义及临床表现，思考相关健康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发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相关原发疾病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拮抗炎症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早期液体复苏合并多巴胺、多巴酚丁胺和去甲肾上腺素等血管活性药物的使用，机械通气、肾替代疗法、营养支持等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0920" y="1844640"/>
            <a:ext cx="51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全身炎性反应综合征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3527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61008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41194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411280" y="3141720"/>
            <a:ext cx="51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1048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过高  与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效型呼吸形态 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感染、脓毒症性休克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280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室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对机械通气患者有特别的湿度和温度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半卧位以避免误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通过各系统功能监测结果的观察和判断，及时发现病情的变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10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用药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按时按量给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监测用药后各种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观察和预防各种管道、伤口、皮肤的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的观察和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脓毒症性休克及多器官功能障碍综合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运用语言及其他心理护理方式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233D-AD9F-45BF-9878-BE87CF22E8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多器官功能障碍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是指机体在严重创伤、感染、休克等急性损伤的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后，同时或序贯出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以上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与原发病损无直接关系的器官或系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可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功能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涉及多个器官、多个系统的功能损害的复杂临床病理生理过程的综合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理评估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24000" y="2060640"/>
          <a:ext cx="8610480" cy="4078080"/>
        </p:xfrm>
        <a:graphic>
          <a:graphicData uri="http://schemas.openxmlformats.org/drawingml/2006/table">
            <a:tbl>
              <a:tblPr/>
              <a:tblGrid>
                <a:gridCol w="1152360"/>
                <a:gridCol w="1414440"/>
                <a:gridCol w="1844640"/>
                <a:gridCol w="1871640"/>
                <a:gridCol w="232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一般情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不 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急性病态、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明显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终末期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循环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补充容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容量依赖、高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休克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下降、水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心肌收缩力下降、依赖升压药维持血压、水肿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O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轻度呼吸性碱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急促、呼碱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ARDS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、严重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性酸中毒、气压伤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肾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利尿剂有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酐清除率降低、轻度氮质血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氮质血症、有血液透析指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透析效果不稳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Rectangle 181"/>
          <p:cNvSpPr/>
          <p:nvPr/>
        </p:nvSpPr>
        <p:spPr>
          <a:xfrm>
            <a:off x="3366360" y="141192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列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的相关因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制定并落实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描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过程中的几个特点。判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病情变化，提出相应护理措施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20C3-C8D8-4A0A-92F7-037E60C777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24000" y="1700280"/>
          <a:ext cx="8610480" cy="4645080"/>
        </p:xfrm>
        <a:graphic>
          <a:graphicData uri="http://schemas.openxmlformats.org/drawingml/2006/table">
            <a:tbl>
              <a:tblPr/>
              <a:tblGrid>
                <a:gridCol w="1314360"/>
                <a:gridCol w="1584360"/>
                <a:gridCol w="1758960"/>
                <a:gridCol w="1811160"/>
                <a:gridCol w="21416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胃肠道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耐受食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应激性溃疡、肠梗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泻、缺血性肠炎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肝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胆汁淤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胆红素血症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PT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延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临床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转氨酶升高、重度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血糖、对胰岛素需求增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严重分解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性酸中毒、血糖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肉耗损、乳酸酸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枢神经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意识模糊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嗜睡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有一定反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活轻度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小板减少、白细胞增多或减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凝血功能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纠正的凝血功能障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Rectangle 344"/>
          <p:cNvSpPr/>
          <p:nvPr/>
        </p:nvSpPr>
        <p:spPr>
          <a:xfrm>
            <a:off x="3366360" y="105156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6562-3F49-48EA-ABC8-C11F7DD894C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1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1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21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22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3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5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6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8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29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30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3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6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37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38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1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4" name="AutoShape 53"/>
          <p:cNvSpPr/>
          <p:nvPr/>
        </p:nvSpPr>
        <p:spPr>
          <a:xfrm>
            <a:off x="314316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圆角矩形 54"/>
          <p:cNvSpPr/>
          <p:nvPr/>
        </p:nvSpPr>
        <p:spPr>
          <a:xfrm>
            <a:off x="4140360" y="112536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机械力学检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耗量、氧输送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0F63-DF7A-42AF-9C3A-4064FC63473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5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58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59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0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1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2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4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5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66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67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8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9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0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2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3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74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75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6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8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1" name="AutoShape 53"/>
          <p:cNvSpPr/>
          <p:nvPr/>
        </p:nvSpPr>
        <p:spPr>
          <a:xfrm>
            <a:off x="3132000" y="2708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圆角矩形 54"/>
          <p:cNvSpPr/>
          <p:nvPr/>
        </p:nvSpPr>
        <p:spPr>
          <a:xfrm>
            <a:off x="3995640" y="1700280"/>
            <a:ext cx="4389480" cy="1927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监护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、肺毛细血管楔嵌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循环的总阻力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排血指数、左心室每博功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0771-E27B-462A-82EE-E2256068BDA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6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4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95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96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7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9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0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2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03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04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5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6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7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8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9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0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11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12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7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8" name="AutoShape 53"/>
          <p:cNvSpPr/>
          <p:nvPr/>
        </p:nvSpPr>
        <p:spPr>
          <a:xfrm>
            <a:off x="305928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9" name="圆角矩形 54"/>
          <p:cNvSpPr/>
          <p:nvPr/>
        </p:nvSpPr>
        <p:spPr>
          <a:xfrm>
            <a:off x="3924360" y="2997360"/>
            <a:ext cx="43894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液监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渗透清除量、自由水清除率、滤过钠排泄分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D296-8C60-48ED-9EEE-74C0C800630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62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40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48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55" name="AutoShape 53"/>
          <p:cNvSpPr/>
          <p:nvPr/>
        </p:nvSpPr>
        <p:spPr>
          <a:xfrm>
            <a:off x="3059280" y="4653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圆角矩形 54"/>
          <p:cNvSpPr/>
          <p:nvPr/>
        </p:nvSpPr>
        <p:spPr>
          <a:xfrm>
            <a:off x="3780000" y="371628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酸碱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电解质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浆渗透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糖、血红蛋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高龄、应用糖皮质激素、化疗、营养不良以及恶性肿瘤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539640" y="1916280"/>
            <a:ext cx="6696360" cy="3600360"/>
          </a:xfrm>
          <a:prstGeom prst="rightArrow">
            <a:avLst>
              <a:gd name="adj1" fmla="val 76130"/>
              <a:gd name="adj2" fmla="val 43088"/>
            </a:avLst>
          </a:prstGeom>
          <a:gradFill rotWithShape="0">
            <a:gsLst>
              <a:gs pos="0">
                <a:srgbClr val="211e54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AutoShape 5"/>
          <p:cNvSpPr/>
          <p:nvPr/>
        </p:nvSpPr>
        <p:spPr>
          <a:xfrm>
            <a:off x="539640" y="2565360"/>
            <a:ext cx="5046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c6eca"/>
              </a:gs>
              <a:gs pos="100000">
                <a:srgbClr val="3233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冠心病、尿毒症、慢性阻塞性肺部疾病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糖尿病等慢性基础疾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AutoShape 6"/>
          <p:cNvSpPr/>
          <p:nvPr/>
        </p:nvSpPr>
        <p:spPr>
          <a:xfrm>
            <a:off x="539640" y="3860640"/>
            <a:ext cx="4969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ba94f"/>
              </a:gs>
              <a:gs pos="100000">
                <a:srgbClr val="234e2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高龄、应用糖皮质激素、化疗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营养不良以及恶性肿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3" name="AutoShape 8"/>
          <p:cNvSpPr/>
          <p:nvPr/>
        </p:nvSpPr>
        <p:spPr>
          <a:xfrm>
            <a:off x="7236000" y="2637000"/>
            <a:ext cx="1728720" cy="2233440"/>
          </a:xfrm>
          <a:custGeom>
            <a:avLst/>
            <a:gdLst>
              <a:gd name="textAreaLeft" fmla="*/ 46080 w 1728720"/>
              <a:gd name="textAreaRight" fmla="*/ 1682640 w 1728720"/>
              <a:gd name="textAreaTop" fmla="*/ 46080 h 2233440"/>
              <a:gd name="textAreaBottom" fmla="*/ 2187360 h 2233440"/>
            </a:gdLst>
            <a:ahLst/>
            <a:rect l="textAreaLeft" t="textAreaTop" r="textAreaRight" b="textAreaBottom"/>
            <a:pathLst>
              <a:path w="21600" h="27905">
                <a:moveTo>
                  <a:pt x="1967" y="0"/>
                </a:moveTo>
                <a:arcTo wR="1967" hR="1967" stAng="16200000" swAng="-5400000"/>
                <a:lnTo>
                  <a:pt x="0" y="25938"/>
                </a:lnTo>
                <a:arcTo wR="1967" hR="1967" stAng="10800000" swAng="-5400000"/>
                <a:lnTo>
                  <a:pt x="19633" y="27905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原发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创伤、感染、休克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器官功能的支持与保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尽早使用呼吸机辅助呼吸、补充有效循环血容量、利尿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、及早进食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和炎症反应的调节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低效性呼吸型态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高代谢状态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全身炎性反应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537C-ABF6-4B0A-B086-3DF11F7FC0D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4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675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676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7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8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9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0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1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82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683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684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5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6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87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8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9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0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691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692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3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5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6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7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98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圆角矩形 54"/>
          <p:cNvSpPr/>
          <p:nvPr/>
        </p:nvSpPr>
        <p:spPr>
          <a:xfrm>
            <a:off x="4572000" y="1052640"/>
            <a:ext cx="4103640" cy="20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血管功能的恢复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发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早肠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官功能的严密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01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02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03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6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09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10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11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12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18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E7A9-A82D-4B7B-A26C-9304E25F563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21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22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23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5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6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7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8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9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30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31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2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4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7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38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39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0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2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5" name="AutoShape 53"/>
          <p:cNvSpPr/>
          <p:nvPr/>
        </p:nvSpPr>
        <p:spPr>
          <a:xfrm>
            <a:off x="3132000" y="263700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4"/>
          <p:cNvSpPr/>
          <p:nvPr/>
        </p:nvSpPr>
        <p:spPr>
          <a:xfrm>
            <a:off x="4067280" y="1628640"/>
            <a:ext cx="4321080" cy="223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无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期的临床表现，做好生命体征和实验室检查结果的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8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49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50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1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3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4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6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57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58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59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65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1CDF-7C8C-4552-B5A1-6ED161E57FE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8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69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70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77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78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4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85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86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7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8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9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0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1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2" name="AutoShape 53"/>
          <p:cNvSpPr/>
          <p:nvPr/>
        </p:nvSpPr>
        <p:spPr>
          <a:xfrm>
            <a:off x="341964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3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4" name="圆角矩形 54"/>
          <p:cNvSpPr/>
          <p:nvPr/>
        </p:nvSpPr>
        <p:spPr>
          <a:xfrm>
            <a:off x="4284720" y="2565360"/>
            <a:ext cx="4427640" cy="2521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包括呼吸系统、循环系统、中枢神经系统、肾功能、肝功能、胃肠道功能和凝血功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5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96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97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9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0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1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2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3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04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05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06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7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8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9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0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1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12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265B-63D4-428E-A324-7597FD73D9B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15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16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17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1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2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3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24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25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8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9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1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32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33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4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5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6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7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8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39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0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1" name="圆角矩形 54"/>
          <p:cNvSpPr/>
          <p:nvPr/>
        </p:nvSpPr>
        <p:spPr>
          <a:xfrm>
            <a:off x="4572000" y="1052640"/>
            <a:ext cx="3851280" cy="3429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照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先盐后糖、先浓后淡、先快后慢、见尿补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原则输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建立静脉通路，观察静脉点滴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输液速度，保证液体按计划输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输液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42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43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44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6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7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8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9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0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51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52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53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6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7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9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C4DF-24B1-451A-9C2C-BCCF2E3169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62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63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64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7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9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0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71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72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5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6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7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8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79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80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2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3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4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5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86" name="AutoShape 53"/>
          <p:cNvSpPr/>
          <p:nvPr/>
        </p:nvSpPr>
        <p:spPr>
          <a:xfrm>
            <a:off x="3203640" y="486900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7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8" name="圆角矩形 54"/>
          <p:cNvSpPr/>
          <p:nvPr/>
        </p:nvSpPr>
        <p:spPr>
          <a:xfrm>
            <a:off x="4140360" y="3284640"/>
            <a:ext cx="3851280" cy="295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室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基础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管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采集标本进行药物敏感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时用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9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90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91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98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99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00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3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4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5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06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3627-C159-45F3-B103-1A699C8BD11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09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910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911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6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7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918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919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2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4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25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926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927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0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1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2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33" name="AutoShape 53"/>
          <p:cNvSpPr/>
          <p:nvPr/>
        </p:nvSpPr>
        <p:spPr>
          <a:xfrm>
            <a:off x="320364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4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5" name="圆角矩形 54"/>
          <p:cNvSpPr/>
          <p:nvPr/>
        </p:nvSpPr>
        <p:spPr>
          <a:xfrm>
            <a:off x="4140360" y="4941720"/>
            <a:ext cx="4392360" cy="1295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合理运用语言和非语言的心理护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6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937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938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1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2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3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44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45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946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47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0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1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3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74AE-910B-4009-B5CD-3B61C415EE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全身炎性反应综合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炎性反应综合征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宋体"/>
              </a:rPr>
              <a:t>(SIRS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指由各种严重感染、创伤、烧伤、缺氧及再灌注损伤等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感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非感染致病因素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于机体，引起各种炎性介质释放过量和炎性细胞过渡激活，从而产生一系列级联反应或“瀑布样效应”的一种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性过度炎症病理生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状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eps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由感染因素导致的一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又可发展为严重脓毒症和脓毒症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Freeform 4"/>
          <p:cNvSpPr/>
          <p:nvPr/>
        </p:nvSpPr>
        <p:spPr>
          <a:xfrm>
            <a:off x="1403280" y="3860640"/>
            <a:ext cx="5329440" cy="180036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595026"/>
              </a:gs>
              <a:gs pos="50000">
                <a:srgbClr val="dfc75f"/>
              </a:gs>
              <a:gs pos="100000">
                <a:srgbClr val="59502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2627280" y="4005360"/>
            <a:ext cx="434880" cy="1983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646440" y="4373640"/>
            <a:ext cx="527040" cy="22680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4722840" y="4805280"/>
            <a:ext cx="64116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722840" y="2803680"/>
            <a:ext cx="641160" cy="214632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3648240" y="3065400"/>
            <a:ext cx="522000" cy="137160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2637000" y="3357720"/>
            <a:ext cx="406080" cy="731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35" name="AutoShape 11"/>
          <p:cNvCxnSpPr/>
          <p:nvPr/>
        </p:nvCxnSpPr>
        <p:spPr>
          <a:xfrm rot="5400000">
            <a:off x="2395440" y="415188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6" name="AutoShape 12"/>
          <p:cNvCxnSpPr/>
          <p:nvPr/>
        </p:nvCxnSpPr>
        <p:spPr>
          <a:xfrm rot="5400000">
            <a:off x="3195720" y="4467240"/>
            <a:ext cx="347760" cy="778680"/>
          </a:xfrm>
          <a:prstGeom prst="bentConnector3">
            <a:avLst>
              <a:gd name="adj1" fmla="val 4974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7" name="AutoShape 13"/>
          <p:cNvCxnSpPr/>
          <p:nvPr/>
        </p:nvCxnSpPr>
        <p:spPr>
          <a:xfrm rot="5400000">
            <a:off x="4222800" y="497592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138" name="Rectangle 14"/>
          <p:cNvSpPr/>
          <p:nvPr/>
        </p:nvSpPr>
        <p:spPr>
          <a:xfrm>
            <a:off x="1547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908000" y="51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严重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3276720" y="5661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性休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2050920" y="2708280"/>
            <a:ext cx="494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 理 评 估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3489-31F7-45DD-8685-FA1F9C3512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炎性反应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代谢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质分解，肌肉组织消瘦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循环动力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心输出量和低外周阻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体温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38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6℃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心率加快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异常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呼吸频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2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2mmHg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外周白细胞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白细胞计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12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4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其他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奋、烦躁或嗜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2276640"/>
          <a:ext cx="8443800" cy="4032000"/>
        </p:xfrm>
        <a:graphic>
          <a:graphicData uri="http://schemas.openxmlformats.org/drawingml/2006/table">
            <a:tbl>
              <a:tblPr/>
              <a:tblGrid>
                <a:gridCol w="2016000"/>
                <a:gridCol w="6427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身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热、寒战、心动过速、呼吸加快、白细胞总数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感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反应蛋白或前降钙素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流动力学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心排量增多，全身血管阻力降低，氧摄取率降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代谢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糖增高，胰岛素需要量增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织灌注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皮肤灌注改变，尿量减少，血乳酸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器官功能不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尿素氮或肌酐水平升高，血小板减少，高胆红素血症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81"/>
          <p:cNvSpPr/>
          <p:nvPr/>
        </p:nvSpPr>
        <p:spPr>
          <a:xfrm>
            <a:off x="2340000" y="1772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脓毒症可能的症状和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85"/>
          <p:cNvSpPr/>
          <p:nvPr/>
        </p:nvSpPr>
        <p:spPr>
          <a:xfrm>
            <a:off x="700920" y="11930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脓毒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01:17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