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1053-3576-484F-ADB5-BBE2128341C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13A1-1E83-4A79-84E7-58441716F5D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B804-2339-4E1F-8B15-27D4E01F7E8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E149A-E7A6-4089-B4BE-4AF1EBC847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D4DE-F809-4631-B320-076D0D92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1A501-7067-4B68-901C-792229E4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39B3-5323-4AB5-8538-C6A1E9F444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854B-9132-4EC1-A341-BDF2FF74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E77F-0382-41F4-803E-C3C0F0B1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F1DDF-E632-42F9-A3D2-DCFF8A3E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3266-91E3-480D-A5FD-8A1E6293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A821-AE29-4D8B-8C66-1F9AB1B5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EA29-4798-4572-B247-48AF946F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807A-0496-4A73-BCC7-19C10FB1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BBA13-A493-427F-8D0E-75C86213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A710-358B-43F1-BA02-7AECFFD71B8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app:ds:nitrogen%20balance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消化系统功能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2920" y="537372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华北理工大学护理与康复学院   景丽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E616-ACA6-4562-BB02-CDAD35953C9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7414-0C13-4B93-BA28-E3F8F92BC0B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腹痛的类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内脏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痛感弥散，定位不准确；疼痛过程缓慢、持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躯体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能准确反映病变刺激的部位，常引起肌紧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牵涉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某个内脏病变所产生的痛觉信号，被定位于远离该内脏的身体其他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FC99-E6A2-4894-9987-5DB742E1E1C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868C-7453-4B24-93E6-CE360AEED9A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腹痛的观察要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797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的部位、起始情况、程度、性质、时间 、与饮食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性、渐进性或是间歇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症状加重和缓解的因素及规律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发热、呕吐、排便的改变、腹胀、腹膜刺激征、皮肤与巩膜黄染。休克、神经精神症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23F4-E403-4439-9416-B72E1DBE74B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9C91-EB95-4F8B-A9D8-667C82B940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病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功能紊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查不到形态学的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感染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细菌感染或化学刺激引起的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主要是血管破裂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供血失常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梗阻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及管道系统的通过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穿孔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穿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1AB0-368C-414D-A498-D8CE253E788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242E-5B0B-48D8-8A0A-38CE21F8B97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穿孔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胃十二指肠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突发性上腹部刀割样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舟状腹，迅速出现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、有气腹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性腹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41BC-5F7B-4920-8D5F-1FE0D5940A9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DB76-4897-473B-999C-3F9F3240E7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炎症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急性胆囊炎、胆管炎、胰腺炎、阑尾炎、胃肠炎、盆腔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体温升高，血白细胞及中性粒细胞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痛由轻到重，呈持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固定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伴有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74DA-AD16-4367-A3C4-8C73A4C98FA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69B9-0BFF-4D1C-B6E2-2D91667CEDF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肝脾破裂、腹主动脉瘤破裂、溃疡出血、食管胃底静脉曲张破裂、异位妊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多有外伤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失血性表现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有不同程度的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gt;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积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穿刺：不凝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C728-0C4C-4F1A-87B4-6C13E583B19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6CB3-EC5B-40D8-810F-155634929FE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Verdana"/>
              </a:rPr>
              <a:t>失血性周围循环衰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率增快、血压降低、脉压减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晕厥、口干、烦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量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冷汗、面色苍白、皮肤湿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090A-C89F-4936-8C05-788398CBE3C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3378-05DA-4CAF-87B7-8D1D349AF9C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爆炸形 2 5"/>
          <p:cNvSpPr/>
          <p:nvPr/>
        </p:nvSpPr>
        <p:spPr>
          <a:xfrm rot="20559000">
            <a:off x="3624120" y="4916160"/>
            <a:ext cx="5472360" cy="1152360"/>
          </a:xfrm>
          <a:prstGeom prst="irregularSeal2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5c8c"/>
                </a:solidFill>
                <a:latin typeface="Verdana"/>
              </a:rPr>
              <a:t>液体好难打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梗阻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梗阻、肠套叠、结石、胆道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病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阵发性绞痛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初期多无腹膜刺激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呕吐，大便，黄疸，血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D844-9A46-4A2F-B0D1-D0B12D7DB18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3D38-878B-4A0A-8D3F-A825D69CB2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扭转、肠系膜动脉栓塞、绞窄性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病情发展迅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呈持续性腹痛阵发性加剧或持续剧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易出现腹膜刺激征或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2574-E141-4F0B-81ED-8A9915AEE52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4F29-7CA8-42B9-8ACA-A0F729D437C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692360" y="2708280"/>
            <a:ext cx="688680" cy="593640"/>
            <a:chOff x="1692360" y="2708280"/>
            <a:chExt cx="688680" cy="593640"/>
          </a:xfrm>
        </p:grpSpPr>
        <p:sp>
          <p:nvSpPr>
            <p:cNvPr id="115" name="AutoShape 5"/>
            <p:cNvSpPr/>
            <p:nvPr/>
          </p:nvSpPr>
          <p:spPr>
            <a:xfrm>
              <a:off x="1697760" y="27183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692360" y="27082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732320" y="274320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864080" y="27655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692360" y="347040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827360" y="35528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676520" y="4238640"/>
            <a:ext cx="686880" cy="593640"/>
            <a:chOff x="1676520" y="4238640"/>
            <a:chExt cx="68688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681920" y="424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676520" y="423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716480" y="427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844640" y="431496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2428920" y="327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2428920" y="4062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428920" y="4854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2428920" y="2406600"/>
            <a:ext cx="52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一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消化系统应用生理（自学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22"/>
          <p:cNvSpPr/>
          <p:nvPr/>
        </p:nvSpPr>
        <p:spPr>
          <a:xfrm>
            <a:off x="2500200" y="355932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23"/>
          <p:cNvSpPr/>
          <p:nvPr/>
        </p:nvSpPr>
        <p:spPr>
          <a:xfrm>
            <a:off x="2484360" y="4076640"/>
            <a:ext cx="57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三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重症胰腺炎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急性腹痛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外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腹痛，后有发热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等伴随症状。腹痛或压痛部位比较固定，程度重。可伴腹膜刺激征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内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热后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腹痛多无固定部位，程度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胃肠炎、心肌梗死、腹型过敏性紫癜、大叶性肺炎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BFBB-9A59-4BC2-B984-B8C2F92CB9E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35D1-96C1-4D1A-9913-6A81EDB4B4F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65DB-7629-4CA6-850B-15CD98FD5D5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650F-A0C1-4DAC-A817-3DE1157A585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腹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771640" y="1628640"/>
            <a:ext cx="7467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膨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腹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压的测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7031-2003-4D71-99E9-57A75087432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3276-161C-4FD6-A467-76CB7C5C059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内压测定：经导尿管膀胱测压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耻骨联合作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排空膀胱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导尿管向膀胱内滴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得平衡时水柱的高度即为腹腔内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DCD8-932B-44D3-A5AF-0E75815B38C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0F61-1727-4E18-BE62-4FC6AA5027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间室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来讲，腹腔内压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ntra—abdominal pres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增加到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&gt;25 cmH</a:t>
            </a:r>
            <a:r>
              <a:rPr b="1" lang="en-US" sz="2800" spc="-1" strike="noStrike" baseline="-25000">
                <a:solidFill>
                  <a:srgbClr val="8a5c8c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时，就会引发脏器功能障碍，出现腹腔间隔室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bdominal compartment syndrom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指继发于腹内压急剧升高的脏器功能不全。主要表现为恶心、呕吐、腹胀、呼吸困难、肠鸣音减弱或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49CC-BF4C-4250-AB67-B43BE23FC1F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52C6-1930-45BA-84A0-045F364E4E1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F281-D241-4C44-8E5E-FBEE5410156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D479-4573-4861-B2D7-00DE62E8FB1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与记录呕吐次数与量、呕吐物性质、气味、颜色、有无隔宿食物。必要时留取标本送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内积血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2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3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可引起呕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0992-F002-4303-B8DE-1CA408DD22C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3C6F-4B35-4E8A-9F3F-AB78D612C0E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留置胃管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引流液的量与性状、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是否固定妥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肠减压负压是否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7EE9-3A77-413E-ACF5-1CA7BD06986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5986-5E5A-4EEA-8A45-465452F7A1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云形标注 5"/>
          <p:cNvSpPr/>
          <p:nvPr/>
        </p:nvSpPr>
        <p:spPr>
          <a:xfrm>
            <a:off x="2448000" y="5057640"/>
            <a:ext cx="669600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5c8c"/>
                </a:solidFill>
                <a:latin typeface="Verdana"/>
              </a:rPr>
              <a:t>“</a:t>
            </a:r>
            <a:r>
              <a:rPr b="0" lang="zh-CN" sz="3200" spc="-1" strike="noStrike">
                <a:solidFill>
                  <a:srgbClr val="8a5c8c"/>
                </a:solidFill>
                <a:latin typeface="方正舒体"/>
                <a:ea typeface="方正舒体"/>
              </a:rPr>
              <a:t>引流出黄绿色胃液”？吐啦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便血的观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的次数与量、粪便性质、颜色、气味、有无里急后重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便隐血实验阳性提示每日出血量大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1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现黑便表明出血量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7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D51E-F62A-47B9-BDC2-A72A06D34CC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2A21-51E2-4001-895A-23DB35F8AB8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测出血征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呕血、黑便和便血的频度、颜色、性质、次数和总量，定期复查红细胞计数、血红蛋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血尿素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命体征和循环状况：监测意识状态、脉搏和血压、肢体温度、皮肤和甲床色泽、周围静脉特别是颈静脉充盈情况、尿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B5BD-B2D9-4DF3-A8C4-14DD448B712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41D3-8394-4A26-B961-FB3F0ADD2DE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2072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消化系统常见临床症状、体征及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疾病的临床表现和分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肝功能监测内容及临床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营养状态评估的方法和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比较不同营养支持方式的实施方法及适用范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的诊断和治疗要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消化系统疾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重症胰腺炎患者并为其制订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5D1A-D3AE-49B3-BE27-592812E0AC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活动性出血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898560"/>
            <a:ext cx="746784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呕血或黑便次数增多、颜色变鲜红。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胃管抽出物有较多鲜血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经快速输液输血，周围循环衰竭的表现未见明显改善，或虽暂时好转而又恶化，中心静脉压仍有波动，稍稳定又再下降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红细胞计数、血红蛋白测定和</a:t>
            </a:r>
            <a:r>
              <a:rPr b="1" lang="en-US" sz="27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继续下降，网织红细胞计数持续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补液和尿量足够的情况下，血尿素氮持续或再次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FEBD-314A-482A-A825-DE7E36C1E8D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225F-AD67-4D9C-AD66-A1164A17BEA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消化系统常见护理问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疼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腔内器官炎症、出血、损伤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体液不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腹腔内液体渗出、呕吐或禁食等所致的液体丢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减少进食量及异常消化功能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恐惧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焦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痛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D8CD-7049-46EE-B934-F736C96D7C1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481D-7BD3-476E-BD58-7128DA7DB62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Verdana"/>
              </a:rPr>
              <a:t>急性腹痛未明确诊断前：</a:t>
            </a:r>
            <a:r>
              <a:rPr b="1" lang="zh-CN" sz="3200" spc="-1" strike="noStrike">
                <a:solidFill>
                  <a:srgbClr val="ffc000"/>
                </a:solidFill>
                <a:latin typeface="Verdana"/>
              </a:rPr>
              <a:t>五禁四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11280" y="1628640"/>
            <a:ext cx="403992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食、水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止痛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热敷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灌肠及使用泄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止活动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40000" y="1699920"/>
            <a:ext cx="42145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休克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感染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水、电解质和酸碱失衡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腹胀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C3FF-AF85-427A-B82E-BD5CCC8FFDB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8445-FDC5-4A3C-A8B2-3D881EA8344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Verdana"/>
                <a:ea typeface="宋体"/>
              </a:rPr>
              <a:t>减轻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休克患者取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痉和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2CA8-98C2-4573-80CD-B63C6B60A63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6D0A-65E9-4BAB-B8B3-019D7E7D188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二、肝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状态及意识状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酶学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凝血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蛋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血清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慢性肝炎、肝硬化时常出现白蛋白减少而球蛋白增加，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/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比例倒置。白蛋白主要在肝中制造，一般白蛋白量越多，人体越健康，影响机体的胶体渗透压水平。球蛋白大部分在肝细胞外生成，球蛋白与人体的免疫力有关系，球蛋白要保持一定的量，球蛋白值偏高说明体内存在免疫系统的亢进，偏低说明免疫力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.1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主要用于诊断肝疾病和胆道梗阻。当肝发生炎症、坏死、中毒等损害均可以引起黄疸，胆道疾病及溶血性疾病也可以引起黄疸。以直接胆红素升高为主常见于原发性胆汁型肝硬化、胆道梗阻等。以间接胆红素升高为主常见于溶血性疾病、新生儿黄疸或者输血错误等。肝炎与肝硬化患者的直接胆红素与间接胆红素都可以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别说明：一般来说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黄疸，视诊不易察出，称为隐性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轻度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中度黄疸；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高度黄疸。完全阻塞性黄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1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不完全阻塞者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6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肝细胞性黄疸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溶血性黄疸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血清酶学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血氨的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正常值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μmol/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：血氨值偏高可能影响肝病患者肝昏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化系统的主要生理功能是摄取和消化食物、吸收营养和排泄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肝性脑病为例讲授重症消化患者护理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重症胰腺炎患者重症监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营养素的调理作用，调节免疫功能，增强机体抗病能力，从而影响疾病的发展与转归，这是实现危重症患者营养支持的总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营养状态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人体测量、实验室检查及综合营养评定方法等手段，判定人体营养状况，确定营养不良的程度及类型，并监测营养支持疗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褶厚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推断全身脂肪含量、判断皮下脂肪发育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定部位主要有上臂肱三头肌、肩胛下角部及腹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上常用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S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测定：在右上臂后面肩峰与鹰嘴连线的中点，夹取与上肢长轴平行的皮褶，纵向测量。正常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正常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体脂轻度亏损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亏损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亏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上臂肌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间接反映机体内蛋白质储存情况，与血清白蛋白水平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4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肌围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4.8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1.0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参考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轻度营养不良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。测量上臂围时，被测者上臂自然下垂，取上臂中点，用软尺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血清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rum albu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L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持续低白蛋白血症被认为是判定营养不良的可靠指标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若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则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转铁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ansferr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时更为敏感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属于中度营养不良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严重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肌酐身高指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1"/>
              </a:rPr>
              <a:t>nitrogen balanc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机体蛋白质营养状况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最可靠和最常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指标。一般食物的蛋白质中氮的平均含量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。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 =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蛋白质摄入量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6.2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[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中尿素氮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]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其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为人体每天通过呼吸道、粪便、汗液及尿中其他形式排出的氮。若氮摄入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氮排出量为氮平衡，氮摄入量＞氮排出量为正氮平衡，氮摄入量＜氮排出量为负氮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免疫功能评定：危重症患者中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者，常伴有细胞免疫功能减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总淋巴细胞计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是目前评定细胞免疫功能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简易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正常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-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轻度营养不良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-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中度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肤迟发型超敏反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D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综合营养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8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重症患者常合并代谢紊乱与营养不良，需要给予营养支持；且应尽早开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机体能量消耗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1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基础热量消耗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asal energy expenditur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，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E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4+13.7×W+5.0×H-6.8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5+9.6×W+1.8×H-4.7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静息能量消耗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：餐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，合适温度下，安静平卧或静坐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所测得的人体能量消耗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％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5.48×H +11.51×W-3.47×A-189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2.95×H +8.73×W-1.94×A+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计算总能量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公式计算法：在活动、应激和发热时，危重症患者，公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EE=BEE×AF×IF×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得出，其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活动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应激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体温系数，以正常体温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体温每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系数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0.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活动系数和应激系数见教材（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和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1699920"/>
            <a:ext cx="7772400" cy="25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第二节   临床监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易估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总能量可以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 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计算，但不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重症患者急性应激期营养支持应掌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允许性低热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原则，能量补充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应激与代谢状态稳定后能量供给需要适当的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否则将难以纠正患者的低蛋白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非蛋白供能物质：以碳水化合物、脂肪共同供能为首选。碳水化合物与脂肪热量比可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碳水化合物的供给量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0g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而脂肪乳剂所提供的脂肪量，通常每日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5g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蛋白质：正常情况下，足够的蛋白质供给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0g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危重症患者热氮比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在严重应激下，尤其是对重症肺炎，热氮比应适当降至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3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24000" y="1197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水及电解质：可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ml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估计液体的需要量，再加上丢失量，即为液体补充量；体温升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基础体温）时，需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0m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入量。正常成年人电解质日需要量分别为：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-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.0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6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9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1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葡萄糖酸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6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5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硫酸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7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微量营养素：包括水溶性维生素、脂溶性维生素和必需微量元素。目前药品市场上复合性多种维生素和微量元素制剂较多，使用方便、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确定营养支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r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内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两种方法共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输注途径与方式，周围静脉或中心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肠外、肠内营养支持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途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液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并发症及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756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第三节  急性重症胰腺炎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胰腺炎伴有脏器功能障碍，或出现坏死、脓肿或假性囊肿等局部并发症者，或两者兼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腹部体征有上腹部明显的压痛、反跳痛、肌紧张、腹胀、肠鸣音减弱或消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包块，偶见腰肋部皮下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Grey-Tumer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和脐周皮下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可并发一个或多个脏器功能障碍，或严重代谢功能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诊断胰腺坏死的最有效方法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及腹腔穿刺对诊断有一定帮助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althazar 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系统≥Ⅱ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重症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诊断标准为：有急性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临床表现和生化改变，且具备下列条件之一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并发症（胰腺坏死、脓肿或假性囊肿等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个或多个器官衰竭，可伴有严重的代谢功能紊乱，包括低钙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Ranson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Balthazar C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级≥Ⅱ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者，男性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主诉：上腹部疼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加重伴恶心呕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现病史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患者因朋友聚会，共饮白酒约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50m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于夜间出现上腹部疼痛，持续性伴阵发性加剧，伴后腰部放散痛，自服止痛药效果不明显，屈膝侧卧位疼痛略缓解。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腹痛加重，伴恶心、呕吐，呕吐物为胃内容物，并有发热，体温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7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无寒战。于我院门诊急检尿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为求进一步诊治入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既往史：否认糖尿病、高血压病史及家族史，否认肝炎及结核病史，无药物过敏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体格检查：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T 36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P 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 1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BP 120/80mmHg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神清语明，皮肤黏膜未见异常，浅表淋巴结未触及肿大。双肺呼吸音清晰，未闻及干湿音，心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节律规整，心脏各瓣膜听诊区未闻及病理性杂音。腹平软，左上腹压痛，无反跳痛及肌紧张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征阴性，肝肋下未触及。双下肢无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辅助检查血常规：白细胞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NE%78%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红细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2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小板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钾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钙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0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糖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请问应如何对该患者进行评估与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3A15-48D5-4836-A0FE-A4EABD723F2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F2E0-F944-466B-A29C-2B3C7D4079C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组合 20"/>
          <p:cNvGrpSpPr/>
          <p:nvPr/>
        </p:nvGrpSpPr>
        <p:grpSpPr>
          <a:xfrm>
            <a:off x="539640" y="1413000"/>
            <a:ext cx="8064720" cy="4319640"/>
            <a:chOff x="539640" y="1413000"/>
            <a:chExt cx="8064720" cy="4319640"/>
          </a:xfrm>
        </p:grpSpPr>
        <p:pic>
          <p:nvPicPr>
            <p:cNvPr id="144" name="矩形 9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18313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10"/>
            <p:cNvSpPr/>
            <p:nvPr/>
          </p:nvSpPr>
          <p:spPr>
            <a:xfrm>
              <a:off x="3142440" y="14295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及家属：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病史、</a:t>
              </a: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心理社会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矩形 11"/>
            <p:cNvSpPr/>
            <p:nvPr/>
          </p:nvSpPr>
          <p:spPr>
            <a:xfrm>
              <a:off x="3142440" y="3002040"/>
              <a:ext cx="5461920" cy="107136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：主诉、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体格检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矩形 12"/>
            <p:cNvSpPr/>
            <p:nvPr/>
          </p:nvSpPr>
          <p:spPr>
            <a:xfrm>
              <a:off x="3142440" y="47163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临床症状、体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左箭头 13"/>
            <p:cNvSpPr/>
            <p:nvPr/>
          </p:nvSpPr>
          <p:spPr>
            <a:xfrm>
              <a:off x="2423160" y="17874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左箭头 16"/>
            <p:cNvSpPr/>
            <p:nvPr/>
          </p:nvSpPr>
          <p:spPr>
            <a:xfrm>
              <a:off x="2423160" y="34308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左箭头 17"/>
            <p:cNvSpPr/>
            <p:nvPr/>
          </p:nvSpPr>
          <p:spPr>
            <a:xfrm>
              <a:off x="2423160" y="507384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恶心、呕吐及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水、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低血压和休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r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urne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液体积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胰腺假性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脓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及胰周组织坏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呼吸窘迫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：急性肾衰竭、心律失常或心力衰竭、肝功能衰竭、消化道出血、败血症、胰性脑病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实验室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白细胞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血清脂肪酶测定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脂肪酶常在起病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开始上升，持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天，对病后就诊较晚的急性胰腺炎患者有诊断价值，且特异性也较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淀粉酶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：诊断中应注意淀粉酶的高低不一定反映病情轻重，出血坏死型胰腺炎淀粉酶值可正常或低于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反应蛋白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RP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其他生化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影像学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：急性期可见“哨兵袢”和“结肠切割征”，是胰腺炎的间接指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：可以观察胰腺形态及有无胆道结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：是近年来被广泛接受的敏感确诊急性胰腺炎的方法。在口服或静脉注射增强造影剂后，可以得到清晰的胰腺图像，是诊断胰腺坏死的金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采取非手术治疗以维护器官功能，感染性坏死采用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病因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胆源性：有胆道梗阻者及时解除梗阻。若无胆道梗阻者先行非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高血脂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酒精性：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抑制胰酶分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禁食和胃肠减压；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静脉滴注抑肽酶、加贝酯；③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受体拮抗剂或质子泵抑制剂；④应用生长抑素及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抗生素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用对肠道异位细菌敏感且对胰腺有较好渗透性的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纠正水、电解质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营养支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患者早期条件允许即给予营养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并发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中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腔灌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适用于出血坏死型胰腺炎伴大量腹腔渗液者，可清除胰腺渗出物和释放的胰酶等有毒物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手术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出血坏死性胰腺炎经内科治疗无效，或胰腺炎并发脓肿、假性囊肿、弥漫性腹膜炎、肠穿孔、肠梗阻及肠麻痹坏死时，需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方正舒体"/>
                <a:ea typeface="方正舒体"/>
              </a:rPr>
              <a:t>护理诊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   与胰腺及其周围组织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液不足  与体液外渗及血管扩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失调  低于机体需要量，与禁食、呕吐、胃肠减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灌注不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胰腺出血坏死，腹腔、腹膜后大量渗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恐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腹痛剧烈及病情进展急骤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休克、急性肾衰竭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胰性脑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心力衰竭、感染和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A106-653F-4074-88A9-AFD836C2607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D2EF-1BDE-4727-90F5-3DA357EE3E1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般护理措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、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镇痛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和迅速纠正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患者的体温变化，必要时给予物理降温或药物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护理：保持患者清洁，协助调整体位，及时清除排泄物及渗出液，做好患者的皮肤保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84E4-120A-4BB7-A676-1D071C05628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BDF4-218D-4CE0-8AA1-EBAD518F00D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病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日常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患病的起始情况、主要症状及其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检查、治疗经过及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疾病史及药物史、心理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8672-02A7-41AD-8648-6CCBE3538D3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FD4E-2225-48EE-B651-55491F8195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急性反应期的监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基本生命体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神智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循环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V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尿量、皮肤黏膜、肢端循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呼吸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呼吸频率、状态、肺部听诊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i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血气分析、胸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消化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营养状况、黄疸、腹部体征（外观、腹膜刺激征、腹水、腹压）、胃肠功能（肠鸣、胃液、大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其他器官功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肾功、肝功、血糖、血尿淀粉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辅助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其他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C9A1-16FE-4C7B-BCE7-B4DAB2D39E5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5E2F-C949-489D-9BED-48349BD7783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血糖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血糖及与血糖改变相关的症状和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在排除休克的情况下患者出现出冷汗、旋晕、意识水平下降等，应考虑低血糖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糖浓度居高不下或波动太大，最好能每小时监测血糖，根据血糖水平调整外源性胰岛素补充的量及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E438-F16D-49F5-9D50-E12F355888F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4C76-12F2-4E3E-93D9-449A80B3EAE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1 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应安置于一个环境清洁、相对隔离的单间，保持室内合适的温度及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患者的体温，高热患者应每小时监测体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气道分泌物、尿液、腹腔引流液的性状、气味、颜色及细菌学检查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各种引流管道通畅，做好各种管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引流口及伤口无菌，敷料清洁、干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4D61-A8B5-4205-AB5F-9E711B46C0E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C118-CDAF-4533-ADCD-B9D9100D9B4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2920" y="1071360"/>
            <a:ext cx="9253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各种侵入性操作时应严格遵循无菌原则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做好人工气道护理，合理进行人工气道湿化及胸部理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治疗各种感染病灶，包括褥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患者营养，增强机体抵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药物敏感试验合理使用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EA9E-1518-4477-BCE3-163AF3C44F0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BB32-8000-47DD-8AE2-3B59C3D4D04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、鼻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气管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心静脉置管、血透用股静脉置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2E0E-C4CF-44CF-B203-4B56EA9C484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7B7D-8AA2-47A4-9EB7-20EF5704397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明确标记 ：名称、更换日期，记录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妥善固定，尤其翻身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引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密闭，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皮肤的护理，及时更换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准确记录引流物的量及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2E3D-02FF-45A1-9590-387CBF36BBC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4AD0-AC23-4E79-AB6E-304A9A1BF12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移位和滑脱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导管插入深度，在鼻翼和同侧面颊处用宽胶布双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堵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每次灌注营养液前后均用温水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冲洗管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输注者应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未使用者至少每天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475F-A2E7-44F3-8E84-7B39EF570F3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87B2-B56B-4FFD-A38B-D84854D9BF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3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鼻空肠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8a5c8c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有效的负压引流，负压宜大，以能吸引出腹腔液体、引流管周围无渗出液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见坏死组织堵塞管道，应及时挤压维持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有血性液引出，应立即减小负压并通知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密切观察冲洗液与引流液在量上的对比及引流液的量、色、性、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1065-24A4-4B96-AAD5-60481F56C90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D2CA-B842-4C16-A685-E682836967F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4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引流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完整性受损的危险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54AB-A8FB-4904-A6D1-F4090BDD759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5CE0-B7AB-4D50-8345-27D519D5C1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加强会阴及肛周的清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涂紫草油、鞣酸、皮肤保护膜等进行皮肤保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留置肛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气垫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定时翻身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水胶体敷料保护受压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5512-E282-4818-BF85-277CA0D4D55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6DBB-208B-4CB1-9225-CEA4D36BCF3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体格检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视诊：营养情况、皮肤黏膜、腹部外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听诊：肠鸣音、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触诊：腹部紧张度、有无压痛及反跳痛及其发生部位与程度；肝脾、包块及其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叩诊：实音、鼓音、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250C-77B8-4263-9A6E-BFE9B5F9C18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7883-E29A-4959-9115-D7610311D87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造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口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维持腹腔引流管有效的负压吸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及时更换浸湿的敷料及床单，清洁皮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皮肤保护膜等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营养不良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CE23-44FD-4455-B8E9-62A96E1404A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E870-E959-4403-AAF6-7172E38A276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9" name="矩形 4" descr=""/>
          <p:cNvPicPr/>
          <p:nvPr/>
        </p:nvPicPr>
        <p:blipFill>
          <a:blip r:embed="rId1"/>
          <a:stretch/>
        </p:blipFill>
        <p:spPr>
          <a:xfrm>
            <a:off x="2371680" y="2762280"/>
            <a:ext cx="4363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消化系统的常见症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厌食、恶心呕吐、嗳气与反酸、咽下困难、胸骨或剑突下烧灼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与粪便性状、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、便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与巩膜黄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FCE5-6410-45BD-AD66-64010693F18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FC95-AEE4-48EE-96E0-78AECC236DD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30:58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