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B1147-C7C7-47AB-80A6-2622F39509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0F3D3-9947-4E60-A471-25E2175C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B487B-A193-4E27-9307-052776EA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3B252-71A5-49E5-8DF1-D95C077137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DBFFB-F1A4-444C-AB3D-884C9296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D83A5-7240-4300-A2E2-CA937BFE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46895-BD31-4516-A89C-135CE1E3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59B39-6D36-4607-A010-4BD137651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BA200-0523-4779-8BEC-57260EA50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CDC05-4B93-4E38-838F-6AB4A126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6CA73-2A2C-482A-B533-C134BE23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7CA9E-59F0-4DBE-9FA6-8FFE09D5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355E-56F9-44A1-8DA6-CBD68C1F684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四章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的设置与管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的设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护理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医院感染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重症监护病房基本设备要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人员要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的耐药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呼吸机相关性肺炎、中心静脉导管相关性血流感染、导尿管相关性尿路感染、多重耐药细菌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8B12-81B5-4281-9DBF-9DC2AD19823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8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设置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院感染的管理内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施预防和控制措施减少危重患者的呼吸机相关性肺炎、导管相关血流感染、导尿管相关性尿路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施多重耐药细菌感染的预防和控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BF38-CDD7-4425-8AC8-0CAFE773A6E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BFFD-EF7E-478E-B268-59EBC193178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的设置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785600"/>
            <a:ext cx="856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一、重症监护病房的设置原则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二、重症监护病房的分区环境和布局设置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三、重症监护病房基本设备要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人员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安全和质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医院感染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房感染控制基本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控感人员进行重症监护感染管理目标监测的培训，确定感染源和危险因素，及时发现感染的暴发和聚集，给予及时的控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动态监测入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ICU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患者呼吸道、泌尿道、血液及伤口的致病微生物及药物敏感的监测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制定护理规章和流程，培训医务人员，并且监督其正确执行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正确处理环境和设备，如空气净化处理，呼吸机及管路的清洗、消毒和使用，床旁血滤机器操作，纤维支气管镜的清洗、消毒和使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合理应用抗生素，达到减少院内耐药细菌的产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职工进行保健和教育，保证医务人员的安全和健康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院感染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工作人员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访客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物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菌药物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废物与排泄物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的医院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机相关性肺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ventilator associated pneumoni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VAP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血管内导管相关性血流感染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entral line associated  blood stream infection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LABS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导尿管相关性尿路感染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theter associated urinary tract inf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UT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多重耐药细菌感染的预防和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8-28T05:42:11Z</dcterms:modified>
  <cp:revision>5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