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9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12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0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10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Click to edit the outline text format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1" marL="623880" indent="-239760" algn="ctr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Second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2" marL="960120" indent="-191880" algn="ctr">
              <a:spcBef>
                <a:spcPts val="100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Third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3" marL="1343880" indent="-191880" algn="ctr">
              <a:spcBef>
                <a:spcPts val="100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Fourth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4" marL="1728000" indent="-191880" algn="ctr">
              <a:spcBef>
                <a:spcPts val="100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Fifth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5" marL="1728000" indent="-191880" algn="ctr">
              <a:spcBef>
                <a:spcPts val="100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Sixth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  <a:p>
            <a:pPr lvl="6" marL="1728000" indent="-191880" algn="ctr">
              <a:spcBef>
                <a:spcPts val="100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Seventh Outline Level</a:t>
            </a:r>
            <a:endParaRPr b="1" lang="en-US" sz="40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63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三章  家庭访视与居家护理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一节  家庭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三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学龄儿童的家庭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防止意外事故和传染病的发生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协助孩子适应学校生活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维持满意的家庭婚姻关系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四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青少年的家庭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家庭中要维持开放的亲子沟通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协助孩子认识自己的身体及发展自我认同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使孩子在自由和责任间取得平衡。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五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具有开创潜能的家庭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家庭婚姻的再调试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高龄父母的照护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放手让孩子健康成长为年轻的成年人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六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年家庭，孩子成年另组家庭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稳固婚姻关系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面对更年期及慢性病防治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提供健康环境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培养休闲兴趣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七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老年家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退休后角色改变与调适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收入减少、健康状况衰退、配偶死亡的调适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维持满意的生活安排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四、家庭对个人健康的影响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2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对个人健康的影响</a:t>
            </a:r>
            <a:r>
              <a:rPr b="1" lang="zh-CN" sz="800" spc="-1" strike="noStrike">
                <a:solidFill>
                  <a:srgbClr val="800080"/>
                </a:solidFill>
                <a:latin typeface="黑体"/>
              </a:rPr>
              <a:t>   </a:t>
            </a:r>
            <a:endParaRPr b="0" lang="en-US" sz="800" spc="-1" strike="noStrike">
              <a:solidFill>
                <a:srgbClr val="800080"/>
              </a:solidFill>
              <a:latin typeface="黑体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遗传的影响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生长发育的影响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疾病传播的影响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发病和死亡的影响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康复的影响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五、健康家庭应具备的条件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黑体"/>
              </a:rPr>
              <a:t>  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</a:rPr>
              <a:t>衡量一个健康家庭必须具备以下条件</a:t>
            </a:r>
            <a:endParaRPr b="0" lang="en-US" sz="36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中有良好的交流氛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增进家庭成员的发展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能积极地面对矛盾与解决问题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健康的居住环境及生活方式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社区保持联系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第三章  家庭访视与居家护理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第二节  家庭访视</a:t>
            </a:r>
            <a:endParaRPr b="1" lang="en-US" sz="4000" spc="-1" strike="noStrike">
              <a:solidFill>
                <a:srgbClr val="ff99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学 习 目 标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识记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访视的概念、目的和种类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理解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社区护士与服务家庭关系的建立及安全管理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</a:rPr>
              <a:t>3.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运用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能按家庭访视的原则和步骤进行访视。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访视概述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访视的概念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访视简称家访，指的是为了促进和维持个体和家庭的健康，与护理对象进行有目的的交往活动。它是开展社区护理的重要手段。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学习目标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识记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访视、健康家庭的概念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宋体"/>
              </a:rPr>
              <a:t>护理程序在家庭护理中的应用，社区护士与服务家庭关系的建立及安全管理。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理解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概念、结构功能及家庭对个人健康的影响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健康家庭应具备的条件。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3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运用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制订一份家庭成员的健康档案、完成一份家庭的访视或护理计划。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访视概述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访视的目的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护士通过家庭访视，实地了解家庭环境、设备、家庭成员的健康状况、家庭结构、家庭功能，从而发现家庭的健康问题，运用家庭内在、外在资源，实施护理服务，解决家庭的健康问题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访视概述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访视的种类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预防性家访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评估性家访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连续照顾性家访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急诊性家访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访视概述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家庭访视的优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照顾个体提供更多的机会，利于指导家庭成员参与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能够观察和了解到与健康有关的环境因素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熟悉的环境中个体容易接受信息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患者在家中接受护理，减少过多的医疗花费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社区护士与服务家庭的关系 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护士与服务家庭关系建立的过程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建立过程包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开始阶段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工作阶段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结束阶段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社区护士与服务家庭的关系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护士与服务家庭关系的特点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对家访有较多的控制力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护理目标多为长期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护士的服务活动与家庭成员的行为相互依赖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社区护士与服务家庭的关系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护士与服务家庭要遵循的原则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社区护士的服务强调整个家庭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健康服务包括整个健康范围的需求和三级预防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在有关其自己的健康决策时有自主性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护士在服务家庭中是客人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社区护士的安全管理 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社区护士的自我保护原则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访视过程中应付危险情况的原则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保护家庭成员的安全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保护自己的安全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社区护士的安全管理 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访视的步骤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访视前准备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包括访视对象的准备、所需药品物品的准备及相关资料的阅读准备等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访视阶段工作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谈论访视目的、按护理程序进行、整理记录、预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社区护士的安全管理 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访视后工作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做好家访护理记录，书写访视报告，分析效果和预后，分析和总结服务的成败与经验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根据家访中收集的信息，针对新问题，可更改护理计划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访视后工作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相关的健康工作人员交流服务对象的情况，现有资源不能满足服务对象需求时，做转诊安排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访视对象的健康问题已解决，即可停止访视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的概念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的定义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46996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家庭是以婚姻和血缘关系为纽带的社会生活组织形式，是社会的基本单位。从护理学观点来看，家庭是个开放、发展的社会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宋体"/>
              </a:rPr>
              <a:t>案例</a:t>
            </a:r>
            <a:endParaRPr b="1" lang="en-US" sz="4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张先生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6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岁，来到社区卫生中心，希望社区护士给予姐姐帮助。张先生反映的情况是，姐姐张某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7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岁，半年前，因脑卒中瘫痪在床，生活不能自理，照顾的责任主要由其丈夫来承担。近日，张某姐姐的丈夫因过于疲劳经常感觉胸闷。张先生担心这样下去，姐姐的家庭会支持不下去，所以请求社区护士的帮助。社区护士进行家庭访视前最应做的事情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社区护士最需要收集的资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第三章  家庭访视与居家护理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第三节  家庭护理</a:t>
            </a:r>
            <a:endParaRPr b="1" lang="en-US" sz="4000" spc="-1" strike="noStrike">
              <a:solidFill>
                <a:srgbClr val="ff99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学 习 目 标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识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家庭护理原则、护理诊断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黑体"/>
              </a:rPr>
              <a:t>2.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</a:rPr>
              <a:t>理解</a:t>
            </a:r>
            <a:endParaRPr b="0" lang="en-US" sz="36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护理程序在社区家庭护理中的运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黑体"/>
              </a:rPr>
              <a:t>3.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</a:rPr>
              <a:t>运用</a:t>
            </a:r>
            <a:endParaRPr b="0" lang="en-US" sz="36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能提出家庭护理诊断、制订一份科学合理的家庭护理计划、实施并客观评价效果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护理的目的与原则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的目的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家庭发现有碍健康的问题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家庭实行保健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全家获得身心健康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护理的目的与原则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</a:rPr>
              <a:t>家庭护理的原则</a:t>
            </a:r>
            <a:endParaRPr b="0" lang="en-US" sz="36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家庭成员建立人际关系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提供家庭有关疾病的医疗协助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家庭成员有关心理及社会的适应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家庭成员获得有利健康的环境与生活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助家庭运用资源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6108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社区护士在家庭护理中的职责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社区护士在家庭护理中的职责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提供直接护理者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协调、合作、咨询者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个案发现者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流行病学者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环境改变者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健康教育者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评估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个体需求的评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分系统的评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环境的评估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评估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单位评估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lvl="1" marL="7279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家庭基本资料评估 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家庭内部结构评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家庭功能的评估   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家庭发展阶段的评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家庭压力与应对的评估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诊断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家庭的需求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个体成员需求、家庭分系统需求、家庭单位需求以及家庭环境的需求。护理诊断应全面，既要考虑个体成员又要考虑家庭分系统。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诊断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家庭功能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）功能层次一：混乱家庭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）功能层次二：中间家庭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）功能层次三：青少年期家庭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）功能层次四：成人期家庭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的概念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黑体"/>
              </a:rPr>
              <a:t>家庭的特点</a:t>
            </a:r>
            <a:endParaRPr b="0" lang="en-US" sz="36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个或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个以上的人组成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婚姻是家庭的起点、基础和根本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父母子女关系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父母子女以外的直系、旁系亲属和建立了正式领养关系的人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共同生活及密切的经济交往为条件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诊断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护理对象及护理活动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根据服务家庭的需求、资源、卫生保健费用、护士的能力和时间综合分析确定护理活动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护理的重点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计划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社区护士制订家庭护理计划遵循以下原则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互动性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独特性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设立切合实际的目标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结合家庭价值观和卫生保健信念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与其他卫生保健人员合作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护理措施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帮助家庭应对疾病或各种压力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指导家庭正确面对发展中的改变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为家庭联系所需的资源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帮助家庭在环境中保持健康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评价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方法  家庭护理评价包括过程评价和终末评价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影响评价的因素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资料的可靠性、可利用的资源、家庭期盼的高低、家庭与护士的交往状况、护士的态度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评价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评价的内容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目标的检查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对家庭中患者的护理效果的检查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对个体效果的检查   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对家庭分系统效果的检查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家庭单位效果的检查 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与环境相互影响的检查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护理工作检查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评价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评价的结果（评价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个可能的结果）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修改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继续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问题解决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宋体"/>
              </a:rPr>
              <a:t>三、护理程序在家庭护理中的应用</a:t>
            </a:r>
            <a:endParaRPr b="1" lang="en-US" sz="40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护理人员与家庭关系的终止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在最后的家访中，护士应开始向家庭提起不久将要终止护理服务，并共同制定下一个日期和目标作为终止的标志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一、家庭的概念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家庭的分类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</p:txBody>
      </p:sp>
      <p:grpSp>
        <p:nvGrpSpPr>
          <p:cNvPr id="116" name="Diagram 5"/>
          <p:cNvGrpSpPr/>
          <p:nvPr/>
        </p:nvGrpSpPr>
        <p:grpSpPr>
          <a:xfrm>
            <a:off x="990720" y="2269080"/>
            <a:ext cx="7086240" cy="3766680"/>
            <a:chOff x="990720" y="2269080"/>
            <a:chExt cx="7086240" cy="3766680"/>
          </a:xfrm>
        </p:grpSpPr>
        <p:sp>
          <p:nvSpPr>
            <p:cNvPr id="117" name="_s1028"/>
            <p:cNvSpPr/>
            <p:nvPr/>
          </p:nvSpPr>
          <p:spPr>
            <a:xfrm flipH="1">
              <a:off x="2761920" y="4152600"/>
              <a:ext cx="88596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_s1029"/>
            <p:cNvSpPr/>
            <p:nvPr/>
          </p:nvSpPr>
          <p:spPr>
            <a:xfrm>
              <a:off x="990720" y="3682080"/>
              <a:ext cx="1771560" cy="94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核心家庭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_s1030"/>
            <p:cNvSpPr/>
            <p:nvPr/>
          </p:nvSpPr>
          <p:spPr>
            <a:xfrm>
              <a:off x="4533840" y="4623480"/>
              <a:ext cx="0" cy="4708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3648240" y="5094360"/>
              <a:ext cx="1770840" cy="94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其他家庭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5419080" y="4152600"/>
              <a:ext cx="88596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6305400" y="3682080"/>
              <a:ext cx="1771560" cy="94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联合家庭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 flipV="1">
              <a:off x="4533840" y="3210840"/>
              <a:ext cx="0" cy="4708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3648240" y="2269080"/>
              <a:ext cx="1770840" cy="94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主干家庭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_s1036"/>
            <p:cNvSpPr/>
            <p:nvPr/>
          </p:nvSpPr>
          <p:spPr>
            <a:xfrm>
              <a:off x="3648240" y="3682080"/>
              <a:ext cx="1770840" cy="941400"/>
            </a:xfrm>
            <a:prstGeom prst="ellipse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家庭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家庭的结构与功能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结构分为内在结构与外在结构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内在结构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内在结构的具体表现即家庭关系，亦即家庭成员之间的互动行为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外在结构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包括一切与家庭的衣食住行相关的外围环境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二、家庭的结构与功能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家庭的功能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情感功能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社会化功能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生殖功能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经济功能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健康照顾功能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一期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刚组成的家庭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主题是夫妇间的亲密和自主关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Picture 7" descr="MC900418644[1]"/>
          <p:cNvPicPr/>
          <p:nvPr/>
        </p:nvPicPr>
        <p:blipFill>
          <a:blip r:embed="rId1"/>
          <a:stretch/>
        </p:blipFill>
        <p:spPr>
          <a:xfrm flipH="1">
            <a:off x="6324120" y="2438280"/>
            <a:ext cx="251460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黑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宋体"/>
              </a:rPr>
              <a:t>三、家庭生活周期与护理要点</a:t>
            </a:r>
            <a:endParaRPr b="1" lang="en-US" sz="4400" spc="-1" strike="noStrike">
              <a:solidFill>
                <a:srgbClr val="ff99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第二期</a:t>
            </a:r>
            <a:endParaRPr b="0" lang="en-US" sz="3200" spc="-1" strike="noStrike">
              <a:solidFill>
                <a:srgbClr val="80008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家庭中诞生了第一个小孩</a:t>
            </a:r>
            <a:endParaRPr b="0" lang="en-US" sz="2800" spc="-1" strike="noStrike">
              <a:solidFill>
                <a:srgbClr val="800080"/>
              </a:solidFill>
              <a:latin typeface="黑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护理要点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制订家庭计划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产前、产后保健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婴幼儿保健。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增进父母抚育婴儿所需要的能力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9" name="Picture 5" descr="MC900310224[1]"/>
          <p:cNvPicPr/>
          <p:nvPr/>
        </p:nvPicPr>
        <p:blipFill>
          <a:blip r:embed="rId1"/>
          <a:stretch/>
        </p:blipFill>
        <p:spPr>
          <a:xfrm>
            <a:off x="6019920" y="2438280"/>
            <a:ext cx="2209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1:42:42Z</dcterms:created>
  <dc:creator>lenovo</dc:creator>
  <dc:description/>
  <dc:language>en-US</dc:language>
  <cp:lastModifiedBy>刘云涛</cp:lastModifiedBy>
  <dcterms:modified xsi:type="dcterms:W3CDTF">2015-08-28T02:30:20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