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D3559-1AA2-47AD-B1CC-CEF80D0EA3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657D5-0ED6-4669-A198-98E469D5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1E4E2-3D57-4312-B38C-C2EACD9D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FFD41-AD7F-41FF-81A5-FD4102A83C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E2D37-6248-460D-8112-E62A4C47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F2D2B-EFF0-4CCB-9CB3-ECAA7AC4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C7DD8-5E48-471D-B3FF-710B27DC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2EDCD-47CF-4C91-AA00-B2D75C62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8DAC7-286E-4C4C-BC0B-7B8E966E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4B36D-B7EC-4CF7-9DAC-E1704E4C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B21F7-2B6F-4185-AB38-B26669CE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0B181-91E3-475F-A7ED-24D6424C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1833-5FF5-44EB-89D4-74CACF52A38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446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第九章 传染病社区管理与患者的居家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社区传染病患者的访视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访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首次家庭访视应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一次复访一般为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二次复访一般在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左右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已转为慢性的患者，每年至少再访视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。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6292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访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初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核实诊断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调查来源，判断疫情性质及蔓延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采取切实可行的防疫措施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对患者及其家属进行健康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了解患者和家属的心理状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填写“传染病调查表”或其他相关表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复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全面了解患者病程，病情发展情况或痊愈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的防疫措施是否具体落实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填写“传染病复访表”或其他相关表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依据实际情况确定下次是否复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社区常见传染病患者的居家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68360" y="1988640"/>
            <a:ext cx="4321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病毒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肺结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艾滋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细菌性痢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手足口病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潜伏期：甲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丁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按临床经过将病毒性肝炎分为急性肝炎，慢性肝炎，重型肝炎，淤胆型肝炎，肝炎肝硬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急性肝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黄疸型肝炎：分为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阶段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前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无黄疸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20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中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28036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亚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淤胆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肝炎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1339560"/>
            <a:ext cx="81550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传染源是急性期患者和亚临床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、丙型、丁型肝炎传染源分别是急性和慢性（含肝炎后肝硬化）的乙型、丙型、丁型肝炎患者和病原携带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371240"/>
            <a:ext cx="8664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复述传染病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说出传染病流行过程及影响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区分各类传染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叙述传染病的社区管理内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举例说明病毒性肝炎、肺结核、艾滋病患者居家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应用所学知识对社区传染病患者进行居家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主要传播途径是粪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传播；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、丁型肝炎主要经体液和血液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主要是通过输血和血制品的应用、使用 消毒不严格的医疗器械、血液透析、器官移植以及母婴传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1485720"/>
            <a:ext cx="814392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类对各型肝炎普遍易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以幼儿、学龄前儿童发病最多，但遇有爆发流行时各年龄组均有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BV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感染多发生于婴儿及青少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多见于成年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以中老年人发病居多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秋冬季高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流行多发生于雨季或洪水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、丙、丁型肝炎的发病无明显季节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的流行情况是以乙、丙型肝炎为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33992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病毒性肝炎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皮肤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宣传各种类型病毒性肝炎的预防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介绍家庭隔离的必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41440" y="1269720"/>
            <a:ext cx="8208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发热为最常见全身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呼吸系统症状：咳嗽、咳痰、咯血、胸痛、呼吸困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部分患者有倦怠乏力、盗汗、食欲减退和体重减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61048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是痰中带菌的肺结核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飞沫传播是肺结核最重要的传播途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年四季都可以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肺结核患者的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防治知识的教育，提高患者治疗依从性及家属的责任心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养成良好的卫生习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预防感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急性感染期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I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症状感染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前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Ⅳ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患者和无症状病毒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性传播、血液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人群易感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各个年龄均可感染，主要是指男性同性恋者、静脉吸毒成瘾者、血友病患者，接受输血及其他血制品者等高危人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400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艾滋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患者认真讲解本病知识、保护他人和自我保护的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适龄人群正确认识艾滋病，使他们认识到艾滋病是可以预防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树立健康积极的恋爱、婚姻、家庭及性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正确认识在工作和生活中与人类免疫缺陷病毒感染者的接触，避免产生恐惧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菌痢潜伏期多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，最短为数小时，最长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通常分急、慢性两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8472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急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普通型（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型（非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迁延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发作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隐匿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07520" y="1628640"/>
            <a:ext cx="87361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急、慢性菌痢患者和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经粪一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，易再次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散发，有明显的季节性，以夏秋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细菌性痢疾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628280"/>
            <a:ext cx="853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菌痢相关知识的教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慢性菌痢患者介绍急性发作的诱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病情稳定后，进行适当的体育锻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特殊岗位应调离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43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病的潜伏期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急性起病，发热、咳嗽、流涕、食欲缺乏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腔黏膜出现小疱疹，手、足和臀部出现斑丘疹、疱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斑丘疹很快转为小疱疹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自行吸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部分病例仅表现为皮疹及疱疹性咽峡炎；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般预后良好，少数患者可出现脑炎、脑脊髓炎、脑膜炎、肺水肿、循环衰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患者和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经粪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—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和（或）呼吸道飞沫传播，亦可经接触患者皮肤、黏膜疱疹液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对肠道病毒普遍易感，病毒的各型间无交叉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无明显地区性。一年四季均可发病，以夏、秋季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手足口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00"/>
                </a:solidFill>
                <a:uFillTx/>
                <a:latin typeface="Verdana"/>
              </a:rPr>
              <a:t>传染病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（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communicable diseases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或称传染性疾病，是由病原微生物（病毒、细菌、衣原体、立克次体、螺旋体、真菌等）和寄生虫（原虫、蠕虫或医学昆虫）感染人体后所引起的具有传染性的疾病。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对患者及家属进行手足口病防治知识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积极参与手足口病防控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密切接触者应高度重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1341360"/>
            <a:ext cx="8539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、传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常见的传播途径有几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预防包括哪些方面的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护易感人群的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患者的访视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结核病患者的健康教育主要包括哪些内容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的传播途径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传染病的流行过程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影响传染病流行的因素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777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自然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传染病的分类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0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起施行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中华人民共和国传染病防治法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传染病分为甲、乙、丙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类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后加上手足口病、甲型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1N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感，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传染病社区管理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1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传染病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预防接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儿童计划免疫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根据疫情组织的免疫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改善社区卫生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社区传染病的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传染病报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针对传染源管理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人群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cp:lastPrinted>2015-05-04T04:05:40Z</cp:lastPrinted>
  <dcterms:modified xsi:type="dcterms:W3CDTF">2015-08-28T08:31:33Z</dcterms:modified>
  <cp:revision>11</cp:revision>
  <dc:subject/>
  <dc:title>第九章 传染病社区管理与患者的居家护理</dc:title>
</cp:coreProperties>
</file>