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5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7052-2A68-4036-9CDA-1FEFA75667E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5A6E-EFD5-4836-9CBA-A4D7799EB53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A784-F2CA-4D19-B836-B7DBFF688DD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DF3D-8C01-4CE6-A640-F7E8A174A0D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6B50-348E-4200-891A-7F5B0CD5417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7693-E379-47E1-87C3-CBE0B514089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F3D5-C667-46C4-8E65-E6A153E3E43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4DF0-1245-42E1-AB17-B10B063C44F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371E-E05D-48B2-BF7C-10A843D2104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41DE-47DA-489A-8866-BA8D7FD162A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656D-1ABA-4125-85F2-AC656FACA67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6F60-02ED-4BE1-B86D-18B85E82333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87B7-4709-4B24-AA6F-7D1BE41550C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96BF-D7BB-43DE-841D-18C07DF6D3C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4361-97AC-4218-85FC-0879AD993B7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A8F6-7786-421F-8AEA-A46593AC1C6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0917-3563-4933-8319-68DFF73FD96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9307-514B-44D7-8D89-0A3D43B2759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A690-8970-4E3D-8EC7-E8EAB44B8BD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0738-D694-4630-AA67-FC33ACF02A2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69E4-D10D-4032-930C-7B3D6F3DCF6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1969-FD1C-44B9-B7F6-92408D03AB1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A8BE-015A-459A-94B8-04ED1E9905A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7B1A-D287-49E6-AE37-2FA142DAF41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6417-7665-473D-90A4-017D8240596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0175-C0E8-4524-8058-F17F640BD76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D253-E5DC-4751-8121-AF7B0E2F1BC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FA4C-7F75-4F62-B875-71C79BD8FBC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0CF2-5B3D-4A5B-ACBB-DFE3CAB059A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F03F-5AEA-4AC8-9447-FD956B6FD0D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71F6-DF76-4145-9D1C-7A354245295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6B8B-A4B6-4337-8BBE-6E29CC1D313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0CE5-A22F-40C6-8520-B8DED1F1EB0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32FA-B523-43E0-93B3-1B3EB717F22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777C-EE57-4FB6-BAC0-EBD8414F0F7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11B9-81F4-4DF0-85B6-5D6BAC82ABF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78BF-BB42-432A-B0C6-D407463B01A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0CC7-6FDB-45DE-82B9-0C5E0E8EC11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E5DA-6472-4332-ADAB-F17211A6897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074D-CCAB-4F22-92DF-5A413A1A568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FE63-C640-47F4-98FA-A98491BF816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4DBF-D420-4F43-930B-253D7FD2501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CD49-FAC2-4AE6-8928-B3972F81DB6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E3FF-1440-484E-B4A9-87D541742BF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E9AE-423A-4971-B77E-BFE509A52AC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FAAF-BF15-4D26-BDBA-4769D0CF678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37F8-EF88-470C-8D52-F6C49B0971C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7B1C-DF5E-4970-80DC-C281F1EEA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BE25-A16A-4292-B851-40B7AAAF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6E14-76A9-4967-A04B-6C0F4E70A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50EA-AB44-42BB-8B18-C5CC2556C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27E5-6FB4-4A47-989B-785DE9643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DBC1-7157-4C23-9A90-B32978D6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0ED7-83C6-41A0-867C-E8A20510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1A56-4EE1-425A-B49A-D1E0B431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536D-1E70-4344-A7C5-127BAD65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7571-6FBC-423E-A599-B178A10E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EEBE-5585-4368-8B87-D78FE88C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7405-92F0-4FB6-8D43-3866CABC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BD05-E5B5-4DCA-A451-07DBFFDC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87EF-6BA2-4192-92A4-2701D9FF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1EAD-63F0-4733-8A06-436162CB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9F44-5098-41D4-BE8C-E2E5AD94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6793-A327-4581-BE01-77B793917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DB1B-EDF8-4E8D-BC66-E345E23F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5FCC-40F1-430B-8808-742F9FC0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9BBF-002A-4FD6-947A-85D1DD77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FBD9-0D57-47A2-B989-D71D4EAB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9C1A-F9F9-4AA1-9DA8-76EA4BA1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5219-D93F-4CF1-9574-5B29F08B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0FFA-9E76-45B8-99B3-8305A892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0" y="476280"/>
            <a:ext cx="8542080" cy="1052280"/>
            <a:chOff x="0" y="476280"/>
            <a:chExt cx="8542080" cy="1052280"/>
          </a:xfrm>
        </p:grpSpPr>
        <p:sp>
          <p:nvSpPr>
            <p:cNvPr id="1" name="Rectangle 2"/>
            <p:cNvSpPr/>
            <p:nvPr/>
          </p:nvSpPr>
          <p:spPr>
            <a:xfrm>
              <a:off x="290520" y="58428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673200" y="58428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414360" y="100656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784080" y="100656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0" y="93348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635040" y="4762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315720" y="12668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4EF1-546E-4EEF-B998-D91FEE5EAA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050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2051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2052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2053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2054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2055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2056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2057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2058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2059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23F4-900A-4E7B-9D98-A6D01EF2B40F}" type="slidenum"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44B0-C8A2-40E4-A4A4-8D0592AE7C61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640" y="2420640"/>
            <a:ext cx="76788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第三十五章   </a:t>
            </a:r>
            <a:br>
              <a:rPr sz="5400"/>
            </a:b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其他原核细胞型微生物</a:t>
            </a:r>
            <a:r>
              <a:rPr b="0" lang="zh-CN" sz="5400" spc="-1" strike="noStrike">
                <a:solidFill>
                  <a:srgbClr val="080910"/>
                </a:solidFill>
                <a:latin typeface="Times New Roman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3370680" y="42148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65BF-728E-43F6-8E33-6B14E30F694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4537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68360" y="2205000"/>
            <a:ext cx="8351640" cy="29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免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主要，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Ig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免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患者血清中可产生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g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冷凝集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冷凝集素与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血红细胞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发生凝集，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7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凝集消失，故称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冷凝集试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可用于肺炎支原体感染的辅助诊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B2C1-E802-49E2-ADE2-91C592AD758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二节 衣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96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衣原体是一类严格细胞内寄生，有独特发育周期，能通过细菌滤器的原核细胞型微生物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43F5-E26E-4953-94B7-08DB7AA5EDE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7640" y="475920"/>
            <a:ext cx="49453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共同特征</a:t>
            </a:r>
            <a:r>
              <a:rPr b="0" lang="zh-CN" sz="4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革兰阴性，具有类似革兰阴性菌的细胞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严格细胞内寄生，有独特的发育周期，行二分裂方式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核糖体和较复杂的酶类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缺乏代谢所需的能量，需宿主细胞提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DB42-DF8E-4872-89B3-91F1D6D62BE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发育周期与形态染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在宿主细胞内繁殖有独特发育周期，呈现两种形态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原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lementary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始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initial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也称网状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28"/>
          <p:cNvSpPr/>
          <p:nvPr/>
        </p:nvSpPr>
        <p:spPr>
          <a:xfrm>
            <a:off x="1187280" y="620640"/>
            <a:ext cx="46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一、生物学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533520"/>
            <a:ext cx="9143640" cy="5409720"/>
            <a:chOff x="0" y="533520"/>
            <a:chExt cx="9143640" cy="5409720"/>
          </a:xfrm>
        </p:grpSpPr>
        <p:grpSp>
          <p:nvGrpSpPr>
            <p:cNvPr id="150" name="Group 3"/>
            <p:cNvGrpSpPr/>
            <p:nvPr/>
          </p:nvGrpSpPr>
          <p:grpSpPr>
            <a:xfrm>
              <a:off x="8280" y="538560"/>
              <a:ext cx="9125280" cy="5398560"/>
              <a:chOff x="8280" y="538560"/>
              <a:chExt cx="9125280" cy="5398560"/>
            </a:xfrm>
          </p:grpSpPr>
          <p:grpSp>
            <p:nvGrpSpPr>
              <p:cNvPr id="151" name="Group 4"/>
              <p:cNvGrpSpPr/>
              <p:nvPr/>
            </p:nvGrpSpPr>
            <p:grpSpPr>
              <a:xfrm>
                <a:off x="8280" y="538560"/>
                <a:ext cx="4892400" cy="853920"/>
                <a:chOff x="8280" y="538560"/>
                <a:chExt cx="4892400" cy="853920"/>
              </a:xfrm>
            </p:grpSpPr>
            <p:sp>
              <p:nvSpPr>
                <p:cNvPr id="152" name="Rectangle 5"/>
                <p:cNvSpPr/>
                <p:nvPr/>
              </p:nvSpPr>
              <p:spPr>
                <a:xfrm>
                  <a:off x="133920" y="538560"/>
                  <a:ext cx="46411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原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Rectangle 6"/>
                <p:cNvSpPr/>
                <p:nvPr/>
              </p:nvSpPr>
              <p:spPr>
                <a:xfrm>
                  <a:off x="8280" y="538560"/>
                  <a:ext cx="489240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4" name="Group 7"/>
              <p:cNvGrpSpPr/>
              <p:nvPr/>
            </p:nvGrpSpPr>
            <p:grpSpPr>
              <a:xfrm>
                <a:off x="4901040" y="538560"/>
                <a:ext cx="4232520" cy="853920"/>
                <a:chOff x="4901040" y="538560"/>
                <a:chExt cx="4232520" cy="853920"/>
              </a:xfrm>
            </p:grpSpPr>
            <p:sp>
              <p:nvSpPr>
                <p:cNvPr id="155" name="Rectangle 8"/>
                <p:cNvSpPr/>
                <p:nvPr/>
              </p:nvSpPr>
              <p:spPr>
                <a:xfrm>
                  <a:off x="5026680" y="538560"/>
                  <a:ext cx="3980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始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910"/>
                      </a:solidFill>
                      <a:latin typeface="Times New Roman"/>
                    </a:rPr>
                    <a:t>网状体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Rectangle 9"/>
                <p:cNvSpPr/>
                <p:nvPr/>
              </p:nvSpPr>
              <p:spPr>
                <a:xfrm>
                  <a:off x="4901040" y="538560"/>
                  <a:ext cx="4232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7" name="Group 10"/>
              <p:cNvGrpSpPr/>
              <p:nvPr/>
            </p:nvGrpSpPr>
            <p:grpSpPr>
              <a:xfrm>
                <a:off x="8280" y="1392840"/>
                <a:ext cx="4892400" cy="444240"/>
                <a:chOff x="8280" y="1392840"/>
                <a:chExt cx="4892400" cy="444240"/>
              </a:xfrm>
            </p:grpSpPr>
            <p:sp>
              <p:nvSpPr>
                <p:cNvPr id="158" name="Rectangle 11"/>
                <p:cNvSpPr/>
                <p:nvPr/>
              </p:nvSpPr>
              <p:spPr>
                <a:xfrm>
                  <a:off x="133920" y="1392840"/>
                  <a:ext cx="46411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小而致密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2~0.4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9" name="Rectangle 12"/>
                <p:cNvSpPr/>
                <p:nvPr/>
              </p:nvSpPr>
              <p:spPr>
                <a:xfrm>
                  <a:off x="8280" y="1392840"/>
                  <a:ext cx="4892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0" name="Group 13"/>
              <p:cNvGrpSpPr/>
              <p:nvPr/>
            </p:nvGrpSpPr>
            <p:grpSpPr>
              <a:xfrm>
                <a:off x="4901040" y="1392840"/>
                <a:ext cx="4232520" cy="444240"/>
                <a:chOff x="4901040" y="1392840"/>
                <a:chExt cx="4232520" cy="444240"/>
              </a:xfrm>
            </p:grpSpPr>
            <p:sp>
              <p:nvSpPr>
                <p:cNvPr id="161" name="Rectangle 14"/>
                <p:cNvSpPr/>
                <p:nvPr/>
              </p:nvSpPr>
              <p:spPr>
                <a:xfrm>
                  <a:off x="5026680" y="1392840"/>
                  <a:ext cx="3980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大而疏松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5~1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0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" name="Rectangle 15"/>
                <p:cNvSpPr/>
                <p:nvPr/>
              </p:nvSpPr>
              <p:spPr>
                <a:xfrm>
                  <a:off x="4901040" y="1392840"/>
                  <a:ext cx="4232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3" name="Group 16"/>
              <p:cNvGrpSpPr/>
              <p:nvPr/>
            </p:nvGrpSpPr>
            <p:grpSpPr>
              <a:xfrm>
                <a:off x="8280" y="1837440"/>
                <a:ext cx="4892400" cy="682560"/>
                <a:chOff x="8280" y="1837440"/>
                <a:chExt cx="4892400" cy="682560"/>
              </a:xfrm>
            </p:grpSpPr>
            <p:sp>
              <p:nvSpPr>
                <p:cNvPr id="164" name="Rectangle 17"/>
                <p:cNvSpPr/>
                <p:nvPr/>
              </p:nvSpPr>
              <p:spPr>
                <a:xfrm>
                  <a:off x="133920" y="18374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球形、椭圆形或梨形</a:t>
                  </a:r>
                  <a:r>
                    <a:rPr b="0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5" name="Rectangle 18"/>
                <p:cNvSpPr/>
                <p:nvPr/>
              </p:nvSpPr>
              <p:spPr>
                <a:xfrm>
                  <a:off x="8280" y="18374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6" name="Group 19"/>
              <p:cNvGrpSpPr/>
              <p:nvPr/>
            </p:nvGrpSpPr>
            <p:grpSpPr>
              <a:xfrm>
                <a:off x="4901040" y="1837440"/>
                <a:ext cx="4232520" cy="682560"/>
                <a:chOff x="4901040" y="1837440"/>
                <a:chExt cx="4232520" cy="682560"/>
              </a:xfrm>
            </p:grpSpPr>
            <p:sp>
              <p:nvSpPr>
                <p:cNvPr id="167" name="Rectangle 20"/>
                <p:cNvSpPr/>
                <p:nvPr/>
              </p:nvSpPr>
              <p:spPr>
                <a:xfrm>
                  <a:off x="5026680" y="18374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圆形或椭圆形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8" name="Rectangle 21"/>
                <p:cNvSpPr/>
                <p:nvPr/>
              </p:nvSpPr>
              <p:spPr>
                <a:xfrm>
                  <a:off x="4901040" y="18374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9" name="Group 22"/>
              <p:cNvGrpSpPr/>
              <p:nvPr/>
            </p:nvGrpSpPr>
            <p:grpSpPr>
              <a:xfrm>
                <a:off x="8280" y="2520720"/>
                <a:ext cx="4892400" cy="682920"/>
                <a:chOff x="8280" y="2520720"/>
                <a:chExt cx="4892400" cy="682920"/>
              </a:xfrm>
            </p:grpSpPr>
            <p:sp>
              <p:nvSpPr>
                <p:cNvPr id="170" name="Rectangle 23"/>
                <p:cNvSpPr/>
                <p:nvPr/>
              </p:nvSpPr>
              <p:spPr>
                <a:xfrm>
                  <a:off x="133920" y="25207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有致密的类核结构，有胞壁，发育成熟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1" name="Rectangle 24"/>
                <p:cNvSpPr/>
                <p:nvPr/>
              </p:nvSpPr>
              <p:spPr>
                <a:xfrm>
                  <a:off x="8280" y="25207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2" name="Group 25"/>
              <p:cNvGrpSpPr/>
              <p:nvPr/>
            </p:nvGrpSpPr>
            <p:grpSpPr>
              <a:xfrm>
                <a:off x="4901040" y="2520720"/>
                <a:ext cx="4232520" cy="682920"/>
                <a:chOff x="4901040" y="2520720"/>
                <a:chExt cx="4232520" cy="682920"/>
              </a:xfrm>
            </p:grpSpPr>
            <p:sp>
              <p:nvSpPr>
                <p:cNvPr id="173" name="Rectangle 26"/>
                <p:cNvSpPr/>
                <p:nvPr/>
              </p:nvSpPr>
              <p:spPr>
                <a:xfrm>
                  <a:off x="5026680" y="25207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电子致密度较低，无胞壁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4" name="Rectangle 27"/>
                <p:cNvSpPr/>
                <p:nvPr/>
              </p:nvSpPr>
              <p:spPr>
                <a:xfrm>
                  <a:off x="4901040" y="25207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5" name="Group 28"/>
              <p:cNvGrpSpPr/>
              <p:nvPr/>
            </p:nvGrpSpPr>
            <p:grpSpPr>
              <a:xfrm>
                <a:off x="8280" y="3204360"/>
                <a:ext cx="4892400" cy="682560"/>
                <a:chOff x="8280" y="3204360"/>
                <a:chExt cx="4892400" cy="682560"/>
              </a:xfrm>
            </p:grpSpPr>
            <p:sp>
              <p:nvSpPr>
                <p:cNvPr id="176" name="Rectangle 29"/>
                <p:cNvSpPr/>
                <p:nvPr/>
              </p:nvSpPr>
              <p:spPr>
                <a:xfrm>
                  <a:off x="133920" y="32043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Giemsa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紫色，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红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7" name="Rectangle 30"/>
                <p:cNvSpPr/>
                <p:nvPr/>
              </p:nvSpPr>
              <p:spPr>
                <a:xfrm>
                  <a:off x="8280" y="32043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8" name="Group 31"/>
              <p:cNvGrpSpPr/>
              <p:nvPr/>
            </p:nvGrpSpPr>
            <p:grpSpPr>
              <a:xfrm>
                <a:off x="4901040" y="3204360"/>
                <a:ext cx="4232520" cy="682560"/>
                <a:chOff x="4901040" y="3204360"/>
                <a:chExt cx="4232520" cy="682560"/>
              </a:xfrm>
            </p:grpSpPr>
            <p:sp>
              <p:nvSpPr>
                <p:cNvPr id="179" name="Rectangle 32"/>
                <p:cNvSpPr/>
                <p:nvPr/>
              </p:nvSpPr>
              <p:spPr>
                <a:xfrm>
                  <a:off x="5026680" y="32043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蓝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" name="Rectangle 33"/>
                <p:cNvSpPr/>
                <p:nvPr/>
              </p:nvSpPr>
              <p:spPr>
                <a:xfrm>
                  <a:off x="4901040" y="32043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1" name="Group 34"/>
              <p:cNvGrpSpPr/>
              <p:nvPr/>
            </p:nvGrpSpPr>
            <p:grpSpPr>
              <a:xfrm>
                <a:off x="8280" y="3887640"/>
                <a:ext cx="4892400" cy="682560"/>
                <a:chOff x="8280" y="3887640"/>
                <a:chExt cx="4892400" cy="682560"/>
              </a:xfrm>
            </p:grpSpPr>
            <p:sp>
              <p:nvSpPr>
                <p:cNvPr id="182" name="Rectangle 35"/>
                <p:cNvSpPr/>
                <p:nvPr/>
              </p:nvSpPr>
              <p:spPr>
                <a:xfrm>
                  <a:off x="133920" y="38876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高度感染性（有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3" name="Rectangle 36"/>
                <p:cNvSpPr/>
                <p:nvPr/>
              </p:nvSpPr>
              <p:spPr>
                <a:xfrm>
                  <a:off x="8280" y="38876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4" name="Group 37"/>
              <p:cNvGrpSpPr/>
              <p:nvPr/>
            </p:nvGrpSpPr>
            <p:grpSpPr>
              <a:xfrm>
                <a:off x="4901040" y="3887640"/>
                <a:ext cx="4232520" cy="682560"/>
                <a:chOff x="4901040" y="3887640"/>
                <a:chExt cx="4232520" cy="682560"/>
              </a:xfrm>
            </p:grpSpPr>
            <p:sp>
              <p:nvSpPr>
                <p:cNvPr id="185" name="Rectangle 38"/>
                <p:cNvSpPr/>
                <p:nvPr/>
              </p:nvSpPr>
              <p:spPr>
                <a:xfrm>
                  <a:off x="5026680" y="38876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感染性（无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6" name="Rectangle 39"/>
                <p:cNvSpPr/>
                <p:nvPr/>
              </p:nvSpPr>
              <p:spPr>
                <a:xfrm>
                  <a:off x="4901040" y="38876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7" name="Group 40"/>
              <p:cNvGrpSpPr/>
              <p:nvPr/>
            </p:nvGrpSpPr>
            <p:grpSpPr>
              <a:xfrm>
                <a:off x="8280" y="4570920"/>
                <a:ext cx="4892400" cy="682920"/>
                <a:chOff x="8280" y="4570920"/>
                <a:chExt cx="4892400" cy="682920"/>
              </a:xfrm>
            </p:grpSpPr>
            <p:sp>
              <p:nvSpPr>
                <p:cNvPr id="188" name="Rectangle 41"/>
                <p:cNvSpPr/>
                <p:nvPr/>
              </p:nvSpPr>
              <p:spPr>
                <a:xfrm>
                  <a:off x="133920" y="45709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繁殖能力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9" name="Rectangle 42"/>
                <p:cNvSpPr/>
                <p:nvPr/>
              </p:nvSpPr>
              <p:spPr>
                <a:xfrm>
                  <a:off x="8280" y="45709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0" name="Group 43"/>
              <p:cNvGrpSpPr/>
              <p:nvPr/>
            </p:nvGrpSpPr>
            <p:grpSpPr>
              <a:xfrm>
                <a:off x="4901040" y="4570920"/>
                <a:ext cx="4232520" cy="682920"/>
                <a:chOff x="4901040" y="4570920"/>
                <a:chExt cx="4232520" cy="682920"/>
              </a:xfrm>
            </p:grpSpPr>
            <p:sp>
              <p:nvSpPr>
                <p:cNvPr id="191" name="Rectangle 44"/>
                <p:cNvSpPr/>
                <p:nvPr/>
              </p:nvSpPr>
              <p:spPr>
                <a:xfrm>
                  <a:off x="5026680" y="45709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以二分裂方式繁殖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2" name="Rectangle 45"/>
                <p:cNvSpPr/>
                <p:nvPr/>
              </p:nvSpPr>
              <p:spPr>
                <a:xfrm>
                  <a:off x="4901040" y="45709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3" name="Group 46"/>
              <p:cNvGrpSpPr/>
              <p:nvPr/>
            </p:nvGrpSpPr>
            <p:grpSpPr>
              <a:xfrm>
                <a:off x="8280" y="5254560"/>
                <a:ext cx="4892400" cy="682560"/>
                <a:chOff x="8280" y="5254560"/>
                <a:chExt cx="4892400" cy="682560"/>
              </a:xfrm>
            </p:grpSpPr>
            <p:sp>
              <p:nvSpPr>
                <p:cNvPr id="194" name="Rectangle 47"/>
                <p:cNvSpPr/>
                <p:nvPr/>
              </p:nvSpPr>
              <p:spPr>
                <a:xfrm>
                  <a:off x="133920" y="52545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强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5" name="Rectangle 48"/>
                <p:cNvSpPr/>
                <p:nvPr/>
              </p:nvSpPr>
              <p:spPr>
                <a:xfrm>
                  <a:off x="8280" y="52545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6" name="Group 49"/>
              <p:cNvGrpSpPr/>
              <p:nvPr/>
            </p:nvGrpSpPr>
            <p:grpSpPr>
              <a:xfrm>
                <a:off x="4901040" y="5254560"/>
                <a:ext cx="4232520" cy="682560"/>
                <a:chOff x="4901040" y="5254560"/>
                <a:chExt cx="4232520" cy="682560"/>
              </a:xfrm>
            </p:grpSpPr>
            <p:sp>
              <p:nvSpPr>
                <p:cNvPr id="197" name="Rectangle 50"/>
                <p:cNvSpPr/>
                <p:nvPr/>
              </p:nvSpPr>
              <p:spPr>
                <a:xfrm>
                  <a:off x="5026680" y="52545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弱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8" name="Rectangle 51"/>
                <p:cNvSpPr/>
                <p:nvPr/>
              </p:nvSpPr>
              <p:spPr>
                <a:xfrm>
                  <a:off x="4901040" y="52545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99" name="Rectangle 52"/>
            <p:cNvSpPr/>
            <p:nvPr/>
          </p:nvSpPr>
          <p:spPr>
            <a:xfrm>
              <a:off x="0" y="533520"/>
              <a:ext cx="9143640" cy="54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0" name="Line 5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54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55"/>
          <p:cNvSpPr/>
          <p:nvPr/>
        </p:nvSpPr>
        <p:spPr>
          <a:xfrm>
            <a:off x="228600" y="5791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56"/>
          <p:cNvSpPr/>
          <p:nvPr/>
        </p:nvSpPr>
        <p:spPr>
          <a:xfrm>
            <a:off x="179280" y="3933720"/>
            <a:ext cx="338472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57"/>
          <p:cNvSpPr/>
          <p:nvPr/>
        </p:nvSpPr>
        <p:spPr>
          <a:xfrm>
            <a:off x="5076720" y="3933720"/>
            <a:ext cx="266400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C8BC-D420-4DBA-A934-6B47ED03536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6" name="Group 2"/>
          <p:cNvGrpSpPr/>
          <p:nvPr/>
        </p:nvGrpSpPr>
        <p:grpSpPr>
          <a:xfrm>
            <a:off x="755640" y="1268280"/>
            <a:ext cx="8208720" cy="5328720"/>
            <a:chOff x="755640" y="1268280"/>
            <a:chExt cx="8208720" cy="5328720"/>
          </a:xfrm>
        </p:grpSpPr>
        <p:sp>
          <p:nvSpPr>
            <p:cNvPr id="207" name="Text Box 3"/>
            <p:cNvSpPr/>
            <p:nvPr/>
          </p:nvSpPr>
          <p:spPr>
            <a:xfrm>
              <a:off x="5928120" y="2471760"/>
              <a:ext cx="418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ahom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08" name="Picture 4" descr="衣原体周期1"/>
            <p:cNvPicPr/>
            <p:nvPr/>
          </p:nvPicPr>
          <p:blipFill>
            <a:blip r:embed="rId1"/>
            <a:srcRect l="13058" t="13058" r="6699" b="13058"/>
            <a:stretch/>
          </p:blipFill>
          <p:spPr>
            <a:xfrm>
              <a:off x="755640" y="1617840"/>
              <a:ext cx="1985040" cy="15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Group 5"/>
            <p:cNvGrpSpPr/>
            <p:nvPr/>
          </p:nvGrpSpPr>
          <p:grpSpPr>
            <a:xfrm>
              <a:off x="2740680" y="1491120"/>
              <a:ext cx="2793240" cy="1566720"/>
              <a:chOff x="2740680" y="1491120"/>
              <a:chExt cx="2793240" cy="1566720"/>
            </a:xfrm>
          </p:grpSpPr>
          <p:pic>
            <p:nvPicPr>
              <p:cNvPr id="210" name="Picture 6" descr="衣原体周期2"/>
              <p:cNvPicPr/>
              <p:nvPr/>
            </p:nvPicPr>
            <p:blipFill>
              <a:blip r:embed="rId2"/>
              <a:srcRect l="11393" t="11189" r="7684" b="12782"/>
              <a:stretch/>
            </p:blipFill>
            <p:spPr>
              <a:xfrm>
                <a:off x="3549240" y="1491120"/>
                <a:ext cx="1984680" cy="156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Line 7"/>
              <p:cNvSpPr/>
              <p:nvPr/>
            </p:nvSpPr>
            <p:spPr>
              <a:xfrm>
                <a:off x="2740680" y="225144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2" name="Group 8"/>
            <p:cNvGrpSpPr/>
            <p:nvPr/>
          </p:nvGrpSpPr>
          <p:grpSpPr>
            <a:xfrm>
              <a:off x="6122880" y="4722840"/>
              <a:ext cx="2131920" cy="1874160"/>
              <a:chOff x="6122880" y="4722840"/>
              <a:chExt cx="2131920" cy="1874160"/>
            </a:xfrm>
          </p:grpSpPr>
          <p:pic>
            <p:nvPicPr>
              <p:cNvPr id="213" name="Picture 9" descr="衣原体周期4"/>
              <p:cNvPicPr/>
              <p:nvPr/>
            </p:nvPicPr>
            <p:blipFill>
              <a:blip r:embed="rId3"/>
              <a:srcRect l="13891" t="7971" r="7154" b="8520"/>
              <a:stretch/>
            </p:blipFill>
            <p:spPr>
              <a:xfrm>
                <a:off x="6122880" y="5033880"/>
                <a:ext cx="2131920" cy="156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Line 10"/>
              <p:cNvSpPr/>
              <p:nvPr/>
            </p:nvSpPr>
            <p:spPr>
              <a:xfrm>
                <a:off x="7666560" y="4722840"/>
                <a:ext cx="0" cy="28368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5" name="Group 11"/>
            <p:cNvGrpSpPr/>
            <p:nvPr/>
          </p:nvGrpSpPr>
          <p:grpSpPr>
            <a:xfrm>
              <a:off x="3255480" y="4849560"/>
              <a:ext cx="2792880" cy="1612080"/>
              <a:chOff x="3255480" y="4849560"/>
              <a:chExt cx="2792880" cy="1612080"/>
            </a:xfrm>
          </p:grpSpPr>
          <p:pic>
            <p:nvPicPr>
              <p:cNvPr id="216" name="Picture 12" descr="衣原体周期6"/>
              <p:cNvPicPr/>
              <p:nvPr/>
            </p:nvPicPr>
            <p:blipFill>
              <a:blip r:embed="rId4"/>
              <a:srcRect l="15615" t="13131" r="6128" b="9363"/>
              <a:stretch/>
            </p:blipFill>
            <p:spPr>
              <a:xfrm>
                <a:off x="3255480" y="4849560"/>
                <a:ext cx="1984680" cy="161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Line 13"/>
              <p:cNvSpPr/>
              <p:nvPr/>
            </p:nvSpPr>
            <p:spPr>
              <a:xfrm flipH="1">
                <a:off x="5313600" y="573660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8" name="Line 14"/>
            <p:cNvSpPr/>
            <p:nvPr/>
          </p:nvSpPr>
          <p:spPr>
            <a:xfrm flipV="1">
              <a:off x="1564200" y="3201840"/>
              <a:ext cx="0" cy="316440"/>
            </a:xfrm>
            <a:prstGeom prst="line">
              <a:avLst/>
            </a:prstGeom>
            <a:ln w="57240">
              <a:solidFill>
                <a:srgbClr val="f2470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9" name="Group 15"/>
            <p:cNvGrpSpPr/>
            <p:nvPr/>
          </p:nvGrpSpPr>
          <p:grpSpPr>
            <a:xfrm>
              <a:off x="5608080" y="1268280"/>
              <a:ext cx="3087720" cy="1363320"/>
              <a:chOff x="5608080" y="1268280"/>
              <a:chExt cx="3087720" cy="1363320"/>
            </a:xfrm>
          </p:grpSpPr>
          <p:sp>
            <p:nvSpPr>
              <p:cNvPr id="220" name="Line 16"/>
              <p:cNvSpPr/>
              <p:nvPr/>
            </p:nvSpPr>
            <p:spPr>
              <a:xfrm>
                <a:off x="5608080" y="2006640"/>
                <a:ext cx="7351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21" name="Group 17"/>
              <p:cNvGrpSpPr/>
              <p:nvPr/>
            </p:nvGrpSpPr>
            <p:grpSpPr>
              <a:xfrm>
                <a:off x="6416640" y="1268280"/>
                <a:ext cx="2279160" cy="1363320"/>
                <a:chOff x="6416640" y="1268280"/>
                <a:chExt cx="2279160" cy="1363320"/>
              </a:xfrm>
            </p:grpSpPr>
            <p:pic>
              <p:nvPicPr>
                <p:cNvPr id="222" name="Picture 18" descr="衣原体周期3"/>
                <p:cNvPicPr/>
                <p:nvPr/>
              </p:nvPicPr>
              <p:blipFill>
                <a:blip r:embed="rId5"/>
                <a:srcRect l="9751" t="13201" r="5089" b="12822"/>
                <a:stretch/>
              </p:blipFill>
              <p:spPr>
                <a:xfrm>
                  <a:off x="6416640" y="1268280"/>
                  <a:ext cx="2279160" cy="136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3" name="Oval 19"/>
                <p:cNvSpPr/>
                <p:nvPr/>
              </p:nvSpPr>
              <p:spPr>
                <a:xfrm>
                  <a:off x="7383240" y="2043000"/>
                  <a:ext cx="69120" cy="51480"/>
                </a:xfrm>
                <a:prstGeom prst="ellipse">
                  <a:avLst/>
                </a:prstGeom>
                <a:solidFill>
                  <a:srgbClr val="f8a176"/>
                </a:solidFill>
                <a:ln w="3240">
                  <a:solidFill>
                    <a:srgbClr val="f8a1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24" name="Group 20"/>
            <p:cNvGrpSpPr/>
            <p:nvPr/>
          </p:nvGrpSpPr>
          <p:grpSpPr>
            <a:xfrm>
              <a:off x="7005240" y="2631600"/>
              <a:ext cx="1959120" cy="2058840"/>
              <a:chOff x="7005240" y="2631600"/>
              <a:chExt cx="1959120" cy="2058840"/>
            </a:xfrm>
          </p:grpSpPr>
          <p:grpSp>
            <p:nvGrpSpPr>
              <p:cNvPr id="225" name="Group 21"/>
              <p:cNvGrpSpPr/>
              <p:nvPr/>
            </p:nvGrpSpPr>
            <p:grpSpPr>
              <a:xfrm>
                <a:off x="7005240" y="2948040"/>
                <a:ext cx="1959120" cy="1742400"/>
                <a:chOff x="7005240" y="2948040"/>
                <a:chExt cx="1959120" cy="1742400"/>
              </a:xfrm>
            </p:grpSpPr>
            <p:pic>
              <p:nvPicPr>
                <p:cNvPr id="226" name="Picture 22" descr="衣原体周期3"/>
                <p:cNvPicPr/>
                <p:nvPr/>
              </p:nvPicPr>
              <p:blipFill>
                <a:blip r:embed="rId6"/>
                <a:srcRect l="10839" t="8056" r="7110" b="7550"/>
                <a:stretch/>
              </p:blipFill>
              <p:spPr>
                <a:xfrm>
                  <a:off x="7005240" y="2948040"/>
                  <a:ext cx="1959120" cy="174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Oval 23"/>
                <p:cNvSpPr/>
                <p:nvPr/>
              </p:nvSpPr>
              <p:spPr>
                <a:xfrm rot="7395600">
                  <a:off x="7817400" y="3894120"/>
                  <a:ext cx="63360" cy="135000"/>
                </a:xfrm>
                <a:prstGeom prst="ellipse">
                  <a:avLst/>
                </a:prstGeom>
                <a:solidFill>
                  <a:srgbClr val="d5cac3"/>
                </a:solidFill>
                <a:ln w="64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8" name="Line 24"/>
              <p:cNvSpPr/>
              <p:nvPr/>
            </p:nvSpPr>
            <p:spPr>
              <a:xfrm>
                <a:off x="7072560" y="2631600"/>
                <a:ext cx="0" cy="3164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9" name="Group 25"/>
            <p:cNvGrpSpPr/>
            <p:nvPr/>
          </p:nvGrpSpPr>
          <p:grpSpPr>
            <a:xfrm>
              <a:off x="755640" y="4976640"/>
              <a:ext cx="2058480" cy="1266840"/>
              <a:chOff x="755640" y="4976640"/>
              <a:chExt cx="2058480" cy="1266840"/>
            </a:xfrm>
          </p:grpSpPr>
          <p:sp>
            <p:nvSpPr>
              <p:cNvPr id="230" name="Line 26"/>
              <p:cNvSpPr/>
              <p:nvPr/>
            </p:nvSpPr>
            <p:spPr>
              <a:xfrm flipH="1">
                <a:off x="2208600" y="5519520"/>
                <a:ext cx="6055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1" name="Group 27"/>
              <p:cNvGrpSpPr/>
              <p:nvPr/>
            </p:nvGrpSpPr>
            <p:grpSpPr>
              <a:xfrm>
                <a:off x="755640" y="4976640"/>
                <a:ext cx="1452960" cy="1266840"/>
                <a:chOff x="755640" y="4976640"/>
                <a:chExt cx="1452960" cy="1266840"/>
              </a:xfrm>
            </p:grpSpPr>
            <p:sp>
              <p:nvSpPr>
                <p:cNvPr id="232" name="Freeform 28"/>
                <p:cNvSpPr/>
                <p:nvPr/>
              </p:nvSpPr>
              <p:spPr>
                <a:xfrm>
                  <a:off x="997560" y="5377680"/>
                  <a:ext cx="1211040" cy="865800"/>
                </a:xfrm>
                <a:prstGeom prst="pie">
                  <a:avLst/>
                </a:prstGeom>
                <a:solidFill>
                  <a:srgbClr val="ffcc99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Oval 29"/>
                <p:cNvSpPr/>
                <p:nvPr/>
              </p:nvSpPr>
              <p:spPr>
                <a:xfrm>
                  <a:off x="900720" y="5310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234" name="Group 30"/>
                <p:cNvGrpSpPr/>
                <p:nvPr/>
              </p:nvGrpSpPr>
              <p:grpSpPr>
                <a:xfrm>
                  <a:off x="1887840" y="5870880"/>
                  <a:ext cx="247680" cy="306000"/>
                  <a:chOff x="1887840" y="5870880"/>
                  <a:chExt cx="247680" cy="306000"/>
                </a:xfrm>
              </p:grpSpPr>
              <p:sp>
                <p:nvSpPr>
                  <p:cNvPr id="235" name="Freeform 31"/>
                  <p:cNvSpPr/>
                  <p:nvPr/>
                </p:nvSpPr>
                <p:spPr>
                  <a:xfrm>
                    <a:off x="1887840" y="5870880"/>
                    <a:ext cx="247680" cy="306000"/>
                  </a:xfrm>
                  <a:prstGeom prst="pie">
                    <a:avLst/>
                  </a:prstGeom>
                  <a:solidFill>
                    <a:srgbClr val="cc99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AutoShape 32"/>
                  <p:cNvSpPr/>
                  <p:nvPr/>
                </p:nvSpPr>
                <p:spPr>
                  <a:xfrm>
                    <a:off x="1988280" y="594864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AutoShape 33"/>
                  <p:cNvSpPr/>
                  <p:nvPr/>
                </p:nvSpPr>
                <p:spPr>
                  <a:xfrm>
                    <a:off x="2042640" y="597276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8" name="AutoShape 34"/>
                  <p:cNvSpPr/>
                  <p:nvPr/>
                </p:nvSpPr>
                <p:spPr>
                  <a:xfrm>
                    <a:off x="1949760" y="60408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9" name="AutoShape 35"/>
                  <p:cNvSpPr/>
                  <p:nvPr/>
                </p:nvSpPr>
                <p:spPr>
                  <a:xfrm>
                    <a:off x="2011680" y="60750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40" name="Oval 36"/>
                <p:cNvSpPr/>
                <p:nvPr/>
              </p:nvSpPr>
              <p:spPr>
                <a:xfrm rot="321000">
                  <a:off x="1207440" y="5157360"/>
                  <a:ext cx="110520" cy="27828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Oval 37"/>
                <p:cNvSpPr/>
                <p:nvPr/>
              </p:nvSpPr>
              <p:spPr>
                <a:xfrm>
                  <a:off x="7556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Oval 38"/>
                <p:cNvSpPr/>
                <p:nvPr/>
              </p:nvSpPr>
              <p:spPr>
                <a:xfrm>
                  <a:off x="97344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Oval 39"/>
                <p:cNvSpPr/>
                <p:nvPr/>
              </p:nvSpPr>
              <p:spPr>
                <a:xfrm>
                  <a:off x="1118520" y="5776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Oval 40"/>
                <p:cNvSpPr/>
                <p:nvPr/>
              </p:nvSpPr>
              <p:spPr>
                <a:xfrm>
                  <a:off x="148176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Oval 41"/>
                <p:cNvSpPr/>
                <p:nvPr/>
              </p:nvSpPr>
              <p:spPr>
                <a:xfrm>
                  <a:off x="14094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Oval 42"/>
                <p:cNvSpPr/>
                <p:nvPr/>
              </p:nvSpPr>
              <p:spPr>
                <a:xfrm>
                  <a:off x="133668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Oval 43"/>
                <p:cNvSpPr/>
                <p:nvPr/>
              </p:nvSpPr>
              <p:spPr>
                <a:xfrm>
                  <a:off x="828000" y="5576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Oval 44"/>
                <p:cNvSpPr/>
                <p:nvPr/>
              </p:nvSpPr>
              <p:spPr>
                <a:xfrm>
                  <a:off x="1046160" y="5510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Oval 45"/>
                <p:cNvSpPr/>
                <p:nvPr/>
              </p:nvSpPr>
              <p:spPr>
                <a:xfrm>
                  <a:off x="1336680" y="5243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Oval 46"/>
                <p:cNvSpPr/>
                <p:nvPr/>
              </p:nvSpPr>
              <p:spPr>
                <a:xfrm>
                  <a:off x="900720" y="510984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Oval 47"/>
                <p:cNvSpPr/>
                <p:nvPr/>
              </p:nvSpPr>
              <p:spPr>
                <a:xfrm>
                  <a:off x="162720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Oval 48"/>
                <p:cNvSpPr/>
                <p:nvPr/>
              </p:nvSpPr>
              <p:spPr>
                <a:xfrm>
                  <a:off x="1263960" y="504288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Oval 49"/>
                <p:cNvSpPr/>
                <p:nvPr/>
              </p:nvSpPr>
              <p:spPr>
                <a:xfrm>
                  <a:off x="16272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Oval 50"/>
                <p:cNvSpPr/>
                <p:nvPr/>
              </p:nvSpPr>
              <p:spPr>
                <a:xfrm>
                  <a:off x="997560" y="54126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Oval 51"/>
                <p:cNvSpPr/>
                <p:nvPr/>
              </p:nvSpPr>
              <p:spPr>
                <a:xfrm>
                  <a:off x="1046160" y="5643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Oval 52"/>
                <p:cNvSpPr/>
                <p:nvPr/>
              </p:nvSpPr>
              <p:spPr>
                <a:xfrm>
                  <a:off x="1046160" y="517608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Oval 53"/>
                <p:cNvSpPr/>
                <p:nvPr/>
              </p:nvSpPr>
              <p:spPr>
                <a:xfrm>
                  <a:off x="11912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Oval 54"/>
                <p:cNvSpPr/>
                <p:nvPr/>
              </p:nvSpPr>
              <p:spPr>
                <a:xfrm>
                  <a:off x="1384920" y="58230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Oval 55"/>
                <p:cNvSpPr/>
                <p:nvPr/>
              </p:nvSpPr>
              <p:spPr>
                <a:xfrm>
                  <a:off x="104616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Oval 56"/>
                <p:cNvSpPr/>
                <p:nvPr/>
              </p:nvSpPr>
              <p:spPr>
                <a:xfrm rot="19273800">
                  <a:off x="1255680" y="5522760"/>
                  <a:ext cx="110520" cy="27864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Oval 57"/>
                <p:cNvSpPr/>
                <p:nvPr/>
              </p:nvSpPr>
              <p:spPr>
                <a:xfrm rot="18296400">
                  <a:off x="1525680" y="5602680"/>
                  <a:ext cx="120240" cy="25812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Oval 58"/>
                <p:cNvSpPr/>
                <p:nvPr/>
              </p:nvSpPr>
              <p:spPr>
                <a:xfrm>
                  <a:off x="755640" y="524772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Oval 59"/>
                <p:cNvSpPr/>
                <p:nvPr/>
              </p:nvSpPr>
              <p:spPr>
                <a:xfrm>
                  <a:off x="123984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Oval 60"/>
                <p:cNvSpPr/>
                <p:nvPr/>
              </p:nvSpPr>
              <p:spPr>
                <a:xfrm>
                  <a:off x="85248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65" name="Group 61"/>
            <p:cNvGrpSpPr/>
            <p:nvPr/>
          </p:nvGrpSpPr>
          <p:grpSpPr>
            <a:xfrm>
              <a:off x="1190520" y="3709080"/>
              <a:ext cx="373320" cy="1139760"/>
              <a:chOff x="1190520" y="3709080"/>
              <a:chExt cx="373320" cy="1139760"/>
            </a:xfrm>
          </p:grpSpPr>
          <p:sp>
            <p:nvSpPr>
              <p:cNvPr id="266" name="Line 62"/>
              <p:cNvSpPr/>
              <p:nvPr/>
            </p:nvSpPr>
            <p:spPr>
              <a:xfrm flipV="1">
                <a:off x="1461600" y="4302000"/>
                <a:ext cx="0" cy="5468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7" name="Group 63"/>
              <p:cNvGrpSpPr/>
              <p:nvPr/>
            </p:nvGrpSpPr>
            <p:grpSpPr>
              <a:xfrm>
                <a:off x="1190520" y="3709080"/>
                <a:ext cx="373320" cy="491760"/>
                <a:chOff x="1190520" y="3709080"/>
                <a:chExt cx="373320" cy="491760"/>
              </a:xfrm>
            </p:grpSpPr>
            <p:sp>
              <p:nvSpPr>
                <p:cNvPr id="268" name="Oval 64"/>
                <p:cNvSpPr/>
                <p:nvPr/>
              </p:nvSpPr>
              <p:spPr>
                <a:xfrm>
                  <a:off x="1190520" y="38062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Oval 65"/>
                <p:cNvSpPr/>
                <p:nvPr/>
              </p:nvSpPr>
              <p:spPr>
                <a:xfrm>
                  <a:off x="1231920" y="4053240"/>
                  <a:ext cx="12420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Oval 66"/>
                <p:cNvSpPr/>
                <p:nvPr/>
              </p:nvSpPr>
              <p:spPr>
                <a:xfrm>
                  <a:off x="1439640" y="390348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Oval 67"/>
                <p:cNvSpPr/>
                <p:nvPr/>
              </p:nvSpPr>
              <p:spPr>
                <a:xfrm>
                  <a:off x="1439640" y="409824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Oval 68"/>
                <p:cNvSpPr/>
                <p:nvPr/>
              </p:nvSpPr>
              <p:spPr>
                <a:xfrm>
                  <a:off x="1315080" y="37090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73" name="Text Box 69"/>
          <p:cNvSpPr/>
          <p:nvPr/>
        </p:nvSpPr>
        <p:spPr>
          <a:xfrm>
            <a:off x="2268360" y="62064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衣原体发育周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80E6-9950-4157-BC94-757CC05B1CA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点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严格细胞内寄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可在鸡胚、小鼠中生长，细胞中繁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E199-E5BB-487E-834C-0EFD87F3806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和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的属特异性抗原为胞壁脂多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和型特异性抗原多位于主要外膜蛋白上，可区分衣原体的种和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人致病的衣原体包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分三个变种：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沙眼生物变种、性病淋巴肉芽肿亚种（</a:t>
            </a:r>
            <a:r>
              <a:rPr b="1" i="1" lang="en-US" sz="2800" spc="-1" strike="noStrike">
                <a:solidFill>
                  <a:srgbClr val="660033"/>
                </a:solidFill>
                <a:latin typeface="Times New Roman"/>
              </a:rPr>
              <a:t>LGV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）、鼠生物变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肺炎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鹦鹉热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兽类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EEFF-9B47-416E-B6B9-E4734F859D5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920" y="1341000"/>
            <a:ext cx="779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907640" y="2349000"/>
            <a:ext cx="45356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热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消毒剂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耐低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生素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D2CD-9DE5-44EC-B44D-139397C744C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4582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一）致病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内毒素样物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抑制细胞代谢，破坏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主要外膜蛋白与吸附、侵入及阻止吞噬体和溶酶体融合有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二）所致疾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人类衣原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沙眼、包涵体结膜炎、泌尿生殖道感染、性病淋巴肉芽肿、呼吸道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BE04-E875-46AC-BFE6-5555085277F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910"/>
                </a:solidFill>
                <a:latin typeface="Times New Roman"/>
              </a:rPr>
              <a:t>第一节 支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没有细胞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高度多形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通过滤菌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在无生命培养基中繁殖的最小原核细胞型微生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BC24-D645-45D0-919F-078E38E68BA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991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沙眼变种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血清型引起沙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，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手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眼结膜上皮细胞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增殖，包涵体→局部炎症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早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流泪、有粘液脓性分泌物、结膜充血及滤泡增生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后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结膜瘢痕、眼睑内翻、倒睫以及角膜血管翳引起的角膜损害→影响视力或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致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042920" y="47628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、沙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3866-E454-4200-B8A5-401B6C187B9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沙眼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91" name="Picture 3" descr="沙眼"/>
          <p:cNvPicPr/>
          <p:nvPr/>
        </p:nvPicPr>
        <p:blipFill>
          <a:blip r:embed="rId1"/>
          <a:stretch/>
        </p:blipFill>
        <p:spPr>
          <a:xfrm>
            <a:off x="1042920" y="1363680"/>
            <a:ext cx="68058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、包涵体结膜炎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(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成人、婴儿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生物变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等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婴儿由产道，成人由手眼传染，表现为滤泡性结膜炎，无沙眼后期症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泌尿生殖道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与引起包涵体结膜炎的相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性接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是非淋球菌性泌尿生殖道感染的主要病原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3C6B-D3D0-4EB9-974E-5034D4F3E22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74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性病淋巴肉芽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性病淋巴肉芽肿生物变种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G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染源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途径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性接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侵犯淋巴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男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腹股沟淋巴结→化脓性淋巴结炎和慢性淋巴肉芽肿→瘘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女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会阴、肛门和直肠→肠皮肤瘘管，会阴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肛门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直肠狭窄和梗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呼吸道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由鹦鹉热嗜衣原体和肺炎嗜衣原体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9D22-345F-42D6-AF95-80890B4FB8A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092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0920" y="2394000"/>
            <a:ext cx="806436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体持续时间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免疫力不强，易再受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6C0A-3461-45D3-8D61-7F78EA46F39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注意个人卫生，不用公共毛巾、脸盆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无特异预防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可选用磺胺、红霉素、诺氟沙星等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284D-ECDE-4A2C-8E1C-BA05610B6D1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15640" y="48528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立克次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类体积微小、严格细胞内寄生，以节肢动物为储存宿主或传播媒介的原核细胞型微生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3414-A512-41FC-9C69-390A6CB1998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oward Rickett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属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柯克斯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东方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埃立克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巴通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4" descr="立克次2"/>
          <p:cNvPicPr/>
          <p:nvPr/>
        </p:nvPicPr>
        <p:blipFill>
          <a:blip r:embed="rId1"/>
          <a:srcRect l="0" t="0" r="9042" b="0"/>
          <a:stretch/>
        </p:blipFill>
        <p:spPr>
          <a:xfrm>
            <a:off x="6172200" y="2852640"/>
            <a:ext cx="29718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5F4F-D5BA-47FF-8250-B096B3DD401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共同特点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专性细胞内寄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、二分裂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存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类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具有典型的细胞壁，形态多样，多呈球杆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小介于细菌与病毒之间，普通光学显微镜下可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可成为寄生宿主、储存宿主、传播媒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，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磺胺可刺激其增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091F-50BD-441A-9E88-7AF51AE7F26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多形态性，以短杆状为主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革兰染色阴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姬姆萨染色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（紫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5651640" y="3573360"/>
            <a:ext cx="293364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0B91-163C-40CC-97BF-F98125F6D27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多形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特殊结构：荚膜（肽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方法：</a:t>
            </a:r>
            <a:r>
              <a:rPr b="1" lang="en-US" sz="2800" spc="-1" strike="noStrike">
                <a:solidFill>
                  <a:srgbClr val="080910"/>
                </a:solidFill>
                <a:latin typeface="Times New Roman"/>
              </a:rPr>
              <a:t>Giemsa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淡紫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些致病性的支原体具有一种特殊的顶端结    构，能使支原体黏附在宿主上皮细胞表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支原体1"/>
          <p:cNvPicPr/>
          <p:nvPr/>
        </p:nvPicPr>
        <p:blipFill>
          <a:blip r:embed="rId1"/>
          <a:stretch/>
        </p:blipFill>
        <p:spPr>
          <a:xfrm>
            <a:off x="6300720" y="4645080"/>
            <a:ext cx="28432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9D97-CB18-4898-98DC-63314F74068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755280" y="1341000"/>
            <a:ext cx="79218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二）培养特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活细胞内无性二分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动物接种、鸡胚接种、细胞培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E15D-8899-4DC6-8F11-B106F026643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425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三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抗原构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群特异性可溶性抗原（细胞壁脂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变形杆菌某些菌株（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1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）的菌体抗原有共同的抗原成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外斐试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用这类变形杆菌代替相应的立克次体抗原进行非特异性凝集反应，检测人类或动物血清中有无相应的抗体。辅助诊断立克次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（外膜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不耐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C527-1A8C-44F4-9B4D-1A31527948F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99640" y="1557360"/>
            <a:ext cx="7417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媒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感染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如人虱、鼠蚤、蜱或螨的叮咬而传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1116000" y="620640"/>
            <a:ext cx="563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A070-B418-4762-A404-4D285362554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22100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致病机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2040840" y="134460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物质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2023560" y="203364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机制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4678920" y="2795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局部（淋巴组织小血管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484160" y="40910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全身小血管内皮细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5153400" y="546264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热、头痛、皮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6735960" y="3405240"/>
            <a:ext cx="9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6273360" y="4776840"/>
            <a:ext cx="18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3844800" y="5996160"/>
            <a:ext cx="18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1"/>
          <p:cNvSpPr/>
          <p:nvPr/>
        </p:nvSpPr>
        <p:spPr>
          <a:xfrm>
            <a:off x="5162400" y="3252960"/>
            <a:ext cx="0" cy="990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5162400" y="4548240"/>
            <a:ext cx="0" cy="990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13"/>
          <p:cNvSpPr/>
          <p:nvPr/>
        </p:nvSpPr>
        <p:spPr>
          <a:xfrm>
            <a:off x="5162400" y="2490840"/>
            <a:ext cx="0" cy="4572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4597200" y="1347840"/>
            <a:ext cx="14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毒素、 磷脂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4515840" y="2033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叮咬或粪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16"/>
          <p:cNvSpPr/>
          <p:nvPr/>
        </p:nvSpPr>
        <p:spPr>
          <a:xfrm>
            <a:off x="2042640" y="599616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理部位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17"/>
          <p:cNvSpPr/>
          <p:nvPr/>
        </p:nvSpPr>
        <p:spPr>
          <a:xfrm>
            <a:off x="3562200" y="1881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18"/>
          <p:cNvSpPr/>
          <p:nvPr/>
        </p:nvSpPr>
        <p:spPr>
          <a:xfrm>
            <a:off x="3571920" y="599616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FC97-FA0F-4B49-8593-7677D2F5FE7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0" y="228600"/>
            <a:ext cx="914400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传染源    媒介昆虫     主要临床表现            免疫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普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        人体虱       发热、头痛、皮疹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流行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珍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                      神经系统、心血管系统损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斑疹伤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鼠等       鼠蚤          发热、头痛、皮疹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地方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疹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鼠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恙虫病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克次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鼠等      恙螨          局部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黑色焦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恙虫热）                                               发热、头痛、皮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脏损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贝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柯克斯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家畜      蜱               发热、头痛             一定程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热）                             （动物间）    心内膜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通过接触消化道呼吸道传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主要病原性</a:t>
            </a:r>
            <a:r>
              <a:rPr b="1" lang="zh-CN" sz="3200" spc="-1" strike="noStrike">
                <a:solidFill>
                  <a:srgbClr val="010000"/>
                </a:solidFill>
                <a:latin typeface="宋体"/>
              </a:rPr>
              <a:t>立克次体及所致疾病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490D-7204-4B6E-9BBA-1E81B8BBF0F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424980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普氏立克次体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2120" y="1267920"/>
            <a:ext cx="79135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流行性斑疹伤寒传播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4"/>
          <p:cNvSpPr/>
          <p:nvPr/>
        </p:nvSpPr>
        <p:spPr>
          <a:xfrm flipV="1">
            <a:off x="378000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Line 5"/>
          <p:cNvSpPr/>
          <p:nvPr/>
        </p:nvSpPr>
        <p:spPr>
          <a:xfrm>
            <a:off x="543564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Line 6"/>
          <p:cNvSpPr/>
          <p:nvPr/>
        </p:nvSpPr>
        <p:spPr>
          <a:xfrm flipH="1">
            <a:off x="5435640" y="386064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Line 7"/>
          <p:cNvSpPr/>
          <p:nvPr/>
        </p:nvSpPr>
        <p:spPr>
          <a:xfrm flipH="1" flipV="1">
            <a:off x="3780000" y="3789360"/>
            <a:ext cx="457200" cy="53352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8" name="Picture 8" descr="阴虱"/>
          <p:cNvPicPr/>
          <p:nvPr/>
        </p:nvPicPr>
        <p:blipFill>
          <a:blip r:embed="rId1"/>
          <a:stretch/>
        </p:blipFill>
        <p:spPr>
          <a:xfrm>
            <a:off x="324000" y="1125360"/>
            <a:ext cx="2952720" cy="2248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666"/>
          <p:cNvPicPr/>
          <p:nvPr/>
        </p:nvPicPr>
        <p:blipFill>
          <a:blip r:embed="rId2"/>
          <a:stretch/>
        </p:blipFill>
        <p:spPr>
          <a:xfrm>
            <a:off x="250920" y="3645000"/>
            <a:ext cx="2952720" cy="2232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444"/>
          <p:cNvPicPr/>
          <p:nvPr/>
        </p:nvPicPr>
        <p:blipFill>
          <a:blip r:embed="rId3"/>
          <a:stretch/>
        </p:blipFill>
        <p:spPr>
          <a:xfrm>
            <a:off x="6372360" y="1052640"/>
            <a:ext cx="2771640" cy="2232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555"/>
          <p:cNvPicPr/>
          <p:nvPr/>
        </p:nvPicPr>
        <p:blipFill>
          <a:blip r:embed="rId4"/>
          <a:stretch/>
        </p:blipFill>
        <p:spPr>
          <a:xfrm>
            <a:off x="6400800" y="3500280"/>
            <a:ext cx="274320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30E5-F8B9-47B1-B03F-78021FDA1A3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02920" y="404280"/>
            <a:ext cx="59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10000"/>
                </a:solidFill>
                <a:uFillTx/>
                <a:latin typeface="Times New Roman"/>
              </a:rPr>
              <a:t>斑疹伤寒立克次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地方性斑疹伤寒（鼠型斑疹伤寒）传播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蚤      鼠虱      鼠蚤          人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4"/>
          <p:cNvSpPr/>
          <p:nvPr/>
        </p:nvSpPr>
        <p:spPr>
          <a:xfrm flipV="1">
            <a:off x="3276720" y="2971440"/>
            <a:ext cx="761760" cy="7621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4648320" y="2895480"/>
            <a:ext cx="838080" cy="8384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6"/>
          <p:cNvSpPr/>
          <p:nvPr/>
        </p:nvSpPr>
        <p:spPr>
          <a:xfrm flipH="1">
            <a:off x="4724280" y="4343400"/>
            <a:ext cx="1067040" cy="106668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7"/>
          <p:cNvSpPr/>
          <p:nvPr/>
        </p:nvSpPr>
        <p:spPr>
          <a:xfrm flipH="1" flipV="1">
            <a:off x="3058920" y="4365360"/>
            <a:ext cx="990360" cy="1143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8"/>
          <p:cNvSpPr/>
          <p:nvPr/>
        </p:nvSpPr>
        <p:spPr>
          <a:xfrm>
            <a:off x="4495680" y="3124080"/>
            <a:ext cx="0" cy="6858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9"/>
          <p:cNvSpPr/>
          <p:nvPr/>
        </p:nvSpPr>
        <p:spPr>
          <a:xfrm flipV="1">
            <a:off x="4267080" y="3124080"/>
            <a:ext cx="0" cy="6098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Line 10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Line 11"/>
          <p:cNvSpPr/>
          <p:nvPr/>
        </p:nvSpPr>
        <p:spPr>
          <a:xfrm flipV="1">
            <a:off x="4419720" y="434340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Line 12"/>
          <p:cNvSpPr/>
          <p:nvPr/>
        </p:nvSpPr>
        <p:spPr>
          <a:xfrm>
            <a:off x="6012000" y="4076640"/>
            <a:ext cx="838080" cy="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Line 13"/>
          <p:cNvSpPr/>
          <p:nvPr/>
        </p:nvSpPr>
        <p:spPr>
          <a:xfrm flipV="1">
            <a:off x="7093080" y="2997360"/>
            <a:ext cx="54612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Line 14"/>
          <p:cNvSpPr/>
          <p:nvPr/>
        </p:nvSpPr>
        <p:spPr>
          <a:xfrm flipH="1" flipV="1">
            <a:off x="7235640" y="4436640"/>
            <a:ext cx="431640" cy="8636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Line 15"/>
          <p:cNvSpPr/>
          <p:nvPr/>
        </p:nvSpPr>
        <p:spPr>
          <a:xfrm flipH="1">
            <a:off x="8101080" y="4365720"/>
            <a:ext cx="417600" cy="9349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16"/>
          <p:cNvSpPr/>
          <p:nvPr/>
        </p:nvSpPr>
        <p:spPr>
          <a:xfrm>
            <a:off x="8028000" y="2997360"/>
            <a:ext cx="43164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17" descr="鼠蚤2"/>
          <p:cNvPicPr/>
          <p:nvPr/>
        </p:nvPicPr>
        <p:blipFill>
          <a:blip r:embed="rId1"/>
          <a:stretch/>
        </p:blipFill>
        <p:spPr>
          <a:xfrm>
            <a:off x="0" y="4249800"/>
            <a:ext cx="295272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7006-5FCF-4307-9D78-67360AAE2D2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2504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040" y="2099880"/>
            <a:ext cx="790740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以细胞免疫为主，体液免疫为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病后可获得较强免疫力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547E-DFC3-455A-A1AE-E3CB0A18843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4953240" cy="45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三、微生物学检查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143000" y="216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标本采集：急性期血液和双份血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1212840" y="3124080"/>
            <a:ext cx="64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分离培养：首先接种豚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1238400" y="4191120"/>
            <a:ext cx="556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血清学试验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斐反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Object 6" descr=""/>
          <p:cNvPicPr/>
          <p:nvPr/>
        </p:nvPicPr>
        <p:blipFill>
          <a:blip r:embed="rId1"/>
          <a:stretch/>
        </p:blipFill>
        <p:spPr>
          <a:xfrm>
            <a:off x="6553080" y="3886200"/>
            <a:ext cx="1627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20BD-794E-4F0B-9200-8096D21DB3E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475920"/>
            <a:ext cx="815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0" name="AutoShape 3"/>
          <p:cNvSpPr/>
          <p:nvPr/>
        </p:nvSpPr>
        <p:spPr>
          <a:xfrm>
            <a:off x="361800" y="4267080"/>
            <a:ext cx="1219320" cy="99072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285840" y="2133720"/>
            <a:ext cx="1218960" cy="99036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420840" y="2309760"/>
            <a:ext cx="16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38120" y="4495680"/>
            <a:ext cx="16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4760280" y="45086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氯霉素、四环素，禁用磺胺类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5" name="Group 8"/>
          <p:cNvGrpSpPr/>
          <p:nvPr/>
        </p:nvGrpSpPr>
        <p:grpSpPr>
          <a:xfrm>
            <a:off x="4223880" y="2060640"/>
            <a:ext cx="3212640" cy="1758600"/>
            <a:chOff x="4223880" y="2060640"/>
            <a:chExt cx="3212640" cy="1758600"/>
          </a:xfrm>
        </p:grpSpPr>
        <p:sp>
          <p:nvSpPr>
            <p:cNvPr id="396" name="Rectangle 9"/>
            <p:cNvSpPr/>
            <p:nvPr/>
          </p:nvSpPr>
          <p:spPr>
            <a:xfrm>
              <a:off x="4535640" y="2060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控制和消灭中间宿主及储存宿主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10"/>
            <p:cNvSpPr/>
            <p:nvPr/>
          </p:nvSpPr>
          <p:spPr>
            <a:xfrm>
              <a:off x="5091480" y="267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特异性：鼠肺疫苗（全细胞灭活疫苗）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Rectangle 11"/>
            <p:cNvSpPr/>
            <p:nvPr/>
          </p:nvSpPr>
          <p:spPr>
            <a:xfrm>
              <a:off x="5740200" y="3298680"/>
              <a:ext cx="169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斑疹伤寒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12"/>
            <p:cNvSpPr/>
            <p:nvPr/>
          </p:nvSpPr>
          <p:spPr>
            <a:xfrm>
              <a:off x="4223880" y="3584520"/>
              <a:ext cx="160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9FD4-1E8C-4D9A-BCA3-90BED632C8A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6697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性与生化反应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营养要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较一般细菌高，需加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%~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动物血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繁殖方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分裂为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生长速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缓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固体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3~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后出现菌落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典型的菌落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荷包蛋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菌落特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低倍显微镜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" descr="支原体菌落5"/>
          <p:cNvPicPr/>
          <p:nvPr/>
        </p:nvPicPr>
        <p:blipFill>
          <a:blip r:embed="rId1"/>
          <a:srcRect l="8959" t="0" r="0" b="18642"/>
          <a:stretch/>
        </p:blipFill>
        <p:spPr>
          <a:xfrm>
            <a:off x="5435640" y="4405320"/>
            <a:ext cx="34210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80D8-CC2F-41A9-A8AD-319EF5590B8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四节   螺旋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一类细长、柔软、螺旋状、运动活泼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原核细胞型微生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于细菌与原虫之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性状如细菌，例如有细胞壁、原始核质，以二分裂方式繁殖和对抗生素等药物敏感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D5D3-9D37-4D27-AE3A-DDE4208A1BA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致病性螺旋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钩端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多个细密规则的螺旋 末端弯曲     问号形钩端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密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密规则的螺旋两端尖直    梅毒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梅毒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疏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稀疏不规则螺旋   伯氏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莱姆病  回归热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回归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798F-11E2-4B09-9270-46A43044BA2B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600" y="1905120"/>
            <a:ext cx="7161120" cy="13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一  、  钩端螺旋体属</a:t>
            </a:r>
            <a:br>
              <a:rPr sz="48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Leptospira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1332000" y="4149720"/>
            <a:ext cx="71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15B7-7F3C-4545-A90D-056D4BD90A3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700280"/>
            <a:ext cx="81532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i="1" lang="zh-CN" sz="3600" spc="-1" strike="noStrike">
                <a:solidFill>
                  <a:srgbClr val="000099"/>
                </a:solidFill>
                <a:latin typeface="Times New Roman"/>
              </a:rPr>
              <a:t>、形态和结构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螺旋细密、规则，一端或两端呈钩状，常使菌体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结构：外膜、内鞭毛和柱形原生质体，运动活泼（旋转）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镀银染色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611280" y="333360"/>
            <a:ext cx="54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Picture 4" descr="m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2708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钩体形态1"/>
          <p:cNvPicPr/>
          <p:nvPr/>
        </p:nvPicPr>
        <p:blipFill>
          <a:blip r:embed="rId2"/>
          <a:stretch/>
        </p:blipFill>
        <p:spPr>
          <a:xfrm>
            <a:off x="6877080" y="4653000"/>
            <a:ext cx="226692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68C3-B41D-4F89-B8B1-2BD5EFC0A48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培养特性与生化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抗原构造与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4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抵抗力弱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℃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钟即死亡，对青霉素敏感，但在湿土或水中可存活数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00E5-05CE-4CC9-9716-C53D9AC0318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（二）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致病物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黏附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毒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血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D203-EF45-415E-B403-CC2E5631E38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99640" y="1268280"/>
            <a:ext cx="770436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所致疾病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----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钩端螺旋体病（钩体病）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29840" y="220500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储存宿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鼠类（南方）与猪（北方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接触传播  接触疫水或土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症状：畏寒发热、头痛身痛、周身乏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体征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眼结膜充血、腓肠肌压痛、表浅淋巴结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836C-0FAD-4DB4-92D4-253F29A837C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468360" y="155736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900000" y="2060640"/>
            <a:ext cx="746784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依赖特异性体液免疫，病后可获得抗同型钩体的持久免疫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4554-A214-4D0E-B65F-B4EC7B4210FA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二  梅毒螺旋体</a:t>
            </a: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485520" y="3759120"/>
            <a:ext cx="310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i="1" lang="en-US" sz="3200" spc="-1" strike="noStrike">
                <a:solidFill>
                  <a:srgbClr val="000099"/>
                </a:solidFill>
                <a:latin typeface="Tahoma"/>
              </a:rPr>
              <a:t>T. pallidum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6118-3FE6-44AE-9F34-E5095817605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533520" y="1916280"/>
            <a:ext cx="83818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~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致密而规则的螺旋，两端尖直，运动活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镀银染色法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3"/>
          <p:cNvSpPr/>
          <p:nvPr/>
        </p:nvSpPr>
        <p:spPr>
          <a:xfrm>
            <a:off x="685800" y="14842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形态与染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1476360" y="549360"/>
            <a:ext cx="511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3" name="Picture 5" descr=""/>
          <p:cNvPicPr/>
          <p:nvPr/>
        </p:nvPicPr>
        <p:blipFill>
          <a:blip r:embed="rId1"/>
          <a:stretch/>
        </p:blipFill>
        <p:spPr>
          <a:xfrm>
            <a:off x="5364000" y="4336920"/>
            <a:ext cx="3614760" cy="252108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6"/>
          <p:cNvSpPr/>
          <p:nvPr/>
        </p:nvSpPr>
        <p:spPr>
          <a:xfrm>
            <a:off x="826920" y="3284640"/>
            <a:ext cx="29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培养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1341720" y="4008600"/>
            <a:ext cx="2996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不能在无生命培养基上生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6A5F-B308-4E93-9126-2EAFE22F451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3716280"/>
            <a:ext cx="8280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细菌弱，易被消毒剂灭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、有机溶剂及作用于胆固醇的物质可破坏细胞膜而使支原体死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青霉素、头孢菌素等不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干扰蛋白质合成的抗生素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39640" y="476280"/>
            <a:ext cx="779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539640" y="1628640"/>
            <a:ext cx="82090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支原体抗原主要由细胞膜上的蛋白质和糖脂组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各种支原体均有型特异性抗原，很少有交叉反应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CEEE-F7E8-4082-82E2-D2ED4C6F968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971640" y="1557360"/>
            <a:ext cx="723888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梅毒螺旋体抵抗力极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钟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常用化学消毒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青霉素、四环素、红霉素及砷制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7DA2-2792-428C-964C-A35025529C9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（二）致病性与免疫性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致病物质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样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明质酸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457200" y="55627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729E-1CE0-4730-9FD8-1C9C81EB597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187280" y="2349360"/>
            <a:ext cx="6913800" cy="34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是梅毒的唯一传染源 ，有先天性和获得性两种 。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获得性            性接触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先天性            母体→胎盘→胎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1042920" y="155736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所致疾病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---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梅毒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5E86-2EC2-4454-AEBF-2024532DADE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Text Box 2"/>
          <p:cNvSpPr/>
          <p:nvPr/>
        </p:nvSpPr>
        <p:spPr>
          <a:xfrm>
            <a:off x="611280" y="148428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获得性梅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838080" y="3033720"/>
            <a:ext cx="7543800" cy="28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：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极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感染性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晚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感染性小，破坏性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8160" y="2940120"/>
            <a:ext cx="1204200" cy="1701720"/>
          </a:xfrm>
          <a:prstGeom prst="rect">
            <a:avLst/>
          </a:prstGeom>
          <a:solidFill>
            <a:srgbClr val="ccffff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早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A632-0649-4226-AB9C-9CFA45B08DE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Ⅰ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期 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826920" y="2060640"/>
            <a:ext cx="7315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局部出现无痛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硬下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丘疹、硬结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无痛性溃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多见于外生殖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后，常自愈，渗出液中有大量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3D29-C626-4200-BD6F-2107DEC95D2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Ⅱ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期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324000" y="1916280"/>
            <a:ext cx="36576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身皮肤黏膜常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梅毒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全身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淋巴结肿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累及骨、关节、眼及其他脏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在梅毒疹和淋巴结中，存在有大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梅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5" name="Object 4"/>
          <p:cNvGraphicFramePr/>
          <p:nvPr/>
        </p:nvGraphicFramePr>
        <p:xfrm>
          <a:off x="5248440" y="1557360"/>
          <a:ext cx="299376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8440" y="1557360"/>
                    <a:ext cx="299376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3D03-7161-4694-A213-F45579B8A2A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Ⅲ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晚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59" name="Picture 3" descr="梅毒3期"/>
          <p:cNvPicPr/>
          <p:nvPr/>
        </p:nvPicPr>
        <p:blipFill>
          <a:blip r:embed="rId1"/>
          <a:stretch/>
        </p:blipFill>
        <p:spPr>
          <a:xfrm>
            <a:off x="5796000" y="2276640"/>
            <a:ext cx="3046320" cy="280800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4"/>
          <p:cNvSpPr/>
          <p:nvPr/>
        </p:nvSpPr>
        <p:spPr>
          <a:xfrm>
            <a:off x="395280" y="1700280"/>
            <a:ext cx="417672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除有皮肤黏膜溃疡坏死病灶外，还可波及全身组织和器官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后引起心血管及中枢神经系统病变，此期病灶中不易找到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4DF1-2ED4-4684-97DE-A1E01A7F485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1258920" y="1341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1187280" y="220500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性免疫（有菌免疫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免疫比体液免疫重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AAB6-FB1A-443F-8D53-46F8FFA6A6C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Text Box 2"/>
          <p:cNvSpPr/>
          <p:nvPr/>
        </p:nvSpPr>
        <p:spPr>
          <a:xfrm>
            <a:off x="971640" y="69228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三）微生物学检查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324000" y="1484280"/>
            <a:ext cx="864072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病原学检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硬下疳渗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梅毒疹渗出液或局部淋巴结抽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免疫荧光法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LI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镀银染色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  <a:ea typeface="宋体"/>
              </a:rPr>
              <a:t>血清学检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非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3699-A791-47AD-86E8-D18D903A3FA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Text Box 2"/>
          <p:cNvSpPr/>
          <p:nvPr/>
        </p:nvSpPr>
        <p:spPr>
          <a:xfrm>
            <a:off x="1258920" y="6922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四）防治原则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636480" y="1557360"/>
            <a:ext cx="8507520" cy="41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性卫生教育和严格社会管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梅毒确诊后，宜用青霉素等药物及早予以彻底治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可治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晚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梅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延长生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1AA8-3349-4D26-BE4E-8D020AC283E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性支原体一般通过其顶端结构紧密黏附在宿主细胞表面，很少侵入血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取宿主细胞膜的胆固醇与脂质作为营养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产生有毒的代谢产物，如神经毒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脲脲原体可通过黏附在精子表面而影响精子运动，引起不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解尿素产生大量氨，既具有细胞毒作用，也可促使结石的形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8606-6BDB-49DE-A74F-9866460A012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99"/>
                </a:solidFill>
                <a:latin typeface="Times New Roman"/>
              </a:rPr>
              <a:t>（二）主要病原性支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、肺炎支原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原发性非典型性肺炎（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primary atypical pneumonia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8091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支原体肺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病理性变化以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间质性肺炎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为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5C73-E1BF-4B0F-B6BB-3805056DC5D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占非细菌性肺炎的二分之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飞沫传播，夏末秋初为好发季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症状较轻，发热、咳嗽、有时有呼吸道外并发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婴幼儿病情较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BDFB-7A79-48E0-B107-0C5C3C07763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9640" y="1267920"/>
            <a:ext cx="793764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溶脲脲原体   也称解脲脲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2781360"/>
            <a:ext cx="8281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垂直传播、性传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非淋球菌性尿道炎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GU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尿路结石、盆腔炎、阴道炎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然流产、死胎、先天缺陷、不孕（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12:43:51Z</dcterms:created>
  <dc:creator>guoxk</dc:creator>
  <dc:description/>
  <dc:language>en-US</dc:language>
  <cp:lastModifiedBy>正版用户</cp:lastModifiedBy>
  <dcterms:modified xsi:type="dcterms:W3CDTF">2014-05-26T01:43:47Z</dcterms:modified>
  <cp:revision>96</cp:revision>
  <dc:subject/>
  <dc:title>支原体(mycoplasma) </dc:title>
</cp:coreProperties>
</file>