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1F08-1A97-455B-BE44-C099AC177C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3F5A3-A409-4965-B83E-E078007C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52856-1B9C-4450-80EF-726DFBBD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9E0F2-79F4-4F87-87C9-BA8BB6BADB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FC736-41F9-4A99-8F0A-747176BE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4A69-7ED4-488C-8F3A-0D8292BE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9847-9050-4500-A154-7F5EEC82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5B07F-8B08-483A-A1DC-98C95022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418B4-0E86-4092-A852-4E05BCC1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DDDAF-55FB-4C94-BC7D-3FCE02C7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34670-032B-4C41-8403-5F5A01D3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FF3F4-E98B-444F-A248-A5AF33BF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31E9-B81C-4AB9-8AE0-2E30C3EE241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细菌与病毒感染的实验室检查与防治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653200" y="4929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化学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包膜与细胞膜融合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20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脱壳（金刚烷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型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核酸合成（阿昔洛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疱疹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前体蛋白裂解（英地那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释放（达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3640" y="1844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扰素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nterferon,IF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谱抗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基因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然药物（中草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1640" y="2708280"/>
            <a:ext cx="7134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菌与病毒感染的实验室检查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菌药物的临床应用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细菌与病毒感染的实验室检查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1160" y="1864800"/>
            <a:ext cx="803412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标本采集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菌操作，避免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宜的采集时间和采集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早期和使用抗生素之前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事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藏速送（奈瑟菌除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详细登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（形态、染色有特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（选择、鉴别培养基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实验（诊断血清查未知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（指导临床用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实验（细菌毒力和致病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力检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640" y="2092320"/>
            <a:ext cx="779472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玻片凝集、协同凝集、酶免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技术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镜检（光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电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颗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与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F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代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倍体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代细胞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（流感病毒）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2200" y="2092320"/>
            <a:ext cx="80834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特异性抗体查抗原；酶免疫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核酸分子杂交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细菌与病毒感染的防治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2492280"/>
            <a:ext cx="860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菌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细胞壁合成（青霉素类、头孢类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损伤细胞膜（多黏菌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蛋白质合成（氯霉素、链霉素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核酸合成（磺胺类、吡哌酸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3385800" y="177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050920" y="1989000"/>
            <a:ext cx="468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应用抗菌药物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理选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剂量适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7:05Z</dcterms:modified>
  <cp:revision>103</cp:revision>
  <dc:subject/>
  <dc:title>内科护理学</dc:title>
</cp:coreProperties>
</file>