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F0C2D-83FD-4E06-B23F-84B1FBB56D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2503E-777D-4804-A58E-963D272B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F3508-D1DD-4FF5-9030-CEBCA754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0974E-089E-4B44-AD0B-FDACFDCA70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830F4-4A14-41A2-A76A-3587EF7B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B748E-9107-4C1C-A351-35DC82C6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D1D4-6B77-4EF8-A8C6-4A912692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F78E6-7857-41F8-8EA1-512FA823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4200E-020F-49C8-BCE7-B8552211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A41D5-6522-49FB-821B-551506A0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C49C3-811E-4C62-ACAA-5B85034A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8E94-009E-4C4B-8F79-FBD324EC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3099-ABEB-424C-A86A-D973ACF796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颅内肿瘤，拟行开颅病灶切除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围术期护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意外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检查及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及输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、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相关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及家属康复训练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合理摄入均衡饮食，注重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未明。可能与遗传、外伤、理化因素和生物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病多较缓慢，病程可自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至数年不等。部分病例可呈急性或亚急性发病，由于肿瘤的原发部位、组织生物学特性的不同，不同肿瘤的临床表现各异，但以颅内压增高、神经功能定位症状为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为主，辅以放疗、化疗及免疫、基因、中医等综合治疗。降低颅内压以缓解症状，争取治疗时间。切除肿瘤是降低颅内压、解除对脑神经压迫的最直接、最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采取斜坡位，注意休息，营养支持，保持呼吸道通畅，病情观察，颅内压增高的护理，防止发生意外，做好心理护理和各项术前准备。术后注意观察患者的生命体征、意识状态、瞳孔及肢体活动状况，采取适当体位，补充营养和输液，保持呼吸道通畅，减轻疼痛，观察伤口及引流管情况，加强生活护理，预防和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颅内肿瘤患者的病情观察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颅内肿瘤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颅内肿瘤患者术后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内肿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头痛、头晕、右半身麻木无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志清楚，眼底视盘模糊不清，视盘水肿。有面部感觉减退，右侧肢体不全瘫痪，右侧病理反射阳性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破坏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颅内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星形细胞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膜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听神经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咽管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及靶腺功能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与呕吐、食欲下降、放疗、化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 与肿瘤压迫、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卫生、如厕）自理缺陷 与手术后长期卧床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颅内压增高、脑疝、颅内出血、中枢性高热、感染、脑脊液漏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9:53Z</dcterms:modified>
  <cp:revision>87</cp:revision>
  <dc:subject/>
  <dc:title>内科护理学</dc:title>
</cp:coreProperties>
</file>