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266C0C-354D-4AC3-8381-C43024A63E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023BB760-259E-4F00-A221-1F68582EBF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63743831-A511-4843-8909-1D07F18719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1CA394EE-0A93-4FE2-82E5-7881BAEE8F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991B1D69-A81D-447F-8F8D-0BB1C957C2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1D2B8F6B-4E0E-47C5-8A7E-B3C3497EF1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9A732765-0BCD-4652-8BEE-6404B31FBA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C527393B-A9B7-4728-A546-CA2C75F232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4548332C-1DDC-4DC2-A6BB-FF42942FD2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A99528CA-8E73-4B6B-9980-2CB72EEDDC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935E4DC6-EEE8-4237-9DC6-1FB22A8702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9BAE86BE-9DF3-473D-B3C3-3DCE5EE842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D96B3-E9BF-4D13-A872-FD4830B5C06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92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28800" y="2276640"/>
            <a:ext cx="6858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十六章   骨与关节感染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习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33" name="Picture 1" descr="图35-1     闭式冲洗及吸引装置"/>
          <p:cNvPicPr/>
          <p:nvPr/>
        </p:nvPicPr>
        <p:blipFill>
          <a:blip r:embed="rId1"/>
          <a:stretch/>
        </p:blipFill>
        <p:spPr>
          <a:xfrm>
            <a:off x="995400" y="1357200"/>
            <a:ext cx="7005600" cy="4643640"/>
          </a:xfrm>
          <a:prstGeom prst="rect">
            <a:avLst/>
          </a:prstGeom>
          <a:ln w="0">
            <a:noFill/>
          </a:ln>
        </p:spPr>
      </p:pic>
      <p:sp>
        <p:nvSpPr>
          <p:cNvPr id="134" name="Rectangle 3"/>
          <p:cNvSpPr/>
          <p:nvPr/>
        </p:nvSpPr>
        <p:spPr>
          <a:xfrm>
            <a:off x="3257640" y="5358240"/>
            <a:ext cx="1593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闭式冲洗及吸引装置</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B</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该患儿明确诊断为左胫骨急性血源性骨髓炎，给予抗生素治疗和全身支持治疗，局部行钻孔引流术，术后留置引流管闭式灌洗引流。</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问题：如何对该患儿进行引流管护理？</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 与化脓性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急性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正常体温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生命体征及神志变化，定时监测体温，高热者给予降温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减少消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固定抬高并维持功能位，观察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抽取血培养，明确致病菌和敏感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安排用药顺序，注意药物输入速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过敏反应及不良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警惕双重感染的发生，如真菌性口腔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止痛药物缓解疼痛</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伤口留置引流管持续冲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引流液的量、颜色和性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固定，防止引流管滑脱</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执行无菌操作规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指征</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伤口敷料渗液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休息，合理功能锻练，加强营养，增强机体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向患者解释保持引流管通畅的重要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遵照医嘱，规范用药，定期来院复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二、慢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化脓性骨髓炎的感染途径</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分别描述化脓性骨髓炎、化脓性关节炎、骨与关节结核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化脓性骨髓炎、化脓性关节炎、骨与关节结核的好发年龄、部位、病因和病理改变</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骨与关节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大多是由于急性血源性骨髓炎在急性感染期治疗不当、不及时或不彻底，致反复发作，在病变处遗留死骨、死腔和窦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的基本病理变化是病灶区域内有死骨、死腔、窦道和骨性包壳</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止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病变静止期症状较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急性血源性骨髓炎表现</a:t>
            </a:r>
            <a:endParaRPr b="0" lang="en-US" sz="28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髓炎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手术治疗为主，目的是彻底清除死骨、刮除炎性肉芽组织和消灭死腔</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皮肤完整性受损  与长期炎症刺激造成皮肤溃疡窦道或癌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身体意象紊乱  与长期反复感染造成肢体畸形、脓液有臭味等有关</a:t>
            </a:r>
            <a:endParaRPr b="0" lang="en-US" sz="28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  化脓性关节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r>
              <a:rPr b="0" lang="en-US" sz="3200" spc="-1" strike="noStrike">
                <a:solidFill>
                  <a:srgbClr val="046ca6"/>
                </a:solidFill>
                <a:latin typeface="华文新魏"/>
              </a:rPr>
              <a:t>suppurative arthritis</a:t>
            </a:r>
            <a:r>
              <a:rPr b="0" lang="zh-CN" sz="3200" spc="-1" strike="noStrike">
                <a:solidFill>
                  <a:srgbClr val="046ca6"/>
                </a:solidFill>
                <a:latin typeface="华文新魏"/>
              </a:rPr>
              <a:t>）指化脓性细菌引起的关节内感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见于儿童，男性多于女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好发部位是髋、膝关节</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变发展三个阶段</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纤维素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性渗出期</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0" name=""/>
          <p:cNvSpPr txBox="1"/>
          <p:nvPr/>
        </p:nvSpPr>
        <p:spPr>
          <a:xfrm>
            <a:off x="304920" y="1213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寒战、高热，体温达</a:t>
            </a:r>
            <a:r>
              <a:rPr b="0" lang="en-US" sz="2800" spc="-1" strike="noStrike">
                <a:solidFill>
                  <a:srgbClr val="046ca6"/>
                </a:solidFill>
                <a:latin typeface="华文新魏"/>
              </a:rPr>
              <a:t>39℃</a:t>
            </a:r>
            <a:r>
              <a:rPr b="0" lang="zh-CN" sz="2800" spc="-1" strike="noStrike">
                <a:solidFill>
                  <a:srgbClr val="046ca6"/>
                </a:solidFill>
                <a:latin typeface="华文新魏"/>
              </a:rPr>
              <a:t>以上，甚至出现谵妄、昏迷</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化脓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关节剧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浅表关节局部红、肿、热、痛明显，浮髌试验阳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部关节局部红、肿、热不明显，关节处于屈曲、外旋、外展位</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穿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穿刺和关节液细菌培养检查是确定诊断和选择治疗方法的重要依据</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邻近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疗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内注射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持续性灌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运动和固定</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6" name="Picture 17" descr="图35-2     膝关节穿刺和冲洗"/>
          <p:cNvPicPr/>
          <p:nvPr/>
        </p:nvPicPr>
        <p:blipFill>
          <a:blip r:embed="rId1"/>
          <a:stretch/>
        </p:blipFill>
        <p:spPr>
          <a:xfrm>
            <a:off x="2124000" y="1149480"/>
            <a:ext cx="4286160" cy="4608360"/>
          </a:xfrm>
          <a:prstGeom prst="rect">
            <a:avLst/>
          </a:prstGeom>
          <a:ln w="0">
            <a:noFill/>
          </a:ln>
        </p:spPr>
      </p:pic>
      <p:sp>
        <p:nvSpPr>
          <p:cNvPr id="197" name="Rectangle 6"/>
          <p:cNvSpPr/>
          <p:nvPr/>
        </p:nvSpPr>
        <p:spPr>
          <a:xfrm>
            <a:off x="3614760" y="5758920"/>
            <a:ext cx="14364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膝关节穿刺和冲洗</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关节镜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切开引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矫形手术</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温过高  与关节腔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潜在并发症：关节功能障碍</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  骨与关节结核</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r>
              <a:rPr b="0" lang="en-US" sz="3200" spc="-1" strike="noStrike">
                <a:solidFill>
                  <a:srgbClr val="046ca6"/>
                </a:solidFill>
                <a:latin typeface="华文新魏"/>
              </a:rPr>
              <a:t>bone and joint tuberculosis</a:t>
            </a:r>
            <a:r>
              <a:rPr b="0" lang="zh-CN" sz="3200" spc="-1" strike="noStrike">
                <a:solidFill>
                  <a:srgbClr val="046ca6"/>
                </a:solidFill>
                <a:latin typeface="华文新魏"/>
              </a:rPr>
              <a:t>）多继发于呼吸系统结核，少数继发于消化道结核或淋巴结核</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r>
              <a:rPr b="0" lang="en-US" sz="3200" spc="-1" strike="noStrike">
                <a:solidFill>
                  <a:srgbClr val="046ca6"/>
                </a:solidFill>
                <a:latin typeface="华文新魏"/>
              </a:rPr>
              <a:t>pyogenic osteomyelitis</a:t>
            </a:r>
            <a:r>
              <a:rPr b="0" lang="zh-CN" sz="3200" spc="-1" strike="noStrike">
                <a:solidFill>
                  <a:srgbClr val="046ca6"/>
                </a:solidFill>
                <a:latin typeface="华文新魏"/>
              </a:rPr>
              <a:t>）是由化脓性细菌感染引起的骨膜、骨质和骨髓组织的炎症</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途径有以下三种</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源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蔓延性感染</a:t>
            </a:r>
            <a:endParaRPr b="0" lang="en-US" sz="28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缓慢，症状轻重不一</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脊柱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姿势异常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与窦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截瘫或四肢瘫</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髋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体征：</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阳性、髋关节过伸试验阳性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22" name="Picture 2" descr="图35-3     “4”字试验阳性"/>
          <p:cNvPicPr/>
          <p:nvPr/>
        </p:nvPicPr>
        <p:blipFill>
          <a:blip r:embed="rId1"/>
          <a:srcRect l="1687" t="1781" r="5492" b="0"/>
          <a:stretch/>
        </p:blipFill>
        <p:spPr>
          <a:xfrm>
            <a:off x="714240" y="1571760"/>
            <a:ext cx="3000600" cy="4070160"/>
          </a:xfrm>
          <a:prstGeom prst="rect">
            <a:avLst/>
          </a:prstGeom>
          <a:ln w="0">
            <a:noFill/>
          </a:ln>
        </p:spPr>
      </p:pic>
      <p:pic>
        <p:nvPicPr>
          <p:cNvPr id="223" name="Picture 3" descr="图35-4     托马斯（Thomas）征阳性"/>
          <p:cNvPicPr/>
          <p:nvPr/>
        </p:nvPicPr>
        <p:blipFill>
          <a:blip r:embed="rId2"/>
          <a:stretch/>
        </p:blipFill>
        <p:spPr>
          <a:xfrm>
            <a:off x="4357800" y="2286000"/>
            <a:ext cx="4281480" cy="3143160"/>
          </a:xfrm>
          <a:prstGeom prst="rect">
            <a:avLst/>
          </a:prstGeom>
          <a:ln w="0">
            <a:noFill/>
          </a:ln>
        </p:spPr>
      </p:pic>
      <p:sp>
        <p:nvSpPr>
          <p:cNvPr id="224" name="Rectangle 4"/>
          <p:cNvSpPr/>
          <p:nvPr/>
        </p:nvSpPr>
        <p:spPr>
          <a:xfrm>
            <a:off x="1723320" y="5734440"/>
            <a:ext cx="9820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Times New Roman"/>
              </a:rPr>
              <a:t>“</a:t>
            </a:r>
            <a:r>
              <a:rPr b="0" lang="en-US" sz="1600" spc="-1" strike="noStrike">
                <a:solidFill>
                  <a:srgbClr val="046ca6"/>
                </a:solidFill>
                <a:latin typeface="Times New Roman"/>
                <a:ea typeface="Times New Roman"/>
              </a:rPr>
              <a:t>4”</a:t>
            </a:r>
            <a:r>
              <a:rPr b="0" lang="zh-CN" sz="1600" spc="-1" strike="noStrike">
                <a:solidFill>
                  <a:srgbClr val="046ca6"/>
                </a:solidFill>
                <a:latin typeface="Times New Roman"/>
                <a:ea typeface="Times New Roman"/>
              </a:rPr>
              <a:t>字试验</a:t>
            </a:r>
            <a:endParaRPr b="0" lang="en-US" sz="1600" spc="-1" strike="noStrike">
              <a:solidFill>
                <a:srgbClr val="046ca6"/>
              </a:solidFill>
              <a:latin typeface="Arial"/>
            </a:endParaRPr>
          </a:p>
        </p:txBody>
      </p:sp>
      <p:sp>
        <p:nvSpPr>
          <p:cNvPr id="225" name="Rectangle 5"/>
          <p:cNvSpPr/>
          <p:nvPr/>
        </p:nvSpPr>
        <p:spPr>
          <a:xfrm>
            <a:off x="5404680" y="5650200"/>
            <a:ext cx="2187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托马斯（</a:t>
            </a:r>
            <a:r>
              <a:rPr b="0" lang="en-US" sz="1600" spc="-1" strike="noStrike">
                <a:solidFill>
                  <a:srgbClr val="046ca6"/>
                </a:solidFill>
                <a:latin typeface="Times New Roman"/>
                <a:ea typeface="Times New Roman"/>
              </a:rPr>
              <a:t>Thomas</a:t>
            </a:r>
            <a:r>
              <a:rPr b="0" lang="zh-CN" sz="1600" spc="-1" strike="noStrike">
                <a:solidFill>
                  <a:srgbClr val="046ca6"/>
                </a:solidFill>
                <a:latin typeface="Times New Roman"/>
                <a:ea typeface="Times New Roman"/>
              </a:rPr>
              <a:t>）征试验</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膝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0" name=""/>
          <p:cNvSpPr txBox="1"/>
          <p:nvPr/>
        </p:nvSpPr>
        <p:spPr>
          <a:xfrm>
            <a:off x="304920" y="1142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r>
              <a:rPr b="0" lang="en-US" sz="2800" spc="-1" strike="noStrike">
                <a:solidFill>
                  <a:srgbClr val="046ca6"/>
                </a:solidFill>
                <a:latin typeface="华文新魏"/>
              </a:rPr>
              <a:t>CT </a:t>
            </a:r>
            <a:r>
              <a:rPr b="0" lang="zh-CN" sz="2800" spc="-1" strike="noStrike">
                <a:solidFill>
                  <a:srgbClr val="046ca6"/>
                </a:solidFill>
                <a:latin typeface="华文新魏"/>
              </a:rPr>
              <a:t>、</a:t>
            </a:r>
            <a:r>
              <a:rPr b="0" lang="en-US" sz="2800" spc="-1" strike="noStrike">
                <a:solidFill>
                  <a:srgbClr val="046ca6"/>
                </a:solidFill>
                <a:latin typeface="华文新魏"/>
              </a:rPr>
              <a:t>MRI </a:t>
            </a:r>
            <a:r>
              <a:rPr b="0" lang="zh-CN" sz="2800" spc="-1" strike="noStrike">
                <a:solidFill>
                  <a:srgbClr val="046ca6"/>
                </a:solidFill>
                <a:latin typeface="华文新魏"/>
              </a:rPr>
              <a:t>、</a:t>
            </a:r>
            <a:r>
              <a:rPr b="0" lang="en-US" sz="2800" spc="-1" strike="noStrike">
                <a:solidFill>
                  <a:srgbClr val="046ca6"/>
                </a:solidFill>
                <a:latin typeface="华文新魏"/>
              </a:rPr>
              <a:t>B</a:t>
            </a:r>
            <a:r>
              <a:rPr b="0" lang="zh-CN" sz="2800" spc="-1" strike="noStrike">
                <a:solidFill>
                  <a:srgbClr val="046ca6"/>
                </a:solidFill>
                <a:latin typeface="华文新魏"/>
              </a:rPr>
              <a:t>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镜检查及滑膜活检</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既往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6" name=""/>
          <p:cNvSpPr txBox="1"/>
          <p:nvPr/>
        </p:nvSpPr>
        <p:spPr>
          <a:xfrm>
            <a:off x="304920" y="13568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要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使用、局部注射抗结核药物、抗生素使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引流、病灶清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a:t>
            </a:r>
            <a:r>
              <a:rPr b="0" lang="zh-CN" sz="2800" spc="-1" strike="noStrike">
                <a:solidFill>
                  <a:srgbClr val="046ca6"/>
                </a:solidFill>
                <a:latin typeface="华文新魏"/>
              </a:rPr>
              <a:t>恐惧 与病程缓慢、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长期慢性消耗性疾病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截瘫、抗结核药物不良反应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690840" indent="-2656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休息和营养</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及时正确使用抗结核药物</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的用药效果和毒副作用</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一般用药满</a:t>
            </a:r>
            <a:r>
              <a:rPr b="0" lang="en-US" sz="2800" spc="-1" strike="noStrike">
                <a:solidFill>
                  <a:srgbClr val="046ca6"/>
                </a:solidFill>
                <a:latin typeface="华文新魏"/>
              </a:rPr>
              <a:t>2</a:t>
            </a:r>
            <a:r>
              <a:rPr b="0" lang="zh-CN" sz="2800" spc="-1" strike="noStrike">
                <a:solidFill>
                  <a:srgbClr val="046ca6"/>
                </a:solidFill>
                <a:latin typeface="华文新魏"/>
              </a:rPr>
              <a:t>年</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严重时遵医嘱使用止痛药物</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一、急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监测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肢血液循环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和家属合理安排休息和饮食，增加营养，增强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讲解功能锻炼的重要性，指导正确的功能锻炼，在锻炼过程中避免疲劳和早期负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坚持长期规范用药的目的，教会患者或家属自我观察药物的毒副作用，用药过程中定期来院复查，若出现耳鸣、听力异常改变立即停药并及时复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急性血源性骨髓炎因细菌经血流播散至骨髓所致，金黄色葡萄球菌是最常见的致病菌。慢性血源性骨髓炎多因急性血源性骨髓炎未能有效控制而导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临床表现  急性血源性骨髓炎全身中毒症状明显，局部红、肿、热、痛。慢性血源性骨髓炎局部畸形、肌肉萎缩和关节功能障碍，急性发作期有急性血源性骨髓炎表现，易形成溃疡窦道，少数可恶变</a:t>
            </a:r>
            <a:endParaRPr b="0" lang="en-US" sz="28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急性血源性骨髓炎治疗主要包括抗感染治疗、局部制动、全身支持治疗和手术治疗。慢性血源性骨髓炎治疗以手术治疗为主，目的是彻底清除死骨、刮除炎性肉芽组织和消灭死腔</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维持正常体温，用药护理和患肢护理。术后护理重点是引流管护理、伤口护理和功能锻炼。除上述措施外，对慢性骨髓炎患者还应注意心理护理和皮肤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多由细菌通过血液循环播散或直接蔓延至关节腔所致。金黄色葡萄球菌是最常见致病菌</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全身感染中毒症状，同时伴有病变关节红肿热痛，浮髌试验阳性，关节处于异常体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非手术治疗包括抗感染、全身支持疗法、关节腔内注射抗生素、关节腔持续性灌洗、关节运动和固定等。手术治疗包括经关节镜治疗、关节切开引流和关节矫形手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指导患者尽早开始关节功能锻炼。其他措施参见第一节中急性血源性骨髓炎患者的护理</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0"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结核分枝杆菌是导致骨与关节结核感染的原因。患者机体抵抗力下降是诱发因素</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3"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患者都会有结核的全身表现，如低热、盗汗、消瘦等。局部均有局部疼痛、畸形、姿势或活动异常、特殊体征、寒性脓肿和窦道等，但具体表现不一。例如，颈椎结核患者可有斜颈畸形，胸椎结核患者脊柱后凸或侧凸畸形，腰椎结核患者拾物试验阳性，部分患者可继发截瘫或四肢瘫。髋关节结核患者有跛行，髋关节屈曲、内收、内旋、短缩畸形，“</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髋关节过伸试验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膝关节结核患者有“鹤膝”，浮髌试验阳性，膝关节屈曲或内外翻畸形等</a:t>
            </a:r>
            <a:endParaRPr b="0" lang="en-US" sz="28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6"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包括抗感染治疗、局部制动、全身支持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心理护理、合理休息和营养、用药护理和患肢护理。术后护理重点是病情观察、体位摆放、引流管护理、用药护理和功能锻炼</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a:t>
            </a:r>
            <a:r>
              <a:rPr b="0" lang="en-US" sz="3200" spc="-1" strike="noStrike">
                <a:solidFill>
                  <a:srgbClr val="046ca6"/>
                </a:solidFill>
                <a:latin typeface="华文新魏"/>
              </a:rPr>
              <a:t>acute hematogenous osteomyelitis</a:t>
            </a:r>
            <a:r>
              <a:rPr b="0" lang="zh-CN" sz="3200" spc="-1" strike="noStrike">
                <a:solidFill>
                  <a:srgbClr val="046ca6"/>
                </a:solidFill>
                <a:latin typeface="华文新魏"/>
              </a:rPr>
              <a:t>）最常见于儿童和少年，儿童长骨干骺端是急性血源性骨髓炎的好发部位</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的病理特点是早期以骨质破坏和坏死为主，晚期以骨增生为主</a:t>
            </a:r>
            <a:endParaRPr b="0" lang="en-US" sz="32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A</a:t>
            </a:r>
            <a:endParaRPr b="0" lang="en-US" sz="3600" spc="-1" strike="noStrike">
              <a:solidFill>
                <a:srgbClr val="ffffff"/>
              </a:solidFill>
              <a:latin typeface="华文新魏"/>
            </a:endParaRPr>
          </a:p>
        </p:txBody>
      </p:sp>
      <p:sp>
        <p:nvSpPr>
          <p:cNvPr id="117" name=""/>
          <p:cNvSpPr txBox="1"/>
          <p:nvPr/>
        </p:nvSpPr>
        <p:spPr>
          <a:xfrm>
            <a:off x="34560" y="1371240"/>
            <a:ext cx="8915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患儿，男，</a:t>
            </a:r>
            <a:r>
              <a:rPr b="0" lang="en-US" sz="2800" spc="-1" strike="noStrike">
                <a:solidFill>
                  <a:srgbClr val="046ca6"/>
                </a:solidFill>
                <a:latin typeface="华文新魏"/>
              </a:rPr>
              <a:t>8</a:t>
            </a:r>
            <a:r>
              <a:rPr b="0" lang="zh-CN" sz="2800" spc="-1" strike="noStrike">
                <a:solidFill>
                  <a:srgbClr val="046ca6"/>
                </a:solidFill>
                <a:latin typeface="华文新魏"/>
              </a:rPr>
              <a:t>岁，活动后左小腿疼痛</a:t>
            </a:r>
            <a:r>
              <a:rPr b="0" lang="en-US" sz="2800" spc="-1" strike="noStrike">
                <a:solidFill>
                  <a:srgbClr val="046ca6"/>
                </a:solidFill>
                <a:latin typeface="华文新魏"/>
              </a:rPr>
              <a:t>1</a:t>
            </a:r>
            <a:r>
              <a:rPr b="0" lang="zh-CN" sz="2800" spc="-1" strike="noStrike">
                <a:solidFill>
                  <a:srgbClr val="046ca6"/>
                </a:solidFill>
                <a:latin typeface="华文新魏"/>
              </a:rPr>
              <a:t>周，高热</a:t>
            </a:r>
            <a:r>
              <a:rPr b="0" lang="en-US" sz="2800" spc="-1" strike="noStrike">
                <a:solidFill>
                  <a:srgbClr val="046ca6"/>
                </a:solidFill>
                <a:latin typeface="华文新魏"/>
              </a:rPr>
              <a:t>1</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9℃</a:t>
            </a:r>
            <a:r>
              <a:rPr b="0" lang="zh-CN" sz="2800" spc="-1" strike="noStrike">
                <a:solidFill>
                  <a:srgbClr val="046ca6"/>
                </a:solidFill>
                <a:latin typeface="华文新魏"/>
              </a:rPr>
              <a:t>，</a:t>
            </a:r>
            <a:r>
              <a:rPr b="0" lang="en-US" sz="2800" spc="-1" strike="noStrike">
                <a:solidFill>
                  <a:srgbClr val="046ca6"/>
                </a:solidFill>
                <a:latin typeface="华文新魏"/>
              </a:rPr>
              <a:t>P 102</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膝关节屈曲，左小腿靠近膝关节处皮肤发红、肿胀，局部皮温高，压痛明显，被动活动时疼痛加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血常规和血细菌培养：白细胞计数和中性粒细胞比例均增高，血培养阳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	</a:t>
            </a:r>
            <a:r>
              <a:rPr b="0" lang="en-US" sz="2800" spc="-1" strike="noStrike">
                <a:solidFill>
                  <a:srgbClr val="046ca6"/>
                </a:solidFill>
                <a:latin typeface="华文新魏"/>
              </a:rPr>
              <a:t>CT</a:t>
            </a:r>
            <a:r>
              <a:rPr b="0" lang="zh-CN" sz="2800" spc="-1" strike="noStrike">
                <a:solidFill>
                  <a:srgbClr val="046ca6"/>
                </a:solidFill>
                <a:latin typeface="华文新魏"/>
              </a:rPr>
              <a:t>：骨膜下脓肿。</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问题：该患儿护理评估内容有哪些？</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开始即有明显的全身中毒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肢局部剧痛，肌肉有保护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形成骨膜下脓肿时，疼痛剧烈</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分层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X</a:t>
            </a:r>
            <a:r>
              <a:rPr b="0" lang="zh-CN" sz="2400" spc="-1" strike="noStrike">
                <a:solidFill>
                  <a:srgbClr val="046ca6"/>
                </a:solidFill>
                <a:latin typeface="华文新魏"/>
              </a:rPr>
              <a:t>线检查</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CT </a:t>
            </a:r>
            <a:r>
              <a:rPr b="0" lang="zh-CN" sz="2400" spc="-1" strike="noStrike">
                <a:solidFill>
                  <a:srgbClr val="046ca6"/>
                </a:solidFill>
                <a:latin typeface="华文新魏"/>
              </a:rPr>
              <a:t>可较早发现骨膜下脓肿</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MRI </a:t>
            </a:r>
            <a:r>
              <a:rPr b="0" lang="zh-CN" sz="2400" spc="-1" strike="noStrike">
                <a:solidFill>
                  <a:srgbClr val="046ca6"/>
                </a:solidFill>
                <a:latin typeface="华文新魏"/>
              </a:rPr>
              <a:t>可早期显示病变部位的骨髓破坏、骨膜反应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核素骨显像</a:t>
            </a:r>
            <a:endParaRPr b="0" lang="en-US" sz="24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1:21:28Z</dcterms:modified>
  <cp:revision>117</cp:revision>
  <dc:subject/>
  <dc:title>内科护理学</dc:title>
</cp:coreProperties>
</file>