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1FB4F-A3C9-4A8F-9DB8-0D2D2327EE0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6764B-A7E2-4444-901B-FC6C3E78B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7DC21-73C6-4876-863D-AC58CC5B8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7F11C-9AE6-4DA9-B9CF-A309A029E50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DC9EF-8CA2-448D-B8B8-4BF9A5A3C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A51E5-4230-41AB-940D-A66DE1ABE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EB2C6-3E9B-485B-9B2C-A7F26B482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ED7FE-0A57-44E2-99A0-9A9E1AC27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D018E-9934-4D0A-911A-8B1B15BA2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0C0C9-0A59-4718-B4E2-60DDC1016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E16D4-6CA0-46E1-B057-06638238E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2BDC3-F3B4-4348-9C57-51C320B65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1D580-FECB-4F68-820F-FE0C5261A2C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92000" y="2276640"/>
            <a:ext cx="6048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疗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大量饮水和运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调整饮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痉止痛、抗感染、药物排石、调节尿液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H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调节代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外冲击波碎石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extracorporeal shock wave lithotrips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ESW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开放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输尿管镜取石或碎石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经皮肾镜取石或碎石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腔镜输尿管取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结石引起肾盂输尿管连接处或输尿管急性梗阻、扩张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知识缺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乏有关结石的病因、治疗及预防的知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血尿、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9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肾结石，接受了体外冲击波碎石术治疗。术后患者出现腰部疼痛，伴恶心、呕吐及尿频、尿急、尿痛和发热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检查：输尿管下段呈串珠状致密影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出现了何种问题？原因是什么？如何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轻或消除肾绞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促进排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调节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排石效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外冲击波碎石术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碎石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宣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完善各项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必要的治疗前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外冲击波碎石术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碎石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与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饮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观察与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排石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开放性手术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尿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肾盂造瘘管应妥善固定，保持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行输尿管镜取石的患者，输尿管壁可能发生水肿或排尿功能障碍，需留置双“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J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尿管支架管引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性手术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切口及引流管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出尿石症的病因、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尿石症的病理特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说明尿石症患者的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尿石症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饮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除危险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预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尿石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能是多因素所致，包括年龄、性别、职业、饮食、水的摄入量、地理环境、气候、代谢紊乱和遗传性疾病等流行病学因素，以及尿液改变和泌尿系统局部因素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肾和输尿管结石表现为疼痛，血尿；膀胱结石表现为排尿突然中断并疼痛；尿道结石表现为排尿困难、点滴状排尿伴尿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包括非手术治疗和手术治疗，以非手术治疗中的体外冲击波碎石术为首选治疗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尿石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 非手术治疗护理包括减轻或消除肾绞痛、促进排石、饮食调节、药物治疗、观察排石效果。体外冲击波碎石术术前要做好宣教，完善各项检查，做好必要的治疗前准备；术后护理做好体位与活动、饮食饮水、并发症的观察与处理，观察排石情况。对非开放性手术患者应做好体位、饮水、观察尿液和引流管护理。对开放性手术患者应做好观察病情、保持呼吸道通畅、预防感染、切口及引流管的护理和指导活动。另外，还要做好健康教育预防结石复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尿石症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urolithias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又称尿路结石，是泌尿系统的常见病之一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结石所在的部位可分为上尿路结石和下尿路结石。上尿路结石包括肾结石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enal calculu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和输尿管结石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ureteral calculu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，下尿路结石包括膀胱结石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vesical calculu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和尿道结石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urethral calculu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，临床上以上尿路结石多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尿路结石的形成机制尚未完全清楚，可能是多种影响因素所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流行病学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液改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泌尿系统局部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9-1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。突发右腰部疼痛，阵发性加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余。疼痛呈绞痛样，伴恶心、呕吐，疼痛向中下腹放射，伴尿频、尿急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 36.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 10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 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120 / 8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神志清楚，表情痛苦，辗转卧位。右肾区叩击痛，右中腹有压痛，无反跳痛，无明显腹肌紧张，移动性浊音阴性，肠鸣音正常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肾和输尿管结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：肾绞痛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enal coli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结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典型症状为排尿突然中断并疼痛，疼痛放射至阴茎头部和远端尿道，伴排尿困难和膀胱刺激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道结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典型症状为排尿困难、点滴状排尿伴尿痛，重者可发生急性尿潴留及会阴部剧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常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液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：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泌尿系统平片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KUB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肾镜、输尿管镜和膀胱镜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、性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职业、生活环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、饮水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家族史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相关疾病史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相关治疗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0:50:14Z</dcterms:modified>
  <cp:revision>112</cp:revision>
  <dc:subject/>
  <dc:title>内科护理学</dc:title>
</cp:coreProperties>
</file>