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502CF-E3BD-4D39-B736-BB68927E53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F0FEA-A74E-48E4-AA32-3B74567DF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49967-C2E4-4A5A-9E47-18DF4FD4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58871-5B8B-4999-B51C-04CC730A47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193D0-695D-4E94-B575-DD65C1523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6113A-9E45-4973-8C97-3029EFE2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7A864-D4DB-4E54-A7BF-02D9C9300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027E6-4A29-4D95-96CC-241F84F84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637B2-55FC-4E8C-AFB2-E86896F29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3ECB5-4F7E-4741-B42F-B6077CAD4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03D4C-30F9-4F66-9E20-8773DB52A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21584-F1B5-4D83-AAA8-299946B05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55F3D-BBA5-4BBF-9E7D-E018A769067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896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章  水、电解质、酸碱平衡失调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渗性缺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度缺钠：血清钠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35 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患者出现疲乏、头晕、手足麻木，无口渴。尿多，尿中含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a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度缺钠：血清钠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9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度缺钠：血清钠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 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下，患者出现肌肉痉挛性抽痛，腱反射减弱或消失，神志不清、木僵甚至昏迷，常出现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渗性缺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度缺水：缺水量占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仅有口渴，其他表现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度缺水：缺水量占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患者极度口渴，尿少，常有烦躁不安、四肢无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度缺水：缺水量超过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意识障碍，出现躁狂、幻觉、谵妄、昏迷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常规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液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除了注意患者及家属对缺水的认识程度以及适应程度，还应留意原发疾病对患者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处理原发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因若能消除病因，缺水可很快纠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体液容量不足及渗透压的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等渗性缺水：静脉滴注平衡盐溶液或等渗盐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渗性缺水：静脉输注高渗盐水或含盐溶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渗性缺水：鼓励患者饮水，不能口服者需静脉补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水分丢失过多或水、钠摄入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低血容量性休克、高氯性酸中毒、低钾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生命体征、神志和感觉情况、尿量、皮肤黏膜状况、周围静脉充盈情况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液体出入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血常规、血气分析、血清电解质等实验室检查结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种类：根据患者缺水缺钠类型，遵医嘱给予不同溶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量：包括生理需要量、已经损失量和继续损失量三部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晶后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盐后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快后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见尿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别复述三种缺水、水中毒、低钾血症、高钾血症、四种酸碱平衡失调的定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别列举三种缺水、水中毒、低钾血症、高钾血症、四种酸碱平衡失调的常见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又称稀释性低血钠，较少见因机体摄入水总量超过排出量，水分在体内潴留，引起血浆渗透压下降和循环血量增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出减少，如严重感染、创伤、大手术等引起患者处于应激状态，抗利尿激素分泌增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摄入过多，如肾功能不全但未限制水分摄入，重度缺钠时大量输入了不含电解质的液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水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急，因脑细胞肿胀可引起颅内压升高，表现为头痛、乏力、嗜睡、意识不清、躁动、抽搐、昏迷等，甚至引起脑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慢性水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不典型，可有嗜睡、头痛、软弱无力、恶心呕吐、体重增加等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见红细胞计数、血红蛋白量、血细胞比容和血浆蛋白量均降低。血清钠低于正常，可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是否因严重感染、创伤、大手术等原因而处于应激状态，有无肾功能不全，有无过多输入水分，有无休克、肝、肾、心功能不全等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多数起病急，头痛明显，患者及家属会出现焦虑和恐惧情绪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水中毒常继发于某些疾病，因此患者和家属也常对原发疾病的严重程度有所担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即停止水分摄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利尿剂促进水分排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过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水分摄入过多、体内水分潴留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颅内压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水中毒的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按计划补液，防止输液过多、过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肝、肾、心功能不良的患者应严格限制水分摄入，同时积极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、失血、休克、创伤和大手术等因素容易引起抗利尿激素分泌过多，对此类患者应避免输液过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洗胃时应使用生理盐水，勿用大量清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给予利尿剂排出多余的水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甘露醇、山梨醇等利尿剂应快速滴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患者的生命体征、意识状态、尿量、皮肤黏膜状况、颈静脉充盈情况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出入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实验室检查结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99640" y="2276640"/>
            <a:ext cx="7704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钾代谢平衡失调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三种缺水和水中毒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低钾血症和高钾血症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四种酸碱平衡失调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钾血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ypokalem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血清钾浓度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.5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长期进食不足，如昏迷、吞咽困难、禁食以及肠内营养时补钾不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丢失过多，如呕吐、腹泻、胃肠减压、消化道外瘘等情况下经消化道失钾增多，长期使用排钾性利尿剂及肾上腺皮质激素等致经肾丢失钾增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向细胞内转移，如大量输注胰岛素和葡萄糖时，或代谢性、呼吸性碱中毒时，可引起低钾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肌无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化道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脏功能异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碱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钾浓度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.5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患者的心电图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低平或倒置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段降低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间期延长，可出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U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4" name="图片 4" descr="1-1 低钾血症的心电图表现.jpg"/>
          <p:cNvPicPr/>
          <p:nvPr/>
        </p:nvPicPr>
        <p:blipFill>
          <a:blip r:embed="rId1"/>
          <a:srcRect l="0" t="0" r="0" b="15993"/>
          <a:stretch/>
        </p:blipFill>
        <p:spPr>
          <a:xfrm>
            <a:off x="1258920" y="4221000"/>
            <a:ext cx="6985080" cy="1729080"/>
          </a:xfrm>
          <a:prstGeom prst="rect">
            <a:avLst/>
          </a:prstGeom>
          <a:ln w="0">
            <a:noFill/>
          </a:ln>
        </p:spPr>
      </p:pic>
      <p:sp>
        <p:nvSpPr>
          <p:cNvPr id="195" name="矩形 1"/>
          <p:cNvSpPr/>
          <p:nvPr/>
        </p:nvSpPr>
        <p:spPr>
          <a:xfrm>
            <a:off x="3494160" y="59738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低钾血症的心电图表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是否有禁食、呕吐、腹泻、胃肠减压等消化液丢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否使用利尿剂或肾上腺皮质激素，是否大量使用葡萄糖及胰岛素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缺钾程度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如厕、进食、卫生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钾所致的软弱无力相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钾出现软弱无力、眩晕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心律失常、呼吸困难或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尿量正常：每日尿量需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0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或每小时尿量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0 ml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浓度不高：静脉输液钾浓度不能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3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禁止直接静脉推注氯化钾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速度勿快：成人静脉滴注速度每分钟不宜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总量限制、严密监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外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促进排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水、电解质、酸碱平衡失调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钾血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yperkalem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血清钾浓度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.5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摄入过多，如口服或静脉补钾过多，大量输库存血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排泄功能减退，如急慢性肾衰竭，应用螺内酯（安体舒通）、氨苯蝶啶等留钾利尿剂，盐皮质激素不足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细胞内钾外逸，如大量溶血、缺氧、酸中毒、休克、组织损伤、中毒反应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无特异性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可有四肢及口唇周围麻木，感觉异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钾过高的刺激作用使微循环血管收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钾高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.5mmo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当血清钾高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 mmo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时，患者常有心电图的异常变化，表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高而尖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间期延长，继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R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增宽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间期延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1" name="图片 4" descr="1-2 高钾血症的心电图表现.jpg"/>
          <p:cNvPicPr/>
          <p:nvPr/>
        </p:nvPicPr>
        <p:blipFill>
          <a:blip r:embed="rId1"/>
          <a:srcRect l="0" t="0" r="0" b="19189"/>
          <a:stretch/>
        </p:blipFill>
        <p:spPr>
          <a:xfrm>
            <a:off x="1332000" y="4383000"/>
            <a:ext cx="6840360" cy="1728720"/>
          </a:xfrm>
          <a:prstGeom prst="rect">
            <a:avLst/>
          </a:prstGeom>
          <a:ln w="0">
            <a:noFill/>
          </a:ln>
        </p:spPr>
      </p:pic>
      <p:sp>
        <p:nvSpPr>
          <p:cNvPr id="222" name="矩形 1"/>
          <p:cNvSpPr/>
          <p:nvPr/>
        </p:nvSpPr>
        <p:spPr>
          <a:xfrm>
            <a:off x="3660840" y="61545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高钾血症的心电图表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是否进行过补钾治疗，具体补钾方法，是否有肾功能障碍，是否有大量溶血、缺氧、酸中毒等使钾向细胞外转移的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钾血症常起病快，患者可有心搏骤停危险，易引发患者及家属的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去除诱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停止使用一切含钾药物和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葡萄糖酸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推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转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钾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高血钾时骨骼肌活动抑制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心律失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避免进食含钾量高的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42920" y="2276640"/>
            <a:ext cx="70581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酸碱平衡失调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2205000"/>
            <a:ext cx="64105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280" y="2276640"/>
            <a:ext cx="828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水和钠的代谢紊乱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代谢性酸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是外科临床上最常见的酸碱平衡紊乱，指体内酸性物质积聚或产生过多，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丢失过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致病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代谢性产酸过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碱性物质丢失过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胃穿孔、急性弥漫性腹膜炎入院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9.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0/5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精神差，嗜睡，眼窝下陷，颜面潮红，口唇干燥，呼吸深快，呼吸气体有烂苹果味。腹膜刺激征阳性，膝反射减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血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8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血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.7 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 7.2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深快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ussmau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血管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面部潮红，口唇樱红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律失常、急性肾功能不全和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枢神经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酸中毒抑制脑细胞代谢活动，可有疲乏、头昏、嗜睡、烦躁不安、腱反射减弱或消失等，甚至出现昏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可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.3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明显下降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常或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液呈强酸性，但合并高血钾时尿液可呈碱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是损伤、感染、休克等产酸增多病因，是否有腹泻、肠瘘、胆瘘、胰瘘等碱性肠液丢失病史，是否有肾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症代谢性酸中毒（血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[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]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时，须立即补充碱性液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被明确诊断为胃穿孔、急性腹膜炎、代谢性酸中毒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此时对该患者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排出量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代谢性酸中毒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口腔黏膜改变（的危险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代谢性酸中毒呼吸深快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意识障碍，心律失常，高钠、低钙或低钾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碱性溶液，纠正酸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腔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55640" y="2276640"/>
            <a:ext cx="7345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代谢性碱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由于体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十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丢失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多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酸丧失过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碱性物质摄入过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缺乏时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十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从细胞内移至细胞外，引起细胞内的酸中毒和细胞外的碱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利尿药的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无明显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时可有呼吸变浅变慢，或神经精神方面的异常，如谵妄、精神错乱或嗜睡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重时，可因脑和其他器官的代谢障碍而发生昏迷。可伴低钾血症、低钙血症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提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值升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常或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是否有胃酸丢失病史，是否长期应用碱性药物或利尿剂，有无低钾血症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碱中毒常伴随原发疾病产生，对呼吸功能、神志影响明显，患者及家属常出现明显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发病是关键，解除病因后碱中毒很容易治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处理低钾血症、低钙血症等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碱中毒，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代谢性碱中毒导致意识障碍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意识障碍、低钾血症、低钙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受伤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02920" y="2276640"/>
            <a:ext cx="662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性酸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由肺部通气或换气功能减弱，致使体内产生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能充分排出，或吸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过多而引起的高碳酸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切引起肺泡通气及换气功能减弱的疾病，如呼吸道梗阻、肺广泛纤维化、肺气肿、呼吸机使用不当、中枢神经系统损伤、全麻过深、镇静剂使用过量等，均可引发此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等渗性缺水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isotonic dehydr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水和钠等比例丢失，细胞外液渗透压可保持正常，血清钠在正常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化液的急性丧失及体液严重丧失，前者如大量呕吐、肠瘘，后者如急性肠梗阻、剧烈腹泻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可有呼吸困难、乏力、气促、发绀、头痛、胸闷，严重者可有血压下降、谵妄、昏迷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重脑缺氧可致脑水肿、脑疝，甚至呼吸骤停。严重酸中毒时，血钾浓度升高，导致心肌应激性改变而出现心律失常、心室颤动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可见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高，血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升高或正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呼吸功能，检查是否有呼吸中枢抑制、呼吸道梗阻、胸廓活动受限等病史，是否有呼吸机使用不当、全麻过深等治疗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酸中毒患者有明显呼吸困难、头痛，患者及家属常有明显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改善通气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呼吸中枢受抑制、呼吸道梗阻、呼吸机使用不当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高钾血症、脑水肿、脑疝、心律失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03280" y="2276640"/>
            <a:ext cx="6337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性碱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系肺泡通气过度，体内生成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出过多，以致血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低，引起的低碳酸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凡可导致通气过度的疾病均可引起呼吸性碱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呼吸机辅助通气或手术麻醉期辅助呼吸时，呼吸过深过快，潮气量过大，且持续时间过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枢神经系统外伤或疾病也可引起换气过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患者呼吸急促，出现碱中毒后手足和口周麻木或针刺感，肌肉颤动和手足抽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常有心率加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危重患者发生急性呼吸性碱中毒常提示预后不良，或将发生急性呼吸窘迫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可见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升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呼吸功能，检查患者是否有引起过度通气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碱中毒患者常出现呼吸过快，肌肉应激性增加，患者及家属常担心病情严重，预后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出，如使用纸袋呼吸、适量应用镇静剂或调整呼吸机参数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渗性缺水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ypotonic dehydr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缺水少于缺钠，细胞外液渗透压降低，血清钠浓度降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钠丢失过多，如反复呕吐、长期胃肠减压、慢性肠梗阻等消化液持续性丢失，大创面的慢性渗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钠的补充不足，如应用排钠利尿剂时未适当补充钠盐，等渗性缺水治疗时只补水未补钠等原因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呼吸过深过快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意识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钠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水与缺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等渗性缺水：在外科最常见。病因是消化液急性丢失以及体液大量丢失。患者既有缺水表现又有缺钠表现。治疗原发病并补充平衡盐或等渗盐水。应加强补液护理及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渗性缺水：病因是钠丢失过多和补充不足。缺钠程度不同，患者表现各异，休克出现早。治疗原发病并补充等渗盐水或高渗盐水。应加强补液护理及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钠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水与缺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渗性缺水：病因是水丢失过多和（或）摄入不足。缺水程度不同，患者表现各异。治疗原发病并补充水分或低渗盐水。重点是补液护理及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钠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水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是排出减少和（或）水摄入过多。急性水中毒可导致脑水肿。在治疗原发病的基础上立即禁水和利尿脱水。应积极预防水中毒，配合药物治疗，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钾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钾血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因有摄入量不足、钾排出过多、细胞内钾分布异常等。肌无力为早期表现，可合并酸碱失衡，心电图可有典型改变。积极治疗原发病并补钾。护理中重点做好口服补钾和静脉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钾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钾血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因有钾摄入过多、排出减少以及细胞内钾外逸。主要表现为神经肌肉传导障碍，最危险的是可能导致心脏停搏，心电图可有典型改变。治疗包括去除诱因、禁钾、抗钾、转钾和排钾。护理重点是饮食指导、配合治疗和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酸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包括酸性物质产生过多、碱性物质丢失过多、肾排酸减少。呼吸深快是患者最突出的表现。治疗原发病是根本，重症代谢性酸中毒患者需要输注碱性溶液。护理中应做好配合治疗、病情观察和口腔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碱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有酸性物质丢失过多、碱性物质输入过多、低钾血症、利尿剂的应用等。呼吸浅慢，并有神志改变。在治疗原发病的同时，重者输注稀释性盐酸溶液。护理中应关注酸性溶液的输注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酸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切引起肺泡通气及换气功能减弱的疾病均可导致。临床表现不典型。应治疗原发病，改善肺通气。注意病情观察、低流量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碱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由于通气过度导致。一般无明显症状。治疗原发病，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呼出。注意指导患者纸袋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等渗性缺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水表现：尿少，皮肤、黏膜干燥，眼窝凹陷，通常不口渴或口渴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钠表现：表现为厌食、恶心、软弱乏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7:13:02Z</dcterms:modified>
  <cp:revision>113</cp:revision>
  <dc:subject/>
  <dc:title>内科护理学</dc:title>
</cp:coreProperties>
</file>