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86C24-A78B-4D84-B903-43A712A66C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CAE64-EB19-481E-B64D-ED1F8AE6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20EA5-4128-4CDC-8AE4-9A5ADA3F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389B7-7E12-4D78-A6EA-C4DE9DC285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BFEB7-63FD-4D8B-8E96-697AA814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6A3E8-0935-4E89-8F34-AB9F3740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E0366-EBB0-4246-8342-7A22B5E6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15EAB-7763-4286-ADB8-405AAE97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30503-3639-4A0C-B97E-4219314D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9839D-7DFD-49ED-B765-08ADC2D7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34C6F-87FE-4381-95F8-1AC1A35B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63A0F-2D1D-4A8E-9447-492F0799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8100-F56C-499F-AB6A-45BA177724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部麻醉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：简称腰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在全身麻醉下行右肺上叶肺癌根治术，术中顺利，安返病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此时应采取何种体位？②为何采取这种体位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患者麻醉后未完全清醒或感觉未完全恢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或改善病理生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患者在麻醉前情绪稳定，充分配合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，缓解原发疾病或麻醉前有创操作引起的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减少唾液分泌，以防误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因手术或麻醉产生的不良反射，特别是迷走神经反射，以维持血流动力学的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局部麻醉、蛛网膜下隙阻滞、硬脊膜外阻滞、全身麻醉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麻醉前常用药物及其目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各种麻醉主要并发症的预防和处理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局部麻醉、蛛网膜下隙阻滞、硬脊膜外阻滞、全身麻醉主要并发症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麻醉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反流与误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常用药物包括酯类和酰胺类局麻药，麻醉方法包括表面麻醉、局部浸润麻醉、区域阻滞和神经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应做好心理和生理准备。麻醉期间注意对局麻药毒性反应和过敏反应等并发症的观察和护理。麻醉后一般无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包括蛛网膜下隙阻滞（简称腰麻）和硬膜外腔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做好心理和生理准备。麻醉期间注意对血压下降、心率缓慢、呼吸抑制、恶心、呕吐、全脊髓麻醉、局麻药毒性反应等并发症的观察和护理。麻醉后注意病情观察，吸氧，蛛网膜下腔阻滞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硬膜外阻滞后垫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。注意对头痛、尿潴留、硬膜外血肿等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用药物或其他方法，使患者的整个机体或机体的一部分暂时失去感觉，以达到手术时无痛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咳嗽，痰中带血丝于当地医院就诊。患者自述咳嗽、咳痰，晨起痰多，黄绿色，有慢性支气管炎病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否认结核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。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肺上叶后段周围型结节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局部侵犯壁层胸膜，明确诊断为右肺癌，拟在全身麻醉下行右肺上叶肺癌根治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麻醉前护理评估的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（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-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-1   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482480"/>
                <a:gridCol w="428148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病情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包括血、尿、便常规、出凝血时间、血清电解质、肝肾功能、血糖、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心电图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2:45Z</dcterms:modified>
  <cp:revision>96</cp:revision>
  <dc:subject/>
  <dc:title>内科护理学</dc:title>
</cp:coreProperties>
</file>