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2E1D4-7160-4E9B-B74D-D72F10E4EB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6DF76-FE5B-4084-A49B-FF7E6909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3A29B-1F17-49DE-834A-BBB8F55B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0BA00-D07B-4632-8042-53AF09655B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4EBD7-F558-4315-AAC7-859766F3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801F7-0273-4A98-98E8-B501CC16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464B3-4FAB-4ADD-9A86-82F18C05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FACFA-A811-4166-8A3D-2F5062CA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B639B-2E71-49E7-9359-5E9062573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47DC6-050F-46F1-92F5-64778F19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B7680-589C-4721-A245-17E5712F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AA578-E3C0-4709-8047-8EB11774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2567-7E06-497D-89BF-A54ED89375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907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六章 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食管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，患者出现了胸闷、气急、心悸症状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练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呼吸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管插管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深呼吸，有效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多、咳痰无力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需持续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胃肠减压管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胃肠减压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管一般应保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情绪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肺部并发症的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生活习惯、饮食因素、遗传因素、疾病因素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主要特征性症状为进食哽咽感、异物感、胸骨后烧灼样、针刺样或牵拉摩擦样疼痛。中晚期主要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等综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，做好呼吸道与肠道准备；术后注意观察伤口及引流情况，及时发现出血、吻合口瘘、乳糜胸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食管癌术后常见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食管癌患者的临床表现和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食管癌术后容易发生吻合口瘘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消化系统常见的恶性肿瘤之一。据估计全世界每年大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未见任何阳性体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4.0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,Hb 8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镜检查：食管中段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长管腔狭窄，黏膜中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报告：鳞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Ⅱ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物停滞感或异物感、哽噎感、胸骨后灼烧样、针刺样或牵拉摩擦样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及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纤维光学内窥镜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核素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食管癌的首选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镜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免疫治疗及中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肺不张、肺炎、出血、吻合口瘘、乳糜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12:11:12Z</dcterms:modified>
  <cp:revision>88</cp:revision>
  <dc:subject/>
  <dc:title>内科护理学</dc:title>
</cp:coreProperties>
</file>