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3411-95B4-4205-9EB2-91D16BB75F0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BBB6-6EBD-432B-A703-7D935DE913C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F8FB-EB8E-4FAF-8EA9-80E04C25A5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75D9-BC16-4BB5-95CB-112768BA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CC7F5-42E7-46C7-9A8C-2D2C4732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43A99-6248-4844-88DF-21C8EFFAFD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4E271-D55B-4895-9080-DF9189DD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DD81E-4854-4D66-A141-86BFA985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5F049-AAFB-4E34-ADAC-666507D1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45FF-7BDE-49CD-BA0F-3DC90000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D49D3-75DC-4426-8B8A-5C6AB096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D35C3-5426-4971-9BB0-CEFFD328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D69AD-E9D7-4B20-9CAA-1D75477D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1BC7A-7442-4FBB-BA08-F88B7C2E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55B7-85A4-4F7B-ABF9-8202D745CB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途径：鼻胃管、鼻肠管、经胃造瘘或空肠造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机械并发症：包括造瘘管滑脱及堵塞、鼻咽部和食管黏膜损伤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导管性脓毒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食管癌，拟行手术治疗，术前因营养不良先予营养支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目前适宜的营养支持方法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什么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③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与患者咽反射消失、管道位置不好、一次喂入过多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与胃管刺激、黏膜干燥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与营养液的配方、浓度、温度、输注速度、置管位置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高糖血症和低糖血症、水电解质失衡、高渗性非酮性昏迷、肝功能损害、空气栓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肠内营养、肠外营养、完全胃肠外营养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临床常用的营养评估指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肠内与肠外营养支持的优缺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肠内与肠外营养支持常见并发症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导管在位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过程中应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要在配好的静脉营养液中添加任何成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管性脓毒症发生，应及时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取头低脚高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以适当的速度输入静脉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随时监测血糖水平，保持血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.67~8.89 mmol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尿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±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＋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怀疑低血糖时，可让患者口服或遵医嘱静脉推注葡萄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现高渗性非酮性昏迷时，应停输葡萄糖溶液或含有高糖的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情况：有无脱水、水肿，有无发热、黄疸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了解患者对营养支持的反应，如体重、血浆蛋白水平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出入量，监测血糖水平、血清电解质水平、血气分析、肝肾功能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原则：凡胃肠道功能正常或存在部分胃肠道功能者，在营养支持时应首选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状况评估：应综合病史、体格检查、实验室检查等诸多方面，不同的评价指标反映的营养问题可不相同，故应综合多方面因素进行判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的并发症：包括机械性、代谢性和胃肠道并发症。应加强腹泻及误吸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的并发症：包括技术性和代谢并发症以及导管性脓毒症。应加强空气栓塞、高渗性非酮性昏迷、导管性脓毒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052640"/>
            <a:ext cx="878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出现进食哽噎感，进食干硬食物难以下咽，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症状较前明显加重，进半流食也出现吞咽困难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70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4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下肢可见凹陷性水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白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3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5 m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患者可能出现毛发脱落、指甲无光、皮肤干燥、肝大、心界缩小、肌力减弱、水肿或腹水等情况，应重点检查，并注意与其他疾病相鉴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=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高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理想值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~23.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消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超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细胞总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了解患者疾病史、手术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还要注意患者的膳食习惯及近期进食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19:36Z</dcterms:modified>
  <cp:revision>97</cp:revision>
  <dc:subject/>
  <dc:title>内科护理学</dc:title>
</cp:coreProperties>
</file>