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CE0E3-2D45-467D-ADC8-FF2C9B9B861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59249-EF7A-4897-B832-639498E68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CF050-244E-4395-9190-F0C79136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EC870-8CD2-4577-BCAB-CC68F08995D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82070-1826-470B-8E66-81D6F89B7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EEEB2-4F58-46EA-9E91-27BCCFAB3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83629-6066-4800-A91A-3F5BCF5A0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91B0F-DD70-4094-8FFF-CE4CAACD8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F7AD7-BBB2-45E5-B2BF-8717C4A61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7289B-C466-4895-9CAD-4B6C5667E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862DC-357C-452A-AE63-476D9B3FD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787E9-AC14-48BB-ACFE-B736C1C55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364FC-A97C-47F2-9370-9FA0024F86D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000" y="2276640"/>
            <a:ext cx="8135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痰细胞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支气管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职业致癌因子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空气污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人体内在因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叶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obec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楔形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wedge resectio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和肺段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egmental resectio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肺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neumonec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医中药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免疫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中央型小细胞未分化肺癌，给予紫杉醇与顺铂联合术前化疗。经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周期后，患者一般状况良好，行一侧全肺切除和淋巴结清扫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应如何进行呼吸道护理？②全肺切除术后胸腔引流管有哪些护理要点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缺乏相关知识及担心手术和预后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肺组织病变、手术、麻醉、肿瘤阻塞支气管、肺膨胀不全、呼吸道分泌物潴留、肺换气功能降低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肿瘤引起的机体代谢增加、手术创伤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出血、肺部感染、急性肺水肿、肺不张、心律失常、支气管胸膜瘘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呼吸功能，预防术后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戒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营养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采取合适体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管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给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深呼吸和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稀释痰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吸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腔闭式引流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第十三章胸部损伤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肺切除术后胸腔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液体平衡和补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格控制输液的量和速度，防止导致肺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述肺癌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肺癌发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总结肺癌患者手术前后呼吸道管理要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肺癌不同术式术后体位摆放方法和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肺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与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臂和肩关节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部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支气管胸膜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告知患者预防呼吸道感染的重要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坚持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与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癌是一种常见的恶性肿瘤，其发病率和死亡率均有逐年上升的趋势。目前认为长期大量吸烟是肺癌重要致病因素，另外还与职业致癌因素、人体免疫状态、代谢状态、遗传等因素相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癌因生长部位和病理类型不同，临床表现和进展速度有所区别。一般早期可出现刺激性干咳、血痰、胸闷、气促、发热、胸痛等症状，晚期压迫临近器官或发生转移时可出现相应部位的症状与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手术治疗为主，结合放射治疗、化学治疗、免疫治疗等综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注意进行呼吸训练，改善肺泡通气和换气功能，术后根据手术术式给予合适体位，进行呼吸功能锻炼，预防肺水肿和肺部感染并发症的出现。全肺切除术患者注意避免过度侧卧，胸腔引流管钳闭，酌情放液，控制补液的速度和量。为早期发现、早期治疗，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以上吸烟男性患者尤其应做好普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lung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起源于支气管黏膜上皮，也称支气管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ronchopulmonary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小细胞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on-small cell lung cance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SCL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鳞状细胞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quamous cell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deno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细胞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arge cell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细胞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mall cell lung cance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CL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咳嗽少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多月，半个月来伴声音嘶哑。双侧颈后可触及多个可活动淋巴结。患病后无发热。吸烟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年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 37.5℃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P 8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P 135/85mmHg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检查：左肺门处块状阴影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肺癌，特别是周围型肺癌往往无任何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咳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咯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晚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压迫或侵犯喉返神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压迫上腔静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胸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胸膜或胸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纵隔，压迫食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上叶顶部肺癌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远处转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淋巴结、脑、肝脏、骨骼和其他器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锁骨上淋巴结是肺癌转移的常见部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副瘤综合征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数肺癌病例，由于癌肿产生内分泌物质，出现肺部以外非转移性全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9:20:56Z</dcterms:modified>
  <cp:revision>90</cp:revision>
  <dc:subject/>
  <dc:title>内科护理学</dc:title>
</cp:coreProperties>
</file>