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736A7-2193-4C4C-B2AD-88C375653BB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BA615-79AE-4D86-9E60-C8862450E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8FBCB-C66A-4C30-AD49-A28C036D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3ED7E-3E62-43A6-9648-E663FCF4F5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5C9CD-2E99-4A52-9694-AFFDB6EFD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B4332-5D7E-45E8-A91E-6EF480A4A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33283-385D-4889-861B-093E9B92D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F4114-7E56-4BD1-96F2-DC00B4E97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E927F-797B-4E67-9555-9EC93E73E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DCBBA-6DDA-4AC1-8AC5-55E0A7E8A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FDE6D-066E-4BB2-BE19-BCB49A5DC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647A6-54D3-401C-9A20-54BA2146C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C6709-1242-4E36-8248-7AA1EBBCF3B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349360"/>
            <a:ext cx="561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颅脑损伤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底骨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无需特殊治疗，主要观察有无脑损伤及处理脑脊液漏、脑神经损伤等合并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11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患者诊断为“左额骨、颅骨前中窝粉碎性骨折、左额颞叶脑挫裂伤”，给予清创、止血、脱水等对症治疗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问题：①针对该患者的脑脊液外漏应采取哪些护理措施？②住院期间应重点监护哪些方面的病情变化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颅骨骨折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有感染的危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颅骨骨折导致脑脊液外漏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出血、颅内压增高、颅内低压综合征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脊液外漏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促进颅内外漏通道尽早闭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05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脑损伤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脑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脑损伤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rain injury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由于暴力作用致脑膜、脑组织、脑血管以及脑神经的损伤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脑震荡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短暂的意识障碍，一般不超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醒后大多不能回忆受伤当时乃至伤前一段时间的情况，临床称为逆行性遗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etrograde amnes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脑震荡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震荡通常无需特殊治疗。一般卧床休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，可完全恢复。适当给予镇痛、镇静等对症处理，禁用吗啡及哌替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脑震荡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担心预后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震荡后遗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脑震荡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疏导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创造舒适、安静环境，消除陌生环境带来的不安。讲解疾病相关知识、治疗与预后，正确认识疾病，减轻患者焦虑与恐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给予相应的对症药物，卧床休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生命体征、意识状态、瞳孔及神经系统病征的观察，及时发现合并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颅底骨折和脑损伤的临床表现及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归纳不同类型颅脑损伤患者意识障碍的发生特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阐明颅骨骨折和脑损伤的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颅脑损伤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脑挫裂伤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erebral contusion and laceratio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暴力作用于头部，造成脑组织的器质性损伤，包括脑挫伤和脑裂伤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障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灶症状和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痛、恶心、呕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内压增高与脑疝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膜刺激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变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是首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5364000" y="1484280"/>
            <a:ext cx="3311640" cy="375768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3"/>
          <p:cNvSpPr/>
          <p:nvPr/>
        </p:nvSpPr>
        <p:spPr>
          <a:xfrm>
            <a:off x="5651640" y="5589720"/>
            <a:ext cx="3024000" cy="52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1-2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脑挫裂伤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扫描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一般处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防治脑水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促进脑功能恢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营养失调（低于机体需要量）  与脑损伤后高代谢、呕吐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清理呼吸道无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脑损伤后意识障碍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温调节无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脑干损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、脑疝、出血及癫痫发作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监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状态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瞳孔变化观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神经系统症状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昏迷患者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正确体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抬高床头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0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与补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躁动患者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热患者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蛛网膜下腔出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伤性癫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化道出血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伤性癫痫患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康复训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颅内血肿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intracranial hematoma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颅脑外伤导致颅内出血、血凝块在颅腔内积聚并达到一定的体积，形成局限性的占位病变，引起相应的症状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11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。因不慎从高处坠落头部外伤，伤后呼之不应，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后清醒，诉头痛，并呕吐数次，伴肢体抽搐，送入医院急诊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查体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6.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7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26/8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神志清楚，查体合作，双侧瞳孔等大等圆，直径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.5m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对光反射灵敏，双眼眶青紫肿胀明显，口鼻、左外耳道出血，头面部、眼睑可见裂伤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显示左额骨、颅骨前中窝粉碎性骨折、颅内积气、左额颞叶脑挫裂伤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既往无高血压、冠心病、糖尿病等病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应着重从哪几个方面进行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脑膜外血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障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内压增高及脑疝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脑膜下血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内血肿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协助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1368360" y="3294000"/>
            <a:ext cx="2665440" cy="29131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" descr=""/>
          <p:cNvPicPr/>
          <p:nvPr/>
        </p:nvPicPr>
        <p:blipFill>
          <a:blip r:embed="rId2"/>
          <a:stretch/>
        </p:blipFill>
        <p:spPr>
          <a:xfrm>
            <a:off x="5292720" y="3289320"/>
            <a:ext cx="2664000" cy="291780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37"/>
          <p:cNvSpPr/>
          <p:nvPr/>
        </p:nvSpPr>
        <p:spPr>
          <a:xfrm>
            <a:off x="1627200" y="6275520"/>
            <a:ext cx="2146320" cy="38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1000" spc="-1" strike="noStrike">
                <a:solidFill>
                  <a:srgbClr val="000000"/>
                </a:solidFill>
                <a:latin typeface="宋体"/>
                <a:ea typeface="宋体"/>
              </a:rPr>
              <a:t>11-3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硬脑膜外血肿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5433840" y="6229440"/>
            <a:ext cx="2381400" cy="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1000" spc="-1" strike="noStrike">
                <a:solidFill>
                  <a:srgbClr val="000000"/>
                </a:solidFill>
                <a:latin typeface="宋体"/>
                <a:ea typeface="宋体"/>
              </a:rPr>
              <a:t>11-4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硬脑膜下血肿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为主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意识障碍  与颅内血肿、颅内压增高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、脑疝、出血及癫痫发作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伤口及引流管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敷料清洁、干燥，严格无菌操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行血肿腔引流患者，可给予头低脚高位，以便充分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行脑室外引流的患者，引流管装置应高出床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距侧脑室前角水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；保持引流管通畅，防扭曲、受压；及时观察并记录引流液的色、质、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用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二便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康复锻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定期门诊随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3652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骨骨折：暴力致颅骨结构改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损伤：暴力致脑膜、脑组织、脑血管以及脑神经损伤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骨骨折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盖线性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压痛、肿胀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盖凹陷性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可扪及下陷区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前窝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鼻出血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熊猫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、球结膜下瘀血斑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中窝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脊液外漏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⑤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后窝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attl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、枕下部肿胀及皮下瘀血斑、脑神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Ⅸ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Ⅻ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神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)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损伤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震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逆行性遗忘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挫裂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障碍、局灶症状和体征、头痛、恶心、呕吐、脑膜刺激征等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脑膜外血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障碍及中间清醒期、颅内压增高症状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脑膜下血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昏迷，中间清醒期不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以防治脑水肿、营养脑细胞等非手术治疗为主，一旦确诊有颅内血肿则立即手术治疗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密切观察生命体征、意识状态、瞳孔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GCS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评分、神经系统病征及肢体运动改变；加强脑脊液外漏的护理；及时发现颅内高压及脑疝迹象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骑摩托车摔倒致头部外伤，当场昏迷，被发现后急送当地医院救治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昏迷，右侧瞳孔直径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m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对光反射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左侧瞳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.5m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对光反应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GC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分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血压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40/9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心率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8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鼻腔及耳道有淡红色液体流出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头颅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提示“前额部硬脑膜下血肿、颅中窝粉碎性骨折”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该患者目前主要的护理诊断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作性问题是什么？该患者的主要护理措施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8920" y="2276640"/>
            <a:ext cx="6265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头部受伤，昏迷不醒，存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障碍  与颅内血肿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患者双侧瞳孔不等大、生命体征不平衡，存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颅内压增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鼻腔及耳到有淡血性液体流出，存在“有感染的危险  与脑脊液外漏有关”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护理措施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生命体征、意识状态、瞳孔变化、神经系统局灶性症状、有无呕吐、烦躁不安等，警惕脑疝发生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昏迷护理，如保持正确体位、保持呼吸道通畅、营养与补液等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脑脊液外漏的护理，预防颅内感染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做好术前准备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脑损伤患者出现中间清醒期提示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挫裂伤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震荡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硬脑膜外血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颅底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内血肿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岁，因汽车撞伤头部发生颅前窝骨折，其护理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床头抬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0°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生理盐水冲洗鼻腔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禁忌堵塞鼻腔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禁止腰椎穿刺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枕部垫无菌巾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容易引起颅内感染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震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挫裂伤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硬脑膜外血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颅底骨折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帽状腱膜下血肿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对脑震荡的处理不正确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休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对症治疗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吗啡镇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观察生命体征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做好心理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颅前窝骨折典型的临床特征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熊猫眼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attl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征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逆行性遗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剧烈呕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昏迷后有中间清醒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C   2. B   3. D   4. C   5.A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骨折部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盖骨折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fracture of skull vaul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底骨折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fracture of skull bas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骨折形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形骨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凹陷性骨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骨折是否与外界相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开放性骨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闭合性骨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盖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性骨折：发生率最高，局部有压痛、肿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凹陷性骨折：局部可扪及局限性下陷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底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前窝骨折：骨折累及眶顶和筛骨，可有鼻出血、眶周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熊猫眼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征）及球结膜下瘀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中窝骨折：骨折累及蝶骨，也可有鼻出血或合并脑脊液鼻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后窝骨折：骨折累及颞骨岩部后外侧时，一般在伤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出现乳突部皮下瘀斑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attl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征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片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糖试纸测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盖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单纯线性骨折：无需特殊处理，仅需卧床休息，对症治疗，如止痛、镇静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凹陷性骨折：若凹陷性骨折位于脑重要功能区表面，有脑受压症状或大面积骨折片下陷，直径大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深度超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时，应手术整复或摘除碎骨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1T12:59:38Z</dcterms:modified>
  <cp:revision>87</cp:revision>
  <dc:subject/>
  <dc:title>内科护理学</dc:title>
</cp:coreProperties>
</file>