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_rels/notesSlide4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97B42-4ED3-419F-A22F-1B0003CD018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AC1CF-9D0F-49BC-8651-A5DB9035504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79DFA-7361-426B-93AB-BFA2A936E7D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82115-AA40-4324-B31F-B2C2CF6F19F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3E91B-EE9E-4F82-A46B-1D953E16E34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41231-51C4-419B-8277-DCD48F1DDA4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EAA71-E502-4079-AEC9-1B63834A756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A6C9B-F614-4DC2-B5BA-4FF0A0476A8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E6D38-CB5A-45D1-BBD4-609403080C3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2E566-893E-4494-A595-401A5D06209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F7DF7-8649-46D1-B70B-D19A0BC9031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EC205-5833-4D53-B3E2-7C06F674C2E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C0A65-3451-451C-8720-F7F585D160A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D7C55-E021-469D-A8E1-523F7DF49AF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451A3-80AA-4DFC-B615-0A32E1BEF69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6A75D-2117-4993-B14F-3D5BCF031E1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558C3-02F2-457F-9378-6274F175A37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EDA8C-39B9-43E7-91E6-1AF658B9878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A0807-1ADA-42C6-A006-E7008AE1A27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D2A22-BB58-48F8-938D-AF14865C14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5C4F9-F93C-40DE-8C74-D9DA478AB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B1D1F-A838-4F54-ACD3-1B5A113C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F5649-90AC-4AB6-A7E6-8CE3CB7180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FE94A-4E4C-438D-A80E-592474597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C33ED-2AC0-47CC-9A7C-9DDE66A30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DC0B4-79E4-48F1-B3E2-44589C664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6338C-FB01-4C41-BE41-6F46D62DB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71844-39AB-4CE3-92F9-5C946517E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8ED5F-09B5-402C-9934-97AC33F45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08627-C016-4C19-BF7F-E1AEDB16C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BE186-2C90-4D41-967C-3197D966D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ABCD4-6140-4FB8-8248-B27D3ABB032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60501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四章  乳房疾病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医疗诊断为急性乳腺炎，给予青霉素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乳房皮肤变成暗红，右侧乳房可触及一波动肿块，穿刺抽出黄绿色脓液，拟行脓肿切开引流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汁淤积、乳腺炎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过高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腺炎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乳房脓肿、乳瘘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停止哺乳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对症处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8920" y="2205000"/>
            <a:ext cx="676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4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4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乳腺囊性增生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mastopathy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乳腺实质的良性增生，常见于中青年女性。增生可发生于腺管周围并伴有大小不等的囊肿形成；或腺管内表现为不同程度的乳头状增生，伴乳管囊性扩张；也有发生于小叶实质者，主要为乳管及腺泡上皮增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胀痛：周期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头溢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红外线透照扫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组织病理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是对症治疗，常用中药或中成药调理，如口服中药逍遥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碘剂、激素和维生素类药物进行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因本病有癌变可能，应坚持定期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腺体增生及雌激素水平增高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担心发生乳腺癌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对症处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药物应用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急性乳腺炎、乳腺癌发病的相关因素、辅助检查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急性乳腺炎、乳腺囊性增生病、乳腺肿瘤的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乳腺癌患者出现酒窝征、橘皮征的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乳腺癌不同手术方式的特点及可能出现的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急性乳腺炎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乳腺癌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560" y="2205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48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4800" spc="-1" strike="noStrike">
                <a:solidFill>
                  <a:srgbClr val="ffffff"/>
                </a:solidFill>
                <a:latin typeface="华文新魏"/>
              </a:rPr>
              <a:t>乳房肿瘤</a:t>
            </a:r>
            <a:endParaRPr b="0" lang="en-US" sz="48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乳腺纤维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无痛性乳房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下手术切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乳腺纤维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与担心乳房肿块可能为恶性肿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房肿块切除术后伤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乳腺纤维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告知患者乳房纤维腺瘤是青年女性常见的乳房良性肿瘤，极少发生恶变。手术一般在门诊手术室进行，术后常规作肿块病理检查。但由于乳房纤维腺瘤术后有复发可能，纤维腺瘤的复发会给患者带来较大的心理压力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头溢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为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担心发生乳腺癌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房手术切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出现无痛性乳头溢血后会担心乳腺癌的发生，溢液污染衣物也为患者的工作、生活带来很大不便，建议患者尽快就诊，接受治疗。接受手术治疗的患者，围术期护理参考乳腺癌手术前、后相关护理内容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乳腺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reast cancer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女性最常见的恶性肿瘤之一，占全身恶性肿瘤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％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％，仅次于子宫颈癌，发病呈逐年上升的趋势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2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偶然发现左乳房外上象限无痛性肿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，无乳头溢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左乳房外上略隆起，表浅静脉充盈，可见局部皮肤凹陷，乳头向外上歪斜，双乳头不在同一水平线上。左乳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点处距乳头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触及一直径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肿块，表面不光滑、质硬、无压痛，活动度小，与表面皮肤有少许粘连，与胸大肌无粘连。左侧腋窝可扪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肿大的淋巴结，光滑、活动、较硬。右乳未触及肿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左乳房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肿块影，边缘有细小毛刺，肿块内可见细小钙化灶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针吸细胞学检查示：浸润性中分化导管癌；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g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ER2 3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2276640"/>
            <a:ext cx="6913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为无痛、单发的小肿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外形改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累及乳房悬韧带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oop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韧带）可使之缩短，引起乳房表面皮肤凹陷，形成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酒窝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当癌肿继续增大，癌细胞可阻塞于皮下、皮内淋巴管引起局部淋巴水肿，由于皮肤在毛囊处与皮下组织连接紧密，毛囊处出现凹陷，皮肤出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橘皮样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改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50560" y="1196640"/>
            <a:ext cx="878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晚期征象及转移表现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卫星结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铠甲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特殊乳癌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炎性乳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inflammatory breast carcinom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头湿疹样乳腺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aget’s carcinoma of breas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近红外线扫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组织病理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清学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月经婚育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习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50560" y="119664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扩大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xtensive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改良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odified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乳房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ot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留乳房的乳腺癌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lumpectomy and axillary dissectio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化学药物治疗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hemotherap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治疗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adiotherap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物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2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乳腺癌，给予紫杉醇及顺铂联合化疗，同时行曲妥珠单抗治疗，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疗程术前化疗，肿块明显缩小，之后行左乳腺癌改良根治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身体意象紊乱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癌根治术切除乳房、术后瘢痕形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进食、卫生、如厕）自理缺陷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术后患侧上肢活动受限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出血、患侧上肢水肿（淋巴水肿）、皮下积液、皮瓣坏死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停止妊娠或哺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侧上肢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预防性抬高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乳腺炎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mastiti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乳腺的急性化脓性感染，多见于产后哺乳妇女，初产妇更为多见，发病多在产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就可以开始腕部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后开始肘部活动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上举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外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待腋下引流管拔除之后，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可教患者逐渐作上臂的全范围关节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护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坚持放疗、化疗和服用三苯氧胺，定期去医院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坚持乳房自我检查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reast self-examin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S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坚持乳房自我检查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reast self-examin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S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站在镜前观察乳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平卧或侧卧触摸乳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乳头及腋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乳腺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有乳汁淤积和细菌入侵。多发生与初产妇，产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~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主要表现为乳房红、肿、热、痛，可触到胀痛性肿块，患侧腋下淋巴结可肿大、压痛，后期炎症病灶可形成乳房脓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使用抗生素治疗，脓肿形成后应及时切开引流。应注意消除乳汁淤积，必要时终止泌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尤其应注意避免乳汁淤积，防止乳头损伤，以预防急性乳腺炎的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囊性增生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与内分泌功能紊乱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期性乳房胀痛及多发性乳房肿块，少数患者有乳头溢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对症治疗为主，辅以自我调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注意调节情绪，做好定期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肿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纤维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与雌激素水平的增高有关。表现为无痛性乳房肿块，质韧有弹性，表面光滑，活动度大、易推动。可行肿块切除术。注意缓解患者心理压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管内乳头状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见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的经产妇，乳头溢液为主要临床表现。应及早手术切除，做好心理护理及术前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：不明，相关因素有内分泌因素、饮食因素、遗传因素、疾病因素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：早期表现为乳房肿块，无痛、质硬、活动度差、边界不清。患侧腋窝淋巴结肿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：以手术治疗为主，辅以化疗、放疗、内分泌治疗等综合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：术前应关注患者的心理反应；术后注意观察伤口及引流情况，及时发现出血、患侧上肢水肿、皮瓣下积液、皮瓣坏死等并发症，加强患侧上肢功能锻炼，恢复患者的自理能力。另外，应教会健康女性以及患者乳房自我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产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右侧乳房红肿，局部皮温高，发热。查体：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 39.5℃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双乳不对称，右侧乳房肿胀明显，乳头内陷，皮肤红肿，皮下静脉怒张，触诊压痛明显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请问：该患者最可能的诊断是什么？为什么？主要处理措施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为年轻女性，产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出现单侧乳房红、肿、热、痛，体温升高，且有乳头内陷，应首先考虑因乳汁淤积导致急性乳腺炎，可行血常规检查，若出现白细胞升高、中性粒细胞比例升高可支持该诊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患者尚处于炎症早期，应保持乳头清洁，每次哺乳后排空乳汁；局部热敷，缓解疼痛，促进炎症消散，同时，可遵医嘱应用抗生素。高热时给予物理降温，必要时给予解热镇痛药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右侧乳腺癌在全麻下行乳腺癌改良根治术，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7.4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8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25/8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胸部用绷带加压包扎，皮瓣下置引流管持续引流，患者诉伤口疼痛，且现在不能自己洗漱、进餐、如厕等，患者向家人和护士诉说不能接受一侧乳房切除的事实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作性问题是什么？该患者目前患侧上肢的护理要点及功能锻炼方法是什么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初产妇，剖宫产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出现双乳肿胀、疼痛，乳汁排泄不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9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9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20/8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双乳肿胀，红、热，可触及多个肿块，压痛明显，边界不清，无波动感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常规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WBC 13.1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中性粒细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0.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该患者术后第一天，伤口和引流护理以及生活护理是护理的重点，目前该患者诉伤口疼痛，存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疼痛：与乳腺癌改良根治术有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不能自己洗漱、进餐、如厕等，存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进食、卫生、如厕）自理缺陷：与伤口加压包扎、肢体制动有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此外，患者向家人和护士诉说不能接受一侧乳房切除的事实，存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身体意象紊乱：与手术切除乳房有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目前患者为术后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因伤口局部加压包扎，应注意观察患侧肢体远端的血运状况以及时发现绷带包扎过紧；为预防肢体水肿，应抬高患侧上肢，下床活动时应使用吊带托扶手臂；应活动手指及腕部，以防肢体功能障碍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腺癌最常发生的部位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及乳晕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外上象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外下象限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内上象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内下象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腺癌根治术后患者的护理措施中</a:t>
            </a: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不正确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抬高患侧上肢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患侧胸壁加压包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保持引流管通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早期活动患肢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不在患肢测血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确定乳腺肿块性质最可靠的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触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溢液涂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钼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活组织病理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腺癌最早的临床表现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皮肤呈桔皮样改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内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无痛性肿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有血性溢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表面皮肤出现凹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房自我检查最好在月经开始后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~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~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~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~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房自我检查时，</a:t>
            </a: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不正确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的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患者取坐位，两臂自然下垂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指掌面平放于乳房上顺序触诊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依次用手指抓捏检查乳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依次检查乳房的五个区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包括应检查两侧腋窝淋巴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房脓肿的确诊依据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搏动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穿刺有脓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寒战、高热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白细胞升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有波动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 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   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 ：乳房胀痛，全身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胀痛性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腋下淋巴结肿大、压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脓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常规可见白细胞计数及中性粒细胞比例升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诊断性穿刺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刺抽出脓液可确诊脓肿形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了解脓肿的数目、部位和大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汁淤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细菌入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抗菌药应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脓肿形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终止泌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1T13:23:47Z</dcterms:modified>
  <cp:revision>86</cp:revision>
  <dc:subject/>
  <dc:title>内科护理学</dc:title>
</cp:coreProperties>
</file>