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01A6-BEF1-4CEE-B0BD-AA86FC94089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5867-49E1-407D-8724-487D775FD2D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F4DED-CC42-4BC2-A766-F8F4A57924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2BB4A-57D4-4916-B872-6404334C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364B-5F37-4E0C-9EE9-05C92E41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283E9-F564-40CA-BC06-568BE5B0E9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64221-85BE-4C42-9C26-8181EB0F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B85C8-849F-4C98-98F7-69EC0B88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67561-69F7-4797-8E38-13D636A9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0A71-D475-4F08-BE8F-6909B90B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A9F4D-FA0F-4BBE-89BB-DB7B0574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AF87-6BB2-417C-8BA5-4BB99859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12CF8-86FA-46CA-83AF-11A5E533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3106C-F11E-4222-8BB1-BBC0E8AC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069D-1AE8-4CF6-ACE2-8239C0F5D1A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途径：经口和管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机械并发症、感染并发症、胃肠道并发症、代谢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感染性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-1  B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诊断为机械性肠梗阻、克罗恩病、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重度营养不良。拟行营养支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目前适宜的营养支持方法是什么？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者咽反射消失、管道位置不好、一次喂入过多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胃管刺激、黏膜干燥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液的配方、浓度、温度、输注速度、置管位置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，高血糖症和低血糖症，水电解质失衡，高渗性非酮性昏迷，肝功能损害，空气栓塞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说出肠内营养、肠外营养、完全胃肠外营养的定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列举外科常见的营养不良的类型以及营养支持的适应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确保营养液的输注顺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周围或中心静脉导管在位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输液管道，避免导管受压、扭曲或滑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按时、按量补充营养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95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勿在配好的静脉营养液中添加任何成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输入抗菌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头低脚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当的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随时监测血糖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血糖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渗性非酮性昏迷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对患者进行详细的营养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并记录出入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支持的基本原则是凡胃肠道功能正常或存在部分胃肠道功能者，在营养支持时应首选肠内营养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状况评估应综合病史、体格检查、实验室检查等诸多方面，不同的评价指标反映的营养问题可不相同，故应综合多方面因素进行判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内营养支持的主要并发症为机械并发症、代谢并发症、胃肠并发症、其中最常见的是胃肠道并发症，最严重并发症是误吸。应加强胃肠道并发症以及误吸的观察与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外营养支持的主要并发症包括技术性并发症、代谢并发症和感染并发症。其中空气栓塞和高渗性非酮性昏迷是最严重的并发症，应加强其观察和护理。此外，还应重视导管性脓毒症预防和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胃癌行胃大部切除术，术中放置鼻空肠营养管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经营养管输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出现腹胀、腹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引起上述问题的主要原因是什么？如何预防和处理患者出现上述问题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胃大部切除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肠道功能尚未完全恢复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属于均衡性整蛋白型肠内营养制剂，该患者在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出现腹胀、腹泻，应首先考虑出现胃肠道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时应注意输注量和速度，开始时输入速度要慢，浓度要低，同时温度也不宜过低。此时，应减慢输注速度，观察患者反应，必要时暂停输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解释常用营养指标的临床意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分析肠内与肠外营养支持常见并发症的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小肠扭转行小肠部分切除、肠吻合术。术中留置中心静脉导管。术后次日开始经中心静脉导管输注全营养混合液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患者在输注营养液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出现口渴、头痛、神志不清，尿量增多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目前发生了什么并发症？此种并发症应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因小肠扭转行小肠部分切除、肠吻合术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机体仍处于应激状态，对葡萄糖的利用不佳，在输注营养液过程中出现口渴、头痛、神志不清，尿量增多，可能因血糖过高导致高渗性非酮性昏迷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应立即停止营养液输注，测血糖，明确原因。若为高渗性非酮性昏迷，应输注低渗或等渗氯化钠溶液，以降低血浆渗透压，同时输入胰岛素，以降低血糖水平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经鼻胃管行肠内营养支持，灌注营养液时应将患者置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左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右侧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垫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去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短肠综合征，拟行长期胃肠外营养支持，其营养管留置部位应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部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足部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股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下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外科患者营养不良的特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蛋白质不足为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能量不足为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及矿物质摄入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蛋白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能量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摄入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完全胃肠外营养中最佳的能源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复合氨基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乳剂及葡萄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矿物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微量元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环境下配置的要素饮食，其有效时间应小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胃肠外营养支持患者可能发生的最严重的代谢并发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低血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肝功能损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渗性非酮性昏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血糖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以下关于肠外营养的护理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首选中心静脉途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可经静脉营养管输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要经中心静脉导管取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怀疑导管败血症时，应用抗菌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葡萄糖、氨基酸和脂肪乳最好单独输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反映机体脂肪或能量贮备的人体测量指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质指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皮褶厚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周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肌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因腹痛、恶心、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入院。患者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前在无明显诱因下出现纳差，饱胀感，餐后常出现恶心呕吐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患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因克罗恩病行小肠切除、回肠造口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5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5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急性面容，心肺无特殊，腹部稍隆，未见胃、肠型，腹部未扪及肿块，全腹轻压痛，肠鸣音亢进，移动性浊音阳性，四肢、关节活动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3.35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9.8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LB 2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0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1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1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.6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5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平片提示肠梗阻，腹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提示腹腔及盆腔包裹性积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围绕该患者的营养问题应收集哪些资料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质测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酐身高指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患者疾病史、手术史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及家属对营养支持重要性和必要性的认识程度，以及对营养支持的接受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55:27Z</dcterms:modified>
  <cp:revision>90</cp:revision>
  <dc:subject/>
  <dc:title>内科护理学</dc:title>
</cp:coreProperties>
</file>