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chimes.wav" ContentType="audio/x-wav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8C74-F001-4804-BF36-8AC0EF194E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0828-9DD8-4BA2-A268-CAC86F90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4CAC-526A-4F27-AC8A-2F7E6091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50EB-7192-4233-8F50-A80AA79174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86BDA-2297-49FE-8CEE-FC9081C6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B809-E075-4B9C-90F0-4F64FDEE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B99BB-7253-4BBD-99D2-D68ABFB2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637F-5B3E-4FAB-9A59-E466C566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2F502-15D0-4B17-9D20-954D3409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5559-64BE-4374-878C-FB981D33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78AE-16AC-4B3E-9690-95AFEFA5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F45D-2647-4D89-84B8-517E3D68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1903-8E8B-45EE-8A5D-D949A6ECEC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16. &#30452;&#27969;&#24863;&#24212;&#30005;&#27979;&#23450;" TargetMode="External"/><Relationship Id="rId2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3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4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30.  &#22797;&#20064;&#39064;" TargetMode="External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06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周围神经病损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56360" y="5589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150920" y="685800"/>
          <a:ext cx="7804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685800"/>
                    <a:ext cx="780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30492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1219320" y="838080"/>
          <a:ext cx="7619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7619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755640" y="2133720"/>
          <a:ext cx="780408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80408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3"/>
          <p:cNvGraphicFramePr/>
          <p:nvPr/>
        </p:nvGraphicFramePr>
        <p:xfrm>
          <a:off x="533520" y="2209680"/>
          <a:ext cx="838188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838188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920" y="14130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619280" y="189000"/>
          <a:ext cx="6559560" cy="63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9000"/>
                    <a:ext cx="6559560" cy="63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评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MMT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ROM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电诊断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直流感应电测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/>
              </a:rPr>
              <a:t>强度</a:t>
            </a:r>
            <a:r>
              <a:rPr b="1" lang="en-US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/>
              </a:rPr>
              <a:t>-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/>
              </a:rPr>
              <a:t>时间曲线检查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神经肌肉电图检查、神经传导速度测定）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感觉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肌腱反射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出汗试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其他： 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ADL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家庭、职业等社会环境的调查、生活满意度的调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原理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肌肉均具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正常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神经损伤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早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晚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兴奋性消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2b5d2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肌肉收缩速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闪电式快速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收缩缓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样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极性法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兴奋阈改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部分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兴奋阈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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害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点：灵敏度差，不能判断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只检测肌肉，在肌肉运动点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刺激时间、刺激强度观察不同反应曲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曲线（左移、右移、弯折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值  （二倍基强度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短反应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由脑和脊髓以外的神经节、神经丛、神经干及神经末梢组成。是由运动纤维、感觉纤维和自主神经纤维组成的混合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同直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应电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645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早、防、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：药物、良肢位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支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</a:t>
            </a:r>
            <a:br>
              <a:rPr sz="2800"/>
            </a:br>
            <a:br>
              <a:rPr sz="3200"/>
            </a:b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Object 4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3200400" cy="2049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治疗并发症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浮肿：</a:t>
            </a:r>
            <a:r>
              <a:rPr b="1" lang="zh-CN" sz="2800" spc="-1" strike="noStrike">
                <a:solidFill>
                  <a:srgbClr val="8ac8de"/>
                </a:solidFill>
                <a:latin typeface="Arial Black"/>
                <a:ea typeface="宋体"/>
              </a:rPr>
              <a:t>抬高患肢、绷带压迫、向心性按摩、被动活动、冷敷、高频电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组织挛缩和骨骼畸形：</a:t>
            </a:r>
            <a:r>
              <a:rPr b="1" lang="zh-CN" sz="2800" spc="-1" strike="noStrike">
                <a:solidFill>
                  <a:srgbClr val="8ac8de"/>
                </a:solidFill>
                <a:latin typeface="Tahoma"/>
                <a:ea typeface="宋体"/>
              </a:rPr>
              <a:t>早期被动活动、必要时夹板固定功能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继发性外伤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神经再生：必要的话修补、理疗、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肌肉质量、迎接神经的再支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，促进运动功能的恢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26920" y="3429000"/>
            <a:ext cx="6934320" cy="2057400"/>
          </a:xfrm>
          <a:prstGeom prst="wedgeRoundRectCallout">
            <a:avLst>
              <a:gd name="adj1" fmla="val 45787"/>
              <a:gd name="adj2" fmla="val -689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被动运动、辅助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-3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助力运动、主动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-4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抗阻运动、器械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结合日常生活功能性训练、作业疗法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046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感觉神经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注意的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代偿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皮肤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过伸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过度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 额纹消失、嘴角下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上肢近端瘫痪，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桡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5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垂腕、屈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6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猿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爪形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  膝关节屈曲障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足下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跨槛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胫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高弓仰趾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初期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抗菌消炎、神经营养等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的保护，防止暴露性角膜炎：可使用保护性眼罩和抗生素眼药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：可用超短波消炎，短时间、低热量的红外线局部照射，以促进血液循环和消肿，禁用强烈刺激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可选用直流电药物离子导入法（一般先用红外线照射面部后，导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0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％新斯的明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2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加兰他敏）、低频脉冲电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刺治疗：取患侧阳白、太阳、睛明、承泣、颊车、地仓、迎香等穴，电针刺激，用断续波，以有明显的肌肉收缩为度，每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个疗程，休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进行下一个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自我模仿训练：治疗师先说出或者演示如高兴、伤感、吃惊、愤怒、好奇、害羞等动作，然后让患者面对镜子表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摩：按肌纤维的方向由下向上，从口轮匝肌到眼轮匝肌，可有效地帮助表情肌恢复，防止面部肌肉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042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减轻局部炎症和水肿，促进神经再生短波、微波、红外线、激光照射、磁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干扰电疗、电针、超声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肌力  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下者，可用神经肌肉电刺激治疗瘫痪的肌肉、被动活动、主动助力运动等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上时，应进行抗阻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伤，康复采用外展支架保护患肢，手部带外展支具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损，支具使腕关节保持在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00360" y="981000"/>
            <a:ext cx="2254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桡神经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4221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1773000"/>
            <a:ext cx="4221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神经分布区发生剧痛，而神经传导功能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炎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于炎症、中毒、营养缺乏、代谢障  碍、外伤等引起的病变，称为神经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周围神经损伤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丛、神经干或其分支受外力作用而发生损伤，称为周围神经损伤。又分为</a:t>
            </a: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功能失用、轴索断裂、神经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，超短波消肿及改善局部血液循环，促进神经再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运动：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运动：增加肌力和耐力，提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：为矫正“猿手”畸形，防治肌腱挛缩，使受累关节处于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针刺：针刺支正、外关、阳池、中渚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小指、环指掌指关节过伸畸形，可使用关节折曲板，使掌指关节屈曲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配戴弹簧手夹板，使蚓状肌处于良好位置，屈曲的手指处于伸展状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针刺小海、通里、后溪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配用支具（如足托）或矫形鞋，以防治膝、踝关节挛缩及足内、外翻畸形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环跳、风市、阳陵泉、昆仑等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总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  可用足托或穿矫形鞋使踝保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位。如为神经断裂，应尽早手术缝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阳陵泉、风隆、绝骨、丘墟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6708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或减轻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防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解除肌肉肌腱挛缩、关节僵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肌肉萎缩、增强肌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促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运动与感觉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生活与工作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代谢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3976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瓦勒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节段性脱髓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3203640" y="1413000"/>
            <a:ext cx="4647960" cy="1066680"/>
          </a:xfrm>
          <a:prstGeom prst="wedgeRoundRectCallout">
            <a:avLst>
              <a:gd name="adj1" fmla="val -61064"/>
              <a:gd name="adj2" fmla="val 2425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神经纤维受损中断、远端轴索和髓鞘发生变性、碎裂，为雪旺细胞和巨噬细胞吞噬破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348000" y="2817720"/>
            <a:ext cx="4191120" cy="838440"/>
          </a:xfrm>
          <a:prstGeom prst="wedgeRoundRectCallout">
            <a:avLst>
              <a:gd name="adj1" fmla="val -65115"/>
              <a:gd name="adj2" fmla="val -1212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由感染、中毒等引起轴索变性、断裂，髓鞘相继崩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284720" y="4149720"/>
            <a:ext cx="4648320" cy="1219320"/>
          </a:xfrm>
          <a:prstGeom prst="wedgeRoundRectCallout">
            <a:avLst>
              <a:gd name="adj1" fmla="val -80500"/>
              <a:gd name="adj2" fmla="val -3750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沿神经纤维有长短不等的节段髓鞘破坏，但轴索保持完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损伤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失用症：暂时性传导阻滞，连续性无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断裂：轴索连续性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断裂：神经纤维结缔组织鞘皆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1341360"/>
            <a:ext cx="311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周围神经的再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533520" y="2286000"/>
            <a:ext cx="3581280" cy="533520"/>
          </a:xfrm>
          <a:prstGeom prst="wedgeRoundRectCallout">
            <a:avLst>
              <a:gd name="adj1" fmla="val 53101"/>
              <a:gd name="adj2" fmla="val 102379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索断裂（神经膜存在</a:t>
            </a:r>
            <a:r>
              <a:rPr b="0" lang="zh-CN" sz="32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380880" y="3733920"/>
            <a:ext cx="3048120" cy="457200"/>
          </a:xfrm>
          <a:prstGeom prst="wedgeRoundRectCallout">
            <a:avLst>
              <a:gd name="adj1" fmla="val 82708"/>
              <a:gd name="adj2" fmla="val 7465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管鞘</a:t>
            </a: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神经膜管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6172200" y="2895480"/>
            <a:ext cx="2133720" cy="457200"/>
          </a:xfrm>
          <a:prstGeom prst="wedgeRoundRectCallout">
            <a:avLst>
              <a:gd name="adj1" fmla="val -123662"/>
              <a:gd name="adj2" fmla="val 33090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芽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441972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4343400" y="4038480"/>
            <a:ext cx="0" cy="9907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724280" y="4038480"/>
            <a:ext cx="0" cy="9144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495680" y="2209680"/>
            <a:ext cx="152640" cy="6858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4495680" y="3124080"/>
            <a:ext cx="1526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4495680" y="3962520"/>
            <a:ext cx="152640" cy="4572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495680" y="4419720"/>
            <a:ext cx="152640" cy="457200"/>
          </a:xfrm>
          <a:prstGeom prst="rect">
            <a:avLst/>
          </a:prstGeom>
          <a:solidFill>
            <a:srgbClr val="f3f4d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4495680" y="487692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13:44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