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5EF58-A064-4C4B-A015-7B247A9D56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684B-5897-471E-B208-4632C874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2D29-5844-4CC0-BEB2-70F948EF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11AB-374E-4202-95E2-2D690E62F4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1B87-BC30-4E35-A4CF-B9592C02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9FB5-9CFE-443D-8FA6-71A22700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DF0E-190D-40A4-A9D1-6FC35584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7B89-E922-4385-B98B-022E46A0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CA0D-8294-4CA6-9CA3-C03CA439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B39D-2FF0-4582-B9FB-C9709A77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DE97-F245-46C7-A5B7-AD288666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D698-4D89-4AC1-9E43-06F4374F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2A14-833B-4A92-B24F-B17D2C829C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节  骨折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88000" y="54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适应证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种类型的骨折经妥善复位、固定处理后均应及时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延迟愈合并针对原因进行必要的骨科处理的同时，也应加强康复治疗，给骨骼以一定的应力刺激，改善肢体血液循环，促进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有局部炎症、病理性骨折时，禁忌功能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内血肿、伤口局部有异物，或骨折与脱位尚未妥善处理时应暂缓功能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血肿和渗出物的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骨痂形成和重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软组织的挛缩和粘连，促进关节活动度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肌肉萎缩，促进肌力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发生制动综合征，尽早恢复日常生活活动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身体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治疗措施</a:t>
            </a:r>
            <a:br>
              <a:rPr sz="2800"/>
            </a:b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康复 在骨折复位并进行固定或牵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后，局部损伤反应减轻，即可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对没被固定的肢体邻近的肌肉和关节的功能训练。手术固定牢固的关节内骨折、干骨折，在术后视情况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后即可开始关节活动度训练，每次不超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宜。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∼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在未被固定关节的训练中，尤其要加强易发生粘连关节的活动，如肩关节活动，掌指关节屈伸和踝关节曲伸等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整体功能训练：上肢骨折尽早起床站立、行走。即使是下肢骨折者也应早期拄双拐站立、行走。必须卧床的病人特别是年老体弱者，要做卧位深呼吸和咳嗽练习、腹背肌练习、未受伤肢体的正常运动及肌力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物理疗法：可用激光疗法、脉冲短波治疗以消肿，止痛、促进渗液及代谢产物的吸收和组织再生。磁疗、超声治疗、直流电离子导入法治疗可促进骨折愈合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恢复期康复  一般从伤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开始。此期骨折端已稳定，能耐受一定的应力。应加大关节活动范围训练，加强肌力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①主动运动：利用肢体重力作用及肌力的协同作用，作大幅度关节活动、肌肉力量训练。②被动运动：康复医师以不引起病人明显的疼痛和肌肉痉挛的平缓动作进行。对不能完成主动运动的病人，应进行关节各轴向运动。③助力运动：病人用自己的健肢或器械帮助患肢进行运动。④主动牵伸：病人在固定的器械上利用自身重力作关节牵伸活动。⑤关节松动术：是解决关节活动受限有效手法操作，可配合热疗手法牵引。⑥恢复肌力训练：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的肌力，可采用水疗、按摩、低频脉冲电刺激、被动运动等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以主动运动为主，配合助力运动，但助力宜小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应进行抗阻运动，可采用渐进抗阻练习或等速练习，以促进肌力最大限度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68360" y="278136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物理疗法：包括应用温热疗法、蜡疗、音频等治疗方法可预防治疗粘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平衡训练：下肢骨折后进行站立平衡训练、步态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0" name="Picture 3" descr="DSCN0186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2" name="Picture 3" descr="DSCN0240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417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SCN0238"/>
          <p:cNvPicPr/>
          <p:nvPr/>
        </p:nvPicPr>
        <p:blipFill>
          <a:blip r:embed="rId2"/>
          <a:stretch/>
        </p:blipFill>
        <p:spPr>
          <a:xfrm>
            <a:off x="4495680" y="2362320"/>
            <a:ext cx="46483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熟知病情，定期进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肌力等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掌握骨折的愈合进程，了解骨痂的生长情况，以利于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康复治疗要循序渐进，运动负荷应逐步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骨折局部的情况，出现异常情况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禁忌暴力性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范围练习应和肌力练习同步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宣教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或骨小梁的完整性或连续性发生中断称为骨折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act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病因  造成骨折的原因是多方面的，其中以外伤性骨折多见，根据骨折的原因，可分为外伤性骨折和病理性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骨折愈合分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愈合可分六期：撞击期、诱导期、炎症期、软骨痂期、硬骨痂期和重建期。骨折的愈合需要良好的固定、充足的血供和有利的力学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11" name="Picture 4" descr="IMG_0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临床表现</a:t>
            </a:r>
            <a:br>
              <a:rPr sz="2400"/>
            </a:b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全身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休克：常见于骨盆骨折、股骨骨折、多发骨折以及严重的开放性骨折或并发脏器损伤时。出血性休克、创伤性休克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体温改变：骨折后体温一般正常，出血量较大的骨折血肿吸收时可出现低热，开放性骨折出现高热时，应注意合并感染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局部表现：局部疼痛、肿胀、皮肤淤斑、压痛和功能障碍。骨折的专有体征：畸形、反常活动、骨擦音或骨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表现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检查可进一步了解骨折部位、移位类型、治疗和愈合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四）临床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治疗骨折有三大原则：复位、固定和功能锻炼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IMG_0669"/>
          <p:cNvPicPr/>
          <p:nvPr/>
        </p:nvPicPr>
        <p:blipFill>
          <a:blip r:embed="rId1"/>
          <a:stretch/>
        </p:blipFill>
        <p:spPr>
          <a:xfrm>
            <a:off x="4332240" y="357336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0642"/>
          <p:cNvPicPr/>
          <p:nvPr/>
        </p:nvPicPr>
        <p:blipFill>
          <a:blip r:embed="rId2"/>
          <a:stretch/>
        </p:blipFill>
        <p:spPr>
          <a:xfrm>
            <a:off x="1044720" y="2962440"/>
            <a:ext cx="3284280" cy="246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稳定性减弱  制动使关节韧带强度降低，部分肌肉萎缩、肌力下降，吸收及缓冲应力的能力减弱稳定性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  主要是制动导致关节液分泌减少、关节周围的疏松解体组织转变为致密结体组织，形成关节内外粘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受限。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强度降低   制动使骨丧失了应力负荷的刺激，导致骨代谢障碍，骨无机盐流失，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肿胀 骨折后局部出血、渗出增加等，引起肿胀导致相应的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体功能下降 骨折后因如下肢或脊柱骨折、年老体弱、长时间卧床休息，对整体功能都会产生不利影响，容易产生肺炎、血栓等多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下降 制动、卧床休息、肌力下降等可使骨折患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到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康复治疗后功能障碍仍较明显的，患者可出现各种心理问题，如焦虑、忧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疼痛、局部肿胀、骨折类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态评定 对于下肢骨折的患者，可对其进行步态分析，判断下肢功能障碍情况。评定方法详见第三章第三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临床愈合标准：①局部无压痛及纵轴叩击痛，②局部无反常活动，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显示骨折线模糊，有连续骨痂通过骨折线，④解除外固定后伤肢能满足以下要求：上肢向前平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下肢不扶拐在平地连续步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不少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，⑤连续观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骨折处不变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一）骨折后功能恢复的理论基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折的愈合可分为四个阶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血肿机化期 由于骨折造成骨膜下、髓腔及周围软组织出血形成血肿，伤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血肿内即开始有肉芽组织长入，血肿被替代。并进一步演化为纤维结缔组织，使骨折两端连在一起，称为纤维性连接。此过程需为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原始骨痂形成期 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成骨细胞开始增生，通过膜内化骨和软骨内化骨的过程，分别形成内骨痂、外骨痂和环状骨痂。此期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成熟骨板期（临床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新生骨小梁逐渐增加，排列趋向规则，新骨代替死骨，原始骨痂逐渐被改造成板状骨。此期于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完成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痂塑形期（骨性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组织结构按力学原则重新改造塑形。应力轴线上的骨痂不断加强，应力轴线以外的骨痂逐渐被吸收清除，髓腔重新沟通，恢复到骨折前的正常结构。最终骨折痕迹完全消失，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5T08:56:3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