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D3AE-ED1C-464D-8141-ECE313FDDD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0685-099B-457C-871D-4A8C25FB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80C8-B7ED-4E7F-BD0C-6EE1F26C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8FAE-7368-49EB-A5A7-CEB3028E3D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B7A3-B5B4-4A44-B585-DB3142FE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CA44-F2AB-44CA-AB3E-FD00DF5A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58D1-E8CA-46F7-B503-DF76D0F7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A195-30CB-4D99-8A71-DE67FF9C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0D2C-3CC4-44E1-956E-0ADA811F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544DA-2423-4343-A3BE-01E0A0B7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7B6E-73C6-4017-9D58-79EE07BD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DDB4-A222-41E8-9848-357E37CE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A1AA-EB5F-4811-BE4B-1E36FA81AB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20500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第四章 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第六节    中国传统康复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661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毕桂芝</a:t>
            </a:r>
            <a:r>
              <a:rPr b="0" lang="zh-CN" sz="4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火罐法 ：闪火法 、投火法 、贴壁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罐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抽气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3904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起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适应证与禁忌证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7576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作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擦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摩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22304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推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拿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揉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296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搓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拍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捶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729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康复法种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29612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212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六、中药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813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在中医理论的指导下，辨证应用中药，以治疗疾病或促进康复的一种方法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包括植物药、动物药、矿物药及部分化学、生物制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作用：舒经活络、强筋健骨、行气活血、化瘀止痛、益气养血、扶正祛邪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七、饮食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符合辨证施治的原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所用之食物，必须与所用之药相辅佐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饮食宜清淡，反对膏粱厚味、过食肥甘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55640" y="1341360"/>
            <a:ext cx="76564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针灸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中药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饮食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36740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中医理论的指导下对患者进行康复治疗的方法 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经活络，促进康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气活血，散寒止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扶正祛邪，调整阴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56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处方原则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选穴的原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近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远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随症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穴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71600"/>
            <a:ext cx="784872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刺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位 ：仰卧位、侧卧位、坐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进针方法：指切进针法 、夹持进针法 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提捏进针法 、舒张进针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灸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条灸 ：温和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雀啄灸、回旋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条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炷灸：直接灸 、隔姜灸、隔蒜灸 、隔饼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舒适的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针刺部位及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意外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异常情况的处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部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疼痛部位或相应穴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55:34Z</dcterms:modified>
  <cp:revision>92</cp:revision>
  <dc:subject/>
  <dc:title>内科护理学</dc:title>
</cp:coreProperties>
</file>