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29EF-5A0F-4547-BBE9-E8D4C96AFD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C5DF-B80F-47EE-9EB5-6D19663D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2089-D484-410B-8258-1F90C293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80F5-2112-4759-ABE1-B825126DAA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A24C-2D93-48B9-9A21-7AAB33D3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0AD4-C877-436B-BFB2-F74D327B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35B8-64EC-41BF-AE9B-A1CBCC5A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E45A-4D2A-4C18-902C-1D82DF22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6CC5-A52A-4A94-A06B-85CBAD71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B5B7-5F24-4F84-94F4-1EBA204A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1EDE-C2BC-4E3C-A725-D8047B8D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7729-CEBB-4759-B8E8-527500AE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C85B-254C-4AF0-A5F6-76F49DB3A5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0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康复心理治疗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99840" y="2903760"/>
            <a:ext cx="235080" cy="27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84720" y="5661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sychotherap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精神治疗，是运用心理学方法，并通过言语和非言语方式与患者沟通，以帮助患者消除或减轻心理痛苦，改变不良认知和行为方式，促进患者康复和人格成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0" name="Picture 6" descr="心理产品宣传"/>
          <p:cNvPicPr/>
          <p:nvPr/>
        </p:nvPicPr>
        <p:blipFill>
          <a:blip r:embed="rId1"/>
          <a:stretch/>
        </p:blipFill>
        <p:spPr>
          <a:xfrm>
            <a:off x="468360" y="3103560"/>
            <a:ext cx="46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992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5280" y="272916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与辅助治疗者只有提供适当的支持与辅助，才能培养患者的希望，恢复其动机。这是心理治疗的前提，也是它的基本工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与领悟治疗者应帮助患者分析自己的内心，看透自己的潜意识，了解自己的心理、动机与行为的意义；并帮助患者找到解决困难、处理问题的方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48428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训练与学习治疗者可选择适当程度的训练，以转变患者的不良观念与态度，帮助患者建立一种比较积极的基本态度，以能适应人生的各个不同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促进自然痊愈与成长使患者把心理压力和挫折尽量减少，并能发挥自己的长处，慢慢去克服、解除困难，渡过危机和难关，或从过去的经验里学习新经验，从新知识里获取克服困难的要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者的条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24998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平衡的心理状态，愿意帮助别人，理解、同情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能尽量保持中立的立场，不把自己的私人情感、判断与利害掺杂进去，保持治疗的客观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敏锐的感觉和了解心理的能力，能及时发现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扎实的精神病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丰富的人生经验和治疗经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健康良好的心理素质和态度。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治疗者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610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治疗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为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分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28:10Z</dcterms:modified>
  <cp:revision>92</cp:revision>
  <dc:subject/>
  <dc:title>内科护理学</dc:title>
</cp:coreProperties>
</file>