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738B-C63C-46C8-A1BB-F69958607E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1EF5-F01D-424D-B0E2-C5FEC3A2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2C771-0177-4388-9637-3339F93C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C78F-6315-4883-8A7D-A95DD2A83C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ACE4-D5EB-4047-AF1B-5F5B9FDC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6B57-7959-4AA7-B7AC-A43159C9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36C66-482E-4555-BAED-70120382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AB3E-264F-42B5-A60F-37433CA4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49CC-B958-4A7B-912F-B5D4BD50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7946-C741-48A7-9E7E-0B112097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3D89-2E22-439F-9E0B-5387D4C9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408D-4AA1-4A94-91B8-ED82633F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1A8C-6236-464E-9ED8-63BDF3EC79B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五节   慢性阻塞性肺疾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589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呼吸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4" descr="F:\baidu download\u=3078987204,1400065262&amp;fm=23&amp;gp=0.jpg"/>
          <p:cNvPicPr/>
          <p:nvPr/>
        </p:nvPicPr>
        <p:blipFill>
          <a:blip r:embed="rId1"/>
          <a:stretch/>
        </p:blipFill>
        <p:spPr>
          <a:xfrm>
            <a:off x="2571840" y="2565360"/>
            <a:ext cx="5384880" cy="3384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呼吸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静时也有明显呼吸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（三）物理因子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3" descr="0,0,378,19261,333,532,8a7d5031"/>
          <p:cNvPicPr/>
          <p:nvPr/>
        </p:nvPicPr>
        <p:blipFill>
          <a:blip r:embed="rId1"/>
          <a:stretch/>
        </p:blipFill>
        <p:spPr>
          <a:xfrm>
            <a:off x="826920" y="1916280"/>
            <a:ext cx="3240360" cy="4609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200973019105398609"/>
          <p:cNvPicPr/>
          <p:nvPr/>
        </p:nvPicPr>
        <p:blipFill>
          <a:blip r:embed="rId2"/>
          <a:stretch/>
        </p:blipFill>
        <p:spPr>
          <a:xfrm>
            <a:off x="4932360" y="2133720"/>
            <a:ext cx="3746520" cy="4270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H:\tupian\u=1620434346,1067371137&amp;fm=21&amp;gp=0.jpg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2773800" y="9810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家庭氧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2" descr="F:\baidu download\u=4210183508,1811034654&amp;fm=15&amp;gp=0.jpg"/>
          <p:cNvPicPr/>
          <p:nvPr/>
        </p:nvPicPr>
        <p:blipFill>
          <a:blip r:embed="rId1"/>
          <a:stretch/>
        </p:blipFill>
        <p:spPr>
          <a:xfrm>
            <a:off x="800280" y="1509840"/>
            <a:ext cx="7619760" cy="4600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呼吸系统的正常解剖和生理功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病因、主要临床表现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诊断手段以及如何评价相关检查结果，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胸片和肺功能测定结果。知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主要治疗原则，了解常用药物的作用、用法和不良反应，包括掌握吸入用药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加重的原因、临床表现及预防措施。发生急性加重时能进行紧急自我处理。使患者相信通过长期规范的治疗能够有效控制其症状，不同程度地减缓病情进展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识吸烟对慢性阻塞性肺疾病的危害性，帮助至今仍吸烟者尽快戒烟并坚持下去，预防感冒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居住环境中空气流通和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正确的呼吸模式，如腹式呼吸、深呼吸、缩唇呼吸。对于符合指征且具备条件者，指导其开展长期家庭氧疗及家庭无创机械通气治疗。增强机体免疫力，如接种肺炎疫苗和流感疫苗。保持良好的心态，树立战胜疾病的信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ronic obstructive pulmonary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慢性呼吸系统常见病，流行病学调查表明，慢性阻塞性肺疾病的发病率和死亡率有逐年增加的趋势，目前居全球死亡原因的第四位。在国内慢性支气管炎的发病率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以上患病率增高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机制尚不完全清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病因有慢性支气管炎、支气管哮喘、阻塞性肺气肿、肺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呈进行性发展，吸烟、空气污染、气候变化、上呼吸道感染，以及长期卧床、活动过少，是诱发慢性阻塞性肺疾病发病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的康复包括缓解患者症状，帮助患者康复训练，增加肺活量，提高肺功能，改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2" name="Picture 5" descr="1"/>
          <p:cNvPicPr/>
          <p:nvPr/>
        </p:nvPicPr>
        <p:blipFill>
          <a:blip r:embed="rId1"/>
          <a:stretch/>
        </p:blipFill>
        <p:spPr>
          <a:xfrm>
            <a:off x="1214280" y="1785960"/>
            <a:ext cx="6715440" cy="3786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5" descr="禁烟2"/>
          <p:cNvPicPr/>
          <p:nvPr/>
        </p:nvPicPr>
        <p:blipFill>
          <a:blip r:embed="rId1"/>
          <a:stretch/>
        </p:blipFill>
        <p:spPr>
          <a:xfrm>
            <a:off x="1214280" y="1857240"/>
            <a:ext cx="6500880" cy="41436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模式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功能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廓和肺的顺应性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5" descr="u=1277855889,2717726999&amp;fm=23&amp;gp=0"/>
          <p:cNvPicPr/>
          <p:nvPr/>
        </p:nvPicPr>
        <p:blipFill>
          <a:blip r:embed="rId1"/>
          <a:stretch/>
        </p:blipFill>
        <p:spPr>
          <a:xfrm>
            <a:off x="4859280" y="3068640"/>
            <a:ext cx="3168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肺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呼吸功能障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运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呼吸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建生理性的呼吸模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式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2" descr="F:\修改.jpg"/>
          <p:cNvPicPr/>
          <p:nvPr/>
        </p:nvPicPr>
        <p:blipFill>
          <a:blip r:embed="rId1"/>
          <a:stretch/>
        </p:blipFill>
        <p:spPr>
          <a:xfrm>
            <a:off x="611280" y="2637000"/>
            <a:ext cx="72007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7:02:57Z</dcterms:modified>
  <cp:revision>3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