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E2FE-CADB-49E1-983E-158801A4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92DC-07A7-45A5-B57D-842C9154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5668E-F236-46CD-AFD8-A986A992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AC746-9ACC-41A7-B587-D32C7C96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2C394-10B4-4B44-918F-D7CC1310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57989-D666-4EFC-A5F6-2B56F687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6F813-6923-4030-8C36-DAFE3A96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8F9FF-B0E7-4EB1-9C8D-F44E1B1F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F3700-5A31-4B5F-A56A-22C5A66E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4B7C5-853C-4FB8-B9D7-1C2938BF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AEFB3-F7D5-47E2-95A1-060A897D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339DF-9A0E-465A-91EB-FA157F2A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749-5EB8-4096-BA09-121718B8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6511B-2208-4902-B089-589856FF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361AF-93E4-4081-9055-3F5A90B3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B8206-70A9-4B5F-B04F-5D1D5A37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A47A2-53B1-4CF1-A971-80C59E3E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E5FCB-85C5-423E-82B3-42D4D25D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446EA-A7EA-4F02-9AEE-067C0AC4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CBC11-6BDA-4870-B741-48C0C0BC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AB831-488D-4256-B477-5312DA73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EF23B-350F-4B79-960F-DEB9B0D0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61947-8DB0-4354-831B-A5C3CCF7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BE0A-CD26-4DB5-93A7-A63B78D4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37A0E-F1A9-42E6-ADB5-B5A71F16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4E451-540C-4C9B-B6C6-F7F69070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E246A-EFAF-4F65-A56C-8B2C2276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77A8F-774B-4110-AB51-ED0B5F44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F051B-81DE-44E5-BEF5-308D29A2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F88BE-A47F-4FE7-9A3F-21713D6E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2368C-B372-4F33-9623-DE95CCC8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673AE-99B7-4A4E-8697-18CA2610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1BDE1-CFF5-4704-8F8E-F459D5E1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748E1-F454-424F-99EF-9104A054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DBB1-471C-4565-8B5A-980023A6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4F7EA-3CC6-4A1B-B61B-2D522B1F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743B2-661F-4A1D-8DC6-33D33722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CCF8B-43AC-4D69-940E-5EDDA520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E1EAE-337F-444A-AE89-874D9726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16C83-39DA-4E6C-9984-DD7F79A2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00666-5365-4B7B-9FE2-EB30A5D8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1E0F8-2FF1-485E-A132-6B193A4A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1B9CB-9E83-4F88-98A2-CFD6236C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62671-652D-47B0-BB89-27EB0565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6096E-8AAA-4EA3-975B-E9082343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C1E3-C166-4A89-8646-1E433F49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234C5-CFE4-4289-90D2-0D9B8EDB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F8A43-2A7A-42D8-A882-D3728BC7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67A29-5AC3-41DB-A32E-AE6773D5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4566A-8636-4C25-B872-9B0DAD28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927FF-B00A-42A8-A4B7-10C9E29A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766E7C-E03D-417E-BFD3-1709149D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F90CB-FB77-4467-B3C4-6D940FC1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75813B-2205-4981-B0B0-7B7D24A8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A12F4C-B6D0-4A5B-A8A3-2E069A09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857A68-6BF2-463F-A266-BB9455A3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4CA6-0498-46D3-9952-3A6A7742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1B7206-4D43-4175-8068-2D7E2746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CEC8AA-BC1B-4F92-BDE3-12B508DC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42322B-A286-4BC0-9DEE-08989890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1B0BE5-ED58-47F1-8C92-F2EEE122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36D48-185D-4237-A3CE-DBD74943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351F7E-0D8D-4950-8D63-6E5AB7F7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601885-E986-4BF7-89CD-DF5F2335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6A28B4-56F3-4518-8F5B-CE9000F1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D3C1A5-98A7-4C38-A2F9-1EDC1D20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6014E3-EEAC-4281-939F-8E25EE26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C066-78FA-4A56-A7CF-0FEB3F79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BC69F8-E07E-4C06-BE8C-8EDEA382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2A11EF-4906-4E97-A8C0-C53067A6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1D604F-C87A-444A-8AA9-F8FCF849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89FBF2-418B-4B12-B265-B29E7B3D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97E42B-54A6-4066-866D-C948423B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6C972F-5638-42C6-A41F-845832C6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9FC5C9-8ABB-4859-959A-BB971B8C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127F35-54A0-432B-A007-740AE270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51C5C0-1228-43B7-849A-A5BB44BD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63B1-A587-4039-8B01-EDD4ED60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FCC5-452F-45DC-9741-9730ED2E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17A7-4F16-4F62-8738-1DF86EB2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8FFC-1C64-4EAA-AACC-2598EDC1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0992-DC7A-421A-9F4B-24CF19B0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742E-5151-4FDA-86AD-8426E83A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4215-54B8-43CC-9A1C-6F260AC0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3C39-0CD4-46D1-ACA8-D4BCA8D6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642E-3228-4A8A-A82D-9A00120F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6C89E-4CC0-41B1-8C70-AC016E2D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DD8CF-EB40-4B80-8385-5E6AEB35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3A40F-D30C-45BE-B415-010EB6DA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A09A6-01C8-4E85-8AB1-C9F77720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798FA-EB6F-466E-8871-7B28336E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E572-C3A0-4A17-A398-1E76982B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74EC2-9DA0-4589-8C66-3F0BCE3B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1DD00-0BF0-45FA-85D7-2AA6D43D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6A590-86B1-404D-A6D1-BA57E39E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B3F69-4E57-477D-A83C-7902C051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C7CD0-29C4-42FB-862C-3347A71E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5DC34-541F-41C6-B630-55FDDFD8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22437-26D1-419B-B7AE-A26230A8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9A05E-D204-4C83-B219-ADFF8A2D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D7068-AD28-467D-903D-6D3F77EF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B239C-735A-4CBB-96AE-20DA3002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CBB0-75BA-4882-967B-669BC508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BA542-CB7A-4629-B2E4-79350805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C6EB8-8CD3-4F57-9364-60316AB1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B8711-4AAA-41D2-B084-1DDC90B8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07CA5-3A33-4399-804C-E3C2B120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7F2D7-57CD-4177-AC4E-1ED4348C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90E12-AE20-44FD-BD81-0CE73841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51B9E-CBE7-41CB-A83D-4099EB1F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1A9C1-D293-43F0-85A0-D940E351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01DF8-3124-426F-8ECC-B62505E9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065B1-9CA9-4A09-89CE-D362CFA0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DB91-DBF5-4B03-954A-12DAB2C1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2BFA1-11A1-4767-9005-091E2745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3A317-C398-43D4-B4A4-120733E3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96E41-C41B-4A07-B35C-6058F81C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288C9-FF08-4E55-B4C0-B84674E0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5E517-6288-49BE-8848-FFDE1D17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D5020-881B-4DD6-BB5B-B304ACDB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151EA-42AC-4D74-9371-F73648CB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9CF3A-F905-4AE9-8647-A067058F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6A87A-562A-45A2-98F6-3E249E08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7311F-9432-4041-B438-DB2BDE88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C37B-7963-431E-A707-195A4CF3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ED696-6B1C-4F08-B369-04B68063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07D9B-84A1-455D-A556-A8FE5A37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DFCA0-FCD9-4704-8B11-0AEC4AA2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8A314-0783-46B7-AFEC-4190BCC6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EC77F-7B05-4F63-9141-8402AF03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D570C-5E41-4AFF-9D78-5405F727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32F97-C36B-4A57-BFE1-E71D8BC9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ACC83-E3B5-454A-923B-5E59D39F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95A9F-240F-4223-856B-E78E026B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068BB-7845-466C-B2F1-36C39C97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DBEB-C1A2-469C-B024-B26B7794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775E2-B5C0-44A3-BCAE-05A1C630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D45C6-80BA-4CBA-A515-593DCBD0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14222-F368-4BD0-9948-0E54DEBC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FC90F-4BA3-43C6-BA22-72B48BB5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26974-C06F-45C2-A958-E8451F89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5CEB6-4B0A-4820-9EB3-B94459E3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91EE6-FBEA-4D5F-BE5A-CE6592CA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3D01E-1CE1-40CA-BB1B-278B6EE9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5CAE8-3D19-45B4-A9D2-31D7D520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96BF2-5B63-417F-9F70-7D32484E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3D23-542C-40C9-B35F-529BE75F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53F4E-3D4C-4DCC-96CE-0DD04C9A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D55E2-9EC5-4B8A-B516-3E5E24AB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A9745-8FE5-4958-BD00-7BA35148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81B5D-42FE-4233-969B-470DB277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A222F-B54D-49B5-9F01-A9B454FF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15ED5-5EFA-4275-B9F1-B7FBF91B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3DA93-8AC6-4B6D-8E53-3404497C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F525A-F424-42BD-A70C-FF767B06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B6E2B-921E-4B71-9BDB-4D180DD6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8687F-CB2C-4DEB-AD9E-3829AF55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02CC-A6BE-4A41-903D-EAB90946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4DBA1-2EDA-4590-A7A3-65F1FEF8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AE4CF-83AC-4D4D-9F29-8F8C2DDD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F7881-0432-4F70-90E1-75C1830B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FBEB4-1418-4ABD-A235-729B54FF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75247-FC87-4CC8-8F1C-7937B09B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84548-4F3E-4E51-91D7-0301BDE4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8EA74-6BE6-4EC2-A9E1-E0110095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BE10D-D867-48FD-A195-F455EC38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F7E98-8C5B-4374-ADE2-B6EF1370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7B26C-7FB9-4B09-AB29-836DAF36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24AC-6709-4624-80B2-C529ABAD1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4AA3-0374-4755-9D83-BC237752F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D09A-7090-432C-9C4A-6CF895EF7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2A92-0976-4800-94FD-C028501A4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3F2A-1D77-47FF-B541-48E85A267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1D19-E0B8-4826-8999-B027BB96C8DE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1A22-9813-4840-9C53-CB031CE4F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A393-E057-4186-9406-A7D52F851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C11D-4843-4BF1-BF3D-4188979EC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A6E9-318D-4803-BAA5-623CDA443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657E-42CB-4770-9348-4D803F2D0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9F65-F08D-42CF-9427-9F403287F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092E-D508-4BA1-9907-6562B30CA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4722-9B80-42DB-A3F8-4AD432C2D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389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六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生物氧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763640" y="2492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Biological Oxidatio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9911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、催化生物氧化的酶包括氧化酶类和脱氢酶类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氧化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酶类的辅基常含有金属离子如铁或铜，催化代谢物脱氢氧化，氧分子接受氢生成水。如抗坏血酸氧化酶、细胞色素氧化酶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脱氢酶类的催化作用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A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P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辅基或辅酶，催化代谢物脱氢。根据是否需要氧作为直接受氢体，可将脱氢酶分为需氧脱氢酶和不需氧脱氢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7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其他酶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上述酶类外，体内还有加单氧酶、加双氧酶、过氧化氢酶、过氧化物酶、超氧化物歧化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SOD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参与氧化还原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3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五、生物氧化过程中有机酸脱羧基产生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类及蛋白质在体内代谢过程中产生不同的有机酸，有机酸在酶的催化下，脱羧基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根据脱去的羧基在有机酸的位置，分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α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和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β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种。又根据脱羧反应是否伴有脱氢，分为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单纯脱羧和氧化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仿宋"/>
                <a:ea typeface="仿宋"/>
              </a:rPr>
              <a:t>第二节  线粒体内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40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呼吸链包含多种成分，并按一定顺序排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呼吸链的主要成分及其作用机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主要功能是接受从代谢物上脱下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，然后传递给呼吸链另一组分黄素蛋白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递氢体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无名"/>
          <p:cNvPicPr/>
          <p:nvPr/>
        </p:nvPicPr>
        <p:blipFill>
          <a:blip r:embed="rId1"/>
          <a:stretch/>
        </p:blipFill>
        <p:spPr>
          <a:xfrm>
            <a:off x="1042920" y="1916280"/>
            <a:ext cx="7161120" cy="4194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69228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=H: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;      R=H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Picture 3" descr="NAD(P)-NAD(P)H`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黄素酶或黄素蛋白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613" name="Line 4"/>
          <p:cNvSpPr/>
          <p:nvPr/>
        </p:nvSpPr>
        <p:spPr>
          <a:xfrm flipV="1">
            <a:off x="1547640" y="4292280"/>
            <a:ext cx="576360" cy="576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2987280" y="2133720"/>
            <a:ext cx="360360" cy="64764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铁硫蛋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e-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结构及递电子机制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26480" cy="4194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610452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Ⓢ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示无机硫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学    习     重     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物氧化的概念及意义；了解生物氧化的特点及主要酶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呼吸链的主要组成成分，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呼吸链的电子传递顺序；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粒体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转运进入线粒体的机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磷酸化的概念、偶联部位；了解氧化磷酸化机制及影响因素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体内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主要方式及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生理功用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了解不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途径、主要场所及主要氧化体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泛醌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又称辅酶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结构与递氢机制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 flipH="1" flipV="1">
            <a:off x="6659640" y="3284640"/>
            <a:ext cx="79200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6732720" y="5950080"/>
            <a:ext cx="792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氧化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651640" y="270828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H</a:t>
            </a:r>
            <a:r>
              <a:rPr b="0" lang="en-US" sz="1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还原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yt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细胞色素是一类以铁铁卟啉为辅基的催化电子传递的酶类，根据它们吸收光谱不同而分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呼吸链中的细胞色素有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很难分开，组成一复合体，统称为细胞色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传递电子的顺序：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→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→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 → 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传递电子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2953440"/>
            <a:ext cx="68328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3+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+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-      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4356000" y="3933720"/>
            <a:ext cx="1511280" cy="216000"/>
          </a:xfrm>
          <a:prstGeom prst="leftRightArrow">
            <a:avLst>
              <a:gd name="adj1" fmla="val 50000"/>
              <a:gd name="adj2" fmla="val 1392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体               递电子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       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e-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AD                        Cyt-F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UQ(CoQ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呼吸链中大部分组成成分形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蛋白复合体，只有少数游离存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380880" y="2225520"/>
          <a:ext cx="8382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5520"/>
                    <a:ext cx="8382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535480" y="5877000"/>
            <a:ext cx="3225240" cy="368280"/>
          </a:xfrm>
          <a:prstGeom prst="rect">
            <a:avLst/>
          </a:prstGeom>
          <a:solidFill>
            <a:srgbClr val="dc5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泛醌 和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yt c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均不包含在上述四种复合体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呼吸链各复合体在线粒体内膜中的位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3" descr="6-1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呼吸链组分按氧化还原电位由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低到高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排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540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目前普遍认为呼吸链的传递顺序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67564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和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两条重要的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1. NADH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氧化呼吸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ADH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Ⅰ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琥珀酸氧化呼吸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琥珀酸 →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Ⅱ 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一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最常见的一条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3" name="Picture 3" descr="NAD氧化呼吸链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也叫琥珀酸氧化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5" name="Picture 3" descr="FAD氧化呼吸链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物氧化是物质在体内氧化分解的过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两条呼吸链传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传递机制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9912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糖代谢与呼吸链联系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生物氧化过程中有部分能量用于生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3" name="Organization Chart 3"/>
          <p:cNvGrpSpPr/>
          <p:nvPr/>
        </p:nvGrpSpPr>
        <p:grpSpPr>
          <a:xfrm>
            <a:off x="0" y="1916280"/>
            <a:ext cx="8747640" cy="4192560"/>
            <a:chOff x="0" y="1916280"/>
            <a:chExt cx="8747640" cy="4192560"/>
          </a:xfrm>
        </p:grpSpPr>
        <p:cxnSp>
          <p:nvCxnSpPr>
            <p:cNvPr id="654" name="_s1028"/>
            <p:cNvCxnSpPr>
              <a:stCxn id="655" idx="0"/>
              <a:endCxn id="656" idx="2"/>
            </p:cNvCxnSpPr>
            <p:nvPr/>
          </p:nvCxnSpPr>
          <p:spPr>
            <a:xfrm flipV="1" rot="16200000">
              <a:off x="5131080" y="2833920"/>
              <a:ext cx="839160" cy="23562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657" name="_s1029"/>
            <p:cNvCxnSpPr>
              <a:stCxn id="658" idx="0"/>
              <a:endCxn id="656" idx="2"/>
            </p:cNvCxnSpPr>
            <p:nvPr/>
          </p:nvCxnSpPr>
          <p:spPr>
            <a:xfrm flipH="1" flipV="1" rot="5400000">
              <a:off x="2776320" y="2834640"/>
              <a:ext cx="839160" cy="23551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656" name="_s1030"/>
            <p:cNvSpPr/>
            <p:nvPr/>
          </p:nvSpPr>
          <p:spPr>
            <a:xfrm>
              <a:off x="2354400" y="191628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两种形式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_s1031"/>
            <p:cNvSpPr/>
            <p:nvPr/>
          </p:nvSpPr>
          <p:spPr>
            <a:xfrm>
              <a:off x="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底物水平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_s1032"/>
            <p:cNvSpPr/>
            <p:nvPr/>
          </p:nvSpPr>
          <p:spPr>
            <a:xfrm>
              <a:off x="471024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氧化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底物水平磷酸化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substrate level phosphorylation)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底物分子内部能量重新分布，生成高能键，使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磷酸化生成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1979640" y="3789360"/>
            <a:ext cx="6948360" cy="259236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水解时释放的能量大于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21KJ/mo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的磷酸酯键，称为高能键。常表示为 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48640" cy="5418360"/>
          </a:xfrm>
          <a:prstGeom prst="rect">
            <a:avLst/>
          </a:prstGeom>
          <a:ln w="0">
            <a:noFill/>
          </a:ln>
        </p:spPr>
      </p:pic>
      <p:sp>
        <p:nvSpPr>
          <p:cNvPr id="663" name="Oval 3"/>
          <p:cNvSpPr/>
          <p:nvPr/>
        </p:nvSpPr>
        <p:spPr>
          <a:xfrm>
            <a:off x="0" y="1341360"/>
            <a:ext cx="1042920" cy="410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 flipV="1">
            <a:off x="971640" y="1557000"/>
            <a:ext cx="792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1116000" y="3357720"/>
            <a:ext cx="719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971640" y="4724280"/>
            <a:ext cx="936360" cy="649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磷酸化 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oxidative phosphorylation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在呼吸链电子传递过程中偶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磷酸化，生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又称为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偶联磷酸化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1042920" y="4076640"/>
          <a:ext cx="74898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076640"/>
                    <a:ext cx="7489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链1"/>
          <p:cNvPicPr/>
          <p:nvPr/>
        </p:nvPicPr>
        <p:blipFill>
          <a:blip r:embed="rId1"/>
          <a:stretch/>
        </p:blipFill>
        <p:spPr>
          <a:xfrm>
            <a:off x="684360" y="836640"/>
            <a:ext cx="8135640" cy="33130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3"/>
          <p:cNvGrpSpPr/>
          <p:nvPr/>
        </p:nvGrpSpPr>
        <p:grpSpPr>
          <a:xfrm>
            <a:off x="755640" y="4365720"/>
            <a:ext cx="2286000" cy="779760"/>
            <a:chOff x="755640" y="4365720"/>
            <a:chExt cx="2286000" cy="779760"/>
          </a:xfrm>
        </p:grpSpPr>
        <p:sp>
          <p:nvSpPr>
            <p:cNvPr id="673" name="Line 4"/>
            <p:cNvSpPr/>
            <p:nvPr/>
          </p:nvSpPr>
          <p:spPr>
            <a:xfrm>
              <a:off x="3041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755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 flipH="1">
              <a:off x="7556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>
              <a:off x="25844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1365120" y="47466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  <a:ea typeface="GungsuhChe"/>
                </a:rPr>
                <a:t>ATP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8" name="Group 9"/>
          <p:cNvGrpSpPr/>
          <p:nvPr/>
        </p:nvGrpSpPr>
        <p:grpSpPr>
          <a:xfrm>
            <a:off x="3203280" y="4508640"/>
            <a:ext cx="3429360" cy="452880"/>
            <a:chOff x="3203280" y="4508640"/>
            <a:chExt cx="3429360" cy="452880"/>
          </a:xfrm>
        </p:grpSpPr>
        <p:sp>
          <p:nvSpPr>
            <p:cNvPr id="679" name="Line 10"/>
            <p:cNvSpPr/>
            <p:nvPr/>
          </p:nvSpPr>
          <p:spPr>
            <a:xfrm>
              <a:off x="6632640" y="4508640"/>
              <a:ext cx="0" cy="268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3203280" y="4627800"/>
              <a:ext cx="609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6099120" y="4627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4482360" y="4562640"/>
              <a:ext cx="79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6781680" y="4365720"/>
            <a:ext cx="2361960" cy="499680"/>
            <a:chOff x="6781680" y="4365720"/>
            <a:chExt cx="2361960" cy="499680"/>
          </a:xfrm>
        </p:grpSpPr>
        <p:sp>
          <p:nvSpPr>
            <p:cNvPr id="684" name="Line 15"/>
            <p:cNvSpPr/>
            <p:nvPr/>
          </p:nvSpPr>
          <p:spPr>
            <a:xfrm>
              <a:off x="678168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914364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67816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87004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8" name="Rectangle 19"/>
            <p:cNvSpPr/>
            <p:nvPr/>
          </p:nvSpPr>
          <p:spPr>
            <a:xfrm>
              <a:off x="7180200" y="446652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   </a:t>
              </a: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9" name="Rectangle 20"/>
          <p:cNvSpPr/>
          <p:nvPr/>
        </p:nvSpPr>
        <p:spPr>
          <a:xfrm>
            <a:off x="4067280" y="5445000"/>
            <a:ext cx="36576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氧化磷酸化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氧化磷酸化及偶联部位示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呼吸链产生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是指物质氧化时，每消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摩尔氧原子所消耗的无机磷的摩尔数（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），即生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实验所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分别为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为电子供体）和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琥珀酸为电子供体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折中数据，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琥珀酸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6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生物氧化由酶催化逐步进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086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肪及蛋白质等营养物质在体内氧化及体外燃烧虽然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终产物都是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，释放的总能量也完全相等，氧化反应类型也相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二者在条件、能量释放等方面却大不相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氧化磷酸化的机制示意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化学渗透学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5" name="Picture 3" descr="无标题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2133720"/>
            <a:ext cx="7343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影响氧化磷酸化作用的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是调节氧化磷酸化的主要因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甲状腺素能使机体耗氧和产热均增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氧化磷酸化抑制剂：主要有呼吸链阻断剂和解偶     联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10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调节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9" name="Diagram 3"/>
          <p:cNvGrpSpPr/>
          <p:nvPr/>
        </p:nvGrpSpPr>
        <p:grpSpPr>
          <a:xfrm>
            <a:off x="536400" y="1805760"/>
            <a:ext cx="8092440" cy="4324320"/>
            <a:chOff x="536400" y="1805760"/>
            <a:chExt cx="8092440" cy="4324320"/>
          </a:xfrm>
        </p:grpSpPr>
        <p:sp>
          <p:nvSpPr>
            <p:cNvPr id="700" name="_s2052"/>
            <p:cNvSpPr/>
            <p:nvPr/>
          </p:nvSpPr>
          <p:spPr>
            <a:xfrm flipV="1">
              <a:off x="3233160" y="1805040"/>
              <a:ext cx="2698920" cy="1441800"/>
            </a:xfrm>
            <a:custGeom>
              <a:avLst/>
              <a:gdLst>
                <a:gd name="textAreaLeft" fmla="*/ 968400 w 2698920"/>
                <a:gd name="textAreaRight" fmla="*/ 1730520 w 2698920"/>
                <a:gd name="textAreaTop" fmla="*/ 517320 h 1441800"/>
                <a:gd name="textAreaBottom" fmla="*/ 92448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D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_s2053"/>
            <p:cNvSpPr/>
            <p:nvPr/>
          </p:nvSpPr>
          <p:spPr>
            <a:xfrm flipV="1">
              <a:off x="1884960" y="3247920"/>
              <a:ext cx="5395680" cy="1440000"/>
            </a:xfrm>
            <a:custGeom>
              <a:avLst/>
              <a:gdLst>
                <a:gd name="textAreaLeft" fmla="*/ 1186560 w 5395680"/>
                <a:gd name="textAreaRight" fmla="*/ 4209120 w 5395680"/>
                <a:gd name="textAreaTop" fmla="*/ 316440 h 1440000"/>
                <a:gd name="textAreaBottom" fmla="*/ 1123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_s2054"/>
            <p:cNvSpPr/>
            <p:nvPr/>
          </p:nvSpPr>
          <p:spPr>
            <a:xfrm flipV="1">
              <a:off x="536400" y="4687560"/>
              <a:ext cx="8092440" cy="1441800"/>
            </a:xfrm>
            <a:custGeom>
              <a:avLst/>
              <a:gdLst>
                <a:gd name="textAreaLeft" fmla="*/ 1404720 w 8092440"/>
                <a:gd name="textAreaRight" fmla="*/ 6687720 w 8092440"/>
                <a:gd name="textAreaTop" fmla="*/ 250200 h 1441800"/>
                <a:gd name="textAreaBottom" fmla="*/ 119160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氧化磷酸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化速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3" name="Rectangle 8"/>
          <p:cNvSpPr/>
          <p:nvPr/>
        </p:nvSpPr>
        <p:spPr>
          <a:xfrm>
            <a:off x="527832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448632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AutoShape 10"/>
          <p:cNvSpPr/>
          <p:nvPr/>
        </p:nvSpPr>
        <p:spPr>
          <a:xfrm>
            <a:off x="5724360" y="5589720"/>
            <a:ext cx="71640" cy="360360"/>
          </a:xfrm>
          <a:prstGeom prst="upArrow">
            <a:avLst>
              <a:gd name="adj1" fmla="val 50000"/>
              <a:gd name="adj2" fmla="val 125754"/>
            </a:avLst>
          </a:prstGeom>
          <a:solidFill>
            <a:srgbClr val="dc5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59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甲状腺素调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7" name="Organization Chart 3"/>
          <p:cNvGrpSpPr/>
          <p:nvPr/>
        </p:nvGrpSpPr>
        <p:grpSpPr>
          <a:xfrm>
            <a:off x="2627280" y="1989000"/>
            <a:ext cx="4194000" cy="4192920"/>
            <a:chOff x="2627280" y="1989000"/>
            <a:chExt cx="4194000" cy="4192920"/>
          </a:xfrm>
        </p:grpSpPr>
        <p:cxnSp>
          <p:nvCxnSpPr>
            <p:cNvPr id="708" name="_s3076"/>
            <p:cNvCxnSpPr>
              <a:stCxn id="709" idx="0"/>
              <a:endCxn id="710" idx="2"/>
            </p:cNvCxnSpPr>
            <p:nvPr/>
          </p:nvCxnSpPr>
          <p:spPr>
            <a:xfrm flipV="1" rot="16200000">
              <a:off x="4868640" y="3520080"/>
              <a:ext cx="839160" cy="11300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711" name="_s3077"/>
            <p:cNvCxnSpPr>
              <a:stCxn id="712" idx="0"/>
              <a:endCxn id="710" idx="2"/>
            </p:cNvCxnSpPr>
            <p:nvPr/>
          </p:nvCxnSpPr>
          <p:spPr>
            <a:xfrm flipH="1" flipV="1" rot="5400000">
              <a:off x="3739680" y="3520440"/>
              <a:ext cx="839160" cy="112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710" name="_s3078"/>
            <p:cNvSpPr/>
            <p:nvPr/>
          </p:nvSpPr>
          <p:spPr>
            <a:xfrm>
              <a:off x="3755880" y="198900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甲状腺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_s3079"/>
            <p:cNvSpPr/>
            <p:nvPr/>
          </p:nvSpPr>
          <p:spPr>
            <a:xfrm>
              <a:off x="262728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Na+,K+–ATP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_s3080"/>
            <p:cNvSpPr/>
            <p:nvPr/>
          </p:nvSpPr>
          <p:spPr>
            <a:xfrm>
              <a:off x="488556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解偶联蛋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基因表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3" name="Text Box 10"/>
          <p:cNvSpPr/>
          <p:nvPr/>
        </p:nvSpPr>
        <p:spPr>
          <a:xfrm>
            <a:off x="226836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活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1116000" y="4941720"/>
            <a:ext cx="71280" cy="792360"/>
          </a:xfrm>
          <a:prstGeom prst="upArrow">
            <a:avLst>
              <a:gd name="adj1" fmla="val 50000"/>
              <a:gd name="adj2" fmla="val 2779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7164360" y="4797360"/>
            <a:ext cx="71640" cy="863640"/>
          </a:xfrm>
          <a:prstGeom prst="upArrow">
            <a:avLst>
              <a:gd name="adj1" fmla="val 50000"/>
              <a:gd name="adj2" fmla="val 3013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940360" y="40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332000" y="4869000"/>
            <a:ext cx="21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5"/>
          <p:cNvSpPr/>
          <p:nvPr/>
        </p:nvSpPr>
        <p:spPr>
          <a:xfrm flipH="1">
            <a:off x="1834920" y="5373720"/>
            <a:ext cx="649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197964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分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7"/>
          <p:cNvSpPr/>
          <p:nvPr/>
        </p:nvSpPr>
        <p:spPr>
          <a:xfrm>
            <a:off x="7380360" y="5445000"/>
            <a:ext cx="5763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8028000" y="40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量释放热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745164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造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4" name="Picture 3" descr="链1"/>
          <p:cNvPicPr/>
          <p:nvPr/>
        </p:nvPicPr>
        <p:blipFill>
          <a:blip r:embed="rId1"/>
          <a:stretch/>
        </p:blipFill>
        <p:spPr>
          <a:xfrm>
            <a:off x="1116000" y="2924280"/>
            <a:ext cx="7128000" cy="2305080"/>
          </a:xfrm>
          <a:prstGeom prst="rect">
            <a:avLst/>
          </a:prstGeom>
          <a:ln w="0">
            <a:noFill/>
          </a:ln>
        </p:spPr>
      </p:pic>
      <p:sp>
        <p:nvSpPr>
          <p:cNvPr id="725" name="Line 4"/>
          <p:cNvSpPr/>
          <p:nvPr/>
        </p:nvSpPr>
        <p:spPr>
          <a:xfrm flipH="1">
            <a:off x="4716000" y="2781360"/>
            <a:ext cx="71640" cy="1701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24000" y="620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426560" y="1773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抗霉素</a:t>
            </a:r>
            <a:r>
              <a:rPr b="1" lang="en-US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二巯基丙醇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740720" y="2565360"/>
            <a:ext cx="0" cy="2133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7020000" y="1773360"/>
            <a:ext cx="1573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O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N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N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3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及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H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2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S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4859280" y="35002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7812000" y="33577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843280" y="3933720"/>
            <a:ext cx="73080" cy="165600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12400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鱼藤酮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粉蝶霉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2987640" y="501336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635280" y="5229360"/>
            <a:ext cx="5184720" cy="5205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楷体"/>
              </a:rPr>
              <a:t>各种呼吸链抑制剂的阻断位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四、细胞质中生成的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通过穿梭进入线粒体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苹果酸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冬氨酸穿梭主要存在于心肌和肝组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8" name="Picture 4" descr="图6-1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α-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磷酸甘油穿梭主要存在于骨骼肌和脑组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0" name="Picture 3" descr="7-9"/>
          <p:cNvPicPr/>
          <p:nvPr/>
        </p:nvPicPr>
        <p:blipFill>
          <a:blip r:embed="rId1"/>
          <a:srcRect l="2360" t="0" r="3542" b="0"/>
          <a:stretch/>
        </p:blipFill>
        <p:spPr>
          <a:xfrm>
            <a:off x="301680" y="1197000"/>
            <a:ext cx="8540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重要生理功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机体各种生理、生化活动的主要供能物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转变成其他三磷酸核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763640" y="3573360"/>
            <a:ext cx="6318360" cy="3550680"/>
            <a:chOff x="1763640" y="3573360"/>
            <a:chExt cx="6318360" cy="3550680"/>
          </a:xfrm>
        </p:grpSpPr>
        <p:sp>
          <p:nvSpPr>
            <p:cNvPr id="744" name="Rectangle 5"/>
            <p:cNvSpPr/>
            <p:nvPr/>
          </p:nvSpPr>
          <p:spPr>
            <a:xfrm>
              <a:off x="1763640" y="3573360"/>
              <a:ext cx="63183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核苷二磷酸激酶的作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UDP          ADP + U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CDP          ADP + C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GDP          ADP + G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45" name="Group 6"/>
            <p:cNvGrpSpPr/>
            <p:nvPr/>
          </p:nvGrpSpPr>
          <p:grpSpPr>
            <a:xfrm>
              <a:off x="3708360" y="4870440"/>
              <a:ext cx="792000" cy="72720"/>
              <a:chOff x="3708360" y="4870440"/>
              <a:chExt cx="792000" cy="72720"/>
            </a:xfrm>
          </p:grpSpPr>
          <p:sp>
            <p:nvSpPr>
              <p:cNvPr id="746" name="Line 7"/>
              <p:cNvSpPr/>
              <p:nvPr/>
            </p:nvSpPr>
            <p:spPr>
              <a:xfrm>
                <a:off x="3708360" y="487044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7" name="Line 8"/>
              <p:cNvSpPr/>
              <p:nvPr/>
            </p:nvSpPr>
            <p:spPr>
              <a:xfrm flipH="1">
                <a:off x="3708360" y="4943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9"/>
            <p:cNvGrpSpPr/>
            <p:nvPr/>
          </p:nvGrpSpPr>
          <p:grpSpPr>
            <a:xfrm>
              <a:off x="3708360" y="5518080"/>
              <a:ext cx="792000" cy="73080"/>
              <a:chOff x="3708360" y="5518080"/>
              <a:chExt cx="792000" cy="73080"/>
            </a:xfrm>
          </p:grpSpPr>
          <p:sp>
            <p:nvSpPr>
              <p:cNvPr id="749" name="Line 10"/>
              <p:cNvSpPr/>
              <p:nvPr/>
            </p:nvSpPr>
            <p:spPr>
              <a:xfrm>
                <a:off x="3708360" y="551808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0" name="Line 11"/>
              <p:cNvSpPr/>
              <p:nvPr/>
            </p:nvSpPr>
            <p:spPr>
              <a:xfrm flipH="1">
                <a:off x="3708360" y="5591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2"/>
            <p:cNvGrpSpPr/>
            <p:nvPr/>
          </p:nvGrpSpPr>
          <p:grpSpPr>
            <a:xfrm>
              <a:off x="3708360" y="6165720"/>
              <a:ext cx="792000" cy="73080"/>
              <a:chOff x="3708360" y="6165720"/>
              <a:chExt cx="792000" cy="73080"/>
            </a:xfrm>
          </p:grpSpPr>
          <p:sp>
            <p:nvSpPr>
              <p:cNvPr id="752" name="Line 13"/>
              <p:cNvSpPr/>
              <p:nvPr/>
            </p:nvSpPr>
            <p:spPr>
              <a:xfrm>
                <a:off x="3708360" y="616572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H="1">
                <a:off x="3708360" y="623880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（三）磷酸肌酸是肌肉和脑组织中能量的一种储存形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5" name="Picture 3" descr="肌酸激酶"/>
          <p:cNvPicPr/>
          <p:nvPr/>
        </p:nvPicPr>
        <p:blipFill>
          <a:blip r:embed="rId1"/>
          <a:stretch/>
        </p:blipFill>
        <p:spPr>
          <a:xfrm>
            <a:off x="395280" y="184464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8" dur="2000" fill="hold"/>
                                        <p:tgtEl>
                                          <p:spTgt spid="7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627280" y="1905120"/>
            <a:ext cx="3889440" cy="35398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的生成和利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578880" y="4653000"/>
            <a:ext cx="2263680" cy="971640"/>
            <a:chOff x="578880" y="4653000"/>
            <a:chExt cx="2263680" cy="971640"/>
          </a:xfrm>
        </p:grpSpPr>
        <p:sp>
          <p:nvSpPr>
            <p:cNvPr id="759" name="Text Box 5"/>
            <p:cNvSpPr/>
            <p:nvPr/>
          </p:nvSpPr>
          <p:spPr>
            <a:xfrm>
              <a:off x="578880" y="4653000"/>
              <a:ext cx="2118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66"/>
                  </a:solidFill>
                  <a:latin typeface="Times New Roman"/>
                  <a:ea typeface="华文中宋"/>
                </a:rPr>
                <a:t>         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氧化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底物水平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AutoShape 6"/>
            <p:cNvSpPr/>
            <p:nvPr/>
          </p:nvSpPr>
          <p:spPr>
            <a:xfrm>
              <a:off x="2770560" y="4878360"/>
              <a:ext cx="72000" cy="533520"/>
            </a:xfrm>
            <a:custGeom>
              <a:avLst/>
              <a:gdLst>
                <a:gd name="textAreaLeft" fmla="*/ 0 w 72000"/>
                <a:gd name="textAreaRight" fmla="*/ 25920 w 720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46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61" name="AutoShape 7"/>
          <p:cNvSpPr/>
          <p:nvPr/>
        </p:nvSpPr>
        <p:spPr>
          <a:xfrm>
            <a:off x="6084720" y="1268280"/>
            <a:ext cx="3059280" cy="511344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肌肉收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物质主动转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合成代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生物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维持体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体内外物质氧化比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1680" y="1905120"/>
          <a:ext cx="8540640" cy="443844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比项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物氧化（体内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体外氧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条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温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剧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过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酶促反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步完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能量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瞬间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成方式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有机酸脱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碳和氧结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需要水参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需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节  线粒体外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场所：微粒体和过氧化物酶体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氧化过程中不伴有偶联磷酸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38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微粒体氧化体系主要为加单氧酶系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催化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一个氧原子加到作用物分子上，另一个氧原子被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还原成水，因此该酶又称为混合功能氧化酶或者羟化酶。反应需要细胞色素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450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D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参加。其反应式如下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7870680" cy="936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4"/>
          <p:cNvSpPr/>
          <p:nvPr/>
        </p:nvSpPr>
        <p:spPr>
          <a:xfrm>
            <a:off x="3924360" y="522936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二、过氧化物酶体氧化体系氧化过程产生活性氧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-108000" y="1268280"/>
            <a:ext cx="8748720" cy="5589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过氧化物酶体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一种特殊的细胞器，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于动物组织的肝脏、肾脏、中性粒细胞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肠黏膜细胞中。过氧化物酶体中含多种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化酶，能氧化氨基酸、脂肪酸等多种底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活性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active oxygen species,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O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9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的原因   氧分子必须接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电子才能完全还原，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O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再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成水。如果电子供给不足， 就会产生不稳定的活性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2" name="Picture 4" descr="活性氧的生成"/>
          <p:cNvPicPr/>
          <p:nvPr/>
        </p:nvPicPr>
        <p:blipFill>
          <a:blip r:embed="rId1"/>
          <a:stretch/>
        </p:blipFill>
        <p:spPr>
          <a:xfrm>
            <a:off x="684360" y="4076640"/>
            <a:ext cx="7632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的损伤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生物大分子有氧化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1403280" y="2852640"/>
            <a:ext cx="2808360" cy="1081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细胞膜不饱和脂肪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3851280" y="4508640"/>
            <a:ext cx="2016000" cy="865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蛋白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5796000" y="2924280"/>
            <a:ext cx="1440000" cy="100944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核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4067280" y="2565360"/>
            <a:ext cx="2017440" cy="223200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活性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Line 8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Line 9"/>
          <p:cNvSpPr/>
          <p:nvPr/>
        </p:nvSpPr>
        <p:spPr>
          <a:xfrm flipV="1">
            <a:off x="7164360" y="2924280"/>
            <a:ext cx="43200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4572000" y="5300640"/>
            <a:ext cx="863640" cy="433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755640" y="4508640"/>
            <a:ext cx="1800360" cy="14414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导致细胞肿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12"/>
          <p:cNvSpPr/>
          <p:nvPr/>
        </p:nvSpPr>
        <p:spPr>
          <a:xfrm>
            <a:off x="5435640" y="566100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机体免疫力下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7524720" y="1197000"/>
            <a:ext cx="1368360" cy="2448000"/>
          </a:xfrm>
          <a:prstGeom prst="triangle">
            <a:avLst>
              <a:gd name="adj" fmla="val 48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诱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肿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粥样硬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机体有清除活性氧的能力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氧化物歧化酶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O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788" name="Line 5"/>
          <p:cNvSpPr/>
          <p:nvPr/>
        </p:nvSpPr>
        <p:spPr>
          <a:xfrm>
            <a:off x="4284720" y="3645000"/>
            <a:ext cx="24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2700360" y="4724280"/>
            <a:ext cx="367200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Picture 7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20163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过氧化氢酶和过氧化物酶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6624720" cy="137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9128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761080" cy="93528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6"/>
          <p:cNvSpPr/>
          <p:nvPr/>
        </p:nvSpPr>
        <p:spPr>
          <a:xfrm>
            <a:off x="250920" y="3284640"/>
            <a:ext cx="8893080" cy="936360"/>
          </a:xfrm>
          <a:prstGeom prst="flowChartTerminator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氧化物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能催化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解生成水，并放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氧原子直接氧化酚类和胺类等有毒物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9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谷胱甘肽过氧化物酶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利用还原型谷胱甘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GS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使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或其他过氧化物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OO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还原，对组织细胞具有保护作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54064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呼吸链有哪些组成成分？它们在体内的传递电子的顺序有几种？相同的传递顺序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叙述氧化磷酸化概念、偶联部位及影响因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会根据脱氢酶的辅酶判断，脱下的氢会进入哪条呼吸链并会计算产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1" name="Picture 3" descr="MC900434471[1]"/>
          <p:cNvPicPr/>
          <p:nvPr/>
        </p:nvPicPr>
        <p:blipFill>
          <a:blip r:embed="rId1"/>
          <a:stretch/>
        </p:blipFill>
        <p:spPr>
          <a:xfrm>
            <a:off x="4859280" y="285264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MC900428903[1]"/>
          <p:cNvPicPr/>
          <p:nvPr/>
        </p:nvPicPr>
        <p:blipFill>
          <a:blip r:embed="rId2"/>
          <a:stretch/>
        </p:blipFill>
        <p:spPr>
          <a:xfrm>
            <a:off x="611280" y="765000"/>
            <a:ext cx="435600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、生物氧化反应的类型有脱电子、脱氢、加氧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脱电子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分子上脱去一个电子，从而使其原子或离子的正价增加而被氧化，脱去的电子由受电子体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接受而被还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8893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反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分子中脱去一对氢，由受氢体接受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一对氢原子是由一对质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 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和一对电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组成，故脱氢反应也包括脱电子反应。脱氢反应的另一种类型是“加水脱氢”。作用物先与水结合，然后脱去两个氢原子，结果是作用物分子上加了一个氧原子。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750000011175871"/>
                                  </p:iterate>
                                  <p:childTnLst>
                                    <p:set>
                                      <p:cBhvr>
                                        <p:cTn id="175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加氧反应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用物分子中直接加入氧原子或氧分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64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9:01:40Z</dcterms:created>
  <dc:creator>user</dc:creator>
  <dc:description/>
  <dc:language>en-US</dc:language>
  <cp:lastModifiedBy>ZhangLL</cp:lastModifiedBy>
  <dcterms:modified xsi:type="dcterms:W3CDTF">2014-12-04T06:27:25Z</dcterms:modified>
  <cp:revision>168</cp:revision>
  <dc:subject/>
  <dc:title>第六章  生物氧化</dc:title>
</cp:coreProperties>
</file>