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20.gif" ContentType="image/gif"/>
  <Override PartName="/ppt/media/image19.gif" ContentType="image/gif"/>
  <Override PartName="/ppt/media/image18.png" ContentType="image/png"/>
  <Override PartName="/ppt/media/image17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20B3-A744-4586-9834-012B9472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143B-AA77-400D-B34E-8B7CA2F6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EFD1-585E-42AA-B8AE-851862FB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5513-87F8-4D59-9A67-04621FA1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3B4A-61C5-4ED7-A92A-DB3A2269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08FF-F0EF-450D-A70B-EE00A151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8A84-B6E6-413B-96CA-1ED4C507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9CEB-9F11-4F36-8EE2-BF52DB67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1FF7-CAEE-4061-88EE-B131602A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6035-6FE1-48A8-9ADB-D4E13306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F652-EB6C-4DBC-B797-7E339D6C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8CA1-1703-42F2-8221-956B7809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E978-2F22-4E39-A365-74FF4039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5F57-A986-4225-BB29-6B8C4A7C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5CCD-9BC7-45E6-90F9-5ABA5786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352E-CECF-4329-BE84-80C0D9B3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11A8-C22D-4F37-8119-F617B9CE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41E1A-620F-4779-92F1-047FFB6C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1A960-F357-4B98-A21D-FC0F206F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F2BB2-6F8F-4385-9222-B8B9A868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443D6-9943-407B-B650-9CB5EDF2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256DB-C2D9-4390-98B1-96F10897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3018-6CB5-48CF-97EC-0A48B343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84800-A455-45E0-8449-7311F3B7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3417C-B2DF-45E3-83BC-18F01780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B51BA-8A36-47E5-82CE-4F00753B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0B967-2021-4687-9BF7-D6858492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C49F5-F675-4B3F-8522-98E36237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DF744-20CD-47CE-B0FD-BA1A4877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5A356-E317-4078-B588-B8951AE5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19FE33-D4C3-46D4-89DB-193665D5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97998F-0453-4FEC-81F9-C108E394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B962BF-286B-4326-A3C0-E8FD4588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4D5B-7B50-4A94-8779-DEBDF21F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F1F39F-C894-4D20-ADE6-E36E7FF6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341596-98BA-46C2-AF40-002BFAE0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4A7000-C0D9-42FF-A5BB-C8FE61F6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F40C07-51C1-4C0C-8552-E6329099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E095CF-22FD-420D-9119-74C0E264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672473-0563-4497-A97C-68F88AA5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14E982-39C3-4E3C-B515-13739466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230956-3C54-4D8C-877F-E2019868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362052-1B62-4D86-963F-5159EA67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A8399-AC19-4E7F-9205-20677F17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29FE-3612-4EFD-83C1-AF0F8D0A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9CE03-52E3-4729-8DC3-67F4C522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6CF7B-D1C6-4E94-80CF-9428042C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9B6BF-A5EA-419E-86A5-0101D77D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1CB3E-804F-417A-8DE4-3BD3C5F5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990B9-A267-4B9D-B8C3-27CE47F9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B50B3-A02B-4398-9FDC-9E7124EC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E2081-C112-4894-983F-220A8894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FE06D-3031-4825-90AA-21E1D1D3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4792D-8F89-402D-8C2B-52FED6EE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00C8E-04D0-4F70-A38D-5305035C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8612-7C45-4E0E-8658-BDBE0926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CE067-4134-4676-92B4-A2FE2BB6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895FF-50BB-4C9B-AE7E-9379BD55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471FD-87F2-402B-B640-A3E2EBA9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384F6-4253-4D5F-A0D4-328AE9C6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F834F-AFBA-4083-ACA4-1CD2F371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92A68-46B9-42ED-9D16-1047BBB5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300F7-136A-445B-A15F-C460B29A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B01F8-948A-4F11-A313-833ECAD9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4185C-B971-4C40-83A7-F41A5255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90C7C-0B56-4A4B-9812-D1CD92D6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6546-2C4E-4CDE-B2A3-3CDF928D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637C8-C8D8-4450-B996-CEEFBE04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41CCF-FA8A-4BA3-88D1-E9E21095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A7FE4-AF45-4504-9B03-6B35D9CC3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9F3350-4B51-453A-97F2-AAA15AF9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97DD72-0E54-496E-A92B-6201C527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1F0925-30A7-4D46-8EB0-ACDC3765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1D90D6-CE9A-48CD-9B59-1CC5C3F7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EA098F-3186-49DA-814C-016FDAF8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6ABFD2-D7DC-44ED-890E-6433F44F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944ABE-6AFD-4136-898B-19F30A07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450D-E9A1-419A-9822-3E1C9FE0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9C74D5-DEBD-431D-976C-16C774D1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22CD83-53DA-41B3-A208-C76D40FC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12D334-E66A-418A-8A37-631B57CD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A95BB5-4C67-404A-9AE0-27EE35CA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4DA74E-1EB0-4B0E-B2BB-5F2E21C1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07D1-9973-40D7-A7A4-F3449527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0055-0099-46A7-8049-8C347E03F2D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C48B-732C-4BB0-B47E-3E09D47668C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F4A7-27A8-42C4-BEED-A5C2962D914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29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D001-4721-4DE6-A184-8DCE787988E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3EA8-D94C-4D8E-886A-8E59AF2DFDB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86AE-B8D4-44E1-A300-358961C8E9C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9019-7AA0-44FF-80D1-C002C221AFA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1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未标题-1"/>
          <p:cNvPicPr/>
          <p:nvPr/>
        </p:nvPicPr>
        <p:blipFill>
          <a:blip r:embed="rId1"/>
          <a:stretch/>
        </p:blipFill>
        <p:spPr>
          <a:xfrm>
            <a:off x="387360" y="3141720"/>
            <a:ext cx="2550960" cy="3279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42000" y="1549440"/>
            <a:ext cx="8542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骨骼与钙磷代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one and Calcium-phosphoru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062000" y="1284120"/>
            <a:ext cx="7254720" cy="2226960"/>
            <a:chOff x="1062000" y="1284120"/>
            <a:chExt cx="7254720" cy="2226960"/>
          </a:xfrm>
        </p:grpSpPr>
        <p:sp>
          <p:nvSpPr>
            <p:cNvPr id="386" name="Text Box 3"/>
            <p:cNvSpPr/>
            <p:nvPr/>
          </p:nvSpPr>
          <p:spPr>
            <a:xfrm>
              <a:off x="1062000" y="1284120"/>
              <a:ext cx="725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O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肌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1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有利心肌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拮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3359160" y="20188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1042920" y="3573360"/>
            <a:ext cx="7238880" cy="2653560"/>
            <a:chOff x="1042920" y="3573360"/>
            <a:chExt cx="7238880" cy="2653560"/>
          </a:xfrm>
        </p:grpSpPr>
        <p:sp>
          <p:nvSpPr>
            <p:cNvPr id="389" name="Text Box 6"/>
            <p:cNvSpPr/>
            <p:nvPr/>
          </p:nvSpPr>
          <p:spPr>
            <a:xfrm>
              <a:off x="1042920" y="3573360"/>
              <a:ext cx="7238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 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肌肉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2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参与肌肉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神经肌肉的兴奋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抽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3268440" y="4294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8"/>
          <p:cNvSpPr/>
          <p:nvPr/>
        </p:nvSpPr>
        <p:spPr>
          <a:xfrm>
            <a:off x="1222200" y="620640"/>
            <a:ext cx="51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神经、肌肉的兴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755640" y="836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信使作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调节酶活性、细胞分泌、递质合成、微管聚合、有丝分裂、肌肉收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他：突触传递、血液凝固、细胞粘连、降低毛细血管和细胞膜的通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9640" y="3213000"/>
          <a:ext cx="8064720" cy="3043440"/>
        </p:xfrm>
        <a:graphic>
          <a:graphicData uri="http://schemas.openxmlformats.org/drawingml/2006/table">
            <a:tbl>
              <a:tblPr/>
              <a:tblGrid>
                <a:gridCol w="2679840"/>
                <a:gridCol w="2416320"/>
                <a:gridCol w="2968560"/>
              </a:tblGrid>
              <a:tr h="36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底物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酸化的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对转录的阻遏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中酸性蛋白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蛋白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膜蛋白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膜对水及离子的通透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微管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细胞分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原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心肌收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浆网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摄入肌浆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肌纤维舒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肾上腺素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受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受体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脱敏化及下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352"/>
          <p:cNvSpPr/>
          <p:nvPr/>
        </p:nvSpPr>
        <p:spPr>
          <a:xfrm>
            <a:off x="3453480" y="2701080"/>
            <a:ext cx="2225880" cy="368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底物蛋白的磷酸化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1526760" y="1338840"/>
            <a:ext cx="17154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540440" y="1878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572640" y="2335680"/>
            <a:ext cx="34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位：小肠上段（十二支肠和空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903040" y="2869200"/>
            <a:ext cx="14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06880" y="1878480"/>
            <a:ext cx="23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年龄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502520" y="2869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85520" y="2851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"/>
          <p:cNvGrpSpPr/>
          <p:nvPr/>
        </p:nvGrpSpPr>
        <p:grpSpPr>
          <a:xfrm>
            <a:off x="5394240" y="2869200"/>
            <a:ext cx="1371600" cy="459720"/>
            <a:chOff x="5394240" y="2869200"/>
            <a:chExt cx="1371600" cy="459720"/>
          </a:xfrm>
        </p:grpSpPr>
        <p:sp>
          <p:nvSpPr>
            <p:cNvPr id="403" name="Line 11"/>
            <p:cNvSpPr/>
            <p:nvPr/>
          </p:nvSpPr>
          <p:spPr>
            <a:xfrm>
              <a:off x="5394240" y="3098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111360" y="2869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6765840" y="286992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4789080" y="332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6012000" y="3428640"/>
            <a:ext cx="380880" cy="228960"/>
            <a:chOff x="6012000" y="3428640"/>
            <a:chExt cx="380880" cy="228960"/>
          </a:xfrm>
        </p:grpSpPr>
        <p:sp>
          <p:nvSpPr>
            <p:cNvPr id="408" name="Line 16"/>
            <p:cNvSpPr/>
            <p:nvPr/>
          </p:nvSpPr>
          <p:spPr>
            <a:xfrm>
              <a:off x="60120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6392880" y="3428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4850640" y="3737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浓度钾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9"/>
          <p:cNvGrpSpPr/>
          <p:nvPr/>
        </p:nvGrpSpPr>
        <p:grpSpPr>
          <a:xfrm>
            <a:off x="6400800" y="4088160"/>
            <a:ext cx="1371600" cy="459720"/>
            <a:chOff x="6400800" y="4088160"/>
            <a:chExt cx="1371600" cy="459720"/>
          </a:xfrm>
        </p:grpSpPr>
        <p:grpSp>
          <p:nvGrpSpPr>
            <p:cNvPr id="412" name="Group 20"/>
            <p:cNvGrpSpPr/>
            <p:nvPr/>
          </p:nvGrpSpPr>
          <p:grpSpPr>
            <a:xfrm>
              <a:off x="6400800" y="4089240"/>
              <a:ext cx="609480" cy="457200"/>
              <a:chOff x="6400800" y="4089240"/>
              <a:chExt cx="609480" cy="457200"/>
            </a:xfrm>
          </p:grpSpPr>
          <p:sp>
            <p:nvSpPr>
              <p:cNvPr id="413" name="AutoShape 21"/>
              <p:cNvSpPr/>
              <p:nvPr/>
            </p:nvSpPr>
            <p:spPr>
              <a:xfrm>
                <a:off x="6400800" y="4089240"/>
                <a:ext cx="76320" cy="457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6477120" y="43178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23"/>
            <p:cNvSpPr/>
            <p:nvPr/>
          </p:nvSpPr>
          <p:spPr>
            <a:xfrm>
              <a:off x="7102080" y="408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772400" y="41655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5"/>
          <p:cNvSpPr/>
          <p:nvPr/>
        </p:nvSpPr>
        <p:spPr>
          <a:xfrm>
            <a:off x="1540440" y="4796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981160" y="47962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消化道随粪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1425240" y="5299560"/>
            <a:ext cx="19180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1542240" y="573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86720" y="5753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与钙相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1540440" y="621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3092760" y="62107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泌尿道小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标题 1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1015920" indent="-101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钙磷的吸收与排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钙代谢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292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411280" y="54936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11280" y="2948040"/>
            <a:ext cx="4392360" cy="3306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539640" y="765000"/>
            <a:ext cx="739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钙的吸收与排泄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需要量：成人每天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00m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部位：十二指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肠上端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途径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主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被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64000" y="3724200"/>
            <a:ext cx="2737080" cy="23648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离子通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钾钠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X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合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钙吸收1"/>
          <p:cNvPicPr/>
          <p:nvPr/>
        </p:nvPicPr>
        <p:blipFill>
          <a:blip r:embed="rId1"/>
          <a:stretch/>
        </p:blipFill>
        <p:spPr>
          <a:xfrm>
            <a:off x="826920" y="1027080"/>
            <a:ext cx="7490160" cy="52815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484360" y="11268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684360" y="47628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磷的吸收与排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量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mg/kg/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部位：小肠、空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形式：酸性磷酸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68724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的排泄：肾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70%</a:t>
            </a:r>
            <a:r>
              <a:rPr b="1" lang="en-US" sz="2800" spc="-1" strike="noStrike">
                <a:solidFill>
                  <a:srgbClr val="696464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调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演示文稿1"/>
          <p:cNvPicPr/>
          <p:nvPr/>
        </p:nvPicPr>
        <p:blipFill>
          <a:blip r:embed="rId1"/>
          <a:srcRect l="0" t="0" r="0" b="15265"/>
          <a:stretch/>
        </p:blipFill>
        <p:spPr>
          <a:xfrm>
            <a:off x="216000" y="44280"/>
            <a:ext cx="8820000" cy="5621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825360" y="5615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钙与血磷代谢与调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三节  血液中钙磷含量与存在形式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grpSp>
        <p:nvGrpSpPr>
          <p:cNvPr id="437" name="Group 11"/>
          <p:cNvGrpSpPr/>
          <p:nvPr/>
        </p:nvGrpSpPr>
        <p:grpSpPr>
          <a:xfrm>
            <a:off x="539640" y="1844640"/>
            <a:ext cx="8208720" cy="2231640"/>
            <a:chOff x="539640" y="1844640"/>
            <a:chExt cx="8208720" cy="2231640"/>
          </a:xfrm>
        </p:grpSpPr>
        <p:grpSp>
          <p:nvGrpSpPr>
            <p:cNvPr id="438" name="Group 12"/>
            <p:cNvGrpSpPr/>
            <p:nvPr/>
          </p:nvGrpSpPr>
          <p:grpSpPr>
            <a:xfrm>
              <a:off x="539640" y="1844640"/>
              <a:ext cx="8208720" cy="2231640"/>
              <a:chOff x="539640" y="1844640"/>
              <a:chExt cx="8208720" cy="2231640"/>
            </a:xfrm>
          </p:grpSpPr>
          <p:sp>
            <p:nvSpPr>
              <p:cNvPr id="439" name="Text Box 13"/>
              <p:cNvSpPr/>
              <p:nvPr/>
            </p:nvSpPr>
            <p:spPr>
              <a:xfrm>
                <a:off x="2934000" y="1844640"/>
                <a:ext cx="171000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离子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4"/>
              <p:cNvSpPr/>
              <p:nvPr/>
            </p:nvSpPr>
            <p:spPr>
              <a:xfrm>
                <a:off x="7209360" y="2136960"/>
                <a:ext cx="1197000" cy="4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可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"/>
              <p:cNvSpPr/>
              <p:nvPr/>
            </p:nvSpPr>
            <p:spPr>
              <a:xfrm>
                <a:off x="539640" y="2136960"/>
                <a:ext cx="2394360" cy="79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血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25-2.75mmol/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4815000" y="2429640"/>
                <a:ext cx="2223360" cy="15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柠檬酸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7"/>
              <p:cNvSpPr/>
              <p:nvPr/>
            </p:nvSpPr>
            <p:spPr>
              <a:xfrm>
                <a:off x="7038360" y="3599280"/>
                <a:ext cx="171000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非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63000" y="1844640"/>
              <a:ext cx="4104360" cy="1963440"/>
              <a:chOff x="2763000" y="1844640"/>
              <a:chExt cx="4104360" cy="1963440"/>
            </a:xfrm>
          </p:grpSpPr>
          <p:sp>
            <p:nvSpPr>
              <p:cNvPr id="445" name="AutoShape 19"/>
              <p:cNvSpPr/>
              <p:nvPr/>
            </p:nvSpPr>
            <p:spPr>
              <a:xfrm>
                <a:off x="4644000" y="2575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>
                <a:off x="6696360" y="1844640"/>
                <a:ext cx="171000" cy="819720"/>
              </a:xfrm>
              <a:custGeom>
                <a:avLst/>
                <a:gdLst>
                  <a:gd name="textAreaLeft" fmla="*/ 0 w 171000"/>
                  <a:gd name="textAreaRight" fmla="*/ 61560 w 171000"/>
                  <a:gd name="textAreaTop" fmla="*/ 21240 h 819720"/>
                  <a:gd name="textAreaBottom" fmla="*/ 7984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1"/>
              <p:cNvSpPr/>
              <p:nvPr/>
            </p:nvSpPr>
            <p:spPr>
              <a:xfrm>
                <a:off x="2763000" y="1990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23"/>
          <p:cNvSpPr/>
          <p:nvPr/>
        </p:nvSpPr>
        <p:spPr>
          <a:xfrm>
            <a:off x="1258920" y="4581360"/>
            <a:ext cx="727380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蛋白结合钙                                             蛋白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24360" y="4365720"/>
            <a:ext cx="1492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780000" y="4869000"/>
            <a:ext cx="16794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7"/>
          <p:cNvGrpSpPr/>
          <p:nvPr/>
        </p:nvGrpSpPr>
        <p:grpSpPr>
          <a:xfrm>
            <a:off x="3348000" y="4797360"/>
            <a:ext cx="2425680" cy="71640"/>
            <a:chOff x="3348000" y="4797360"/>
            <a:chExt cx="2425680" cy="71640"/>
          </a:xfrm>
        </p:grpSpPr>
        <p:sp>
          <p:nvSpPr>
            <p:cNvPr id="452" name="Line 28"/>
            <p:cNvSpPr/>
            <p:nvPr/>
          </p:nvSpPr>
          <p:spPr>
            <a:xfrm>
              <a:off x="3348000" y="479736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3348000" y="486900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0"/>
          <p:cNvSpPr/>
          <p:nvPr/>
        </p:nvSpPr>
        <p:spPr>
          <a:xfrm>
            <a:off x="900000" y="587628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340000" y="522936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代谢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755640" y="1625760"/>
            <a:ext cx="7775640" cy="4326480"/>
            <a:chOff x="755640" y="1625760"/>
            <a:chExt cx="7775640" cy="4326480"/>
          </a:xfrm>
        </p:grpSpPr>
        <p:sp>
          <p:nvSpPr>
            <p:cNvPr id="457" name="Text Box 4"/>
            <p:cNvSpPr/>
            <p:nvPr/>
          </p:nvSpPr>
          <p:spPr>
            <a:xfrm>
              <a:off x="2987640" y="3068640"/>
              <a:ext cx="25192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血钙与血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65964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组织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659640" y="4073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55640" y="3065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826920" y="1625760"/>
              <a:ext cx="18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食物钙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356400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骨钙骨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643280" y="2205360"/>
              <a:ext cx="0" cy="86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V="1">
              <a:off x="4211640" y="21319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5506920" y="2133720"/>
              <a:ext cx="17290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5580000" y="3502080"/>
              <a:ext cx="1800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5436720" y="364500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>
              <a:off x="5580000" y="2349720"/>
              <a:ext cx="1727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1690560" y="21337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1979640" y="3284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 flipH="1">
              <a:off x="1906200" y="3500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1690560" y="364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898560" y="46530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粪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6804000" y="5370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尿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596360" y="465156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4236480" y="220536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3371040" y="227664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 rot="20154600">
              <a:off x="6085080" y="2636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 rot="20154600">
              <a:off x="5723280" y="2060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 rot="1416000">
              <a:off x="6156000" y="3476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416000">
              <a:off x="5849280" y="40528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重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1906560" y="28530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0"/>
            <p:cNvSpPr/>
            <p:nvPr/>
          </p:nvSpPr>
          <p:spPr>
            <a:xfrm>
              <a:off x="1906560" y="34768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240" y="475920"/>
            <a:ext cx="659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第四节  钙、磷代谢转变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本章内容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8" name="Text Box 6">
            <a:hlinkClick r:id="rId1" action="ppaction://hlinksldjump"/>
          </p:cNvPr>
          <p:cNvSpPr/>
          <p:nvPr/>
        </p:nvSpPr>
        <p:spPr>
          <a:xfrm>
            <a:off x="1712880" y="220572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体内钙磷含量、分布和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>
            <a:hlinkClick r:id="rId2" action="ppaction://hlinksldjump"/>
          </p:cNvPr>
          <p:cNvSpPr/>
          <p:nvPr/>
        </p:nvSpPr>
        <p:spPr>
          <a:xfrm>
            <a:off x="1692360" y="30124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钙磷的吸收与排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>
            <a:hlinkClick r:id="rId3" action="ppaction://hlinksldjump"/>
          </p:cNvPr>
          <p:cNvSpPr/>
          <p:nvPr/>
        </p:nvSpPr>
        <p:spPr>
          <a:xfrm>
            <a:off x="1692360" y="37900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液中钙磷含量与存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>
            <a:hlinkClick r:id="rId4" action="ppaction://hlinksldjump"/>
          </p:cNvPr>
          <p:cNvSpPr/>
          <p:nvPr/>
        </p:nvSpPr>
        <p:spPr>
          <a:xfrm>
            <a:off x="1733400" y="4507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磷代谢与骨代谢关系密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>
            <a:hlinkClick r:id="rId5" action="ppaction://hlinksldjump"/>
          </p:cNvPr>
          <p:cNvSpPr/>
          <p:nvPr/>
        </p:nvSpPr>
        <p:spPr>
          <a:xfrm>
            <a:off x="1717560" y="52999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钙磷代谢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49240" y="2492280"/>
            <a:ext cx="152424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73480" y="2492280"/>
            <a:ext cx="594360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以骨盐形式沉积在骨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钙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再溶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佝偻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骨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822240" y="1268280"/>
            <a:ext cx="713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血清中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[Ca]×[P]=35-40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相对恒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37160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第五节    钙磷代谢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755640" y="1557360"/>
            <a:ext cx="78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物质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旁腺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钙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作用组织：小肠；肾；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26920" y="2708280"/>
            <a:ext cx="75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一、 维生素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的作用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来源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食物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机体自身合成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需要量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200~400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国际单位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0ug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活化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84360" y="472428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部位：肝；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关键酶：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α-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羟化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未标题-2"/>
          <p:cNvPicPr/>
          <p:nvPr/>
        </p:nvPicPr>
        <p:blipFill>
          <a:blip r:embed="rId1"/>
          <a:stretch/>
        </p:blipFill>
        <p:spPr>
          <a:xfrm>
            <a:off x="287280" y="0"/>
            <a:ext cx="810108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179280" y="1268280"/>
          <a:ext cx="86979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979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"/>
          <p:cNvSpPr/>
          <p:nvPr/>
        </p:nvSpPr>
        <p:spPr>
          <a:xfrm>
            <a:off x="1619280" y="33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钙代谢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42920" y="765000"/>
            <a:ext cx="7201080" cy="3527280"/>
            <a:chOff x="1042920" y="765000"/>
            <a:chExt cx="7201080" cy="3527280"/>
          </a:xfrm>
        </p:grpSpPr>
        <p:sp>
          <p:nvSpPr>
            <p:cNvPr id="499" name="Rectangle 3"/>
            <p:cNvSpPr/>
            <p:nvPr/>
          </p:nvSpPr>
          <p:spPr>
            <a:xfrm>
              <a:off x="1081080" y="765000"/>
              <a:ext cx="3352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,25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本身负反馈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4433760" y="765000"/>
              <a:ext cx="381024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r>
                <a:rPr b="1" lang="zh-CN" sz="2400" spc="-1" strike="noStrike">
                  <a:solidFill>
                    <a:srgbClr val="000000"/>
                  </a:solidFill>
                  <a:latin typeface="Perpetua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96a9a9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楷体_GB2312"/>
                  <a:ea typeface="楷体_GB2312"/>
                </a:rPr>
                <a:t>(+) 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42920" y="1884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1042920" y="30747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1042920" y="3630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8"/>
          <p:cNvSpPr/>
          <p:nvPr/>
        </p:nvSpPr>
        <p:spPr>
          <a:xfrm>
            <a:off x="2332080" y="4194000"/>
            <a:ext cx="5408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性佝偻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α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性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未标题-2"/>
          <p:cNvPicPr/>
          <p:nvPr/>
        </p:nvPicPr>
        <p:blipFill>
          <a:blip r:embed="rId1"/>
          <a:stretch/>
        </p:blipFill>
        <p:spPr>
          <a:xfrm>
            <a:off x="1258920" y="0"/>
            <a:ext cx="60386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图片2"/>
          <p:cNvPicPr/>
          <p:nvPr/>
        </p:nvPicPr>
        <p:blipFill>
          <a:blip r:embed="rId1"/>
          <a:stretch/>
        </p:blipFill>
        <p:spPr>
          <a:xfrm>
            <a:off x="0" y="50760"/>
            <a:ext cx="5076720" cy="388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图片1"/>
          <p:cNvPicPr/>
          <p:nvPr/>
        </p:nvPicPr>
        <p:blipFill>
          <a:blip r:embed="rId2"/>
          <a:stretch/>
        </p:blipFill>
        <p:spPr>
          <a:xfrm>
            <a:off x="3780000" y="3357720"/>
            <a:ext cx="5317920" cy="3449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1042920" y="260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826920" y="1176480"/>
            <a:ext cx="609840" cy="3808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403280" y="1916280"/>
            <a:ext cx="1067040" cy="30456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1748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ff"/>
                </a:solidFill>
                <a:latin typeface="Times New Roman"/>
              </a:rPr>
              <a:t>转录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276720" y="1989000"/>
            <a:ext cx="718920" cy="3762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701720" y="2565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顺式作用元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8294760" y="350028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4067280" y="3500280"/>
            <a:ext cx="380880" cy="228600"/>
          </a:xfrm>
          <a:prstGeom prst="rect">
            <a:avLst/>
          </a:prstGeom>
          <a:noFill/>
          <a:ln w="2844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822560" y="458136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47092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698400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820764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64000" y="1268280"/>
            <a:ext cx="2087640" cy="100620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小肠对钙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539640" y="1905120"/>
            <a:ext cx="274320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206880" y="1905120"/>
            <a:ext cx="542124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肠对钙、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脂溶性激素的作用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的更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溶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，溶骨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&gt;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及集合管合成钙结合蛋白，促进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钙与血磷</a:t>
            </a:r>
            <a:br>
              <a:rPr sz="2200"/>
            </a:br>
            <a:r>
              <a:rPr b="1" lang="zh-CN" sz="2200" spc="-1" strike="noStrike">
                <a:solidFill>
                  <a:srgbClr val="cc3300"/>
                </a:solidFill>
                <a:latin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332000" y="189000"/>
            <a:ext cx="6406920" cy="874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-D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talk005__s026_f"/>
          <p:cNvPicPr/>
          <p:nvPr/>
        </p:nvPicPr>
        <p:blipFill>
          <a:blip r:embed="rId1"/>
          <a:stretch/>
        </p:blipFill>
        <p:spPr>
          <a:xfrm>
            <a:off x="1258920" y="1214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85800" y="547560"/>
            <a:ext cx="604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二、甲状旁腺素的调节作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．合成场所：甲状旁腺主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2289960" y="1268280"/>
            <a:ext cx="4871160" cy="3202920"/>
            <a:chOff x="2289960" y="1268280"/>
            <a:chExt cx="4871160" cy="3202920"/>
          </a:xfrm>
        </p:grpSpPr>
        <p:sp>
          <p:nvSpPr>
            <p:cNvPr id="527" name="Text Box 3"/>
            <p:cNvSpPr/>
            <p:nvPr/>
          </p:nvSpPr>
          <p:spPr>
            <a:xfrm>
              <a:off x="2628000" y="1268280"/>
              <a:ext cx="279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甲状旁腺素原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2512800" y="2639880"/>
              <a:ext cx="2643480" cy="459720"/>
            </a:xfrm>
            <a:prstGeom prst="rect">
              <a:avLst/>
            </a:prstGeom>
            <a:noFill/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原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2603520" y="4011480"/>
              <a:ext cx="2460600" cy="459720"/>
            </a:xfrm>
            <a:prstGeom prst="rect">
              <a:avLst/>
            </a:prstGeom>
            <a:noFill/>
            <a:ln w="9360">
              <a:solidFill>
                <a:srgbClr val="96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>
              <a:off x="3808440" y="187776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2289960" y="1954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粗面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>
              <a:off x="3808440" y="3249360"/>
              <a:ext cx="304920" cy="663840"/>
            </a:xfrm>
            <a:prstGeom prst="downArrow">
              <a:avLst>
                <a:gd name="adj1" fmla="val 50000"/>
                <a:gd name="adj2" fmla="val 54427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532960" y="332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0"/>
            <p:cNvSpPr/>
            <p:nvPr/>
          </p:nvSpPr>
          <p:spPr>
            <a:xfrm rot="17403000">
              <a:off x="4185000" y="1881720"/>
              <a:ext cx="314640" cy="763560"/>
            </a:xfrm>
            <a:custGeom>
              <a:avLst/>
              <a:gdLst>
                <a:gd name="textAreaLeft" fmla="*/ 42120 w 314640"/>
                <a:gd name="textAreaRight" fmla="*/ 272520 w 314640"/>
                <a:gd name="textAreaTop" fmla="*/ 133560 h 763560"/>
                <a:gd name="textAreaBottom" fmla="*/ 55368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4932360" y="1877760"/>
              <a:ext cx="222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末端信号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971640" y="547560"/>
            <a:ext cx="41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．合成过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903240" y="4557600"/>
            <a:ext cx="74138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分泌的调节：   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血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PTH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成反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(-)PTH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（通过血钙）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降钙素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(+)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884160" y="54936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节  钙磷的含量、分布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75120" y="33566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钙磷的含量及分布和在血浆在存在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3938760"/>
          <a:ext cx="8893080" cy="2514600"/>
        </p:xfrm>
        <a:graphic>
          <a:graphicData uri="http://schemas.openxmlformats.org/drawingml/2006/table">
            <a:tbl>
              <a:tblPr/>
              <a:tblGrid>
                <a:gridCol w="851040"/>
                <a:gridCol w="946080"/>
                <a:gridCol w="879480"/>
                <a:gridCol w="927000"/>
                <a:gridCol w="1122480"/>
                <a:gridCol w="923760"/>
                <a:gridCol w="1047960"/>
                <a:gridCol w="925200"/>
                <a:gridCol w="12700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机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浆中的存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骨和齿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软组织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外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游离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合物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~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~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23"/>
          <p:cNvSpPr/>
          <p:nvPr/>
        </p:nvSpPr>
        <p:spPr>
          <a:xfrm>
            <a:off x="1455120" y="1675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分布与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4"/>
          <p:cNvSpPr/>
          <p:nvPr/>
        </p:nvSpPr>
        <p:spPr>
          <a:xfrm>
            <a:off x="2579400" y="2178720"/>
            <a:ext cx="30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和磷是体内含量最高的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5"/>
          <p:cNvSpPr/>
          <p:nvPr/>
        </p:nvSpPr>
        <p:spPr>
          <a:xfrm>
            <a:off x="2885040" y="2635920"/>
            <a:ext cx="39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磷主要以骨盐的形式分布于骨胳、牙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PTH1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900000" y="476280"/>
            <a:ext cx="539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484280"/>
            <a:ext cx="297180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657600" y="1484280"/>
            <a:ext cx="473076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对钙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1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溶解（溶骨作用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-(OH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D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82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；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755640" y="692280"/>
          <a:ext cx="745344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5344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55640" y="40464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三、降钙素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lcitomin,CT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）的作用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细胞：甲状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细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化学本质：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的调节：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3386160"/>
            <a:ext cx="297180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83080" y="3386160"/>
            <a:ext cx="495288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沉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曲小管对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钙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血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71640" y="2708280"/>
            <a:ext cx="640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b19-2"/>
          <p:cNvPicPr/>
          <p:nvPr/>
        </p:nvPicPr>
        <p:blipFill>
          <a:blip r:embed="rId1"/>
          <a:stretch/>
        </p:blipFill>
        <p:spPr>
          <a:xfrm>
            <a:off x="684360" y="2060640"/>
            <a:ext cx="7557840" cy="2273400"/>
          </a:xfrm>
          <a:prstGeom prst="rect">
            <a:avLst/>
          </a:prstGeom>
          <a:ln w="0">
            <a:noFill/>
          </a:ln>
        </p:spPr>
      </p:pic>
      <p:sp>
        <p:nvSpPr>
          <p:cNvPr id="550" name="Oval 3"/>
          <p:cNvSpPr/>
          <p:nvPr/>
        </p:nvSpPr>
        <p:spPr>
          <a:xfrm>
            <a:off x="2131920" y="3048120"/>
            <a:ext cx="457200" cy="30456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3503520" y="3657600"/>
            <a:ext cx="228600" cy="22860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799160" y="3352680"/>
            <a:ext cx="1447560" cy="30492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6323040" y="3048120"/>
            <a:ext cx="1066680" cy="91440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801720" y="2082960"/>
          <a:ext cx="765792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082960"/>
                    <a:ext cx="765792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Rectangle 4"/>
          <p:cNvGrpSpPr/>
          <p:nvPr/>
        </p:nvGrpSpPr>
        <p:grpSpPr>
          <a:xfrm>
            <a:off x="1695600" y="401760"/>
            <a:ext cx="5685840" cy="652320"/>
            <a:chOff x="1695600" y="401760"/>
            <a:chExt cx="5685840" cy="652320"/>
          </a:xfrm>
        </p:grpSpPr>
        <p:pic>
          <p:nvPicPr>
            <p:cNvPr id="558" name="Rectangle 4" descr=""/>
            <p:cNvPicPr/>
            <p:nvPr/>
          </p:nvPicPr>
          <p:blipFill>
            <a:blip r:embed="rId3"/>
            <a:stretch/>
          </p:blipFill>
          <p:spPr>
            <a:xfrm>
              <a:off x="1698480" y="401760"/>
              <a:ext cx="56829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695600" y="404640"/>
              <a:ext cx="56847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钙代谢调节激素的协同作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5" descr="Pi_133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5950080"/>
            <a:ext cx="133344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556000" y="40464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代谢紊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55640" y="1530360"/>
            <a:ext cx="7632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生理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需要量：成人每天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青春期儿童每天需钙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孕妇及乳母需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g/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的需要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mg/k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膳食中钙∶磷比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最宜于钙、磷的吸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84360" y="33336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低血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4360" y="1341360"/>
            <a:ext cx="7920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蛋白质含量减少，可使蛋白结合钙减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功能减退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371628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除精神症状外，常发生手足搐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佝偻病与软骨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55640" y="1413000"/>
            <a:ext cx="82090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202392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佝偻病发生于生长发育中的儿童；软骨病则多发生于成年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3186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高血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72420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甲状旁腺功能亢进及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8360" y="4265640"/>
            <a:ext cx="806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经肌肉兴奋性减弱，嗜睡，肌张力减弱等，严重时有精神障碍，出现幻觉，甚至昏迷。高血钙还可引起钙盐的异位沉着，如形成尿路结石等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26920" y="40464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五、泌尿系统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71640" y="1339920"/>
            <a:ext cx="74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高血钙、高尿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826920" y="1844640"/>
            <a:ext cx="741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草酸钙和磷酸钙沉积，形成肾结石和膀胱结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0800" y="29955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磷酸盐血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04800" y="3540240"/>
            <a:ext cx="7848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使用过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1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磷酸形成不溶性沉淀，从而降低血磷。代谢性酸中毒可导致磷从尿中丢失过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77880" y="4989600"/>
            <a:ext cx="778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最初症状是肌肉无力，最终可发展为佝偻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1943640"/>
            <a:ext cx="14396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31200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可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71640" y="4795200"/>
            <a:ext cx="424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钙：线粒体、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411280" y="1625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340000" y="2287080"/>
            <a:ext cx="6804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26692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340000" y="3050280"/>
            <a:ext cx="345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扩散钙：与蛋白质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340000" y="3763080"/>
            <a:ext cx="15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扩散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2266920" y="306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995640" y="3547080"/>
            <a:ext cx="158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离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95640" y="4047120"/>
            <a:ext cx="496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解离化合物：乳酸钙、柠檬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778200" y="3573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754200" y="1844640"/>
            <a:ext cx="72720" cy="3240000"/>
          </a:xfrm>
          <a:custGeom>
            <a:avLst/>
            <a:gdLst>
              <a:gd name="textAreaLeft" fmla="*/ 46440 w 72720"/>
              <a:gd name="textAreaRight" fmla="*/ 73080 w 72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556000" y="333360"/>
            <a:ext cx="410364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钙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84360" y="677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降钙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74560" y="126828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细胞：甲状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74560" y="2565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功能：降低血钙、降低血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39640" y="191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靶细胞：骨、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11280" y="364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钙磷代谢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Pi_150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16360"/>
            <a:ext cx="2602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58920" y="2205000"/>
            <a:ext cx="6767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、磷的主要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钙与血磷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激素对钙磷代谢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398400" y="371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重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972720" y="1690560"/>
            <a:ext cx="7125120" cy="1663200"/>
            <a:chOff x="972720" y="1690560"/>
            <a:chExt cx="7125120" cy="1663200"/>
          </a:xfrm>
        </p:grpSpPr>
        <p:sp>
          <p:nvSpPr>
            <p:cNvPr id="344" name="Line 4"/>
            <p:cNvSpPr/>
            <p:nvPr/>
          </p:nvSpPr>
          <p:spPr>
            <a:xfrm>
              <a:off x="973080" y="1690560"/>
              <a:ext cx="712476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972720" y="3334680"/>
              <a:ext cx="680076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911160" y="4195800"/>
            <a:ext cx="6775560" cy="1110960"/>
            <a:chOff x="911160" y="4195800"/>
            <a:chExt cx="6775560" cy="1110960"/>
          </a:xfrm>
        </p:grpSpPr>
        <p:sp>
          <p:nvSpPr>
            <p:cNvPr id="347" name="AutoShape 9"/>
            <p:cNvSpPr/>
            <p:nvPr/>
          </p:nvSpPr>
          <p:spPr>
            <a:xfrm>
              <a:off x="6718680" y="419580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"/>
            <p:cNvSpPr/>
            <p:nvPr/>
          </p:nvSpPr>
          <p:spPr>
            <a:xfrm>
              <a:off x="911160" y="428040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7041960" y="486468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1234080" y="486468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3"/>
          <p:cNvSpPr/>
          <p:nvPr/>
        </p:nvSpPr>
        <p:spPr>
          <a:xfrm>
            <a:off x="755640" y="3414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6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4.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7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760040" y="981000"/>
            <a:ext cx="500796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子钙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钙中直接发挥生理功能的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108080" y="4262400"/>
            <a:ext cx="2097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酸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碱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184560" y="4253040"/>
            <a:ext cx="468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    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抽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1643040"/>
            <a:ext cx="642924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离子钙与结合钙</a:t>
            </a:r>
            <a:r>
              <a:rPr b="1" lang="zh-CN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的动态平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C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血浆蛋白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结合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539640" y="172764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3571200"/>
            <a:ext cx="56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磷：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66920" y="1409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195640" y="1823400"/>
            <a:ext cx="6480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122560" y="148428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826920" y="2490120"/>
            <a:ext cx="475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液磷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609480" y="1628640"/>
            <a:ext cx="73080" cy="2305080"/>
          </a:xfrm>
          <a:custGeom>
            <a:avLst/>
            <a:gdLst>
              <a:gd name="textAreaLeft" fmla="*/ 46800 w 73080"/>
              <a:gd name="textAreaRight" fmla="*/ 73440 w 730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340000" y="333360"/>
            <a:ext cx="395928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磷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124000" y="292356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268360" y="422100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与磷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280" y="580320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钙与血磷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11280" y="5155560"/>
            <a:ext cx="6264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磷酸钙盐类：磷酸钙、羟磷灰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756000" y="155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磷共同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93720" y="19879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骨胳，起机体支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80480" y="252144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328920" y="252144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凝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凝血因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206240" y="2980080"/>
            <a:ext cx="6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神经、肌肉的兴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443760" y="3450240"/>
            <a:ext cx="36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（酶的调节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信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80480" y="398052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23680" y="3980520"/>
            <a:ext cx="32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磷酸基形式参与物质和能量代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76720" y="44377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核酸及细胞膜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3276720" y="48949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、维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2230200" cy="276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   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564000" y="1989000"/>
            <a:ext cx="4248000" cy="278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胶原蛋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多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柠檬酸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量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形成骨盐参与骨架组成</a:t>
            </a:r>
            <a:endParaRPr b="0" lang="en-US" sz="24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755640" y="692280"/>
            <a:ext cx="3200400" cy="446544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胶原纤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中的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995640" y="692280"/>
            <a:ext cx="4419720" cy="4465440"/>
          </a:xfrm>
          <a:prstGeom prst="rect">
            <a:avLst/>
          </a:prstGeom>
          <a:solidFill>
            <a:srgbClr val="cc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定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aH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柱状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针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结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钙、磷的储存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钙、磷的浓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度增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解度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2:22:06Z</dcterms:created>
  <dc:creator>Yuanlijie</dc:creator>
  <dc:description/>
  <dc:language>en-US</dc:language>
  <cp:lastModifiedBy>ZhangLL</cp:lastModifiedBy>
  <dcterms:modified xsi:type="dcterms:W3CDTF">2014-12-04T03:14:39Z</dcterms:modified>
  <cp:revision>19</cp:revision>
  <dc:subject/>
  <dc:title>幻灯片 1</dc:title>
</cp:coreProperties>
</file>