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82BE4-E4F2-4D39-9662-8794091CC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CC99A-5086-4426-AC72-CAAE9B30B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7EE41-F4BA-467D-94BB-EEF510BAE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82A66-C70A-4F05-8AE1-3C7772C60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BFFDE9-223B-4001-8225-73AB363697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C4696-0FE5-405C-98F4-3E14E8C26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DBC47-7581-4419-8501-3E9617EAA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37EA2-F409-41E6-AD93-E66FF182C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CFE06-A064-4E06-9707-5503568F1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9868E-492D-4CBB-A6A9-02CF9300B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6E9FF-0016-4C29-99B0-2EA6452C2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F8422-9B62-46D9-98F7-3EC127173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3ED68-F228-45DF-971E-BE8A78826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BDDAD-4001-43B9-BA33-DF612A4C5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42836-DF30-4776-9405-3CD42E382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144CF1-A183-4015-8211-B161FA713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E26FD2-EA0A-4C4F-9B27-27DEDCF913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A013D-3CD5-44C2-B0DB-DEFCB2B67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773B5-91E4-4434-90B3-69EC1B3F4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61D68-28EA-4B89-86D2-79925A67C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EF200-BBC7-4D4E-8960-3B8565CD1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FABD3-A0F1-4DAC-97A0-E374A32D1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C582B-6C83-489D-8C78-80FE50952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226BB-0272-48FA-9A70-812A3B5A36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7389-3021-4627-A9C7-D0123CACBCB4}" type="datetime3">
              <a:rPr b="0" lang="en-US" sz="1400" spc="-1" strike="noStrike">
                <a:solidFill>
                  <a:srgbClr val="000000"/>
                </a:solidFill>
                <a:latin typeface="Arial"/>
              </a:rPr>
              <a:t>July 29,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501B-2C9E-495F-B4BA-D3327F730E64}"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4D38-EC9F-4E4A-9CC5-7DD00EA85648}" type="datetime3">
              <a:rPr b="0" lang="en-US" sz="1400" spc="-1" strike="noStrike">
                <a:solidFill>
                  <a:srgbClr val="ffffff"/>
                </a:solidFill>
                <a:latin typeface="Arial"/>
              </a:rPr>
              <a:t>July 29,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1CE1-7826-4AF6-BFEB-DD1464B67301}"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31EDF-C2E7-4A1D-8386-C4D1FA8CD51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81133-83F6-4CBA-BF05-41113A9C85E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3EA4F-A453-4275-B62E-16D3931EF2A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CFB1-4E84-47B2-B1B4-9E2D8A30A12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F5B9-5B04-4BBA-BB2D-09C781886BA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786B-C100-438E-9B11-43B4359A817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6909-D3E3-4DAA-8DD3-952C5AF8EAD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4EFD-FA9D-4C26-93E9-FE4E290FF6F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5C84-0B91-4807-92E2-2CFD10D49C9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C43E-DC19-4BFA-BE0B-F8AE0953584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ECF5-B91C-4E29-95C9-3691FF6C9ED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8B1F8-E0E1-4325-BAA5-2314C75FD96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0987E-C5B6-4513-A887-C26558B9244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23B8-C63B-4809-9407-E24AF80CD99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3818C-161A-4B0A-827E-385B06C3FDE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72C5-C245-43DE-8E0F-D38E1A98900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AF74-EB29-416E-9863-8605FF5508C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56B8A-38FC-453F-9D95-561DADAE5F0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65DFA-50F1-4295-B23B-73E7A40103EA}"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41096-9C4B-4837-984C-4797E4177BA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530F-EA0B-42EB-9434-F7F80AC641F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F46E-1222-4D22-BE5A-8D5EA62B269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02DD-B60A-43A2-952A-0EB48F3571F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60EBD-EA0E-478C-BA8F-E630CE83824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0D410-6C2B-4F9D-A458-0E3F750B8B2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37AB-E41F-433C-9D38-268CB9DE2B8E}"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AF4C-FDF0-47E9-B1A9-66FDF58322F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77ED-5288-4E3A-9C75-5CDD97F9A46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52C9-922A-4EB1-937C-504E9938100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1470-6BC1-4CDF-9E1A-25BDCA854C4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B65DC-F3CA-4555-8032-1C8A09C886E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5245-4FBB-453F-9DB9-CC26F331C9F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3F74-3B85-4309-AAD0-A2C4D326C08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87B8-C75A-4715-ACBA-67D1E9E37C6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F3783-4494-41F9-BAAF-A75D00BF53A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D62C0-89A5-48A4-8888-184714C3471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63432-5A76-4AE4-A5FC-1F791EC9DDD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6510-54BB-4702-9D2E-B41B24F1650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8312-B294-42AD-B4F3-71E136417E3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4930-2176-4715-B6AE-0C3DDEDA0FF9}"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76C96-834E-4A01-AF01-1D9DF53DD89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8E431-487D-4261-9F02-63CF7104747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