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003AE-9876-4E40-A5D4-73B77309C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E7E23-2CD7-4A8B-8FA9-C95FDB933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01C54-1C9B-48A7-98D2-468F2086C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5383E-B7D5-4C0E-B392-15FD86F3B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8BEF45-F3E5-464D-9841-4EADA771BE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04E8F-86FE-4584-BE27-0F37D3DCB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1923B-9B94-45D5-B0ED-88BFA1EB1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6E582-72EE-4D1D-AA0F-A59E33B2D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F222E-B160-4F46-80F7-324E92E7A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92C6E-44C6-4D66-9F3B-483E38CBC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77D8A-191C-4979-BC7B-466954F34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11EE4-3B90-4619-AB82-6C3FAAEFB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24A14-FFA7-46ED-B783-B6928D5A3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2E00C-C69A-4A3C-A538-DCC6B1EB4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CED3B-72E0-47BF-82E2-94BB026FD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2C9B91-2451-47A0-8284-D915F29D0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1CD96A-A805-44CC-B728-F5BCBCE40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430D4-8617-4D3A-9E26-54043961C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88714-673C-48E2-B298-B18DFBBF5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808C0-6998-4455-A5C5-E6BD18483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A5302-20A4-4E74-9C71-838B62D8A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D9CEF-DA4C-4E58-9381-8B439DF49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EAE4E-241A-45F6-A765-B4134C3BA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E75B7-1F9D-4AF8-A8B1-4A3BE0371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9B9B-6C65-4A47-B1BA-4C79CE79E894}" type="datetime3">
              <a:rPr b="0" lang="en-US" sz="1400" spc="-1" strike="noStrike">
                <a:solidFill>
                  <a:srgbClr val="000000"/>
                </a:solidFill>
                <a:latin typeface="Arial"/>
              </a:rPr>
              <a:t>July 31,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2720-3CA5-42DB-9E44-E4F8BC9858BE}"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C87C-CF9F-4EC8-B8C5-4214261097A8}" type="datetime3">
              <a:rPr b="0" lang="en-US" sz="1400" spc="-1" strike="noStrike">
                <a:solidFill>
                  <a:srgbClr val="ffffff"/>
                </a:solidFill>
                <a:latin typeface="Arial"/>
              </a:rPr>
              <a:t>July 31,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43DC-C327-4724-AF9A-F577C7701228}"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617F-F614-4498-BFD9-942C30399AC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C56A5-1709-4C31-9530-8394476C578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C8C0-D1A8-4CEA-9B98-6FD4C211A1B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6F42-6AE8-4399-8CDD-DC8F04CE966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9888-9AD2-46BB-9994-DC85D0C234F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F888-1741-495E-A212-5586F121689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B023-03DA-4E87-A492-599085E577E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039B-9B1C-4AF3-A26E-1B4AC5DB618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98A4-3FD6-457B-ABB7-C96FAA357C2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DBD6-9BC9-4EEC-9B15-F09EAE8E412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E248-F0F8-492E-9D9D-A866BCC6D16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4B96E-721D-4C12-9A72-880FE22331D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D269-0707-4126-AD49-B7E8937BB87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10E8-D0CE-46E1-8EB5-7BE0C65B639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A57D5-E974-4B7B-BB36-391990E5758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AF73-F055-4ED6-8564-D9DECBCFB8F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EF3C-A57D-45FE-9B79-2DC0F2FA81A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5AF49-7BC9-46E2-8842-7A622FCF3A8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C6D7-9EA9-443F-B4AD-646D0F501ADC}"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C59F-2F40-4314-BC97-590AE1620C2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B6D4-254A-4AFA-AD8B-41CECA5339A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C1A9-E076-47E6-A901-CF1E7C58A10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1E37-0B2B-4777-AEFE-D5757A81901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C255-E163-4381-A9DA-107BF50B4AC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9759-7572-4DBB-8E05-BC4399833FE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9966-79AA-49DF-B360-7D5E21550B2A}"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9E5E-7667-4A96-A9E5-793E0BE68C4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8447-5AF6-45E8-99C2-22898D99A5F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862F-4887-47EC-A798-422FEA6AB39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040A-E9D7-4724-8AA6-D6BBDD5F25B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6540-65A4-4355-AE15-596F13DBD19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1DE9-A6B9-4967-99BD-0218609F460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73F0-AEC6-4DA3-8818-3C89BA282D5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72AA-8C88-4FF8-84EB-34BF65C86D4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D776-C35D-4EA2-A656-C17E8D710F9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536D-346F-483A-A5BE-2D755F5A264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EBD6-AC53-4303-A97A-A95C662A2E7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AAAE-9644-43B9-8E77-68D9329A528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7E73-A248-404C-9001-F4BC8A496E4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F0C1-2E52-4F3F-9E96-601DBA0B103A}"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D564-0B95-439A-886C-1F8CA5B7F78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8179-5BB6-45C9-8FD9-D5860B27D42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