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CE77B-C2C2-4231-9E19-3782DB5FC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C2C9D-C4C3-40EA-92A9-FD2B97753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23B9D-CC39-4E9F-A2B3-B8F55FC8F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37CE4-BF6F-49CA-8070-0D2A0AD1A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A4DCB-A0CC-4129-8ADB-65DFAF7ED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54317-61F8-428D-AF74-96E590C1D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5AEB4-E221-4B9C-BABF-6F3B0B427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51F84-8816-4F62-86C9-BE2588AD3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2F6EA-880A-4B04-85AB-1F6089DFB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7486A-432F-4CE6-81EE-0C017A0A6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526DC-2C42-40C9-BD1D-4F26B988E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370D4-43CF-4207-B362-A7DFDE55D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5C969-C40E-4D89-8CC4-3CDFE4430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8269E-488F-4C06-8C2B-477A74AE4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B0EC4-EA1D-4D4C-AD4A-EC7DCAC57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0C106-2604-4830-80A9-6BB3E1A79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F0AA9-DAFB-433D-9760-A1477F8F8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EFB0B-3332-4EEC-AD54-1293A0F52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6DB8E-E05F-48FE-98AB-523A57E2C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A4E94-53BC-45EC-B4A5-081825A0D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9543D-FC4C-4605-8944-95CAEBE1F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3B22B-A545-4FB6-AEC8-1916EE2A5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968A9-577E-4DE2-B999-9EE6C4A3A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EED58-D159-40D5-B2C0-6E2FE6908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76B0-D30D-46A3-A3E9-104D3E4A64DE}" type="datetime3">
              <a:rPr b="0" lang="en-US" sz="1400" spc="-1" strike="noStrike">
                <a:solidFill>
                  <a:srgbClr val="000000"/>
                </a:solidFill>
                <a:latin typeface="Arial"/>
              </a:rPr>
              <a:t>July 28,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B17E-A8D1-4915-85C3-3A4C87A1BC65}"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2230-38DE-43BD-9D22-B7FED031D311}" type="datetime3">
              <a:rPr b="0" lang="en-US" sz="1400" spc="-1" strike="noStrike">
                <a:solidFill>
                  <a:srgbClr val="ffffff"/>
                </a:solidFill>
                <a:latin typeface="Arial"/>
              </a:rPr>
              <a:t>July 28,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15DC-AC19-413F-87C6-4003B8798E7E}"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FC0B-6112-4EF0-8300-D94E75A63D3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9626-4EBA-4CC5-B981-7D0DEC08991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8514-1ED1-4AE1-869C-A0DC0E07EA6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308E-ED64-4461-9EA9-7853F359995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A6A7-595D-478C-A7F3-78AC21AFD19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3210-032F-4FC5-BF5A-8AA79403525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F7CAC-0903-4DF2-9465-45101457F09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794C-0835-48B6-AE79-C1D9CF6E511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1C30-22E9-4D0B-AA08-079F4F7FBEC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4969-AD67-42FB-BA5E-E380D0F6528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C2F22-0CCE-4EE0-B300-75E1FD22491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55CE-1C46-4F99-A3D5-D418FEE3C09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9CDF-7BF1-46B5-A9F5-D9E24935859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7650-82B5-4089-AE74-F5EA0589F4D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F51F-E312-4629-9F2E-0BFEF3C3B56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1585-0DC4-4C1E-B7AF-DD30BF00AE4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2565-D217-4357-9BF2-9493ED473D2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A54C-703A-4F89-AA16-9AABD9B1608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2454-E8B3-490F-86F5-B9F928996C45}"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DF25-528B-40FE-8194-75C655B5FA8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B9351-F8A7-43DB-A0A9-B8580CE5DCB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91A0-71DE-435A-9B1E-22807C01443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A936-4D54-4F5F-940D-AF48AE7695D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A29A-D783-45EE-B6E8-A79CB97501A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6FC6-F034-4556-A546-12EBB44DE07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2347-EC2E-4140-8FB9-DFB7B0408DE7}"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0CFA-C4F1-4F75-8009-166A1FEB8A7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3121-E070-40A8-B82A-DD7E5FF2E04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1281-3F3A-481F-8E01-5D98A8EE059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CED8B-4ADA-4EDE-A821-40BF91097FC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07B0-69D5-476B-A574-124799AC251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29A5A-00B6-4DAD-A746-8267A689A66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16631-99A7-4B2B-ABCE-D83DF7D8D1B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DD14-566C-460A-9C98-48ABF3F5D67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F25F-CE88-411F-93A7-8DE493CF881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6C82-A8D8-4F3F-8D45-6B3D5FECC1E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75A0-80AB-434B-A712-B01261A99EC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5647-5C71-41FD-8670-BA737E3977C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8AF7-1B05-4422-8A1D-BBB534BB386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C9AF-F775-4052-98AD-989AB330EE01}"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EAD6E-0A96-4CA9-BFA2-A78DB488626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A798-4079-49D4-B1EF-4BA8E930D6C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