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BF97E-2D1E-4B36-BFBA-332D4DF2F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1B6DB-E1BC-4EB5-8BBC-C22E36DD8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778D5-3E23-4570-AAD6-44AF4EAA0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13FC9-7DC7-4D75-A991-815F4CB97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8F343-06BD-40DB-BAAE-64D6D06B2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713E8-E3D6-478C-953F-22BD21437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5C23E-6EC1-4830-9276-2BC41A0C2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66BED-4D71-41C8-AD25-416082356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F8010-A6CB-425C-99A8-D26EBDB2D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322AC-3EEB-460D-8A81-761B35A19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A28A3-0677-4DB3-B5FC-D9C15899F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43BF8-0680-4D51-A7BD-0840FFCD5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25447-7C7F-4A07-963B-F0CBEEAC6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C2E32-5333-4068-8918-C04C9B4D6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89EE2-4777-438F-9AFD-B0FEC261C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979E5-5F0B-4B14-9550-D7EE09862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42C6B-705B-476A-BC34-F60554D99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57DBB-AB57-4D98-8FBC-DB4F73050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AC401-1869-47DF-A6DA-D5EEA40BD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44336-6252-47D4-B17E-F0B069D2F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F79EE-4B63-46C7-AD2E-A4AD31862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50927-B85A-4BEB-81BF-B7B9F5E3D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394F8-C0E8-4589-BCC6-00C1725E8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7CDCC-3540-4D72-B652-A85080448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D689-27ED-4050-B330-A8CB4A7FD832}" type="datetime3">
              <a:rPr b="0" lang="en-US" sz="1400" spc="-1" strike="noStrike">
                <a:solidFill>
                  <a:srgbClr val="000000"/>
                </a:solidFill>
                <a:latin typeface="Arial"/>
              </a:rPr>
              <a:t>July 31,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5AC7-CE79-4F8F-AA0E-0A981CB7F55F}"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7EC1-C762-480B-AB84-760BB8C27331}" type="datetime3">
              <a:rPr b="0" lang="en-US" sz="1400" spc="-1" strike="noStrike">
                <a:solidFill>
                  <a:srgbClr val="ffffff"/>
                </a:solidFill>
                <a:latin typeface="Arial"/>
              </a:rPr>
              <a:t>July 31,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05CC-8A3A-4A5D-8FD8-FDD4A5C9B1CB}"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C24C-8F16-471D-BCFB-A9D8AAB8B5E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0337-247E-434B-876E-331BE312D6D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886C-B192-43C5-B6A3-3DC5786B8E4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F359-F616-46B4-8C9F-3149D4CBA47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EC2C-A53D-4A33-9F32-8C6875A2774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CE1B-9C4B-4625-A31F-0712DDE7E3A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FBF7-AEFB-4944-A8E8-7ED5B54914D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91B2-C19C-406D-B9D3-48CE0C1F120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8330-EA07-4938-B8AD-EB53C3789E6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DB12-A07E-4772-BBDC-E9C6CE6517C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EF20-5771-4587-B724-ADFBF533ACE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0AC5-D554-4354-B2CC-527B0A42CDE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0E9D-2729-4683-BEC1-7248026E576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D886-A7C4-4628-9269-FB96F56E1F6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FCEC-5F73-48FF-916A-FB4326789D3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D99C-E947-4074-A1F4-E29C740BBE2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A9C7-BF97-4569-A9DD-57C2F0CE9E2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D319-AA14-407A-8E13-B1F5B5C80FD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9BB4-50EC-4616-BC09-43EA49BF4F41}"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5047-3773-4B18-8122-6AEDD619CDA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5C75-A3CC-45D8-A8DD-6927DFD93DE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70E8-6DA1-456E-80D7-21278F86CA8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6F74-EB10-40A6-949D-D55306F65CE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20EF-67EC-4C6E-83F7-BFA067783F3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5E6F-7756-4339-8FB5-18CBF02B538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3778-0276-4605-A5EE-A997710E738A}"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DC28-61F7-4837-B2A6-A93E60BD1FF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B628-12C1-40DC-BC96-1319746146E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DDF8-43B1-4FB4-9EFF-800991B1E80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285A-3389-44ED-B302-BEF036CE904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EC66-BCED-4FF7-A81C-5589F8317E6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7F56-5972-4B8A-AF8D-94BC070C064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280A-2AFA-4C15-9EB7-5BCFEDFEAC8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308E-6509-4ECB-9FC9-97E65713AB4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8CAB-941B-4C07-91FD-4A7A4F5F00B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A43E-A549-4C92-98A1-E37A702CCDB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0695-349D-40ED-ABDD-DDA42F7C570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21C4-6337-4331-80C2-E82E24CF7D9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9478-EB9B-4FEB-B6CA-F2A3241F1D6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7FDB-F31A-499E-9A02-13617DDAB3C5}"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C57D-FE12-4DF7-AAE6-5C1623E1135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67F5-20BF-47D6-ABD9-4190D3C6EAA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