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5068-EA77-468A-A7D4-448719D8B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1896-E553-4178-BD74-3F4A56E6B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6584-EF51-4850-ABE5-1BEA797AD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CB73-8EE1-48F0-A6C6-7A80FD147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9743-244B-4ED2-9A85-A620C5DC6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141F-898D-4B3D-89B4-5325B7C95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AFE6-2DC2-457E-85B1-2D13824BD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0B5B-CE97-4EA1-BD12-780103201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E5DC-699A-4D32-9F4A-C151802C9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71F2-CC33-4CA3-9E39-C25BDA117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DB35-38BD-451E-B15E-8B9015DFC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310A-DB9A-45A5-AD50-BBC411E89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4E39A-5B01-4792-81AA-A574CC3331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7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十八章</a:t>
            </a:r>
            <a:r>
              <a:rPr b="1" lang="zh-CN" sz="4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</a:t>
            </a:r>
            <a:br>
              <a:rPr sz="4800"/>
            </a:b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细胞增殖调控分子</a:t>
            </a:r>
            <a:br>
              <a:rPr sz="4800"/>
            </a:b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Regulators of Cellular Proliferation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92000" y="1773360"/>
            <a:ext cx="554508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二 节</a:t>
            </a:r>
            <a:br>
              <a:rPr sz="4800"/>
            </a:b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肿瘤抑制基因</a:t>
            </a:r>
            <a:br>
              <a:rPr sz="4800"/>
            </a:b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tumor suppressor g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684360" y="1989000"/>
            <a:ext cx="770544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肿瘤抑制基因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(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行楷"/>
              </a:rPr>
              <a:t>tumor suppressor gene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71604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华文楷体"/>
              </a:rPr>
              <a:t>抑制细胞过度生长、增殖从而遏制肿瘤形成的基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900000" y="404640"/>
            <a:ext cx="633744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肿瘤抑制基因的基本概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1187280" y="47628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细胞杂交试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"/>
          <p:cNvSpPr/>
          <p:nvPr/>
        </p:nvSpPr>
        <p:spPr>
          <a:xfrm>
            <a:off x="3429000" y="3429000"/>
            <a:ext cx="1752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4"/>
          <p:cNvGrpSpPr/>
          <p:nvPr/>
        </p:nvGrpSpPr>
        <p:grpSpPr>
          <a:xfrm>
            <a:off x="1328760" y="1833480"/>
            <a:ext cx="6077520" cy="1106280"/>
            <a:chOff x="1328760" y="1833480"/>
            <a:chExt cx="6077520" cy="1106280"/>
          </a:xfrm>
        </p:grpSpPr>
        <p:sp>
          <p:nvSpPr>
            <p:cNvPr id="63" name="Text Box 5"/>
            <p:cNvSpPr/>
            <p:nvPr/>
          </p:nvSpPr>
          <p:spPr>
            <a:xfrm>
              <a:off x="1328760" y="18856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正常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6"/>
            <p:cNvSpPr/>
            <p:nvPr/>
          </p:nvSpPr>
          <p:spPr>
            <a:xfrm>
              <a:off x="1328760" y="24192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肿瘤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7"/>
            <p:cNvSpPr/>
            <p:nvPr/>
          </p:nvSpPr>
          <p:spPr>
            <a:xfrm>
              <a:off x="2995560" y="2290320"/>
              <a:ext cx="312480" cy="22824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8"/>
            <p:cNvSpPr/>
            <p:nvPr/>
          </p:nvSpPr>
          <p:spPr>
            <a:xfrm flipV="1">
              <a:off x="2995560" y="2595240"/>
              <a:ext cx="312480" cy="151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9"/>
            <p:cNvSpPr/>
            <p:nvPr/>
          </p:nvSpPr>
          <p:spPr>
            <a:xfrm flipV="1">
              <a:off x="2995560" y="2518920"/>
              <a:ext cx="312480" cy="22824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10"/>
            <p:cNvSpPr/>
            <p:nvPr/>
          </p:nvSpPr>
          <p:spPr>
            <a:xfrm>
              <a:off x="3308040" y="2518920"/>
              <a:ext cx="1405800" cy="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11"/>
            <p:cNvSpPr/>
            <p:nvPr/>
          </p:nvSpPr>
          <p:spPr>
            <a:xfrm>
              <a:off x="5518800" y="226656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08080"/>
                  </a:solidFill>
                  <a:latin typeface="Times New Roman"/>
                  <a:ea typeface="华文楷体"/>
                </a:rPr>
                <a:t>非肿瘤型杂交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438360" y="18334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19508"/>
                  </a:solidFill>
                  <a:latin typeface="Times New Roman"/>
                  <a:ea typeface="华文楷体"/>
                </a:rPr>
                <a:t>杂交融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13"/>
          <p:cNvGrpSpPr/>
          <p:nvPr/>
        </p:nvGrpSpPr>
        <p:grpSpPr>
          <a:xfrm>
            <a:off x="1192320" y="3333600"/>
            <a:ext cx="6180480" cy="1054080"/>
            <a:chOff x="1192320" y="3333600"/>
            <a:chExt cx="6180480" cy="1054080"/>
          </a:xfrm>
        </p:grpSpPr>
        <p:sp>
          <p:nvSpPr>
            <p:cNvPr id="72" name="Text Box 14"/>
            <p:cNvSpPr/>
            <p:nvPr/>
          </p:nvSpPr>
          <p:spPr>
            <a:xfrm>
              <a:off x="1192320" y="3333600"/>
              <a:ext cx="132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肿瘤细胞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15"/>
            <p:cNvSpPr/>
            <p:nvPr/>
          </p:nvSpPr>
          <p:spPr>
            <a:xfrm>
              <a:off x="1192320" y="3867120"/>
              <a:ext cx="132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肿瘤细胞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16"/>
            <p:cNvSpPr/>
            <p:nvPr/>
          </p:nvSpPr>
          <p:spPr>
            <a:xfrm>
              <a:off x="3464280" y="33573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19508"/>
                  </a:solidFill>
                  <a:latin typeface="Times New Roman"/>
                  <a:ea typeface="华文楷体"/>
                </a:rPr>
                <a:t>杂交融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17"/>
            <p:cNvSpPr/>
            <p:nvPr/>
          </p:nvSpPr>
          <p:spPr>
            <a:xfrm>
              <a:off x="3098880" y="3510000"/>
              <a:ext cx="315360" cy="228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8"/>
            <p:cNvSpPr/>
            <p:nvPr/>
          </p:nvSpPr>
          <p:spPr>
            <a:xfrm>
              <a:off x="3019680" y="3662280"/>
              <a:ext cx="315720" cy="22860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9"/>
            <p:cNvSpPr/>
            <p:nvPr/>
          </p:nvSpPr>
          <p:spPr>
            <a:xfrm flipV="1">
              <a:off x="3019680" y="3890520"/>
              <a:ext cx="315720" cy="22860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20"/>
            <p:cNvSpPr/>
            <p:nvPr/>
          </p:nvSpPr>
          <p:spPr>
            <a:xfrm>
              <a:off x="3335760" y="3890880"/>
              <a:ext cx="1421280" cy="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21"/>
            <p:cNvSpPr/>
            <p:nvPr/>
          </p:nvSpPr>
          <p:spPr>
            <a:xfrm>
              <a:off x="5485320" y="363852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08080"/>
                  </a:solidFill>
                  <a:latin typeface="Times New Roman"/>
                  <a:ea typeface="华文楷体"/>
                </a:rPr>
                <a:t>非肿瘤型杂交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22"/>
          <p:cNvGrpSpPr/>
          <p:nvPr/>
        </p:nvGrpSpPr>
        <p:grpSpPr>
          <a:xfrm>
            <a:off x="1328400" y="4653000"/>
            <a:ext cx="5362200" cy="725400"/>
            <a:chOff x="1328400" y="4653000"/>
            <a:chExt cx="5362200" cy="725400"/>
          </a:xfrm>
        </p:grpSpPr>
        <p:sp>
          <p:nvSpPr>
            <p:cNvPr id="81" name="Text Box 23"/>
            <p:cNvSpPr/>
            <p:nvPr/>
          </p:nvSpPr>
          <p:spPr>
            <a:xfrm>
              <a:off x="1328400" y="4857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正常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24"/>
            <p:cNvSpPr/>
            <p:nvPr/>
          </p:nvSpPr>
          <p:spPr>
            <a:xfrm>
              <a:off x="3231360" y="46530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19508"/>
                  </a:solidFill>
                  <a:latin typeface="Times New Roman"/>
                  <a:ea typeface="华文楷体"/>
                </a:rPr>
                <a:t>失去某些基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25"/>
            <p:cNvSpPr/>
            <p:nvPr/>
          </p:nvSpPr>
          <p:spPr>
            <a:xfrm>
              <a:off x="5656320" y="4857840"/>
              <a:ext cx="1034280" cy="520560"/>
            </a:xfrm>
            <a:prstGeom prst="rect">
              <a:avLst/>
            </a:prstGeom>
            <a:noFill/>
            <a:ln w="93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2e3770"/>
                  </a:solidFill>
                  <a:latin typeface="Times New Roman"/>
                  <a:ea typeface="华文楷体"/>
                </a:rPr>
                <a:t>肿瘤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26"/>
            <p:cNvSpPr/>
            <p:nvPr/>
          </p:nvSpPr>
          <p:spPr>
            <a:xfrm>
              <a:off x="2883960" y="5186160"/>
              <a:ext cx="2321280" cy="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random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9"/>
          <p:cNvPicPr/>
          <p:nvPr/>
        </p:nvPicPr>
        <p:blipFill>
          <a:blip r:embed="rId1"/>
          <a:stretch/>
        </p:blipFill>
        <p:spPr>
          <a:xfrm>
            <a:off x="468360" y="1700280"/>
            <a:ext cx="7956360" cy="366696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3"/>
          <p:cNvSpPr/>
          <p:nvPr/>
        </p:nvSpPr>
        <p:spPr>
          <a:xfrm>
            <a:off x="1042920" y="404640"/>
            <a:ext cx="554508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二、常见的肿瘤抑制基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611280" y="83664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一）视网膜母细胞瘤基因（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Rb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基因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8" descr="图18-1"/>
          <p:cNvPicPr/>
          <p:nvPr/>
        </p:nvPicPr>
        <p:blipFill>
          <a:blip r:embed="rId1"/>
          <a:stretch/>
        </p:blipFill>
        <p:spPr>
          <a:xfrm>
            <a:off x="1116000" y="1844640"/>
            <a:ext cx="6578640" cy="4495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1042920" y="26028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二）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p53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蛋白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基因卫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3" descr="图18-2"/>
          <p:cNvPicPr/>
          <p:nvPr/>
        </p:nvPicPr>
        <p:blipFill>
          <a:blip r:embed="rId1"/>
          <a:srcRect l="15981" t="8741" r="0" b="0"/>
          <a:stretch/>
        </p:blipFill>
        <p:spPr>
          <a:xfrm>
            <a:off x="1116000" y="981000"/>
            <a:ext cx="6402240" cy="5735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、肿瘤抑制基因具有多种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1. 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调节染色体的稳定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2. 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调控细胞衰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3.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调节细胞分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18920" y="1773360"/>
            <a:ext cx="554508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三 节</a:t>
            </a:r>
            <a:br>
              <a:rPr sz="4800"/>
            </a:b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生长因子</a:t>
            </a:r>
            <a:br>
              <a:rPr sz="4800"/>
            </a:b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growth fa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755640" y="1700280"/>
            <a:ext cx="7488360" cy="17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华文楷体"/>
                <a:ea typeface="华文楷体"/>
              </a:rPr>
              <a:t>生长因子</a:t>
            </a:r>
            <a:r>
              <a:rPr b="1" lang="en-US" sz="3200" spc="-1" strike="noStrike">
                <a:solidFill>
                  <a:srgbClr val="990000"/>
                </a:solidFill>
                <a:latin typeface="华文楷体"/>
                <a:ea typeface="华文楷体"/>
              </a:rPr>
              <a:t>(growth factor)</a:t>
            </a:r>
            <a:r>
              <a:rPr b="1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719280"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通过质膜上特异的受体，将信息传递至细胞内部，调节细胞生长与增殖的多肽类物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1619280" y="404640"/>
            <a:ext cx="251928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一、概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974880" y="5904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1258920" y="1052640"/>
            <a:ext cx="5904000" cy="40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华文楷体"/>
                <a:ea typeface="华文楷体"/>
              </a:rPr>
              <a:t>作用模式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82520">
              <a:lnSpc>
                <a:spcPct val="1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内分泌</a:t>
            </a:r>
            <a:r>
              <a:rPr b="0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 </a:t>
            </a:r>
            <a:r>
              <a:rPr b="1" lang="en-US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(endocrin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82520">
              <a:lnSpc>
                <a:spcPct val="1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旁分泌</a:t>
            </a:r>
            <a:r>
              <a:rPr b="0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 </a:t>
            </a:r>
            <a:r>
              <a:rPr b="1" lang="en-US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(paracrin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82520">
              <a:lnSpc>
                <a:spcPct val="1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自分泌</a:t>
            </a:r>
            <a:r>
              <a:rPr b="0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 </a:t>
            </a:r>
            <a:r>
              <a:rPr b="1" lang="en-US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(autocrin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11280" y="1915920"/>
            <a:ext cx="417672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一  节  </a:t>
            </a:r>
            <a:br>
              <a:rPr sz="4800"/>
            </a:b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癌   基   因</a:t>
            </a:r>
            <a:br>
              <a:rPr sz="4000"/>
            </a:b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Oncogen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8"/>
          <p:cNvPicPr/>
          <p:nvPr/>
        </p:nvPicPr>
        <p:blipFill>
          <a:blip r:embed="rId1"/>
          <a:srcRect l="31991" t="0" r="0" b="0"/>
          <a:stretch/>
        </p:blipFill>
        <p:spPr>
          <a:xfrm>
            <a:off x="2843280" y="1557360"/>
            <a:ext cx="6048360" cy="40100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8"/>
          <p:cNvPicPr/>
          <p:nvPr/>
        </p:nvPicPr>
        <p:blipFill>
          <a:blip r:embed="rId2"/>
          <a:srcRect l="0" t="0" r="71272" b="0"/>
          <a:stretch/>
        </p:blipFill>
        <p:spPr>
          <a:xfrm>
            <a:off x="287280" y="1557360"/>
            <a:ext cx="2556000" cy="4010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3492360" y="2565360"/>
            <a:ext cx="265932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产生相应第二信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539640" y="3716280"/>
            <a:ext cx="2179800" cy="82548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胞内相关蛋白质被磷酸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919880" y="1484280"/>
            <a:ext cx="127800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与</a:t>
            </a:r>
            <a:r>
              <a:rPr b="1" lang="zh-CN" sz="2400" spc="-1" strike="noStrike">
                <a:solidFill>
                  <a:srgbClr val="cc3300"/>
                </a:solidFill>
                <a:latin typeface="华文楷体"/>
                <a:ea typeface="华文楷体"/>
              </a:rPr>
              <a:t>膜受体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结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468360" y="2565360"/>
            <a:ext cx="232740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酪氨酸激酶活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4294800" y="4005360"/>
            <a:ext cx="135720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蛋白激酶活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539640" y="5373720"/>
            <a:ext cx="275436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核内转录因子活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4427640" y="5373720"/>
            <a:ext cx="1515960" cy="4597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Times New Roman"/>
                <a:ea typeface="华文楷体"/>
              </a:rPr>
              <a:t>基因转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6805440" y="1484280"/>
            <a:ext cx="146088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与</a:t>
            </a:r>
            <a:r>
              <a:rPr b="1" lang="zh-CN" sz="2400" spc="-1" strike="noStrike">
                <a:solidFill>
                  <a:srgbClr val="c104e0"/>
                </a:solidFill>
                <a:latin typeface="Times New Roman"/>
                <a:ea typeface="华文楷体"/>
              </a:rPr>
              <a:t>胞内受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结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0"/>
          <p:cNvSpPr/>
          <p:nvPr/>
        </p:nvSpPr>
        <p:spPr>
          <a:xfrm flipH="1">
            <a:off x="1332000" y="1989000"/>
            <a:ext cx="380880" cy="5032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1"/>
          <p:cNvSpPr/>
          <p:nvPr/>
        </p:nvSpPr>
        <p:spPr>
          <a:xfrm>
            <a:off x="3348000" y="1989000"/>
            <a:ext cx="1371600" cy="45720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2"/>
          <p:cNvSpPr/>
          <p:nvPr/>
        </p:nvSpPr>
        <p:spPr>
          <a:xfrm>
            <a:off x="1332000" y="3121200"/>
            <a:ext cx="0" cy="6094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3"/>
          <p:cNvSpPr/>
          <p:nvPr/>
        </p:nvSpPr>
        <p:spPr>
          <a:xfrm>
            <a:off x="1332000" y="4653000"/>
            <a:ext cx="0" cy="60156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4"/>
          <p:cNvSpPr/>
          <p:nvPr/>
        </p:nvSpPr>
        <p:spPr>
          <a:xfrm>
            <a:off x="4859280" y="3213000"/>
            <a:ext cx="0" cy="68580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5"/>
          <p:cNvSpPr/>
          <p:nvPr/>
        </p:nvSpPr>
        <p:spPr>
          <a:xfrm flipH="1">
            <a:off x="2843280" y="4221000"/>
            <a:ext cx="914400" cy="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6"/>
          <p:cNvSpPr/>
          <p:nvPr/>
        </p:nvSpPr>
        <p:spPr>
          <a:xfrm>
            <a:off x="3429000" y="5638680"/>
            <a:ext cx="762120" cy="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6588000" y="2565360"/>
            <a:ext cx="216072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华文楷体"/>
                <a:ea typeface="华文楷体"/>
              </a:rPr>
              <a:t>生长因子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  <a:ea typeface="华文楷体"/>
              </a:rPr>
              <a:t>–</a:t>
            </a:r>
            <a:r>
              <a:rPr b="1" lang="en-US" sz="2400" spc="-1" strike="noStrike">
                <a:solidFill>
                  <a:srgbClr val="808080"/>
                </a:solidFill>
                <a:latin typeface="华文楷体"/>
                <a:ea typeface="华文楷体"/>
              </a:rPr>
              <a:t> </a:t>
            </a:r>
            <a:r>
              <a:rPr b="1" lang="zh-CN" sz="2400" spc="-1" strike="noStrike">
                <a:solidFill>
                  <a:srgbClr val="808080"/>
                </a:solidFill>
                <a:latin typeface="华文楷体"/>
                <a:ea typeface="华文楷体"/>
              </a:rPr>
              <a:t>受体复合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7667640" y="1989000"/>
            <a:ext cx="0" cy="5032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7667640" y="4869000"/>
            <a:ext cx="0" cy="761760"/>
          </a:xfrm>
          <a:prstGeom prst="line">
            <a:avLst/>
          </a:prstGeom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0"/>
          <p:cNvSpPr/>
          <p:nvPr/>
        </p:nvSpPr>
        <p:spPr>
          <a:xfrm flipH="1" flipV="1">
            <a:off x="6156360" y="5587560"/>
            <a:ext cx="1495440" cy="190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1"/>
          <p:cNvSpPr/>
          <p:nvPr/>
        </p:nvSpPr>
        <p:spPr>
          <a:xfrm>
            <a:off x="1403280" y="404640"/>
            <a:ext cx="612144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二、生长因子作用机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2"/>
          <p:cNvSpPr/>
          <p:nvPr/>
        </p:nvSpPr>
        <p:spPr>
          <a:xfrm>
            <a:off x="6588000" y="4149720"/>
            <a:ext cx="216072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华文楷体"/>
                <a:ea typeface="华文楷体"/>
              </a:rPr>
              <a:t>活化相关基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3"/>
          <p:cNvSpPr/>
          <p:nvPr/>
        </p:nvSpPr>
        <p:spPr>
          <a:xfrm>
            <a:off x="7667640" y="3500280"/>
            <a:ext cx="0" cy="5032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8"/>
          <p:cNvSpPr/>
          <p:nvPr/>
        </p:nvSpPr>
        <p:spPr>
          <a:xfrm>
            <a:off x="1979640" y="6453360"/>
            <a:ext cx="2448000" cy="40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0" descr="图18-3"/>
          <p:cNvPicPr/>
          <p:nvPr/>
        </p:nvPicPr>
        <p:blipFill>
          <a:blip r:embed="rId1"/>
          <a:stretch/>
        </p:blipFill>
        <p:spPr>
          <a:xfrm>
            <a:off x="539640" y="399960"/>
            <a:ext cx="7707600" cy="5789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6"/>
          <p:cNvPicPr/>
          <p:nvPr/>
        </p:nvPicPr>
        <p:blipFill>
          <a:blip r:embed="rId1"/>
          <a:stretch/>
        </p:blipFill>
        <p:spPr>
          <a:xfrm>
            <a:off x="1619280" y="692280"/>
            <a:ext cx="5832360" cy="5813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18920" y="1773360"/>
            <a:ext cx="554508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四 节</a:t>
            </a:r>
            <a:br>
              <a:rPr sz="4800"/>
            </a:b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细胞周期相关蛋白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一、细胞周期蛋白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cyclin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细胞周期蛋白是一类伴随细胞周期的不同阶段表达、累积和降解的蛋白质因子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图18-4"/>
          <p:cNvPicPr/>
          <p:nvPr/>
        </p:nvPicPr>
        <p:blipFill>
          <a:blip r:embed="rId1"/>
          <a:srcRect l="0" t="0" r="11526" b="21512"/>
          <a:stretch/>
        </p:blipFill>
        <p:spPr>
          <a:xfrm>
            <a:off x="2700360" y="2852640"/>
            <a:ext cx="330192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、周期蛋白依赖性蛋白激酶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yclin-dependent protein kinas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DK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周期蛋白依赖性蛋白激酶是一类丝氨酸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/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苏氨酸蛋白激酶，在细胞周期的调节中起关键作用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1258920" y="1125360"/>
          <a:ext cx="6626160" cy="4757760"/>
        </p:xfrm>
        <a:graphic>
          <a:graphicData uri="http://schemas.openxmlformats.org/drawingml/2006/table">
            <a:tbl>
              <a:tblPr/>
              <a:tblGrid>
                <a:gridCol w="901800"/>
                <a:gridCol w="907920"/>
                <a:gridCol w="2708280"/>
                <a:gridCol w="2108160"/>
              </a:tblGrid>
              <a:tr h="31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种属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与之结合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作用的细胞周期或功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裂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酵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C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G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G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C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出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酵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C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n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n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n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3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4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5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3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616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哺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动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E1, E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4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5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D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D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uronal differenti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8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-activating kin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nscription regul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三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DK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抑制蛋白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hibotor of CDK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KI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K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抑制蛋白是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K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的负调节因子，与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yclin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竞争性结合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K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，拮抗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yclin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的作用，阻止细胞经过“检测点”（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heckpoint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，调节细胞周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4"/>
          <p:cNvSpPr/>
          <p:nvPr/>
        </p:nvSpPr>
        <p:spPr>
          <a:xfrm>
            <a:off x="2776320" y="1135440"/>
            <a:ext cx="318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华文楷体"/>
                <a:ea typeface="华文楷体"/>
              </a:rPr>
              <a:t>Cyclin-CDK-CKI</a:t>
            </a:r>
            <a:r>
              <a:rPr b="1" lang="zh-CN" sz="2000" spc="-1" strike="noStrike">
                <a:solidFill>
                  <a:srgbClr val="ff0000"/>
                </a:solidFill>
                <a:latin typeface="华文楷体"/>
                <a:ea typeface="华文楷体"/>
              </a:rPr>
              <a:t>的相互作用关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042920" y="2060640"/>
          <a:ext cx="6985080" cy="2952720"/>
        </p:xfrm>
        <a:graphic>
          <a:graphicData uri="http://schemas.openxmlformats.org/drawingml/2006/table">
            <a:tbl>
              <a:tblPr/>
              <a:tblGrid>
                <a:gridCol w="1111320"/>
                <a:gridCol w="1746360"/>
                <a:gridCol w="1406520"/>
                <a:gridCol w="2720880"/>
              </a:tblGrid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ylc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相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细胞周期作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相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K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8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B(B1,B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D(D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～</a:t>
                      </a: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C2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4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6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S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2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2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0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1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1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,S,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,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2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27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2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15, p16, p21, p27, p18, p19, p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2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826920" y="1844640"/>
            <a:ext cx="749016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癌基因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(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行楷"/>
              </a:rPr>
              <a:t>oncoge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7192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华文楷体"/>
                <a:ea typeface="华文楷体"/>
              </a:rPr>
              <a:t>细胞内控制细胞生长和分化的基因，它的结构异常或表达异常，可以引起细胞癌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18920" y="1773360"/>
            <a:ext cx="554508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五 节</a:t>
            </a:r>
            <a:br>
              <a:rPr sz="4400"/>
            </a:br>
            <a:r>
              <a:rPr b="1" lang="zh-CN" sz="44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细胞增殖异常与疾病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、增殖异常是肿瘤发生的重要细胞学基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1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．细胞周期监控机制受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1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G1/S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交界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2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G2/M 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交界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2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．细胞周期驱动机制失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1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Cyclin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的异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2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K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增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3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I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表达不足和突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、某些心血管疾病也存在细胞增殖异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5076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1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、原发性高血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2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、动脉粥样硬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3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、心肌肥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971640" y="1916280"/>
            <a:ext cx="741672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4b22"/>
                </a:solidFill>
                <a:latin typeface="Times New Roman"/>
                <a:ea typeface="华文楷体"/>
              </a:rPr>
              <a:t>病毒癌基因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行楷"/>
              </a:rPr>
              <a:t>(virus oncogene,v-on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7192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  <a:ea typeface="华文楷体"/>
              </a:rPr>
              <a:t>存在于病毒基因组中的癌基因，它不编码病毒的结构成分，对病毒复制也没有作用，但可以使细胞持续增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1116000" y="40464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病毒癌基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5018040" cy="64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二、细胞癌基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55640" y="2349360"/>
            <a:ext cx="77040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细胞癌基因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</a:rPr>
              <a:t>cellular-oncogene, c-onc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  <a:ea typeface="华文楷体"/>
              </a:rPr>
              <a:t>存在于生物正常细胞基因组中的癌基因，或称</a:t>
            </a: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原癌基因 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(proto-oncogenes , pro-onc) </a:t>
            </a: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3088080" y="1550880"/>
            <a:ext cx="31834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>
              <a:lnSpc>
                <a:spcPct val="150000"/>
              </a:lnSpc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华文楷体"/>
                <a:ea typeface="华文楷体"/>
              </a:rPr>
              <a:t>细胞癌基因的特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广泛存在于生物界中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基因序列高度保守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作用通过其产物蛋白质来体现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被激活后，形成癌性的细胞转化基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116000" y="333360"/>
            <a:ext cx="59770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30000"/>
              </a:lnSpc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华文楷体"/>
                <a:ea typeface="华文楷体"/>
              </a:rPr>
              <a:t>细胞癌基因的分类及其产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900000" y="1773360"/>
            <a:ext cx="7632720" cy="35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根据原癌基因的表达产物在细胞中的定位和功能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.</a:t>
            </a:r>
            <a:r>
              <a:rPr b="1" lang="en-US" sz="2800" spc="-1" strike="noStrike">
                <a:solidFill>
                  <a:srgbClr val="9f29ab"/>
                </a:solidFill>
                <a:latin typeface="Times New Roman"/>
                <a:ea typeface="华文中宋"/>
              </a:rPr>
              <a:t>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sr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酪氨酸蛋白激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.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.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my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C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4.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si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28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类人血小板源生长因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.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my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核内转录因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1908000" y="1052640"/>
            <a:ext cx="6696360" cy="23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一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启动子插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二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点突变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三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转座子跳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四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染色体易位与重排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五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基因扩增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908000" y="4724280"/>
            <a:ext cx="597708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出现新的表达产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出现过量的正常表达产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出现异常、截短的表达产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971640" y="404640"/>
            <a:ext cx="54720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、癌基因活化的机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1187280" y="4005360"/>
            <a:ext cx="42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ahoma"/>
              </a:rPr>
              <a:t>癌基因被激活的结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826920" y="1413000"/>
            <a:ext cx="7561440" cy="49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一）细胞外生长因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6160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si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--P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二）跨膜的生长因子受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6160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sr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ab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mo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三）细胞内信号传导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6160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sr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ab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m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H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K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N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c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四）核内转录因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6160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my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f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1042920" y="404640"/>
            <a:ext cx="655344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四、原癌基因的产物与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6T04:13:42Z</dcterms:created>
  <dc:creator>thtfpc user</dc:creator>
  <dc:description/>
  <dc:language>en-US</dc:language>
  <cp:lastModifiedBy>ZhangLL</cp:lastModifiedBy>
  <dcterms:modified xsi:type="dcterms:W3CDTF">2014-12-04T03:24:07Z</dcterms:modified>
  <cp:revision>18</cp:revision>
  <dc:subject/>
  <dc:title>第十八章  细胞增殖调控分子 </dc:title>
</cp:coreProperties>
</file>