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2.wmf" ContentType="image/x-wmf"/>
  <Override PartName="/ppt/media/image13.png" ContentType="image/png"/>
  <Override PartName="/ppt/media/image7.jpeg" ContentType="image/jpe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9AB1AA-2EA6-40F6-8B73-3ADB681CFE3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01AB6F-3BCF-4BC8-A359-8EC9D5584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80684E-7165-49E0-AE1E-4872F33E5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BA5857-0B29-47AE-A4C6-E83DED83260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D4A8D-FD5E-4CC9-BF33-52ABBBE43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4BCD55-5B7E-45C3-9BDD-8DB843F3E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876FC5-3714-4E6E-BBF0-15797E017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96F500-CB30-4C42-AA4D-1BCA06909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D26BA7-1953-4451-8BFD-9B1DA5771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884359-1113-4714-A413-71C8F9F43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4308FC-EBFA-45A6-83C8-FF667036B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952B85-7380-489A-95A3-2673EB3E1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B7AD2-42C9-4B4D-82CA-A082E8C91F94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100med.com/product-detail/3202.htm" TargetMode="External"/><Relationship Id="rId2" Type="http://schemas.openxmlformats.org/officeDocument/2006/relationships/image" Target="../media/image9.jpeg"/><Relationship Id="rId3" Type="http://schemas.openxmlformats.org/officeDocument/2006/relationships/hyperlink" Target="http://image.baidu.com/i?ct=503316480&amp;z=0&amp;tn=baiduimagedetail&amp;word=%CE&#1982;%FA%CA&#1337;%DC&amp;in=17719&amp;cl=2&amp;cm=1&amp;sc=0&amp;lm=-1&amp;pn=1&amp;rn=1&amp;di=2662646648&amp;ln=13" TargetMode="External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7640" y="2205000"/>
            <a:ext cx="41036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十七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标本的采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正确采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“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三正确”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采集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采集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采集时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例：采集培养标本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严格无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及时送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所有标本不可放置过久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以免变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特殊标本必要时注明采集时间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例：动脉血标本采集后应立即送检，最迟在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0min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内，以保证结果准确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例：采集粪便检查阿米巴原虫，粪便标本须在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0min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内连同便盆立即送检，防止阿米巴原虫死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108000" y="2781360"/>
            <a:ext cx="8610480" cy="148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第二节   常用标本的采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主要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血液标本的采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尿标本的采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粪便标本的采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痰标本的采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咽拭子标本的采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血液标本的采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血液在体内通过循环系统与全身各个组织器官密切联系，与机体各组织间发生物质交换，同时参与机体的各项生理功能活动，以维持机体正常的新陈代谢和内外环境平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在病理情况下，血液系统疾病除了直接累及血液外，也可以影响全身各个组织器官，而组织器官的病变也可直接或间接地引起血液发生变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血液检查是临床最常用的检验项目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血液标本的采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生理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全身：病情、年龄、意识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局部：皮肤组织状况及血管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心理状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自理能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合作程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知识水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血液标本的采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1280" y="1483920"/>
            <a:ext cx="4968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环境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物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患者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护士自身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8" name="Picture 31" descr="一次性真空采血器"/>
          <p:cNvPicPr/>
          <p:nvPr/>
        </p:nvPicPr>
        <p:blipFill>
          <a:blip r:embed="rId1"/>
          <a:srcRect l="3558" t="0" r="3535" b="26608"/>
          <a:stretch/>
        </p:blipFill>
        <p:spPr>
          <a:xfrm>
            <a:off x="4992840" y="3141720"/>
            <a:ext cx="3468600" cy="205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血液标本的采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静脉血标本采集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动脉血标本采集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静脉血标本的采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04920" y="1371600"/>
            <a:ext cx="8610480" cy="241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静脉血标本分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操作步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静脉血标本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血清标本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用于测定血清酶、脂类、电解质和肝功能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干燥试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全血标本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用作血沉、血常规检查和测定血液中某些物质如肌酐、尿素氮、血糖等的含量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盛有抗凝剂的试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血培养标本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用于查找血液中的致病菌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密封培养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知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．说出标本采集的意义和原则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．说出常用标本的种类及采集标本的注意事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．说出采集各种常用标本的方法和步骤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能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能够按照操作规程熟练正确地采集各种常用标本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素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441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采集静脉血标本操作步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300720" y="1440"/>
            <a:ext cx="26672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TextBox 4"/>
          <p:cNvSpPr/>
          <p:nvPr/>
        </p:nvSpPr>
        <p:spPr>
          <a:xfrm>
            <a:off x="593640" y="1424160"/>
            <a:ext cx="1008000" cy="368280"/>
          </a:xfrm>
          <a:prstGeom prst="rect">
            <a:avLst/>
          </a:prstGeom>
          <a:noFill/>
          <a:ln w="9360">
            <a:solidFill>
              <a:srgbClr val="2872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评估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TextBox 9"/>
          <p:cNvSpPr/>
          <p:nvPr/>
        </p:nvSpPr>
        <p:spPr>
          <a:xfrm>
            <a:off x="2319480" y="1424160"/>
            <a:ext cx="1295280" cy="368280"/>
          </a:xfrm>
          <a:prstGeom prst="rect">
            <a:avLst/>
          </a:prstGeom>
          <a:noFill/>
          <a:ln w="9360">
            <a:solidFill>
              <a:srgbClr val="2872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准备用物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TextBox 10"/>
          <p:cNvSpPr/>
          <p:nvPr/>
        </p:nvSpPr>
        <p:spPr>
          <a:xfrm>
            <a:off x="4419720" y="1319040"/>
            <a:ext cx="1511280" cy="642600"/>
          </a:xfrm>
          <a:prstGeom prst="rect">
            <a:avLst/>
          </a:prstGeom>
          <a:noFill/>
          <a:ln w="9360">
            <a:solidFill>
              <a:srgbClr val="2872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携物至床旁查对并解释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TextBox 11"/>
          <p:cNvSpPr/>
          <p:nvPr/>
        </p:nvSpPr>
        <p:spPr>
          <a:xfrm>
            <a:off x="6875640" y="1319040"/>
            <a:ext cx="1188720" cy="642600"/>
          </a:xfrm>
          <a:prstGeom prst="rect">
            <a:avLst/>
          </a:prstGeom>
          <a:noFill/>
          <a:ln w="9360">
            <a:solidFill>
              <a:srgbClr val="2872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选择血管，系止血带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TextBox 12"/>
          <p:cNvSpPr/>
          <p:nvPr/>
        </p:nvSpPr>
        <p:spPr>
          <a:xfrm>
            <a:off x="6570720" y="2922480"/>
            <a:ext cx="1800000" cy="368280"/>
          </a:xfrm>
          <a:prstGeom prst="rect">
            <a:avLst/>
          </a:prstGeom>
          <a:noFill/>
          <a:ln w="9360">
            <a:solidFill>
              <a:srgbClr val="2872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常规消毒，    嘱患者握拳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TextBox 13"/>
          <p:cNvSpPr/>
          <p:nvPr/>
        </p:nvSpPr>
        <p:spPr>
          <a:xfrm>
            <a:off x="4527720" y="3060720"/>
            <a:ext cx="1295280" cy="368280"/>
          </a:xfrm>
          <a:prstGeom prst="rect">
            <a:avLst/>
          </a:prstGeom>
          <a:noFill/>
          <a:ln w="9360">
            <a:solidFill>
              <a:srgbClr val="2872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穿刺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TextBox 14"/>
          <p:cNvSpPr/>
          <p:nvPr/>
        </p:nvSpPr>
        <p:spPr>
          <a:xfrm>
            <a:off x="2344680" y="3060720"/>
            <a:ext cx="1297080" cy="368280"/>
          </a:xfrm>
          <a:prstGeom prst="rect">
            <a:avLst/>
          </a:prstGeom>
          <a:noFill/>
          <a:ln w="9360">
            <a:solidFill>
              <a:srgbClr val="2872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取血标本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TextBox 15"/>
          <p:cNvSpPr/>
          <p:nvPr/>
        </p:nvSpPr>
        <p:spPr>
          <a:xfrm>
            <a:off x="573120" y="3060720"/>
            <a:ext cx="1028520" cy="368280"/>
          </a:xfrm>
          <a:prstGeom prst="rect">
            <a:avLst/>
          </a:prstGeom>
          <a:noFill/>
          <a:ln w="9360">
            <a:solidFill>
              <a:srgbClr val="2872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整理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TextBox 16"/>
          <p:cNvSpPr/>
          <p:nvPr/>
        </p:nvSpPr>
        <p:spPr>
          <a:xfrm>
            <a:off x="449280" y="4600440"/>
            <a:ext cx="1297080" cy="368280"/>
          </a:xfrm>
          <a:prstGeom prst="rect">
            <a:avLst/>
          </a:prstGeom>
          <a:noFill/>
          <a:ln w="9360">
            <a:solidFill>
              <a:srgbClr val="2872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洗手记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TextBox 17"/>
          <p:cNvSpPr/>
          <p:nvPr/>
        </p:nvSpPr>
        <p:spPr>
          <a:xfrm>
            <a:off x="2600280" y="4600440"/>
            <a:ext cx="1297080" cy="368280"/>
          </a:xfrm>
          <a:prstGeom prst="rect">
            <a:avLst/>
          </a:prstGeom>
          <a:noFill/>
          <a:ln w="9360">
            <a:solidFill>
              <a:srgbClr val="2872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送检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170" name="直接箭头连接符 7"/>
          <p:cNvCxnSpPr/>
          <p:nvPr/>
        </p:nvCxnSpPr>
        <p:spPr>
          <a:xfrm>
            <a:off x="1692360" y="1607760"/>
            <a:ext cx="573840" cy="1080"/>
          </a:xfrm>
          <a:prstGeom prst="straightConnector1">
            <a:avLst/>
          </a:prstGeom>
          <a:ln w="9360">
            <a:solidFill>
              <a:srgbClr val="85c4db"/>
            </a:solidFill>
            <a:miter/>
            <a:tailEnd len="med" type="arrow" w="med"/>
          </a:ln>
        </p:spPr>
      </p:cxnSp>
      <p:cxnSp>
        <p:nvCxnSpPr>
          <p:cNvPr id="171" name="直接箭头连接符 20"/>
          <p:cNvCxnSpPr/>
          <p:nvPr/>
        </p:nvCxnSpPr>
        <p:spPr>
          <a:xfrm>
            <a:off x="3710160" y="1628280"/>
            <a:ext cx="575280" cy="1080"/>
          </a:xfrm>
          <a:prstGeom prst="straightConnector1">
            <a:avLst/>
          </a:prstGeom>
          <a:ln w="9360">
            <a:solidFill>
              <a:srgbClr val="85c4db"/>
            </a:solidFill>
            <a:miter/>
            <a:tailEnd len="med" type="arrow" w="med"/>
          </a:ln>
        </p:spPr>
      </p:cxnSp>
      <p:cxnSp>
        <p:nvCxnSpPr>
          <p:cNvPr id="172" name="直接箭头连接符 21"/>
          <p:cNvCxnSpPr/>
          <p:nvPr/>
        </p:nvCxnSpPr>
        <p:spPr>
          <a:xfrm>
            <a:off x="6157440" y="1628280"/>
            <a:ext cx="575640" cy="1080"/>
          </a:xfrm>
          <a:prstGeom prst="straightConnector1">
            <a:avLst/>
          </a:prstGeom>
          <a:ln w="9360">
            <a:solidFill>
              <a:srgbClr val="85c4db"/>
            </a:solidFill>
            <a:miter/>
            <a:tailEnd len="med" type="arrow" w="med"/>
          </a:ln>
        </p:spPr>
      </p:cxnSp>
      <p:cxnSp>
        <p:nvCxnSpPr>
          <p:cNvPr id="173" name="直接箭头连接符 22"/>
          <p:cNvCxnSpPr/>
          <p:nvPr/>
        </p:nvCxnSpPr>
        <p:spPr>
          <a:xfrm>
            <a:off x="7470360" y="2133720"/>
            <a:ext cx="1080" cy="645120"/>
          </a:xfrm>
          <a:prstGeom prst="straightConnector1">
            <a:avLst/>
          </a:prstGeom>
          <a:ln w="9360">
            <a:solidFill>
              <a:srgbClr val="85c4db"/>
            </a:solidFill>
            <a:miter/>
            <a:tailEnd len="med" type="arrow" w="med"/>
          </a:ln>
        </p:spPr>
      </p:cxnSp>
      <p:cxnSp>
        <p:nvCxnSpPr>
          <p:cNvPr id="174" name="直接箭头连接符 27"/>
          <p:cNvCxnSpPr/>
          <p:nvPr/>
        </p:nvCxnSpPr>
        <p:spPr>
          <a:xfrm flipH="1">
            <a:off x="5893920" y="3246120"/>
            <a:ext cx="550080" cy="1080"/>
          </a:xfrm>
          <a:prstGeom prst="straightConnector1">
            <a:avLst/>
          </a:prstGeom>
          <a:ln w="9360">
            <a:solidFill>
              <a:srgbClr val="85c4db"/>
            </a:solidFill>
            <a:miter/>
            <a:tailEnd len="med" type="arrow" w="med"/>
          </a:ln>
        </p:spPr>
      </p:cxnSp>
      <p:cxnSp>
        <p:nvCxnSpPr>
          <p:cNvPr id="175" name="直接箭头连接符 31"/>
          <p:cNvCxnSpPr/>
          <p:nvPr/>
        </p:nvCxnSpPr>
        <p:spPr>
          <a:xfrm flipH="1">
            <a:off x="3806280" y="3212640"/>
            <a:ext cx="549720" cy="1080"/>
          </a:xfrm>
          <a:prstGeom prst="straightConnector1">
            <a:avLst/>
          </a:prstGeom>
          <a:ln w="9360">
            <a:solidFill>
              <a:srgbClr val="85c4db"/>
            </a:solidFill>
            <a:miter/>
            <a:tailEnd len="med" type="arrow" w="med"/>
          </a:ln>
        </p:spPr>
      </p:cxnSp>
      <p:cxnSp>
        <p:nvCxnSpPr>
          <p:cNvPr id="176" name="直接箭头连接符 32"/>
          <p:cNvCxnSpPr/>
          <p:nvPr/>
        </p:nvCxnSpPr>
        <p:spPr>
          <a:xfrm>
            <a:off x="1115640" y="3716280"/>
            <a:ext cx="1080" cy="721440"/>
          </a:xfrm>
          <a:prstGeom prst="straightConnector1">
            <a:avLst/>
          </a:prstGeom>
          <a:ln w="9360">
            <a:solidFill>
              <a:srgbClr val="85c4db"/>
            </a:solidFill>
            <a:miter/>
            <a:tailEnd len="med" type="arrow" w="med"/>
          </a:ln>
        </p:spPr>
      </p:cxnSp>
      <p:cxnSp>
        <p:nvCxnSpPr>
          <p:cNvPr id="177" name="直接箭头连接符 33"/>
          <p:cNvCxnSpPr/>
          <p:nvPr/>
        </p:nvCxnSpPr>
        <p:spPr>
          <a:xfrm flipH="1">
            <a:off x="1769760" y="3246120"/>
            <a:ext cx="550080" cy="1080"/>
          </a:xfrm>
          <a:prstGeom prst="straightConnector1">
            <a:avLst/>
          </a:prstGeom>
          <a:ln w="9360">
            <a:solidFill>
              <a:srgbClr val="85c4db"/>
            </a:solidFill>
            <a:miter/>
            <a:tailEnd len="med" type="arrow" w="med"/>
          </a:ln>
        </p:spPr>
      </p:cxnSp>
      <p:cxnSp>
        <p:nvCxnSpPr>
          <p:cNvPr id="178" name="直接箭头连接符 35"/>
          <p:cNvCxnSpPr/>
          <p:nvPr/>
        </p:nvCxnSpPr>
        <p:spPr>
          <a:xfrm>
            <a:off x="1838160" y="4797000"/>
            <a:ext cx="573840" cy="1080"/>
          </a:xfrm>
          <a:prstGeom prst="straightConnector1">
            <a:avLst/>
          </a:prstGeom>
          <a:ln w="9360">
            <a:solidFill>
              <a:srgbClr val="85c4d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采集静脉血标本注意事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采血前：注意告知（生化检验需空腹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采血时：根据检验需要采集所需血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禁止在输液、输血处采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采血后：注入采血管顺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血培养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抗凝管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干燥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动脉血标本采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755640" y="1722600"/>
            <a:ext cx="6138720" cy="393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操作步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5" name="Picture 3" descr="动脉血气针"/>
          <p:cNvPicPr/>
          <p:nvPr/>
        </p:nvPicPr>
        <p:blipFill>
          <a:blip r:embed="rId1"/>
          <a:stretch/>
        </p:blipFill>
        <p:spPr>
          <a:xfrm rot="8290200">
            <a:off x="5090760" y="4309560"/>
            <a:ext cx="3624120" cy="9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采集动脉血标本操作步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TextBox 4"/>
          <p:cNvSpPr/>
          <p:nvPr/>
        </p:nvSpPr>
        <p:spPr>
          <a:xfrm>
            <a:off x="593640" y="1424160"/>
            <a:ext cx="1008000" cy="368280"/>
          </a:xfrm>
          <a:prstGeom prst="rect">
            <a:avLst/>
          </a:prstGeom>
          <a:noFill/>
          <a:ln w="9360">
            <a:solidFill>
              <a:srgbClr val="2872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评估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9" name="TextBox 5"/>
          <p:cNvSpPr/>
          <p:nvPr/>
        </p:nvSpPr>
        <p:spPr>
          <a:xfrm>
            <a:off x="2319480" y="1424160"/>
            <a:ext cx="1295280" cy="368280"/>
          </a:xfrm>
          <a:prstGeom prst="rect">
            <a:avLst/>
          </a:prstGeom>
          <a:noFill/>
          <a:ln w="9360">
            <a:solidFill>
              <a:srgbClr val="2872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准备用物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TextBox 6"/>
          <p:cNvSpPr/>
          <p:nvPr/>
        </p:nvSpPr>
        <p:spPr>
          <a:xfrm>
            <a:off x="4419720" y="1319040"/>
            <a:ext cx="1511280" cy="642600"/>
          </a:xfrm>
          <a:prstGeom prst="rect">
            <a:avLst/>
          </a:prstGeom>
          <a:noFill/>
          <a:ln w="9360">
            <a:solidFill>
              <a:srgbClr val="2872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携物至床旁查对并解释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TextBox 7"/>
          <p:cNvSpPr/>
          <p:nvPr/>
        </p:nvSpPr>
        <p:spPr>
          <a:xfrm>
            <a:off x="6875640" y="1319040"/>
            <a:ext cx="1657080" cy="642600"/>
          </a:xfrm>
          <a:prstGeom prst="rect">
            <a:avLst/>
          </a:prstGeom>
          <a:noFill/>
          <a:ln w="9360">
            <a:solidFill>
              <a:srgbClr val="2872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选择穿刺部位，取合适体位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TextBox 8"/>
          <p:cNvSpPr/>
          <p:nvPr/>
        </p:nvSpPr>
        <p:spPr>
          <a:xfrm>
            <a:off x="6570720" y="2922480"/>
            <a:ext cx="1800000" cy="368280"/>
          </a:xfrm>
          <a:prstGeom prst="rect">
            <a:avLst/>
          </a:prstGeom>
          <a:noFill/>
          <a:ln w="9360">
            <a:solidFill>
              <a:srgbClr val="2872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常规消毒，    固定血管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3" name="TextBox 9"/>
          <p:cNvSpPr/>
          <p:nvPr/>
        </p:nvSpPr>
        <p:spPr>
          <a:xfrm>
            <a:off x="4527720" y="3060720"/>
            <a:ext cx="1295280" cy="642600"/>
          </a:xfrm>
          <a:prstGeom prst="rect">
            <a:avLst/>
          </a:prstGeom>
          <a:noFill/>
          <a:ln w="9360">
            <a:solidFill>
              <a:srgbClr val="2872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穿刺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取血标本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TextBox 11"/>
          <p:cNvSpPr/>
          <p:nvPr/>
        </p:nvSpPr>
        <p:spPr>
          <a:xfrm>
            <a:off x="2679840" y="3060720"/>
            <a:ext cx="1028520" cy="368280"/>
          </a:xfrm>
          <a:prstGeom prst="rect">
            <a:avLst/>
          </a:prstGeom>
          <a:noFill/>
          <a:ln w="9360">
            <a:solidFill>
              <a:srgbClr val="2872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整理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5" name="TextBox 12"/>
          <p:cNvSpPr/>
          <p:nvPr/>
        </p:nvSpPr>
        <p:spPr>
          <a:xfrm>
            <a:off x="593640" y="3060720"/>
            <a:ext cx="1295640" cy="368280"/>
          </a:xfrm>
          <a:prstGeom prst="rect">
            <a:avLst/>
          </a:prstGeom>
          <a:noFill/>
          <a:ln w="9360">
            <a:solidFill>
              <a:srgbClr val="2872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洗手记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6" name="TextBox 13"/>
          <p:cNvSpPr/>
          <p:nvPr/>
        </p:nvSpPr>
        <p:spPr>
          <a:xfrm>
            <a:off x="585720" y="4584600"/>
            <a:ext cx="1295640" cy="368280"/>
          </a:xfrm>
          <a:prstGeom prst="rect">
            <a:avLst/>
          </a:prstGeom>
          <a:noFill/>
          <a:ln w="9360">
            <a:solidFill>
              <a:srgbClr val="2872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送检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197" name="直接箭头连接符 14"/>
          <p:cNvCxnSpPr/>
          <p:nvPr/>
        </p:nvCxnSpPr>
        <p:spPr>
          <a:xfrm>
            <a:off x="1692360" y="1607760"/>
            <a:ext cx="573840" cy="1080"/>
          </a:xfrm>
          <a:prstGeom prst="straightConnector1">
            <a:avLst/>
          </a:prstGeom>
          <a:ln w="9360">
            <a:solidFill>
              <a:srgbClr val="85c4db"/>
            </a:solidFill>
            <a:miter/>
            <a:tailEnd len="med" type="arrow" w="med"/>
          </a:ln>
        </p:spPr>
      </p:cxnSp>
      <p:cxnSp>
        <p:nvCxnSpPr>
          <p:cNvPr id="198" name="直接箭头连接符 15"/>
          <p:cNvCxnSpPr/>
          <p:nvPr/>
        </p:nvCxnSpPr>
        <p:spPr>
          <a:xfrm>
            <a:off x="3710160" y="1628280"/>
            <a:ext cx="575280" cy="1080"/>
          </a:xfrm>
          <a:prstGeom prst="straightConnector1">
            <a:avLst/>
          </a:prstGeom>
          <a:ln w="9360">
            <a:solidFill>
              <a:srgbClr val="85c4db"/>
            </a:solidFill>
            <a:miter/>
            <a:tailEnd len="med" type="arrow" w="med"/>
          </a:ln>
        </p:spPr>
      </p:cxnSp>
      <p:cxnSp>
        <p:nvCxnSpPr>
          <p:cNvPr id="199" name="直接箭头连接符 16"/>
          <p:cNvCxnSpPr/>
          <p:nvPr/>
        </p:nvCxnSpPr>
        <p:spPr>
          <a:xfrm>
            <a:off x="6157440" y="1628280"/>
            <a:ext cx="575640" cy="1080"/>
          </a:xfrm>
          <a:prstGeom prst="straightConnector1">
            <a:avLst/>
          </a:prstGeom>
          <a:ln w="9360">
            <a:solidFill>
              <a:srgbClr val="85c4db"/>
            </a:solidFill>
            <a:miter/>
            <a:tailEnd len="med" type="arrow" w="med"/>
          </a:ln>
        </p:spPr>
      </p:cxnSp>
      <p:cxnSp>
        <p:nvCxnSpPr>
          <p:cNvPr id="200" name="直接箭头连接符 17"/>
          <p:cNvCxnSpPr/>
          <p:nvPr/>
        </p:nvCxnSpPr>
        <p:spPr>
          <a:xfrm>
            <a:off x="7470360" y="2133720"/>
            <a:ext cx="1080" cy="645120"/>
          </a:xfrm>
          <a:prstGeom prst="straightConnector1">
            <a:avLst/>
          </a:prstGeom>
          <a:ln w="9360">
            <a:solidFill>
              <a:srgbClr val="85c4db"/>
            </a:solidFill>
            <a:miter/>
            <a:tailEnd len="med" type="arrow" w="med"/>
          </a:ln>
        </p:spPr>
      </p:cxnSp>
      <p:cxnSp>
        <p:nvCxnSpPr>
          <p:cNvPr id="201" name="直接箭头连接符 18"/>
          <p:cNvCxnSpPr/>
          <p:nvPr/>
        </p:nvCxnSpPr>
        <p:spPr>
          <a:xfrm flipH="1">
            <a:off x="5893920" y="3246120"/>
            <a:ext cx="550080" cy="1080"/>
          </a:xfrm>
          <a:prstGeom prst="straightConnector1">
            <a:avLst/>
          </a:prstGeom>
          <a:ln w="9360">
            <a:solidFill>
              <a:srgbClr val="85c4db"/>
            </a:solidFill>
            <a:miter/>
            <a:tailEnd len="med" type="arrow" w="med"/>
          </a:ln>
        </p:spPr>
      </p:cxnSp>
      <p:cxnSp>
        <p:nvCxnSpPr>
          <p:cNvPr id="202" name="直接箭头连接符 19"/>
          <p:cNvCxnSpPr/>
          <p:nvPr/>
        </p:nvCxnSpPr>
        <p:spPr>
          <a:xfrm flipH="1">
            <a:off x="3806280" y="3212640"/>
            <a:ext cx="549720" cy="1080"/>
          </a:xfrm>
          <a:prstGeom prst="straightConnector1">
            <a:avLst/>
          </a:prstGeom>
          <a:ln w="9360">
            <a:solidFill>
              <a:srgbClr val="85c4db"/>
            </a:solidFill>
            <a:miter/>
            <a:tailEnd len="med" type="arrow" w="med"/>
          </a:ln>
        </p:spPr>
      </p:cxnSp>
      <p:cxnSp>
        <p:nvCxnSpPr>
          <p:cNvPr id="203" name="直接箭头连接符 20"/>
          <p:cNvCxnSpPr/>
          <p:nvPr/>
        </p:nvCxnSpPr>
        <p:spPr>
          <a:xfrm>
            <a:off x="1115640" y="3716280"/>
            <a:ext cx="1080" cy="721440"/>
          </a:xfrm>
          <a:prstGeom prst="straightConnector1">
            <a:avLst/>
          </a:prstGeom>
          <a:ln w="9360">
            <a:solidFill>
              <a:srgbClr val="85c4db"/>
            </a:solidFill>
            <a:miter/>
            <a:tailEnd len="med" type="arrow" w="med"/>
          </a:ln>
        </p:spPr>
      </p:cxnSp>
      <p:cxnSp>
        <p:nvCxnSpPr>
          <p:cNvPr id="204" name="直接箭头连接符 23"/>
          <p:cNvCxnSpPr/>
          <p:nvPr/>
        </p:nvCxnSpPr>
        <p:spPr>
          <a:xfrm flipH="1">
            <a:off x="1979280" y="3212640"/>
            <a:ext cx="550080" cy="1080"/>
          </a:xfrm>
          <a:prstGeom prst="straightConnector1">
            <a:avLst/>
          </a:prstGeom>
          <a:ln w="9360">
            <a:solidFill>
              <a:srgbClr val="85c4db"/>
            </a:solidFill>
            <a:miter/>
            <a:tailEnd len="med" type="arrow" w="med"/>
          </a:ln>
        </p:spPr>
      </p:cxnSp>
      <p:pic>
        <p:nvPicPr>
          <p:cNvPr id="205" name="Picture 4" descr="动脉血气针2"/>
          <p:cNvPicPr/>
          <p:nvPr/>
        </p:nvPicPr>
        <p:blipFill>
          <a:blip r:embed="rId1"/>
          <a:stretch/>
        </p:blipFill>
        <p:spPr>
          <a:xfrm>
            <a:off x="5931000" y="4584600"/>
            <a:ext cx="2181240" cy="15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采集动脉血标本注意事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严格无菌操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有出血倾向的患者谨慎操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注意固定针头，防止损伤血管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尽快送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尿标本的采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内容占位符 2"/>
          <p:cNvSpPr/>
          <p:nvPr/>
        </p:nvSpPr>
        <p:spPr>
          <a:xfrm>
            <a:off x="457200" y="152388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评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患者一般状况、意识状态、病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患者诊断、治疗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患者自理能力、合作程度、知识水平及心理状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患者的排尿方式及会阴部的清洁程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尿标本的采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14" name="Picture 6" descr="857-700-21">
            <a:hlinkClick r:id="rId1"/>
          </p:cNvPr>
          <p:cNvPicPr/>
          <p:nvPr/>
        </p:nvPicPr>
        <p:blipFill>
          <a:blip r:embed="rId2"/>
          <a:srcRect l="7832" t="16929" r="8363" b="29561"/>
          <a:stretch/>
        </p:blipFill>
        <p:spPr>
          <a:xfrm>
            <a:off x="5364000" y="3141720"/>
            <a:ext cx="2819520" cy="120492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8" descr="u=3319836874,2972613897&amp;fm=0&amp;gp=-48">
            <a:hlinkClick r:id="rId3"/>
          </p:cNvPr>
          <p:cNvPicPr/>
          <p:nvPr/>
        </p:nvPicPr>
        <p:blipFill>
          <a:blip r:embed="rId4"/>
          <a:srcRect l="0" t="16763" r="0" b="16131"/>
          <a:stretch/>
        </p:blipFill>
        <p:spPr>
          <a:xfrm>
            <a:off x="5364000" y="4346640"/>
            <a:ext cx="2819520" cy="152388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 txBox="1"/>
          <p:nvPr/>
        </p:nvSpPr>
        <p:spPr>
          <a:xfrm>
            <a:off x="468360" y="1647360"/>
            <a:ext cx="4967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环境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物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患者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护士自身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尿标本的采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尿常规标本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2h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或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4h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尿标本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尿培养标本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尿常规标本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目的：用于检查尿液的颜色、透明度、有无细胞和管型，测定比重，并作尿蛋白及尿糖的定性检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操作要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留取尿液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0m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于清洁标本容器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可下床活动患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行动不便的患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留置尿管的患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昏迷或尿潴留的患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左大括号 4"/>
          <p:cNvSpPr/>
          <p:nvPr/>
        </p:nvSpPr>
        <p:spPr>
          <a:xfrm>
            <a:off x="539640" y="3573360"/>
            <a:ext cx="216000" cy="1656000"/>
          </a:xfrm>
          <a:custGeom>
            <a:avLst/>
            <a:gdLst>
              <a:gd name="textAreaLeft" fmla="*/ 137880 w 216000"/>
              <a:gd name="textAreaRight" fmla="*/ 216360 w 216000"/>
              <a:gd name="textAreaTop" fmla="*/ 5400 h 1656000"/>
              <a:gd name="textAreaBottom" fmla="*/ 1650600 h 165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8"/>
                  <a:pt x="10800" y="235"/>
                </a:cubicBezTo>
                <a:lnTo>
                  <a:pt x="10800" y="10565"/>
                </a:lnTo>
                <a:cubicBezTo>
                  <a:pt x="10800" y="10683"/>
                  <a:pt x="5400" y="10800"/>
                  <a:pt x="0" y="10800"/>
                </a:cubicBezTo>
                <a:cubicBezTo>
                  <a:pt x="5400" y="10800"/>
                  <a:pt x="10800" y="10918"/>
                  <a:pt x="10800" y="11035"/>
                </a:cubicBezTo>
                <a:lnTo>
                  <a:pt x="10800" y="21365"/>
                </a:lnTo>
                <a:cubicBezTo>
                  <a:pt x="10800" y="21483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85c4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尿常规标本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457200" indent="-45720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可将粪便混于尿液中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457200" indent="-45720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女性患者月经期不宜留尿标本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主要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标本采集的意义和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常用标本的采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12h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或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24h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尿标本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目的：常用作尿的各种定量检查，如尿液中的钠、钾、氯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7-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羟类固醇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7-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酮类固醇、肌酐、肌酸及尿糖的定量检查或尿浓缩查结核分枝杆菌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操作要点及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指导留尿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: (24h)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晨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7am——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次日晨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7am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(12h)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晚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7pm——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次日晨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7am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按要求加入</a:t>
            </a:r>
            <a:r>
              <a:rPr b="1" lang="zh-CN" sz="2800" spc="-1" strike="noStrike">
                <a:solidFill>
                  <a:srgbClr val="c00000"/>
                </a:solidFill>
                <a:latin typeface="Verdana"/>
                <a:ea typeface="宋体"/>
              </a:rPr>
              <a:t>防腐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督促患者及时、正确留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常用防腐剂的作用及使用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2" name="Picture 2" descr=""/>
          <p:cNvPicPr/>
          <p:nvPr/>
        </p:nvPicPr>
        <p:blipFill>
          <a:blip r:embed="rId1"/>
          <a:stretch/>
        </p:blipFill>
        <p:spPr>
          <a:xfrm>
            <a:off x="-36360" y="1844640"/>
            <a:ext cx="9180360" cy="3341880"/>
          </a:xfrm>
          <a:prstGeom prst="rect">
            <a:avLst/>
          </a:prstGeom>
          <a:ln w="0">
            <a:noFill/>
          </a:ln>
        </p:spPr>
      </p:pic>
      <p:sp>
        <p:nvSpPr>
          <p:cNvPr id="233" name="矩形 5"/>
          <p:cNvSpPr/>
          <p:nvPr/>
        </p:nvSpPr>
        <p:spPr>
          <a:xfrm>
            <a:off x="2916360" y="1773360"/>
            <a:ext cx="718920" cy="50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尿培养标本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spcAft>
                <a:spcPts val="1800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目的：用于细菌培养或细菌敏感试验，以了解病情，协助临床诊断和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操作要点：留取中段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能排尿的患者：消毒外阴，自行排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spcAft>
                <a:spcPts val="1199"/>
              </a:spcAft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留置尿管的患者：留取中段尿法采集未被污染的尿液标本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spcAft>
                <a:spcPts val="1800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注意事项：严格无菌操作以防尿液污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粪便标本的采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常规标本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隐血标本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寄生虫及虫卵标本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培养标本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常规标本的采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04920" y="1371240"/>
            <a:ext cx="8610480" cy="306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目的：用于检查粪便的性状、代谢物及寄生虫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量：棉签或竹签在粪便不同点取少量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0g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粪便（蚕豆大小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腹泻：取黏液部分或脓血部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隐血标本的采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304920" y="1371240"/>
            <a:ext cx="8083440" cy="40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目的：检查粪便内是否存在肉眼不能察觉的微量血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按常规标本留法采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注意事项：隐血试验应嘱患者于检查前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天开始禁食肉类、动物血、维生素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含铁丰富的药物、食物及绿色蔬菜等，以免造成假阳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寄生虫及虫卵标本的采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目的：检查粪便中是否存在寄生虫成虫、幼虫及虫卵计数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方法及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检查寄生虫卵：在粪便不同部位取带血或黏液部分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0g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检查蛲虫：睡前透明胶带贴于肛门周围，将取下粘有虫卵的透明胶带取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检查阿米巴原虫：热水将便盆加温至接近体温，留取后立即送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培养标本的采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304920" y="1371600"/>
            <a:ext cx="8610480" cy="364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目的：检查粪便中的致病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方法及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自行排便：排便于消毒便盆内，无菌棉签取粪便中央部分或脓血黏液部分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g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置于培养瓶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无便意：无菌长棉签沾无菌生理盐水，由肛门插入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6~7cm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顺一个方向旋转退出，将棉签置于无菌培养瓶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痰标本的采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常规痰标本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4h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痰标本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痰培养标本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常规痰标本的采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目的：检查痰的一般形状，涂片经特殊染色以检查细菌、虫卵或癌细胞等，协助诊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自行留取：晨起漱口，数次深呼吸后用力咳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吸痰法留取：使用集痰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58" name="Picture 2" descr=""/>
          <p:cNvPicPr/>
          <p:nvPr/>
        </p:nvPicPr>
        <p:blipFill>
          <a:blip r:embed="rId1"/>
          <a:stretch/>
        </p:blipFill>
        <p:spPr>
          <a:xfrm>
            <a:off x="4957920" y="3573360"/>
            <a:ext cx="3192480" cy="2401920"/>
          </a:xfrm>
          <a:prstGeom prst="rect">
            <a:avLst/>
          </a:prstGeom>
          <a:ln w="0">
            <a:noFill/>
          </a:ln>
        </p:spPr>
      </p:pic>
      <p:sp>
        <p:nvSpPr>
          <p:cNvPr id="259" name="TextBox 4"/>
          <p:cNvSpPr/>
          <p:nvPr/>
        </p:nvSpPr>
        <p:spPr>
          <a:xfrm>
            <a:off x="5989680" y="6093000"/>
            <a:ext cx="113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00000"/>
                </a:solidFill>
                <a:latin typeface="Arial"/>
                <a:ea typeface="宋体"/>
              </a:rPr>
              <a:t>集痰器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08000" y="2781360"/>
            <a:ext cx="8610480" cy="148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第一节   标本采集的意义和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24h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痰标本的采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目的：检查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4h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痰液的量及性状，协助诊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标本容器（痰杯或广口玻璃瓶）中加少量清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嘱患者将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4h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内的痰液全部吐入标本容器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时间段：清晨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7am——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次日晨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7am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痰培养标本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目的：检查痰液中的致病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方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同“常规痰标本”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须留取在无菌标本容器或无菌集痰器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留取后立即盖好瓶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咽拭子标本的采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目的：从咽部和扁桃体取分泌物作细菌培养或病毒分离，以协助诊断、治疗和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咽拭子标本的采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1" name="内容占位符 2"/>
          <p:cNvSpPr/>
          <p:nvPr/>
        </p:nvSpPr>
        <p:spPr>
          <a:xfrm>
            <a:off x="32400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操作要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培养试管中取出的无菌棉签用无菌生理盐水蘸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擦拭患者两侧腭弓、咽及扁桃体上的分泌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将试管口在酒精灯上烧灼后将棉签插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再次烧灼试管口后塞进试管塞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72" name="Picture 2" descr=""/>
          <p:cNvPicPr/>
          <p:nvPr/>
        </p:nvPicPr>
        <p:blipFill>
          <a:blip r:embed="rId1"/>
          <a:stretch/>
        </p:blipFill>
        <p:spPr>
          <a:xfrm>
            <a:off x="900000" y="4184640"/>
            <a:ext cx="660096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咽拭子标本的采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为防止呕吐，采集标本应在进食后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h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后进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棉签擦拭动作轻柔而敏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及时送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思考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在采集血标本前，护士需要做哪些准备？护士需要指导患者做好哪些准备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哪些因素会影响血液气体分析结果的准确性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采集尿培养标本的注意事项有哪些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标本采集的意义和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标本采集的意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了解机体的功能状态和病理变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观察病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协助诊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制订护理计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标本采集的意义和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标本采集的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遵照医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充分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严格查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正确采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及时送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遵照医嘱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1" name="Picture 4" descr="图片1"/>
          <p:cNvPicPr/>
          <p:nvPr/>
        </p:nvPicPr>
        <p:blipFill>
          <a:blip r:embed="rId1"/>
          <a:stretch/>
        </p:blipFill>
        <p:spPr>
          <a:xfrm>
            <a:off x="324000" y="1844640"/>
            <a:ext cx="8532720" cy="34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充分准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 indent="-45720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生理：病情、检验的目的、送检日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 indent="-45720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心理：心理反应、合作程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 indent="-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 indent="-45720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选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 indent="-45720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采集标本容器的种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 indent="-45720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选择适当的采集方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严格查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采集前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查对医嘱、申请项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患者姓名、床号、住院号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采集完毕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再次查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zhaoxin</cp:lastModifiedBy>
  <cp:lastPrinted>1899-12-30T00:00:00Z</cp:lastPrinted>
  <dcterms:modified xsi:type="dcterms:W3CDTF">2014-09-05T10:14:45Z</dcterms:modified>
  <cp:revision>52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