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13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A4120-09A7-4E16-A56A-6DDD4437D4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DD739-1A6F-4B8E-9F3D-78022E98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27D45-073A-4143-86E3-E504C849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48FE4-1085-4125-8A63-12526B4455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CBDD8-3609-4A2B-BA3C-0A00648E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D91D9-9C94-4D1E-9F8C-199D6A5E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ECE5F-EAC0-40C3-8D7A-9C6DE6C4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6986B-88C7-4239-95E0-6ABB60D1B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D748A-BDA8-4B3C-8AE0-582F22784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2C319-153F-4F99-AC39-01E8A9FF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B4EC1-661D-4F8C-91AE-B412C9AF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4EEFB-7F06-4A85-93A4-6ED54833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B7D1-D715-4E62-96EB-6BE19829708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100med.com/product-detail/3202.htm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.baidu.com/i?ct=503316480&amp;z=0&amp;tn=baiduimagedetail&amp;word=%CE&#1982;%FA%CA&#1337;%DC&amp;in=17719&amp;cl=2&amp;cm=1&amp;sc=0&amp;lm=-1&amp;pn=1&amp;rn=1&amp;di=2662646648&amp;ln=13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05000"/>
            <a:ext cx="4103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标本的采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正确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正确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例：采集培养标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无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及时送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所有标本不可放置过久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免变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特殊标本必要时注明采集时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例：动脉血标本采集后应立即送检，最迟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内，以保证结果准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例：采集粪便检查阿米巴原虫，粪便标本须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内连同便盆立即送检，防止阿米巴原虫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08000" y="2781360"/>
            <a:ext cx="8610480" cy="14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 常用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粪便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咽拭子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在体内通过循环系统与全身各个组织器官密切联系，与机体各组织间发生物质交换，同时参与机体的各项生理功能活动，以维持机体正常的新陈代谢和内外环境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病理情况下，血液系统疾病除了直接累及血液外，也可以影响全身各个组织器官，而组织器官的病变也可直接或间接地引起血液发生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检查是临床最常用的检验项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全身：病情、年龄、意识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局部：皮肤组织状况及血管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合作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1280" y="1483920"/>
            <a:ext cx="496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士自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31" descr="一次性真空采血器"/>
          <p:cNvPicPr/>
          <p:nvPr/>
        </p:nvPicPr>
        <p:blipFill>
          <a:blip r:embed="rId1"/>
          <a:srcRect l="3558" t="0" r="3535" b="26608"/>
          <a:stretch/>
        </p:blipFill>
        <p:spPr>
          <a:xfrm>
            <a:off x="4992840" y="3141720"/>
            <a:ext cx="346860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液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血标本采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动脉血标本采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静脉血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600"/>
            <a:ext cx="8610480" cy="24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血标本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静脉血标本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清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于测定血清酶、脂类、电解质和肝功能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干燥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全血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作血沉、血常规检查和测定血液中某些物质如肌酐、尿素氮、血糖等的含量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盛有抗凝剂的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培养标本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用于查找血液中的致病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密封培养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标本采集的意义和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常用标本的种类及采集标本的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说出采集各种常用标本的方法和步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够按照操作规程熟练正确地采集各种常用标本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素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441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静脉血标本操作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300720" y="1440"/>
            <a:ext cx="2667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593640" y="1424160"/>
            <a:ext cx="1008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2319480" y="142416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4419720" y="1319040"/>
            <a:ext cx="1511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携物至床旁查对并解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6875640" y="1319040"/>
            <a:ext cx="118872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选择血管，系止血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Box 12"/>
          <p:cNvSpPr/>
          <p:nvPr/>
        </p:nvSpPr>
        <p:spPr>
          <a:xfrm>
            <a:off x="6570720" y="2922480"/>
            <a:ext cx="1800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常规消毒，    嘱患者握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TextBox 13"/>
          <p:cNvSpPr/>
          <p:nvPr/>
        </p:nvSpPr>
        <p:spPr>
          <a:xfrm>
            <a:off x="4527720" y="306072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穿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Box 14"/>
          <p:cNvSpPr/>
          <p:nvPr/>
        </p:nvSpPr>
        <p:spPr>
          <a:xfrm>
            <a:off x="2344680" y="306072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取血标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Box 15"/>
          <p:cNvSpPr/>
          <p:nvPr/>
        </p:nvSpPr>
        <p:spPr>
          <a:xfrm>
            <a:off x="573120" y="3060720"/>
            <a:ext cx="102852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整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Box 16"/>
          <p:cNvSpPr/>
          <p:nvPr/>
        </p:nvSpPr>
        <p:spPr>
          <a:xfrm>
            <a:off x="449280" y="460044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Box 17"/>
          <p:cNvSpPr/>
          <p:nvPr/>
        </p:nvSpPr>
        <p:spPr>
          <a:xfrm>
            <a:off x="2600280" y="4600440"/>
            <a:ext cx="12970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0" name="直接箭头连接符 7"/>
          <p:cNvCxnSpPr/>
          <p:nvPr/>
        </p:nvCxnSpPr>
        <p:spPr>
          <a:xfrm>
            <a:off x="1692360" y="160776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1" name="直接箭头连接符 20"/>
          <p:cNvCxnSpPr/>
          <p:nvPr/>
        </p:nvCxnSpPr>
        <p:spPr>
          <a:xfrm>
            <a:off x="3710160" y="1628280"/>
            <a:ext cx="5752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2" name="直接箭头连接符 21"/>
          <p:cNvCxnSpPr/>
          <p:nvPr/>
        </p:nvCxnSpPr>
        <p:spPr>
          <a:xfrm>
            <a:off x="6157440" y="1628280"/>
            <a:ext cx="5756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3" name="直接箭头连接符 22"/>
          <p:cNvCxnSpPr/>
          <p:nvPr/>
        </p:nvCxnSpPr>
        <p:spPr>
          <a:xfrm>
            <a:off x="7470360" y="2133720"/>
            <a:ext cx="1080" cy="64512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4" name="直接箭头连接符 27"/>
          <p:cNvCxnSpPr/>
          <p:nvPr/>
        </p:nvCxnSpPr>
        <p:spPr>
          <a:xfrm flipH="1">
            <a:off x="589392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5" name="直接箭头连接符 31"/>
          <p:cNvCxnSpPr/>
          <p:nvPr/>
        </p:nvCxnSpPr>
        <p:spPr>
          <a:xfrm flipH="1">
            <a:off x="3806280" y="3212640"/>
            <a:ext cx="54972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6" name="直接箭头连接符 32"/>
          <p:cNvCxnSpPr/>
          <p:nvPr/>
        </p:nvCxnSpPr>
        <p:spPr>
          <a:xfrm>
            <a:off x="1115640" y="3716280"/>
            <a:ext cx="1080" cy="72144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7" name="直接箭头连接符 33"/>
          <p:cNvCxnSpPr/>
          <p:nvPr/>
        </p:nvCxnSpPr>
        <p:spPr>
          <a:xfrm flipH="1">
            <a:off x="176976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78" name="直接箭头连接符 35"/>
          <p:cNvCxnSpPr/>
          <p:nvPr/>
        </p:nvCxnSpPr>
        <p:spPr>
          <a:xfrm>
            <a:off x="1838160" y="479700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静脉血标本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前：注意告知（生化检验需空腹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时：根据检验需要采集所需血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止在输液、输血处采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血后：注入采血管顺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培养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凝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干燥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脉血标本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55640" y="1722600"/>
            <a:ext cx="613872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5" name="Picture 3" descr="动脉血气针"/>
          <p:cNvPicPr/>
          <p:nvPr/>
        </p:nvPicPr>
        <p:blipFill>
          <a:blip r:embed="rId1"/>
          <a:stretch/>
        </p:blipFill>
        <p:spPr>
          <a:xfrm rot="8290200">
            <a:off x="5090760" y="4309560"/>
            <a:ext cx="362412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动脉血标本操作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593640" y="1424160"/>
            <a:ext cx="1008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2319480" y="1424160"/>
            <a:ext cx="129528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4419720" y="1319040"/>
            <a:ext cx="1511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携物至床旁查对并解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>
            <a:off x="6875640" y="1319040"/>
            <a:ext cx="16570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选择穿刺部位，取合适体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>
            <a:off x="6570720" y="2922480"/>
            <a:ext cx="180000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常规消毒，    固定血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Box 9"/>
          <p:cNvSpPr/>
          <p:nvPr/>
        </p:nvSpPr>
        <p:spPr>
          <a:xfrm>
            <a:off x="4527720" y="3060720"/>
            <a:ext cx="1295280" cy="64260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穿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取血标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Box 11"/>
          <p:cNvSpPr/>
          <p:nvPr/>
        </p:nvSpPr>
        <p:spPr>
          <a:xfrm>
            <a:off x="2679840" y="3060720"/>
            <a:ext cx="102852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整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Box 12"/>
          <p:cNvSpPr/>
          <p:nvPr/>
        </p:nvSpPr>
        <p:spPr>
          <a:xfrm>
            <a:off x="593640" y="3060720"/>
            <a:ext cx="129564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洗手记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Box 13"/>
          <p:cNvSpPr/>
          <p:nvPr/>
        </p:nvSpPr>
        <p:spPr>
          <a:xfrm>
            <a:off x="585720" y="4584600"/>
            <a:ext cx="1295640" cy="368280"/>
          </a:xfrm>
          <a:prstGeom prst="rect">
            <a:avLst/>
          </a:prstGeom>
          <a:noFill/>
          <a:ln w="936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7" name="直接箭头连接符 14"/>
          <p:cNvCxnSpPr/>
          <p:nvPr/>
        </p:nvCxnSpPr>
        <p:spPr>
          <a:xfrm>
            <a:off x="1692360" y="1607760"/>
            <a:ext cx="5738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98" name="直接箭头连接符 15"/>
          <p:cNvCxnSpPr/>
          <p:nvPr/>
        </p:nvCxnSpPr>
        <p:spPr>
          <a:xfrm>
            <a:off x="3710160" y="1628280"/>
            <a:ext cx="5752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199" name="直接箭头连接符 16"/>
          <p:cNvCxnSpPr/>
          <p:nvPr/>
        </p:nvCxnSpPr>
        <p:spPr>
          <a:xfrm>
            <a:off x="6157440" y="1628280"/>
            <a:ext cx="57564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0" name="直接箭头连接符 17"/>
          <p:cNvCxnSpPr/>
          <p:nvPr/>
        </p:nvCxnSpPr>
        <p:spPr>
          <a:xfrm>
            <a:off x="7470360" y="2133720"/>
            <a:ext cx="1080" cy="64512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1" name="直接箭头连接符 18"/>
          <p:cNvCxnSpPr/>
          <p:nvPr/>
        </p:nvCxnSpPr>
        <p:spPr>
          <a:xfrm flipH="1">
            <a:off x="5893920" y="324612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2" name="直接箭头连接符 19"/>
          <p:cNvCxnSpPr/>
          <p:nvPr/>
        </p:nvCxnSpPr>
        <p:spPr>
          <a:xfrm flipH="1">
            <a:off x="3806280" y="3212640"/>
            <a:ext cx="54972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3" name="直接箭头连接符 20"/>
          <p:cNvCxnSpPr/>
          <p:nvPr/>
        </p:nvCxnSpPr>
        <p:spPr>
          <a:xfrm>
            <a:off x="1115640" y="3716280"/>
            <a:ext cx="1080" cy="72144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cxnSp>
        <p:nvCxnSpPr>
          <p:cNvPr id="204" name="直接箭头连接符 23"/>
          <p:cNvCxnSpPr/>
          <p:nvPr/>
        </p:nvCxnSpPr>
        <p:spPr>
          <a:xfrm flipH="1">
            <a:off x="1979280" y="3212640"/>
            <a:ext cx="550080" cy="1080"/>
          </a:xfrm>
          <a:prstGeom prst="straightConnector1">
            <a:avLst/>
          </a:prstGeom>
          <a:ln w="9360">
            <a:solidFill>
              <a:srgbClr val="85c4db"/>
            </a:solidFill>
            <a:miter/>
            <a:tailEnd len="med" type="arrow" w="med"/>
          </a:ln>
        </p:spPr>
      </p:cxnSp>
      <p:pic>
        <p:nvPicPr>
          <p:cNvPr id="205" name="Picture 4" descr="动脉血气针2"/>
          <p:cNvPicPr/>
          <p:nvPr/>
        </p:nvPicPr>
        <p:blipFill>
          <a:blip r:embed="rId1"/>
          <a:stretch/>
        </p:blipFill>
        <p:spPr>
          <a:xfrm>
            <a:off x="5931000" y="4584600"/>
            <a:ext cx="21812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采集动脉血标本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有出血倾向的患者谨慎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固定针头，防止损伤血管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尽快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内容占位符 2"/>
          <p:cNvSpPr/>
          <p:nvPr/>
        </p:nvSpPr>
        <p:spPr>
          <a:xfrm>
            <a:off x="457200" y="15238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一般状况、意识状态、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诊断、治疗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自理能力、合作程度、知识水平及心理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的排尿方式及会阴部的清洁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4" name="Picture 6" descr="857-700-21">
            <a:hlinkClick r:id="rId1"/>
          </p:cNvPr>
          <p:cNvPicPr/>
          <p:nvPr/>
        </p:nvPicPr>
        <p:blipFill>
          <a:blip r:embed="rId2"/>
          <a:srcRect l="7832" t="16929" r="8363" b="29561"/>
          <a:stretch/>
        </p:blipFill>
        <p:spPr>
          <a:xfrm>
            <a:off x="5364000" y="3141720"/>
            <a:ext cx="2819520" cy="1204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u=3319836874,2972613897&amp;fm=0&amp;gp=-48">
            <a:hlinkClick r:id="rId3"/>
          </p:cNvPr>
          <p:cNvPicPr/>
          <p:nvPr/>
        </p:nvPicPr>
        <p:blipFill>
          <a:blip r:embed="rId4"/>
          <a:srcRect l="0" t="16763" r="0" b="16131"/>
          <a:stretch/>
        </p:blipFill>
        <p:spPr>
          <a:xfrm>
            <a:off x="5364000" y="4346640"/>
            <a:ext cx="2819520" cy="15238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468360" y="1647360"/>
            <a:ext cx="496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士自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常规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2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常规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检查尿液的颜色、透明度、有无细胞和管型，测定比重，并作尿蛋白及尿糖的定性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取尿液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于清洁标本容器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下床活动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行动不便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尿管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昏迷或尿潴留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左大括号 4"/>
          <p:cNvSpPr/>
          <p:nvPr/>
        </p:nvSpPr>
        <p:spPr>
          <a:xfrm>
            <a:off x="539640" y="3573360"/>
            <a:ext cx="216000" cy="165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1656000"/>
              <a:gd name="textAreaBottom" fmla="*/ 165060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8"/>
                  <a:pt x="10800" y="235"/>
                </a:cubicBezTo>
                <a:lnTo>
                  <a:pt x="10800" y="10565"/>
                </a:lnTo>
                <a:cubicBezTo>
                  <a:pt x="10800" y="10683"/>
                  <a:pt x="5400" y="10800"/>
                  <a:pt x="0" y="10800"/>
                </a:cubicBezTo>
                <a:cubicBezTo>
                  <a:pt x="5400" y="10800"/>
                  <a:pt x="10800" y="10918"/>
                  <a:pt x="10800" y="11035"/>
                </a:cubicBezTo>
                <a:lnTo>
                  <a:pt x="10800" y="21365"/>
                </a:lnTo>
                <a:cubicBezTo>
                  <a:pt x="10800" y="2148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常规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可将粪便混于尿液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女性患者月经期不宜留尿标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意义和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用标本的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12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或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4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常用作尿的各种定量检查，如尿液中的钠、钾、氯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-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羟类固醇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-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酮类固醇、肌酐、肌酸及尿糖的定量检查或尿浓缩查结核分枝杆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留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(24h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12h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p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要求加入</a:t>
            </a: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宋体"/>
              </a:rPr>
              <a:t>防腐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督促患者及时、正确留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防腐剂的作用及使用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-36360" y="1844640"/>
            <a:ext cx="9180360" cy="3341880"/>
          </a:xfrm>
          <a:prstGeom prst="rect">
            <a:avLst/>
          </a:prstGeom>
          <a:ln w="0">
            <a:noFill/>
          </a:ln>
        </p:spPr>
      </p:pic>
      <p:sp>
        <p:nvSpPr>
          <p:cNvPr id="233" name="矩形 5"/>
          <p:cNvSpPr/>
          <p:nvPr/>
        </p:nvSpPr>
        <p:spPr>
          <a:xfrm>
            <a:off x="2916360" y="1773360"/>
            <a:ext cx="7189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尿培养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细菌培养或细菌敏感试验，以了解病情，协助临床诊断和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：留取中段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排尿的患者：消毒外阴，自行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尿管的患者：留取中段尿法采集未被污染的尿液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严格无菌操作以防尿液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粪便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规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隐血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寄生虫及虫卵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规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用于检查粪便的性状、代谢物及寄生虫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量：棉签或竹签在粪便不同点取少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粪便（蚕豆大小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腹泻：取黏液部分或脓血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隐血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08344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内是否存在肉眼不能察觉的微量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常规标本留法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隐血试验应嘱患者于检查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开始禁食肉类、动物血、维生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含铁丰富的药物、食物及绿色蔬菜等，以免造成假阳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寄生虫及虫卵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中是否存在寄生虫成虫、幼虫及虫卵计数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寄生虫卵：在粪便不同部位取带血或黏液部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蛲虫：睡前透明胶带贴于肛门周围，将取下粘有虫卵的透明胶带取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检查阿米巴原虫：热水将便盆加温至接近体温，留取后立即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培养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600"/>
            <a:ext cx="86104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粪便中的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及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行排便：排便于消毒便盆内，无菌棉签取粪便中央部分或脓血黏液部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置于培养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无便意：无菌长棉签沾无菌生理盐水，由肛门插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~7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顺一个方向旋转退出，将棉签置于无菌培养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规痰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培养标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规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痰的一般形状，涂片经特殊染色以检查细菌、虫卵或癌细胞等，协助诊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行留取：晨起漱口，数次深呼吸后用力咳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法留取：使用集痰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4957920" y="3573360"/>
            <a:ext cx="3192480" cy="2401920"/>
          </a:xfrm>
          <a:prstGeom prst="rect">
            <a:avLst/>
          </a:prstGeom>
          <a:ln w="0">
            <a:noFill/>
          </a:ln>
        </p:spPr>
      </p:pic>
      <p:sp>
        <p:nvSpPr>
          <p:cNvPr id="259" name="TextBox 4"/>
          <p:cNvSpPr/>
          <p:nvPr/>
        </p:nvSpPr>
        <p:spPr>
          <a:xfrm>
            <a:off x="5989680" y="6093000"/>
            <a:ext cx="11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宋体"/>
              </a:rPr>
              <a:t>集痰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08000" y="2781360"/>
            <a:ext cx="8610480" cy="14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   标本采集的意义和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4h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液的量及性状，协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容器（痰杯或广口玻璃瓶）中加少量清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嘱患者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内的痰液全部吐入标本容器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间段：清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日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a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痰培养标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检查痰液中的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同“常规痰标本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须留取在无菌标本容器或无菌集痰器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取后立即盖好瓶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从咽部和扁桃体取分泌物作细菌培养或病毒分离，以协助诊断、治疗和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内容占位符 2"/>
          <p:cNvSpPr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培养试管中取出的无菌棉签用无菌生理盐水蘸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擦拭患者两侧腭弓、咽及扁桃体上的分泌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将试管口在酒精灯上烧灼后将棉签插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再次烧灼试管口后塞进试管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900000" y="4184640"/>
            <a:ext cx="66009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咽拭子标本的采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防止呕吐，采集标本应在进食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后进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棉签擦拭动作轻柔而敏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时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采集血标本前，护士需要做哪些准备？护士需要指导患者做好哪些准备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哪些因素会影响血液气体分析结果的准确性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尿培养标本的注意事项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标本采集的意义和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机体的功能状态和病理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协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制订护理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标本采集的意义和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标本采集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遵照医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充分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查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确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时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遵照医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1" name="Picture 4" descr="图片1"/>
          <p:cNvPicPr/>
          <p:nvPr/>
        </p:nvPicPr>
        <p:blipFill>
          <a:blip r:embed="rId1"/>
          <a:stretch/>
        </p:blipFill>
        <p:spPr>
          <a:xfrm>
            <a:off x="324000" y="1844640"/>
            <a:ext cx="853272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充分准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：病情、检验的目的、送检日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：心理反应、合作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选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标本容器的种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选择适当的采集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严格查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查对医嘱、申请项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姓名、床号、住院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集完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再次查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14:45Z</dcterms:modified>
  <cp:revision>5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