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868267-3126-4C95-85A2-C60EC31591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A7F8DA-2F87-49AB-87A2-7F800D196E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C2FCB32-89E1-44D5-A37B-864572A9EB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B5128C1-584C-4063-8F04-CB341801BD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4B9590-9A34-4E82-A234-D586855360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8DF1B8C-6D41-409C-B904-A7C06AD115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C21668-AF0D-4FC1-A269-90A28587F2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6BA1574-BD6E-4044-A126-8BFDE4D873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08F5B82-0D2F-4476-81AC-800D3025C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471861-599E-47B9-84E8-89BC4E3E99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545B0B-1EE2-46C5-BC2C-895B0C31EC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0CE90A-921E-48E6-A6EE-9A97A585ED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8976-32E7-446E-B01A-2953763BF3C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  护士的素质和行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的含义  沟通是信息发送者遵循一系列共同规则，借助一定媒介将信息发给信息接收者，并通过反馈以达到理解的过程。沟通的根本目的是传递信息，信息的传递过程就是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沟通的类型   任何沟通都是一种信息发送者和信息接收者“双方”之间的交流和联络。根据沟通“双方”的属性不同，沟通可以分为：人与人之间的沟通；人与机械的沟通；机械与机械的沟通。</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际沟通的含义  人际沟通是指人们运用语言或非语言符号系统进行信息交流沟通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的类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沟通和非语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正式沟通和非正式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纵向沟通和横向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单向沟通和双向沟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告知型沟通和说服型沟通　</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5564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有效人际沟通的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真诚的态度</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尊重他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给予温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明确的目的性</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fontScale="67000"/>
          </a:bodyPr>
          <a:p>
            <a:pPr marL="229680" indent="-2296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促进有效沟通的一般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全神贯注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参与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倾听</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核对</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反应</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沉默</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提问</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fontScale="62000"/>
          </a:bodyPr>
          <a:p>
            <a:pPr marL="212400" indent="-2124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影响沟通的因素</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信息发出者和信息接收者个人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不当沟通方式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突然改变话题</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观判断或说教</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虚假的或不适当的保证</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急于陈述自己的观点或迅速提出结论或解答</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不适当地引用一些事实</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治疗性沟通的概念与特点</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治疗性沟通是一般性沟通在护理实践中的具体应用，其目的是帮助服务对象进行身心调适，由疾病状态向健康方向发展。治疗性沟通的特点有：</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以患者为中心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以目标为导向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沟通的发生不以人的意志为转移</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280" y="25056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fontScale="85000"/>
          </a:bodyPr>
          <a:p>
            <a:pPr marL="291600" indent="-291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二）治疗性沟通的主要目的</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建立一个互相信任的、开放的良好护患关系，为提供有效的护理奠定基础。</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收集有关资料，为护理提供必要的依据。</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与患者共同商讨健康问题和护理措施，取得患者合作，共同努力达到预期目标。</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提供给患者必要的健康知识和相关信息，促进患者提高自我护理能力。</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提供心理社会支持，促进身心健康。</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三）治疗性沟通的分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沟通　是指护士应用专业知识解答患者提出的问题，或者是护士围绕患者的病情阐明观点、说明原因、解释与治疗护理有关的注意事项及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沟通　属于商讨问题式的沟通，护患双方地位平等。</a:t>
            </a: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准备与计划阶段    为了会谈的成功，护士在每次交谈前都应该进行细致周密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患者的基本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明确交谈的目的及书写会谈提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选择合适的会谈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做好环境的准备</a:t>
            </a: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交谈开始阶段   护士初次与患者接触时首先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 有礼貌地称呼对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动介绍自己</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说明此次与患者交谈的目的和大约所需的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 帮助患者采取舒适的体位，以便减少不利于交谈的因素</a:t>
            </a: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360" y="304560"/>
            <a:ext cx="1943280" cy="5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197000"/>
            <a:ext cx="8610480" cy="50515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护士素质的内容。</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解释素质、沟通、治疗性沟通的概念。</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陈述有效人际沟通的原则及影响因素。</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常用的沟通技巧。</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能根据护士职业仪表要求，规范仪表和行为。</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能应用人际沟通技巧，进行沟通和交流。</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素质：</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在专业实践活动中，具备良好的护理职业素质。</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交谈进行阶段   在交谈过程中，护士应牢记以患者为中心的原则，鼓励患者交谈。</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提出问题</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交谈结束阶段  良好的结束和开端一样重要。结束时应注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结束时间的控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简明扼要地总结所交谈的重点内容，核实记录的准确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约定下次交谈的时间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患者的合作表示满意和感谢</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护士素质的含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素质是指人的一种较稳定的心理特征。包括先天素质和后天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素质”是指护士应该具备的职业素养，是胜任护理工作所具备的基本条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素质的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思想品德素质  思想品德素质是指导护士从事护理工作的最基本保障。</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科学文化素质　现代护理学发展要求护士具备自然科学、社会科学、外语及计算机应用等文化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专业素养　作为现代护理工作者，应掌握扎实的基础医学知识、临床医学知识、基础护理及专科护理的理论知识及技能，具有一定的预防疾病、健康保健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5"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的语言行为规范  护理专业用语的要求如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的规范性：言语要清晰、温和，措词要准确、达意</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语调要适中</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交代护理意图要简洁、通俗、易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语言的情感性：护士应满腔热忱地面对患者，将对患者的爱心、同情心和真诚相助的情感融化在语言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语言的保密性：护士必须尊重患者的隐私权，对患者的隐私如生理缺陷、性病等要保密，患者不愿陈述的内容不要追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4292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8" name=""/>
          <p:cNvSpPr txBox="1"/>
          <p:nvPr/>
        </p:nvSpPr>
        <p:spPr>
          <a:xfrm>
            <a:off x="103320" y="1125000"/>
            <a:ext cx="8843760" cy="519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非语言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倾听：在倾听过程中，要全神贯注、集中精力、注意听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面部表情：表情常清楚地表明人的情绪，能迅速而真实地反映各种复杂的内心活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皮肤接触：皮肤接触与心理状态有着密切的关系，抚摸对一般患者来讲，是一种无声的安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沉默：在一定的情景下，护士可以用沉默表示关心、尊重、同情和支持，起到此时无声胜有声的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衣着服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服是护士工作时的专用服装，它代表护士的形象，是白衣天使的象征。着装具体要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服应整齐清洁，型号适宜，衣扣扣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帽应平整洁净。戴燕帽时，长发应梳理整齐，于脑后，发饰要素雅；短发要求前不遮眉、后不搭肩、侧不遮耳。燕帽应戴正戴稳，用同色发卡固定于帽后。</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护士鞋样式简洁，以平跟、软底为宜，颜色以白色或乳白色为佳。</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仪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的仪容应端庄、整洁、稳重，修饰应适度，保持自然美；有时根据需要施以淡妆，以自然、清新、高雅、和谐为宜，可以增添职业的风采，使患者感到亲切、和蔼、可信，切忌浓妆艳抹。应经常修剪指甲，不可染甲，也不宜戴戒指和手镯。“质于内而形于外”。保持良好的仪容是护士维护自身形象和护理职业形象美的关键。</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700360" y="404640"/>
            <a:ext cx="5678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姿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在工作中的姿态应体现文明、优雅、敬人的原则。规范美观、自然大方、得体适度的姿态，是护士精神面貌的外在体现，是一种无声的语言，也是护理工作中重要的沟通方式之一。护理工作中常见的姿态包括站姿、坐姿、行姿、端治疗盘、持病历夹、推治疗车等。</a:t>
            </a: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18:34Z</dcterms:modified>
  <cp:revision>1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