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10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A813-A27A-45E9-802B-C4B098BCDBE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FFF1-69F9-4256-B571-31DF89CD869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B2FD-F9AB-4002-B4DD-0DBA62EFA02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3182-90C5-4170-80DA-F174AE3E2CD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DA03-3DFA-4C11-9227-5C92504A313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04D4-6D5A-40FE-B044-38B8DC99D6F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C190-2944-4748-A0A8-46121ED6826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B5E6-2E43-4DB7-A2A4-EACC119E9B1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38C8-9646-4126-9386-87D35094D67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FAAE-CBC3-4798-AC60-7B6175A52F1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5D05-6097-4145-8E27-2576866DB49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01E1-55EE-487C-A5C9-7BF35CF0A04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AC75-A1C4-4566-B7F0-AF447668DC0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87B7-3D93-4944-A07B-F24180DF704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F178-03C7-46EF-923F-BD115A19735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CAAF-7FE7-4BD3-BA7C-9EC3851D565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5433-D86D-433C-AED6-29F380E320D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B84B-8CA9-4034-B0C7-F05A3CFD62B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39D0-85F4-4ACF-8A47-37CD2BE085B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728D-D09A-4472-8961-C98CF82A262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980C-607D-4CE7-BB77-3F608E8CF48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CA07-056A-434E-AAB3-494C5DB33A6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876F-94A5-49E5-A4DA-8B2A8A700FF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3B1F-B835-4A5F-A650-E920F8BC094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FF1D-9609-4BE1-B57B-F57273B6ADF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3C26-3403-44DE-BA30-8852129FDD5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物理性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空气（大气污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哮喘的诱因，儿童哮喘的主因；花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过敏性鼻炎；）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声（噪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听力损失，长期高分贝的噪音可至永久性不可逆损伤。耳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201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生命时报报道，英国一项科学研究表明，长时间戴耳机听歌，可导致耳聋提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到来。耳机通常被分为头戴式、耳挂式与入耳式三种类型，其中对耳朵损伤最小的是头戴式。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放射线（医疗场所的电离辐射；生活中的电磁辐射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A497-EF78-490C-8CCC-D86017B3DCB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EDF4-C76C-4C6C-B1F7-9203F77848F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08C7-AB3D-443F-959F-6963DFBB96D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A1EF-C4E5-4AC1-A8FB-99A0B8FFE19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解释非特异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8AE8-3C07-4B96-AA0C-3C067FD7329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7F2C-D084-4537-B79C-733180CEE31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AF53-C32C-4CA9-B98B-6873B4BBC29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0DD4-0921-4DC0-AAB4-D8C618C474D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结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5AD9-B468-4B15-9844-AFAD4845424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BEC8-09A6-4267-BB2D-0E765AD0F38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41F9-E94E-44F9-B0BB-27FF76F2517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C807-6BA6-48A2-8DA5-B0D1EB1340A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2A15-D2FE-4C24-B22A-B607315647F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66FE-EA79-40EC-9279-D83F6F0A4AD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7642-CE87-4B6C-9D80-2EC6C09C200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35B1-9BD0-4D07-A9DB-589192B2B14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6AB4-B684-4E08-9D5E-BA4D8DE345D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68EF-8E5A-45D1-A49B-DEBC52606EC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0271E-5CD6-4A87-917F-7D11770299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6AB4-57B0-428F-B4EF-962DD313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CE279-CDBD-4B5B-8977-AA423F72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D5E39-699D-4D1A-B1F3-DDFB0AB98B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5E2A6-EED2-496A-B6FB-5B7AD30C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A71AE-2744-47AA-8F3E-59848038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2742D-66E1-43BD-B874-FCFA8CB4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113BF-3683-4FC2-BEF9-B75A695E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86C75-6A63-479C-ACDB-E33A9EB9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7F0E1-6412-46A1-AC5A-290833F7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B797-DB5C-45A1-98E3-438E3839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6A945-E568-477D-A1AC-267AFB32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3AB82-9BB7-4B72-BD04-55779138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3D778-11D7-4B6A-B912-3D57AAF4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FEE48-59AD-455A-97C3-26AA6488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9EB57-6FDF-459D-8802-93885B9B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C0F09-48CC-4D72-8237-13DF6F9A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B4C15-EEFC-4682-83F4-059EB707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A26F48-1F4B-4D13-B8FF-30C80167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9339A4-47DD-45D6-A1A8-B80EA666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1F87D8-2079-4330-A841-808E2359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ED211-02B6-4D21-B94F-E28F8378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20CEB1-CE91-4CE9-AA06-3B42C94C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D0C247-BA0B-4B1B-B408-34D789EA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F2FBFC-2B04-49CC-8021-C7F31A1B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671A2F-86EA-480B-9789-E7127ED2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E6DF0B-EE5A-4004-BC81-0BD9BD93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143958-10BF-4A8C-A915-DBF0565D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623FA0-8E35-446E-9815-A5721B2F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9C4992-E018-4DF6-9917-1BDCD387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6E1B73-750A-4E64-8896-4F34F20A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7640-133E-4097-8C1E-B8985D90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74915-13E2-4AE9-A7D9-8D1E4E03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76713-B9A0-4046-BB7E-A68BA01B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9F35-ECED-457C-B35D-FBAC6872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F3F35-BBDA-4019-B83C-C0D01B98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69FF-73B6-4748-AB84-D8961A8AC81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2378-2CFF-4B5D-876B-D34CA1AA6D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07F2-9AA1-46E3-A682-75A216FC6873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实践中的概念和相关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特性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996000" cy="4498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整体性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</a:t>
            </a:r>
            <a:r>
              <a:rPr b="1" lang="zh-CN" sz="40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</a:rPr>
              <a:t>1+1&gt;2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关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集合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级结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67120" y="1599840"/>
            <a:ext cx="3996000" cy="4498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目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动态平衡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有序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环境适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系统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96252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人类干预的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人工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范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宏观系统、微观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学科领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社会系统、思维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要素的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体系统、概念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58920" y="1628280"/>
            <a:ext cx="3886200" cy="480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是否随时间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动态系统、静态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与环境的关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开放系统、闭合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状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系统、非平衡系统、近平衡系统、远平衡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复杂程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超系统、子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超系统与子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简单、低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系统称为子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复杂、高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为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超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子系统与超系统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相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个系统可分为许多较简单的、相互关联、相互作用的子系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开放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open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周围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断进行着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物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能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信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换，通过与环境间的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持续相互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来改变自己、达到目标的系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环境间的作用是通过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反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程完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3733920" y="4191120"/>
            <a:ext cx="1523880" cy="685800"/>
          </a:xfrm>
          <a:prstGeom prst="rect">
            <a:avLst/>
          </a:prstGeom>
          <a:solidFill>
            <a:srgbClr val="8ac8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反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380880" y="1676520"/>
            <a:ext cx="1447920" cy="68580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7162920" y="1676520"/>
            <a:ext cx="1447560" cy="6858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1905120" y="190512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5867280" y="19051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743200" y="54100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隶书"/>
              </a:rPr>
              <a:t>开放系统示意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3124080" y="1447920"/>
            <a:ext cx="2743200" cy="1066680"/>
          </a:xfrm>
          <a:prstGeom prst="flowChartDecision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系统部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019920" y="213372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7924680" y="2438280"/>
            <a:ext cx="0" cy="213372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5409720" y="4495680"/>
            <a:ext cx="25146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 flipH="1">
            <a:off x="1295280" y="4495680"/>
            <a:ext cx="23623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 flipV="1">
            <a:off x="1295280" y="2514240"/>
            <a:ext cx="0" cy="20574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1905120" y="220968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闭合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close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87120" y="1778040"/>
            <a:ext cx="7700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环境间不发生相互作用的系统，即与环境没有物质、信息或能量的交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事实上绝对的闭合系统是不存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二、在护理实践中的应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服务对象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自然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具有主观能动性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新魏"/>
              </a:rPr>
              <a:t>护理活动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护理系统是一个具有复杂结构的系统护理理论发展的基本框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开放、动态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具有决策和反馈功能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人类基本需要层次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1143000"/>
            <a:ext cx="8893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系统、开放系统、超系统、子系统、应激源、应激、适应和应对的概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一般系统论的观点描述人作为一个系统的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人类基本需要层次论列举个体的各种需求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成长与发展的概念及规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爱瑞克森心理社会发展学说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发展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塞尔耶的应激反应模式三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基本需要层次论，对日常出现的需要进行分类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爱瑞克森心理社会发展学说，对患者的发展阶段进行分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素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护理实践中，注意患者的不同需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YH2-3"/>
          <p:cNvPicPr/>
          <p:nvPr/>
        </p:nvPicPr>
        <p:blipFill>
          <a:blip r:embed="rId1"/>
          <a:stretch/>
        </p:blipFill>
        <p:spPr>
          <a:xfrm>
            <a:off x="1447920" y="990720"/>
            <a:ext cx="6248160" cy="51814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首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，然后再考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通常一个层次的需要被满足后，更高一层的需要才会出现，并逐渐明显和强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生存所必需的低层次需要是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立即和持续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予以满足的，越高层次的需要越可被较长久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延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们满足较低层次需要的活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本相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是高层次的需要人们采用的满足方式越具有个体的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需要层次向高层次移动，各种需要满足的意义对每个人来说就越具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需要层次之间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互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需要被满足的程度与健康状况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层次的需要比高层次需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确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限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val 2"/>
          <p:cNvSpPr/>
          <p:nvPr/>
        </p:nvSpPr>
        <p:spPr>
          <a:xfrm>
            <a:off x="2819520" y="2057400"/>
            <a:ext cx="3552840" cy="2514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人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3733920" y="380880"/>
            <a:ext cx="2590560" cy="914400"/>
          </a:xfrm>
          <a:prstGeom prst="wedgeEllipseCallout">
            <a:avLst>
              <a:gd name="adj1" fmla="val -31615"/>
              <a:gd name="adj2" fmla="val 13333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文化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 rot="10800000">
            <a:off x="914040" y="4648320"/>
            <a:ext cx="3048120" cy="1218960"/>
          </a:xfrm>
          <a:prstGeom prst="wedgeEllipseCallout">
            <a:avLst>
              <a:gd name="adj1" fmla="val -45574"/>
              <a:gd name="adj2" fmla="val 6028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认知障碍和知识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 rot="5400000">
            <a:off x="7467120" y="2743200"/>
            <a:ext cx="914400" cy="2438280"/>
          </a:xfrm>
          <a:prstGeom prst="wedgeEllipseCallout">
            <a:avLst>
              <a:gd name="adj1" fmla="val -10592"/>
              <a:gd name="adj2" fmla="val 7512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社会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6172200" y="1676520"/>
            <a:ext cx="2743200" cy="838080"/>
          </a:xfrm>
          <a:prstGeom prst="wedgeEllipseCallout">
            <a:avLst>
              <a:gd name="adj1" fmla="val -50925"/>
              <a:gd name="adj2" fmla="val 8731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个人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 rot="7200000">
            <a:off x="6019200" y="4419000"/>
            <a:ext cx="990720" cy="2667240"/>
          </a:xfrm>
          <a:prstGeom prst="wedgeEllipseCallout">
            <a:avLst>
              <a:gd name="adj1" fmla="val -36972"/>
              <a:gd name="adj2" fmla="val 6897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环境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 rot="16800000">
            <a:off x="1161000" y="438840"/>
            <a:ext cx="954000" cy="2514600"/>
          </a:xfrm>
          <a:prstGeom prst="wedgeEllipseCallout">
            <a:avLst>
              <a:gd name="adj1" fmla="val -68995"/>
              <a:gd name="adj2" fmla="val 6338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生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 rot="10800000">
            <a:off x="-360" y="2971800"/>
            <a:ext cx="2590920" cy="914400"/>
          </a:xfrm>
          <a:prstGeom prst="wedgeEllipseCallout">
            <a:avLst>
              <a:gd name="adj1" fmla="val -61217"/>
              <a:gd name="adj2" fmla="val -319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、残疾、疲劳、疼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的障碍和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满足需要所需的相应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陌生、温度、湿度、噪声、污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人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人格类型及性格特点、习惯、文化背景、信仰、价值观、生活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社交、沟通能力低下、与亲人分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文化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道德观、文化风俗、宗教、信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在护理实践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帮助护士识别未满足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护士更好的理解患者的言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士预测护理对象尚未表达的需要，或可能出现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助于按需要的层次识别和排列问题的轻、重、缓、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学的理论基础之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特殊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、腹泻、尿失禁、便失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和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刺激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所需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交和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7640" y="304920"/>
            <a:ext cx="8807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身体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意外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交叉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入院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相关知识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二节   人类基本需要层次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三节   成长与发展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四节   应激与适应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64072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爱与归属的需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怀、理解、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良好的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允许家属探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尊敬与自尊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495320" y="228240"/>
            <a:ext cx="4496040" cy="3962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帮助患者感到自身的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称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隐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个人习惯、价值观、宗教信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520" y="4114440"/>
            <a:ext cx="3962160" cy="243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创造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保证低层次需要的满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0" y="1643040"/>
            <a:ext cx="455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自我实现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28640" y="428400"/>
            <a:ext cx="841536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帮助确定满足患者基本需要的途径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协助患者满足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三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成长与发展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长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发展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熟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人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改变，是细胞增殖的结果。表现为机体整体和各器官的长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量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增加，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可测量和可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到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包括四种生长形态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更新②肥大③增生④增量性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1"/>
          <p:cNvGrpSpPr/>
          <p:nvPr/>
        </p:nvGrpSpPr>
        <p:grpSpPr>
          <a:xfrm>
            <a:off x="3419640" y="2781360"/>
            <a:ext cx="1790640" cy="634680"/>
            <a:chOff x="3419640" y="2781360"/>
            <a:chExt cx="1790640" cy="634680"/>
          </a:xfrm>
        </p:grpSpPr>
        <p:sp>
          <p:nvSpPr>
            <p:cNvPr id="292" name="Oval 6"/>
            <p:cNvSpPr/>
            <p:nvPr/>
          </p:nvSpPr>
          <p:spPr>
            <a:xfrm>
              <a:off x="4029120" y="2781360"/>
              <a:ext cx="118116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7"/>
            <p:cNvSpPr/>
            <p:nvPr/>
          </p:nvSpPr>
          <p:spPr>
            <a:xfrm>
              <a:off x="3419640" y="2857320"/>
              <a:ext cx="118080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22"/>
          <p:cNvGrpSpPr/>
          <p:nvPr/>
        </p:nvGrpSpPr>
        <p:grpSpPr>
          <a:xfrm>
            <a:off x="3770280" y="4054320"/>
            <a:ext cx="1152720" cy="865440"/>
            <a:chOff x="3770280" y="4054320"/>
            <a:chExt cx="1152720" cy="865440"/>
          </a:xfrm>
        </p:grpSpPr>
        <p:sp>
          <p:nvSpPr>
            <p:cNvPr id="295" name="Oval 8"/>
            <p:cNvSpPr/>
            <p:nvPr/>
          </p:nvSpPr>
          <p:spPr>
            <a:xfrm>
              <a:off x="3770280" y="4054320"/>
              <a:ext cx="647640" cy="35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9"/>
            <p:cNvSpPr/>
            <p:nvPr/>
          </p:nvSpPr>
          <p:spPr>
            <a:xfrm>
              <a:off x="4275000" y="4054320"/>
              <a:ext cx="648000" cy="351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0"/>
            <p:cNvSpPr/>
            <p:nvPr/>
          </p:nvSpPr>
          <p:spPr>
            <a:xfrm>
              <a:off x="3986280" y="4559400"/>
              <a:ext cx="647640" cy="360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8" name="Text Box 11"/>
          <p:cNvSpPr/>
          <p:nvPr/>
        </p:nvSpPr>
        <p:spPr>
          <a:xfrm>
            <a:off x="5929200" y="1392120"/>
            <a:ext cx="1871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增   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6012000" y="2781360"/>
            <a:ext cx="1873080" cy="64260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a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肥   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5940360" y="4292640"/>
            <a:ext cx="2016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7819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更   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6084720" y="5589720"/>
            <a:ext cx="2808360" cy="642600"/>
          </a:xfrm>
          <a:prstGeom prst="rect">
            <a:avLst/>
          </a:prstGeom>
          <a:solidFill>
            <a:srgbClr val="99669b"/>
          </a:solidFill>
          <a:ln w="0">
            <a:noFill/>
          </a:ln>
          <a:effectLst>
            <a:outerShdw dist="17819" dir="2700000" blurRad="0" rotWithShape="0">
              <a:srgbClr val="5c3d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汉鼎简魏碑"/>
              </a:rPr>
              <a:t>增量性生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Group 23"/>
          <p:cNvGrpSpPr/>
          <p:nvPr/>
        </p:nvGrpSpPr>
        <p:grpSpPr>
          <a:xfrm>
            <a:off x="868320" y="2975040"/>
            <a:ext cx="981000" cy="330120"/>
            <a:chOff x="868320" y="2975040"/>
            <a:chExt cx="981000" cy="330120"/>
          </a:xfrm>
        </p:grpSpPr>
        <p:sp>
          <p:nvSpPr>
            <p:cNvPr id="303" name="Oval 2"/>
            <p:cNvSpPr/>
            <p:nvPr/>
          </p:nvSpPr>
          <p:spPr>
            <a:xfrm>
              <a:off x="868320" y="2975040"/>
              <a:ext cx="62064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1249200" y="2975040"/>
              <a:ext cx="60012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5" name="Group 20"/>
          <p:cNvGrpSpPr/>
          <p:nvPr/>
        </p:nvGrpSpPr>
        <p:grpSpPr>
          <a:xfrm>
            <a:off x="3724200" y="1405080"/>
            <a:ext cx="1198800" cy="637920"/>
            <a:chOff x="3724200" y="1405080"/>
            <a:chExt cx="1198800" cy="637920"/>
          </a:xfrm>
        </p:grpSpPr>
        <p:sp>
          <p:nvSpPr>
            <p:cNvPr id="306" name="Oval 3"/>
            <p:cNvSpPr/>
            <p:nvPr/>
          </p:nvSpPr>
          <p:spPr>
            <a:xfrm>
              <a:off x="4029120" y="14050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4"/>
            <p:cNvSpPr/>
            <p:nvPr/>
          </p:nvSpPr>
          <p:spPr>
            <a:xfrm>
              <a:off x="4334040" y="16336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5"/>
            <p:cNvSpPr/>
            <p:nvPr/>
          </p:nvSpPr>
          <p:spPr>
            <a:xfrm>
              <a:off x="3724200" y="14810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4029120" y="17096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0" name="Line 17"/>
          <p:cNvSpPr/>
          <p:nvPr/>
        </p:nvSpPr>
        <p:spPr>
          <a:xfrm flipV="1">
            <a:off x="2114640" y="1895400"/>
            <a:ext cx="1224000" cy="9352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18"/>
          <p:cNvSpPr/>
          <p:nvPr/>
        </p:nvSpPr>
        <p:spPr>
          <a:xfrm>
            <a:off x="2195640" y="3141720"/>
            <a:ext cx="936360" cy="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969920" y="3479760"/>
            <a:ext cx="1584360" cy="8650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发展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developmen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生命中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有顺序、可预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功能改变，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身、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两个方面。表现为细胞、组织、器官功能的成熟和机体能力的演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质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变化，一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不易被测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是学习的结果和成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5" name="Picture 4" descr="pic025"/>
          <p:cNvPicPr/>
          <p:nvPr/>
        </p:nvPicPr>
        <p:blipFill>
          <a:blip r:embed="rId1"/>
          <a:stretch/>
        </p:blipFill>
        <p:spPr>
          <a:xfrm>
            <a:off x="7246800" y="4221000"/>
            <a:ext cx="1897200" cy="22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熟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matura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熟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成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结果 。狭义：指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的生长发育。广义：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心理社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发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遗传基因所决定，但又受环境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成长和发展的组成部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方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道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9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成长与发展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规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顺序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近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简单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低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连续性和阶段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长和发展是一个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连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过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阶段性：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非等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86160" y="1356840"/>
            <a:ext cx="450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人的体格生长方面，各器官系统的发育是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快慢不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各有先后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社会发展同样存在不平衡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差异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敏感时期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认为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生长发展较快的阶段是人较敏感的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成长与发展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4571640"/>
            <a:ext cx="861048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的生长发展受父母双方遗传因素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遗传决定机体发育的可能范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779472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785960" y="178560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状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家庭经济和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文化习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4572000" y="4292640"/>
            <a:ext cx="4356000" cy="1800360"/>
          </a:xfrm>
          <a:prstGeom prst="cloudCallout">
            <a:avLst>
              <a:gd name="adj1" fmla="val -73143"/>
              <a:gd name="adj2" fmla="val 8183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环境则决定发展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速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及最终达到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84360" y="2125440"/>
            <a:ext cx="7929360" cy="3670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弗洛伊德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reu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性心理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爱瑞克森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心理社会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海维霍斯特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avighurs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发展任务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亚杰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age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认知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发展理论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8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0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爱瑞克森的心理社会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人的心理社会发展分为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个阶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个阶段都有一个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中心问题或矛盾冲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所有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都要经过这些阶段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顺序固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不能颠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着重强调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文化及社会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人格或情感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5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0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期  口感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信任对不信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与照顾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父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起信任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意口感输入和各种需要的满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重信任与不信任体验的比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母亲的信心、情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满足各种需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鼓励父母参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性－乐观、信任他人、安全感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6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1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6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1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4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期  肛肌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.5~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主对羞愧或疑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自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孩子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控制排便，想独立完成吃饭、穿衣、爬楼梯等，反复说“我”，爱用“不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支持、鼓励；避免过分干预；适当约束，帮助其学习适应社会的规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提供自己做决定的机会；多鼓励；不评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正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我控制和自信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314280" y="-542880"/>
            <a:ext cx="8515440" cy="7943760"/>
            <a:chOff x="314280" y="-542880"/>
            <a:chExt cx="8515440" cy="7943760"/>
          </a:xfrm>
        </p:grpSpPr>
        <p:sp>
          <p:nvSpPr>
            <p:cNvPr id="339" name="Rectangle 5"/>
            <p:cNvSpPr/>
            <p:nvPr/>
          </p:nvSpPr>
          <p:spPr>
            <a:xfrm>
              <a:off x="314280" y="-542880"/>
              <a:ext cx="8515440" cy="79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40" name="Group 6"/>
            <p:cNvGrpSpPr/>
            <p:nvPr/>
          </p:nvGrpSpPr>
          <p:grpSpPr>
            <a:xfrm>
              <a:off x="314280" y="-542880"/>
              <a:ext cx="2343240" cy="7692840"/>
              <a:chOff x="314280" y="-542880"/>
              <a:chExt cx="2343240" cy="7692840"/>
            </a:xfrm>
          </p:grpSpPr>
          <p:sp>
            <p:nvSpPr>
              <p:cNvPr id="341" name="Rectangle 7"/>
              <p:cNvSpPr/>
              <p:nvPr/>
            </p:nvSpPr>
            <p:spPr>
              <a:xfrm>
                <a:off x="314280" y="-542880"/>
                <a:ext cx="2343240" cy="76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Rectangle 8"/>
              <p:cNvSpPr/>
              <p:nvPr/>
            </p:nvSpPr>
            <p:spPr>
              <a:xfrm>
                <a:off x="314280" y="-542880"/>
                <a:ext cx="1155600" cy="163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900"/>
                </a:b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  </a:t>
                </a:r>
                <a:r>
                  <a:rPr b="0" lang="en-US" sz="47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</a:t>
                </a: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                              </a:t>
                </a:r>
                <a:br>
                  <a:rPr sz="900"/>
                </a:br>
                <a:br>
                  <a:rPr sz="900"/>
                </a:br>
                <a:br>
                  <a:rPr sz="900"/>
                </a:br>
                <a:endParaRPr b="0" lang="en-US" sz="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9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8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3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8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3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期  生殖运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主动对内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被异性父母所吸引，逐步理解自己的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发展主动性：很好奇，常问问题；发明或创造一些新活动或新语言，自己制订计划，订立目标，并极力争取达到目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儿童更多的自由和机会去创造和实践；耐心解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有益行为赞扬；提供创造新活动的机会；接受合理要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不怕挫折、有进取心、有创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0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2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7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2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7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2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7852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期  潜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；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勤奋对自卑</a:t>
            </a:r>
            <a:r>
              <a:rPr b="1" lang="zh-CN" sz="2800" spc="-1" strike="noStrike">
                <a:solidFill>
                  <a:srgbClr val="ff00ff"/>
                </a:solidFill>
                <a:latin typeface="Verdana"/>
                <a:ea typeface="宋体"/>
              </a:rPr>
              <a:t>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决定性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勤奋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迫切地学习文化知识和各种技能；学习与他人合作和竞争以及守规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奖励和赞扬成功；勿嘲笑和伤害失败；发掘勤奋潜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帮助继续完成学习任务；鼓励参加到护理工作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获得基本的学习和待人接物的能力，学会与他人竞争、合作、守规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9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3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8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3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8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3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期  青春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我认同对角色紊乱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最为关键的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自我认同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注意自己的仪表和社会定位，关注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是谁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，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将来向哪个方向发展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社会及父母所期望的角色和自己所喜欢扮演的角色发生冲突（个人价值观与社会观念的统一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接受自我、有明确的生活目的、为设定的目标努力献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0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5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0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一、理论概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期  成人早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2190600"/>
            <a:ext cx="777240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~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亲密对孤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亲密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结婚和拥有亲密的朋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选择职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美满的感情生活，亲密的人际关系，良好的协作精神，并为事业奠定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7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6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9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4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七期  成人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40~6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繁殖、有成就对停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是养育下一代，在事业上取得成就，对社会负有责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细心培养下一代，热爱家庭和有创造性地努力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1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5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0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期  老年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5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岁以上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完善对失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生命的终末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生理老化，失去工作、配偶、朋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不良情绪：抑郁、悲观、失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回顾一生、评价自己、弥补缺憾，体验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乐观、满足、顺其自然、安享天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1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6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9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4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8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3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8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4901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阶段            年龄             危机                          美德</a:t>
                      </a: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品质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67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口感期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信任对不信任                 希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肛肌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y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主对羞愧或疑虑          意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生殖运动期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y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主动对内疚                     目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潜在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y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勤奋对自卑                    能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青春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我认同对角色紊乱      忠诚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早期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亲密对孤独                      爱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繁殖或有成就            关心、创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                             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对停滞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老年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以上       完善对失望                    智慧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8ac8d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四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应激与适应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应激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 Unicode MS"/>
                <a:ea typeface="Arial Unicode MS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又称压力或紧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：指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内外环境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中的刺激物作用于个体而使个体产生的一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身心紧张状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1" name="Picture 54" descr="图片13蹦极"/>
          <p:cNvPicPr/>
          <p:nvPr/>
        </p:nvPicPr>
        <p:blipFill>
          <a:blip r:embed="rId1"/>
          <a:stretch/>
        </p:blipFill>
        <p:spPr>
          <a:xfrm>
            <a:off x="5211720" y="4286160"/>
            <a:ext cx="3627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599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源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o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任何可使机体产生应激反应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矩形 8"/>
          <p:cNvSpPr/>
          <p:nvPr/>
        </p:nvSpPr>
        <p:spPr>
          <a:xfrm>
            <a:off x="1143000" y="3071880"/>
            <a:ext cx="2643120" cy="3214800"/>
          </a:xfrm>
          <a:prstGeom prst="rect">
            <a:avLst/>
          </a:prstGeom>
          <a:solidFill>
            <a:srgbClr val="e8dde9"/>
          </a:solidFill>
          <a:ln w="25560">
            <a:solidFill>
              <a:srgbClr val="e8d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等腰三角形 9"/>
          <p:cNvSpPr/>
          <p:nvPr/>
        </p:nvSpPr>
        <p:spPr>
          <a:xfrm>
            <a:off x="16430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等腰三角形 10"/>
          <p:cNvSpPr/>
          <p:nvPr/>
        </p:nvSpPr>
        <p:spPr>
          <a:xfrm>
            <a:off x="1428840" y="428616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等腰三角形 11"/>
          <p:cNvSpPr/>
          <p:nvPr/>
        </p:nvSpPr>
        <p:spPr>
          <a:xfrm>
            <a:off x="3071880" y="421488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等腰三角形 12"/>
          <p:cNvSpPr/>
          <p:nvPr/>
        </p:nvSpPr>
        <p:spPr>
          <a:xfrm>
            <a:off x="2857680" y="5286240"/>
            <a:ext cx="28548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等腰三角形 13"/>
          <p:cNvSpPr/>
          <p:nvPr/>
        </p:nvSpPr>
        <p:spPr>
          <a:xfrm>
            <a:off x="225252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等腰三角形 14"/>
          <p:cNvSpPr/>
          <p:nvPr/>
        </p:nvSpPr>
        <p:spPr>
          <a:xfrm>
            <a:off x="164304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等腰三角形 15"/>
          <p:cNvSpPr/>
          <p:nvPr/>
        </p:nvSpPr>
        <p:spPr>
          <a:xfrm>
            <a:off x="25574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右箭头 16"/>
          <p:cNvSpPr/>
          <p:nvPr/>
        </p:nvSpPr>
        <p:spPr>
          <a:xfrm>
            <a:off x="4000680" y="42148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椭圆 17"/>
          <p:cNvSpPr/>
          <p:nvPr/>
        </p:nvSpPr>
        <p:spPr>
          <a:xfrm>
            <a:off x="5286240" y="3643200"/>
            <a:ext cx="1714680" cy="1785960"/>
          </a:xfrm>
          <a:prstGeom prst="ellipse">
            <a:avLst/>
          </a:prstGeom>
          <a:solidFill>
            <a:srgbClr val="684569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反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42960" y="1428840"/>
            <a:ext cx="565776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般性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性：如空气、声音、放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化学性：如酸、碱、化学药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物性：如各种病原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、病理性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常生理功能变化：如月经期、妊娠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性的：如缺氧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蛋白质缺乏、维生素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诊疗性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599840"/>
            <a:ext cx="80024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客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灾难性事件、生老病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主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人际关系、工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习、感情、家庭、经济等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18560" y="1157040"/>
            <a:ext cx="4183200" cy="38574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33cc"/>
                </a:solidFill>
                <a:latin typeface="Tahoma"/>
                <a:ea typeface="宋体"/>
              </a:rPr>
              <a:t>什么是系统？</a:t>
            </a:r>
            <a:br>
              <a:rPr sz="3200"/>
            </a:br>
            <a:br>
              <a:rPr sz="3200"/>
            </a:br>
            <a:r>
              <a:rPr b="0" i="1" lang="zh-CN" sz="3200" spc="-1" strike="noStrike">
                <a:solidFill>
                  <a:srgbClr val="a50021"/>
                </a:solidFill>
                <a:latin typeface="Tahoma"/>
                <a:ea typeface="宋体"/>
              </a:rPr>
              <a:t>什么是一般系统论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espon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应激源作用于个体时，个体出现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一系列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7" descr="stress"/>
          <p:cNvPicPr/>
          <p:nvPr/>
        </p:nvPicPr>
        <p:blipFill>
          <a:blip r:embed="rId1"/>
          <a:stretch/>
        </p:blipFill>
        <p:spPr>
          <a:xfrm>
            <a:off x="4267080" y="1052640"/>
            <a:ext cx="4876920" cy="5472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率加快、血压增高、腹泻、尿频、血糖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情绪、情感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、恐惧、抑郁、愤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认知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力减低、思维狭窄、做出选择和决定能力下降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5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0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行为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法完成工作、频繁出错、语速增快，无目的动作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3"/>
          <p:cNvSpPr/>
          <p:nvPr/>
        </p:nvSpPr>
        <p:spPr>
          <a:xfrm>
            <a:off x="460800" y="2000160"/>
            <a:ext cx="1277640" cy="18813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99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应激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0" name="Group 60"/>
          <p:cNvGrpSpPr/>
          <p:nvPr/>
        </p:nvGrpSpPr>
        <p:grpSpPr>
          <a:xfrm>
            <a:off x="5800680" y="2000160"/>
            <a:ext cx="985680" cy="1981440"/>
            <a:chOff x="5800680" y="2000160"/>
            <a:chExt cx="985680" cy="1981440"/>
          </a:xfrm>
        </p:grpSpPr>
        <p:sp>
          <p:nvSpPr>
            <p:cNvPr id="391" name="AutoShape 13"/>
            <p:cNvSpPr/>
            <p:nvPr/>
          </p:nvSpPr>
          <p:spPr>
            <a:xfrm>
              <a:off x="5800680" y="2838600"/>
              <a:ext cx="335520" cy="304560"/>
            </a:xfrm>
            <a:custGeom>
              <a:avLst/>
              <a:gdLst>
                <a:gd name="textAreaLeft" fmla="*/ 41760 w 335520"/>
                <a:gd name="textAreaRight" fmla="*/ 293760 w 335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Text Box 7"/>
            <p:cNvSpPr/>
            <p:nvPr/>
          </p:nvSpPr>
          <p:spPr>
            <a:xfrm>
              <a:off x="6118560" y="2000160"/>
              <a:ext cx="667800" cy="1981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53753" dir="2700000" blurRad="0" rotWithShape="0">
                <a:srgbClr val="007a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应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49"/>
          <p:cNvGrpSpPr/>
          <p:nvPr/>
        </p:nvGrpSpPr>
        <p:grpSpPr>
          <a:xfrm>
            <a:off x="3214800" y="1500120"/>
            <a:ext cx="1997640" cy="2856960"/>
            <a:chOff x="3214800" y="1500120"/>
            <a:chExt cx="1997640" cy="2856960"/>
          </a:xfrm>
        </p:grpSpPr>
        <p:grpSp>
          <p:nvGrpSpPr>
            <p:cNvPr id="394" name="Group 44"/>
            <p:cNvGrpSpPr/>
            <p:nvPr/>
          </p:nvGrpSpPr>
          <p:grpSpPr>
            <a:xfrm>
              <a:off x="3214800" y="1500120"/>
              <a:ext cx="1997640" cy="2854800"/>
              <a:chOff x="3214800" y="1500120"/>
              <a:chExt cx="1997640" cy="2854800"/>
            </a:xfrm>
          </p:grpSpPr>
          <p:sp>
            <p:nvSpPr>
              <p:cNvPr id="395" name="AutoShape 45"/>
              <p:cNvSpPr/>
              <p:nvPr/>
            </p:nvSpPr>
            <p:spPr>
              <a:xfrm>
                <a:off x="3214800" y="2450880"/>
                <a:ext cx="1997640" cy="1904040"/>
              </a:xfrm>
              <a:prstGeom prst="upArrow">
                <a:avLst>
                  <a:gd name="adj1" fmla="val 37500"/>
                  <a:gd name="adj2" fmla="val 34583"/>
                </a:avLst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Oval 46"/>
              <p:cNvSpPr/>
              <p:nvPr/>
            </p:nvSpPr>
            <p:spPr>
              <a:xfrm>
                <a:off x="3714840" y="1500120"/>
                <a:ext cx="997560" cy="9507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" name="Text Box 48"/>
            <p:cNvSpPr/>
            <p:nvPr/>
          </p:nvSpPr>
          <p:spPr>
            <a:xfrm>
              <a:off x="3830400" y="2240280"/>
              <a:ext cx="729000" cy="21168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7a99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Arial"/>
                  <a:ea typeface="隶书"/>
                </a:rPr>
                <a:t>个体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8" name="右箭头 29"/>
          <p:cNvSpPr/>
          <p:nvPr/>
        </p:nvSpPr>
        <p:spPr>
          <a:xfrm>
            <a:off x="1857240" y="2286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右箭头 30"/>
          <p:cNvSpPr/>
          <p:nvPr/>
        </p:nvSpPr>
        <p:spPr>
          <a:xfrm>
            <a:off x="1857240" y="285768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右箭头 31"/>
          <p:cNvSpPr/>
          <p:nvPr/>
        </p:nvSpPr>
        <p:spPr>
          <a:xfrm>
            <a:off x="1857240" y="3429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椭圆 32"/>
          <p:cNvSpPr/>
          <p:nvPr/>
        </p:nvSpPr>
        <p:spPr>
          <a:xfrm>
            <a:off x="2571840" y="785880"/>
            <a:ext cx="3286080" cy="5072040"/>
          </a:xfrm>
          <a:prstGeom prst="ellipse">
            <a:avLst/>
          </a:prstGeom>
          <a:noFill/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矩形 33"/>
          <p:cNvSpPr/>
          <p:nvPr/>
        </p:nvSpPr>
        <p:spPr>
          <a:xfrm>
            <a:off x="3500280" y="471492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右箭头 15"/>
          <p:cNvSpPr/>
          <p:nvPr/>
        </p:nvSpPr>
        <p:spPr>
          <a:xfrm>
            <a:off x="6858000" y="292896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4" name="Group 33"/>
          <p:cNvGrpSpPr/>
          <p:nvPr/>
        </p:nvGrpSpPr>
        <p:grpSpPr>
          <a:xfrm>
            <a:off x="7427880" y="2143080"/>
            <a:ext cx="1643040" cy="1785600"/>
            <a:chOff x="7427880" y="2143080"/>
            <a:chExt cx="1643040" cy="1785600"/>
          </a:xfrm>
        </p:grpSpPr>
        <p:sp>
          <p:nvSpPr>
            <p:cNvPr id="405" name="AutoShape 30"/>
            <p:cNvSpPr/>
            <p:nvPr/>
          </p:nvSpPr>
          <p:spPr>
            <a:xfrm>
              <a:off x="7427880" y="2143080"/>
              <a:ext cx="1643040" cy="1785600"/>
            </a:xfrm>
            <a:custGeom>
              <a:avLst/>
              <a:gdLst>
                <a:gd name="textAreaLeft" fmla="*/ 375120 w 1643040"/>
                <a:gd name="textAreaRight" fmla="*/ 1267920 w 1643040"/>
                <a:gd name="textAreaTop" fmla="*/ 407520 h 1785600"/>
                <a:gd name="textAreaBottom" fmla="*/ 1378080 h 178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Rectangle 31"/>
            <p:cNvSpPr/>
            <p:nvPr/>
          </p:nvSpPr>
          <p:spPr>
            <a:xfrm>
              <a:off x="8129880" y="27853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适应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适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ap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是指应激源作用于机体后，机体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保持内环境的平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做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改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包括：生理、心理或行为方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区别生命机体和无生命机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一个特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4" descr="12076e7ef8eg215"/>
          <p:cNvPicPr/>
          <p:nvPr/>
        </p:nvPicPr>
        <p:blipFill>
          <a:blip r:embed="rId1"/>
          <a:stretch/>
        </p:blipFill>
        <p:spPr>
          <a:xfrm>
            <a:off x="5929200" y="4429080"/>
            <a:ext cx="3048120" cy="1901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9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in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个体对抗应激源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适应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个体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行为或环境条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来对抗应激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调节自身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认知、情绪情感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3" name="Group 18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14" name="AutoShape 19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Rectangle 20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6" name="Group 21"/>
          <p:cNvGrpSpPr/>
          <p:nvPr/>
        </p:nvGrpSpPr>
        <p:grpSpPr>
          <a:xfrm>
            <a:off x="4191120" y="1600200"/>
            <a:ext cx="3276360" cy="4971600"/>
            <a:chOff x="4191120" y="1600200"/>
            <a:chExt cx="3276360" cy="4971600"/>
          </a:xfrm>
        </p:grpSpPr>
        <p:sp>
          <p:nvSpPr>
            <p:cNvPr id="417" name="AutoShape 22"/>
            <p:cNvSpPr/>
            <p:nvPr/>
          </p:nvSpPr>
          <p:spPr>
            <a:xfrm>
              <a:off x="4191120" y="1600200"/>
              <a:ext cx="3276360" cy="49716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Rectangle 23"/>
            <p:cNvSpPr/>
            <p:nvPr/>
          </p:nvSpPr>
          <p:spPr>
            <a:xfrm>
              <a:off x="5209200" y="169776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Rectangle 24"/>
          <p:cNvSpPr/>
          <p:nvPr/>
        </p:nvSpPr>
        <p:spPr>
          <a:xfrm>
            <a:off x="4419720" y="2286000"/>
            <a:ext cx="3081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生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心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（防卫机转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社会文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2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7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2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2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1" name="Group 19"/>
          <p:cNvGrpSpPr/>
          <p:nvPr/>
        </p:nvGrpSpPr>
        <p:grpSpPr>
          <a:xfrm>
            <a:off x="4419720" y="1371600"/>
            <a:ext cx="3276360" cy="4986000"/>
            <a:chOff x="4419720" y="1371600"/>
            <a:chExt cx="3276360" cy="4986000"/>
          </a:xfrm>
        </p:grpSpPr>
        <p:sp>
          <p:nvSpPr>
            <p:cNvPr id="422" name="AutoShape 20"/>
            <p:cNvSpPr/>
            <p:nvPr/>
          </p:nvSpPr>
          <p:spPr>
            <a:xfrm>
              <a:off x="4419720" y="1371600"/>
              <a:ext cx="3276360" cy="49860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Rectangle 21"/>
            <p:cNvSpPr/>
            <p:nvPr/>
          </p:nvSpPr>
          <p:spPr>
            <a:xfrm>
              <a:off x="5399640" y="14695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4" name="Rectangle 22"/>
          <p:cNvSpPr/>
          <p:nvPr/>
        </p:nvSpPr>
        <p:spPr>
          <a:xfrm>
            <a:off x="4857840" y="2071800"/>
            <a:ext cx="2571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动态平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层次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有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个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时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应激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9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4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9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4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9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4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6" name="Group 3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27" name="AutoShape 4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9" name="Group 6"/>
          <p:cNvGrpSpPr/>
          <p:nvPr/>
        </p:nvGrpSpPr>
        <p:grpSpPr>
          <a:xfrm>
            <a:off x="4191120" y="1600200"/>
            <a:ext cx="3276360" cy="4266720"/>
            <a:chOff x="4191120" y="1600200"/>
            <a:chExt cx="3276360" cy="4266720"/>
          </a:xfrm>
        </p:grpSpPr>
        <p:sp>
          <p:nvSpPr>
            <p:cNvPr id="430" name="AutoShape 7"/>
            <p:cNvSpPr/>
            <p:nvPr/>
          </p:nvSpPr>
          <p:spPr>
            <a:xfrm>
              <a:off x="4191120" y="16002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5209200" y="16837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2" name="Group 9"/>
          <p:cNvGrpSpPr/>
          <p:nvPr/>
        </p:nvGrpSpPr>
        <p:grpSpPr>
          <a:xfrm>
            <a:off x="3886200" y="1828800"/>
            <a:ext cx="3276720" cy="4266720"/>
            <a:chOff x="3886200" y="1828800"/>
            <a:chExt cx="3276720" cy="4266720"/>
          </a:xfrm>
        </p:grpSpPr>
        <p:sp>
          <p:nvSpPr>
            <p:cNvPr id="433" name="AutoShape 10"/>
            <p:cNvSpPr/>
            <p:nvPr/>
          </p:nvSpPr>
          <p:spPr>
            <a:xfrm>
              <a:off x="3886200" y="1828800"/>
              <a:ext cx="327672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4904640" y="19123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方式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5" name="Rectangle 12"/>
          <p:cNvSpPr/>
          <p:nvPr/>
        </p:nvSpPr>
        <p:spPr>
          <a:xfrm>
            <a:off x="3962520" y="2438280"/>
            <a:ext cx="35049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除掉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增强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心理防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放松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寻求帮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1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6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1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6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1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般系统论的起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135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系统论的观点起源于：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世纪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年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美籍奥地利理论生物学家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贝塔朗菲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udwig.Von.Bertalanffy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多次发表文章阐述系统论的思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3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提出了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一般系统论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关于一般系统论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 《物理学和生物学中的开放系统理论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塞尔耶（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ns Sely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应激反应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14300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全身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eneral adaptation syndrome, G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ocal adaptation syndrome, 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期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阶段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全身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G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持续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全身性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A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局部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L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如在某一器官或区域如局部炎症、组织修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8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9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rcRect l="0" t="0" r="0" b="25921"/>
          <a:stretch/>
        </p:blipFill>
        <p:spPr>
          <a:xfrm>
            <a:off x="1571760" y="642960"/>
            <a:ext cx="62244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G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为三个独立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285920" y="20718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期：警报反应期（警戒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期：抵抗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期：衰竭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43" name="Picture 5" descr="200812312052164_2"/>
          <p:cNvPicPr/>
          <p:nvPr/>
        </p:nvPicPr>
        <p:blipFill>
          <a:blip r:embed="rId1"/>
          <a:stretch/>
        </p:blipFill>
        <p:spPr>
          <a:xfrm>
            <a:off x="5429160" y="2906640"/>
            <a:ext cx="329256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"/>
          <p:cNvGrpSpPr/>
          <p:nvPr/>
        </p:nvGrpSpPr>
        <p:grpSpPr>
          <a:xfrm>
            <a:off x="250920" y="907920"/>
            <a:ext cx="8511840" cy="5644440"/>
            <a:chOff x="250920" y="907920"/>
            <a:chExt cx="8511840" cy="5644440"/>
          </a:xfrm>
        </p:grpSpPr>
        <p:sp>
          <p:nvSpPr>
            <p:cNvPr id="445" name="Text Box 5"/>
            <p:cNvSpPr/>
            <p:nvPr/>
          </p:nvSpPr>
          <p:spPr>
            <a:xfrm>
              <a:off x="355680" y="1959840"/>
              <a:ext cx="17974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警戒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Alarm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Text Box 6"/>
            <p:cNvSpPr/>
            <p:nvPr/>
          </p:nvSpPr>
          <p:spPr>
            <a:xfrm>
              <a:off x="250920" y="3338280"/>
              <a:ext cx="1604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抵抗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Resistance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7"/>
            <p:cNvSpPr/>
            <p:nvPr/>
          </p:nvSpPr>
          <p:spPr>
            <a:xfrm>
              <a:off x="355680" y="5156280"/>
              <a:ext cx="1451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衰竭期</a:t>
              </a:r>
              <a:br>
                <a:rPr sz="28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Exhaustion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8"/>
            <p:cNvSpPr/>
            <p:nvPr/>
          </p:nvSpPr>
          <p:spPr>
            <a:xfrm>
              <a:off x="2266560" y="1864440"/>
              <a:ext cx="343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反应出现迅速，持续时间短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以交感</a:t>
              </a:r>
              <a:r>
                <a:rPr b="0" lang="zh-CN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髓质兴奋为主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9"/>
            <p:cNvSpPr/>
            <p:nvPr/>
          </p:nvSpPr>
          <p:spPr>
            <a:xfrm>
              <a:off x="5705640" y="1800000"/>
              <a:ext cx="3057120" cy="8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处于“临战状态”保护防御机制的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快速动员期 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Text Box 10"/>
            <p:cNvSpPr/>
            <p:nvPr/>
          </p:nvSpPr>
          <p:spPr>
            <a:xfrm>
              <a:off x="2189880" y="3473640"/>
              <a:ext cx="3499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交感</a:t>
              </a:r>
              <a:r>
                <a:rPr b="0" lang="zh-CN" sz="2000" spc="-1" strike="noStrike">
                  <a:solidFill>
                    <a:srgbClr val="046ca6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肾上腺髓质反应逐渐减弱，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皮质激素分泌逐渐增高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1"/>
            <p:cNvSpPr/>
            <p:nvPr/>
          </p:nvSpPr>
          <p:spPr>
            <a:xfrm>
              <a:off x="2266560" y="5279760"/>
              <a:ext cx="3668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再度出现警告反应期的症状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皮质激素分泌持续增高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出现明显的内环境紊乱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2"/>
            <p:cNvSpPr/>
            <p:nvPr/>
          </p:nvSpPr>
          <p:spPr>
            <a:xfrm>
              <a:off x="5782320" y="3420720"/>
              <a:ext cx="29199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的防御储备能力逐渐被消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Text Box 13"/>
            <p:cNvSpPr/>
            <p:nvPr/>
          </p:nvSpPr>
          <p:spPr>
            <a:xfrm>
              <a:off x="5796360" y="5207040"/>
              <a:ext cx="230832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抵抗能力耗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54" name="Group 14"/>
            <p:cNvGrpSpPr/>
            <p:nvPr/>
          </p:nvGrpSpPr>
          <p:grpSpPr>
            <a:xfrm>
              <a:off x="355680" y="907920"/>
              <a:ext cx="8253360" cy="5644440"/>
              <a:chOff x="355680" y="907920"/>
              <a:chExt cx="8253360" cy="5644440"/>
            </a:xfrm>
          </p:grpSpPr>
          <p:sp>
            <p:nvSpPr>
              <p:cNvPr id="455" name="Text Box 15"/>
              <p:cNvSpPr/>
              <p:nvPr/>
            </p:nvSpPr>
            <p:spPr>
              <a:xfrm>
                <a:off x="2801160" y="1059480"/>
                <a:ext cx="32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Arial"/>
                  </a:rPr>
                  <a:t>Characteristic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Text Box 16"/>
              <p:cNvSpPr/>
              <p:nvPr/>
            </p:nvSpPr>
            <p:spPr>
              <a:xfrm>
                <a:off x="5705280" y="1059480"/>
                <a:ext cx="247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Arial"/>
                    <a:ea typeface="宋体"/>
                  </a:rPr>
                  <a:t>Significanc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Line 17"/>
              <p:cNvSpPr/>
              <p:nvPr/>
            </p:nvSpPr>
            <p:spPr>
              <a:xfrm>
                <a:off x="355680" y="90792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" name="Line 18"/>
              <p:cNvSpPr/>
              <p:nvPr/>
            </p:nvSpPr>
            <p:spPr>
              <a:xfrm>
                <a:off x="355680" y="1672920"/>
                <a:ext cx="825336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" name="Line 19"/>
              <p:cNvSpPr/>
              <p:nvPr/>
            </p:nvSpPr>
            <p:spPr>
              <a:xfrm>
                <a:off x="355680" y="655236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0"/>
            <p:cNvSpPr/>
            <p:nvPr/>
          </p:nvSpPr>
          <p:spPr>
            <a:xfrm>
              <a:off x="814320" y="282132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AutoShape 21"/>
            <p:cNvSpPr/>
            <p:nvPr/>
          </p:nvSpPr>
          <p:spPr>
            <a:xfrm>
              <a:off x="814320" y="454356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AutoShape 22"/>
            <p:cNvSpPr/>
            <p:nvPr/>
          </p:nvSpPr>
          <p:spPr>
            <a:xfrm>
              <a:off x="3718800" y="2725920"/>
              <a:ext cx="53460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AutoShape 23"/>
            <p:cNvSpPr/>
            <p:nvPr/>
          </p:nvSpPr>
          <p:spPr>
            <a:xfrm>
              <a:off x="3718800" y="4571640"/>
              <a:ext cx="534600" cy="368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AutoShape 24"/>
            <p:cNvSpPr/>
            <p:nvPr/>
          </p:nvSpPr>
          <p:spPr>
            <a:xfrm>
              <a:off x="7004880" y="2725920"/>
              <a:ext cx="53496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25"/>
            <p:cNvSpPr/>
            <p:nvPr/>
          </p:nvSpPr>
          <p:spPr>
            <a:xfrm>
              <a:off x="7157880" y="4581360"/>
              <a:ext cx="534600" cy="440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与适应在护理中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rcRect l="0" t="0" r="6373" b="0"/>
          <a:stretch/>
        </p:blipFill>
        <p:spPr>
          <a:xfrm>
            <a:off x="357120" y="1714680"/>
            <a:ext cx="850104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士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源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应评估威胁患者健康的应激源都有哪些，注意不要忽视住院本身给患者带来的应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状态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患者面对多种应激源出现了哪些应激反应，包括生理、情感、认知、行为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目前使用的应对方式，恰当地给予鼓励和肯定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展患者的应对方式，提高其适应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帮助患者适应的方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疾病的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取适合疾病治疗要求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食、排泄、休息、运动、情绪控制、坚持服药、自我监测、定期复查、环境设置等方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给患者缓解紧张、焦虑、抑郁等不良情绪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介绍患者参加同类疾病患者的组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抗体系统论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出版专著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论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7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 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专著：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理论基础、发展和应用》</a:t>
            </a:r>
            <a:r>
              <a:rPr b="0" i="1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《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General  System Theory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：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Foundations, Development, Applications</a:t>
            </a:r>
            <a:r>
              <a:rPr b="0" i="1" lang="en-US" sz="2400" spc="-1" strike="noStrike">
                <a:solidFill>
                  <a:srgbClr val="a50021"/>
                </a:solidFill>
                <a:latin typeface="宋体"/>
                <a:ea typeface="宋体"/>
              </a:rPr>
              <a:t>》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概念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系统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是由相互联系、相互依赖、相互制约、相互作用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事物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过程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成的，它是具有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整体功能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综合行为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统一体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39:23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