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A1968-F7D4-483C-836B-ABE7957C55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E5A60-34E0-4456-A1B2-ED819549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A82BC-0E46-4B2E-BB1D-D26E102F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5B31F-1C26-47A0-A5A6-C67E884AD5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5A505-1FA6-4DE1-B9B6-E4C75BD6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8F19E-3AE9-4346-8912-661F3CD7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2B27F-4507-4F96-B2AD-C6E2E8FA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C9F6B-C7D0-47D4-B4A2-2B2ED8AFE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CF236-00EA-4BA7-ADDF-123D0919A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6C8A7-4846-457C-9D79-C3A2FF95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DBBF9-33BB-40C7-90C3-770CCBF1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9A4CC-1B5C-4CB7-A393-FFF741FE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B163-3213-4ED3-B63A-8E96599CAF4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1990440"/>
            <a:ext cx="489564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第十五章  </a:t>
            </a:r>
            <a:br>
              <a:rPr sz="7200"/>
            </a:br>
            <a:r>
              <a:rPr b="1" lang="zh-CN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冷 热 疗 法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086080"/>
            <a:ext cx="6324480" cy="12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华文行楷"/>
              </a:rPr>
              <a:t>黔南民族医学高等专科学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华文行楷"/>
              </a:rPr>
              <a:t>秦素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24000" y="10526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二、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197080" y="184464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血液循环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2195640" y="23652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慢性炎症或深部化脓病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2195640" y="285264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组织损伤、破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2197080" y="3429000"/>
            <a:ext cx="19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对冷过敏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2195640" y="393372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230c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fe230c"/>
                </a:solidFill>
                <a:latin typeface="Arial"/>
                <a:ea typeface="宋体"/>
              </a:rPr>
              <a:t>．冷疗的禁忌部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2197080" y="4438800"/>
            <a:ext cx="485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昏迷、感觉异常、年老体弱者慎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9"/>
          <p:cNvSpPr/>
          <p:nvPr/>
        </p:nvSpPr>
        <p:spPr>
          <a:xfrm>
            <a:off x="5796000" y="981000"/>
            <a:ext cx="2160720" cy="2664000"/>
          </a:xfrm>
          <a:prstGeom prst="wedgeRectCallout">
            <a:avLst>
              <a:gd name="adj1" fmla="val -103393"/>
              <a:gd name="adj2" fmla="val 67662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枕后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耳廓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阴囊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心前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腹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足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冷疗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5" name="Group 3"/>
          <p:cNvGrpSpPr/>
          <p:nvPr/>
        </p:nvGrpSpPr>
        <p:grpSpPr>
          <a:xfrm>
            <a:off x="539640" y="1989000"/>
            <a:ext cx="7776360" cy="3670920"/>
            <a:chOff x="539640" y="1989000"/>
            <a:chExt cx="7776360" cy="3670920"/>
          </a:xfrm>
        </p:grpSpPr>
        <p:grpSp>
          <p:nvGrpSpPr>
            <p:cNvPr id="206" name="Group 4"/>
            <p:cNvGrpSpPr/>
            <p:nvPr/>
          </p:nvGrpSpPr>
          <p:grpSpPr>
            <a:xfrm>
              <a:off x="539640" y="2530080"/>
              <a:ext cx="7776360" cy="3129840"/>
              <a:chOff x="539640" y="2530080"/>
              <a:chExt cx="7776360" cy="3129840"/>
            </a:xfrm>
          </p:grpSpPr>
          <p:grpSp>
            <p:nvGrpSpPr>
              <p:cNvPr id="207" name="Group 5"/>
              <p:cNvGrpSpPr/>
              <p:nvPr/>
            </p:nvGrpSpPr>
            <p:grpSpPr>
              <a:xfrm>
                <a:off x="2296800" y="2782800"/>
                <a:ext cx="4223880" cy="1814040"/>
                <a:chOff x="2296800" y="2782800"/>
                <a:chExt cx="4223880" cy="1814040"/>
              </a:xfrm>
            </p:grpSpPr>
            <p:sp>
              <p:nvSpPr>
                <p:cNvPr id="208" name="AutoShape 5"/>
                <p:cNvSpPr/>
                <p:nvPr/>
              </p:nvSpPr>
              <p:spPr>
                <a:xfrm rot="10800000">
                  <a:off x="5801760" y="2782800"/>
                  <a:ext cx="718920" cy="426600"/>
                </a:xfrm>
                <a:prstGeom prst="leftArrow">
                  <a:avLst>
                    <a:gd name="adj1" fmla="val 31250"/>
                    <a:gd name="adj2" fmla="val 90409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6"/>
                <p:cNvSpPr/>
                <p:nvPr/>
              </p:nvSpPr>
              <p:spPr>
                <a:xfrm rot="17914800">
                  <a:off x="3180600" y="3935880"/>
                  <a:ext cx="568800" cy="539280"/>
                </a:xfrm>
                <a:prstGeom prst="leftArrow">
                  <a:avLst>
                    <a:gd name="adj1" fmla="val 31250"/>
                    <a:gd name="adj2" fmla="val 56584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368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0" name="AutoShape 7"/>
                <p:cNvSpPr/>
                <p:nvPr/>
              </p:nvSpPr>
              <p:spPr>
                <a:xfrm>
                  <a:off x="2296800" y="2783160"/>
                  <a:ext cx="718920" cy="426600"/>
                </a:xfrm>
                <a:prstGeom prst="leftArrow">
                  <a:avLst>
                    <a:gd name="adj1" fmla="val 31250"/>
                    <a:gd name="adj2" fmla="val 90409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1" name="AutoShape 8"/>
                <p:cNvSpPr/>
                <p:nvPr/>
              </p:nvSpPr>
              <p:spPr>
                <a:xfrm rot="13815000">
                  <a:off x="5068080" y="3935880"/>
                  <a:ext cx="568800" cy="539280"/>
                </a:xfrm>
                <a:prstGeom prst="leftArrow">
                  <a:avLst>
                    <a:gd name="adj1" fmla="val 31250"/>
                    <a:gd name="adj2" fmla="val 56584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778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Group 10"/>
              <p:cNvGrpSpPr/>
              <p:nvPr/>
            </p:nvGrpSpPr>
            <p:grpSpPr>
              <a:xfrm>
                <a:off x="6842880" y="2530080"/>
                <a:ext cx="1473120" cy="1020600"/>
                <a:chOff x="6842880" y="2530080"/>
                <a:chExt cx="1473120" cy="1020600"/>
              </a:xfrm>
            </p:grpSpPr>
            <p:sp>
              <p:nvSpPr>
                <p:cNvPr id="213" name="Oval 10"/>
                <p:cNvSpPr/>
                <p:nvPr/>
              </p:nvSpPr>
              <p:spPr>
                <a:xfrm>
                  <a:off x="6951240" y="2787840"/>
                  <a:ext cx="19260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4" name="Oval 11"/>
                <p:cNvSpPr/>
                <p:nvPr/>
              </p:nvSpPr>
              <p:spPr>
                <a:xfrm>
                  <a:off x="6951240" y="2787840"/>
                  <a:ext cx="19260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5" name="Oval 12"/>
                <p:cNvSpPr/>
                <p:nvPr/>
              </p:nvSpPr>
              <p:spPr>
                <a:xfrm>
                  <a:off x="6842880" y="2787840"/>
                  <a:ext cx="147312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6" name="Oval 13"/>
                <p:cNvSpPr/>
                <p:nvPr/>
              </p:nvSpPr>
              <p:spPr>
                <a:xfrm>
                  <a:off x="6842880" y="2791080"/>
                  <a:ext cx="147312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7" name="Oval 14"/>
                <p:cNvSpPr/>
                <p:nvPr/>
              </p:nvSpPr>
              <p:spPr>
                <a:xfrm>
                  <a:off x="6915600" y="2787840"/>
                  <a:ext cx="1327320" cy="502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16"/>
                <p:cNvGrpSpPr/>
                <p:nvPr/>
              </p:nvGrpSpPr>
              <p:grpSpPr>
                <a:xfrm>
                  <a:off x="6936120" y="2530080"/>
                  <a:ext cx="1286280" cy="1020600"/>
                  <a:chOff x="6936120" y="2530080"/>
                  <a:chExt cx="1286280" cy="1020600"/>
                </a:xfrm>
              </p:grpSpPr>
              <p:sp>
                <p:nvSpPr>
                  <p:cNvPr id="219" name="Oval 16"/>
                  <p:cNvSpPr/>
                  <p:nvPr/>
                </p:nvSpPr>
                <p:spPr>
                  <a:xfrm>
                    <a:off x="6936120" y="2530080"/>
                    <a:ext cx="1286280" cy="1020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17"/>
                  <p:cNvSpPr/>
                  <p:nvPr/>
                </p:nvSpPr>
                <p:spPr>
                  <a:xfrm>
                    <a:off x="6952320" y="2535480"/>
                    <a:ext cx="125532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Oval 18"/>
                  <p:cNvSpPr/>
                  <p:nvPr/>
                </p:nvSpPr>
                <p:spPr>
                  <a:xfrm>
                    <a:off x="6965640" y="2545560"/>
                    <a:ext cx="1193760" cy="929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Oval 19"/>
                  <p:cNvSpPr/>
                  <p:nvPr/>
                </p:nvSpPr>
                <p:spPr>
                  <a:xfrm>
                    <a:off x="7035840" y="2571480"/>
                    <a:ext cx="1061280" cy="754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46ca6"/>
                        </a:solidFill>
                        <a:latin typeface="Arial"/>
                        <a:ea typeface="宋体"/>
                      </a:rPr>
                      <a:t> </a:t>
                    </a: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3" name="Text Box 20"/>
              <p:cNvSpPr/>
              <p:nvPr/>
            </p:nvSpPr>
            <p:spPr>
              <a:xfrm>
                <a:off x="7439760" y="289152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24" name="Group 22"/>
              <p:cNvGrpSpPr/>
              <p:nvPr/>
            </p:nvGrpSpPr>
            <p:grpSpPr>
              <a:xfrm>
                <a:off x="5193000" y="4573080"/>
                <a:ext cx="1501200" cy="1086840"/>
                <a:chOff x="5193000" y="4573080"/>
                <a:chExt cx="1501200" cy="1086840"/>
              </a:xfrm>
            </p:grpSpPr>
            <p:sp>
              <p:nvSpPr>
                <p:cNvPr id="225" name="Oval 22"/>
                <p:cNvSpPr/>
                <p:nvPr/>
              </p:nvSpPr>
              <p:spPr>
                <a:xfrm>
                  <a:off x="5325840" y="4889880"/>
                  <a:ext cx="1926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/>
                    </a:gs>
                    <a:gs pos="50000">
                      <a:srgbClr val="ffffff"/>
                    </a:gs>
                    <a:gs pos="100000">
                      <a:srgbClr val="ff6699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6" name="Oval 23"/>
                <p:cNvSpPr/>
                <p:nvPr/>
              </p:nvSpPr>
              <p:spPr>
                <a:xfrm>
                  <a:off x="5325840" y="4889880"/>
                  <a:ext cx="1926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7" name="Oval 24"/>
                <p:cNvSpPr/>
                <p:nvPr/>
              </p:nvSpPr>
              <p:spPr>
                <a:xfrm>
                  <a:off x="5213520" y="4889880"/>
                  <a:ext cx="14806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/>
                    </a:gs>
                    <a:gs pos="50000">
                      <a:srgbClr val="8a3753"/>
                    </a:gs>
                    <a:gs pos="100000">
                      <a:srgbClr val="ff669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8" name="Oval 25"/>
                <p:cNvSpPr/>
                <p:nvPr/>
              </p:nvSpPr>
              <p:spPr>
                <a:xfrm>
                  <a:off x="5193000" y="4870440"/>
                  <a:ext cx="1478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24161"/>
                    </a:gs>
                    <a:gs pos="100000">
                      <a:srgbClr val="ff6699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9" name="Oval 26"/>
                <p:cNvSpPr/>
                <p:nvPr/>
              </p:nvSpPr>
              <p:spPr>
                <a:xfrm>
                  <a:off x="5293800" y="4891320"/>
                  <a:ext cx="1334520" cy="501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0" name="Oval 27"/>
                <p:cNvSpPr/>
                <p:nvPr/>
              </p:nvSpPr>
              <p:spPr>
                <a:xfrm>
                  <a:off x="5282640" y="4573080"/>
                  <a:ext cx="1289520" cy="107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1" name="Oval 28"/>
                <p:cNvSpPr/>
                <p:nvPr/>
              </p:nvSpPr>
              <p:spPr>
                <a:xfrm>
                  <a:off x="5331240" y="4609800"/>
                  <a:ext cx="1259640" cy="105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2" name="Oval 29"/>
                <p:cNvSpPr/>
                <p:nvPr/>
              </p:nvSpPr>
              <p:spPr>
                <a:xfrm>
                  <a:off x="5346360" y="4620240"/>
                  <a:ext cx="1197720" cy="98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3" name="Oval 30"/>
                <p:cNvSpPr/>
                <p:nvPr/>
              </p:nvSpPr>
              <p:spPr>
                <a:xfrm>
                  <a:off x="5415840" y="4648320"/>
                  <a:ext cx="1064880" cy="79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4" name="Text Box 31"/>
                <p:cNvSpPr/>
                <p:nvPr/>
              </p:nvSpPr>
              <p:spPr>
                <a:xfrm>
                  <a:off x="5497920" y="4916520"/>
                  <a:ext cx="93744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33"/>
              <p:cNvGrpSpPr/>
              <p:nvPr/>
            </p:nvGrpSpPr>
            <p:grpSpPr>
              <a:xfrm>
                <a:off x="539640" y="2540160"/>
                <a:ext cx="1484640" cy="1078200"/>
                <a:chOff x="539640" y="2540160"/>
                <a:chExt cx="1484640" cy="1078200"/>
              </a:xfrm>
            </p:grpSpPr>
            <p:sp>
              <p:nvSpPr>
                <p:cNvPr id="236" name="Oval 33"/>
                <p:cNvSpPr/>
                <p:nvPr/>
              </p:nvSpPr>
              <p:spPr>
                <a:xfrm>
                  <a:off x="650520" y="2825640"/>
                  <a:ext cx="19188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ffffff"/>
                    </a:gs>
                    <a:gs pos="100000">
                      <a:srgbClr val="00cc66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7" name="Oval 34"/>
                <p:cNvSpPr/>
                <p:nvPr/>
              </p:nvSpPr>
              <p:spPr>
                <a:xfrm>
                  <a:off x="650520" y="2825640"/>
                  <a:ext cx="19188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8" name="Oval 35"/>
                <p:cNvSpPr/>
                <p:nvPr/>
              </p:nvSpPr>
              <p:spPr>
                <a:xfrm>
                  <a:off x="539640" y="2827080"/>
                  <a:ext cx="148464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006e37"/>
                    </a:gs>
                    <a:gs pos="100000">
                      <a:srgbClr val="00cc6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9" name="Oval 36"/>
                <p:cNvSpPr/>
                <p:nvPr/>
              </p:nvSpPr>
              <p:spPr>
                <a:xfrm>
                  <a:off x="541080" y="2827080"/>
                  <a:ext cx="148284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241"/>
                    </a:gs>
                    <a:gs pos="100000">
                      <a:srgbClr val="00cc66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0" name="Oval 37"/>
                <p:cNvSpPr/>
                <p:nvPr/>
              </p:nvSpPr>
              <p:spPr>
                <a:xfrm>
                  <a:off x="620640" y="2827080"/>
                  <a:ext cx="1335960" cy="5036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1" name="Oval 38"/>
                <p:cNvSpPr/>
                <p:nvPr/>
              </p:nvSpPr>
              <p:spPr>
                <a:xfrm>
                  <a:off x="642240" y="2540160"/>
                  <a:ext cx="1293120" cy="1078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2" name="Oval 39"/>
                <p:cNvSpPr/>
                <p:nvPr/>
              </p:nvSpPr>
              <p:spPr>
                <a:xfrm>
                  <a:off x="658440" y="2546640"/>
                  <a:ext cx="1261080" cy="1049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3" name="Oval 40"/>
                <p:cNvSpPr/>
                <p:nvPr/>
              </p:nvSpPr>
              <p:spPr>
                <a:xfrm>
                  <a:off x="671760" y="2556360"/>
                  <a:ext cx="1199880" cy="9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4" name="Oval 41"/>
                <p:cNvSpPr/>
                <p:nvPr/>
              </p:nvSpPr>
              <p:spPr>
                <a:xfrm>
                  <a:off x="741600" y="2584440"/>
                  <a:ext cx="1067040" cy="797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Text Box 42"/>
              <p:cNvSpPr/>
              <p:nvPr/>
            </p:nvSpPr>
            <p:spPr>
              <a:xfrm>
                <a:off x="1154520" y="294588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46" name="Group 44"/>
              <p:cNvGrpSpPr/>
              <p:nvPr/>
            </p:nvGrpSpPr>
            <p:grpSpPr>
              <a:xfrm>
                <a:off x="2072520" y="4599360"/>
                <a:ext cx="1472760" cy="1019160"/>
                <a:chOff x="2072520" y="4599360"/>
                <a:chExt cx="1472760" cy="1019160"/>
              </a:xfrm>
            </p:grpSpPr>
            <p:grpSp>
              <p:nvGrpSpPr>
                <p:cNvPr id="247" name="Group 45"/>
                <p:cNvGrpSpPr/>
                <p:nvPr/>
              </p:nvGrpSpPr>
              <p:grpSpPr>
                <a:xfrm>
                  <a:off x="2072520" y="4599360"/>
                  <a:ext cx="1472760" cy="1019160"/>
                  <a:chOff x="2072520" y="4599360"/>
                  <a:chExt cx="1472760" cy="1019160"/>
                </a:xfrm>
              </p:grpSpPr>
              <p:sp>
                <p:nvSpPr>
                  <p:cNvPr id="248" name="Oval 45"/>
                  <p:cNvSpPr/>
                  <p:nvPr/>
                </p:nvSpPr>
                <p:spPr>
                  <a:xfrm>
                    <a:off x="2188080" y="4849560"/>
                    <a:ext cx="192600" cy="50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50000">
                        <a:srgbClr val="ffffff"/>
                      </a:gs>
                      <a:gs pos="100000">
                        <a:srgbClr val="3965e1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Oval 46"/>
                  <p:cNvSpPr/>
                  <p:nvPr/>
                </p:nvSpPr>
                <p:spPr>
                  <a:xfrm>
                    <a:off x="2188080" y="4849560"/>
                    <a:ext cx="192600" cy="50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>
                          <a:alpha val="32156"/>
                        </a:srgbClr>
                      </a:gs>
                      <a:gs pos="100000">
                        <a:srgbClr val="000000">
                          <a:alpha val="90196"/>
                        </a:srgbClr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Oval 47"/>
                  <p:cNvSpPr/>
                  <p:nvPr/>
                </p:nvSpPr>
                <p:spPr>
                  <a:xfrm>
                    <a:off x="2072520" y="4851000"/>
                    <a:ext cx="1472760" cy="503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50000">
                        <a:srgbClr val="1f377a"/>
                      </a:gs>
                      <a:gs pos="100000">
                        <a:srgbClr val="3965e1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Oval 48"/>
                  <p:cNvSpPr/>
                  <p:nvPr/>
                </p:nvSpPr>
                <p:spPr>
                  <a:xfrm>
                    <a:off x="2072520" y="4861440"/>
                    <a:ext cx="1472760" cy="50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64396"/>
                      </a:gs>
                      <a:gs pos="100000">
                        <a:srgbClr val="3965e1">
                          <a:alpha val="0"/>
                        </a:srgbClr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Oval 49"/>
                  <p:cNvSpPr/>
                  <p:nvPr/>
                </p:nvSpPr>
                <p:spPr>
                  <a:xfrm>
                    <a:off x="2149200" y="4860000"/>
                    <a:ext cx="1323360" cy="502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100000">
                        <a:srgbClr val="03060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3" name="Group 51"/>
                  <p:cNvGrpSpPr/>
                  <p:nvPr/>
                </p:nvGrpSpPr>
                <p:grpSpPr>
                  <a:xfrm>
                    <a:off x="2180880" y="4599360"/>
                    <a:ext cx="1283760" cy="1019160"/>
                    <a:chOff x="2180880" y="4599360"/>
                    <a:chExt cx="1283760" cy="1019160"/>
                  </a:xfrm>
                </p:grpSpPr>
                <p:sp>
                  <p:nvSpPr>
                    <p:cNvPr id="254" name="Oval 51"/>
                    <p:cNvSpPr/>
                    <p:nvPr/>
                  </p:nvSpPr>
                  <p:spPr>
                    <a:xfrm>
                      <a:off x="2180880" y="4599360"/>
                      <a:ext cx="1283760" cy="10191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636869"/>
                        </a:gs>
                        <a:gs pos="100000">
                          <a:srgbClr val="d6e1e2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Oval 52"/>
                    <p:cNvSpPr/>
                    <p:nvPr/>
                  </p:nvSpPr>
                  <p:spPr>
                    <a:xfrm>
                      <a:off x="2197080" y="4604760"/>
                      <a:ext cx="1252800" cy="9939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6e1e2">
                            <a:alpha val="0"/>
                          </a:srgbClr>
                        </a:gs>
                        <a:gs pos="100000">
                          <a:srgbClr val="f1f5f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Oval 53"/>
                    <p:cNvSpPr/>
                    <p:nvPr/>
                  </p:nvSpPr>
                  <p:spPr>
                    <a:xfrm>
                      <a:off x="2210400" y="4614840"/>
                      <a:ext cx="1191240" cy="9288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ab2b3"/>
                        </a:gs>
                        <a:gs pos="100000">
                          <a:srgbClr val="d6e1e2">
                            <a:alpha val="48235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Oval 54"/>
                    <p:cNvSpPr/>
                    <p:nvPr/>
                  </p:nvSpPr>
                  <p:spPr>
                    <a:xfrm>
                      <a:off x="2280240" y="4640760"/>
                      <a:ext cx="1059120" cy="753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6e1e2">
                            <a:alpha val="38039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58" name="Text Box 55">
                  <a:hlinkClick r:id="rId1" action="ppaction://hlinksldjump"/>
                </p:cNvPr>
                <p:cNvSpPr/>
                <p:nvPr/>
              </p:nvSpPr>
              <p:spPr>
                <a:xfrm>
                  <a:off x="2487960" y="4735440"/>
                  <a:ext cx="6379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99669b"/>
                      </a:solidFill>
                      <a:latin typeface="宋体"/>
                      <a:ea typeface="宋体"/>
                    </a:rPr>
                    <a:t>冰帽、槽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99669b"/>
                      </a:solidFill>
                      <a:latin typeface="宋体"/>
                      <a:ea typeface="宋体"/>
                    </a:rPr>
                    <a:t>的使用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9" name="Group 57"/>
            <p:cNvGrpSpPr/>
            <p:nvPr/>
          </p:nvGrpSpPr>
          <p:grpSpPr>
            <a:xfrm>
              <a:off x="3191760" y="1989000"/>
              <a:ext cx="2422080" cy="1711440"/>
              <a:chOff x="3191760" y="1989000"/>
              <a:chExt cx="2422080" cy="1711440"/>
            </a:xfrm>
          </p:grpSpPr>
          <p:grpSp>
            <p:nvGrpSpPr>
              <p:cNvPr id="260" name="Group 58"/>
              <p:cNvGrpSpPr/>
              <p:nvPr/>
            </p:nvGrpSpPr>
            <p:grpSpPr>
              <a:xfrm>
                <a:off x="3191760" y="1989000"/>
                <a:ext cx="2422080" cy="1711440"/>
                <a:chOff x="3191760" y="1989000"/>
                <a:chExt cx="2422080" cy="1711440"/>
              </a:xfrm>
            </p:grpSpPr>
            <p:sp>
              <p:nvSpPr>
                <p:cNvPr id="261" name="Oval 58"/>
                <p:cNvSpPr/>
                <p:nvPr/>
              </p:nvSpPr>
              <p:spPr>
                <a:xfrm>
                  <a:off x="3426480" y="2592360"/>
                  <a:ext cx="1908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/>
                    </a:gs>
                    <a:gs pos="50000">
                      <a:srgbClr val="ffffff"/>
                    </a:gs>
                    <a:gs pos="100000">
                      <a:srgbClr val="d875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2" name="Oval 59"/>
                <p:cNvSpPr/>
                <p:nvPr/>
              </p:nvSpPr>
              <p:spPr>
                <a:xfrm>
                  <a:off x="3431880" y="2609280"/>
                  <a:ext cx="19080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3" name="Oval 60"/>
                <p:cNvSpPr/>
                <p:nvPr/>
              </p:nvSpPr>
              <p:spPr>
                <a:xfrm>
                  <a:off x="3198960" y="2592360"/>
                  <a:ext cx="2414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/>
                    </a:gs>
                    <a:gs pos="50000">
                      <a:srgbClr val="753f31"/>
                    </a:gs>
                    <a:gs pos="100000">
                      <a:srgbClr val="d875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4" name="Oval 61"/>
                <p:cNvSpPr/>
                <p:nvPr/>
              </p:nvSpPr>
              <p:spPr>
                <a:xfrm>
                  <a:off x="3191760" y="2582280"/>
                  <a:ext cx="2414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4a39"/>
                    </a:gs>
                    <a:gs pos="100000">
                      <a:srgbClr val="d8755a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5" name="Oval 62"/>
                <p:cNvSpPr/>
                <p:nvPr/>
              </p:nvSpPr>
              <p:spPr>
                <a:xfrm>
                  <a:off x="3318840" y="2592360"/>
                  <a:ext cx="2175120" cy="504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Group 64"/>
                <p:cNvGrpSpPr/>
                <p:nvPr/>
              </p:nvGrpSpPr>
              <p:grpSpPr>
                <a:xfrm>
                  <a:off x="3367440" y="1989000"/>
                  <a:ext cx="2108160" cy="1711440"/>
                  <a:chOff x="3367440" y="1989000"/>
                  <a:chExt cx="2108160" cy="1711440"/>
                </a:xfrm>
              </p:grpSpPr>
              <p:sp>
                <p:nvSpPr>
                  <p:cNvPr id="267" name="Oval 64"/>
                  <p:cNvSpPr/>
                  <p:nvPr/>
                </p:nvSpPr>
                <p:spPr>
                  <a:xfrm>
                    <a:off x="3367440" y="1989000"/>
                    <a:ext cx="2108160" cy="171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Oval 65"/>
                  <p:cNvSpPr/>
                  <p:nvPr/>
                </p:nvSpPr>
                <p:spPr>
                  <a:xfrm>
                    <a:off x="3394440" y="1998360"/>
                    <a:ext cx="2057400" cy="1668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Oval 66"/>
                  <p:cNvSpPr/>
                  <p:nvPr/>
                </p:nvSpPr>
                <p:spPr>
                  <a:xfrm>
                    <a:off x="3416040" y="2014920"/>
                    <a:ext cx="1956600" cy="1559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Oval 67"/>
                  <p:cNvSpPr/>
                  <p:nvPr/>
                </p:nvSpPr>
                <p:spPr>
                  <a:xfrm>
                    <a:off x="3530880" y="2058480"/>
                    <a:ext cx="1739520" cy="126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1" name="Text Box 68"/>
              <p:cNvSpPr/>
              <p:nvPr/>
            </p:nvSpPr>
            <p:spPr>
              <a:xfrm>
                <a:off x="3910680" y="246816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冷疗技术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Rectangle 78">
            <a:hlinkClick r:id="rId2" action="ppaction://hlinksldjump"/>
          </p:cNvPr>
          <p:cNvSpPr/>
          <p:nvPr/>
        </p:nvSpPr>
        <p:spPr>
          <a:xfrm>
            <a:off x="5497560" y="4745160"/>
            <a:ext cx="8636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冷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敷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Rectangle 79">
            <a:hlinkClick r:id="" action="ppaction://hlinkshowjump?jump=nextslide"/>
          </p:cNvPr>
          <p:cNvSpPr/>
          <p:nvPr/>
        </p:nvSpPr>
        <p:spPr>
          <a:xfrm>
            <a:off x="763560" y="2637000"/>
            <a:ext cx="10731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冰袋的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使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80">
            <a:hlinkClick r:id="rId3" action="ppaction://hlinksldjump"/>
          </p:cNvPr>
          <p:cNvSpPr/>
          <p:nvPr/>
        </p:nvSpPr>
        <p:spPr>
          <a:xfrm>
            <a:off x="6966000" y="2610000"/>
            <a:ext cx="1278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乙醇、温水拭浴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11280" y="1392120"/>
            <a:ext cx="6159600" cy="4075200"/>
          </a:xfrm>
          <a:prstGeom prst="rect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25520" y="3817800"/>
            <a:ext cx="2373480" cy="128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4599000" y="3817800"/>
            <a:ext cx="2373480" cy="128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225520" y="2535120"/>
            <a:ext cx="2373480" cy="128268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4599000" y="2535120"/>
            <a:ext cx="2373480" cy="1282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2225520" y="2535120"/>
            <a:ext cx="4746960" cy="25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2225520" y="2535120"/>
            <a:ext cx="1135080" cy="46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准  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2225520" y="4632480"/>
            <a:ext cx="1135080" cy="46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5838840" y="2535120"/>
            <a:ext cx="1133640" cy="46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放置冰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5838840" y="4632480"/>
            <a:ext cx="1133640" cy="46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取下冰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1739880" y="3817800"/>
            <a:ext cx="573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AutoShape 13"/>
          <p:cNvSpPr/>
          <p:nvPr/>
        </p:nvSpPr>
        <p:spPr>
          <a:xfrm>
            <a:off x="1654200" y="35672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  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14"/>
          <p:cNvSpPr/>
          <p:nvPr/>
        </p:nvSpPr>
        <p:spPr>
          <a:xfrm>
            <a:off x="6392880" y="35672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观  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4599000" y="2700360"/>
            <a:ext cx="0" cy="21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AutoShape 16"/>
          <p:cNvSpPr/>
          <p:nvPr/>
        </p:nvSpPr>
        <p:spPr>
          <a:xfrm>
            <a:off x="4019400" y="2301840"/>
            <a:ext cx="1135080" cy="466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床旁核对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AutoShape 17"/>
          <p:cNvSpPr/>
          <p:nvPr/>
        </p:nvSpPr>
        <p:spPr>
          <a:xfrm>
            <a:off x="4019400" y="48578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用物处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18"/>
          <p:cNvSpPr/>
          <p:nvPr/>
        </p:nvSpPr>
        <p:spPr>
          <a:xfrm rot="5400000">
            <a:off x="5653080" y="2442960"/>
            <a:ext cx="169920" cy="18288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19"/>
          <p:cNvSpPr/>
          <p:nvPr/>
        </p:nvSpPr>
        <p:spPr>
          <a:xfrm rot="16200000">
            <a:off x="3364560" y="4997880"/>
            <a:ext cx="171720" cy="18252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20"/>
          <p:cNvSpPr/>
          <p:nvPr/>
        </p:nvSpPr>
        <p:spPr>
          <a:xfrm>
            <a:off x="2144880" y="3006720"/>
            <a:ext cx="169560" cy="18108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21"/>
          <p:cNvSpPr/>
          <p:nvPr/>
        </p:nvSpPr>
        <p:spPr>
          <a:xfrm rot="10800000">
            <a:off x="6881760" y="4443120"/>
            <a:ext cx="171360" cy="18252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2"/>
          <p:cNvSpPr/>
          <p:nvPr/>
        </p:nvSpPr>
        <p:spPr>
          <a:xfrm>
            <a:off x="1767600" y="476280"/>
            <a:ext cx="485640" cy="45972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（一）冰袋（或水囊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AutoShape 3"/>
          <p:cNvSpPr/>
          <p:nvPr/>
        </p:nvSpPr>
        <p:spPr>
          <a:xfrm>
            <a:off x="1835280" y="1989000"/>
            <a:ext cx="5545080" cy="39610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化学冰袋（临床又叫退热贴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化学冰袋是一种无毒、无味的冰袋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内装有凝胶或其他化学的冰冻介质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使用时将化学冰袋放入冰箱中吸冷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由凝胶状态变为固态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取出后置于所需部位，在常温下吸热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再由固态变为凝胶状态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可反复使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4"/>
          <p:cNvSpPr/>
          <p:nvPr/>
        </p:nvSpPr>
        <p:spPr>
          <a:xfrm>
            <a:off x="181080" y="189000"/>
            <a:ext cx="1942920" cy="172872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知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链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冰帽（或冰槽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1374840" y="1773360"/>
            <a:ext cx="6726240" cy="4160880"/>
          </a:xfrm>
          <a:prstGeom prst="rect">
            <a:avLst/>
          </a:prstGeom>
          <a:ln w="9360">
            <a:solidFill>
              <a:srgbClr val="692aa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冰帽（或冰槽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Rectangle 18"/>
          <p:cNvSpPr/>
          <p:nvPr/>
        </p:nvSpPr>
        <p:spPr>
          <a:xfrm>
            <a:off x="682560" y="1486080"/>
            <a:ext cx="22100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目  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Rectangle 25"/>
          <p:cNvSpPr/>
          <p:nvPr/>
        </p:nvSpPr>
        <p:spPr>
          <a:xfrm>
            <a:off x="1763640" y="2349360"/>
            <a:ext cx="5168880" cy="82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部降温，防治脑水肿，降低脑细胞的代谢，减轻脑细胞的需氧量，提高脑细胞对缺氧的耐受性，降低脑细胞损害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2851920" y="5589720"/>
            <a:ext cx="47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参见教材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表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15-3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冰帽或冰槽使用法操作步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755640" y="48704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程 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密切观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冰帽有无破损、漏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冰帽或冰槽内的冰块有无融化，若融化应及时更好或添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③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患者头部皮肤变化，尤其是耳廓，防止发生青紫、麻木及冻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④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心率，防止心房、心室颤动或房室传导阻滞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每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测量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次肛温，使之维持在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3℃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左右，不宜低于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0℃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，以防心室颤动等并发症出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冷湿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目的   降温、止血、消炎、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-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密切观察：观察局部皮肤情况及患者的反应；观察敷布湿度，以不滴水为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若为降温，则冷湿敷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测量体温，并将体温记录在体温单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温水拭浴或乙醇拭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982440"/>
            <a:ext cx="880416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目的  为高热患者降温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操作前准备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5-5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18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擦浴过程中，注意观察局部皮肤情况及患者反应，如生理寒战，面色苍白、脉搏呼吸异常等情况，应停止拍拭及时处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擦至腋窝、肘窝、手心、腹股沟、腘窝处稍用力并延长停留时间，以促进散热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禁忌胸前区、腹部、颈后、足底禁忌拭浴，新生儿、血液病高热患者及乙醇过敏患者禁用乙醇拭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手法以拍拭（轻拍）方式进行，避免摩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时间每侧（四肢、腰背部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全过程控制在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0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内，以防产生继发效应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后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0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测量体温，降温后体温记录在体温单上。若体温低于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39℃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取下头部冰袋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热 疗 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、目的及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692360" y="256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促进炎症的消散和局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2052720" y="328608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266920" y="3933720"/>
            <a:ext cx="439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深部组织的充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2771640" y="4653000"/>
            <a:ext cx="34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保暖与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3"/>
          <p:cNvSpPr/>
          <p:nvPr/>
        </p:nvSpPr>
        <p:spPr>
          <a:xfrm>
            <a:off x="7086600" y="6551640"/>
            <a:ext cx="1752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5"/>
          <p:cNvSpPr/>
          <p:nvPr/>
        </p:nvSpPr>
        <p:spPr>
          <a:xfrm>
            <a:off x="6477120" y="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03400" y="907920"/>
            <a:ext cx="438624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46ca6"/>
                </a:solidFill>
                <a:latin typeface="Verdana"/>
                <a:ea typeface="宋体"/>
              </a:rPr>
              <a:t>学习目标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9" name="Group 5"/>
          <p:cNvGrpSpPr/>
          <p:nvPr/>
        </p:nvGrpSpPr>
        <p:grpSpPr>
          <a:xfrm>
            <a:off x="1042920" y="2081160"/>
            <a:ext cx="2163960" cy="4438440"/>
            <a:chOff x="1042920" y="2081160"/>
            <a:chExt cx="2163960" cy="4438440"/>
          </a:xfrm>
        </p:grpSpPr>
        <p:sp>
          <p:nvSpPr>
            <p:cNvPr id="110" name="AutoShape 4"/>
            <p:cNvSpPr/>
            <p:nvPr/>
          </p:nvSpPr>
          <p:spPr>
            <a:xfrm>
              <a:off x="1042920" y="3645360"/>
              <a:ext cx="2163240" cy="2856600"/>
            </a:xfrm>
            <a:custGeom>
              <a:avLst/>
              <a:gdLst>
                <a:gd name="textAreaLeft" fmla="*/ 110880 w 2163240"/>
                <a:gd name="textAreaRight" fmla="*/ 2052360 w 2163240"/>
                <a:gd name="textAreaTop" fmla="*/ 110880 h 2856600"/>
                <a:gd name="textAreaBottom" fmla="*/ 2745720 h 2856600"/>
              </a:gdLst>
              <a:ahLst/>
              <a:rect l="textAreaLeft" t="textAreaTop" r="textAreaRight" b="textAreaBottom"/>
              <a:pathLst>
                <a:path w="21600" h="28522">
                  <a:moveTo>
                    <a:pt x="3782" y="0"/>
                  </a:moveTo>
                  <a:arcTo wR="3782" hR="3782" stAng="16200000" swAng="-5400000"/>
                  <a:lnTo>
                    <a:pt x="0" y="24740"/>
                  </a:lnTo>
                  <a:arcTo wR="3782" hR="3782" stAng="10800000" swAng="-5400000"/>
                  <a:lnTo>
                    <a:pt x="17818" y="2852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5"/>
            <p:cNvSpPr/>
            <p:nvPr/>
          </p:nvSpPr>
          <p:spPr>
            <a:xfrm>
              <a:off x="1042920" y="3717000"/>
              <a:ext cx="2098440" cy="280260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600"/>
                <a:gd name="textAreaBottom" fmla="*/ 2700360 h 2802600"/>
              </a:gdLst>
              <a:ahLst/>
              <a:rect l="textAreaLeft" t="textAreaTop" r="textAreaRight" b="textAreaBottom"/>
              <a:pathLst>
                <a:path w="21600" h="28847">
                  <a:moveTo>
                    <a:pt x="3600" y="0"/>
                  </a:moveTo>
                  <a:arcTo wR="3600" hR="3600" stAng="16200000" swAng="-5400000"/>
                  <a:lnTo>
                    <a:pt x="0" y="25247"/>
                  </a:lnTo>
                  <a:arcTo wR="3600" hR="3600" stAng="10800000" swAng="-5400000"/>
                  <a:lnTo>
                    <a:pt x="18000" y="28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" name="AutoShape 6"/>
            <p:cNvSpPr/>
            <p:nvPr/>
          </p:nvSpPr>
          <p:spPr>
            <a:xfrm>
              <a:off x="1042920" y="5228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1042920" y="285300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AutoShape 8"/>
            <p:cNvSpPr/>
            <p:nvPr/>
          </p:nvSpPr>
          <p:spPr>
            <a:xfrm>
              <a:off x="1042920" y="2781360"/>
              <a:ext cx="2163960" cy="8694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AutoShape 9"/>
            <p:cNvSpPr/>
            <p:nvPr/>
          </p:nvSpPr>
          <p:spPr>
            <a:xfrm>
              <a:off x="1042920" y="285300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知 识 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6" name="Group 12"/>
            <p:cNvGrpSpPr/>
            <p:nvPr/>
          </p:nvGrpSpPr>
          <p:grpSpPr>
            <a:xfrm>
              <a:off x="1690920" y="2133000"/>
              <a:ext cx="642960" cy="642240"/>
              <a:chOff x="1690920" y="2133000"/>
              <a:chExt cx="642960" cy="642240"/>
            </a:xfrm>
          </p:grpSpPr>
          <p:sp>
            <p:nvSpPr>
              <p:cNvPr id="117" name="Oval 11"/>
              <p:cNvSpPr/>
              <p:nvPr/>
            </p:nvSpPr>
            <p:spPr>
              <a:xfrm>
                <a:off x="1690920" y="2133000"/>
                <a:ext cx="642960" cy="6422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Oval 12"/>
              <p:cNvSpPr/>
              <p:nvPr/>
            </p:nvSpPr>
            <p:spPr>
              <a:xfrm>
                <a:off x="1697400" y="2137680"/>
                <a:ext cx="621720" cy="622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9" name="Oval 13"/>
              <p:cNvSpPr/>
              <p:nvPr/>
            </p:nvSpPr>
            <p:spPr>
              <a:xfrm>
                <a:off x="1705320" y="2141640"/>
                <a:ext cx="607320" cy="606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0" name="Oval 14"/>
              <p:cNvSpPr/>
              <p:nvPr/>
            </p:nvSpPr>
            <p:spPr>
              <a:xfrm>
                <a:off x="1711800" y="2147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1" name="Oval 15"/>
              <p:cNvSpPr/>
              <p:nvPr/>
            </p:nvSpPr>
            <p:spPr>
              <a:xfrm>
                <a:off x="1745640" y="2162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2" name="Text Box 16"/>
            <p:cNvSpPr/>
            <p:nvPr/>
          </p:nvSpPr>
          <p:spPr>
            <a:xfrm>
              <a:off x="1837800" y="2081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1047240" y="2751480"/>
              <a:ext cx="2084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20"/>
          <p:cNvGrpSpPr/>
          <p:nvPr/>
        </p:nvGrpSpPr>
        <p:grpSpPr>
          <a:xfrm>
            <a:off x="5651640" y="2060640"/>
            <a:ext cx="2165040" cy="4440240"/>
            <a:chOff x="5651640" y="2060640"/>
            <a:chExt cx="2165040" cy="4440240"/>
          </a:xfrm>
        </p:grpSpPr>
        <p:sp>
          <p:nvSpPr>
            <p:cNvPr id="125" name="AutoShape 4"/>
            <p:cNvSpPr/>
            <p:nvPr/>
          </p:nvSpPr>
          <p:spPr>
            <a:xfrm>
              <a:off x="5651640" y="3625200"/>
              <a:ext cx="2164320" cy="2857680"/>
            </a:xfrm>
            <a:custGeom>
              <a:avLst/>
              <a:gdLst>
                <a:gd name="textAreaLeft" fmla="*/ 110880 w 2164320"/>
                <a:gd name="textAreaRight" fmla="*/ 2053440 w 216432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19">
                  <a:moveTo>
                    <a:pt x="3782" y="0"/>
                  </a:moveTo>
                  <a:arcTo wR="3782" hR="3782" stAng="16200000" swAng="-5400000"/>
                  <a:lnTo>
                    <a:pt x="0" y="24737"/>
                  </a:lnTo>
                  <a:arcTo wR="3782" hR="3782" stAng="10800000" swAng="-5400000"/>
                  <a:lnTo>
                    <a:pt x="17818" y="28519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5"/>
            <p:cNvSpPr/>
            <p:nvPr/>
          </p:nvSpPr>
          <p:spPr>
            <a:xfrm>
              <a:off x="5651640" y="3697200"/>
              <a:ext cx="2099520" cy="2803680"/>
            </a:xfrm>
            <a:custGeom>
              <a:avLst/>
              <a:gdLst>
                <a:gd name="textAreaLeft" fmla="*/ 102240 w 2099520"/>
                <a:gd name="textAreaRight" fmla="*/ 1997280 w 209952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43">
                  <a:moveTo>
                    <a:pt x="3600" y="0"/>
                  </a:moveTo>
                  <a:arcTo wR="3600" hR="3600" stAng="16200000" swAng="-5400000"/>
                  <a:lnTo>
                    <a:pt x="0" y="25243"/>
                  </a:lnTo>
                  <a:arcTo wR="3600" hR="3600" stAng="10800000" swAng="-5400000"/>
                  <a:lnTo>
                    <a:pt x="18000" y="288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5651640" y="5209200"/>
              <a:ext cx="2071080" cy="70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7"/>
            <p:cNvSpPr/>
            <p:nvPr/>
          </p:nvSpPr>
          <p:spPr>
            <a:xfrm>
              <a:off x="5651640" y="2832840"/>
              <a:ext cx="207108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8"/>
            <p:cNvSpPr/>
            <p:nvPr/>
          </p:nvSpPr>
          <p:spPr>
            <a:xfrm>
              <a:off x="5651640" y="2760840"/>
              <a:ext cx="216504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AutoShape 9"/>
            <p:cNvSpPr/>
            <p:nvPr/>
          </p:nvSpPr>
          <p:spPr>
            <a:xfrm>
              <a:off x="5651640" y="2832840"/>
              <a:ext cx="20710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素 质 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31" name="Group 27"/>
            <p:cNvGrpSpPr/>
            <p:nvPr/>
          </p:nvGrpSpPr>
          <p:grpSpPr>
            <a:xfrm>
              <a:off x="6300000" y="2112480"/>
              <a:ext cx="643320" cy="642600"/>
              <a:chOff x="6300000" y="2112480"/>
              <a:chExt cx="643320" cy="642600"/>
            </a:xfrm>
          </p:grpSpPr>
          <p:sp>
            <p:nvSpPr>
              <p:cNvPr id="132" name="Oval 11"/>
              <p:cNvSpPr/>
              <p:nvPr/>
            </p:nvSpPr>
            <p:spPr>
              <a:xfrm>
                <a:off x="6300000" y="2112480"/>
                <a:ext cx="64332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3" name="Oval 12"/>
              <p:cNvSpPr/>
              <p:nvPr/>
            </p:nvSpPr>
            <p:spPr>
              <a:xfrm>
                <a:off x="6306480" y="2117160"/>
                <a:ext cx="62208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4" name="Oval 13"/>
              <p:cNvSpPr/>
              <p:nvPr/>
            </p:nvSpPr>
            <p:spPr>
              <a:xfrm>
                <a:off x="6314400" y="2121120"/>
                <a:ext cx="60768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5" name="Oval 14"/>
              <p:cNvSpPr/>
              <p:nvPr/>
            </p:nvSpPr>
            <p:spPr>
              <a:xfrm>
                <a:off x="6320880" y="2126520"/>
                <a:ext cx="57780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6" name="Oval 15"/>
              <p:cNvSpPr/>
              <p:nvPr/>
            </p:nvSpPr>
            <p:spPr>
              <a:xfrm>
                <a:off x="6354720" y="2142360"/>
                <a:ext cx="51336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7" name="Text Box 16"/>
            <p:cNvSpPr/>
            <p:nvPr/>
          </p:nvSpPr>
          <p:spPr>
            <a:xfrm>
              <a:off x="6447600" y="20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5655960" y="2731320"/>
              <a:ext cx="2085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9" name="Group 35"/>
          <p:cNvGrpSpPr/>
          <p:nvPr/>
        </p:nvGrpSpPr>
        <p:grpSpPr>
          <a:xfrm>
            <a:off x="3348000" y="2060640"/>
            <a:ext cx="2163960" cy="4440240"/>
            <a:chOff x="3348000" y="2060640"/>
            <a:chExt cx="2163960" cy="4440240"/>
          </a:xfrm>
        </p:grpSpPr>
        <p:sp>
          <p:nvSpPr>
            <p:cNvPr id="140" name="AutoShape 4"/>
            <p:cNvSpPr/>
            <p:nvPr/>
          </p:nvSpPr>
          <p:spPr>
            <a:xfrm>
              <a:off x="3348000" y="3625200"/>
              <a:ext cx="2163240" cy="2857680"/>
            </a:xfrm>
            <a:custGeom>
              <a:avLst/>
              <a:gdLst>
                <a:gd name="textAreaLeft" fmla="*/ 110880 w 2163240"/>
                <a:gd name="textAreaRight" fmla="*/ 2052360 w 216324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33">
                  <a:moveTo>
                    <a:pt x="3782" y="0"/>
                  </a:moveTo>
                  <a:arcTo wR="3782" hR="3782" stAng="16200000" swAng="-5400000"/>
                  <a:lnTo>
                    <a:pt x="0" y="24751"/>
                  </a:lnTo>
                  <a:arcTo wR="3782" hR="3782" stAng="10800000" swAng="-5400000"/>
                  <a:lnTo>
                    <a:pt x="17818" y="2853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AutoShape 5"/>
            <p:cNvSpPr/>
            <p:nvPr/>
          </p:nvSpPr>
          <p:spPr>
            <a:xfrm>
              <a:off x="3348000" y="3697200"/>
              <a:ext cx="2098440" cy="280368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8">
                  <a:moveTo>
                    <a:pt x="3600" y="0"/>
                  </a:moveTo>
                  <a:arcTo wR="3600" hR="3600" stAng="16200000" swAng="-5400000"/>
                  <a:lnTo>
                    <a:pt x="0" y="25258"/>
                  </a:lnTo>
                  <a:arcTo wR="3600" hR="3600" stAng="10800000" swAng="-5400000"/>
                  <a:lnTo>
                    <a:pt x="18000" y="288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6"/>
            <p:cNvSpPr/>
            <p:nvPr/>
          </p:nvSpPr>
          <p:spPr>
            <a:xfrm>
              <a:off x="3348000" y="5209200"/>
              <a:ext cx="2070000" cy="70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7"/>
            <p:cNvSpPr/>
            <p:nvPr/>
          </p:nvSpPr>
          <p:spPr>
            <a:xfrm>
              <a:off x="3348000" y="2832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AutoShape 8"/>
            <p:cNvSpPr/>
            <p:nvPr/>
          </p:nvSpPr>
          <p:spPr>
            <a:xfrm>
              <a:off x="3348000" y="276084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AutoShape 9"/>
            <p:cNvSpPr/>
            <p:nvPr/>
          </p:nvSpPr>
          <p:spPr>
            <a:xfrm>
              <a:off x="3348000" y="2832840"/>
              <a:ext cx="2070000" cy="773280"/>
            </a:xfrm>
            <a:prstGeom prst="roundRect">
              <a:avLst>
                <a:gd name="adj" fmla="val 50000"/>
              </a:avLst>
            </a:prstGeom>
            <a:solidFill>
              <a:srgbClr val="1d1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能 力</a:t>
              </a:r>
              <a:r>
                <a:rPr b="1" lang="zh-CN" sz="32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6" name="Group 42"/>
            <p:cNvGrpSpPr/>
            <p:nvPr/>
          </p:nvGrpSpPr>
          <p:grpSpPr>
            <a:xfrm>
              <a:off x="3996000" y="2112480"/>
              <a:ext cx="642960" cy="642600"/>
              <a:chOff x="3996000" y="2112480"/>
              <a:chExt cx="642960" cy="642600"/>
            </a:xfrm>
          </p:grpSpPr>
          <p:sp>
            <p:nvSpPr>
              <p:cNvPr id="147" name="Oval 11"/>
              <p:cNvSpPr/>
              <p:nvPr/>
            </p:nvSpPr>
            <p:spPr>
              <a:xfrm>
                <a:off x="3996000" y="211248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8" name="Oval 12"/>
              <p:cNvSpPr/>
              <p:nvPr/>
            </p:nvSpPr>
            <p:spPr>
              <a:xfrm>
                <a:off x="4002480" y="211716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9" name="Oval 13"/>
              <p:cNvSpPr/>
              <p:nvPr/>
            </p:nvSpPr>
            <p:spPr>
              <a:xfrm>
                <a:off x="4010400" y="212112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0" name="Oval 14"/>
              <p:cNvSpPr/>
              <p:nvPr/>
            </p:nvSpPr>
            <p:spPr>
              <a:xfrm>
                <a:off x="4016880" y="212652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Oval 15"/>
              <p:cNvSpPr/>
              <p:nvPr/>
            </p:nvSpPr>
            <p:spPr>
              <a:xfrm>
                <a:off x="4050720" y="214236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2" name="Text Box 16"/>
            <p:cNvSpPr/>
            <p:nvPr/>
          </p:nvSpPr>
          <p:spPr>
            <a:xfrm>
              <a:off x="4142880" y="20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Text Box 17"/>
            <p:cNvSpPr/>
            <p:nvPr/>
          </p:nvSpPr>
          <p:spPr>
            <a:xfrm>
              <a:off x="3352320" y="2731320"/>
              <a:ext cx="2084040" cy="13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4" name="Text Box 50"/>
          <p:cNvSpPr/>
          <p:nvPr/>
        </p:nvSpPr>
        <p:spPr>
          <a:xfrm>
            <a:off x="971640" y="386244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1.</a:t>
            </a: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描述冷、热疗法的作用和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2.</a:t>
            </a: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说出影响冷、热疗法效果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51"/>
          <p:cNvSpPr/>
          <p:nvPr/>
        </p:nvSpPr>
        <p:spPr>
          <a:xfrm>
            <a:off x="3421080" y="3789360"/>
            <a:ext cx="201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能按照规程完成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热疗法的操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52"/>
          <p:cNvSpPr/>
          <p:nvPr/>
        </p:nvSpPr>
        <p:spPr>
          <a:xfrm>
            <a:off x="5653080" y="3789360"/>
            <a:ext cx="24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理解尊重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患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在操作过程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关爱患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保证患者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禁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未明确诊断的急腹症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热疗虽能减轻疼痛，但易掩盖病情真相，贻误诊断和治疗，有引发腹膜炎的危险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面部危险三角区感染化脓时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因该处血管丰富无静脉瓣，且与颅内海绵窦相通，热疗可使血管扩张、血流增多，导致细菌和毒素进入血液循环，使炎症扩散，造成颅内感染和败血症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各种脏器出血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热疗可使局部血管扩张，增加脏器的血流量和血管通透性而加重出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软组织损伤或扭伤的初期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（</a:t>
            </a:r>
            <a:r>
              <a:rPr b="0" lang="en-US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48h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内）忌用热疗，因热疗可促进血液循环，加重皮下出血、肿胀及疼痛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其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热疗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771640" y="1917720"/>
            <a:ext cx="468000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热水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烤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热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五）温水浸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一）热水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4920" y="1371240"/>
            <a:ext cx="900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目的 保暖、解痉、镇痛、舒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操作前准备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5-6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使用前检查热水袋有无破损、热水袋与塞子是否配套，以防漏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调节合适水温。成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℃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昏迷、老人、婴幼儿、感觉障碍、循环不良等患者，水温应低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℃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特殊患者使用热水袋时，应在布套外再包一块大毛巾或将热水袋置于两层毯子之间，以防止烫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热疗期间密切观察：① 观察局部皮肤变化，如皮肤潮红、疼痛，应立即停止使用，并在局部涂凡士林以保护皮肤；② 观察水温，若水温降低及时更换热水；③ 加强巡视，必要时床旁交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烤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目的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消炎、镇痛、解痉、促进创面干燥结痂、保护肉芽组织生长，以利于伤口愈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用物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步骤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见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教材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5-7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）根据治疗部位选择不同功率的灯泡。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胸、腹、腰、背选择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500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00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手、足部选择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5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鹅颈灯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0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6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前胸、面颈照射时，注意保护眼睛、可戴有色眼睛或用纱布遮盖。主要原因是眼内含有较多液体，对红外线的吸收强，一定强度的红外线直接照射可引发白内障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意识不清、局部感觉障碍、血液循环障碍、瘢痕者，治疗时应加大灯距，防止烫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红外线多次治疗后，治疗部位皮肤可出现网状红斑，色素沉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）照射过程中应注意观察，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如有过热、心慌、头晕等感觉应及时报告医护人员；局部皮肤变化，如皮肤出现桃红色均匀红斑，为合适计量；如皮肤出现紫红色，应立即停止照射，并涂凡士林以保护皮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热湿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目的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 解痉、消炎、消肿、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步骤（教材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5-8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．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保持热敷温度。水温为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5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～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60℃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，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可放在手腕内侧试温，不烫手为宜。热敷过程中可用热源，如热水袋等或及时更换热水维持水温。若患者自觉温度稍高，可掀起敷布一角散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若热敷部位有伤口，须按无菌技术处理伤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热敷过程中注意观察皮肤颜色、全身情况，以防烫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面部热敷者，应间隔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0min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方可外出，以防感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热疗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626920" y="2638440"/>
            <a:ext cx="62881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温水浸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合所学知识请思考下列疾病，哪些可以用冷疗法？哪些可以用热疗法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末梢循环不良者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腰背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牙痛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开水不慎烫伤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分钟   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脑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明同学在校运会上不慎脚踝扭伤，请你告诉家长正确的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6233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小明，男，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16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岁，踢球时，不慎足踝部扭伤，疼痛难忍，回到家中其母嘱咐用热水泡脚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请问这种方法对吗？为什么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概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1d14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冷、热疗法</a:t>
            </a:r>
            <a:r>
              <a:rPr b="1" lang="en-US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(cold and heat therapy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1d14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是利用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低于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或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高于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人体温度的物质作用于人体表面，通过神经传导引起皮肤和内脏器官的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收缩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或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舒张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，改变机体各系统体液循环和新陈代谢，达到治疗目的的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76360" y="404640"/>
            <a:ext cx="5607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概 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360" y="2206440"/>
            <a:ext cx="830268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一、冷热疗法的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二、影响冷热疗法效果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冷热疗法的效应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生理效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8360" y="1197000"/>
          <a:ext cx="8229600" cy="5318280"/>
        </p:xfrm>
        <a:graphic>
          <a:graphicData uri="http://schemas.openxmlformats.org/drawingml/2006/table">
            <a:tbl>
              <a:tblPr/>
              <a:tblGrid>
                <a:gridCol w="2674800"/>
                <a:gridCol w="2809800"/>
                <a:gridCol w="2745000"/>
              </a:tblGrid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生理指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冷  疗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热  疗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管舒张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收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收  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舒  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细胞代谢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需  氧  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毛细血管通透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液黏稠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降  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液流动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淋巴流动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结缔组织伸展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神经传导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体   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下  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上  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冷热疗法的效应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继发效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冷疗或热疗超过一定时间，产生与生理效应相反的作用，这种现象称为继发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例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热疗可以使血管扩张，但持续用热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45min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后，则血管收缩；持续用冷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0min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后，则血管扩张。这是机体避免长时间用冷或用热对组织的损害而引起的防御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因此，冷、热疗法应有适当的时间，以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30min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为宜。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如需连续使用，间隔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476360" y="1917720"/>
            <a:ext cx="6159600" cy="4073400"/>
          </a:xfrm>
          <a:prstGeom prst="rect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556000" y="2997360"/>
            <a:ext cx="2025360" cy="1631880"/>
          </a:xfrm>
          <a:prstGeom prst="rect">
            <a:avLst/>
          </a:prstGeom>
          <a:solidFill>
            <a:srgbClr val="692a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643280" y="2997360"/>
            <a:ext cx="2027520" cy="1631880"/>
          </a:xfrm>
          <a:prstGeom prst="rect">
            <a:avLst/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 flipV="1">
            <a:off x="2577960" y="3038400"/>
            <a:ext cx="2019600" cy="16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6"/>
          <p:cNvSpPr/>
          <p:nvPr/>
        </p:nvSpPr>
        <p:spPr>
          <a:xfrm flipH="1" flipV="1">
            <a:off x="4603680" y="3036960"/>
            <a:ext cx="2021040" cy="16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 flipV="1">
            <a:off x="4611600" y="3038400"/>
            <a:ext cx="2019240" cy="16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 flipH="1" flipV="1">
            <a:off x="2563560" y="3036960"/>
            <a:ext cx="2019240" cy="16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3962520" y="4021200"/>
            <a:ext cx="128412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部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1935000" y="4021200"/>
            <a:ext cx="128448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温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5962680" y="4021200"/>
            <a:ext cx="128412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个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Oval 12"/>
          <p:cNvSpPr/>
          <p:nvPr/>
        </p:nvSpPr>
        <p:spPr>
          <a:xfrm>
            <a:off x="3962520" y="2395440"/>
            <a:ext cx="128412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面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1935000" y="2395440"/>
            <a:ext cx="128448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Oval 14"/>
          <p:cNvSpPr/>
          <p:nvPr/>
        </p:nvSpPr>
        <p:spPr>
          <a:xfrm>
            <a:off x="5962680" y="2395440"/>
            <a:ext cx="128412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179280" y="333360"/>
            <a:ext cx="4105440" cy="1556280"/>
          </a:xfrm>
          <a:prstGeom prst="rect">
            <a:avLst/>
          </a:prstGeom>
          <a:solidFill>
            <a:srgbClr val="692a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ffffff"/>
                </a:solidFill>
                <a:latin typeface="Arial"/>
                <a:ea typeface="幼圆"/>
              </a:rPr>
              <a:t>二、影响冷热疗法效果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第二节  冷 疗 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目的及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332000" y="2133720"/>
            <a:ext cx="6337080" cy="4074840"/>
          </a:xfrm>
          <a:prstGeom prst="rect">
            <a:avLst/>
          </a:prstGeom>
          <a:noFill/>
          <a:ln w="7632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3132000" y="407664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4572000" y="407664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6012000" y="4076640"/>
            <a:ext cx="13683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AutoShape 8"/>
          <p:cNvSpPr/>
          <p:nvPr/>
        </p:nvSpPr>
        <p:spPr>
          <a:xfrm rot="10800000">
            <a:off x="3060360" y="234900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 rot="10800000">
            <a:off x="4500720" y="2349000"/>
            <a:ext cx="143640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AutoShape 10"/>
          <p:cNvSpPr/>
          <p:nvPr/>
        </p:nvSpPr>
        <p:spPr>
          <a:xfrm rot="10800000">
            <a:off x="1692360" y="2349000"/>
            <a:ext cx="143496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AutoShape 11"/>
          <p:cNvSpPr/>
          <p:nvPr/>
        </p:nvSpPr>
        <p:spPr>
          <a:xfrm rot="10800000">
            <a:off x="5940000" y="2349000"/>
            <a:ext cx="136044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1476360" y="3213000"/>
            <a:ext cx="16956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PMingLiU"/>
              </a:rPr>
              <a:t>减轻局部充血或出血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3132000" y="3429000"/>
            <a:ext cx="13510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2aa2"/>
                </a:solidFill>
                <a:latin typeface="Arial"/>
                <a:ea typeface="PMingLiU"/>
              </a:rPr>
              <a:t>减轻疼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4572000" y="3535200"/>
            <a:ext cx="14446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PMingLiU"/>
              </a:rPr>
              <a:t>控制炎症扩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6156360" y="3429000"/>
            <a:ext cx="135252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2aa2"/>
                </a:solidFill>
                <a:latin typeface="Arial"/>
                <a:ea typeface="PMingLiU"/>
              </a:rPr>
              <a:t>降低体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AutoShape 16"/>
          <p:cNvSpPr/>
          <p:nvPr/>
        </p:nvSpPr>
        <p:spPr>
          <a:xfrm>
            <a:off x="1692360" y="4076640"/>
            <a:ext cx="14349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zhaoxin</cp:lastModifiedBy>
  <cp:lastPrinted>1899-12-30T00:00:00Z</cp:lastPrinted>
  <dcterms:modified xsi:type="dcterms:W3CDTF">2014-09-05T09:50:21Z</dcterms:modified>
  <cp:revision>1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