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1678-B966-40CC-8A04-4134C14BA4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08AA-E955-44A8-894B-70643051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E0B1A-1CD2-4842-800A-09291F1B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41B1-1B6B-4E66-82F7-260A737E54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1544-C461-4AFF-8EBA-F37D8D8B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D11A-FDCF-4579-AB21-13979714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536B-FE1A-4011-9C69-D738C2D7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9290-30F6-4B86-BDD0-E3D64F11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9208-9245-4017-AEAF-2E9E273E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3E95-805D-4E7A-8F49-5F57E7AC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03C0-C915-4468-8B37-709E8682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F54CE-5518-4AB4-B03E-90D1C858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7424-C111-464E-B012-BA329AAC06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危重患者的管理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常用急救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识丧失或伴抽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颈动脉、股动脉等大动脉搏动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散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指专业或非专业人员进行徒手抢救，包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AB 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主要步骤，即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循环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胸外心脏按压）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开放气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呼吸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本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延续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放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并启动急救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放置心肺复苏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卧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坚实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面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外心脏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部位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胸骨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位方法：取两乳头连线至胸骨交叉的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67520" y="4365720"/>
            <a:ext cx="24922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向下用力按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深度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按压后要全部放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压时间与放松时间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比为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∶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应平稳、有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频率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连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按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胸外心脏按压时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部位要正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手指要抬离胸壁，以防压力沿手指传至肋骨引起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双臂应保持伸直不弯曲，并应垂直向下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有无并发症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开放气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清除气道异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抬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抬举下颌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举颏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065320" cy="150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217600" cy="14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940360" y="4237200"/>
            <a:ext cx="20034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口人工呼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气道开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深吸一口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捏紧患者鼻子，包住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慢而持续地将气体吹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吹气历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连续吹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鼻人工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婴幼儿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牙关紧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口唇无法严密包绕患者口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危重患者的监测和护理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心搏呼吸骤停的原因、判定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心肺脑复苏的注意事项和有效指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缺氧的原因及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陈述氧疗的并发症及预防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洗胃的适应证、禁忌证和洗胃时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吸痰时的目的、方法和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能正确使用简易呼吸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 能正确进行胸外心脏按压及人工呼吸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正确执行给氧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根据患者的具体情况正确选择洗胃方式和洗胃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不要过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量不要过大，吹气量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60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的同时不要按压胸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基本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先判断是否有意识和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迅速将患者放置于仰卧位，背靠坚实的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立即进行胸外心脏按压，以大于每分钟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的频率做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，并保持气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口对口或口对鼻吹气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按压与吹气之比为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30∶2</a:t>
            </a:r>
            <a:r>
              <a:rPr b="0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，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复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患者的呼吸、脉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轮换按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有效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触到大动脉搏动，肱动脉收缩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8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色、口唇、甲床、皮肤等处色泽转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散大的瞳孔缩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自主呼吸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程度变浅，可出现反射或四肢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氧 气 疗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临床上针对缺氧的一种治疗方法，即给予缺氧的患者吸入氧气，其目的在于提高患者肺泡内氧分压，从而提高动脉血氧分压，纠正低氧血症及其带来的危害，挽救患者的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中毒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耗氧增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轻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无发绀，一般无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有发绀，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明显发绀，必须进行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流量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流量给氧：</a:t>
            </a:r>
            <a:r>
              <a:rPr b="0" lang="zh-CN" sz="2400" spc="-1" strike="noStrike">
                <a:solidFill>
                  <a:srgbClr val="c00000"/>
                </a:solidFill>
                <a:latin typeface="PMingLiU"/>
                <a:ea typeface="PMingLiU"/>
              </a:rPr>
              <a:t>≤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流量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浓度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中浓度给氧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给氧时的压力情况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常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供氧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压力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kg/cm</a:t>
            </a:r>
            <a:r>
              <a:rPr b="0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容纳氧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00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供氧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枕供氧装置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具体流程见教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导管吸氧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塞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罩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遵守操作规程，注意用氧安全，做好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四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氧气时，应先调节好流量后再用；停用时应先拔出导管，再关闭氧气开关；氧疗过程中需调节流量时，应先分离开鼻导管再调节流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进入呼吸道前需经湿化瓶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期观察氧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云形标注 4"/>
          <p:cNvSpPr/>
          <p:nvPr/>
        </p:nvSpPr>
        <p:spPr>
          <a:xfrm>
            <a:off x="3995640" y="3789360"/>
            <a:ext cx="4176720" cy="1943280"/>
          </a:xfrm>
          <a:prstGeom prst="cloudCallout">
            <a:avLst>
              <a:gd name="adj1" fmla="val 46180"/>
              <a:gd name="adj2" fmla="val -15062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防火、防震、防热、防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现场急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并发症及预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不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晶体后纤维组织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洗 胃 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向胃内灌注溶液的方法来排除胃内毒物或潴留食物，以达到解除患者痛苦、抢救患者生命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除胃内毒物或其他有害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胃内滞留的食物排出，减轻胃黏膜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胃手术或检查的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的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吞服强酸或强碱等腐蚀性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消化道溃疡、食管阻塞、食管胃底静脉曲张、胃癌等患者一般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主动脉瘤、心肌梗死患者慎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液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24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催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管洗胃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器灌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电动吸引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机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口服催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清醒合作且非致命性、非腐蚀性毒物中毒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坐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咽后壁或者舌根诱发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饮入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ml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舌咽部，引起反射性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此反复进行，直至吐出液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清洁无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用物，洗手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云形标注 4"/>
          <p:cNvSpPr/>
          <p:nvPr/>
        </p:nvSpPr>
        <p:spPr>
          <a:xfrm>
            <a:off x="6224760" y="4941720"/>
            <a:ext cx="2881080" cy="1440000"/>
          </a:xfrm>
          <a:prstGeom prst="cloudCallout">
            <a:avLst>
              <a:gd name="adj1" fmla="val -44972"/>
              <a:gd name="adj2" fmla="val -14042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遵医嘱留取毒物标本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管洗胃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左侧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洗胃管插入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洗胃，洗胃过程注意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结束：洗出液清洁无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完毕，整理用物，洗手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4427640" y="4508640"/>
            <a:ext cx="2736720" cy="2016000"/>
          </a:xfrm>
          <a:prstGeom prst="cloudCallout">
            <a:avLst>
              <a:gd name="adj1" fmla="val -25606"/>
              <a:gd name="adj2" fmla="val -7326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记录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液名称及量、洗出液的颜色和气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当中毒物不明时，应抽出胃内容物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溶液可选温开水或等渗盐水或有针对性的抗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液温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7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灌入量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次洗胃总量一般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0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入液量要大致相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开始时应先抽出胃内容物再灌入洗胃液，饭后中毒的患者应先催吐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洗胃压力不宜过大，应保持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3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洗胃过程中应注意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时观察脉搏、呼吸、血压及患者腹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主诉腹痛，且流出血性灌洗液或出现休克现象，应立即停止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昏迷患者洗胃应谨慎，应取去枕仰卧位，头转向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幽门梗阻患者洗胃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记录胃内潴留量以了解梗阻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空腹时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危重患者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抢救工作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立即指定抢救负责人，组成抢救小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参与制订抢救方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订抢救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合医生进行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抢救记录和查对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熟悉危重患者的病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格执行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“五定”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用物要及时清理、归还原处和补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交接班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吸 痰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经口腔、鼻腔、人工气道将呼吸道的分泌物吸出，以保持呼吸道通畅，预防吸入性肺炎、肺不张、窒息等并发症的一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体弱、危重、昏迷、麻醉未清醒前等各种原因引起的不能有效咳嗽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引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负压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鼻或口腔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气管插管或气管切开套管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具体操作步骤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遵循无菌操作原则，每次均须更换无菌吸痰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管最大外径不能超过气管导管内径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负压吸引压力不宜太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吸痰前后可通过加大氧浓度来增加患者的供氧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动作要轻柔、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时禁止反复上下提插吸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吸痰时间不宜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如痰液多，需要再次吸引，应间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连续吸痰不得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吸痰间隔予以纯氧吸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黏稠者可先行稀释痰液，使痰液易于吸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过程中应密切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瓶内的吸出液至半瓶时即应倾倒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应专人保管，做好清洁保养工作，定期检查其性能，搬运时避免剧烈震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数量品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点安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人保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消毒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查维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危重患者的病情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危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2960" y="1628280"/>
            <a:ext cx="434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呼吸道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插管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切开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机的使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4754520" y="1125360"/>
            <a:ext cx="433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基础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患者的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便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肢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坠积性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足够的营养和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现场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现场急救指当危重急症以及意外伤害发生，专业医务人员未赶到之前，抢救者利用现场所提供的人力、物力为伤病者采取及时有效的初步救助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心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系统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、手术和麻醉意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外事件如遭遇雷击、电击、溺水、窒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05:2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