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儿科护理学</a:t>
            </a:r>
            <a:br>
              <a:rPr sz="6000"/>
            </a:b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全国高职高专护理学专业教材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主编  王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东中医药高等专科学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44920"/>
            <a:ext cx="9144000" cy="331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483_1165313248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82040"/>
            <a:ext cx="77738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2800" spc="-1" strike="noStrike">
              <a:solidFill>
                <a:srgbClr val="009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87280" y="2781360"/>
            <a:ext cx="2286000" cy="2762640"/>
            <a:chOff x="1187280" y="2781360"/>
            <a:chExt cx="2286000" cy="2762640"/>
          </a:xfrm>
        </p:grpSpPr>
        <p:sp>
          <p:nvSpPr>
            <p:cNvPr id="135" name=""/>
            <p:cNvSpPr/>
            <p:nvPr/>
          </p:nvSpPr>
          <p:spPr>
            <a:xfrm>
              <a:off x="1187280" y="27813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82680" y="2981160"/>
              <a:ext cx="20383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社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fff"/>
                  </a:solidFill>
                  <a:latin typeface="Arial"/>
                  <a:ea typeface="华文行楷"/>
                </a:rPr>
                <a:t>生长发育健康保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fff"/>
                  </a:solidFill>
                  <a:latin typeface="Arial"/>
                  <a:ea typeface="华文行楷"/>
                </a:rPr>
                <a:t>疾病预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492360" y="2492280"/>
            <a:ext cx="90360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3b85c"/>
              </a:gs>
              <a:gs pos="100000">
                <a:srgbClr val="ef9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59280" y="907920"/>
            <a:ext cx="2998440" cy="1600920"/>
            <a:chOff x="3059280" y="907920"/>
            <a:chExt cx="2998440" cy="1600920"/>
          </a:xfrm>
        </p:grpSpPr>
        <p:grpSp>
          <p:nvGrpSpPr>
            <p:cNvPr id="139" name=""/>
            <p:cNvGrpSpPr/>
            <p:nvPr/>
          </p:nvGrpSpPr>
          <p:grpSpPr>
            <a:xfrm>
              <a:off x="3059280" y="907920"/>
              <a:ext cx="2998440" cy="1600920"/>
              <a:chOff x="3059280" y="907920"/>
              <a:chExt cx="2998440" cy="1600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3059280" y="1050480"/>
                <a:ext cx="2998440" cy="1458360"/>
                <a:chOff x="3059280" y="1050480"/>
                <a:chExt cx="2998440" cy="1458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092040" y="109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841"/>
                    </a:gs>
                    <a:gs pos="100000">
                      <a:srgbClr val="00968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059280" y="105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688"/>
                    </a:gs>
                    <a:gs pos="100000">
                      <a:srgbClr val="8dcfc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3200760" y="90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d49fff"/>
                  </a:gs>
                  <a:gs pos="100000">
                    <a:srgbClr val="6149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35680" y="91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fdcfe"/>
                  </a:gs>
                  <a:gs pos="100000">
                    <a:srgbClr val="d49f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62680" y="92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d49fff">
                      <a:alpha val="48235"/>
                    </a:srgbClr>
                  </a:gs>
                  <a:gs pos="100000">
                    <a:srgbClr val="a77d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94440" y="95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d49ff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869640" y="10047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空间范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80000" y="2708280"/>
            <a:ext cx="2286000" cy="2666880"/>
            <a:chOff x="5580000" y="2708280"/>
            <a:chExt cx="2286000" cy="2666880"/>
          </a:xfrm>
        </p:grpSpPr>
        <p:sp>
          <p:nvSpPr>
            <p:cNvPr id="149" name=""/>
            <p:cNvSpPr/>
            <p:nvPr/>
          </p:nvSpPr>
          <p:spPr>
            <a:xfrm>
              <a:off x="5580000" y="27082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32280" y="2908080"/>
              <a:ext cx="2038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医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fff"/>
                  </a:solidFill>
                  <a:latin typeface="Arial"/>
                  <a:ea typeface="华文行楷"/>
                </a:rPr>
                <a:t>临床护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4715640" y="24922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cd8"/>
              </a:gs>
              <a:gs pos="100000">
                <a:srgbClr val="0096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371600"/>
            <a:ext cx="7620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5400" spc="-1" strike="noStrike">
                <a:solidFill>
                  <a:srgbClr val="ff0066"/>
                </a:solidFill>
                <a:latin typeface="Tahoma"/>
              </a:rPr>
              <a:t>第二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zh-CN" sz="6000" spc="-1" strike="noStrike">
                <a:solidFill>
                  <a:srgbClr val="ff0066"/>
                </a:solidFill>
                <a:latin typeface="Tahoma"/>
              </a:rPr>
              <a:t>儿科护理的特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一） 根据小儿特点，针对性地实施护理</a:t>
            </a:r>
            <a:br>
              <a:rPr sz="40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．身体方面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解剖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儿处于不断生长发育过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同器官和系统生长发育速度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组织娇嫩，易受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系统、器官功能尚未成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同年龄生理生化指标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免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特异性免疫、特异性免疫不完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47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．心理社会方面的特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脑结构功能不成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不成熟到成熟，可塑性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维方式与成人不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．患病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疾病种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儿的疾病种类与成人有很大不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如：患先天性、遗传性疾病和感染性疾病较成人多。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病理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同致病因素在不同年龄引起的病理变化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如：肺炎链球就引起的肺炎、 维生素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缺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预后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起病急，变化快，易恶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复能力强，恢复快，后遗症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预防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强预防措施是降低儿童发病率和死亡率的重要环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如：胎儿时期预防先天疾病、按时完成计划免疫可预防传   染病的预防、小儿合理生活可预防成人疾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47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．儿童及其家庭护理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儿科护理工作应以儿童及其家庭为中心，重视儿童的生理、心理发展，关注、满足儿童及其家庭成员的心理感受和服务需求，积极为儿童及其家庭提供健康指导、疾病护理、教养咨询和家庭支持等服务，以促进小儿身心各方面的健康成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（二）根据小儿不同年龄阶段的特点，实施重点护理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儿处于持续生长发育的动态阶段，各年龄时期有不同的生长发育特点。护理工作要根据不同阶段的心理和生理特点采取相应的护理措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（三）顺应护理模式的转变，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实施患儿的整体护理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是身心统一的整体，护理工作不应仅限于满足小儿的生理需要或维持已有的发育，还应包括维护和促进小儿心理行为发展和心理的健康。除注意小儿机体各系统之间的关系调整外，还应使小儿的生理、心理活动状态与周围社会变化相适应。要重视把握自然环境和周围环境带给小儿的影响。护理人员需与小儿的父母、保育者、幼教工作者、学校教师等共同配合，保障和促进小儿身心两方面的健康成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918560" cy="31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第三节  </a:t>
            </a:r>
            <a:br>
              <a:rPr sz="6600"/>
            </a:b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儿科临床护理的</a:t>
            </a:r>
            <a:br>
              <a:rPr sz="6600"/>
            </a:b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特殊性</a:t>
            </a:r>
            <a:endParaRPr b="0" i="1" lang="en-US" sz="6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儿科临床护理的特殊性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197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60840" y="37908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Arial"/>
              </a:rPr>
              <a:t>特殊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800" y="48481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必须得到患儿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的支持与配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14156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781200" y="4925880"/>
            <a:ext cx="231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0574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486160"/>
            <a:ext cx="23922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儿科医疗诊断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治疗起重要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14156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781200" y="2563920"/>
            <a:ext cx="231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44197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73920" y="48481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教育儿童是儿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护理的必要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47532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6084720" y="5157720"/>
            <a:ext cx="231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20574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f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73920" y="2486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生活护理多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操作要求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47532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4960" y="2563920"/>
            <a:ext cx="231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63360" y="2258280"/>
            <a:ext cx="3635640" cy="3620160"/>
            <a:chOff x="2763360" y="2258280"/>
            <a:chExt cx="3635640" cy="3620160"/>
          </a:xfrm>
        </p:grpSpPr>
        <p:sp>
          <p:nvSpPr>
            <p:cNvPr id="182" name=""/>
            <p:cNvSpPr/>
            <p:nvPr/>
          </p:nvSpPr>
          <p:spPr>
            <a:xfrm rot="6774000">
              <a:off x="3228480" y="2809800"/>
              <a:ext cx="2679480" cy="264132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009688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2174000">
              <a:off x="3171600" y="279216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d49fff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574600">
              <a:off x="3268080" y="2685240"/>
              <a:ext cx="2679480" cy="264132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0d0d0d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374000">
              <a:off x="3310920" y="27424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f9100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小儿年龄分期及各期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熟悉儿科护理的特点及儿科护理的一般原则；中医特色护理方法；儿科护士的角色及素质要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儿科护理学的任务和范围、儿科护理学的发展趋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第四节  小儿年龄分期及各期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1844640"/>
            <a:ext cx="720720" cy="2736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306864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1916280"/>
            <a:ext cx="720720" cy="26650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6360" y="306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1916280"/>
            <a:ext cx="792360" cy="266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3141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1916280"/>
            <a:ext cx="792000" cy="2665080"/>
          </a:xfrm>
          <a:prstGeom prst="rect">
            <a:avLst/>
          </a:prstGeom>
          <a:noFill/>
          <a:ln w="2844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314172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noFill/>
          <a:ln w="2844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1916280"/>
            <a:ext cx="792000" cy="2665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3141720"/>
            <a:ext cx="289080" cy="287280"/>
          </a:xfrm>
          <a:prstGeom prst="rightArrow">
            <a:avLst>
              <a:gd name="adj1" fmla="val 50000"/>
              <a:gd name="adj2" fmla="val 2515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04000" y="1916280"/>
            <a:ext cx="792360" cy="259236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3141720"/>
            <a:ext cx="288720" cy="287280"/>
          </a:xfrm>
          <a:prstGeom prst="rightArrow">
            <a:avLst>
              <a:gd name="adj1" fmla="val 50000"/>
              <a:gd name="adj2" fmla="val 25125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6720" y="1844640"/>
            <a:ext cx="718920" cy="2664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胎儿早期：妊娠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12W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各系统、器官形成时期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胎儿中期：第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W-28W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各系统、器官形成时期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胎儿晚期：第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8W-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娩</a:t>
            </a: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i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脂肪、肌肉增长时期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96720" y="0"/>
            <a:ext cx="100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（一）胎儿期：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受精卵受精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分娩（脐带结扎）</a:t>
            </a:r>
            <a:r>
              <a:rPr b="1" lang="zh-CN" sz="4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6720" y="249228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256536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切营养物质来源于母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生长发育迅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8040" y="4076640"/>
            <a:ext cx="4635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护理重点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早期预防先天畸形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充分营养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预防感染、保持良好精神状态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定期产前检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二）新生儿期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胎儿娩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800" y="126828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1341360"/>
            <a:ext cx="7076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经受着子宫内外环境的突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项生理机能开始启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病率、病死率高（感染、产伤、出血、窒息、溶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56760" y="4505400"/>
            <a:ext cx="10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合理喂养，预防感染、保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4640" y="4456080"/>
            <a:ext cx="23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护理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21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三）婴儿期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6720" y="141300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920" y="3284640"/>
            <a:ext cx="23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护理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37240" y="1412280"/>
            <a:ext cx="34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生长发育迅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出生半年后易发生感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3357720"/>
            <a:ext cx="67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大力提倡母乳喂养、及时添加辅食、计划免疫、预防感染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44000" cy="107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四）幼儿期：</a:t>
            </a:r>
            <a:r>
              <a:rPr b="1" lang="zh-CN" sz="4000" spc="-1" strike="noStrike">
                <a:solidFill>
                  <a:srgbClr val="dadada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852640"/>
            <a:ext cx="734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6720" y="141300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0640" y="4653000"/>
            <a:ext cx="23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护理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1484280"/>
            <a:ext cx="57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生长发育稳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感染机会增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运动、语言、社会适应能力增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乳牙依次出齐，乳食改为普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缺乏安全意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4724280"/>
            <a:ext cx="56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合理喂养，养成良好的卫生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加强语言训练，重视早期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注意安全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预防传染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五）学龄前期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6720" y="98100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640" y="3068640"/>
            <a:ext cx="23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护理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105264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格发育速度减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智力发育快，求知欲强，好奇心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自控力仍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易患变态反应性疾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92720" y="3141720"/>
            <a:ext cx="415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视智力开发（循序渐进，适应发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培养爱劳动、爱集体的良好品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注意供给充足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安全护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六）学龄期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1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1052640"/>
            <a:ext cx="66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除生殖系统外，器官发育基本成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智力发育迅速，分析、综合能力增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机体免疫力增强，传染病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乳牙依次换恒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6720" y="98100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0640" y="3357720"/>
            <a:ext cx="23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护理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3500280"/>
            <a:ext cx="544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加强体格锻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视思想品德教育及心理指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适当参加体力劳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）青春期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男性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-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~18-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女性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1-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~17-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63840" y="2066400"/>
            <a:ext cx="5237280" cy="15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格生长再次加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殖系统发育迅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、内分泌不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080" y="184464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1560" y="3573360"/>
            <a:ext cx="23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护理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7440" y="4160880"/>
            <a:ext cx="563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6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注意生理卫生及性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96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加强营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96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加强道德品质的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5280" y="1484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       </a:t>
            </a:r>
            <a:r>
              <a:rPr b="1" lang="zh-CN" sz="6000" spc="-1" strike="noStrike">
                <a:solidFill>
                  <a:srgbClr val="ff0066"/>
                </a:solidFill>
                <a:latin typeface="Tahoma"/>
                <a:ea typeface="仿宋_GB2312"/>
              </a:rPr>
              <a:t>第五节</a:t>
            </a:r>
            <a:r>
              <a:rPr b="1" lang="zh-CN" sz="6000" spc="-1" strike="noStrike">
                <a:solidFill>
                  <a:srgbClr val="ff0066"/>
                </a:solidFill>
                <a:latin typeface="Tahom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zh-CN" sz="60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儿科护士的素质要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素质要求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58920" y="1484280"/>
            <a:ext cx="6781680" cy="4320720"/>
            <a:chOff x="1258920" y="1484280"/>
            <a:chExt cx="6781680" cy="4320720"/>
          </a:xfrm>
        </p:grpSpPr>
        <p:sp>
          <p:nvSpPr>
            <p:cNvPr id="240" name=""/>
            <p:cNvSpPr/>
            <p:nvPr/>
          </p:nvSpPr>
          <p:spPr>
            <a:xfrm>
              <a:off x="3762360" y="3404520"/>
              <a:ext cx="1839960" cy="240048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400480"/>
                <a:gd name="textAreaBottom" fmla="*/ 2326680 h 2400480"/>
              </a:gdLst>
              <a:ahLst/>
              <a:rect l="textAreaLeft" t="textAreaTop" r="textAreaRight" b="textAreaBottom"/>
              <a:pathLst>
                <a:path w="21600" h="28179">
                  <a:moveTo>
                    <a:pt x="2969" y="0"/>
                  </a:moveTo>
                  <a:arcTo wR="2969" hR="2969" stAng="16200000" swAng="-5400000"/>
                  <a:lnTo>
                    <a:pt x="0" y="25210"/>
                  </a:lnTo>
                  <a:arcTo wR="2969" hR="2969" stAng="10800000" swAng="-5400000"/>
                  <a:lnTo>
                    <a:pt x="18631" y="2817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扎实的护理理论知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熟练的技术操作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相关学科知识和技能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58920" y="3404520"/>
              <a:ext cx="1828800" cy="240048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400480"/>
                <a:gd name="textAreaBottom" fmla="*/ 2327040 h 2400480"/>
              </a:gdLst>
              <a:ahLst/>
              <a:rect l="textAreaLeft" t="textAreaTop" r="textAreaRight" b="textAreaBottom"/>
              <a:pathLst>
                <a:path w="21600" h="28351">
                  <a:moveTo>
                    <a:pt x="2969" y="0"/>
                  </a:moveTo>
                  <a:arcTo wR="2969" hR="2969" stAng="16200000" swAng="-5400000"/>
                  <a:lnTo>
                    <a:pt x="0" y="25382"/>
                  </a:lnTo>
                  <a:arcTo wR="2969" hR="2969" stAng="10800000" swAng="-5400000"/>
                  <a:lnTo>
                    <a:pt x="18631" y="28351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．热爱儿童，爱岗敬业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要有高度的责任感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言行一致，以身作则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88120" y="3404520"/>
              <a:ext cx="1752480" cy="240048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400480"/>
                <a:gd name="textAreaBottom" fmla="*/ 2329920 h 2400480"/>
              </a:gdLst>
              <a:ahLst/>
              <a:rect l="textAreaLeft" t="textAreaTop" r="textAreaRight" b="textAreaBottom"/>
              <a:pathLst>
                <a:path w="21600" h="29585">
                  <a:moveTo>
                    <a:pt x="2969" y="0"/>
                  </a:moveTo>
                  <a:arcTo wR="2969" hR="2969" stAng="16200000" swAng="-5400000"/>
                  <a:lnTo>
                    <a:pt x="0" y="26616"/>
                  </a:lnTo>
                  <a:arcTo wR="2969" hR="2969" stAng="10800000" swAng="-5400000"/>
                  <a:lnTo>
                    <a:pt x="18631" y="2958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小儿不能完全用口头语言与成人交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要学会观察表情、手势、哭闹或临床体征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90680" y="2139120"/>
              <a:ext cx="400320" cy="4716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53080" y="2139120"/>
              <a:ext cx="398520" cy="4716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61120" y="1488960"/>
              <a:ext cx="1703160" cy="17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68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61120" y="1488960"/>
              <a:ext cx="1703160" cy="177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968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72000" y="1605960"/>
              <a:ext cx="1481400" cy="1540080"/>
            </a:xfrm>
            <a:prstGeom prst="ellipse">
              <a:avLst/>
            </a:prstGeom>
            <a:gradFill rotWithShape="0">
              <a:gsLst>
                <a:gs pos="0">
                  <a:srgbClr val="005049"/>
                </a:gs>
                <a:gs pos="50000">
                  <a:srgbClr val="009688"/>
                </a:gs>
                <a:gs pos="100000">
                  <a:srgbClr val="00504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97560" y="1614240"/>
              <a:ext cx="1481040" cy="1540440"/>
            </a:xfrm>
            <a:prstGeom prst="ellipse">
              <a:avLst/>
            </a:prstGeom>
            <a:gradFill rotWithShape="0">
              <a:gsLst>
                <a:gs pos="0">
                  <a:srgbClr val="009688">
                    <a:alpha val="0"/>
                  </a:srgbClr>
                </a:gs>
                <a:gs pos="100000">
                  <a:srgbClr val="005e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1560" y="1680840"/>
              <a:ext cx="1334880" cy="1386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34880" y="1484280"/>
              <a:ext cx="1703520" cy="17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adad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34880" y="1484280"/>
              <a:ext cx="1703520" cy="177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adad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6120" y="1599120"/>
              <a:ext cx="1481040" cy="15404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dadada"/>
                </a:gs>
                <a:gs pos="100000">
                  <a:srgbClr val="7575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47560" y="1602360"/>
              <a:ext cx="1481400" cy="1540440"/>
            </a:xfrm>
            <a:prstGeom prst="ellipse">
              <a:avLst/>
            </a:prstGeom>
            <a:gradFill rotWithShape="0">
              <a:gsLst>
                <a:gs pos="0">
                  <a:srgbClr val="dadada">
                    <a:alpha val="0"/>
                  </a:srgbClr>
                </a:gs>
                <a:gs pos="100000">
                  <a:srgbClr val="8989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0640" y="1677600"/>
              <a:ext cx="1333440" cy="1386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541520" y="1697400"/>
              <a:ext cx="1290600" cy="1341720"/>
              <a:chOff x="1541520" y="1697400"/>
              <a:chExt cx="1290600" cy="134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541520" y="1697400"/>
                <a:ext cx="1290600" cy="1341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57720" y="1704600"/>
                <a:ext cx="1259640" cy="1308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71400" y="1717560"/>
                <a:ext cx="1197720" cy="1222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41240" y="1751760"/>
                <a:ext cx="1064880" cy="99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798720" y="1488960"/>
              <a:ext cx="1703520" cy="17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49f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98720" y="1488960"/>
              <a:ext cx="1703520" cy="1771920"/>
            </a:xfrm>
            <a:prstGeom prst="ellipse">
              <a:avLst/>
            </a:prstGeom>
            <a:gradFill rotWithShape="0">
              <a:gsLst>
                <a:gs pos="0">
                  <a:srgbClr val="614975"/>
                </a:gs>
                <a:gs pos="100000">
                  <a:srgbClr val="d49f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09960" y="1605960"/>
              <a:ext cx="1481040" cy="1540080"/>
            </a:xfrm>
            <a:prstGeom prst="ellipse">
              <a:avLst/>
            </a:prstGeom>
            <a:gradFill rotWithShape="0">
              <a:gsLst>
                <a:gs pos="0">
                  <a:srgbClr val="725589"/>
                </a:gs>
                <a:gs pos="50000">
                  <a:srgbClr val="d49fff"/>
                </a:gs>
                <a:gs pos="100000">
                  <a:srgbClr val="7255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11400" y="1607400"/>
              <a:ext cx="1481400" cy="1540440"/>
            </a:xfrm>
            <a:prstGeom prst="ellipse">
              <a:avLst/>
            </a:prstGeom>
            <a:gradFill rotWithShape="0">
              <a:gsLst>
                <a:gs pos="0">
                  <a:srgbClr val="d49fff">
                    <a:alpha val="0"/>
                  </a:srgbClr>
                </a:gs>
                <a:gs pos="100000">
                  <a:srgbClr val="8664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83040" y="1680840"/>
              <a:ext cx="1333440" cy="1386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005000" y="1697400"/>
              <a:ext cx="1290960" cy="1341720"/>
              <a:chOff x="4005000" y="1697400"/>
              <a:chExt cx="1290960" cy="1341720"/>
            </a:xfrm>
          </p:grpSpPr>
          <p:sp>
            <p:nvSpPr>
              <p:cNvPr id="266" name=""/>
              <p:cNvSpPr/>
              <p:nvPr/>
            </p:nvSpPr>
            <p:spPr>
              <a:xfrm>
                <a:off x="4005000" y="1697400"/>
                <a:ext cx="1290960" cy="1341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21200" y="1704600"/>
                <a:ext cx="1260000" cy="1308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34880" y="1717560"/>
                <a:ext cx="1198080" cy="1222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05080" y="1751760"/>
                <a:ext cx="1064880" cy="99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475320" y="1697400"/>
              <a:ext cx="1292400" cy="1341720"/>
              <a:chOff x="6475320" y="1697400"/>
              <a:chExt cx="1292400" cy="1341720"/>
            </a:xfrm>
          </p:grpSpPr>
          <p:sp>
            <p:nvSpPr>
              <p:cNvPr id="271" name=""/>
              <p:cNvSpPr/>
              <p:nvPr/>
            </p:nvSpPr>
            <p:spPr>
              <a:xfrm>
                <a:off x="6475320" y="1697400"/>
                <a:ext cx="1292400" cy="1341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91520" y="1704600"/>
                <a:ext cx="1261440" cy="1308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05200" y="1717560"/>
                <a:ext cx="1199520" cy="1222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75400" y="1751760"/>
                <a:ext cx="1066320" cy="99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825200" y="21744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高尚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品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93720" y="21744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丰富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学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60440" y="21744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有效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沟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788000" y="1052640"/>
            <a:ext cx="3538440" cy="1407960"/>
          </a:xfrm>
          <a:prstGeom prst="cloudCallout">
            <a:avLst>
              <a:gd name="adj1" fmla="val -139097"/>
              <a:gd name="adj2" fmla="val -88555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1197000"/>
            <a:ext cx="3384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我是从哪里来的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  <a:ea typeface="隶书"/>
              </a:rPr>
              <a:t>？怎么长成这么大的啊？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716280"/>
            <a:ext cx="806580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，突然有一天很好奇地问妈妈几个问题：“妈妈，我是从哪里来的呢？我是怎么长到这么大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1081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803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第六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我国儿科护理学的发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042920" y="189000"/>
            <a:ext cx="7186320" cy="6032880"/>
            <a:chOff x="1042920" y="189000"/>
            <a:chExt cx="7186320" cy="6032880"/>
          </a:xfrm>
        </p:grpSpPr>
        <p:sp>
          <p:nvSpPr>
            <p:cNvPr id="280" name=""/>
            <p:cNvSpPr/>
            <p:nvPr/>
          </p:nvSpPr>
          <p:spPr>
            <a:xfrm>
              <a:off x="5128920" y="189000"/>
              <a:ext cx="1441080" cy="13888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9688"/>
                </a:gs>
                <a:gs pos="100000">
                  <a:srgbClr val="169e9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08560" y="1911960"/>
              <a:ext cx="2254680" cy="3793320"/>
            </a:xfrm>
            <a:custGeom>
              <a:avLst/>
              <a:gdLst>
                <a:gd name="textAreaLeft" fmla="*/ 30960 w 2254680"/>
                <a:gd name="textAreaRight" fmla="*/ 2223720 w 2254680"/>
                <a:gd name="textAreaTop" fmla="*/ 30960 h 3793320"/>
                <a:gd name="textAreaBottom" fmla="*/ 3762360 h 3793320"/>
              </a:gdLst>
              <a:ahLst/>
              <a:rect l="textAreaLeft" t="textAreaTop" r="textAreaRight" b="textAreaBottom"/>
              <a:pathLst>
                <a:path w="21600" h="36338">
                  <a:moveTo>
                    <a:pt x="1013" y="0"/>
                  </a:moveTo>
                  <a:arcTo wR="1013" hR="1013" stAng="16200000" swAng="-5400000"/>
                  <a:lnTo>
                    <a:pt x="0" y="35325"/>
                  </a:lnTo>
                  <a:arcTo wR="1013" hR="1013" stAng="10800000" swAng="-5400000"/>
                  <a:lnTo>
                    <a:pt x="20587" y="36338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7880" y="1746000"/>
              <a:ext cx="1830960" cy="345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4200"/>
                </a:gs>
                <a:gs pos="50000">
                  <a:srgbClr val="ef9100"/>
                </a:gs>
                <a:gs pos="100000">
                  <a:srgbClr val="6e4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384160" y="1837440"/>
              <a:ext cx="71640" cy="1735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821040" y="1825920"/>
              <a:ext cx="70200" cy="1735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74560" y="1308960"/>
              <a:ext cx="2254680" cy="3793680"/>
            </a:xfrm>
            <a:custGeom>
              <a:avLst/>
              <a:gdLst>
                <a:gd name="textAreaLeft" fmla="*/ 30960 w 2254680"/>
                <a:gd name="textAreaRight" fmla="*/ 2223720 w 2254680"/>
                <a:gd name="textAreaTop" fmla="*/ 30960 h 3793680"/>
                <a:gd name="textAreaBottom" fmla="*/ 3762720 h 3793680"/>
              </a:gdLst>
              <a:ahLst/>
              <a:rect l="textAreaLeft" t="textAreaTop" r="textAreaRight" b="textAreaBottom"/>
              <a:pathLst>
                <a:path w="21600" h="36341">
                  <a:moveTo>
                    <a:pt x="1013" y="0"/>
                  </a:moveTo>
                  <a:arcTo wR="1013" hR="1013" stAng="16200000" swAng="-5400000"/>
                  <a:lnTo>
                    <a:pt x="0" y="35328"/>
                  </a:lnTo>
                  <a:arcTo wR="1013" hR="1013" stAng="10800000" swAng="-5400000"/>
                  <a:lnTo>
                    <a:pt x="20587" y="36341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6240" y="1136880"/>
              <a:ext cx="1830960" cy="345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53e"/>
                </a:gs>
                <a:gs pos="50000">
                  <a:srgbClr val="009688"/>
                </a:gs>
                <a:gs pos="100000">
                  <a:srgbClr val="0045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841880" y="1223280"/>
              <a:ext cx="70200" cy="171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287760" y="1223280"/>
              <a:ext cx="69840" cy="171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92720" y="791640"/>
              <a:ext cx="1441080" cy="1391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e8e8e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56200" y="16027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新中国发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32360" y="1037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未来展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042920" y="2117880"/>
              <a:ext cx="2254680" cy="4104000"/>
              <a:chOff x="1042920" y="2117880"/>
              <a:chExt cx="2254680" cy="41040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42920" y="2428920"/>
                <a:ext cx="2254680" cy="3792960"/>
              </a:xfrm>
              <a:custGeom>
                <a:avLst/>
                <a:gdLst>
                  <a:gd name="textAreaLeft" fmla="*/ 30960 w 2254680"/>
                  <a:gd name="textAreaRight" fmla="*/ 2223720 w 2254680"/>
                  <a:gd name="textAreaTop" fmla="*/ 30960 h 3792960"/>
                  <a:gd name="textAreaBottom" fmla="*/ 3762000 h 3792960"/>
                </a:gdLst>
                <a:ahLst/>
                <a:rect l="textAreaLeft" t="textAreaTop" r="textAreaRight" b="textAreaBottom"/>
                <a:pathLst>
                  <a:path w="21600" h="36334">
                    <a:moveTo>
                      <a:pt x="1013" y="0"/>
                    </a:moveTo>
                    <a:arcTo wR="1013" hR="1013" stAng="16200000" swAng="-5400000"/>
                    <a:lnTo>
                      <a:pt x="0" y="35321"/>
                    </a:lnTo>
                    <a:arcTo wR="1013" hR="1013" stAng="10800000" swAng="-5400000"/>
                    <a:lnTo>
                      <a:pt x="20587" y="36334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54960" y="2257200"/>
                <a:ext cx="1830600" cy="34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dadad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908440" y="2342880"/>
                <a:ext cx="70200" cy="1738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1353960" y="2342880"/>
                <a:ext cx="71640" cy="1738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09200" y="211788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祖国医学贡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17800" y="2741760"/>
                <a:ext cx="2095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《黄帝内经》中对儿科病症已有记录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2.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孙思邈著《备急千金要方》提出了小儿喂养、预防保健及卫生等方面的护理原则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588120" y="2192400"/>
              <a:ext cx="20955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宪法中明确规定“母亲与儿童应受到保护”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推广新法接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提倡科学育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实行计划免疫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开展爱婴医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高等护理教育迅速发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58440" y="1551240"/>
              <a:ext cx="20955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已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逐渐发展成为具有独特功能的专门学科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儿科护士已成为儿童保健的主要力量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不断学习先进的科学技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完善最新的护理素质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第七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儿科中医特色护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         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常用方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19194600">
            <a:off x="5148360" y="2708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132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061600">
            <a:off x="5076360" y="49417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87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2973800">
            <a:off x="3347280" y="2637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19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8571000">
            <a:off x="3564000" y="4868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22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20244000">
            <a:off x="5651280" y="3573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2916000" y="342864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71640" y="2060640"/>
            <a:ext cx="3743640" cy="37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3640" y="2276640"/>
            <a:ext cx="360360" cy="360360"/>
            <a:chOff x="3203640" y="2276640"/>
            <a:chExt cx="360360" cy="360360"/>
          </a:xfrm>
        </p:grpSpPr>
        <p:sp>
          <p:nvSpPr>
            <p:cNvPr id="310" name=""/>
            <p:cNvSpPr/>
            <p:nvPr/>
          </p:nvSpPr>
          <p:spPr>
            <a:xfrm>
              <a:off x="3203640" y="2276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19480" y="2306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627280" y="3284640"/>
            <a:ext cx="360360" cy="360360"/>
            <a:chOff x="2627280" y="3284640"/>
            <a:chExt cx="360360" cy="360360"/>
          </a:xfrm>
        </p:grpSpPr>
        <p:sp>
          <p:nvSpPr>
            <p:cNvPr id="313" name=""/>
            <p:cNvSpPr/>
            <p:nvPr/>
          </p:nvSpPr>
          <p:spPr>
            <a:xfrm>
              <a:off x="2627280" y="32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43120" y="33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348000" y="5300640"/>
            <a:ext cx="360360" cy="360360"/>
            <a:chOff x="3348000" y="5300640"/>
            <a:chExt cx="360360" cy="360360"/>
          </a:xfrm>
        </p:grpSpPr>
        <p:sp>
          <p:nvSpPr>
            <p:cNvPr id="316" name=""/>
            <p:cNvSpPr/>
            <p:nvPr/>
          </p:nvSpPr>
          <p:spPr>
            <a:xfrm>
              <a:off x="3348000" y="5300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63840" y="5330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724360" y="2276640"/>
            <a:ext cx="360360" cy="360360"/>
            <a:chOff x="5724360" y="2276640"/>
            <a:chExt cx="360360" cy="360360"/>
          </a:xfrm>
        </p:grpSpPr>
        <p:sp>
          <p:nvSpPr>
            <p:cNvPr id="319" name=""/>
            <p:cNvSpPr/>
            <p:nvPr/>
          </p:nvSpPr>
          <p:spPr>
            <a:xfrm>
              <a:off x="5724360" y="2276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40200" y="2306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227640" y="4437000"/>
            <a:ext cx="360360" cy="360360"/>
            <a:chOff x="6227640" y="4437000"/>
            <a:chExt cx="360360" cy="360360"/>
          </a:xfrm>
        </p:grpSpPr>
        <p:sp>
          <p:nvSpPr>
            <p:cNvPr id="322" name=""/>
            <p:cNvSpPr/>
            <p:nvPr/>
          </p:nvSpPr>
          <p:spPr>
            <a:xfrm>
              <a:off x="6227640" y="4437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3480" y="4467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651640" y="5229360"/>
            <a:ext cx="360360" cy="360360"/>
            <a:chOff x="5651640" y="522936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67480" y="52592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68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1280" y="2743200"/>
            <a:ext cx="2210040" cy="2286000"/>
          </a:xfrm>
          <a:prstGeom prst="ellipse">
            <a:avLst/>
          </a:prstGeom>
          <a:gradFill rotWithShape="0">
            <a:gsLst>
              <a:gs pos="0">
                <a:srgbClr val="00453e"/>
              </a:gs>
              <a:gs pos="100000">
                <a:srgbClr val="00968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5049"/>
              </a:gs>
              <a:gs pos="50000">
                <a:srgbClr val="009688"/>
              </a:gs>
              <a:gs pos="100000">
                <a:srgbClr val="00504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009688">
                  <a:alpha val="0"/>
                </a:srgbClr>
              </a:gs>
              <a:gs pos="100000">
                <a:srgbClr val="005e5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31800" y="3719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特色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27640" y="2060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拔罐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76360" y="198900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药摩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4365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推拿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2000" y="551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中药香佩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314172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中药沐浴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93080" y="5589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雾化吸入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495680" y="1828800"/>
            <a:ext cx="360360" cy="360360"/>
            <a:chOff x="4495680" y="182880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4495680" y="1828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11520" y="1859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 rot="16200000">
            <a:off x="4255200" y="2297880"/>
            <a:ext cx="758880" cy="430200"/>
          </a:xfrm>
          <a:prstGeom prst="rightArrow">
            <a:avLst>
              <a:gd name="adj1" fmla="val 24731"/>
              <a:gd name="adj2" fmla="val 66061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0" y="5562720"/>
            <a:ext cx="360360" cy="360360"/>
            <a:chOff x="4572000" y="556272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4572000" y="556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87840" y="55926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 rot="5228400">
            <a:off x="4320000" y="50518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55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92360" y="112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中药外敷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80000" y="601992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中药灌肠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700360" y="4508640"/>
            <a:ext cx="360360" cy="360360"/>
            <a:chOff x="2700360" y="4508640"/>
            <a:chExt cx="360360" cy="360360"/>
          </a:xfrm>
        </p:grpSpPr>
        <p:sp>
          <p:nvSpPr>
            <p:cNvPr id="354" name=""/>
            <p:cNvSpPr/>
            <p:nvPr/>
          </p:nvSpPr>
          <p:spPr>
            <a:xfrm>
              <a:off x="2700360" y="4508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16200" y="4538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rot="9306600">
            <a:off x="2987280" y="4292640"/>
            <a:ext cx="819360" cy="303120"/>
          </a:xfrm>
          <a:prstGeom prst="rightArrow">
            <a:avLst>
              <a:gd name="adj1" fmla="val 35167"/>
              <a:gd name="adj2" fmla="val 109462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14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450864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药枕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300720" y="3357720"/>
            <a:ext cx="360360" cy="360360"/>
            <a:chOff x="6300720" y="3357720"/>
            <a:chExt cx="360360" cy="360360"/>
          </a:xfrm>
        </p:grpSpPr>
        <p:sp>
          <p:nvSpPr>
            <p:cNvPr id="359" name=""/>
            <p:cNvSpPr/>
            <p:nvPr/>
          </p:nvSpPr>
          <p:spPr>
            <a:xfrm>
              <a:off x="6300720" y="3357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6560" y="3387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d9a8"/>
                </a:gs>
                <a:gs pos="100000">
                  <a:srgbClr val="ef91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rot="1072200">
            <a:off x="5508360" y="43657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49fff"/>
              </a:gs>
              <a:gs pos="100000">
                <a:srgbClr val="bb8ce2">
                  <a:alpha val="0"/>
                </a:srgbClr>
              </a:gs>
            </a:gsLst>
            <a:lin ang="97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48360" y="3284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刮痧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小结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切涉及小儿时期健康和卫生的问题都属于儿科护理学的范围，其任务是保障小儿健康，提高生命质量，其服务对象是从胎儿期到青春期的儿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小儿生长发育不同阶段的特点，将小儿年龄划分为七个时期：胎儿期、新生儿期、婴儿期、幼儿期、学龄前期、学龄期和青春期。儿科护士应根据各期特点做好相应的保健和护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不同时期的小儿在解剖、生理、疾病诊治、心理社会等方面均有各自特点，对儿科护士的角色和素质要求具有特殊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儿科护理的发展趋势是：从疾病防治转向健康促进，护理工作的场所从医院扩展到家庭、社区、学校及康复中心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祖国医学在儿童疾病预防及护理中有着丰富的经验，为中华民族几千年的繁衍生息发挥了重要的作用，儿科中医特色护理常用方法很多，效果独特，简便廉验，要灵活应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述儿科护理学的任务、范围和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述儿科护理具有哪些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年龄分哪几期？各期护理具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科护士应具有哪些素质要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科常用的中医特色护理的方法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造成婴幼儿易患呼吸道感染的原因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泌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免疫功能低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下哪项不是小儿疾病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病急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化快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表现与年龄有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化多端，合并症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遗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死亡率最高的时期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期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婴儿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幼儿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龄前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春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出生后生长发育最迅速的时期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婴儿期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幼儿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龄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春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一章</a:t>
            </a:r>
            <a:br>
              <a:rPr sz="6000"/>
            </a:b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8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绪 论</a:t>
            </a:r>
            <a:br>
              <a:rPr sz="6000"/>
            </a:br>
            <a:endParaRPr b="0" i="1" lang="en-US" sz="88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最易发生意外的年龄期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期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婴儿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幼儿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龄前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龄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下哪项不是青春期的发育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殖系统发育迅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格发育迅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理失调多见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建立成熟的认知能力、自我认同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淋巴系统发育迅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424720" cy="39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儿解剖有何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儿病理特点对疾病发生有何影响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儿按照年龄可以分为哪七期？各期护理有何要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27360" y="752400"/>
            <a:ext cx="1873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测试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0" y="487692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76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 txBox="1"/>
          <p:nvPr/>
        </p:nvSpPr>
        <p:spPr>
          <a:xfrm>
            <a:off x="395280" y="2565360"/>
            <a:ext cx="7993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6666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谢谢！</a:t>
            </a:r>
            <a:endParaRPr b="0" lang="en-US" sz="5400" spc="1" strike="noStrike">
              <a:ln w="19080">
                <a:solidFill>
                  <a:srgbClr val="6666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4" name=""/>
          <p:cNvSpPr/>
          <p:nvPr/>
        </p:nvSpPr>
        <p:spPr>
          <a:xfrm>
            <a:off x="2340000" y="404640"/>
            <a:ext cx="590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235240" cy="216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fff"/>
                </a:solidFill>
                <a:latin typeface="Arial"/>
              </a:rPr>
              <a:t>主要内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79640" y="1197000"/>
            <a:ext cx="5471640" cy="817200"/>
            <a:chOff x="1979640" y="1197000"/>
            <a:chExt cx="5471640" cy="817200"/>
          </a:xfrm>
        </p:grpSpPr>
        <p:sp>
          <p:nvSpPr>
            <p:cNvPr id="84" name=""/>
            <p:cNvSpPr/>
            <p:nvPr/>
          </p:nvSpPr>
          <p:spPr>
            <a:xfrm>
              <a:off x="2420640" y="1316160"/>
              <a:ext cx="50306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9100"/>
                </a:gs>
                <a:gs pos="50000">
                  <a:srgbClr val="fae6c8"/>
                </a:gs>
                <a:gs pos="100000">
                  <a:srgbClr val="ef91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79640" y="1197000"/>
              <a:ext cx="794160" cy="685800"/>
            </a:xfrm>
            <a:prstGeom prst="diamond">
              <a:avLst/>
            </a:prstGeom>
            <a:solidFill>
              <a:srgbClr val="ef91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85240" y="1371600"/>
              <a:ext cx="397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儿科护理学的任务和范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87720" y="129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79640" y="2060640"/>
            <a:ext cx="5544720" cy="685800"/>
            <a:chOff x="1979640" y="2060640"/>
            <a:chExt cx="5544720" cy="685800"/>
          </a:xfrm>
        </p:grpSpPr>
        <p:sp>
          <p:nvSpPr>
            <p:cNvPr id="89" name=""/>
            <p:cNvSpPr/>
            <p:nvPr/>
          </p:nvSpPr>
          <p:spPr>
            <a:xfrm>
              <a:off x="2426400" y="2179800"/>
              <a:ext cx="509796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9fff"/>
                </a:gs>
                <a:gs pos="50000">
                  <a:srgbClr val="f4e9fe"/>
                </a:gs>
                <a:gs pos="100000">
                  <a:srgbClr val="d49f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79640" y="2060640"/>
              <a:ext cx="804600" cy="685800"/>
            </a:xfrm>
            <a:prstGeom prst="diamond">
              <a:avLst/>
            </a:prstGeom>
            <a:solidFill>
              <a:srgbClr val="d49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94960" y="2235240"/>
              <a:ext cx="40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儿科护理的特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91680" y="215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979640" y="2852640"/>
            <a:ext cx="5544720" cy="685800"/>
            <a:chOff x="1979640" y="2852640"/>
            <a:chExt cx="5544720" cy="685800"/>
          </a:xfrm>
        </p:grpSpPr>
        <p:sp>
          <p:nvSpPr>
            <p:cNvPr id="94" name=""/>
            <p:cNvSpPr/>
            <p:nvPr/>
          </p:nvSpPr>
          <p:spPr>
            <a:xfrm>
              <a:off x="2426400" y="2971800"/>
              <a:ext cx="509796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fff"/>
                </a:gs>
                <a:gs pos="50000">
                  <a:srgbClr val="c8e9fe"/>
                </a:gs>
                <a:gs pos="100000">
                  <a:srgbClr val="009f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79640" y="2852640"/>
              <a:ext cx="804600" cy="685800"/>
            </a:xfrm>
            <a:prstGeom prst="diamond">
              <a:avLst/>
            </a:prstGeom>
            <a:solidFill>
              <a:srgbClr val="009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94960" y="3027240"/>
              <a:ext cx="40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儿科临床护理的特殊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1680" y="295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79640" y="3716280"/>
            <a:ext cx="5471640" cy="685800"/>
            <a:chOff x="1979640" y="3716280"/>
            <a:chExt cx="5471640" cy="685800"/>
          </a:xfrm>
        </p:grpSpPr>
        <p:sp>
          <p:nvSpPr>
            <p:cNvPr id="99" name=""/>
            <p:cNvSpPr/>
            <p:nvPr/>
          </p:nvSpPr>
          <p:spPr>
            <a:xfrm>
              <a:off x="2420640" y="3835440"/>
              <a:ext cx="5030640" cy="4572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79640" y="3716280"/>
              <a:ext cx="794160" cy="685800"/>
            </a:xfrm>
            <a:prstGeom prst="diamond">
              <a:avLst/>
            </a:prstGeom>
            <a:solidFill>
              <a:srgbClr val="ff00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85240" y="3890880"/>
              <a:ext cx="39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儿年龄分期及各期特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7720" y="3814920"/>
              <a:ext cx="349920" cy="4597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79640" y="4437000"/>
            <a:ext cx="5544720" cy="685800"/>
            <a:chOff x="1979640" y="4437000"/>
            <a:chExt cx="5544720" cy="685800"/>
          </a:xfrm>
        </p:grpSpPr>
        <p:sp>
          <p:nvSpPr>
            <p:cNvPr id="104" name=""/>
            <p:cNvSpPr/>
            <p:nvPr/>
          </p:nvSpPr>
          <p:spPr>
            <a:xfrm>
              <a:off x="2426400" y="4556160"/>
              <a:ext cx="509796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9100"/>
                </a:gs>
                <a:gs pos="50000">
                  <a:srgbClr val="fae6c8"/>
                </a:gs>
                <a:gs pos="100000">
                  <a:srgbClr val="ef91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79640" y="4437000"/>
              <a:ext cx="804600" cy="685800"/>
            </a:xfrm>
            <a:prstGeom prst="diamond">
              <a:avLst/>
            </a:prstGeom>
            <a:solidFill>
              <a:srgbClr val="ef91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94960" y="4611600"/>
              <a:ext cx="40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儿科护士的素质要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1680" y="453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79640" y="5084640"/>
            <a:ext cx="5471640" cy="685800"/>
            <a:chOff x="1979640" y="5084640"/>
            <a:chExt cx="5471640" cy="685800"/>
          </a:xfrm>
        </p:grpSpPr>
        <p:sp>
          <p:nvSpPr>
            <p:cNvPr id="109" name=""/>
            <p:cNvSpPr/>
            <p:nvPr/>
          </p:nvSpPr>
          <p:spPr>
            <a:xfrm>
              <a:off x="2420640" y="5203800"/>
              <a:ext cx="50306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9fff"/>
                </a:gs>
                <a:gs pos="50000">
                  <a:srgbClr val="f4e9fe"/>
                </a:gs>
                <a:gs pos="100000">
                  <a:srgbClr val="d49f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79640" y="5084640"/>
              <a:ext cx="794160" cy="685800"/>
            </a:xfrm>
            <a:prstGeom prst="diamond">
              <a:avLst/>
            </a:prstGeom>
            <a:solidFill>
              <a:srgbClr val="d49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85240" y="5259240"/>
              <a:ext cx="39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国儿科护理学的发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87720" y="5183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79640" y="5661000"/>
            <a:ext cx="5471640" cy="685800"/>
            <a:chOff x="1979640" y="5661000"/>
            <a:chExt cx="5471640" cy="685800"/>
          </a:xfrm>
        </p:grpSpPr>
        <p:sp>
          <p:nvSpPr>
            <p:cNvPr id="114" name=""/>
            <p:cNvSpPr/>
            <p:nvPr/>
          </p:nvSpPr>
          <p:spPr>
            <a:xfrm>
              <a:off x="2420640" y="5780160"/>
              <a:ext cx="50306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fff"/>
                </a:gs>
                <a:gs pos="50000">
                  <a:srgbClr val="c8e9fe"/>
                </a:gs>
                <a:gs pos="100000">
                  <a:srgbClr val="009f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5661000"/>
              <a:ext cx="794160" cy="685800"/>
            </a:xfrm>
            <a:prstGeom prst="diamond">
              <a:avLst/>
            </a:prstGeom>
            <a:solidFill>
              <a:srgbClr val="009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85240" y="5835600"/>
              <a:ext cx="39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儿科中医特色护理常用方法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87720" y="575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儿科护理学的定义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科护理学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ursing care of childr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是一门研究小儿生长发育、健康保健、疾病防治与临床护理，以促进小儿身心健康的专科护理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1125360"/>
            <a:ext cx="7632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第一节</a:t>
            </a:r>
            <a:br>
              <a:rPr sz="6000"/>
            </a:b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  儿科护理学的</a:t>
            </a:r>
            <a:br>
              <a:rPr sz="6000"/>
            </a:b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  任务与范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fff"/>
                </a:solidFill>
                <a:latin typeface="Arial"/>
              </a:rPr>
              <a:t>儿科护理学的任务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2057400"/>
            <a:ext cx="842472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科护理学的任务是通过研究小儿的生长发育特点、小儿疾病防治和小儿保健规律，根据各年龄阶段小儿的体格、智力发育和心理行为特点提供“以小儿家庭为中心”的全方位整体护理，增强小儿体质，最大限度地降低小儿发病率和死亡率，提高疾病的治愈率，保障和促进小儿的身心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-5292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148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620640"/>
            <a:ext cx="208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年龄范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549360"/>
            <a:ext cx="216072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2808360" cy="185580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851280" y="2852640"/>
            <a:ext cx="129708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2924280"/>
            <a:ext cx="158436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924280"/>
            <a:ext cx="1441440" cy="576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2349360"/>
            <a:ext cx="2664000" cy="1656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青春期为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18-2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4437000"/>
            <a:ext cx="7344000" cy="129708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卫生部规定临床上儿科的就诊范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初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周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3:06:12Z</dcterms:modified>
  <cp:revision>335</cp:revision>
  <dc:subject/>
  <dc:title>Lorem Ipsum</dc:title>
</cp:coreProperties>
</file>