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3.xml.rels" ContentType="application/vnd.openxmlformats-package.relationships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5.jpeg" ContentType="image/jpeg"/>
  <Override PartName="/ppt/media/image22.jpeg" ContentType="image/jpeg"/>
  <Override PartName="/ppt/media/image21.jpeg" ContentType="image/jpeg"/>
  <Override PartName="/ppt/media/image6.gif" ContentType="image/gif"/>
  <Override PartName="/ppt/media/image17.png" ContentType="image/png"/>
  <Override PartName="/ppt/media/image32.jpeg" ContentType="image/jpeg"/>
  <Override PartName="/ppt/media/image16.png" ContentType="image/png"/>
  <Override PartName="/ppt/media/image28.jpeg" ContentType="image/jpeg"/>
  <Override PartName="/ppt/media/image7.jpeg" ContentType="image/jpeg"/>
  <Override PartName="/ppt/media/image18.png" ContentType="image/png"/>
  <Override PartName="/ppt/media/image34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33.jpeg" ContentType="image/jpeg"/>
  <Override PartName="/ppt/media/image35.jpeg" ContentType="image/jpeg"/>
  <Override PartName="/ppt/media/image10.jpeg" ContentType="image/jpeg"/>
  <Override PartName="/ppt/media/image5.png" ContentType="image/png"/>
  <Override PartName="/ppt/media/image38.png" ContentType="image/png"/>
  <Override PartName="/ppt/media/image8.jpeg" ContentType="image/jpeg"/>
  <Override PartName="/ppt/media/image29.jpeg" ContentType="image/jpeg"/>
  <Override PartName="/ppt/media/image36.png" ContentType="image/png"/>
  <Override PartName="/ppt/media/image13.jpeg" ContentType="image/jpeg"/>
  <Override PartName="/ppt/media/image4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3.jpeg" ContentType="image/jpeg"/>
  <Override PartName="/ppt/media/image3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  <p:sldId id="319" r:id="rId72"/>
    <p:sldId id="320" r:id="rId73"/>
    <p:sldId id="321" r:id="rId74"/>
    <p:sldId id="322" r:id="rId75"/>
    <p:sldId id="323" r:id="rId76"/>
    <p:sldId id="324" r:id="rId77"/>
    <p:sldId id="325" r:id="rId78"/>
    <p:sldId id="326" r:id="rId79"/>
    <p:sldId id="327" r:id="rId80"/>
    <p:sldId id="328" r:id="rId81"/>
    <p:sldId id="329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slide" Target="slides/slide64.xml"/><Relationship Id="rId73" Type="http://schemas.openxmlformats.org/officeDocument/2006/relationships/slide" Target="slides/slide65.xml"/><Relationship Id="rId74" Type="http://schemas.openxmlformats.org/officeDocument/2006/relationships/slide" Target="slides/slide66.xml"/><Relationship Id="rId75" Type="http://schemas.openxmlformats.org/officeDocument/2006/relationships/slide" Target="slides/slide67.xml"/><Relationship Id="rId76" Type="http://schemas.openxmlformats.org/officeDocument/2006/relationships/slide" Target="slides/slide68.xml"/><Relationship Id="rId77" Type="http://schemas.openxmlformats.org/officeDocument/2006/relationships/slide" Target="slides/slide69.xml"/><Relationship Id="rId78" Type="http://schemas.openxmlformats.org/officeDocument/2006/relationships/slide" Target="slides/slide70.xml"/><Relationship Id="rId79" Type="http://schemas.openxmlformats.org/officeDocument/2006/relationships/slide" Target="slides/slide71.xml"/><Relationship Id="rId80" Type="http://schemas.openxmlformats.org/officeDocument/2006/relationships/slide" Target="slides/slide72.xml"/><Relationship Id="rId81" Type="http://schemas.openxmlformats.org/officeDocument/2006/relationships/slide" Target="slides/slide73.xml"/><Relationship Id="rId82" Type="http://schemas.openxmlformats.org/officeDocument/2006/relationships/slide" Target="slides/slide74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5D1E-5484-43B6-8AC2-6B08D005DF1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2b2b2"/>
                </a:solidFill>
                <a:latin typeface="Arial"/>
                <a:ea typeface="华文中宋"/>
              </a:rPr>
              <a:t>诊断及鉴别诊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  <a:ea typeface="华文中宋"/>
              </a:rPr>
              <a:t>立即确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  有明确服药病史诊断并无困难，应请家属取来药瓶或药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  <a:ea typeface="华文中宋"/>
              </a:rPr>
              <a:t>昏迷鉴别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  病人已昏迷，且病史不明，应与其他原因的昏迷鉴别，如原因不明的突然昏迷，不发热，对光反应存在，无局灶性体征，则应怀疑此类药物中毒；如昏迷，不发热伴低血压，更应高度怀疑；老年病人易与脑血管病混淆，如见打哈欠、嗜睡状、有四肢不自主活动，则更支持药物中毒；做血、尿毒物检测有助诊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  <a:ea typeface="华文中宋"/>
              </a:rPr>
              <a:t>抽搐鉴别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  不少药物引起抽搐，应注意与相关疾病鉴别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468360" y="6410160"/>
            <a:ext cx="8629560" cy="316800"/>
            <a:chOff x="468360" y="6410160"/>
            <a:chExt cx="8629560" cy="316800"/>
          </a:xfrm>
        </p:grpSpPr>
        <p:sp>
          <p:nvSpPr>
            <p:cNvPr id="1" name="Text Box 13"/>
            <p:cNvSpPr/>
            <p:nvPr/>
          </p:nvSpPr>
          <p:spPr>
            <a:xfrm>
              <a:off x="5218200" y="6419880"/>
              <a:ext cx="38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高职高专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急救护理学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配套课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14"/>
            <p:cNvSpPr/>
            <p:nvPr/>
          </p:nvSpPr>
          <p:spPr>
            <a:xfrm>
              <a:off x="468360" y="6410160"/>
              <a:ext cx="8424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18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2" descr=""/>
          <p:cNvPicPr/>
          <p:nvPr/>
        </p:nvPicPr>
        <p:blipFill>
          <a:blip r:embed="rId2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5"/>
          <p:cNvSpPr/>
          <p:nvPr/>
        </p:nvSpPr>
        <p:spPr>
          <a:xfrm>
            <a:off x="1042920" y="1773360"/>
            <a:ext cx="763272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3300"/>
                </a:solidFill>
                <a:latin typeface="华文新魏"/>
                <a:ea typeface="华文新魏"/>
              </a:rPr>
              <a:t>急救护理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ergency Nu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华文新魏"/>
                <a:ea typeface="华文新魏"/>
              </a:rPr>
              <a:t>第八章  </a:t>
            </a:r>
            <a:r>
              <a:rPr b="1" lang="zh-CN" sz="4800" spc="-1" strike="noStrike">
                <a:solidFill>
                  <a:srgbClr val="993300"/>
                </a:solidFill>
                <a:latin typeface="Arial"/>
                <a:ea typeface="华文新魏"/>
              </a:rPr>
              <a:t>急性中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未标题-1"/>
          <p:cNvPicPr/>
          <p:nvPr/>
        </p:nvPicPr>
        <p:blipFill>
          <a:blip r:embed="rId2"/>
          <a:stretch/>
        </p:blipFill>
        <p:spPr>
          <a:xfrm>
            <a:off x="-1260360" y="1125360"/>
            <a:ext cx="4838760" cy="486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四、急性中毒病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424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楷体_GB2312"/>
              </a:rPr>
              <a:t>职业性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有毒原料、辅料、中间产物、成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保管、使用、运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楷体_GB2312"/>
              </a:rPr>
              <a:t>生活性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误食、意外接触有毒物质、用药过量、自杀或谋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705800" cy="45212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4643280" y="47242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陕西一家人六天两次中毒，怀疑被人投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五、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粘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灼伤、紫绀、黄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眼症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瞳孔散大如阿托品、瞳孔缩小如有机磷农药、视神经炎如甲醇中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昏迷、谵妄 、肌纤维颤动、惊厥、瘫痪、精神失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吸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吸气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机磷大蒜味、氰化物苦杏   仁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呼吸加快或减慢、肺水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循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律失常、心搏骤停、休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泌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肾功能衰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血性贫血、白细胞减少和再障贫血、出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热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托品、棉酚等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六、中毒评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99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毒物检测</a:t>
            </a:r>
            <a:r>
              <a:rPr b="1" lang="en-US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99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预测严重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列之一为危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度昏迷、高血压或血压偏低、高热或体温过低、呼吸衰竭、肺水肿、吸入性肺炎、严重心律失常、癫痫发作、少尿肾功衰、黄疸或中毒性肝损害、溶血性贫血或出血倾向、进行性呼吸困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七、急性中毒急救原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即终止接触毒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除尚未吸收的毒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促进已吸收毒物的排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殊解毒剂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症治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一</a:t>
            </a:r>
            <a:r>
              <a:rPr b="1" lang="en-US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清除尚未吸收的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6212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人性中毒应撤离中毒现场，呼吸新鲜空气，吸氧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触中毒应脱去污染衣服，用清水洗净皮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口中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催吐、洗胃、导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5867280" y="3357720"/>
            <a:ext cx="1970280" cy="25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（二）促进已吸收毒物的排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量饮水、喝茶水或口服速尿都有利尿排毒作用；碱化尿液。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~6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氧化碳中毒时吸氧可加速排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析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腹膜透析、血液透析、血液灌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或血浆置换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用于毒性极大的氰化物、砷化物中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（三）特殊解毒剂的应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金属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依地酸二钠钙→铅中毒，二巯基丙醇→砷、汞、金、锑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铁血红蛋白血症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蓝→亚硝酸钠盐、苯胺、硝基苯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氰化物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亚硝酸异戊酯＋亚硝酸钠，美蓝＋硫代硫酸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机磷农药中毒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托品、解磷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枢神经抑制药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纳洛酮→阿片类、麻醉镇痛药、酒精中毒；氟马西尼→苯二氮卓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熟记急性中毒的急救原则及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描述有机磷杀虫药中毒、镇静催眠药中毒、一氧化碳中毒、急性酒精中毒的临床表现、急救措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知道各种急性中毒的发生机制与护理要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173240" y="0"/>
            <a:ext cx="6537240" cy="63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八、急性中毒急救护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迅速清除毒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清洁皮肤、清除眼内毒物、洗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留取洗胃标本做毒物鉴定，并送检血、尿标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命体征监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毒护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般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饮食护理、口腔护理、对症护理、心理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健康教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普及防毒知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吃有毒或变质食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产及使用毒物部门要严格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节   有机磷农药中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剧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甲拌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91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内吸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059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对硫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60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八甲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~10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甲基对硫磷、甲胺磷、氧化乐果、敌敌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 ~100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敌百虫、乐果、乙硫磷、倍硫磷、二嗪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低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0~500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马拉硫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4049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280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空心菜毒翻湖南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民工      初步诊断为有机磷农药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267080" cy="35290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508720" y="1268280"/>
            <a:ext cx="2857320" cy="21337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、病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产、运输、保管和使用农药不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活性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毒自杀、误服农药或摄入被污染的水源和食物、水果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用杀虫剂过程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中毒途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547280" y="4508640"/>
            <a:ext cx="568836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皮肤、粘膜、呼吸道、消化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3816360" cy="22478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4788000" y="1557360"/>
            <a:ext cx="3671640" cy="21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毒物的吸收和代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06436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吸收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、粘膜、呼吸道、消化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代谢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解与氧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氧化后毒性增强，分解后毒性降低。对硫磷氧化成对氧磷毒性增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，内吸磷氧化成亚枫毒性增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排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脏、粪便、呼气、出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401920" y="1268280"/>
            <a:ext cx="4546440" cy="494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毒机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363600" y="1286280"/>
            <a:ext cx="7968960" cy="2616840"/>
            <a:chOff x="363600" y="1286280"/>
            <a:chExt cx="7968960" cy="2616840"/>
          </a:xfrm>
        </p:grpSpPr>
        <p:sp>
          <p:nvSpPr>
            <p:cNvPr id="307" name=""/>
            <p:cNvSpPr/>
            <p:nvPr/>
          </p:nvSpPr>
          <p:spPr>
            <a:xfrm>
              <a:off x="6658200" y="165276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磷酰化胆碱酯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63600" y="1676520"/>
              <a:ext cx="6629400" cy="2226600"/>
              <a:chOff x="363600" y="1676520"/>
              <a:chExt cx="6629400" cy="2226600"/>
            </a:xfrm>
          </p:grpSpPr>
          <p:sp>
            <p:nvSpPr>
              <p:cNvPr id="309" name=""/>
              <p:cNvSpPr/>
              <p:nvPr/>
            </p:nvSpPr>
            <p:spPr>
              <a:xfrm>
                <a:off x="2573640" y="2955960"/>
                <a:ext cx="9144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乙酰胆碱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333080" y="1728720"/>
                <a:ext cx="1247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有机磷农药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281840" y="172872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胆碱酯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63600" y="2955960"/>
                <a:ext cx="16765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胆碱能神经兴奋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↑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887840" y="3429000"/>
                <a:ext cx="76176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002640" y="2955960"/>
                <a:ext cx="990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乙酸胆碱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64000" y="3429000"/>
                <a:ext cx="251460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878200" y="2057400"/>
                <a:ext cx="114300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783320" y="2362320"/>
                <a:ext cx="0" cy="106668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106800" y="16765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b2b2b2"/>
                    </a:solidFill>
                    <a:latin typeface="Times New Roman"/>
                    <a:ea typeface="华文中宋"/>
                  </a:rPr>
                  <a:t>—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19" name=""/>
            <p:cNvCxnSpPr>
              <a:stCxn id="310" idx="0"/>
              <a:endCxn id="307" idx="0"/>
            </p:cNvCxnSpPr>
            <p:nvPr/>
          </p:nvCxnSpPr>
          <p:spPr>
            <a:xfrm flipH="1" flipV="1" rot="5400000">
              <a:off x="4664160" y="-1051560"/>
              <a:ext cx="76680" cy="5531760"/>
            </a:xfrm>
            <a:prstGeom prst="bentConnector3">
              <a:avLst>
                <a:gd name="adj1" fmla="val 610377"/>
              </a:avLst>
            </a:prstGeom>
            <a:ln cap="sq" w="38160">
              <a:solidFill>
                <a:srgbClr val="00ffff"/>
              </a:solidFill>
              <a:miter/>
              <a:tailEnd len="sm" type="triangle" w="sm"/>
            </a:ln>
          </p:spPr>
        </p:cxnSp>
        <p:cxnSp>
          <p:nvCxnSpPr>
            <p:cNvPr id="320" name=""/>
            <p:cNvCxnSpPr>
              <a:stCxn id="311" idx="0"/>
            </p:cNvCxnSpPr>
            <p:nvPr/>
          </p:nvCxnSpPr>
          <p:spPr>
            <a:xfrm flipV="1">
              <a:off x="4782960" y="1294920"/>
              <a:ext cx="1080" cy="457920"/>
            </a:xfrm>
            <a:prstGeom prst="straightConnector1">
              <a:avLst/>
            </a:prstGeom>
            <a:ln cap="sq" w="38160">
              <a:solidFill>
                <a:srgbClr val="00ffff"/>
              </a:solidFill>
              <a:miter/>
            </a:ln>
          </p:spPr>
        </p:cxnSp>
      </p:grpSp>
      <p:sp>
        <p:nvSpPr>
          <p:cNvPr id="321" name=""/>
          <p:cNvSpPr/>
          <p:nvPr/>
        </p:nvSpPr>
        <p:spPr>
          <a:xfrm>
            <a:off x="3090240" y="4111560"/>
            <a:ext cx="2588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毒蕈碱样、烟碱样和中枢神经系统症状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磷酰化胆碱酶酯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时老化，不易复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411280" y="0"/>
            <a:ext cx="448020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案   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324000" y="1628640"/>
            <a:ext cx="8820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4"/>
          <p:cNvSpPr/>
          <p:nvPr/>
        </p:nvSpPr>
        <p:spPr>
          <a:xfrm>
            <a:off x="468360" y="692280"/>
            <a:ext cx="867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邓某，女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，农民，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前与家人吵架自服农药“马拉硫磷、克虫霸”各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毫升入院。查体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35.8℃  P1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P120/80mmH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神清，烦躁，双侧瞳孔缩小，对光反射存在，口腔内有浓重大蒜味，流涎，大汗淋漓，双下肺闻及湿啰音。心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，心律规整，各瓣膜区未闻及杂音。腹平软，肠鸣音亢进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407664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403280" y="3716280"/>
            <a:ext cx="7489800" cy="273528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病人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进一步了解病情应做哪项辅助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为重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的救治与护理措施有哪些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二、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病史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触史、误服史、有的隐瞒服农药史，询问陪伴人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潜伏期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皮肤吸收多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后出现多汗、流涎、烦躁不安等，呼吸道吸入或口服后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后出现恶心、呕吐、腹痛等症状；吸入者视物模糊、呼吸困难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主要临床表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毒蕈碱样症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现最早，主要表现为平滑肌痉挛和腺体分泌增加。恶心、呕吐、腹痛、腹泻、流涎、多汗、视物模糊、瞳孔缩小、呼吸道分泌物增加、支气管痉挛、呼吸困难、肺水肿、大小便失禁等。可用阿托品对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烟碱样症状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骼肌兴奋出现肌纤维震颤。常由小肌群开始。如眼睑、颜面、舌肌等，逐渐发展肌束颤动，牙关紧闭，全身抽搐等、而后肌力减退、呼吸肌麻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中枢神经症状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痛、头晕、乏力、共济失调、烦躁不安、意识模糊、谵妄、抽搐、昏迷，呼吸抑制致呼吸停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植物神经症状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压升高、心率加快，病情进展时出现心率减慢、心律失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次要临床表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毒后“反跳”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间型综合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迟发性神经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毒分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轻度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头晕、头痛、恶心、呕吐、多汗、胸闷、视物模糊、无力、瞳孔缩小。血胆碱酯酶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%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度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述症状加重，还有肌束颤动、瞳孔明显缩小、轻度呼吸困难、流涎、腹痛、腹泻、步态蹒跚、意识清楚或模糊。血胆碱酯酶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重度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上述症状外，并有肺水肿、昏迷、呼吸麻痹或脑水肿、大小便失禁等。血胆碱酯酶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三、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迅速清除毒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迅速脱离中毒现场，脱去污染的衣服、鞋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肥皂水或清水清洗污染的皮肤、毛发和指甲，眼部污染者用清水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碳酸氢钠溶液清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中毒应尽早催吐洗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症治疗，吸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特效解毒剂</a:t>
            </a:r>
            <a:r>
              <a:rPr b="1" lang="en-US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抗胆碱药阿托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缓解毒蕈碱样症状，对抗呼吸中枢抑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用药原则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、适量、快速、反复给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阿托品化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瞳孔扩大、颜面潮红、皮肤无汗、口干、心率加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-12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肺部湿啰音消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用法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度中毒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下或肌注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；中度中毒者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注或静注，之后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给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；重度中毒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注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给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达到阿托品化后，根据病情调整给药间隔时间，也可用静滴维持药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度中毒可单用阿托品，中重度中毒时合并应用胆碱酯酶复能剂，合并用药有协同作用，阿托品剂量应适当减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胆碱酯酶复能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AM-Ⅰ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氯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AM-C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双复磷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DMO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双解磷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TMB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、氯磷定对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0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5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甲胺磷、甲拌磷疗效显蓍；双复磷对敌百虫、敌敌畏较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氯磷定用法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度中毒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注，必要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度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7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注或静注，半小时后可重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度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0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注。之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0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给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静注或静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53g=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0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烟碱样症状好转后逐步停药。持续应用复能剂≤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因胆碱酯酶老化，复能剂不起作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节   急性中毒概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概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量或毒性较剧的毒物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突然短时间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进入人体，引起损害甚至危及生命称为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急性中毒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应用阿托品的观察与护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755640" y="2060640"/>
          <a:ext cx="8064000" cy="3157560"/>
        </p:xfrm>
        <a:graphic>
          <a:graphicData uri="http://schemas.openxmlformats.org/drawingml/2006/table">
            <a:tbl>
              <a:tblPr/>
              <a:tblGrid>
                <a:gridCol w="869760"/>
                <a:gridCol w="3873960"/>
                <a:gridCol w="3320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阿托品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阿托品中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神经系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意识清醒或模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谵妄、幻觉、双手抓空、昏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皮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颜面潮红、干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紫红、干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瞳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由小扩大不再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极度扩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体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正常或轻度升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高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心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增快≤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2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，脉搏快而有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心动过速、甚至室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注意阿托品足量不等于过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更不要误认为阿托品用量越大疗效越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应机械定时、定量地重复用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应把“瞳孔扩大”和“神志由昏迷转清醒”作为阿托品化的必备指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应逐渐减量，切忌突然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阿托品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观察神经系统、皮肤、瞳孔、体温、心率，防止阿托品用量过大引起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阿托品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表现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、狂燥、谵妄、幻觉、双手抓空、抽搐、高热、心动过速、瞳孔散大，以至昏迷、呼吸中枢麻痹死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即停药，可用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毛果芸香碱或新斯的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拮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避免过早停用或急于减量，以防出现“反跳”现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应用胆碱酯酶复能剂的观察与护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注意事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使用、首次足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H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%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合并用药、注意配伍禁忌、防止药液外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不宜肌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注意副反应、密切观察，防止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肉震颤、抽搐、昏迷及呼吸持久抑制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过多过快可引起呼吸抑制，应立即停药，用大量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补液来解毒及排泄，施行人工呼吸或气管插管加压给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应用解磷注射液的观察与护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可重复半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不良反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干、面红、瞳孔扩大、心率增快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量或误用可出现头昏、头痛、烦躁不安、尿潴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防止“反跳”与迟发性猝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秒必争”地清除毒物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毒剂应尽早、及时、足量，并观察阿托品化，减量不宜过快、停药不宜过早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生化及肝、肾、心、脑功能监测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期观察胆碱酯酶活性，降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下时应用胆碱酯酶复能剂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反跳先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胸闷、出汗、言语不清、吞咽困难等，通知医生，再次阿托品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一般护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维持有效通气功能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，机械通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好护理记录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收集资料及护理查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腔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饮食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理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健康教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机磷农药施药规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304920" y="2971800"/>
            <a:ext cx="2057400" cy="13604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4800600" y="1143000"/>
            <a:ext cx="2057400" cy="16002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2514600" y="1143000"/>
            <a:ext cx="2057400" cy="17146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4"/>
          <a:stretch/>
        </p:blipFill>
        <p:spPr>
          <a:xfrm>
            <a:off x="304920" y="449568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5"/>
          <a:stretch/>
        </p:blipFill>
        <p:spPr>
          <a:xfrm>
            <a:off x="2514600" y="2971800"/>
            <a:ext cx="2057400" cy="26179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6"/>
          <a:stretch/>
        </p:blipFill>
        <p:spPr>
          <a:xfrm>
            <a:off x="4800600" y="2895480"/>
            <a:ext cx="2057400" cy="158904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7"/>
          <a:stretch/>
        </p:blipFill>
        <p:spPr>
          <a:xfrm>
            <a:off x="4800600" y="4648320"/>
            <a:ext cx="2057400" cy="15652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8"/>
          <a:stretch/>
        </p:blipFill>
        <p:spPr>
          <a:xfrm>
            <a:off x="7086600" y="1371600"/>
            <a:ext cx="2057400" cy="13255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9"/>
          <a:stretch/>
        </p:blipFill>
        <p:spPr>
          <a:xfrm>
            <a:off x="7086600" y="2971800"/>
            <a:ext cx="2057400" cy="263988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10"/>
          <a:stretch/>
        </p:blipFill>
        <p:spPr>
          <a:xfrm>
            <a:off x="304920" y="1143000"/>
            <a:ext cx="2057400" cy="164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有机磷农药中毒的新观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42472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句话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胆碱酯酶为核心，不以阿托品化为依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条线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能剂与抗胆硷能药物的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个点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能剂治疗终点是全血胆硷酯酶活性达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胆硷能药物治疗终点是阿托品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个维持量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酶老化及中间综合症时阿托品的维持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节  镇静催眠药中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03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巴比妥盐类问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镇静催眠药中毒占药物中毒的第一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三大类</a:t>
            </a:r>
            <a:r>
              <a:rPr b="0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苯二氮卓类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巴比妥盐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神抑制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一 、毒物的吸收、代谢、排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20872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毒物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吸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入人体的途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消化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呼吸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皮肤粘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627280" y="2276640"/>
            <a:ext cx="6156360" cy="37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苯二氮卓类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长效类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衰期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&gt;30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西泮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氟西泮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氯硝西泮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硝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效类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衰期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-30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普唑仑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佳静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艾司唑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短效类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衰期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&lt;6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咪哒安定，三唑仑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乐神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普拉安定，克罗西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苯二氮卓类中毒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枢抑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矛盾性反应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兴奋、忧虑、攻击、敌意行为、躁狂和瞻妄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巴比妥类中毒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枢抑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中度中毒极似醉酒样酩酊状态，嗜睡、情感脆弱、思维障碍、动作不协调、语言含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中毒可进行性中枢抑制，自嗜睡至深昏迷；呼吸抑制，呼吸浅慢，潮式呼吸，甚至停止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实验室检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毒物检测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一般不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血、尿及胃液的定性检查有助诊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血药浓度测定对临床并无帮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血气分析</a:t>
            </a: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可检测呼吸受抑程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线检查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胸片了解肺水肿、肺部感染、误吸及气管插管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清除毒物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催吐、洗胃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胃管或切开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性炭应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g/k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因肠肝循环，应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半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导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促进毒物排出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析、血液灌流、利尿、用碳酸氢钠碱化尿液促使毒物排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巴比妥类药物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特效解毒药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马西尼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lumazenil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易行，原名安易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特异性苯二氮卓受体拮抗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枢兴奋药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佳苏仑作用于颈动脉化学感受器，直接兴奋延髓呼吸中枢解除呼吸抑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纳洛酮兴奋呼吸、催醒、解除呼吸抑制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8-2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注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直至清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症支持治疗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、吸氧，呼衰用呼吸兴奋剂，必要时气管插管，呼吸抑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aO2&lt;50mmHg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人工通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心律失常和保护心肌，低血压或休克应用多巴胺或去甲肾上腺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脱水利尿减轻脑水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抗生素防治肺部感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镇静催眠药中毒急救护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洗胃的护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生命体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情观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识、瞳孔、对光反应、角膜反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。吸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饮食昏迷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-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鼻饲营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昏迷的护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时翻身、拍背、吸痰，预防褥疮，口腔护理，尿管每周更换定时冲洗，便后高锰酸钾消毒会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药物治疗的护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马西尼、佳苏仑、纳洛酮、美解眠、毒扁豆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透析、血液灌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节  急性一氧化碳中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病因与发病机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含碳物质燃烧不全产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工业生产或日常生活中，都会产生大量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中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入体内即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形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亲和力比氧大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，其解离又比氧合血红蛋白慢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8001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代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毒物的代谢：主要经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肝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代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些毒物经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会增加毒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如对硫磷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468000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家三口煤气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1280" y="5445000"/>
            <a:ext cx="6408720" cy="68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牧羊犬用嘴拖出昏迷主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24000" y="15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一家三口煤气中毒牧羊犬用嘴拖出昏迷主人(图)"/>
          <p:cNvPicPr/>
          <p:nvPr/>
        </p:nvPicPr>
        <p:blipFill>
          <a:blip r:embed="rId1"/>
          <a:stretch/>
        </p:blipFill>
        <p:spPr>
          <a:xfrm>
            <a:off x="1476360" y="1484280"/>
            <a:ext cx="5327640" cy="35784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122400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对夫妻煤气中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</a:rPr>
              <a:t>煤气中毒抢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80880" y="1652760"/>
            <a:ext cx="3581640" cy="35524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4343400" y="1666800"/>
            <a:ext cx="3581280" cy="35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、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症状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度、接触时间长短、患者的健康情况有关，常分三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轻度中毒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痛、头晕、乏力、恶心、呕吐，甚至昏厥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10%~3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脱离现场，吸新鲜空气，症状可消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度中毒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上述症状加重外，皮肤粘膜呈樱桃红色 、心动过速、烦躁多汗、神志恍惚、步态不稳、甚至昏迷。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%~4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治疗可恢复无并发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重度中毒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昏迷，各种反射消失，呈去大脑皮质状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小便失禁、四肢厥冷、不动不语、呼之不应、推之不动、血压下降、瞳孔缩小、呼吸不规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毒后迟发性脑病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神意识障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痴呆或去大脑皮质状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锥体外系神经障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震颤麻痹综合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锥体系神经损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偏瘫、病理征阳性、大小便失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脑皮质局灶性功能障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失语、失明或癫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二、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现场急救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即抬离现场，门窗通风，解开领口，注意保暖。呼吸心跳骤停进行心肺复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迅速纠正缺氧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氧可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离。应尽可能行高压氧治疗，无条件可自体血体外辐射充氧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防治脑水肿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水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-4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达高峰，利尿脱水用甘露醇、高渗葡萄糖、速尿、地塞米松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救治原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治疗感染，控制高热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培养选择广谱抗生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热者可物理降温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降温寒战及惊厥可冬眠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促进脑细胞代谢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量合剂，如辅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细胞色素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防治并发症和后发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楼着火如何逃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84978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比重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96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比空气轻，救护者应俯伏入室，或匍匐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，并用湿毛巾捂住口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1638360" y="1295280"/>
            <a:ext cx="5867280" cy="395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3792600" cy="8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高压氧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3429000" cy="221004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高压氧舱里“充电”每次50元岛城兴起“钻舱热”(图)"/>
          <p:cNvPicPr/>
          <p:nvPr/>
        </p:nvPicPr>
        <p:blipFill>
          <a:blip r:embed="rId2"/>
          <a:stretch/>
        </p:blipFill>
        <p:spPr>
          <a:xfrm>
            <a:off x="1332000" y="3645000"/>
            <a:ext cx="3429000" cy="19810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4788000" y="3645000"/>
            <a:ext cx="3276360" cy="198108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4"/>
          <a:stretch/>
        </p:blipFill>
        <p:spPr>
          <a:xfrm>
            <a:off x="4859280" y="1341360"/>
            <a:ext cx="3314880" cy="221004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5"/>
          <a:stretch/>
        </p:blipFill>
        <p:spPr>
          <a:xfrm>
            <a:off x="1298520" y="3360600"/>
            <a:ext cx="125640" cy="1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排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8001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毒物的排泄：大多数经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肾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排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消化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呼吸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皮肤、汗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唾液腺、乳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067280" y="2492280"/>
            <a:ext cx="5076720" cy="37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三、护理措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氧气吸入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，必要时气管切开并常规护理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好吸纯氧或含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%CO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最好中毒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进行高压氧，轻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中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重度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-3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高压氧条件者经鼻导管给高浓度氧，流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-10L/min→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持续低浓度吸氧→清醒后间歇给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五节  急性酒精中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7643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、病因及中毒机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病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饮入的乙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小肠上段吸收，其余由胃吸收。空腹饮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吸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吸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胃内有食物存在可延缓乙醇吸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中毒机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剂量抑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γ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氨基丁酸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对脑的抑制，产生兴奋效应。血中乙醇浓度增高，作用于小脑，引起共济失调；作用于网状结构，引起昏睡和昏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二、病情评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一）毒物接触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过量饮酒史，应询问饮酒的种类和饮用量、平素酒量、饮酒的具体时间，有无服用其他药物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二）临床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临床上大致分三期，各期界限不是很明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期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共济失调期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昏睡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辅助检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醇检测：呼出气体中乙醇浓度与血乙醇浓度相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三、急救措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33112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急救原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除毒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用盐酸纳洛酮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促进乙醇氧化代谢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症治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572000" y="1700280"/>
            <a:ext cx="3889440" cy="26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护理要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密观察病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全防护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理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 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5075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中毒发病急骤，病情变化迅速，应及时采取积极措施，延缓病变发展，减少器官的损害，以促使早日恢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章内容主要包括：①急性中毒救护；②有机磷杀虫药中毒救护；③镇静催眠药中毒救护；④急性一氧化碳中毒救护；⑤急性酒精中毒救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熟练掌握常见急性中毒的救护技术，配合医师救治急性中毒患者，同时应加强防毒宣传，向群众介绍有关中毒的预防和急救知识，严格遵守有关毒物的防护和管理制度，加强毒物保管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1835280" y="1628280"/>
            <a:ext cx="5689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业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农业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植物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动物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药物：安定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1547640" y="188640"/>
            <a:ext cx="4321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二 、毒物种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76720" y="1916280"/>
            <a:ext cx="64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</a:rPr>
              <a:t>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26120" y="2276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化学毒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95640" y="259920"/>
            <a:ext cx="2735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三、机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920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局部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刺激腐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缺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麻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抑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酶活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干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细胞膜或细胞器的功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竞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受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7:59:22Z</dcterms:created>
  <dc:creator>番茄花园</dc:creator>
  <dc:description/>
  <dc:language>en-US</dc:language>
  <cp:lastModifiedBy>微软用户</cp:lastModifiedBy>
  <dcterms:modified xsi:type="dcterms:W3CDTF">2013-01-30T05:59:50Z</dcterms:modified>
  <cp:revision>930</cp:revision>
  <dc:subject/>
  <dc:title>Reading Fun</dc:title>
</cp:coreProperties>
</file>