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BF9-F069-47CB-84E5-95E3948B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50F-D25B-44B1-8B82-58AEAD3D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FC7-A7A3-48E2-AB92-E15C8627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C79-A606-4DAE-B001-BC960BBC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3409-3BDE-4781-8665-4E918DF7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AC0A-2EDA-423C-B273-47CBA06A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FC19-99A0-46C6-A6D3-B1675E62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5AED-D9BB-47E4-9148-69336381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818B-1297-475F-AF22-3FB47FCA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4B0E-5E41-4FD0-AF8D-390CF8BC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1769-6A31-4FA2-9E55-C184803F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C06-7BE7-4C0F-899B-FE3A02DA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92A2-FBA1-4615-8FE1-8F7B52F8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C3CA-5262-4603-8331-7B6244CC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6180-C787-4E11-8563-51EE0A9E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D6B3-2392-40A9-9EBD-417E0726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B9E6-D902-46A2-9479-F5BCE1BF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33F-0A51-473E-840A-4D94DA55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63E-D219-42EA-8319-190365DC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4DB-5CDA-42D4-8426-6B07C212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A9A-50CA-4A9D-8C75-6F36CBD9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02A-918E-4646-990D-71F53EAE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FA7-F3D3-43A6-9CAF-32F4C5A4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F5D-E76C-4FF3-97FB-824F8D02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3A98-6ACA-4F22-BF73-3FDA892B479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5C5B-2683-42D4-B771-EB3CA146AF9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五章  常见人体寄生虫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熟记常见医学蠕虫、医学原虫的生活史，流行因素与防治原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学会识别常见医学蠕虫虫和医学原虫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说出各种医学蠕虫、医学原虫的致病机制与所致疾病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归纳常见与人类疾病相关医学节肢动物的发育与变态，对人体的危害与防制原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解释世代交替、媒介节肢动物、虫媒病、变态、机械性传播、生物性传播的概念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培养学生认真负责的工作态度，能对常见病原检查标本进行采集与送检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楷体_GB2312"/>
                <a:ea typeface="楷体_GB2312"/>
              </a:rPr>
              <a:t>第一节  医学蠕虫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蠕虫是一类内无骨骼，外无甲壳，借肌肉伸缩而蠕动的多细胞无脊椎动物。寄生于人体与医学有关的蠕虫称为医学蠕虫。由蠕虫引起的疾病称为蠕虫病。其中既可寄生在人体也可寄生在某些动物体所致疾病，称人兽共患寄生虫病。蠕虫的幼虫如侵入非适宜宿主体内，造成局部或全身损害的病变，称幼虫移行症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依据蠕虫生活史过程中是否需要中间宿主，可将蠕虫分为两大类型：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①土源性蠕虫：生活史中不需要中间宿主，其虫卵或幼虫直接在外界（通常在土壤中）发育为感染阶段，经消化道途径或接触途径使人感染。大部分线虫属此类寄生虫。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②生物源性蠕虫：生活史中至少需要一个中间宿主，必须经历中间宿主体内发育阶段，才能最终发育成感染阶段。吸虫、大部分绦虫以及部分线虫等属此类寄生虫。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7:44:59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