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BCB4-3B30-46B2-8DE2-1DAF82B92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2F48-06F9-476A-A60C-4ECCFA8EC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0A97-642A-4A3F-8F89-E4271FBF7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DB02-FE20-464D-9919-45ECDDB7F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7AA93-CEAF-4178-A970-C93F9219F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3BCBD-9DD7-4EE8-A071-41E0912EF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A5F5E-75D9-44A7-AC94-ED3DEAD88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E0638-F6C4-4F38-A76E-9BA615313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49072-292F-4FD1-AFEB-04ED00A08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35CFD-3623-43B1-9405-C9F0CD770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33765-ACA6-49FF-B18A-F311DFE99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EA2A-D2A4-4E6D-918B-638AF9256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18ACA-A23B-46D1-8150-A2D23101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21E57-6EAF-4F0A-AD17-437C5B21D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5C16F-5144-4669-BE12-1DED4FF6F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11011-6F79-49C7-AEF3-D0E6D1602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2E0A6-4A5A-46C0-A65F-5E419707C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77F9-E527-4B2D-9F2B-44C8673EC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B481-38B2-484A-8BC1-9D18AF820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7D23-14A3-4FCA-9E0D-795B1CEE3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4F52-3FF5-4831-B246-FD86E059C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88DA-A68D-4EFA-87A1-B76C6F6AA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C0EA-013C-42F1-A31A-F392E4FE2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7F40-DF0B-465D-8740-4C57F95F9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34835-666E-4CCA-934F-B3C0233220FC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7F75B-B2A1-4412-AF50-FF5B55B429E5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90720" y="2971800"/>
            <a:ext cx="4495680" cy="685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医学节肢动物的发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2209680"/>
            <a:ext cx="5486400" cy="685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仿宋_GB2312"/>
                <a:ea typeface="楷体_GB2312"/>
              </a:rPr>
              <a:t>医学节肢动物的形态特征与主要种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304920"/>
            <a:ext cx="8991720" cy="1828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zh-CN" sz="5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第九节 医学节肢动物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3733920"/>
            <a:ext cx="4496040" cy="685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医学节肢动物对人体的危害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09680" y="5181480"/>
            <a:ext cx="4496040" cy="685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重要医学节肢动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28800" y="4343400"/>
            <a:ext cx="4495680" cy="685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医学节肢动物的生态与防制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2362320" cy="2178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3276720" y="380880"/>
            <a:ext cx="2361960" cy="2063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6095880" y="304920"/>
            <a:ext cx="1957680" cy="21333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990720" y="26668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楷体_GB2312"/>
              </a:rPr>
              <a:t>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77120" y="26668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楷体_GB2312"/>
              </a:rPr>
              <a:t>白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86200" y="26668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楷体_GB2312"/>
              </a:rPr>
              <a:t>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228600" y="3200400"/>
            <a:ext cx="2666880" cy="19479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3429000" y="3200400"/>
            <a:ext cx="2087640" cy="2133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7"/>
          <a:stretch/>
        </p:blipFill>
        <p:spPr>
          <a:xfrm>
            <a:off x="6095880" y="3276720"/>
            <a:ext cx="2438640" cy="19396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990720" y="54100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楷体_GB2312"/>
              </a:rPr>
              <a:t>阴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09880" y="55627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楷体_GB2312"/>
              </a:rPr>
              <a:t>臭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629400" y="55627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楷体_GB2312"/>
              </a:rPr>
              <a:t>硬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2554200" cy="28195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048120" y="3809880"/>
            <a:ext cx="2743200" cy="22449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5867280" y="304920"/>
            <a:ext cx="1862280" cy="25905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809880" y="31240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楷体_GB2312"/>
              </a:rPr>
              <a:t>蠕形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31240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楷体_GB2312"/>
              </a:rPr>
              <a:t>疥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14400" y="3429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楷体_GB2312"/>
              </a:rPr>
              <a:t>软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29000" y="60958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楷体_GB2312"/>
              </a:rPr>
              <a:t>恙螨幼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3886200" y="380880"/>
            <a:ext cx="930240" cy="26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457200" y="380880"/>
          <a:ext cx="8229600" cy="5747040"/>
        </p:xfrm>
        <a:graphic>
          <a:graphicData uri="http://schemas.openxmlformats.org/drawingml/2006/table">
            <a:tbl>
              <a:tblPr/>
              <a:tblGrid>
                <a:gridCol w="2378160"/>
                <a:gridCol w="5851440"/>
              </a:tblGrid>
              <a:tr h="489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00"/>
                          </a:solidFill>
                          <a:latin typeface="宋体"/>
                          <a:ea typeface="楷体_GB2312"/>
                        </a:rPr>
                        <a:t>媒介节肢动物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00"/>
                          </a:solidFill>
                          <a:latin typeface="宋体"/>
                          <a:ea typeface="楷体_GB2312"/>
                        </a:rPr>
                        <a:t>虫媒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蚊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疟疾、丝虫病、流行性乙型脑炎、登革热等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结膜吸吮线虫病；多种消化道、呼吸道、眼部、皮肤的细菌性、病毒性和寄生虫性疾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白蛉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黑热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蚤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鼠疫、地方性斑疹伤寒、膜壳绦虫病等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蟑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美丽筒线虫病、缩小膜壳绦虫病等；多种消化道的细菌性、病毒性和寄生虫性疾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流行性斑疹伤寒、虱性回归热、战壕热等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森林脑炎、新疆出血热、蜱媒回归热等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恙螨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恙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革螨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流行性出血热、森林脑炎、立克次体痘等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33520" y="2057400"/>
            <a:ext cx="7772400" cy="26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医学节肢动物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以直接或间接方式危害人体健康的节肢动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媒介节肢动物或传播媒介  </a:t>
            </a:r>
            <a:r>
              <a:rPr b="1" lang="zh-CN" sz="3200" spc="-1" strike="noStrike">
                <a:solidFill>
                  <a:srgbClr val="ffff00"/>
                </a:solidFill>
                <a:latin typeface="Tahoma"/>
                <a:ea typeface="楷体_GB2312"/>
              </a:rPr>
              <a:t>能传播疾病的节肢动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虫媒病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由媒介节肢动物所传播的疾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2860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Tahoma"/>
                <a:ea typeface="楷体_GB2312"/>
              </a:rPr>
              <a:t>第九节 医学节肢动物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04920" y="1981080"/>
            <a:ext cx="8153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ahoma"/>
                <a:ea typeface="楷体_GB2312"/>
              </a:rPr>
              <a:t>医学节肢动物的形态特征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身体分节，两侧对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体表由坚韧的外骨骼组成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附肢成对、分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循环系统为开放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228240" y="380880"/>
            <a:ext cx="84582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ahoma"/>
                <a:ea typeface="楷体_GB2312"/>
              </a:rPr>
              <a:t>一、医学节肢动物的形态特征与主要种类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ahoma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cc00"/>
                </a:solidFill>
                <a:latin typeface="Tahoma"/>
                <a:ea typeface="楷体_GB2312"/>
              </a:rPr>
              <a:t>医学节肢动物的主要种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昆虫纲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蚊、蝇、蚤、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蛛形纲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蜱、螨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甲壳纲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蟹、</a:t>
            </a:r>
            <a:r>
              <a:rPr b="1" lang="zh-CN" sz="3200" spc="-1" strike="noStrike">
                <a:solidFill>
                  <a:srgbClr val="ffff00"/>
                </a:solidFill>
                <a:latin typeface="Tahoma"/>
                <a:ea typeface="楷体_GB2312"/>
              </a:rPr>
              <a:t>蝲蛄、剑水蚤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唇足纲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蜈蚣</a:t>
            </a:r>
            <a:r>
              <a:rPr b="0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倍足纲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马陆</a:t>
            </a:r>
            <a:r>
              <a:rPr b="0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228240" y="380880"/>
            <a:ext cx="89154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ahoma"/>
                <a:ea typeface="楷体_GB2312"/>
              </a:rPr>
              <a:t>一、医学节肢动物的形态特征与主要种类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变态  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节肢动物由卵到成虫的发育过程中所经历的形态、生理和生活习性等一系列的改变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全变态  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发育过程经历蛹期，蛹前发育期的幼虫在形态和生活习性等方面与成虫完全不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半变态或不完全变态  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发育过程中无需经历蛹期，成虫前发育期的若虫在形态和生活习性等方面与成虫相似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仅表现为虫体较小，生殖器官未发育成熟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二、医学节肢动物的发育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（一）直接危害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叮刺、吸血和骚扰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蚊、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寄生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疥螨、蝇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毒害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硬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致敏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尘螨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三、医学节肢动物对人体的危害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（二）间接危害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机械性传播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病原体在节肢动物体内或体表没有发育和繁殖只是被机械性携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生物性传播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病原体在节肢动物体内必须经过发育、繁殖具有感染性后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才能传播给新宿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三、医学节肢动物对人体的危害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ahoma"/>
                <a:ea typeface="楷体_GB2312"/>
              </a:rPr>
              <a:t>（一）医学节肢动物的生态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指医学节肢动物与其所生存环境之间的相互关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（二）医学节肢动物的防制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环境治理、物理防制、化学防制、生物防制、遗传防制以及法规防制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四、医学节肢动物的生态与防制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04560" y="23623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重要医学节肢动物的形态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重要医学节肢动物与其传播的虫媒病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五、重要医学节肢动物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4-04-17T18:11:02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