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6C42-B845-4663-868C-77C228ADAB89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3BCB-03B8-44C3-9958-5D08148406D1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7852C6FD-31B2-44D8-AE2E-9EBFC3DD35E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CD4-2526-438A-A18D-424F318C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293-8F3A-405F-81EE-DCC4F60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CC7-E51C-4438-82CD-E4B1EECE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ACC-C6B7-443C-8C8F-56E375FF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A1DA-D1EE-46C5-A733-60984185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349D-06A6-4F6F-A22A-5EE83662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3E05-291E-4FDC-8970-806F4C4F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D849-B8AE-44CD-86C1-1062D5EF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F132-DFB0-4A5B-B6BC-7AE72B72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E0BE-BC86-40FC-A17C-A1B86DF8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7E35-2667-4529-AC54-1F95FBDD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50D-BD83-483A-A06A-AB7C000A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9D68-90F5-41AD-9073-66470558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D092-8E77-44E7-BA58-2705FC07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1905-8F69-446A-BFC0-B8A91807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2823-2AFE-4DD2-8F1A-4C9DBADD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8543-85FF-4092-AE9D-7F744025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281-2E83-40F9-8849-9E80C95E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186-9288-46B5-A829-46C40663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210-EF25-4CBC-9491-36CF9ED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964-5094-48C5-91FD-5C1A4273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644-2356-496B-8024-C6B1B650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AE8-4D6D-4336-86E8-9FCDF0CC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9E9-16C0-46CD-85DA-1779896B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8EEF-77E3-4BFB-8E57-F77D59278A7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C3F5-C60A-4A38-A413-762E039D5D0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jzcdc.com/admin/upfiles/20099207662459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）免疫性</a:t>
            </a:r>
            <a:br>
              <a:rPr sz="4000"/>
            </a:b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560" y="25146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期短，不稳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主要是消化道黏膜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微生物学检查法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3200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试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荧光菌球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胶乳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C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杂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95680" cy="33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685800" y="838080"/>
            <a:ext cx="34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微生物学检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066680" y="205740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及时送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暂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30%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甘油缓冲盐水保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505320" y="3581280"/>
            <a:ext cx="46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SS</a:t>
            </a: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平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（无色透明小菌落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581280" y="510552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清学反应（玻片凝集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3657600" y="5791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毒力试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3124080" y="2971800"/>
            <a:ext cx="1760760" cy="533520"/>
          </a:xfrm>
          <a:prstGeom prst="wedgeRoundRectCallout">
            <a:avLst>
              <a:gd name="adj1" fmla="val -27185"/>
              <a:gd name="adj2" fmla="val -155060"/>
              <a:gd name="adj3" fmla="val 16667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分离培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3886200" y="1447920"/>
            <a:ext cx="2843280" cy="533160"/>
          </a:xfrm>
          <a:prstGeom prst="wedgeRoundRectCallout">
            <a:avLst>
              <a:gd name="adj1" fmla="val -70435"/>
              <a:gd name="adj2" fmla="val 3362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新鲜脓血便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肛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581280" y="4419720"/>
            <a:ext cx="42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双糖培养基（生化反应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7"/>
          <p:cNvSpPr/>
          <p:nvPr/>
        </p:nvSpPr>
        <p:spPr>
          <a:xfrm>
            <a:off x="3591000" y="3548160"/>
            <a:ext cx="0" cy="533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3591000" y="430992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3591000" y="50720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591000" y="57578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5"/>
          <p:cNvSpPr/>
          <p:nvPr/>
        </p:nvSpPr>
        <p:spPr>
          <a:xfrm>
            <a:off x="1295280" y="3124080"/>
            <a:ext cx="1760760" cy="533520"/>
          </a:xfrm>
          <a:prstGeom prst="wedgeRoundRectCallout">
            <a:avLst>
              <a:gd name="adj1" fmla="val 47925"/>
              <a:gd name="adj2" fmla="val -160416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990720" y="441972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荧光菌球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990720" y="50292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协同凝集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86000"/>
            <a:ext cx="228096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五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38080" y="41911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管一灭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减毒活菌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发现、早隔离和早治疗，查出带菌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敏感试验指导治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小结：志贺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2895120"/>
            <a:ext cx="40388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物学性状特点（分类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及所致疾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生物学检查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志贺菌的防治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05520" y="1828800"/>
            <a:ext cx="3055680" cy="418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似的形态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简单的培养条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活泼的生化反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杂的抗原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弱的抵抗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的性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440" y="10663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三、志贺菌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00"/>
                </a:solidFill>
                <a:latin typeface="Arial"/>
              </a:rPr>
              <a:t>Shigella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志贺菌属是人类细菌性痢疾的病原菌，通称痢疾杆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3886200"/>
            <a:ext cx="7010280" cy="1828800"/>
            <a:chOff x="1447920" y="3886200"/>
            <a:chExt cx="7010280" cy="1828800"/>
          </a:xfrm>
        </p:grpSpPr>
        <p:sp>
          <p:nvSpPr>
            <p:cNvPr id="159" name=""/>
            <p:cNvSpPr/>
            <p:nvPr/>
          </p:nvSpPr>
          <p:spPr>
            <a:xfrm>
              <a:off x="2133720" y="4038480"/>
              <a:ext cx="304560" cy="16765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3886200"/>
              <a:ext cx="2210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痢疾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福氏志贺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鲍氏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宋内志贺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920" y="3962520"/>
              <a:ext cx="838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四个菌群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8862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致病力最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457200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572000" y="5105520"/>
              <a:ext cx="7621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7800" y="48006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我国感染最常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一）生物学性状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形态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鞭毛，无荚膜， 有菌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81680" y="990720"/>
            <a:ext cx="1667160" cy="2819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2362320" cy="21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267080" y="4191120"/>
            <a:ext cx="228600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及生化反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要求不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分解乳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培养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克氏双糖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248520" y="2133720"/>
          <a:ext cx="18018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133720"/>
                    <a:ext cx="1801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抗原构造及分类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原组成，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抗原为分类依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种        群        型                   亚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痢疾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          8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福氏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      1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型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鲍氏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           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内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81952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200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2578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其他肠道杆菌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酸和一般消毒剂敏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抵抗力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侵袭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286000"/>
            <a:ext cx="5638680" cy="3863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菌毛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可黏附于回肠末端和结肠黏膜的上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皮细胞。细菌侵入血流罕见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内毒素：所有毒株均有强烈的内毒素。内毒素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于肠黏膜，使其通透性增高，进一步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促进对内毒素的吸收，引起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发热、神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障碍、甚至中毒性休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等一系列症状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还可导致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直肠括约肌痉挛、腹痛、里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      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后重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外毒素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higa toxin,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可引起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细胞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变，亦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毒素，具有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肠毒素性、细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毒性、神经毒性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362320" cy="2217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5800" y="114300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所致疾病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菌性痢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者和带菌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伏期数小时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热、腹痛、腹泻、里急后重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黏液脓血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83544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94948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5486400"/>
            <a:ext cx="2743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见于儿童急性感染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590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起病急，发热、腹痛、里急后重、腹泻、有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脓血黏液便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没有呕吐、恶心现象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038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以上，常反复发作，呈慢性过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9520" y="1981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急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5480" y="3505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慢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47480" y="5029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中毒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143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分类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43:28Z</dcterms:modified>
  <cp:revision>720</cp:revision>
  <dc:subject/>
  <dc:title>Microbiology includes:</dc:title>
</cp:coreProperties>
</file>