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E82-4B3B-408D-9C22-EBF8F5AC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BEA-02C0-4B6E-854D-E81BBB6E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F35-A41D-433A-A393-C0DDAF8E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BA1-2B72-4BCF-95D6-10AF795A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261F-0A8B-4F8F-84AE-5D58376C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E526-2D97-4B5E-9D40-2363C84F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94A7-67AF-4944-B1C9-70DDA6A7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F43E-D3D1-4753-9A12-E3E238AA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E7BB-A105-4C20-B1CD-71102643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88B9-8B9A-489C-80B8-6331F8F5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6B14-A51B-4E88-9638-D3916E0A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212-B7EB-4A2B-B0F5-F8294BD6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9AE7-1F84-4915-A5AD-3937A98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6490-A597-4931-BB96-5ACC5B5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C70B-949A-4B9B-93AD-74E13A6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7A9D-7F31-4238-BD26-D410D09E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259E-7E57-4452-A32D-F9737CF1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BB8-0341-4818-A1A8-BFDA74ED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22F-25D7-4F51-BF39-5D98D84A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888-F7F7-4178-B5FB-49802B11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B6D-B96F-4DDC-AECA-081DA205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F85-901E-4A36-BBBA-358E2894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3AC-58D6-42A1-965A-8227546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4C5-F281-4DBB-B903-80D3EAE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29EC-D5CC-41AD-B414-2750F781355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3391-8B2F-4AFB-8282-61F4ABF15C6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280"/>
            <a:ext cx="88390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十四章 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体寄生虫学概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7840" y="2658960"/>
            <a:ext cx="5386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解释寄生关系、寄生虫、机会致病性寄生虫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宿主、中间宿主、终宿主、保虫宿主、转续宿主、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活史、感染阶段、非消除性免疫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说出寄生虫对人体的损害以及人体对寄生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的免疫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知道寄生虫病流行的环节、特点和防治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以及其实验诊断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寄生虫病的流行状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的感染虫种和人数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源性寄生虫病的发病率升高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会致病性寄生虫病的发病人数增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行为方式有关的寄生虫感染普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寄生虫病的疫情还不稳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病的防治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9880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控制传染源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易感人群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疫情监测、个人防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病原检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液、组织液、排泄物或活组织检出寄生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免疫学诊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诊断早期、轻度、深部、单性寄生的寄生虫感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四节  寄生虫病的实验诊断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寄生虫感染途径与方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途径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食物、土壤、空气、中间宿主、昆虫媒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式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感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接触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媒介节肢动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经输血、胎盘、呼吸、乳汁及自身感染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控制传染源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普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4572000" cy="83844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患者、带虫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715000" cy="76212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家畜和捕杀野生动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强粪便和水源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意环境和个人卫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防制媒介节肢动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控制中间宿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27160"/>
            <a:ext cx="77724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及其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寄生生活的低等小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类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体外寄生虫与体内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专性寄生虫与兼性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性寄生虫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宿主及其种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关系中被寄生虫寄生并受害的生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类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终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间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保虫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续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962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前三种宿主为正常宿主，转续宿主为非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常宿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的生活史与感染阶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完成一代生长发育繁殖的全过程及其所需要的外界环境条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感染阶段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生活史中具有感染人体能力的发育阶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对宿主的损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夺取营养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的共性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压迫、损伤、梗阻等多种形式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作用与免疫病理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分泌物、排泄物等    所致，为寄生虫最严重的致病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宿主对寄生虫的免疫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有免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特异性免疫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适应性免疫（特异性免疫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消除性免疫    少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消除性免疫  多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生虫与宿主相互作用的结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被彻底清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虫感染：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寄生虫病重要的传染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病的流行环节与特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环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染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虫者、保虫宿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播途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易感人群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特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地方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虫病在某一地区持续或经常发生的情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季节性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寄生虫病的发病率与季节变换相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人兽共患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寄生虫病可以在人和动物之间自然地传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345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0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