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0E47-D5AA-451C-B5D8-9F23B314F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B05A-8DE2-4B09-B3A9-E2036CE9FE5F}"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82304D77-9452-479B-A60D-AC4FA083530F}"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A40D-6254-44FF-BE7B-8BBFD0A6DB02}"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0715-C28C-4F88-994B-7C3FEC6DDA1F}"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8115-BDE9-4209-B163-C52EE2EC0052}"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A760C-1BFF-4380-96CC-A6EC2D2E9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3A3B-3453-43D3-8B25-1B6B2400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5491D-9484-41C1-8906-E576D02B1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4E6B6-6356-4467-962C-CE41013F9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6D6B4-D960-4339-ACF6-172E8FB1C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B924B-CF93-4C43-8A9A-27F57FFB0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6F7DB-FFD5-46EB-9EF4-5DC31D178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C156C-688C-41F3-81BC-D816069C1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2EE96-1421-41F7-8DE2-64A24A0A4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8F36F-D69F-4818-B7A5-BADE8565A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02FC1-EA84-4FF1-8F46-172CBD78B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C4F70-A646-4D04-B907-22E4C9130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F3D12-32FF-4C58-8322-52D91D8E8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3606C-1376-4117-B8CB-E477B787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03154-25BA-4A15-B28F-6D0D56DA7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7A6B4-E8A1-4498-898E-79E2C030D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82C0B-4CB2-4BA7-95D5-25E09285D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6F44-7BA3-411E-98EC-179AA2839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DB03-9BE8-46D9-B5FB-C702BE3E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8E6C3-A0D4-4AD8-B941-9D8B01F7F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F578-736D-42A4-88F0-885D3C93F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530B-C2AF-4CF9-A4A3-29E8E5BA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EA82-1626-4D79-B769-10921145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7421-A150-435C-B1F4-0E0FDAC63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5611-80B1-40F0-B406-2D8831B52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E79D-A708-4AE5-979C-08A7303B94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Effect filter="box(in)" transition="in">
                                      <p:cBhvr additive="repl">
                                        <p:cTn id="24" dur="500"/>
                                        <p:tgtEl>
                                          <p:spTgt spid="19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195"/>
                                        </p:tgtEl>
                                        <p:attrNameLst>
                                          <p:attrName>style.visibility</p:attrName>
                                        </p:attrNameLst>
                                      </p:cBhvr>
                                      <p:to>
                                        <p:strVal val="visible"/>
                                      </p:to>
                                    </p:set>
                                    <p:anim calcmode="lin" valueType="num">
                                      <p:cBhvr additive="repl">
                                        <p:cTn id="29" dur="500" fill="hold"/>
                                        <p:tgtEl>
                                          <p:spTgt spid="195"/>
                                        </p:tgtEl>
                                        <p:attrNameLst>
                                          <p:attrName>ppt_x</p:attrName>
                                        </p:attrNameLst>
                                      </p:cBhvr>
                                      <p:tavLst>
                                        <p:tav tm="0">
                                          <p:val>
                                            <p:strVal val="#ppt_x-#ppt_w/2"/>
                                          </p:val>
                                        </p:tav>
                                        <p:tav tm="100000">
                                          <p:val>
                                            <p:strVal val="#ppt_x"/>
                                          </p:val>
                                        </p:tav>
                                      </p:tavLst>
                                    </p:anim>
                                    <p:anim calcmode="lin" valueType="num">
                                      <p:cBhvr additive="repl">
                                        <p:cTn id="30" dur="500" fill="hold"/>
                                        <p:tgtEl>
                                          <p:spTgt spid="195"/>
                                        </p:tgtEl>
                                        <p:attrNameLst>
                                          <p:attrName>ppt_y</p:attrName>
                                        </p:attrNameLst>
                                      </p:cBhvr>
                                      <p:tavLst>
                                        <p:tav tm="0">
                                          <p:val>
                                            <p:strVal val="#ppt_y"/>
                                          </p:val>
                                        </p:tav>
                                        <p:tav tm="100000">
                                          <p:val>
                                            <p:strVal val="#ppt_y"/>
                                          </p:val>
                                        </p:tav>
                                      </p:tavLst>
                                    </p:anim>
                                    <p:anim calcmode="lin" valueType="num">
                                      <p:cBhvr additive="repl">
                                        <p:cTn id="31" dur="500" fill="hold"/>
                                        <p:tgtEl>
                                          <p:spTgt spid="195"/>
                                        </p:tgtEl>
                                        <p:attrNameLst>
                                          <p:attrName>ppt_w</p:attrName>
                                        </p:attrNameLst>
                                      </p:cBhvr>
                                      <p:tavLst>
                                        <p:tav tm="0">
                                          <p:val>
                                            <p:strVal val="0"/>
                                          </p:val>
                                        </p:tav>
                                        <p:tav tm="100000">
                                          <p:val>
                                            <p:strVal val="#ppt_w"/>
                                          </p:val>
                                        </p:tav>
                                      </p:tavLst>
                                    </p:anim>
                                    <p:anim calcmode="lin" valueType="num">
                                      <p:cBhvr additive="repl">
                                        <p:cTn id="32" dur="5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42">
                                  <p:stCondLst>
                                    <p:cond delay="0"/>
                                  </p:stCondLst>
                                  <p:childTnLst>
                                    <p:set>
                                      <p:cBhvr>
                                        <p:cTn id="38" dur="1" fill="hold">
                                          <p:stCondLst>
                                            <p:cond delay="0"/>
                                          </p:stCondLst>
                                        </p:cTn>
                                        <p:tgtEl>
                                          <p:spTgt spid="208"/>
                                        </p:tgtEl>
                                        <p:attrNameLst>
                                          <p:attrName>style.visibility</p:attrName>
                                        </p:attrNameLst>
                                      </p:cBhvr>
                                      <p:to>
                                        <p:strVal val="visible"/>
                                      </p:to>
                                    </p:set>
                                    <p:animEffect filter="barn(outHorizontal)" transition="in">
                                      <p:cBhvr additive="repl">
                                        <p:cTn id="3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